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D5BE-561D-4CED-97DB-1989045F4A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ку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Акул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60D-D0EF-4C6B-839F-5B98FAF4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F17-16EF-47E8-BC37-F67534F0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CFB-F438-4B7F-8BE9-6DBED2E5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A2D-A9BF-4B83-AC9F-BD0B1944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9841-B3D9-4E94-A0F8-B5557E97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B076-8208-429E-B512-667E1902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4ADD-C2ED-48FB-8D7F-8BC61FB2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334E-373C-485D-861E-A5510296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20D7-36EB-4F51-80F4-1BB6369D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7C4A-3C25-48FB-88AE-BC318C01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2571-843A-4B2A-951A-32A6D21A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E4A-AD0E-48CF-8882-5DCDB0AD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7BCB-AC0F-4696-A776-A31D445E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9429-B86A-4D25-ABD1-EEC10722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07E7-B07B-48F6-B90D-F7AFA35F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A8D9-0A72-4AA5-83D8-0374EF4F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837F-55C5-4FAC-970A-AC00D91C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635-793C-424C-93C8-A33DC937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900-0801-475F-AA12-9F93550D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773-37AD-45E9-8EBE-2ABE6969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2C2-D2DE-4ABD-BEE7-2944D3A4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865-C5C2-4226-A8DF-A6727BE7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47F-F06B-47AF-B852-81C68619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94F-72B0-47B8-A0CD-7EA14069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BD89-B5A7-4CEC-8710-A865A62253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C5BF-3DFC-48FF-90DC-363D5BEE3C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dbbd71"/>
                </a:solidFill>
                <a:latin typeface="Arial"/>
              </a:rPr>
              <a:t>Акулы </a:t>
            </a:r>
            <a:endParaRPr b="0" lang="en-US" sz="10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6109d73e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67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4" descr="akul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akul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aku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akula-molot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akula-oboi"/>
          <p:cNvPicPr/>
          <p:nvPr/>
        </p:nvPicPr>
        <p:blipFill>
          <a:blip r:embed="rId1"/>
          <a:srcRect l="0" t="0" r="200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5:24:16Z</dcterms:created>
  <dc:creator>User</dc:creator>
  <dc:description/>
  <dc:language>en-US</dc:language>
  <cp:lastModifiedBy>Legion</cp:lastModifiedBy>
  <dcterms:modified xsi:type="dcterms:W3CDTF">2017-09-22T10:13:05Z</dcterms:modified>
  <cp:revision>6</cp:revision>
  <dc:subject/>
  <dc:title>Акулы</dc:title>
</cp:coreProperties>
</file>