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31B6-7F8F-4AB3-BD3E-F8BBF76A6E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ку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кул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A8A-1E69-4A04-9085-56330F03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E8F-8270-4B30-B98F-4161F749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111-C33D-4AD5-823E-D49393C3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045-8693-4A45-89AC-02685554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BC1C-AFF6-4D4E-B913-01EAE41C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CA29-7E91-463A-945C-7FCA8153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63B6-AED6-43B7-B011-81F30301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8BF3-FFC5-4078-9D52-548C0847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B6E2-3EE5-47C1-9A8B-4FF38D78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18D7-2198-4E18-90FE-11C49B00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AD54-449F-44BC-8905-A17FEB8F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6FA-1C48-4FF1-A5D6-FBB0D91A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A0AB-7785-4506-9005-C5962168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4CE9-01E5-48D0-8EAE-3C0EDD78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1FED-9403-47F1-9A38-EB009FDA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57A3-FC7F-4CE8-9363-E8723E38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73BC-7DDD-4C23-93D7-974D065A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250-9A8D-4D7A-B687-FE051368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C3C-BDDF-43BF-B505-EE5C948D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BF0-AED1-49E2-BB8B-C0402A7E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E14-A1FA-4CB5-B1BE-FAB9D453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CC6-C849-4A38-A582-F2A6D793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C64-1BD0-49CD-A45E-DA1E3951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18DC-9570-42C7-8F00-4D828A2F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4371-7EB3-469C-80EE-C9125A8F03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070C-3830-4DDE-9DEF-6462AE06F7F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dbbd71"/>
                </a:solidFill>
                <a:latin typeface="Arial"/>
              </a:rPr>
              <a:t>Акулы </a:t>
            </a:r>
            <a:endParaRPr b="0" lang="en-US" sz="10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6109d73e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67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akul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akul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ak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akula-molot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akula-oboi"/>
          <p:cNvPicPr/>
          <p:nvPr/>
        </p:nvPicPr>
        <p:blipFill>
          <a:blip r:embed="rId1"/>
          <a:srcRect l="0" t="0" r="200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24:16Z</dcterms:created>
  <dc:creator>User</dc:creator>
  <dc:description/>
  <dc:language>en-US</dc:language>
  <cp:lastModifiedBy>Legion</cp:lastModifiedBy>
  <dcterms:modified xsi:type="dcterms:W3CDTF">2017-09-22T10:13:05Z</dcterms:modified>
  <cp:revision>6</cp:revision>
  <dc:subject/>
  <dc:title>Акулы</dc:title>
</cp:coreProperties>
</file>