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8008-B779-4E7E-AC30-8C97A0FA2DF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ку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кул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518F-1844-47DE-A88B-05F8E2CC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188-04A8-4A37-9A07-80FE6247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37F0-2F87-40F1-9D11-7DFBEF92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7D58-AC16-442B-A4A4-9018AA21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1849-DB22-4474-9679-2A293761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1A81-4F37-4716-82AA-60F8D86C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41CF-B961-4FE8-9557-01AD1501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0CC4-9AF6-47C3-9F2C-88A459FB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6D48-68BF-4DF6-ADEA-4310D5EB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92AC-E29A-4BE0-B91F-32129155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7F22-3CB9-4124-AF86-4441F942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D3A-3C32-44C3-A5EA-7835665E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6765-1F2F-45AE-B248-407D33BE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DF3E-70E0-4048-818A-002335B5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136D-C760-456B-8F08-8F36637B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7283-ED57-4BFF-A4A6-9E72D8EF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73B5-78C1-4AFA-B5FB-781213BD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3540-CF01-424E-A798-F0248025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FD3-3E60-4B32-893B-EB07AA52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6555-384A-4E69-8394-387ECA8D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5BDF-7137-4AE5-8DC5-87ABCAE1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E92-10B9-4178-96DD-A14530E8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5D8-9BE2-4A29-8005-BD09BE21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D158-823F-408D-A6DC-F17C1001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2764-4A9C-4F8A-AA64-D1DBFA9276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DDFD-42E3-44C5-AC74-2EDECEF0F17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dbbd71"/>
                </a:solidFill>
                <a:latin typeface="Arial"/>
              </a:rPr>
              <a:t>Акулы </a:t>
            </a:r>
            <a:endParaRPr b="0" lang="en-US" sz="10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6109d73e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67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4" descr="akula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akula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4" descr="aku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akula-molot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akula-oboi"/>
          <p:cNvPicPr/>
          <p:nvPr/>
        </p:nvPicPr>
        <p:blipFill>
          <a:blip r:embed="rId1"/>
          <a:srcRect l="0" t="0" r="200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5:24:16Z</dcterms:created>
  <dc:creator>User</dc:creator>
  <dc:description/>
  <dc:language>en-US</dc:language>
  <cp:lastModifiedBy>Legion</cp:lastModifiedBy>
  <dcterms:modified xsi:type="dcterms:W3CDTF">2017-09-22T10:13:05Z</dcterms:modified>
  <cp:revision>6</cp:revision>
  <dc:subject/>
  <dc:title>Акулы</dc:title>
</cp:coreProperties>
</file>