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BBF-2D6C-49A3-AD8E-18EE843D86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ку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кул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388-025C-4E4B-A567-7620B8A2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B65-0BE1-4BDF-8D54-E6E27E8D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3D7-8163-4FFE-8840-E3114494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250-DB90-4D0E-8E8B-0D5A5131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0C60-4525-4835-9870-F761782B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0B66-8D31-42D0-B325-8144C772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4EFF-A8B2-4D38-9E3A-2D744B69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372C-C904-4457-A0D4-CB95BBC7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F7F8-399F-484B-8144-DEB7D5BF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A33F-BF14-4C28-AD89-71BCAD76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FC2A-1630-4997-9708-830A317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890-DE6B-4C8C-96AB-AD286D17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8E74-8DE2-4AEB-A0EA-85A5C31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4BE1-0CC6-4DF5-9D0B-577CE57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4C2F-E4C5-4CC6-BE64-03C2CEC0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5ED0-56F0-43C7-90E5-4E14CCD7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B6A9-BEA7-4751-BE48-E6D56F43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148-0E81-4269-9C48-7EE786C9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0F1-5CFA-44E3-A94D-79CCCC15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063-F681-4455-81F1-D2E24BE1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D1B-BBAB-48ED-8255-8E19BFA8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D5D-130E-4DA1-BF7A-9405952B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64C7-6A0F-4E7C-B7A0-4FADBC02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1C0-6890-4F44-A4D7-0C50B6B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5E8B-E889-461B-A558-60CFE708C6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F892-D39A-4414-9A06-C025C9A406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bbd71"/>
                </a:solidFill>
                <a:latin typeface="Arial"/>
              </a:rPr>
              <a:t>Акулы 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6109d73e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67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akul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akul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ak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akula-molot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akula-oboi"/>
          <p:cNvPicPr/>
          <p:nvPr/>
        </p:nvPicPr>
        <p:blipFill>
          <a:blip r:embed="rId1"/>
          <a:srcRect l="0" t="0" r="200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24:16Z</dcterms:created>
  <dc:creator>User</dc:creator>
  <dc:description/>
  <dc:language>en-US</dc:language>
  <cp:lastModifiedBy>Legion</cp:lastModifiedBy>
  <dcterms:modified xsi:type="dcterms:W3CDTF">2017-09-22T10:13:05Z</dcterms:modified>
  <cp:revision>6</cp:revision>
  <dc:subject/>
  <dc:title>Акулы</dc:title>
</cp:coreProperties>
</file>