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EDBA-AE94-435D-AC81-EA6408A8A6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аркти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нтарктид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3C1-743A-4CE1-B05B-A6B6C629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35B-CEC4-4896-B1CB-7EBEA733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7AF-6B98-4A7C-8541-2F42A67E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116-8A51-45BE-9F1F-8A4F6C9C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58D6-2401-46F0-9FCB-9882DCB6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0035-3B04-44B9-BF76-F4824702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552B-5620-47E3-BABF-97342550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89FE-C532-44EE-A772-4287A76E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C181-EFD6-41AC-A862-F7A751E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ABF-3718-4EBD-9A5A-7FB4EC57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ADB3-421C-4906-AF4A-65631CA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3AF-023D-46C6-90CA-F31BDD90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3C0E-3FCC-4CE7-BF83-4A23F7A6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6F7C-9202-4699-A65E-46A6AAA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E38D-0CF1-42D4-9517-346C0DE4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D02F-E71D-4FBF-9942-1C07F97D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085F-D220-4932-A358-1D696930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51D-3DDF-42FB-959C-016030F7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F1B-3EE4-4B1D-B084-AD12830E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FE0-2439-4C4D-95C7-E5D317DD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157-963D-46F6-9FAE-2E99CD96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18F-0C22-4853-9F5D-37A0FA0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14F-E1AC-42AE-896F-9102D10D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132-4AED-40DA-9964-7B423067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456B-2D84-4F96-B983-55149221E3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92E6-D453-4881-8C4A-0177A6A53B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нтарктида 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769f5c7295dd44698ff3f5c886cde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805149c9cbee2dcfaeec0fab6978b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antaarkti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Antarct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Antarktida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Antarktida_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ntarktid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ntarktid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46:55Z</dcterms:created>
  <dc:creator>User</dc:creator>
  <dc:description/>
  <dc:language>en-US</dc:language>
  <cp:lastModifiedBy>Legion</cp:lastModifiedBy>
  <dcterms:modified xsi:type="dcterms:W3CDTF">2017-09-22T10:14:37Z</dcterms:modified>
  <cp:revision>5</cp:revision>
  <dc:subject/>
  <dc:title>Антарктида</dc:title>
</cp:coreProperties>
</file>