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FB48-A950-487D-9FD9-52D4509C4CD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нтаркти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нтарктид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B15-851A-40CB-8FF8-0D5F8945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75E-77D4-4AF1-9111-6BEE128A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FE7-9012-407E-8260-A04B0817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80FB-7958-4F68-ADBA-9F18769E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CCC1-34B3-4601-96D5-FF1DE6F2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F2CF-E657-452E-BE15-BFAC711E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DABA-3BB7-4E2B-AF84-BD8D2660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554D-F283-4EB1-94CF-E44290AB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9059-68E8-4883-B677-6259DD6A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CF03-864E-42B9-B443-1E2E2E19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5C0B-56DB-47D9-A461-70F3A52A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225-ACAB-4D62-AED6-E1A79DA8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E123-04E2-4CDE-934E-1BCC084D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6EDA-3F5A-4E6D-9435-E9D29A3F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B445-75FF-43FA-B4E9-700E2CEE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9FB5-9D28-4C97-8642-62CDFAF0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66AE-724C-4301-A05E-F868144E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3C2-E4E2-4612-8E33-C7FBCF62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ED49-B62A-4444-9C88-1C901DB9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8B7-B1EC-4A5F-B911-DD669C47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40B-3175-4035-A385-3A2924AD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23E-8BA3-46A7-9D5B-58CC548D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EE7-0486-4D59-AC3A-2C95AE17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E60-D516-471C-AD6D-9E145F09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C021-B99A-40FF-B53B-FCD95E502A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C253-4601-4BAB-BAE2-AC6CCF5A92A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нтарктида 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769f5c7295dd44698ff3f5c886cde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805149c9cbee2dcfaeec0fab6978b6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antaarkti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Antarct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Antarktida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Antarktida_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antarktid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antarktid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46:55Z</dcterms:created>
  <dc:creator>User</dc:creator>
  <dc:description/>
  <dc:language>en-US</dc:language>
  <cp:lastModifiedBy>Legion</cp:lastModifiedBy>
  <dcterms:modified xsi:type="dcterms:W3CDTF">2017-09-22T10:14:37Z</dcterms:modified>
  <cp:revision>5</cp:revision>
  <dc:subject/>
  <dc:title>Антарктида</dc:title>
</cp:coreProperties>
</file>