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F0A0-D687-4EDC-AAEC-200568C5EC6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нтаркти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Антарктид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5B5F-CFAD-423B-A26B-EAB4C9875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8658-B22C-4A54-9387-8A99838C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C7B5-0225-4F62-907A-842C1CDE4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39F9-4CDC-49FF-8021-4265B69C4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435E-7EB5-4D7D-8A36-1D027F3D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9472-79EF-4720-8FE6-D7C041D7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3074-D59F-4080-B17A-444CDA95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7E11-C2C3-4A88-9280-08367932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85DF-4761-411A-A668-37863A76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BC8C-D0A5-470B-9E02-F3059D2C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3246-D4F2-4D7C-8CBB-7F3F9606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B2F8-DEAC-4B68-90A0-425FBEB4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7B82-E8FD-41BD-A71E-DBE99885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260A-A0CC-4687-A5DD-58755C33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74A9-65C3-40A7-826D-8F507C2F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0787-136C-49C9-AACE-4FFDDADC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EF26-189D-49A6-81B5-AD491BE8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A6E1-E43F-4A36-B6FE-AC532B95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67D7-9C56-4DD9-B779-13471D4C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8B9D-FA3C-486B-874A-53BBF9EA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4761-479D-4851-BEA0-B3C08917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4390-96C3-455F-B54C-183D540F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3B75-BF78-45BB-9878-DE1D9F7A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841F-24FC-42AE-8A5E-AD33B0A0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5B03-D913-40E8-A9B6-A57D4AAA7B5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C1A9-B555-4FA5-817B-0A8C1BF040A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cc"/>
                </a:solidFill>
                <a:latin typeface="Tahoma"/>
              </a:rPr>
              <a:t>Антарктида </a:t>
            </a:r>
            <a:endParaRPr b="0" lang="en-US" sz="10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769f5c7295dd44698ff3f5c886cde2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805149c9cbee2dcfaeec0fab6978b6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antaarktid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4" descr="Antarctic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Antarktida_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Antarktida_B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4" descr="antarktida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antarktida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5:46:55Z</dcterms:created>
  <dc:creator>User</dc:creator>
  <dc:description/>
  <dc:language>en-US</dc:language>
  <cp:lastModifiedBy>Legion</cp:lastModifiedBy>
  <dcterms:modified xsi:type="dcterms:W3CDTF">2017-09-22T10:14:37Z</dcterms:modified>
  <cp:revision>5</cp:revision>
  <dc:subject/>
  <dc:title>Антарктида</dc:title>
</cp:coreProperties>
</file>