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0041A-27E2-4AB2-8189-3929D32B37A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Антарктид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ahoma"/>
              </a:rPr>
              <a:t>Антарктида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99CA-5C90-4253-AC3E-DEED7B643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2A79-D51C-48B1-AF5A-98F8C232C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9E40-B56D-468F-8D55-BD605062A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2E82-36AE-41A3-906E-7C241A22E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DC6E2-6185-4ED9-9D2B-F52DA8B04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8FB3C-25AA-4982-81C7-6975A42F5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09B71-D60E-48D7-B38A-DE36CC5C2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21ECB-A94E-469F-A21B-E8EDDC613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3D7FE-E6ED-46E6-B823-31829E258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63E3E-9F17-4271-A2C6-F436B85E6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FDDA2-5684-4418-AE69-E4A3E6C26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F3C1-8226-44B3-A9A1-FC7A72159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22D24-96F7-4487-A843-DD8A8C7BF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DE673-F6CC-4C64-9745-77529AA5F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57E1A-0BE6-48A5-9413-6CA2F4D81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18923-E734-4C6B-8227-B9E2492A8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32E80-F311-4FCB-921C-FA8F24D92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A3AE-F0E8-408D-B2D1-FBB05ED09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59ED-4B1F-409F-889C-CA5223053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58E8-BDE4-4A76-A6E1-52E344492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1993-D217-45D0-B1DD-52394DC21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91BC-18EA-48B4-ACB9-94EDA61F3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3527-36CC-4E7F-A363-11831CB86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C546-D57B-445A-9F56-DD2A50DD1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33A5E-6E0D-472B-9845-C99DEEB64A25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027C6-1B6D-4860-9597-8334DEB64DE1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0" spc="-1" strike="noStrike">
                <a:solidFill>
                  <a:srgbClr val="ffffcc"/>
                </a:solidFill>
                <a:latin typeface="Tahoma"/>
              </a:rPr>
              <a:t>Антарктида </a:t>
            </a:r>
            <a:endParaRPr b="0" lang="en-US" sz="10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Рисунок 6" descr="1468136265744_scrapeene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Picture 4" descr="769f5c7295dd44698ff3f5c886cde25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Picture 4" descr="805149c9cbee2dcfaeec0fab6978b64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Picture 4" descr="antaarktid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Picture 4" descr="Antarctic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Picture 4" descr="Antarktida_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Picture 4" descr="Antarktida_B_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Picture 4" descr="antarktida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Picture 4" descr="antarktida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3T15:46:55Z</dcterms:created>
  <dc:creator>User</dc:creator>
  <dc:description/>
  <dc:language>en-US</dc:language>
  <cp:lastModifiedBy>Legion</cp:lastModifiedBy>
  <dcterms:modified xsi:type="dcterms:W3CDTF">2017-09-22T10:14:37Z</dcterms:modified>
  <cp:revision>5</cp:revision>
  <dc:subject/>
  <dc:title>Антарктида</dc:title>
</cp:coreProperties>
</file>