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239B-EB4E-4670-B98D-4925944D03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нтаркти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нтарктид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E55-9697-4899-9172-3C461063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FD2-B0A4-4CAC-8791-6AE1ACF9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640-990D-4417-9A12-9DDF661A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324-2E31-40FB-B29C-95719DEF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1FA8-5431-4FED-B684-78367714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9493-00B4-4802-8941-7982893F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0691-5B12-4D9E-B47C-FAC99BBE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136E-44C7-4084-A5B4-6706D226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B2DE-2E93-46F2-B487-FB6C2FAA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61D8-E9CB-4933-AAB3-91ACA417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CAD4-41D4-46A7-B11B-53B18336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71E-79B7-4518-9ACE-E0F508C1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F467-E637-415B-B0D3-D58B45DD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C8E8-2DC7-49F8-9A62-65187480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6940-B005-458B-8A57-57A1239D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7183-2784-482C-A287-6522B1A9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2C7E-0F65-4619-BE86-20EEA184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4AA-B37F-42EB-BDD7-2C0137FE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790-9E2E-46FE-89C1-3E09A275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083-0CC1-4C34-BFEB-0C750C8B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42B-4F2F-4EC5-8C92-73B2A2BD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A09-9C03-4764-A1A6-FB07686A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662-D408-4F3F-B13B-2BC6408B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61F-1433-4469-92F9-899DF2CD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B2B0-728F-48AD-9129-EA9DF9178D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3570-71E3-45B7-8CA7-6C1D741253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нтарктида 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769f5c7295dd44698ff3f5c886cde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805149c9cbee2dcfaeec0fab6978b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antaarkti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Antarct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Antarktida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Antarktida_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antarktid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antarktid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46:55Z</dcterms:created>
  <dc:creator>User</dc:creator>
  <dc:description/>
  <dc:language>en-US</dc:language>
  <cp:lastModifiedBy>Legion</cp:lastModifiedBy>
  <dcterms:modified xsi:type="dcterms:W3CDTF">2017-09-22T10:14:37Z</dcterms:modified>
  <cp:revision>5</cp:revision>
  <dc:subject/>
  <dc:title>Антарктида</dc:title>
</cp:coreProperties>
</file>