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6954-822D-496B-B032-BE2D17ECC8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е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рхеолог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896-7490-4143-BBD4-3399CBA7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9AF-B1E3-4478-845C-70C6C5E6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29C-C154-409E-B30C-71D7F5D8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6EF-0960-40D0-84EB-23CFB987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C94D-415B-45A1-9931-9E20B2D5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14C0-4F86-452B-81AF-565DC9E6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8D02-8337-4D68-96C4-C39AF1D8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65B1-36D6-409A-A20E-6D9B866A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D083-53B3-4B7D-AD5D-FEA164F5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66D8-2CC7-42B6-868F-208A8874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25A4-B5E2-47BD-9F44-AE3991E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41C-3224-41E0-AE21-55DA92F2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1A0D-D12B-44E9-AEDA-D75B0B06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0170-95BC-4118-95B9-3D5B85C5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A1D9-E5F6-4F15-B006-B587FE95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E36A-79EC-4666-B261-8DD162FD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CD95-C7C7-448C-A558-02C1DCA5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583-06F3-4D31-BF7D-86575F34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458-AD38-41E4-AAAB-952074BC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A8A-09D4-4A78-AA3A-A3B4F0ED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5FD-A69B-4B65-B66C-0031391C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DF0-DDB6-4730-9982-AA304FD1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F74-E89C-4BBF-BA29-6D7D503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963-4A3C-4171-AC13-F8AA35F7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EAAE-59EE-4EEA-A6BB-F01D32D364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8571-1606-4EC4-9D98-D5DEE42D49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99072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Verdana"/>
              </a:rPr>
              <a:t>Археология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1640" y="4076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0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255px-Excavations_Ugli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27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arh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arheolog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maxresdefau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IMG_4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img-20140815195946-9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13:03Z</dcterms:created>
  <dc:creator>User</dc:creator>
  <dc:description/>
  <dc:language>en-US</dc:language>
  <cp:lastModifiedBy>Legion</cp:lastModifiedBy>
  <dcterms:modified xsi:type="dcterms:W3CDTF">2017-09-22T10:17:29Z</dcterms:modified>
  <cp:revision>5</cp:revision>
  <dc:subject/>
  <dc:title>Археология</dc:title>
</cp:coreProperties>
</file>