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2DB8D-C00F-4550-AE75-9DB98217D95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рхе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Археологи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C286-459C-47F6-B92A-65955C98E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A695-F231-4033-8C8D-BE912E31F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0337-3F1D-4560-8365-3967823DB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3E00-93B3-4C35-A28C-40DD03458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D3D60-E129-489D-B8A7-3B9AACA50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3A5ED-5E8A-4714-8D7C-A27A7B0B2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8F0F6-1B30-4A81-BE1B-F00F00E15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AC23F-9A77-4234-BFC2-072E6F77D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2D2EB-507B-419B-8A07-096358E0A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15781-3F0E-417A-828B-77701903A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5DFF8-2726-4749-8BEB-331EAC4B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31B7-D21A-4D21-B32A-6A3FE3B3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3EB75-6D39-4DAD-82E4-620C48A0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06E93-272F-404B-AC76-8F687B4E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D9A6E-178B-45E9-9D36-9A705334E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C0150-2736-4E0C-9E20-16D008D9E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8207F-8B4E-4409-9871-DDB4639B1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1DB0-06D1-411B-9437-A60EF67A9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80DC-89D3-43C0-9E49-AD3E14B47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08AC-F433-491D-9CC7-6132631E8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9663-B01C-46D8-9779-A38C91912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DC8F-EB06-4802-8AE2-9D58BEB0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EEF0-110C-41EF-B278-FE6F913C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A06F-13E8-4F5E-9CC0-6C9330EC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E13E4-4F47-46EC-8068-F3033559E42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AC5E4-7230-4F14-BD6E-2DEDCA169BD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3640" y="990720"/>
            <a:ext cx="85690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0000"/>
                </a:solidFill>
                <a:latin typeface="Verdana"/>
              </a:rPr>
              <a:t>Археология</a:t>
            </a:r>
            <a:r>
              <a:rPr b="0" lang="ru-RU" sz="9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31640" y="407628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Рисунок 6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4" descr="0000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4" descr="255px-Excavations_Uglic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4" descr="278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4" descr="arhe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4" descr="arheolog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5" descr="maxresdefaul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4" descr="IMG_448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4" descr="img-20140815195946-9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6:13:03Z</dcterms:created>
  <dc:creator>User</dc:creator>
  <dc:description/>
  <dc:language>en-US</dc:language>
  <cp:lastModifiedBy>Legion</cp:lastModifiedBy>
  <dcterms:modified xsi:type="dcterms:W3CDTF">2017-09-22T10:17:29Z</dcterms:modified>
  <cp:revision>5</cp:revision>
  <dc:subject/>
  <dc:title>Археология</dc:title>
</cp:coreProperties>
</file>