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664B-8BC1-4690-9580-FA0A9CD1971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080-B7F0-4D7D-BF22-01970C66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309-5E51-436D-B57C-0471D6CD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89B-7162-4198-ACA1-6F2B5DDC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1B1-40EF-4065-A68D-D6140BA2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F3E4-B2AF-471A-BAB1-A74BA322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2FC5-C8E6-479E-BD73-3060C740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0BA9-B2F1-4B00-9D62-E2A08313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0D01-FF2A-4FCD-BA9C-D8AD2502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7B0D-4B83-4390-B6C6-AFF8FCF0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AE06-4ACB-4920-9216-73CFB012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A304-ABA9-4242-9C3A-1B1B047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091-CA02-4174-A413-EFDED717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4C0D-FE7B-4883-85AD-4BFC2BC4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B67C-5E3B-4502-B75F-97E3D1A7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1F0E-75C6-4B11-BA98-B006E62D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F41D-D557-4445-A10B-303EB4E3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24DB-2110-48C7-A84B-D9EC734B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B25-CE67-40A5-907D-622D74C6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375-D245-4A22-99AB-9E50229B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477-F5BE-48AC-A7D3-74B627A5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19E-57E0-44A1-A4CB-755D3BE2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C47-933B-4F2D-BD9D-EC0731DB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F5E-A3FD-47A6-8BC2-3AA49C4C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940-B0DF-443C-99B3-62DB1E3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07CA-BDC9-480F-BF4F-C0B07A861F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5691-3E4C-405F-A513-4896E6DFD8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08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79_15_04_2011_arhitektura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70524133921David_Fis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rchitecture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-IMG_e68d5e63af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uture-architecture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Dpi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20:05Z</dcterms:created>
  <dc:creator>User</dc:creator>
  <dc:description/>
  <dc:language>en-US</dc:language>
  <cp:lastModifiedBy>Legion</cp:lastModifiedBy>
  <dcterms:modified xsi:type="dcterms:W3CDTF">2017-09-22T10:18:45Z</dcterms:modified>
  <cp:revision>6</cp:revision>
  <dc:subject/>
  <dc:title>Архитектура</dc:title>
</cp:coreProperties>
</file>