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4A6C-74EF-46F0-A6F3-0BE17D2DFDE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рхитекту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BE67-98B1-40DB-9FB6-D3BFD0145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7B77-DC22-4460-BF01-5F88E63B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D486-A1B0-4B2F-A825-E9AF6436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9A5D-1F39-4476-BB51-352CCD27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2CAC-CCB2-47BE-A5E4-FA1D0DF4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438C-1629-4AF9-92E4-6614E2B3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E5FC-671C-403D-84DD-7E34928C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ED3E-082E-401D-9258-1E4F0BFE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2578-8B54-432C-B642-E000FF79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8506-3441-4137-BF56-0C531611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035C-32CE-4155-A16B-96952321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C261-C4CA-459F-8EAF-1A056504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C19B-012D-466B-B588-37D6C55C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076B-09BF-4F69-87A1-1B89D60C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2C22-C1FA-406D-90E6-FD3B97C9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243B-6F39-4511-88D0-3E8733D4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C4AD-634B-4CAF-888A-304782E1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5B7D-CA8B-4097-80F9-29B15E5C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D5A3-A619-4751-9DB6-58DE7E69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4DF2-1375-4EE1-B529-E966682F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35C5-E72D-43D4-85D2-D9C0EFEE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6DB-85B7-40A0-BE9D-7701D102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7451-837C-45C6-BAA0-AE34D287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8133-8A10-4A74-8E75-6C22E2A3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A19C-E90C-4A39-9165-4F86511CC9A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4249-92CF-4E89-807F-5098C2DD91C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93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Архитектура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908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179_15_04_2011_arhitektura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70524133921David_Fish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rchitecture1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b-IMG_e68d5e63af7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future-architecture_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HDpic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6:20:05Z</dcterms:created>
  <dc:creator>User</dc:creator>
  <dc:description/>
  <dc:language>en-US</dc:language>
  <cp:lastModifiedBy>Legion</cp:lastModifiedBy>
  <dcterms:modified xsi:type="dcterms:W3CDTF">2017-09-22T10:18:45Z</dcterms:modified>
  <cp:revision>6</cp:revision>
  <dc:subject/>
  <dc:title>Архитектура</dc:title>
</cp:coreProperties>
</file>