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A0C5-9F77-4D27-98E0-F471F7C7BF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681-285F-481F-8093-487905B5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8F8-3FF2-495E-A573-765475F8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FB9-1F18-4B4C-B32B-8ACA38BB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99B-D27B-4BBD-BA1E-72F368B4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4776-9BA6-4762-A702-9771ADDA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0553-DB31-4AA6-AE43-B104E853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F897-F6C4-4E6F-A131-695A828E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F2C0-C26D-4AFB-84CF-87783D9A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BD03-8479-4140-90CD-69C51039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7037-94A4-4B83-9E74-3BE7D9AE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4AA6-7721-4AC2-AC83-EC085044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8E9-434D-487C-80A4-82D3EE10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F8DB-0419-4EF9-8B05-B09F6B83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638B-36F8-41C8-9A74-094C8856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107A-9696-44EC-B84E-C36517F1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B1E1-A4A5-4215-B4A4-7358FBFC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0BD1-3378-4498-87DB-65856915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A6C-9443-4AAB-8B3F-A797DEE7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C0E-53AA-4900-AFDE-B833F42A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136-6305-44BA-85AB-377D884F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6F7-EE4B-4EB3-BF3C-FEDD3086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067-9F89-4FBF-A873-A039F67D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262-03E5-4090-8131-B2C58582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8F8-96D0-46C8-9B3B-D4A99A28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2371-32B6-4E6A-BFC5-C885D7C382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7BAB-9C2E-4357-9067-7B3AA1A3F9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08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79_15_04_2011_arhitektura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70524133921David_Fis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rchitecture1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-IMG_e68d5e63af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future-architecture_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Dpic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20:05Z</dcterms:created>
  <dc:creator>User</dc:creator>
  <dc:description/>
  <dc:language>en-US</dc:language>
  <cp:lastModifiedBy>Legion</cp:lastModifiedBy>
  <dcterms:modified xsi:type="dcterms:W3CDTF">2017-09-22T10:18:45Z</dcterms:modified>
  <cp:revision>6</cp:revision>
  <dc:subject/>
  <dc:title>Архитектура</dc:title>
</cp:coreProperties>
</file>