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43F4-CFFC-4222-8951-CE797CDAC9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3B8-DCF1-4DB3-B5A8-84A08749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504-5F53-4E51-AC3E-018FE088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700-4E7E-4511-B99F-B3C577A8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1C11-FB68-46BF-AA13-93B41615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0825-EF40-4840-B79B-51E63525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775D-68FD-4F08-A838-39F7AE3A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906E-6108-493F-986C-DA597404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8965-E189-475E-B51E-5937922E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2D2E-9414-489D-99A9-C2BB7CB7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3538-A394-49AA-9D57-35165BA8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043A-6E73-42DC-A7E6-42675C53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F69-BB53-4448-A817-3A2F1A6B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B0B1-2339-41A2-B19D-71FE9AF3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D079-B546-4BA8-AFBC-DADD985A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0A67-19EA-4BC3-8450-526FC0B9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2120-B797-4E01-A6ED-9F5730DD6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A751-4D9D-4E5A-B760-0D45C7FB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043E-FBC4-45D4-8F50-1968A26F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6A2B-178F-46D4-BFB3-227FD1E0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841-27C5-402C-B5DF-2C7D955B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CB0-5A32-4F3D-BEF7-570722C0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BA4-8BEA-486F-8111-32434431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8DC-E06F-4FE8-98EA-66BFD97E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9CF-D337-427B-B4CC-AFF32FBC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400C-F674-4896-B3E8-6B4CCD958A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2A2E-7F18-484B-A54F-40A6090AC8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93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рхитектура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08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79_15_04_2011_arhitektura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70524133921David_Fish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architecture1_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-IMG_e68d5e63af7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future-architecture_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Dpic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20:05Z</dcterms:created>
  <dc:creator>User</dc:creator>
  <dc:description/>
  <dc:language>en-US</dc:language>
  <cp:lastModifiedBy>Legion</cp:lastModifiedBy>
  <dcterms:modified xsi:type="dcterms:W3CDTF">2017-09-22T10:18:45Z</dcterms:modified>
  <cp:revision>6</cp:revision>
  <dc:subject/>
  <dc:title>Архитектура</dc:title>
</cp:coreProperties>
</file>