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9857-34EA-40DF-8DB7-38DEE473CF6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рхитек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2AEF-3549-4B45-9FBA-4DE73D9D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2F54-664E-4233-89E7-F2A8736F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390C-5994-4C0C-9D31-AAA00F93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6091-B04A-4DDC-90A9-3E99D0D0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249B-8EFC-4EA2-9761-BDBA8FEE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8A31-390D-4BF7-B0D2-4748A319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2301-5FE8-48CC-B629-C5F1E291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4B48-31A5-4238-A9E3-FC8C5DD7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78D5-0638-4C06-9503-57A0BE8F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EBF5-B45D-4319-BDAC-66AD603E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0585-54D0-48F7-8063-D71059C4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EE79-94D1-4471-8CDF-61DCF761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199B-4E3C-40D7-AD6E-E00DD748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B6AD-E4C9-4BAF-A1B8-3678F8E7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B7C4-6188-47F4-8D92-8D96D68B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B700-2B6F-4352-A697-2B36A06C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D6CE-07EE-4CE7-926F-EEEB744B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6978-D499-46B0-A42D-34FA4373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5F3F-0655-49CB-BA22-B1DD4815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7EDB-5A5D-4350-A98F-5BAB5C67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4AD8-45CE-404B-AA65-E787185C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3B55-7A87-4DEB-8B24-7237EF1F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976C-CB23-4C34-844E-77317698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A400-9DAC-4DBF-AFF9-342B259D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EB2C-64CF-497C-932C-4C70292D29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24C3-8897-4875-9EC5-1CF5EAEEA5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93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Архитектура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08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179_15_04_2011_arhitektura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70524133921David_Fish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rchitecture1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-IMG_e68d5e63af7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future-architecture_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HDpic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20:05Z</dcterms:created>
  <dc:creator>User</dc:creator>
  <dc:description/>
  <dc:language>en-US</dc:language>
  <cp:lastModifiedBy>Legion</cp:lastModifiedBy>
  <dcterms:modified xsi:type="dcterms:W3CDTF">2017-09-22T10:18:45Z</dcterms:modified>
  <cp:revision>6</cp:revision>
  <dc:subject/>
  <dc:title>Архитектура</dc:title>
</cp:coreProperties>
</file>