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12A8-F408-475A-A06F-8A3A8579FD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DD4-ADEE-4D25-8895-419F38E5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33C-35F6-4B15-A0B1-63B0E586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7BC-8ACB-4DF9-ADC0-E842AA2D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759-9327-4068-9F3D-E8B877D0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72D-E1D7-46B7-8A7F-383996C6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062D-F704-41CB-9F62-0EF7B426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102B-2FFE-4312-ACE5-FE2BDD63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F819-6C86-4524-946E-80C9C82F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864E-B197-4BA7-AEF7-2E74FFD5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5707-A2C0-46EA-A9D6-E59B695D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05F8-FE59-4C3E-91B3-20CF3B1C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AFF-E8D0-4A0A-9EE9-10A72559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5B27-6649-4A60-80BD-4477C57F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B78D-6FBF-45E9-898D-560ECEC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C2C5-6FDC-4E5A-BEB6-157AE215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292B-78AD-4382-9CB7-442B5276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516A-A922-4802-838A-2B6E4DF6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879-9AD0-437E-9BA5-9B51CCD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74C-00D1-4C9F-9747-8F8C194E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A2D-D190-4532-B2A2-DCAF4E26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3AC-D51F-4B58-B780-C4615E7D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81F-E9C4-44E1-9D8D-F5D8C96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227-6D2C-48FA-87F5-41584A9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B10-6A50-4681-ADC3-F159AFC5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FEC3-75BD-4384-9214-41478ECF69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0302-C562-4887-A96C-276D50F6C4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79_15_04_2011_arhitektura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70524133921David_Fis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rchitecture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-IMG_e68d5e63a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uture-architecture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D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20:05Z</dcterms:created>
  <dc:creator>User</dc:creator>
  <dc:description/>
  <dc:language>en-US</dc:language>
  <cp:lastModifiedBy>Legion</cp:lastModifiedBy>
  <dcterms:modified xsi:type="dcterms:W3CDTF">2017-09-22T10:18:45Z</dcterms:modified>
  <cp:revision>6</cp:revision>
  <dc:subject/>
  <dc:title>Архитектура</dc:title>
</cp:coreProperties>
</file>