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CAB9-CAA2-41AE-A75E-CCAFB6C9D1E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стеро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07FD-3560-480E-A4AD-33F53E2E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3A19-EBD8-49E6-B969-2ABC5B2C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E406-E7B6-4E7A-AAA1-48448CB3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5B7B-E461-420B-8F70-B3B4126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CFD8-B727-4A8F-BF17-378F5B6A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9A7E-B440-4582-8D57-7985A69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5EBB-633C-411E-9F2D-B9A4A04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0495-6275-41E6-BEDD-605A70D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F28-E6FE-4DC7-B347-9FD8CBA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86C3-90CB-470E-B66F-DC576938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E888-E776-4585-8037-07563E60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92541-5629-4360-A6D1-495E6C5D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08E2-1817-47DB-B14C-28B2EED8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AA5-C67C-4F09-9905-9A21327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4E92-81EA-410D-A292-E5502541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278C-6629-4B0B-A59E-9AD1CF49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57D7-19CC-4AFC-B0C1-1CAF5F67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944DB-2D06-4EC2-B459-1CFEA1B8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960A-3B03-4429-AE9F-ED81D29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59BA-3891-4064-A223-5870971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B5E3-3BD4-469A-81DE-063A6537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47B0B-989D-4668-B1B9-BB9EEDB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E6E5-3E67-411D-A0BB-8B88F99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3951B-7FFC-4613-8D4D-C7DC947F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8EBD-07E3-4085-8F21-62B3B02D5D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C3D6-8937-4A5C-B877-6F7F71E414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ff00"/>
                </a:solidFill>
                <a:latin typeface="Arial"/>
              </a:rPr>
              <a:t>Астероиды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124080" y="386028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600x1200_%25D0%2590%25D1%2581%25D1%2582%25D0%25B5%25D1%2580%25D0%25BE%25D0%25B8%25D0%25B4%25D1%258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9273a06ac4978774f457109c04261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steroids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steroi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steroidyi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gal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38:12Z</dcterms:created>
  <dc:creator>User</dc:creator>
  <dc:description/>
  <dc:language>en-US</dc:language>
  <cp:lastModifiedBy>Legion</cp:lastModifiedBy>
  <dcterms:modified xsi:type="dcterms:W3CDTF">2017-09-22T10:20:01Z</dcterms:modified>
  <cp:revision>6</cp:revision>
  <dc:subject/>
  <dc:title>Астероиды</dc:title>
</cp:coreProperties>
</file>