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DDD1-638B-415B-B0B5-4B04EE51C10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стер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стерои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3BFAA-D98D-46B6-A9B8-4B4423A3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9426B-F40E-4EEC-ADA4-F9EF2ADC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5F983-C860-4F13-A5F9-FFA31FBC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57644-A897-418E-A019-E4D56229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5097-6851-4253-BCB0-DE8FA1E5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61BC-7AAE-4456-A670-02DEA78F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3790-2D8D-4EBF-8D48-D484F546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38E2-A175-462C-835F-7E0F1097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59CC-0C18-419D-ADFE-2E43AD55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8EAE-FAC5-42B2-AF59-C004084C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4A12-AB5D-43A4-8241-621A82CE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6DD11-F66C-4F78-BC41-01639AB7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289E-CA3D-4B8B-A9CE-4C73E74E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27C0-3817-4D1C-AAB8-0FE784CB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F56E-C9A8-4BBB-BC3B-2A03EC5E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AD5E-4310-48A6-8BCF-076EC004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F022-2812-4A06-B6B2-BF68B96D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8E4D2-2FCF-4245-ADD0-946A54EB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9379-4761-4B9B-9FF5-EF2784B9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5E85A-5F67-4FC6-ABC5-C1BEE2FF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56673-C5C6-4388-BD92-5DB53175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30C71-0599-45EC-B9E8-E6B1D398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03134-A013-47EE-8A48-F1E8974C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838A-29E5-458A-AE0C-B27F61FF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0DED-77AF-4A0F-95DB-C7A4567E8A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2D9C-C786-45D3-88AD-0A08638085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ff00"/>
                </a:solidFill>
                <a:latin typeface="Arial"/>
              </a:rPr>
              <a:t>Астероиды</a:t>
            </a: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124080" y="386028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1600x1200_%25D0%2590%25D1%2581%25D1%2582%25D0%25B5%25D1%2580%25D0%25BE%25D0%25B8%25D0%25B4%25D1%258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9273a06ac4978774f457109c042611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s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asteroids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asteroid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asteroidyi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gal_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38:12Z</dcterms:created>
  <dc:creator>User</dc:creator>
  <dc:description/>
  <dc:language>en-US</dc:language>
  <cp:lastModifiedBy>Legion</cp:lastModifiedBy>
  <dcterms:modified xsi:type="dcterms:W3CDTF">2017-09-22T10:20:01Z</dcterms:modified>
  <cp:revision>6</cp:revision>
  <dc:subject/>
  <dc:title>Астероиды</dc:title>
</cp:coreProperties>
</file>