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DB46-FDEA-4A77-B812-5550C31E16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строном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Астроном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8B3-6FC5-44AC-A320-08E3B520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55C9-49D6-4358-95A4-FF64A93A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CE1-1AD7-4AD6-BD24-6BBDC982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1C4-0A87-4864-8A59-FF80CC15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9460-D67E-4B78-9AEA-9DD7F2FC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1021-C95F-40DC-B1E6-F0D1C4BA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F0EC-0709-44F9-8B00-CC3F4E92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0BC9-0A97-40AF-AE6D-740805BA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E152-6196-4513-969C-B753542D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1BC5-0934-48C1-AF33-853BE311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A47F-8157-474E-9636-07BB399D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D8C-105D-4678-859A-AD65B4E2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6615-2755-479E-9CE0-755720AC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58CD-4FA8-478F-8F2F-F48C92CC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9C61-7ABB-42D4-88F0-EF8B63CA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6ECB-F797-4AF9-A451-6BFC5106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48D9-60A0-4246-87AB-4C90465E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425-E714-4728-8429-13CF0D18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12C-0D34-4425-8545-9C1C0E59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79A-E51E-418D-9DEB-23572BB5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EEE-FD90-4055-9735-1F60955D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856-0557-4985-9847-25A926BF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C64-997B-4B4E-A68C-074F114B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48F-7C69-44E4-A9F7-F5667EE8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F059-6B8F-46AA-9928-88D8D90D249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5958-AD14-44CE-9B28-89F855A719C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29920" y="1269360"/>
            <a:ext cx="810648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3366"/>
                </a:solidFill>
                <a:latin typeface="Arial"/>
              </a:rPr>
              <a:t>Астрономия</a:t>
            </a:r>
            <a:r>
              <a:rPr b="1" lang="ru-RU" sz="9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788000" y="479700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4" descr="1-i-astronom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26_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300px-Crab_Neb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4" descr="Androme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4" descr="astronomiy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astronomiy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4" descr="Astronomy-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52:55Z</dcterms:created>
  <dc:creator>User</dc:creator>
  <dc:description/>
  <dc:language>en-US</dc:language>
  <cp:lastModifiedBy>Legion</cp:lastModifiedBy>
  <dcterms:modified xsi:type="dcterms:W3CDTF">2017-09-22T10:21:22Z</dcterms:modified>
  <cp:revision>5</cp:revision>
  <dc:subject/>
  <dc:title>Астрономия</dc:title>
</cp:coreProperties>
</file>