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5EDB-5D3D-401B-97FA-394643F9E87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строном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Астрономия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95D4-0FAF-4164-8E8C-5FB6F0313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57FC-3F2B-4955-86FB-844FA356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CD89-4D98-4C9F-96FE-01B25DFAE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4B99-7499-4AA3-863F-9DA2AAAC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8280-0C45-4FFB-9F5D-3E142E325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8F84-0C4F-44B9-9089-41B4871D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5918-1A04-4C86-9FBA-62334251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1D28-13C2-4134-98F6-2DD2C1C8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FCF7-8D5F-446F-8169-B5AB850D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DDCC-7ED4-41F4-A4F7-A2A310FA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CBB5-D694-4A31-9BFB-1AFA4B68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F914-D193-4B94-AF03-3A616048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FA29-2D4C-4D60-87CB-7FF3A8F9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1419-D3E4-4C7A-8124-FA3ACB4F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0DD6-FDF4-4A63-83CF-27088A15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A69D-3028-466E-BA01-9FABBBF81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CD1D-C093-4515-8B57-0140E3C6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52DA-74D1-48B1-82C0-3730F8A7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9D15-C768-4774-AB8F-B51AFA99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134F-18CF-41F9-B40B-CEA99914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19C1-A01B-42D9-8678-5A0906B2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3C24-2CED-4C73-AABF-8BA6C84A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75B7-DDCC-4250-93B4-4C6BC4C9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2910-F2CE-4658-BE0E-3FD6AC8C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6C37-3E02-4A17-910A-9C2DE9C2230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941A-98A3-4FED-8BC6-6F30BFABAC7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29920" y="1269360"/>
            <a:ext cx="810648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3366"/>
                </a:solidFill>
                <a:latin typeface="Arial"/>
              </a:rPr>
              <a:t>Астрономия</a:t>
            </a:r>
            <a:r>
              <a:rPr b="1" lang="ru-RU" sz="9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9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788000" y="4797000"/>
            <a:ext cx="4013280" cy="182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4" descr="1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4" descr="1-i-astronomi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4" descr="26_mai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4" descr="300px-Crab_Nebul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4" descr="Andromed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4" descr="astronomiya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4" descr="astronomiy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4" descr="Astronomy-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6:52:55Z</dcterms:created>
  <dc:creator>User</dc:creator>
  <dc:description/>
  <dc:language>en-US</dc:language>
  <cp:lastModifiedBy>Legion</cp:lastModifiedBy>
  <dcterms:modified xsi:type="dcterms:W3CDTF">2017-09-22T10:21:22Z</dcterms:modified>
  <cp:revision>5</cp:revision>
  <dc:subject/>
  <dc:title>Астрономия</dc:title>
</cp:coreProperties>
</file>