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093F-23B3-41CB-B3BA-ED22C752495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строном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Астрономия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E5B7-A9F6-41F1-81AF-28324360F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5394-B2DE-4C24-B78B-BC97C2ED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5AE9-C9F0-4420-883A-AB6B6C8BE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ED68-306C-49D0-A8AC-811DB7089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8E8F-9770-4012-A85E-AB978C333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5850-DCDF-4A86-BB50-EA958FAF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BC42-70E6-48F7-9E97-BF489522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D929-7DCE-4AEC-9500-5AFF4012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7E2A-BE4A-4525-B3E2-6CB10AB7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C9F5-62CF-4C3A-9200-76A6EF78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9ACA-AA70-43F6-8033-36CA9CC3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3491-BC4D-4BA5-A473-6D85C2DC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2360-6D79-46E0-8B28-4641CDF2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A076-4280-4B44-9B45-369B00DC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285F0-A164-492B-939D-9B406851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4B6D-202E-444C-95D1-67726C8DE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5F36-A4B6-4883-95C9-28EBDF1D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6743-4112-40C6-AC91-93A3CD9A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FD2E-398B-4AFA-A520-91B84D27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C676-863E-4187-AA22-EC087820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45F2-4002-4F3A-A994-A18F631A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18E6-F98D-4312-A63F-7F20588C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A1AF-6D25-4EE7-96DE-9954127D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5CFE-17D8-4B33-8DC7-817695A3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6562-4A4F-4E24-B9DA-99C214F2D04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65B2-1AAA-476E-BCF9-D40906F2742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29920" y="1269360"/>
            <a:ext cx="810648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3366"/>
                </a:solidFill>
                <a:latin typeface="Arial"/>
              </a:rPr>
              <a:t>Астрономия</a:t>
            </a:r>
            <a:r>
              <a:rPr b="1" lang="ru-RU" sz="9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9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788000" y="4797000"/>
            <a:ext cx="4013280" cy="182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4" descr="1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4" descr="1-i-astronomij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4" descr="26_mai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4" descr="300px-Crab_Nebul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4" descr="Andromed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Picture 4" descr="astronomiya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4" descr="astronomiy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4" descr="Astronomy-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6:52:55Z</dcterms:created>
  <dc:creator>User</dc:creator>
  <dc:description/>
  <dc:language>en-US</dc:language>
  <cp:lastModifiedBy>Legion</cp:lastModifiedBy>
  <dcterms:modified xsi:type="dcterms:W3CDTF">2017-09-22T10:21:22Z</dcterms:modified>
  <cp:revision>5</cp:revision>
  <dc:subject/>
  <dc:title>Астрономия</dc:title>
</cp:coreProperties>
</file>