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4D23-5811-4B25-9E54-D53AF367A1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C42-2408-46A4-A715-B9533AF8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9E8-0889-4165-8E97-962090B2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F0B-F292-4D06-BF73-19FF0E6B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D23-0306-4A12-9556-43C59442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A13C-C81C-4578-9CF2-0C3CB1A1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62C9-5251-43E7-991A-99EC6529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0A35-470A-4FF6-9A9F-4E120C9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3C7B-51E4-4516-9834-17089A01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705F-EEC8-4322-ABE3-4C1B06A4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A415-39B7-4DDB-AF49-D66EE894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1BB0-93E3-49E3-B856-0B3C33F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DA5-7C31-4732-BFD6-D5D6E2C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678-EADC-4678-A4F4-5A86EEF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7AB6-7902-49C3-97BE-4C4F253C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6114-C41D-4060-A0F4-1859BACC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0463-345A-45AB-93F6-88EB24A7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5756-EAEB-4397-9C15-DDFBB42D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CE0-3CF4-4163-B223-5500BDAB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736-BD04-4B52-B39D-C6CD1FB1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FA2-1F35-4B09-9D5D-15A253A9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9C0-BB87-42B8-9F48-E0E05D9A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99A-BC04-4B55-9544-0DF2142C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36A-0A78-4338-8607-0A146DF0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77F-FA99-4C6E-9D43-1F1C4D2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6D0C-F0FC-40A6-9770-675B206018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A815-39C2-4F7E-A90E-F061DB7C86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577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330066"/>
                </a:solidFill>
                <a:latin typeface="Arial"/>
              </a:rPr>
              <a:t>Атмосфера </a:t>
            </a:r>
            <a:endParaRPr b="1" lang="en-US" sz="10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534259_5c92b6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327501503_atmosfera-zem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tmosfer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tmosfer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tmosfera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tmosf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01:22Z</dcterms:created>
  <dc:creator>User</dc:creator>
  <dc:description/>
  <dc:language>en-US</dc:language>
  <cp:lastModifiedBy>Legion</cp:lastModifiedBy>
  <dcterms:modified xsi:type="dcterms:W3CDTF">2017-09-22T10:23:02Z</dcterms:modified>
  <cp:revision>5</cp:revision>
  <dc:subject/>
  <dc:title>Атмосфера</dc:title>
</cp:coreProperties>
</file>