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A885-DBA9-406E-A4A4-9E610F1227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5A3-5805-4A1F-B011-0FC060A4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78D-CF72-46B0-9051-FF4FF1C0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FA6-6351-4AA5-8836-C40503A6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C5B-9B32-4DB8-919D-4281BE59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405F-5044-4898-BEC6-58052C86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63C8-6152-460E-ACF0-4963E466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AB0F-50CB-4CEC-B0D3-51AB94B3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C1E3-321F-4131-808E-650E59F1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6897-7E64-4EED-8211-8EEF3A83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BCA2-8FFC-4525-9253-7ED99EAB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B8A-6A2D-4D69-AF22-8E95C7C9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A8E-9E5F-4BF6-BD48-8EF214CA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3287-4628-436E-A86C-3DEEB921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379A-E60D-4C92-8486-27F7B94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62D2-27D1-4804-B836-6B399F4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0D49-623D-4279-9ADC-4E690A17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51A3-73BB-4A71-A3A1-777BC8FA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59F-CB71-4210-82B3-E2A8B4B3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EBC-672A-4690-95A4-797223B0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F4E-5420-4DC8-B139-779DF03C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32F-8BF6-4670-9DE6-B32158E7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5F8-8ECD-44F8-BFD4-39030FA6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94A-C974-452D-A7CA-52E58BA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403-007A-4AB2-9015-38E8F89F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321D-C483-4EBF-AA23-0C887E028F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942-007A-4E06-BF3A-9F3DDCC85D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5770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330066"/>
                </a:solidFill>
                <a:latin typeface="Arial"/>
              </a:rPr>
              <a:t>Атмосфера </a:t>
            </a:r>
            <a:endParaRPr b="1" lang="en-US" sz="10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3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2534259_5c92b6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327501503_atmosfera-zeml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atmosfer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tmosfer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tmosfera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tmosf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01:22Z</dcterms:created>
  <dc:creator>User</dc:creator>
  <dc:description/>
  <dc:language>en-US</dc:language>
  <cp:lastModifiedBy>Legion</cp:lastModifiedBy>
  <dcterms:modified xsi:type="dcterms:W3CDTF">2017-09-22T10:23:02Z</dcterms:modified>
  <cp:revision>5</cp:revision>
  <dc:subject/>
  <dc:title>Атмосфера</dc:title>
</cp:coreProperties>
</file>