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5C53-E0D7-4E9E-8C47-02A0890703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7C5-E0DC-4395-BDA1-3A1A89A0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C40-2793-4A2C-B81A-4EC8AF20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B19-4820-43D6-8724-F38199EA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189-7315-4D6B-8600-D8D59F56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07C8-88AE-469C-933C-D2099B4A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74C3-4AEF-4E8F-916C-583C746C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1E13-7BDF-4F76-8262-7DC05756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2675-4F4E-422A-B6E1-FEC6BEB0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8CA6-B392-4CA4-B16E-C8CD64E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C180-7564-42E0-850F-3EC13B36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8CD0-B3A3-4100-B00D-11574E7F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B11-3602-49A1-A356-4DC8EFEB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3C3E-D853-4AB1-BC84-9241773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DE7E-3560-478B-8C42-5375D984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AD43-3FB8-40CE-ABA3-5329F527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E718-454B-400C-AAA9-0EEC6358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9A56-555D-48D4-84BF-28735283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A28-CCBA-4EB4-8199-B9339E9C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45B-0162-499C-A601-E7B1911D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912-BCC9-4B03-9786-40751B31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B29-052C-49BA-8F44-6871BB27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418-CE98-4F7A-ABB0-8DD2FC9F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C5E-DB06-4F8A-8A9E-EC2B127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165-169C-45EE-BE2C-25418F08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6979-3293-4F83-B88B-34EB56B808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6000-7CF8-479B-BC85-AB9A282648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577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330066"/>
                </a:solidFill>
                <a:latin typeface="Arial"/>
              </a:rPr>
              <a:t>Атмосфера </a:t>
            </a:r>
            <a:endParaRPr b="1" lang="en-US" sz="10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534259_5c92b6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327501503_atmosfera-zem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tmosfer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tmosfer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tmosfera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tmosf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01:22Z</dcterms:created>
  <dc:creator>User</dc:creator>
  <dc:description/>
  <dc:language>en-US</dc:language>
  <cp:lastModifiedBy>Legion</cp:lastModifiedBy>
  <dcterms:modified xsi:type="dcterms:W3CDTF">2017-09-22T10:23:02Z</dcterms:modified>
  <cp:revision>5</cp:revision>
  <dc:subject/>
  <dc:title>Атмосфера</dc:title>
</cp:coreProperties>
</file>