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D0EB-521E-4D9A-BF21-DB8369ED36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53A-CA99-4699-B186-23EE10FD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7FA-03B8-4EF4-93D9-604D53C4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B48-F41D-4C68-861C-3C67ABE9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F17-2330-4A16-8D56-9AA9C8BC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38A5-C49F-4BE1-8971-21A0755C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A462-A3D5-4293-A573-538E1DB0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2EF4-FE17-4E7D-97D8-18768B5A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6C0F-B227-4BF0-A5AF-860757FA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A8F1-74A2-43C2-B2D5-C8FB3C8D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56F4-0A7A-4AC7-9B6A-768791A8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E7B5-666F-4652-BCFD-13F183C7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953-7D14-497A-B9D8-B44D81A9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F145-56E0-411B-8A13-A50B467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DDBA-50A8-413F-8578-55130802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8F44-19DB-42FC-BF7F-EF89EC75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A738-9428-4D83-89DC-31432DE7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A41D-E592-454D-A219-A156DBBF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0F1-5433-463F-BFF8-3E3916F2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0A3-E147-4B74-B341-DE5A5E16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D89-D859-42E9-B65F-32E5BEFB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475-26A7-4476-AAF6-707CDBEE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A0A-C45A-405F-8C57-792B6CC3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DA0-C52B-4207-9ECF-CD4DE1CE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2EC-A61E-492F-BA06-B3FC7BA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464C-33CA-4627-AD3D-9FE84F2BB7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5D15-77D0-4C1B-AFF3-D0B4400A30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5770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330066"/>
                </a:solidFill>
                <a:latin typeface="Arial"/>
              </a:rPr>
              <a:t>Атмосфера </a:t>
            </a:r>
            <a:endParaRPr b="1" lang="en-US" sz="10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3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2534259_5c92b6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327501503_atmosfera-zeml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atmosfer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tmosfer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tmosfera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tmosf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01:22Z</dcterms:created>
  <dc:creator>User</dc:creator>
  <dc:description/>
  <dc:language>en-US</dc:language>
  <cp:lastModifiedBy>Legion</cp:lastModifiedBy>
  <dcterms:modified xsi:type="dcterms:W3CDTF">2017-09-22T10:23:02Z</dcterms:modified>
  <cp:revision>5</cp:revision>
  <dc:subject/>
  <dc:title>Атмосфера</dc:title>
</cp:coreProperties>
</file>