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5565-AEE3-4C3C-9702-167D1C4F69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ная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02B-47CB-4811-ADEA-482DDBA5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674-D976-40F1-8A59-E4F04382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9A8-CA4F-46CD-906C-BB4AF3A0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242-A7F1-4E4B-A402-70877EDF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8F90-0EA9-4036-96CA-302A90FC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7A99-30F8-466E-86DC-E06A2B8C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E406-F2D7-4F12-BC73-61960DCA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1AFF-863D-48E2-8DB9-401D8C0C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0A2C-5341-4E76-87A3-153F8BC3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77FB-8CA7-427D-A54F-2BC0878C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3AE4-35AE-4295-AC7B-77D57B2A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3F5-2D94-4D27-AAB4-65440C77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CDBE-B578-4C3F-AD5A-10E3945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1E3E-B064-4AA9-AB61-98819DD1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AA22-5EA2-43F6-AC5F-ECE95A09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A49D-8CAE-4B45-BE95-10D9AABB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9E44-8A2F-44BE-B084-22C7867E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9EC-D34A-448C-9568-BBE4E4DC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6D6-65C2-4551-AB1A-8488EC92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D65-8353-43CB-9480-DAA8D904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FD6-97AE-4540-8934-383BDAB4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EDB-04A8-494D-A9B7-38D39F9A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072-77A8-4283-A2BA-54FDA3E7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CE6-E4CD-495D-8C2E-40233D3F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A366-50AD-4172-96D2-A23A3FBC43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8A8E-7318-4740-B669-46F6AF08F99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23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Атомная</a:t>
            </a:r>
            <a:br>
              <a:rPr sz="10000"/>
            </a:b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энергия</a:t>
            </a:r>
            <a:endParaRPr b="0" lang="en-US" sz="10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_1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0d6e3c6c4de50e7de564ce759b25f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87fe018e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50px-Operation_Upshot-Knothole_-_Badger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53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131105_a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energetika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uclear-for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11:54Z</dcterms:created>
  <dc:creator>User</dc:creator>
  <dc:description/>
  <dc:language>en-US</dc:language>
  <cp:lastModifiedBy>Legion</cp:lastModifiedBy>
  <dcterms:modified xsi:type="dcterms:W3CDTF">2017-09-22T10:24:11Z</dcterms:modified>
  <cp:revision>6</cp:revision>
  <dc:subject/>
  <dc:title>Атомная энергия</dc:title>
</cp:coreProperties>
</file>