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3A7-5EE5-40C1-9E7A-415D3A1A31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ная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9EB-AB91-477C-821D-B7B33D67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DEF-DC7F-46DF-92A6-9AA2F24E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A96-AC59-4D57-9401-5557CE32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F44-0DC4-460F-B7F3-DE8452A0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CDF9-21F4-4761-BDD9-F6B902D2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8249-AD6A-4E8E-8ECD-08AD8449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777B-B605-462D-9A67-E332883C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165F-6A2A-4638-A657-0EFA643E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EF37-6950-4A60-B9EB-5044FF59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BFA9-3FF0-4EAA-9C73-79D02409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C750-DD8F-406B-A447-A325A32B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D51-B461-485F-A106-2C907EFA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DE98-3264-4816-92DD-0837D1FF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072D-E954-43DF-A45F-3AD2E9A0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33C8-85F8-493E-9548-CDBDD608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BAA7-908D-41AC-8139-999029FD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8C17-F264-4BFB-A667-20B970BC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F1F-24F1-4D07-A25B-379C35FE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010-74B0-4FDE-BE40-B422BEA1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FDC-8FA8-469B-AEEB-F4684BE9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AB2-E7E1-4E7F-8DC4-91CCE17B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EE1-6323-42C2-88D4-DAA58F11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B74-DC99-4896-A691-5124A084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2A4-BD8E-453C-8C7B-64136B12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D977-3CFA-4D76-9311-98E5BC6782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A8B8-487B-40F0-B2BD-F12864A842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23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Атомная</a:t>
            </a:r>
            <a:br>
              <a:rPr sz="10000"/>
            </a:b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энергия</a:t>
            </a:r>
            <a:endParaRPr b="0" lang="en-US" sz="10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_1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0d6e3c6c4de50e7de564ce759b25f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87fe018e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50px-Operation_Upshot-Knothole_-_Badger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53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131105_a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energetika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uclear-for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11:54Z</dcterms:created>
  <dc:creator>User</dc:creator>
  <dc:description/>
  <dc:language>en-US</dc:language>
  <cp:lastModifiedBy>Legion</cp:lastModifiedBy>
  <dcterms:modified xsi:type="dcterms:W3CDTF">2017-09-22T10:24:11Z</dcterms:modified>
  <cp:revision>6</cp:revision>
  <dc:subject/>
  <dc:title>Атомная энергия</dc:title>
</cp:coreProperties>
</file>