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B676-A065-4BA3-BE6E-1193956E9F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ная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8B2-B3EE-492C-A11D-47A0B0D3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560-FAA4-4E78-A9B8-3C2F9E5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0BB-BBF1-4B22-B201-46A2F4E9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1EE-35DA-41D9-A136-1224E89C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E16F-D287-4C9E-9510-17CE651E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120D-925C-47C7-A462-79C5B810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16F7-7CBE-45D7-836D-071D748E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3A5F-97D3-4AB0-B503-234679AA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590E-1807-48E0-B716-FFDBD0AB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274D-CCF0-4FFC-A7D3-AA595EEE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4E00-2C6F-48E3-9956-EDFD63B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45E-CAC3-478F-9D54-A9A24943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0972-218E-4A6B-8728-AFE62249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3F09-8D9A-41EF-8967-A484182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F079-433C-4E1A-BC14-098CA070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F9AA-E880-4A96-9102-28B19E4A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67FF-AA42-4228-AF2E-098BED74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DB7-6752-42A2-9B33-ECDF52A2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523-25E0-4B05-9903-395B9D65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05A-BDC3-4F7B-BA53-05EA35D7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634-C169-4434-B7A2-E80467A0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3DB-0DA2-4E1C-B73F-807B7E91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BD2-1C26-4C6C-A0C2-DFF7789B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3CA-25F9-459A-B39F-764FE12C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8760-A5B7-43AC-98A0-125D493D810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2FAC-8582-4D16-B029-D276AF7ABE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3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Атомная</a:t>
            </a:r>
            <a:br>
              <a:rPr sz="10000"/>
            </a:b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энергия</a:t>
            </a:r>
            <a:endParaRPr b="0" lang="en-US" sz="10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_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0d6e3c6c4de50e7de564ce759b25f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87fe018e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50px-Operation_Upshot-Knothole_-_Badger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53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131105_a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energetika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uclear-for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11:54Z</dcterms:created>
  <dc:creator>User</dc:creator>
  <dc:description/>
  <dc:language>en-US</dc:language>
  <cp:lastModifiedBy>Legion</cp:lastModifiedBy>
  <dcterms:modified xsi:type="dcterms:W3CDTF">2017-09-22T10:24:11Z</dcterms:modified>
  <cp:revision>6</cp:revision>
  <dc:subject/>
  <dc:title>Атомная энергия</dc:title>
</cp:coreProperties>
</file>