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2424-12D0-48A4-8938-C375333F12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ная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F29-B45E-42D1-A4A6-AD20829F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755-6EB7-4EFC-84BD-50C47C68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DD8-3263-4B64-A7A4-C6BE0023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377-CEB9-4358-AB2E-38901063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032D-1687-4E97-BAAB-948615C4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4A6B-9F28-422B-A07E-9D21AA8C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806E-76C2-4308-A600-2E197EBF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7105-353E-45C3-8A80-9475EB22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B61A-4DF5-4910-A7E1-790E06EC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6838-7929-4AB1-B648-E1C6A820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C9DB-4BAC-47AF-B578-59C0D500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7F6-E5D4-4BE1-A3E1-A0F94074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F468-9746-439B-9C55-491F9DD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FF2D-9D92-4854-8248-4BC22BC9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01A7-6BD1-4263-BF16-110F511F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0C54-F9DD-4C1F-9DF7-AC8BD440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1158-A8D5-4E18-B2E2-1B1BAE9A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2D7-00CE-4DC1-87DB-C7622064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863-4092-4237-8388-F6FF92F1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937-BD64-489D-AE94-4312F2E5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DE3-3D7B-4BBC-8CD1-64DD8715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553-D90C-417E-A7C3-A229FAC9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3F6-F3B2-48E1-8AEA-F5CB3B6D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B87-CAB8-4444-AE9C-CE517676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F847-74D0-4722-BBC5-58FB36F4866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2429-8CA4-4C9A-AF53-5B933AE8201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23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Атомная</a:t>
            </a:r>
            <a:br>
              <a:rPr sz="10000"/>
            </a:b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энергия</a:t>
            </a:r>
            <a:endParaRPr b="0" lang="en-US" sz="10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_1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0d6e3c6c4de50e7de564ce759b25f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87fe018e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50px-Operation_Upshot-Knothole_-_Badger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53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131105_a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energetika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uclear-for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11:54Z</dcterms:created>
  <dc:creator>User</dc:creator>
  <dc:description/>
  <dc:language>en-US</dc:language>
  <cp:lastModifiedBy>Legion</cp:lastModifiedBy>
  <dcterms:modified xsi:type="dcterms:W3CDTF">2017-09-22T10:24:11Z</dcterms:modified>
  <cp:revision>6</cp:revision>
  <dc:subject/>
  <dc:title>Атомная энергия</dc:title>
</cp:coreProperties>
</file>