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4982-1A21-4181-81DB-5FDA33AB67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Атом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494-177B-4A22-A319-317FA3C1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02A-9832-4003-B56D-8D1F2A72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F6C-E108-423D-9B30-A86DDCAD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B2F-BD60-4412-92EA-C0A39715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F7C9-BE72-421B-95AA-56B2B2AB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F033-DE98-4172-A995-F6141471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AE4F-75B9-444F-A086-042DF515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4050-1D98-4B7D-B8B3-ECBDA725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D939-2DFC-4E6A-8F7E-8EDB82CD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52E5-6D60-4C48-9530-F2126154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E481-3965-40B0-AE47-161411A2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09E-41D9-4EC3-8CAD-DC6A55D0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94B8-8408-4B44-92BB-A6AB22C9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6AAA-3591-4E3F-BA49-424A82E9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2DFC-3153-4F9C-875A-69E81A5C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C15C-2ED7-4049-94B6-F2A457EB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6FD6-DC43-49C6-8945-78B88CEF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34F-5191-49D1-B44B-751DC7AB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14C-A9CF-4F84-A922-76133374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DB6-3970-463C-B20D-BF5F2B35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48E-0F8D-42CF-A06F-07980290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E93-A465-4207-B3AD-89D6DCD2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95E-99A3-4F53-9F76-D68E3EDA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494-D8ED-42EB-B028-F7800BA6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6FB5-5CEA-4383-8841-13DD6312ED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3A5B-C8E3-46B7-9D6D-D632C0435B3F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333399"/>
                </a:solidFill>
                <a:latin typeface="Tahoma"/>
              </a:rPr>
              <a:t>Атомы </a:t>
            </a:r>
            <a:endParaRPr b="0" lang="en-US" sz="10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3d_1548-1024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97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109970niBCRIKyL8kn5M5w4ON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1002300_PH01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atom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at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atom_kak_plane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atomy-i-molekuly-chasticy-veshhest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23:07Z</dcterms:created>
  <dc:creator>User</dc:creator>
  <dc:description/>
  <dc:language>en-US</dc:language>
  <cp:lastModifiedBy>Legion</cp:lastModifiedBy>
  <dcterms:modified xsi:type="dcterms:W3CDTF">2017-09-22T10:25:31Z</dcterms:modified>
  <cp:revision>5</cp:revision>
  <dc:subject/>
  <dc:title>Атомы</dc:title>
</cp:coreProperties>
</file>