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8ED46-4466-4138-8960-97F0C328076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то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Атомы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8E68-4502-42EC-9368-F38655D89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0754-C4B2-4442-9252-D11093813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498B-4F5E-4572-BF57-32EF825E6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A100-F576-47FB-9B21-1C12E4065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A2DEB-A61D-42C0-988F-B271EF835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3E5B0-5929-43B0-8B08-87C99D479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27CAF-0A8A-4C3D-A51D-BB334F0B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684AC-51B7-4D37-9F40-3467BFC84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CA84A-FBFF-4844-A6C5-0AA795607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9614B-F20B-41CE-981D-9FD7ABB7B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EAFFB-797F-4044-A5DE-FDC2237E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481C-FAD7-42DA-94C6-D70F2D308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67195-19E4-43D5-90E5-067BD848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C0E89-E1B5-48C2-8556-FC456A65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1C820-09C3-475E-A8EC-51C23600C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4B7BD-4D27-4226-A5F9-3BE8B7E46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088EC-ECC5-46D5-9397-3FC5329D0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5895-4E49-4242-B298-BFAADABD6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A2E6-2673-4B32-A30A-69532EC8D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6B83-AB28-492E-B6F9-AFECB9D4B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B845-1FB4-4AE0-AC06-975010C69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8C30-4F68-4AF9-8C0B-663033B3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7F19-7A2C-4858-A64B-8570C305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854C-33A2-49C2-BF24-B2C424A6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C717A-890F-4468-9EDA-89EDAE196D7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FA0C2-5D30-42C3-8211-21CF4DDF93E6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333399"/>
                </a:solidFill>
                <a:latin typeface="Tahoma"/>
              </a:rPr>
              <a:t>Атомы </a:t>
            </a:r>
            <a:endParaRPr b="0" lang="en-US" sz="10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Рисунок 6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Picture 4" descr="3d_1548-1024x7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4" descr="9778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Picture 4" descr="109970niBCRIKyL8kn5M5w4ON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Picture 4" descr="1002300_PH016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Picture 4" descr="atom(1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Picture 4" descr="ato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Picture 4" descr="atom_kak_planet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Picture 4" descr="atomy-i-molekuly-chasticy-veshhestv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7:23:07Z</dcterms:created>
  <dc:creator>User</dc:creator>
  <dc:description/>
  <dc:language>en-US</dc:language>
  <cp:lastModifiedBy>Legion</cp:lastModifiedBy>
  <dcterms:modified xsi:type="dcterms:W3CDTF">2017-09-22T10:25:31Z</dcterms:modified>
  <cp:revision>5</cp:revision>
  <dc:subject/>
  <dc:title>Атомы</dc:title>
</cp:coreProperties>
</file>