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51A2C-636A-461A-81AB-1D21A9CB74E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то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Атомы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290B-43D2-4B3B-BD50-157EDFAAC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F23C-FA10-4C7E-9C72-418FD956D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3F38-F95C-4823-8198-22B98440A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8BCD-FBA6-4B07-BCCE-78DE3E179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E353C-2306-4D4C-A7F4-75AF95804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BCFF5-D5CE-4D3D-990B-8C9864C73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650DA-7782-4289-8030-AB295CB48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D7AF1-04AF-4598-936C-257919BF5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9A33E-E08A-49D5-80E8-ACB5FDBAE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58027-D6E4-4AE8-B181-19033A2D0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8DC39-8629-498D-83DC-56736E35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D5BA-2C7F-4724-B998-56F674A9A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A0329-053C-4C42-B7E8-006C2AAB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AAF1A-F440-40FC-86DC-39F6B2FF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3C4D2-4285-4B50-A954-6BFF8EAD8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82878-D2D7-46CD-9102-A8C05F526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D6CC6-7C14-407B-A6D9-8F6D9488B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4D47-3AD2-43FF-A3D0-5D99E9AC8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E518-75CC-4263-91B6-A93361631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56B0-3A54-4FCB-986C-D73C6D0B7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7877-E9D2-401E-991B-62B2CF258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6733-4783-463D-B8BD-71491031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487C-01EF-45EC-B92B-D931448F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F786-D5AF-4317-85D6-493698DC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A97C5-C6CE-4FC9-A2B2-48CE1C7530F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DBFEE-9A9E-4BFD-BB44-D16854B92FE6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333399"/>
                </a:solidFill>
                <a:latin typeface="Tahoma"/>
              </a:rPr>
              <a:t>Атомы </a:t>
            </a:r>
            <a:endParaRPr b="0" lang="en-US" sz="10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Рисунок 6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Picture 4" descr="3d_1548-1024x7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Picture 4" descr="9778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Picture 4" descr="109970niBCRIKyL8kn5M5w4ON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Picture 4" descr="1002300_PH016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Picture 4" descr="atom(1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" name="Picture 4" descr="ato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Picture 4" descr="atom_kak_planet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Picture 4" descr="atomy-i-molekuly-chasticy-veshhestv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7:23:07Z</dcterms:created>
  <dc:creator>User</dc:creator>
  <dc:description/>
  <dc:language>en-US</dc:language>
  <cp:lastModifiedBy>Legion</cp:lastModifiedBy>
  <dcterms:modified xsi:type="dcterms:W3CDTF">2017-09-22T10:25:31Z</dcterms:modified>
  <cp:revision>5</cp:revision>
  <dc:subject/>
  <dc:title>Атомы</dc:title>
</cp:coreProperties>
</file>