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applaus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  <p:sldId id="298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slide" Target="slides/slide43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0CF41-54F7-49C8-B206-A1BF7C39830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сихология и педагогика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12AF8-8C7D-42F5-A44E-495BB199942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66"/>
                </a:solidFill>
                <a:latin typeface="Calibri"/>
              </a:rPr>
              <a:t>ОСНОВНЫЕ</a:t>
            </a:r>
            <a:r>
              <a:rPr b="1" i="1" lang="ru-RU" sz="20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3366"/>
                </a:solidFill>
                <a:latin typeface="Calibri"/>
              </a:rPr>
              <a:t>ОТРАСЛИ ПСИХОЛОГИИ</a:t>
            </a:r>
            <a:br>
              <a:rPr sz="20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В настоящее время психология представляет собой весьма разветвленную систему нау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Их в свою очередь можно разделить 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фундаментальные и прикладны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общие и специальны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CEB69-EEA8-4697-87A3-C0E3E4FD4EB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b9899"/>
                </a:solidFill>
                <a:latin typeface="Calibri"/>
              </a:rPr>
              <a:t>Психологическая педагог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асть психологической науки, которая изучает психологические основы обучения, воспитания, педагогическ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0E364-68CF-4CD8-9430-8B9B8D7F9C8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Методы психолог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тельный метод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нешнее наблю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вободное наблю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тандартизированное наблю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нутреннее  наблюд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амонаблюдение, или интроспек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ключенное наблюд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нк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сты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E5863-C042-4CE3-AE99-4E1253F90C4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b9899"/>
                </a:solidFill>
                <a:latin typeface="Calibri"/>
              </a:rPr>
              <a:t>Определение педагогик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Педагогика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(от греческих слов «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пайдос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» - дитя и «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аго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» - вести, в дословном переводе «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пайдагогос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» означает «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детоводитель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»)  -наука, которая изучает закономерности, возникновение, функционирование процессов обучения и воспитания детей и взрослых в институтах их наиболее полного развит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D4EC3-6B2C-4EF3-8A89-B1C4E90830B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Педагогом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 Древней Греции называли раба, который в буквальном смысле слова брал за руку ребенка своего господина и сопровождал его в школ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Педагогика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– это наука о воспитании человека. В мировом педагогическом лексиконе употребляются новые термины – «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андрогогика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» (от греч. «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андрос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» - мужчина и «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аго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» - вести) и «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антропогогика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» (от греч. «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антропос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» - человек и «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аго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» - ве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23547-D242-48E4-90C4-A3DB3794775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ыписка из стандар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я и педагог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сихология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едмет, объект и методы психологии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есто психологии в системе наук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стория развития психологического знания и основные направления в психологии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, личность, субъект, индивидуальность. Психика и организм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сихика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едение и деятельность. Основные функции психики. Развитие психики в процессе онтогенеза и филогенеза. Мозг и психика. Структура психики. Соотношение сознания и бессознательного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сновные психические процесс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Структура сознания. Познавательные процессы. Ощущение. Восприятие. Представление. Воображение. Мышление и интеллект. Творчество. Внимание. Мнемические процессы. Эмоции и чувства. Психическая регуляция поведения и деятельности. Общение и речь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сихология личност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ежличностные отношения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сихология малых групп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групповые отношения и взаимодейств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57A86-A422-492A-8B41-0CEC74B34A4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Возникновение и развитие педагогики, ее представител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Уже в наиболее развитых государствах древнего мира –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Китае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Индии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Египте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Греции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– были предприняты попытки обобщения опыта воспитания. Все знания о природе, человеке, обществе аккумулировались тогда в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философии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; и в ней же были сделаны первые педагогические обоб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E5B60-0422-4564-9B77-96D8CEFA84C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лыбелью европейских систем воспитания стала древнегреческая философия:</a:t>
            </a:r>
            <a:br>
              <a:rPr sz="1200"/>
            </a:b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Демокрит (460 – 370 гг. до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ократ (469 – з99 гг. до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латон (427 – 347 гг. до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ристотель (384 – 322 гг. до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Марк Квинтилиан (35 -96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5B0B7-33C8-42AC-85EE-3FFD1715C6D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 период средневековья церковь монополизировала духовную жизнь общества, направляя воспитание в религиозное русл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ертулиан (160 – 222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вгустин (354 -430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квинат (1225 – 1274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D11B9-385E-47CA-85F4-9FB7DEA8430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«Я – человек, и ничто человеческое мне не чуждо». – лозунг Эпохи Возрож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разм Роттердамский (1466 – 1536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итторино де Фельтрэ (1378 – 1446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Франссуа Рабле (1494 -1553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Ян Амос Коменский (1592 1670 гг.)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выделил педагогику из философии и оформил ее в научную систему!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Джон Локк (1632 – 1704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Д. Дидро (1713 – 1784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. Гильвеций (1715 -1771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. Гольбах (1723 – 1789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Ж.Ж. Руссо (1712 – 1778 гг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B2D1E-86BB-48F1-A86F-F22CA448C8B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Представители русской педагогической мысли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Г. Белинский (1811 -1848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И. Герцен (1812 – 1870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.Г. Чернышевский (1828 – 1889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.А. Добролюбов (1836 -1861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.Н. Толстой (1828 – 1910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Д. Ушинский (1824 – 1871 гг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ни выступили с резкой критикой сословной школы и призывами коренного преобразования дела народного воспит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BC178-CAA8-4544-9B76-660923CB025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конце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XIX -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начале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в. интенсивные исследования педагогических проблем  начаты в США, куда постепенно смещается центр педагогической мысли. Были сформулированы общие  принципы,  выделены закономерности воспитания, разработаны и внедрены эффективные технологии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жон Дьюи (1859 – 1952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двард Торндайк (1874 – 1949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486C-7B33-45DA-AC15-F81AD1BA5CF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7b9899"/>
                </a:solidFill>
                <a:latin typeface="Calibri"/>
              </a:rPr>
              <a:t>Система педагогических наук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бщая педагог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общие осно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дидактика (теория обуч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теория воспит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школ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озрастная педагог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дошкольная педагог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шко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3.      Педагогика высшей: школы занимается педагогическими проблемами взросл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AC2DC-2DE6-43F8-8CAF-9ED5F638C15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7b9899"/>
                </a:solidFill>
                <a:latin typeface="Calibri"/>
              </a:rPr>
              <a:t>Система педагогических наук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4. Социальная педагогика: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- семейная педагогика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- перевоспитание правонарушителей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- и др.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5. Сурдопедагогика – воспитание глухонемых и слепых.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6. Тифлопедагогика – воспитание слепых.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7. Олигофренопедагогика – Воспитание умственно отсталых.</a:t>
            </a:r>
            <a:br>
              <a:rPr sz="1200"/>
            </a:br>
            <a:r>
              <a:rPr b="1" i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254F9-22AA-4FC8-9CA2-166B4BCC3E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Педагогика развивается в тесной связи с другими наукам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. Философские нау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э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эсте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наук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. Анатом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3. Физи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4. 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5. История, литература, медицина, экология, экономика, археология…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B8DCF-7BF8-4FDA-8E1F-32472E18BD0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Calibri"/>
              </a:rPr>
              <a:t>ВЫПИСКА ИЗ СТАНДАРТ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едагогика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бъект, предмет, задачи, функции, методы педагогики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ные категории педагогики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, воспитание, обучение, педагогическая деятельность, педагогическое взаимодействие, педагогическая технология, педагогическая задача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раз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ак общечеловеческая ценность. Образование как социокультурный феномен и педагогический процесс. Образовательная система России. Цели, содержание, структура непрерывного образования, единство образования и самообразования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дагогический процес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Образовательная, воспитательная и развивающая функции обучения. Воспитание в педагогическом процессе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ие формы организации учебной деятельност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рок, лекция, семинарские, практические и лабораторные занятия, диспут, конференция, зачет, экзамен, факультативные занятия, консультация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ы, приемы, средства организации и управления педагогическим процессом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ья как субъект педагогического взаимодействия и социокультурная среда воспитания и развития личности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равление образовательными систем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4434A-ED02-426B-82FB-1A7B3DC78C2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100"/>
            </a:br>
            <a:br>
              <a:rPr sz="11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теграция наук привела к возникновению пограничных наук – педагогической психологии и психопедагогики.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едагогика также находится на стыке точных и технических наук – кибернетическая, математическая, компьютерная педагогика, суггестология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D3A61-8334-408A-B22B-ECA5F58F315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b9899"/>
                </a:solidFill>
                <a:latin typeface="Calibri"/>
              </a:rPr>
              <a:t>Педагог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наука, изучающая закономерности воспитания, обучения и образования детей и взрослых в интересах их всесторонне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A42F3-BA80-4AE3-9519-C3F6C5D4FDA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b9899"/>
                </a:solidFill>
                <a:latin typeface="Calibri"/>
              </a:rPr>
              <a:t>Основные категории педагог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оспит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бу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бра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Форм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азви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A22A9-D476-4DF6-BEC2-CD107005BD9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атегории педагог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353A4-3B61-45B7-BFBB-38C3B273F1E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Обучен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пециально организованный, целеполагаемый, управляемый процесс взаимодействия учителей и учащихся, направленный на усвоение знаний, умений, навыков, формирование мировоззрения, развитие умственных сил, потенциальных возможностей обучаемых, закрепление навыков самообразования в соответствии с поставленными целями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039C-F600-404C-A9BA-B6ED646BC6C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ния - это отражения человеком объективной  деятельности в форме фактов, представлений, поня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ния – это готовность сознательно и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о  выполнять практические и теоретические действия на основе усвоенных знаний, жизненного опы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выки – это компоненты практической деятельности  проявляющееся при  выполнении необходимых дейст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031A2-7822-48F7-8959-6D7C47FB86B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b9899"/>
                </a:solidFill>
                <a:latin typeface="Calibri"/>
              </a:rPr>
              <a:t>Образование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это объем систематизированных  знаний, умений, навыков, которыми овладел обучаем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 – результат обучения. В буквальном смысле оно означает формирование образов, законченных представлений об изучаемых предмет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PS: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ным принято называть человека, который  овладел определенным объемом систематизированных зн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E3A83-4DE2-421C-94EA-2AA3D13D964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b9899"/>
                </a:solidFill>
                <a:latin typeface="Calibri"/>
              </a:rPr>
              <a:t>Воспит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это целенаправленный и организационный процесс формирования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1)в широком смысле – это передача накопленного опыта от старших поколений к младшим (под опытом понимается известные людям знания, умения, способы мышления, нравственные, этические, правовые нормы – словом, все созданное в процессе развития духовное наследие человечества); 2)в узком социальном смысле под воспитанием понимается направленное воздействие на человека со стороны общественных институтов  с целью формирования у него определенных знаний, взглядов, убеждений, нравственных ценностей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Цель воспитани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– это то, к чему стремится воспитание, будущее, на достижение  которого направляются усил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30F9E-1568-4FE1-AA0D-2CC6746DE58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7b9899"/>
                </a:solidFill>
                <a:latin typeface="Calibri"/>
              </a:rPr>
              <a:t>Формиров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цесс становления человека как социального существа под воздействием всех без исключения факторов – экологических, социальных, экономических, психологических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21D3-C1CF-448B-AEB7-606DB85978B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b9899"/>
                </a:solidFill>
                <a:latin typeface="Calibri"/>
              </a:rPr>
              <a:t>Разви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оцесс количественных и качественных изменений в организме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 развития – становление человека как биологического вида и как социального существа. Социальное развитие находит выражение, в психологическом, духовном, интеллектуальном рос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FFB0D-D977-4D49-9FB5-482CDC47FC2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СИХОЛОГИЯ И ПЕДАГОГИКА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d0a10"/>
                </a:solidFill>
                <a:latin typeface="Times New Roman"/>
                <a:ea typeface="Times New Roman"/>
              </a:rPr>
              <a:t>1.Психология и педагогика: учебное пособие / Под ред. А.А. Радугина. – М.: Центр,2002. – 256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d0a10"/>
                </a:solidFill>
                <a:latin typeface="Times New Roman"/>
                <a:ea typeface="Times New Roman"/>
              </a:rPr>
              <a:t>2. Реан А.А., Бордовская Н.В., Розум С.И. Психология и педагогика: учебник для вузов. – СПб.: Питер, 2000. –  432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d0a10"/>
                </a:solidFill>
                <a:latin typeface="Times New Roman"/>
                <a:ea typeface="Times New Roman"/>
              </a:rPr>
              <a:t>3. Психология и педагогика: Учебное пособие. – Томск: Изд-во ТПУ, 2009. – 80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d0a10"/>
                </a:solidFill>
                <a:latin typeface="Times New Roman"/>
                <a:ea typeface="Times New Roman"/>
              </a:rPr>
              <a:t>4. Психология. Учебник для технических вузов / Под общ. ред. В.Н. Дружинина. – СПб.: Питер, 2000. – 608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E9AED-7AA4-4FA1-8D36-1F14CF6F9A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Методы педагогики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едагогическое наблюдени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тельская бесед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школьной документации и продуктов деятельности учащихс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ический эксперимент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и обобщение передового педагогического опы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ическое наблюдение применяется в любой исследовательской деятельности. Наблюдение - основной источник накопления фактов и свед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37EE3-836C-4F7E-9805-FF8DC50D292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едагогический эксперимен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метод исследования, ориентированный на подтверждение или отрицание.  Каких-либо теоретических выкладок опытным пут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висимости от имеющихся целей различают следующие виды эксперименто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атирующ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идательно-преобразующ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ны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ественны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12E10-3334-4667-99A3-EC3397B071B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b9899"/>
                </a:solidFill>
                <a:latin typeface="Calibri"/>
              </a:rPr>
              <a:t>Словарь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Воспитание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целенаправленный и организационный процесс формирования личности.1)в широком смысле В – это передача накопленного опыта от старших поколений к младшим (под опытом понимается известные людям знания, умения, способы мышления, нравственные, этические, правовые нормы – словом, все созданное в процессе развития духовное наследие человечества); 2)в узком социальном смысле под воспитанием понимается направленное воздействие на человека со стороны общественных институтов  с целью формирования у него определенных знаний, взглядов, убеждений, нравственных ценностей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Обуч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специально организованный, целенаправленный и управляемый процесс взаимодействия учителя и ученика, направленный на усвоение  знаний, умений, навыков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Форм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процесс становления человека как социального существа под воздействием всех без исключения факторов – экологических, социальных, экономических, психологических,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Развит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процесс и результат количественных и качественных изменений в организме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4767F-CBBC-447F-9F05-A4EB7942F8E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Лекция оконч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A7B93-710C-4E9A-A364-3966FD6FC44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Calibri"/>
              </a:rPr>
              <a:t>ПСИХОЛОГ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я (греч.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ψυχη 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ша 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лого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наука) — наука о закономерностях развития и функционирования психики. (Наука, изучающая процессы и закономерности психической деятельности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51E53-C59C-43B1-9008-85E977288D1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b9899"/>
                </a:solidFill>
                <a:latin typeface="Calibri"/>
              </a:rPr>
              <a:t>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пецифический круг явлений, который изучает психология, выделяется отчетливо и ясно, - это наши восприятия, чувства, мысли, стремления, намерения, желания…,- то есть все то, что составляет внутреннее содержание нашей жизни и что в качестве переживания как будто непосредственно нам дано…».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Рубинштей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D83FE-DC73-4C4A-B163-23298098C4F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b9899"/>
                </a:solidFill>
                <a:latin typeface="Calibri"/>
              </a:rPr>
              <a:t>Псих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о головного мозга, обеспечивающее человеку и животным способность отражать воздействия предметов и явлений реального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E5840-28D7-4BAA-A799-F078C16DC1B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ъект псих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- психические я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- индив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- груп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- общ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CA682-C9FF-473E-9B76-B56D0CE9F55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B7D5-0BB6-447D-9711-263F5AC83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25C9-DD9A-4325-8764-9454F5EAF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27B1CF-1FDD-45D1-B4FA-28A74A0CF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F92A46-3B4F-4F62-97E4-6B0EE05E6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8DFF28-F96D-46B4-B9B8-C593FD373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5CC6A4-47C2-46DD-9638-E1151EA6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7163FE-710A-417B-8BE6-320B04B1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521471-9A76-4F5F-8913-C5FD39C3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72C640-FAEB-4450-907A-203626C47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F5A094-F421-4C38-A903-3D23FF73E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59CB95-662D-4B5A-B6AF-11DA56091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E50160-1C24-406E-B0F4-11446E7C6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074B-E96F-4B54-976C-8ACAF4CE8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A16A14-A1C3-4B0F-A003-43ABD339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0B8550-B1DC-4636-BDBB-273CEAFF9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7B1179-4520-4883-A32A-FBF1030E8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1CCAF4-5246-439A-AE40-FCB444955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04B236-1C82-4437-9E9F-1641F5427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D03639-630F-417F-B7AA-E8ACCEB7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FF417B-7BEB-4ACB-A53A-70F399C2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889669-58C4-41B6-8BB3-FE5F0289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2237F7-E1CA-43E2-B2F5-2C9A567C6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B31C54-70E6-486E-83ED-CA2CB1B2D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1C0C-7899-4ED0-903C-AD6A8B72E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295E4F-6FAA-4C45-BCEE-CCF74E8C6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CA6BEB-4FD0-40D9-A3AA-3B0599CEC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84E56F-DD08-4F5D-BE10-598007629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41AC22-5306-4ACD-93D0-232AA722F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2B8E30-FF44-4827-A92E-2498C9C9E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5C7A71-4240-4FF4-9091-0C8DB90E6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8F55C3-349B-43A0-9F8E-B7274FFB3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A575B3-1B43-4C7C-89E5-AD48CBC6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BD36C6-2C98-4A27-82D0-A1CE2162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9A4B76-238B-424E-B38B-41B43B79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3B899-232F-4807-ABA0-FFFDDF59A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09F72B-D58A-4778-A769-FB81F3862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F43FEE-0BEB-4823-8E25-38AB7FC7D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ECB8B3-57D4-4359-A876-721157EFA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2A1914-486D-4D92-93C8-02F9371B2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30BA18-86D4-4819-A4DC-87607493C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D7EF5C-B247-4F0D-A0F9-A493FED4D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D87570-4CD8-4864-8196-B10CBE24D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A50094-DB9D-4905-8504-B4B89724D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120D3B-B114-4145-A43A-D90614DFB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CC0A28-FF67-4E64-8A0F-C4B7DEDC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A2497-C308-4A59-BCBD-4AF48C8D5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65A150-AE46-47B7-B924-DC5620F9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CA010C-780F-4FF6-BBD3-5E0EEDBA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5CC7EB-1972-4671-80B8-2F6651B3C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736BA6-78B9-482B-87F9-413C8CC4E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E01940-663A-4F6D-96CB-B1B819C33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DDED3D3-7CCC-49FD-A027-CEE0C5D7D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5916CA4-2828-4607-BA71-032B37082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4209D08-7FB4-4973-9A7A-9B4EDA881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7087EA5-5E30-465B-A5DC-C69BE5332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814004E-06DC-41B5-B674-1955EFC1C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3CF03-7D7B-42A5-8211-B102FB25E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BAFC951-18DB-4339-9189-E5A2A4D8C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E07619B-EF23-4B16-9D3F-16B28491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A9FCBCD-67E8-4A10-B970-038723E3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56DA0DD-503E-4F97-8970-76E60E06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CC374E0-5E73-4E73-8408-DC4823E32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35CBC7A-FF43-400D-8932-6AB3A82F7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6776858-BEF9-4549-9422-84AA73599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547F6B-0C88-4B2E-A061-2F75A91C9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9B1168-24F4-4E89-B019-8E6BE92A7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AA5AF1-8EA4-4D34-81EB-1B3070D3C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EFDD9-E840-4CC4-B43A-35F8B0B7D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8C5E3C-3047-4EB5-B016-CFF429877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930A58-298F-4B35-809F-B9DFEB4EE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26EFA2-5EFD-4FA9-AC03-E71E08014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B0BF23-CA7A-4333-A36E-99CA9784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5F172C-53B2-4B27-BF72-D663961A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1332C1-77E6-4401-940F-183528F4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C85593-2852-46AC-B8D3-A2DA0BE3E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A776DC-B95F-46EF-9E42-84AF0B172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27F9D3-D60B-46F5-8021-680B47247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8FB23-2062-4069-B263-C9E94B8AA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D83E5-916E-4E8C-BC8F-8536A9D28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A0846-CF13-4CF8-A4D9-31A9869F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8C92-CCAF-4B19-9C07-C1814DB76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BBCC6-09AE-4C1B-8DDE-A69D8EF0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1BFC4-E75A-4F33-906D-D00C9D1C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E9CF8-FB33-4EA7-B593-1A8A3B089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BFF38-3A50-40B5-8CE6-088B577A4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85309-77B1-4FD3-82DF-052BF881C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70179-78DE-44C1-A686-ACEBAD110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E4C6D-653A-4D88-BC65-394E9B216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35FAA-1BB1-451D-9E63-17DF148CA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5845C-75EE-4222-8692-0591B2ED8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B9859-654D-4515-817E-16D0A6C38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BDAF-2D67-4E7C-BF14-47419C949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3B7B1-A72B-4CD1-BE8B-813296C96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11EFA-D5C5-4373-8D3B-5A91E256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C0D89-DBFA-4BEE-A779-354427AB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FE339-BF3C-418D-87AF-806A3AC8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91F92-640A-49E0-8EAB-27E697EAF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A3538-6D71-4168-A778-73C75DEBD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B5C31-736C-4A4D-B2E3-1DAE5C7CE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43AF4-CDA7-496C-9E77-CB2A684BE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B4B6B-E2D9-40FF-BFC4-B3702D3C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38B31-2256-4F4C-A5BB-A2BF29998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EE15-4FD3-4228-9547-EDC81571D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F2B8A-B6AF-4948-A928-DC1ED28E3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1F641-751A-4EAF-A240-DC383786B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47791-81EF-4CC4-A987-D9F1C2314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6E70B-4904-4D7E-8E88-86EAB540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B4651-A8AD-4F6E-A010-8C3E4FA4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0151A-40BA-4061-B8EE-E9411AE9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B65AB-FA8B-4FE2-94F3-EE17C02B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712F8-0ECA-4DC6-8DA2-802A27E3A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EE663-F4AB-43D5-A428-9775AB371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DC45E-2030-4594-8707-2A3FCABB3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977F-5E44-46A2-BDEC-EDE634D1F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AF3AE-8F4E-48E7-93E9-5B4BABABA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AC46B-CAB1-43F3-814E-B1385F68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BAAEB-1714-470D-9D7B-5059EDDEE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9CF32-DC59-4EF1-9521-0169E02C0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8F2A1-7121-4FDF-894F-C32975A34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240EC-CFDA-40BB-B8A1-7E3FCF8A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66F80-891B-4984-890D-E57C8EC0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C5CD3-900A-42A2-AEDF-3543C5B2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AB4BD-4E47-4C6B-B547-B0CFB358B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C0C41-2068-4593-8DE6-A48DEFC6C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5DEC-751A-4658-8AEF-229442950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45FE2-B9D1-4677-BB44-B9E78FD0F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3774A-3E63-461D-AF53-24A6414A9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3D608-2F31-4A8D-8606-E55D689FA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93AB5-104B-432E-A4D9-9D506CB88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73EA9-F2F0-4D33-933B-9BECACB5E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2ABA2-F330-4B1C-939C-15A3029F7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0B14B-5875-4050-A03F-75665C9CA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1E94F-C6CB-4526-A55A-8C441089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9510B-E260-40A6-A6C2-29523954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BD05E-1F66-4B3C-BFEA-B7988BD4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E117-D0CE-4327-BDD0-49CCEBBC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3E248-83CB-451F-92E9-A1766BEB5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15304-ADDE-4F80-96FE-080A5C790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6C293-9BB9-4506-9363-8080D4168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6E08E8-941F-4B92-AA48-E057C09D4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560503-B320-4768-90D8-72B2B8AD5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7AE63-BFFF-4E6E-BAD7-D2C1B1187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BD7C7A-DAE1-4825-B74D-0E93DE00A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9D3F2-4420-48D1-87A2-CC3630CDC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9F28A-7021-47CD-BB97-F6AADF202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56C668-E7CB-47AD-BF7C-02EBC6D8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C3A3-028F-4E0E-9FA0-2E8AF0B5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2C54E5-D031-4EFF-881C-62151082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0C167A-A1D8-4572-B0C2-63956381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D2C5BB-32EB-4C01-99C3-98BBE79C2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A82939-6EFB-479D-948A-D48AD1B65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73AD4-EC46-47A4-895E-8B10E13FE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DBDC79-566F-4883-A47B-80FEBD8F8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12A195-2842-4C8C-9FCD-745B0E1B7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3DE31C-6EB5-4755-9028-76322ADCD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AEBCCC-242F-4136-B99D-A28A6F0F2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9C0418-341E-40F5-B69F-835F96574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8E34-CE53-4E42-B635-82E8548D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D01E11-6251-488D-A06A-77F32EB36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8C8606-6D25-43AB-AB18-32F9E291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EED2B3-0993-4F0C-AB95-143C2E7B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AB6EFB-E5C8-4D26-8922-C0D82F04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D1B08-8EA2-455A-B9B5-F7ECEFE1D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B7114D-F164-4D04-A6ED-90F7B5058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EC669-D00B-44AF-9228-0F1A21987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13356A-F884-4ACF-82E9-02C782E86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F37BCA-8B4D-4348-AE91-76F6C78EE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B558AE-E6D9-4FF3-BA36-C309CE51D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BBA30-C0C7-4C63-A032-0B36D4F65DC8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E2DAD-5C11-4AEE-A7ED-F79660B062CB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2E808-97F7-47DD-AF6E-0B150A5B703E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19081-E5E9-4BA1-8DD6-C586CEA418E7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083F6-B996-42CE-BDA6-6F0F2C31C707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67318-91D3-41EB-9584-0ECF116F495F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7F094-35CD-4BF9-86D9-5117015FA892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E7F3A-7F73-4343-A87C-7A00C9F61E64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 type="sldNum" idx="37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34AC1-BC54-4DD1-9E51-D83AA2A4B320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 type="dt" idx="38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206FD-AD06-4D1B-942B-7C1F80A56F32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 type="ftr" idx="39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C8A0B-ABD4-4F1B-9633-211A53059F4B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 type="ftr" idx="41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68AD1-FB5B-482E-887B-ECCA7983CA21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6100E-2AE8-451B-8D2E-AAE551F13F26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8162A-2FD2-47E2-967A-7CB1CE494437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ADEC0-6EBA-4554-BD54-F03AC314FB4A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FFC5C-8B5C-4137-8B23-8C9034F4019F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01A83-D262-4065-B5AE-C9C106AD4D86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1181-A00C-45ED-A024-B922E8B93C6E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9ADA4-ED4D-4585-9827-CF0EF50F56C7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C61C1-1215-4D97-BB13-F76D13AA8B04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7D3F-01F0-4FBF-A134-D212B30AA278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A073D-ECF1-4A10-A03F-F294D265EFB1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C66E4-0D37-4E0E-A0A8-C87A1B623682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DDE9A-BCA7-4BBC-8325-0B25395EE8C7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681F2-3FEB-46DA-AD60-D7CBA99B961B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01506-49E4-40B4-BDBC-7E35B636BA1A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A07FE-1580-4405-9038-D8B368F1F0C1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F88DC-8CC6-450E-9C9C-EA631E2A1783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2400" cy="17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i="1" lang="ru-RU" sz="3200" spc="-1" strike="noStrike">
                <a:solidFill>
                  <a:srgbClr val="d16349"/>
                </a:solidFill>
                <a:latin typeface="Georgia"/>
              </a:rPr>
              <a:t> </a:t>
            </a:r>
            <a:r>
              <a:rPr b="0" i="1" lang="ru-RU" sz="3200" spc="-1" strike="noStrike">
                <a:solidFill>
                  <a:srgbClr val="d16349"/>
                </a:solidFill>
                <a:latin typeface="Georgia"/>
              </a:rPr>
              <a:t>Психология и педагогика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Прямоугольник 2"/>
          <p:cNvSpPr/>
          <p:nvPr/>
        </p:nvSpPr>
        <p:spPr>
          <a:xfrm>
            <a:off x="1357200" y="2714760"/>
            <a:ext cx="6215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Прямоугольник 3"/>
          <p:cNvSpPr/>
          <p:nvPr/>
        </p:nvSpPr>
        <p:spPr>
          <a:xfrm>
            <a:off x="2468520" y="3286080"/>
            <a:ext cx="646128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Лектор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Попова Людмила Льв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Кафедра социологии, психологии и права, 302 ауд. 19 корпу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Місце для нижнього колонтитула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1" name="applaus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01320" y="357120"/>
            <a:ext cx="8534520" cy="121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3366"/>
                </a:solidFill>
                <a:latin typeface="Georgia"/>
              </a:rPr>
              <a:t>ОСНОВНЫЕ</a:t>
            </a:r>
            <a:r>
              <a:rPr b="1" i="1" lang="ru-RU" sz="4900" spc="-1" strike="noStrike">
                <a:solidFill>
                  <a:srgbClr val="003366"/>
                </a:solidFill>
                <a:latin typeface="Georgia"/>
              </a:rPr>
              <a:t> </a:t>
            </a:r>
            <a:r>
              <a:rPr b="1" i="1" lang="ru-RU" sz="3000" spc="-1" strike="noStrike">
                <a:solidFill>
                  <a:srgbClr val="003366"/>
                </a:solidFill>
                <a:latin typeface="Georgia"/>
              </a:rPr>
              <a:t>ОТРАСЛИ ПСИХОЛОГИИ</a:t>
            </a:r>
            <a:br>
              <a:rPr sz="4900"/>
            </a:b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4" name="Прямоугольник 2"/>
          <p:cNvSpPr/>
          <p:nvPr/>
        </p:nvSpPr>
        <p:spPr>
          <a:xfrm>
            <a:off x="357120" y="1714680"/>
            <a:ext cx="8501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 настоящее время психология представляет собой весьма разветвленную систему нау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Их в свою очередь можно разделить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фундаментальные и прикладны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бщие и специальны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Місце для нижнього колонтитула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Text Box 2"/>
          <p:cNvSpPr/>
          <p:nvPr/>
        </p:nvSpPr>
        <p:spPr>
          <a:xfrm>
            <a:off x="1905120" y="304920"/>
            <a:ext cx="4967280" cy="94716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31f1c"/>
                </a:solidFill>
                <a:latin typeface="Georgia"/>
              </a:rPr>
              <a:t>СПЕЦИАЛЬНЫЕ ОТРАС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31f1c"/>
                </a:solidFill>
                <a:latin typeface="Georgia"/>
              </a:rPr>
              <a:t>          </a:t>
            </a:r>
            <a:r>
              <a:rPr b="0" i="1" lang="ru-RU" sz="2800" spc="-1" strike="noStrike">
                <a:solidFill>
                  <a:srgbClr val="231f1c"/>
                </a:solidFill>
                <a:latin typeface="Georgia"/>
              </a:rPr>
              <a:t>ПСИХ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3"/>
          <p:cNvSpPr/>
          <p:nvPr/>
        </p:nvSpPr>
        <p:spPr>
          <a:xfrm>
            <a:off x="214920" y="1752480"/>
            <a:ext cx="2021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ГЕНЕТ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4"/>
          <p:cNvSpPr/>
          <p:nvPr/>
        </p:nvSpPr>
        <p:spPr>
          <a:xfrm>
            <a:off x="228600" y="2209680"/>
            <a:ext cx="29145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ПСИХОФИЗИ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(НЕЙРОПСИХОЛОГ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5"/>
          <p:cNvSpPr/>
          <p:nvPr/>
        </p:nvSpPr>
        <p:spPr>
          <a:xfrm>
            <a:off x="200880" y="2971800"/>
            <a:ext cx="2841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ДИФФЕРЕНЦИАЛЬНАЯ</a:t>
            </a:r>
            <a:r>
              <a:rPr b="0" lang="ru-RU" sz="1800" spc="-1" strike="noStrike">
                <a:solidFill>
                  <a:srgbClr val="c5d1d7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6"/>
          <p:cNvSpPr/>
          <p:nvPr/>
        </p:nvSpPr>
        <p:spPr>
          <a:xfrm>
            <a:off x="202680" y="3505320"/>
            <a:ext cx="1709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ВОЗРАСТ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7"/>
          <p:cNvSpPr/>
          <p:nvPr/>
        </p:nvSpPr>
        <p:spPr>
          <a:xfrm>
            <a:off x="220320" y="3962520"/>
            <a:ext cx="1799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СОЦИА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8"/>
          <p:cNvSpPr/>
          <p:nvPr/>
        </p:nvSpPr>
        <p:spPr>
          <a:xfrm>
            <a:off x="220680" y="4495680"/>
            <a:ext cx="2346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ПЕДАГОГ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9"/>
          <p:cNvSpPr/>
          <p:nvPr/>
        </p:nvSpPr>
        <p:spPr>
          <a:xfrm>
            <a:off x="5748120" y="1752480"/>
            <a:ext cx="2024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МЕДИЦИН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1"/>
          <p:cNvSpPr/>
          <p:nvPr/>
        </p:nvSpPr>
        <p:spPr>
          <a:xfrm>
            <a:off x="5782680" y="2362320"/>
            <a:ext cx="243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АТОПСИХ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2"/>
          <p:cNvSpPr/>
          <p:nvPr/>
        </p:nvSpPr>
        <p:spPr>
          <a:xfrm>
            <a:off x="5755320" y="2895480"/>
            <a:ext cx="2003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ЮРИД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13"/>
          <p:cNvSpPr/>
          <p:nvPr/>
        </p:nvSpPr>
        <p:spPr>
          <a:xfrm>
            <a:off x="5776560" y="3429000"/>
            <a:ext cx="2760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СИХОДИАГНО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14"/>
          <p:cNvSpPr/>
          <p:nvPr/>
        </p:nvSpPr>
        <p:spPr>
          <a:xfrm>
            <a:off x="5765760" y="3962520"/>
            <a:ext cx="2085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СИХОТЕРАП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Text Box 3"/>
          <p:cNvSpPr/>
          <p:nvPr/>
        </p:nvSpPr>
        <p:spPr>
          <a:xfrm>
            <a:off x="2209680" y="304920"/>
            <a:ext cx="4719600" cy="52056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31f1c"/>
                </a:solidFill>
                <a:latin typeface="Georgia"/>
              </a:rPr>
              <a:t>ОТРАСЛИ ПСИХ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4"/>
          <p:cNvSpPr/>
          <p:nvPr/>
        </p:nvSpPr>
        <p:spPr>
          <a:xfrm>
            <a:off x="365040" y="1714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5"/>
          <p:cNvSpPr/>
          <p:nvPr/>
        </p:nvSpPr>
        <p:spPr>
          <a:xfrm>
            <a:off x="360000" y="1752480"/>
            <a:ext cx="20246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МЕДИЦИН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6"/>
          <p:cNvSpPr/>
          <p:nvPr/>
        </p:nvSpPr>
        <p:spPr>
          <a:xfrm>
            <a:off x="3021120" y="1752480"/>
            <a:ext cx="24318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ПАТОПСИХ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7"/>
          <p:cNvSpPr/>
          <p:nvPr/>
        </p:nvSpPr>
        <p:spPr>
          <a:xfrm>
            <a:off x="6143760" y="1752480"/>
            <a:ext cx="20858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ПСИХОТЕРАП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8"/>
          <p:cNvSpPr/>
          <p:nvPr/>
        </p:nvSpPr>
        <p:spPr>
          <a:xfrm flipH="1">
            <a:off x="1752480" y="838080"/>
            <a:ext cx="2743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9"/>
          <p:cNvSpPr/>
          <p:nvPr/>
        </p:nvSpPr>
        <p:spPr>
          <a:xfrm>
            <a:off x="4495680" y="838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10"/>
          <p:cNvSpPr/>
          <p:nvPr/>
        </p:nvSpPr>
        <p:spPr>
          <a:xfrm>
            <a:off x="4495680" y="838080"/>
            <a:ext cx="25909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11"/>
          <p:cNvSpPr/>
          <p:nvPr/>
        </p:nvSpPr>
        <p:spPr>
          <a:xfrm>
            <a:off x="428760" y="257184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Каждая из них имеют дело с отклонениями от нормы в псих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и поведении челове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12"/>
          <p:cNvSpPr/>
          <p:nvPr/>
        </p:nvSpPr>
        <p:spPr>
          <a:xfrm>
            <a:off x="642960" y="3714840"/>
            <a:ext cx="85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Задача этих отраслей психологической науки – объясн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причины возможных психологических нарушений и обосно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методы их предупреждения и ле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86220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сихологическая педагогика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бласть психологической науки, которая изучает психологические основы обучения, воспитания, педагогической деятельност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3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Text Box 7"/>
          <p:cNvSpPr/>
          <p:nvPr/>
        </p:nvSpPr>
        <p:spPr>
          <a:xfrm>
            <a:off x="1712160" y="355680"/>
            <a:ext cx="593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46b86"/>
                </a:solidFill>
                <a:latin typeface="Georgia"/>
              </a:rPr>
              <a:t>Основные типы явлений, котор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46b86"/>
                </a:solidFill>
                <a:latin typeface="Georgia"/>
              </a:rPr>
              <a:t>изучает общая психология</a:t>
            </a:r>
            <a:r>
              <a:rPr b="0" lang="ru-RU" sz="3200" spc="-1" strike="noStrike">
                <a:solidFill>
                  <a:srgbClr val="646b86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8"/>
          <p:cNvSpPr/>
          <p:nvPr/>
        </p:nvSpPr>
        <p:spPr>
          <a:xfrm>
            <a:off x="722160" y="1905120"/>
            <a:ext cx="14655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РОЦЕС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9"/>
          <p:cNvSpPr/>
          <p:nvPr/>
        </p:nvSpPr>
        <p:spPr>
          <a:xfrm>
            <a:off x="3610080" y="1905120"/>
            <a:ext cx="15951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ОСТОЯ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10"/>
          <p:cNvSpPr/>
          <p:nvPr/>
        </p:nvSpPr>
        <p:spPr>
          <a:xfrm>
            <a:off x="6261480" y="1905120"/>
            <a:ext cx="14137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ВО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11"/>
          <p:cNvSpPr/>
          <p:nvPr/>
        </p:nvSpPr>
        <p:spPr>
          <a:xfrm>
            <a:off x="638640" y="3214800"/>
            <a:ext cx="25153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ИНДИВИДУ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12"/>
          <p:cNvSpPr/>
          <p:nvPr/>
        </p:nvSpPr>
        <p:spPr>
          <a:xfrm>
            <a:off x="6172200" y="3200400"/>
            <a:ext cx="19051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ГРУПП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13"/>
          <p:cNvSpPr/>
          <p:nvPr/>
        </p:nvSpPr>
        <p:spPr>
          <a:xfrm>
            <a:off x="914400" y="4800600"/>
            <a:ext cx="228600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Georgi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НУТРЕН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(ПСИХИЧЕСК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14"/>
          <p:cNvSpPr/>
          <p:nvPr/>
        </p:nvSpPr>
        <p:spPr>
          <a:xfrm>
            <a:off x="5410080" y="4800600"/>
            <a:ext cx="260676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Georgia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НЕШ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(ПОВЕДЕНЧЕСК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16"/>
          <p:cNvSpPr/>
          <p:nvPr/>
        </p:nvSpPr>
        <p:spPr>
          <a:xfrm flipH="1">
            <a:off x="6933960" y="2286000"/>
            <a:ext cx="1522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17"/>
          <p:cNvSpPr/>
          <p:nvPr/>
        </p:nvSpPr>
        <p:spPr>
          <a:xfrm flipH="1">
            <a:off x="2361960" y="2286000"/>
            <a:ext cx="47242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18"/>
          <p:cNvSpPr/>
          <p:nvPr/>
        </p:nvSpPr>
        <p:spPr>
          <a:xfrm flipH="1">
            <a:off x="2361960" y="2286000"/>
            <a:ext cx="2057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19"/>
          <p:cNvSpPr/>
          <p:nvPr/>
        </p:nvSpPr>
        <p:spPr>
          <a:xfrm>
            <a:off x="4419720" y="2286000"/>
            <a:ext cx="2514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20"/>
          <p:cNvSpPr/>
          <p:nvPr/>
        </p:nvSpPr>
        <p:spPr>
          <a:xfrm>
            <a:off x="1447920" y="228600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21"/>
          <p:cNvSpPr/>
          <p:nvPr/>
        </p:nvSpPr>
        <p:spPr>
          <a:xfrm>
            <a:off x="1447920" y="2286000"/>
            <a:ext cx="5410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22"/>
          <p:cNvSpPr/>
          <p:nvPr/>
        </p:nvSpPr>
        <p:spPr>
          <a:xfrm>
            <a:off x="1981080" y="35812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Line 23"/>
          <p:cNvSpPr/>
          <p:nvPr/>
        </p:nvSpPr>
        <p:spPr>
          <a:xfrm>
            <a:off x="1981080" y="3581280"/>
            <a:ext cx="4572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24"/>
          <p:cNvSpPr/>
          <p:nvPr/>
        </p:nvSpPr>
        <p:spPr>
          <a:xfrm>
            <a:off x="7162920" y="35812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25"/>
          <p:cNvSpPr/>
          <p:nvPr/>
        </p:nvSpPr>
        <p:spPr>
          <a:xfrm flipH="1">
            <a:off x="2057400" y="3581280"/>
            <a:ext cx="510552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Text Box 2"/>
          <p:cNvSpPr/>
          <p:nvPr/>
        </p:nvSpPr>
        <p:spPr>
          <a:xfrm>
            <a:off x="2590920" y="204840"/>
            <a:ext cx="914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3"/>
          <p:cNvSpPr/>
          <p:nvPr/>
        </p:nvSpPr>
        <p:spPr>
          <a:xfrm>
            <a:off x="2739240" y="304920"/>
            <a:ext cx="372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ОБЩАЯ ПСИХОЛОГИ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4"/>
          <p:cNvSpPr/>
          <p:nvPr/>
        </p:nvSpPr>
        <p:spPr>
          <a:xfrm>
            <a:off x="357120" y="1523880"/>
            <a:ext cx="514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Georgia"/>
              </a:rPr>
              <a:t>ПСИХОЛОГИЯ ПОЗНАВАТЕЛЬ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0" lang="ru-RU" sz="1600" spc="-1" strike="noStrike">
                <a:solidFill>
                  <a:srgbClr val="ff0000"/>
                </a:solidFill>
                <a:latin typeface="Georgia"/>
              </a:rPr>
              <a:t>ПРОЦЕС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5"/>
          <p:cNvSpPr/>
          <p:nvPr/>
        </p:nvSpPr>
        <p:spPr>
          <a:xfrm>
            <a:off x="228600" y="220968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ОЩУЩ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6"/>
          <p:cNvSpPr/>
          <p:nvPr/>
        </p:nvSpPr>
        <p:spPr>
          <a:xfrm>
            <a:off x="259920" y="2590920"/>
            <a:ext cx="175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ВОСПРИЯ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7"/>
          <p:cNvSpPr/>
          <p:nvPr/>
        </p:nvSpPr>
        <p:spPr>
          <a:xfrm>
            <a:off x="231480" y="2971800"/>
            <a:ext cx="160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ВНИМ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8"/>
          <p:cNvSpPr/>
          <p:nvPr/>
        </p:nvSpPr>
        <p:spPr>
          <a:xfrm>
            <a:off x="252360" y="3429000"/>
            <a:ext cx="123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ПАМЯ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9"/>
          <p:cNvSpPr/>
          <p:nvPr/>
        </p:nvSpPr>
        <p:spPr>
          <a:xfrm>
            <a:off x="254880" y="3809880"/>
            <a:ext cx="195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ВООБРАЖ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10"/>
          <p:cNvSpPr/>
          <p:nvPr/>
        </p:nvSpPr>
        <p:spPr>
          <a:xfrm>
            <a:off x="250560" y="4267080"/>
            <a:ext cx="167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МЫШ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11"/>
          <p:cNvSpPr/>
          <p:nvPr/>
        </p:nvSpPr>
        <p:spPr>
          <a:xfrm>
            <a:off x="238680" y="4648320"/>
            <a:ext cx="88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РЕЧ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12"/>
          <p:cNvSpPr/>
          <p:nvPr/>
        </p:nvSpPr>
        <p:spPr>
          <a:xfrm>
            <a:off x="5849280" y="1523880"/>
            <a:ext cx="284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Georgia"/>
              </a:rPr>
              <a:t>ПСИХОЛОГИЯ ЛИЧ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13"/>
          <p:cNvSpPr/>
          <p:nvPr/>
        </p:nvSpPr>
        <p:spPr>
          <a:xfrm>
            <a:off x="5784120" y="2195640"/>
            <a:ext cx="131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ЭМО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14"/>
          <p:cNvSpPr/>
          <p:nvPr/>
        </p:nvSpPr>
        <p:spPr>
          <a:xfrm>
            <a:off x="5829120" y="2576520"/>
            <a:ext cx="191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СПОСОБ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15"/>
          <p:cNvSpPr/>
          <p:nvPr/>
        </p:nvSpPr>
        <p:spPr>
          <a:xfrm>
            <a:off x="5807880" y="2971800"/>
            <a:ext cx="172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МОТИВ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16"/>
          <p:cNvSpPr/>
          <p:nvPr/>
        </p:nvSpPr>
        <p:spPr>
          <a:xfrm>
            <a:off x="5819040" y="3429000"/>
            <a:ext cx="195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ТЕМПЕРАМЕ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17"/>
          <p:cNvSpPr/>
          <p:nvPr/>
        </p:nvSpPr>
        <p:spPr>
          <a:xfrm>
            <a:off x="5813640" y="3809880"/>
            <a:ext cx="142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ХАРАКТ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18"/>
          <p:cNvSpPr/>
          <p:nvPr/>
        </p:nvSpPr>
        <p:spPr>
          <a:xfrm>
            <a:off x="5807160" y="426708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ВО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Georgia"/>
              </a:rPr>
              <a:t>Методы психологии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480060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тельный метод: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нешнее наблюдение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вободное наблюдение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тандартизированное наблюдение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нутреннее  наблюдение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амонаблюдение, или интроспекция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ключенное наблюдение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прос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нкеты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сты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4" name="Прямоугольник 5"/>
          <p:cNvSpPr/>
          <p:nvPr/>
        </p:nvSpPr>
        <p:spPr>
          <a:xfrm>
            <a:off x="4786200" y="1643040"/>
            <a:ext cx="385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иментальный мет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естественный экспери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ораторный экспери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7" name="Rectangle 6"/>
          <p:cNvSpPr/>
          <p:nvPr/>
        </p:nvSpPr>
        <p:spPr>
          <a:xfrm>
            <a:off x="395280" y="428760"/>
            <a:ext cx="8137440" cy="57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Методы психологических исследов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Rectangle 10"/>
          <p:cNvSpPr/>
          <p:nvPr/>
        </p:nvSpPr>
        <p:spPr>
          <a:xfrm>
            <a:off x="395280" y="2637000"/>
            <a:ext cx="1152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Сторонне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9" name="Group 67"/>
          <p:cNvGrpSpPr/>
          <p:nvPr/>
        </p:nvGrpSpPr>
        <p:grpSpPr>
          <a:xfrm>
            <a:off x="395280" y="1844640"/>
            <a:ext cx="8497800" cy="432000"/>
            <a:chOff x="395280" y="1844640"/>
            <a:chExt cx="8497800" cy="432000"/>
          </a:xfrm>
        </p:grpSpPr>
        <p:sp>
          <p:nvSpPr>
            <p:cNvPr id="800" name="Rectangle 8"/>
            <p:cNvSpPr/>
            <p:nvPr/>
          </p:nvSpPr>
          <p:spPr>
            <a:xfrm>
              <a:off x="395280" y="1844640"/>
              <a:ext cx="136836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Georgia"/>
                </a:rPr>
                <a:t>Наблюден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Rectangle 17"/>
            <p:cNvSpPr/>
            <p:nvPr/>
          </p:nvSpPr>
          <p:spPr>
            <a:xfrm>
              <a:off x="2124000" y="1844640"/>
              <a:ext cx="72072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Georgia"/>
                </a:rPr>
                <a:t>Опрос</a:t>
              </a:r>
              <a:r>
                <a:rPr b="0" lang="ru-RU" sz="1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Rectangle 19"/>
            <p:cNvSpPr/>
            <p:nvPr/>
          </p:nvSpPr>
          <p:spPr>
            <a:xfrm>
              <a:off x="3851280" y="1844640"/>
              <a:ext cx="93672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Georgia"/>
                </a:rPr>
                <a:t>Тесты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Rectangle 20"/>
            <p:cNvSpPr/>
            <p:nvPr/>
          </p:nvSpPr>
          <p:spPr>
            <a:xfrm>
              <a:off x="5580000" y="1844640"/>
              <a:ext cx="129708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Georgia"/>
                </a:rPr>
                <a:t>Эксперимент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Rectangle 21"/>
            <p:cNvSpPr/>
            <p:nvPr/>
          </p:nvSpPr>
          <p:spPr>
            <a:xfrm>
              <a:off x="7307280" y="1844640"/>
              <a:ext cx="158580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Georgia"/>
                </a:rPr>
                <a:t>Моделирован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5" name="Group 66"/>
          <p:cNvGrpSpPr/>
          <p:nvPr/>
        </p:nvGrpSpPr>
        <p:grpSpPr>
          <a:xfrm>
            <a:off x="755640" y="1484280"/>
            <a:ext cx="7488360" cy="360360"/>
            <a:chOff x="755640" y="1484280"/>
            <a:chExt cx="7488360" cy="360360"/>
          </a:xfrm>
        </p:grpSpPr>
        <p:sp>
          <p:nvSpPr>
            <p:cNvPr id="806" name="AutoShape 12"/>
            <p:cNvSpPr/>
            <p:nvPr/>
          </p:nvSpPr>
          <p:spPr>
            <a:xfrm>
              <a:off x="755640" y="1484280"/>
              <a:ext cx="576360" cy="360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AutoShape 22"/>
            <p:cNvSpPr/>
            <p:nvPr/>
          </p:nvSpPr>
          <p:spPr>
            <a:xfrm>
              <a:off x="2195640" y="1484280"/>
              <a:ext cx="576000" cy="360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AutoShape 23"/>
            <p:cNvSpPr/>
            <p:nvPr/>
          </p:nvSpPr>
          <p:spPr>
            <a:xfrm>
              <a:off x="3995640" y="1484280"/>
              <a:ext cx="576360" cy="360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AutoShape 24"/>
            <p:cNvSpPr/>
            <p:nvPr/>
          </p:nvSpPr>
          <p:spPr>
            <a:xfrm>
              <a:off x="5867280" y="1484280"/>
              <a:ext cx="576360" cy="360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AutoShape 25"/>
            <p:cNvSpPr/>
            <p:nvPr/>
          </p:nvSpPr>
          <p:spPr>
            <a:xfrm>
              <a:off x="7667640" y="1484280"/>
              <a:ext cx="576360" cy="360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1" name="Rectangle 26"/>
          <p:cNvSpPr/>
          <p:nvPr/>
        </p:nvSpPr>
        <p:spPr>
          <a:xfrm>
            <a:off x="395280" y="5084640"/>
            <a:ext cx="12970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Внутреннее (самонаблюдение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27"/>
          <p:cNvSpPr/>
          <p:nvPr/>
        </p:nvSpPr>
        <p:spPr>
          <a:xfrm>
            <a:off x="395280" y="3141720"/>
            <a:ext cx="1224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Свобод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28"/>
          <p:cNvSpPr/>
          <p:nvPr/>
        </p:nvSpPr>
        <p:spPr>
          <a:xfrm>
            <a:off x="395280" y="5929200"/>
            <a:ext cx="129528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Внешнее (со сторон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29"/>
          <p:cNvSpPr/>
          <p:nvPr/>
        </p:nvSpPr>
        <p:spPr>
          <a:xfrm>
            <a:off x="395280" y="3716280"/>
            <a:ext cx="1297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Стандартизирован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30"/>
          <p:cNvSpPr/>
          <p:nvPr/>
        </p:nvSpPr>
        <p:spPr>
          <a:xfrm>
            <a:off x="395280" y="4437000"/>
            <a:ext cx="129708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Включен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31"/>
          <p:cNvSpPr/>
          <p:nvPr/>
        </p:nvSpPr>
        <p:spPr>
          <a:xfrm>
            <a:off x="1979640" y="2637000"/>
            <a:ext cx="100800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Уст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32"/>
          <p:cNvSpPr/>
          <p:nvPr/>
        </p:nvSpPr>
        <p:spPr>
          <a:xfrm>
            <a:off x="1908000" y="4308480"/>
            <a:ext cx="136692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Стандартиз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рован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33"/>
          <p:cNvSpPr/>
          <p:nvPr/>
        </p:nvSpPr>
        <p:spPr>
          <a:xfrm>
            <a:off x="3635280" y="3213000"/>
            <a:ext cx="1656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Тест-зад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34"/>
          <p:cNvSpPr/>
          <p:nvPr/>
        </p:nvSpPr>
        <p:spPr>
          <a:xfrm>
            <a:off x="3635280" y="3789360"/>
            <a:ext cx="158436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Проективный тес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35"/>
          <p:cNvSpPr/>
          <p:nvPr/>
        </p:nvSpPr>
        <p:spPr>
          <a:xfrm>
            <a:off x="1835280" y="3211560"/>
            <a:ext cx="1296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Письмен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36"/>
          <p:cNvSpPr/>
          <p:nvPr/>
        </p:nvSpPr>
        <p:spPr>
          <a:xfrm>
            <a:off x="1908000" y="3718080"/>
            <a:ext cx="115272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Свобод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37"/>
          <p:cNvSpPr/>
          <p:nvPr/>
        </p:nvSpPr>
        <p:spPr>
          <a:xfrm>
            <a:off x="3635280" y="2637000"/>
            <a:ext cx="15829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Тест-опрос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38"/>
          <p:cNvSpPr/>
          <p:nvPr/>
        </p:nvSpPr>
        <p:spPr>
          <a:xfrm>
            <a:off x="5435640" y="2637000"/>
            <a:ext cx="1511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Естествен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39"/>
          <p:cNvSpPr/>
          <p:nvPr/>
        </p:nvSpPr>
        <p:spPr>
          <a:xfrm>
            <a:off x="5435640" y="3222720"/>
            <a:ext cx="1584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Лаборатор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40"/>
          <p:cNvSpPr/>
          <p:nvPr/>
        </p:nvSpPr>
        <p:spPr>
          <a:xfrm>
            <a:off x="5943960" y="42202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41"/>
          <p:cNvSpPr/>
          <p:nvPr/>
        </p:nvSpPr>
        <p:spPr>
          <a:xfrm>
            <a:off x="7308720" y="2641680"/>
            <a:ext cx="1584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Математическ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42"/>
          <p:cNvSpPr/>
          <p:nvPr/>
        </p:nvSpPr>
        <p:spPr>
          <a:xfrm>
            <a:off x="7308720" y="3789360"/>
            <a:ext cx="1584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Логическо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43"/>
          <p:cNvSpPr/>
          <p:nvPr/>
        </p:nvSpPr>
        <p:spPr>
          <a:xfrm>
            <a:off x="7308720" y="3213000"/>
            <a:ext cx="1584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Техническ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44"/>
          <p:cNvSpPr/>
          <p:nvPr/>
        </p:nvSpPr>
        <p:spPr>
          <a:xfrm>
            <a:off x="7308720" y="4365720"/>
            <a:ext cx="165600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Кибернетическо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ectangle 46"/>
          <p:cNvSpPr/>
          <p:nvPr/>
        </p:nvSpPr>
        <p:spPr>
          <a:xfrm>
            <a:off x="971640" y="2276640"/>
            <a:ext cx="71280" cy="36036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47"/>
          <p:cNvSpPr/>
          <p:nvPr/>
        </p:nvSpPr>
        <p:spPr>
          <a:xfrm flipH="1">
            <a:off x="971640" y="2924280"/>
            <a:ext cx="7128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48"/>
          <p:cNvSpPr/>
          <p:nvPr/>
        </p:nvSpPr>
        <p:spPr>
          <a:xfrm flipH="1">
            <a:off x="971640" y="3498840"/>
            <a:ext cx="7128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49"/>
          <p:cNvSpPr/>
          <p:nvPr/>
        </p:nvSpPr>
        <p:spPr>
          <a:xfrm flipH="1">
            <a:off x="971640" y="4219560"/>
            <a:ext cx="7128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50"/>
          <p:cNvSpPr/>
          <p:nvPr/>
        </p:nvSpPr>
        <p:spPr>
          <a:xfrm flipH="1">
            <a:off x="971640" y="4867200"/>
            <a:ext cx="7128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51"/>
          <p:cNvSpPr/>
          <p:nvPr/>
        </p:nvSpPr>
        <p:spPr>
          <a:xfrm flipH="1">
            <a:off x="971640" y="5803920"/>
            <a:ext cx="7128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2411280" y="2276640"/>
            <a:ext cx="71640" cy="36036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54"/>
          <p:cNvSpPr/>
          <p:nvPr/>
        </p:nvSpPr>
        <p:spPr>
          <a:xfrm flipH="1">
            <a:off x="2410560" y="2997360"/>
            <a:ext cx="7164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55"/>
          <p:cNvSpPr/>
          <p:nvPr/>
        </p:nvSpPr>
        <p:spPr>
          <a:xfrm flipH="1">
            <a:off x="2410560" y="3498840"/>
            <a:ext cx="7164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56"/>
          <p:cNvSpPr/>
          <p:nvPr/>
        </p:nvSpPr>
        <p:spPr>
          <a:xfrm flipH="1">
            <a:off x="2410560" y="4076640"/>
            <a:ext cx="7164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4211640" y="2276640"/>
            <a:ext cx="71280" cy="36036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58"/>
          <p:cNvSpPr/>
          <p:nvPr/>
        </p:nvSpPr>
        <p:spPr>
          <a:xfrm flipH="1">
            <a:off x="4211640" y="2997360"/>
            <a:ext cx="7128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59"/>
          <p:cNvSpPr/>
          <p:nvPr/>
        </p:nvSpPr>
        <p:spPr>
          <a:xfrm flipH="1">
            <a:off x="4212360" y="3573360"/>
            <a:ext cx="7164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6156360" y="2276640"/>
            <a:ext cx="71280" cy="36036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61"/>
          <p:cNvSpPr/>
          <p:nvPr/>
        </p:nvSpPr>
        <p:spPr>
          <a:xfrm flipH="1">
            <a:off x="6156360" y="2997360"/>
            <a:ext cx="7128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7956720" y="2276640"/>
            <a:ext cx="71280" cy="36036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63"/>
          <p:cNvSpPr/>
          <p:nvPr/>
        </p:nvSpPr>
        <p:spPr>
          <a:xfrm flipH="1">
            <a:off x="7956720" y="2997360"/>
            <a:ext cx="7128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64"/>
          <p:cNvSpPr/>
          <p:nvPr/>
        </p:nvSpPr>
        <p:spPr>
          <a:xfrm flipH="1">
            <a:off x="7956720" y="3573360"/>
            <a:ext cx="7128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65"/>
          <p:cNvSpPr/>
          <p:nvPr/>
        </p:nvSpPr>
        <p:spPr>
          <a:xfrm flipH="1">
            <a:off x="7956720" y="4149720"/>
            <a:ext cx="7128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Місце для нижнього колонтитула 3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b9899"/>
                </a:solidFill>
                <a:latin typeface="Georgia"/>
              </a:rPr>
              <a:t>Определение педагогики: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5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едагогика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(от греческих слов «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айдос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 - дитя и «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го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 - вести, в дословном переводе «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айдагогос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 означает «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детоводитель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)  -наука, которая изучает закономерности, возникновение, функционирование процессов обучения и воспитания детей и взрослых в институтах их наиболее полного развития)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2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8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8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8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/>
          </p:nvPr>
        </p:nvSpPr>
        <p:spPr>
          <a:xfrm>
            <a:off x="3808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едагогом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 Древней Греции называли раба, который в буквальном смысле слова брал за руку ребенка своего господина и сопровождал его в школу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едагогика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– это наука о воспитании человека. В мировом педагогическом лексиконе употребляются новые термины – «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ндрогогика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 (от греч. «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ндрос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 - мужчина и «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го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 - вести) и «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нтропогогика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 (от греч. «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нтропос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 - человек и «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го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 - вести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4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6" dur="500"/>
                                        <p:tgtEl>
                                          <p:spTgt spid="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1" dur="500"/>
                                        <p:tgtEl>
                                          <p:spTgt spid="8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300" spc="-1" strike="noStrike">
                <a:solidFill>
                  <a:srgbClr val="000000"/>
                </a:solidFill>
                <a:latin typeface="Times New Roman"/>
              </a:rPr>
              <a:t>Выписка из стандарта</a:t>
            </a:r>
            <a:endParaRPr b="0" lang="en-US" sz="4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214200" y="1527120"/>
            <a:ext cx="8591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сихология и педагогика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Психология: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предмет, объект и методы психологии. 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сто психологии в системе наук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История развития психологического знания и основные направления в психологии.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Индивид, личность, субъект, индивидуальность. Психика и организм. 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сихика,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ведение и деятельность. Основные функции психики. Развитие психики в процессе онтогенеза и филогенеза. Мозг и психика. Структура психики. Соотношение сознания и бессознательного. 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Основные психические процессы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. Структура сознания. Познавательные процессы. Ощущение. Восприятие. Представление. Воображение. Мышление и интеллект. Творчество. Внимание. Мнемические процессы. Эмоции и чувства. Психическая регуляция поведения и деятельности. Общение и речь. 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сихология личности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Межличностные отношения. 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сихология малых групп.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Межгрупповые отношения и взаимодействия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00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7b9899"/>
                </a:solidFill>
                <a:latin typeface="Georgia"/>
              </a:rPr>
              <a:t>Возникновение и развитие педагогики, ее представители.</a:t>
            </a:r>
            <a:endParaRPr b="0" lang="en-US" sz="29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Уже в наиболее развитых государствах древнего мира –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Китае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Индии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Египте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Греции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– были предприняты попытки обобщения опыта воспитания. Все знания о природе, человеке, обществе аккумулировались тогда в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философии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; и в ней же были сделаны первые педагогические обобщения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7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7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8" dur="250" autoRev="1" fill="hold"/>
                                        <p:tgtEl>
                                          <p:spTgt spid="8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3" dur="2000"/>
                                        <p:tgtEl>
                                          <p:spTgt spid="8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7b9899"/>
                </a:solidFill>
                <a:latin typeface="Georgia"/>
              </a:rPr>
              <a:t>Колыбелью европейских систем воспитания стала древнегреческая философия:</a:t>
            </a:r>
            <a:br>
              <a:rPr sz="2500"/>
            </a:br>
            <a:br>
              <a:rPr sz="2200"/>
            </a:br>
            <a:endParaRPr b="0" lang="en-US" sz="25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Демокрит (460 – 370 гг. до н.э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Сократ (469 – з99 гг. до н.э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латон (427 – 347 гг. до н.э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ристотель (384 – 322 гг. до н.э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Марк Квинтилиан (35 -96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0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0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8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8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8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8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357120" y="1285920"/>
            <a:ext cx="8406000" cy="157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 период средневековья церковь монополизировала духовную жизнь общества, направляя воспитание в религиозное русло.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914400" y="3214440"/>
            <a:ext cx="822960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Тертулиан (160 – 222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вгустин (354 -430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квинат (1225 – 1274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3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2" dur="2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7b9899"/>
                </a:solidFill>
                <a:latin typeface="Georgia"/>
              </a:rPr>
              <a:t>«Я – человек, и ничто человеческое мне не чуждо». – лозунг Эпохи Возрождения.</a:t>
            </a:r>
            <a:endParaRPr b="0" lang="en-US" sz="25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Эразм Роттердамский (1466 – 1536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Витторино де Фельтрэ (1378 – 1446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Франссуа Рабле (1494 -1553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Ян Амос Коменский (1592 1670 гг.)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ыделил педагогику из философии и оформил ее в научную систему!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Джон Локк (1632 – 1704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Д. Дидро (1713 – 1784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К. Гильвеций (1715 -1771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. Гольбах (1723 – 1789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Ж.Ж. Руссо (1712 – 1778 гг.)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6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8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057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7b9899"/>
                </a:solidFill>
                <a:latin typeface="Georgia"/>
              </a:rPr>
              <a:t>Представители русской педагогической мысли:</a:t>
            </a:r>
            <a:r>
              <a:rPr b="0" lang="ru-RU" sz="3600" spc="-1" strike="noStrike">
                <a:solidFill>
                  <a:srgbClr val="7b9899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26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.Г. Белинский (1811 -1848 гг.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126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А.И. Герцен (1812 – 1870 гг.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126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.Г. Чернышевский (1828 – 1889 гг.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126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.А. Добролюбов (1836 -1861 гг.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126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Л.Н. Толстой (1828 – 1910 гг.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126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.Д. Ушинский (1824 – 1871 гг.)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 Они выступили с резкой критикой сословной школы и призывами коренного преобразования дела народного воспитания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9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8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8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8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8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8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8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8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8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8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8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8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8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8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8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8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28600" y="1500120"/>
            <a:ext cx="8686800" cy="250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В конце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XIX -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начале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XX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в. интенсивные исследования педагогических проблем  начаты в США, куда постепенно смещается центр педагогической мысли. Были сформулированы общие  принципы,  выделены закономерности воспитания, разработаны и внедрены эффективные технологии образования.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304920" y="4643280"/>
            <a:ext cx="8686800" cy="17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Джон Дьюи (1859 – 1952 гг.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Эдвард Торндайк (1874 – 1949 гг.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2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27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Русская педагогика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послеоктябрьского периода пошла по пути разработки идей воспитания человека в новом обществе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301320" y="3142800"/>
            <a:ext cx="8504280" cy="29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С.Т. Шацкий (1878 – 1934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.П. Блонский (1884 – 1941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.П. Пинкевич (1884 – 1939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Н.К. Крупская (1869 – 1939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.С. Макаренко (1888 – 1939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В.А. Сухомлинский (1918 – 1970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5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385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2" dur="385" fill="hold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4" dur="385" fill="hold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6" dur="385" fill="hold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385"/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3" dur="385" fill="hold"/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5" dur="385" fill="hold"/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7" dur="385" fill="hold"/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385"/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4" dur="385" fill="hold"/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6" dur="385" fill="hold"/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8" dur="385" fill="hold"/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385"/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5" dur="385" fill="hold"/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7" dur="385" fill="hold"/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9" dur="385" fill="hold"/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385"/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6" dur="385" fill="hold"/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8" dur="385" fill="hold"/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0" dur="385" fill="hold"/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385"/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7" dur="385" fill="hold"/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9" dur="385" fill="hold"/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1" dur="385" fill="hold"/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b9899"/>
                </a:solidFill>
                <a:latin typeface="Georgia"/>
              </a:rPr>
              <a:t>Система педагогических наук.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Общая педагогика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 общие основы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 дидактика (теория обучения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 теория воспитани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 школоведени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601"/>
              </a:spcBef>
              <a:buClr>
                <a:srgbClr val="d16349"/>
              </a:buClr>
              <a:buSzPct val="8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озрастная педагогика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 дошкольная педагогик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 школьна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3.      Педагогика высшей: школы занимается педагогическими проблемами взрослых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8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8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8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8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8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8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8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8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500"/>
                                        <p:tgtEl>
                                          <p:spTgt spid="8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8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8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8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8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8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8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8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8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8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8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8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8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8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8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8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8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b9899"/>
                </a:solidFill>
                <a:latin typeface="Georgia"/>
              </a:rPr>
              <a:t>Система педагогических наук.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4. Социальная педагогика: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               - семейная педагогика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               - перевоспитание правонарушителей 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               - и др.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5. Сурдопедагогика – воспитание глухонемых и слепых.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6. Тифлопедагогика – воспитание слепых.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7. Олигофренопедагогика – Воспитание умственно отсталых.</a:t>
            </a:r>
            <a:br>
              <a:rPr sz="2600"/>
            </a:br>
            <a:r>
              <a:rPr b="1" i="1" lang="ru-RU" sz="19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1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7b9899"/>
                </a:solidFill>
                <a:latin typeface="Georgia"/>
              </a:rPr>
              <a:t>Педагогика развивается в тесной связи с другими науками:</a:t>
            </a:r>
            <a:endParaRPr b="0" lang="en-US" sz="25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1. Философские науки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 этик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 эстетик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 науковедени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 …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2. Анатоми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3. Физиологи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4. Психологи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5. История, литература, медицина, экология, экономика, археология…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4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9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500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500"/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8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8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8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8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8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9" dur="500"/>
                                        <p:tgtEl>
                                          <p:spTgt spid="8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500"/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500"/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500"/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ВЫПИСКА ИЗ СТАНДАРТА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Педагогика: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объект, предмет, задачи, функции, методы педагогики.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сновные категории педагогики: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бразование, воспитание, обучение, педагогическая деятельность, педагогическое взаимодействие, педагогическая технология, педагогическая задача.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бразование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как общечеловеческая ценность. Образование как социокультурный феномен и педагогический процесс. Образовательная система России. Цели, содержание, структура непрерывного образования, единство образования и самообразования.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едагогический процесс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. Образовательная, воспитательная и развивающая функции обучения. Воспитание в педагогическом процессе.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бщие формы организации учебной деятельности.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Урок, лекция, семинарские, практические и лабораторные занятия, диспут, конференция, зачет, экзамен, факультативные занятия, консультация.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Методы, приемы, средства организации и управления педагогическим процессом.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емья как субъект педагогического взаимодействия и социокультурная среда воспитания и развития личности.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Управление образовательными системами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4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200"/>
            </a:br>
            <a:br>
              <a:rPr sz="2200"/>
            </a:br>
            <a:endParaRPr b="0" lang="en-US" sz="29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Интеграция наук привела к возникновению пограничных наук – педагогической психологии и психопедагогики.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едагогика также находится на стыке точных и технических наук – кибернетическая, математическая, компьютерная педагогика, суггестология и др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7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едагогика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785880" y="2357280"/>
            <a:ext cx="714384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Это наука, изучающая закономерности воспитания, обучения и образования детей и взрослых в интересах их всестороннего развити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0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7b9899"/>
                </a:solidFill>
                <a:latin typeface="Georgia"/>
              </a:rPr>
              <a:t>Основные категории педагогики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Georgia"/>
              </a:rPr>
              <a:t>Воспитание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Georgia"/>
              </a:rPr>
              <a:t>Обучение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Georgia"/>
              </a:rPr>
              <a:t>Образование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Georgia"/>
              </a:rPr>
              <a:t>Формирование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Georgia"/>
              </a:rPr>
              <a:t>Развитие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3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Категории педагогики</a:t>
            </a:r>
            <a:endParaRPr b="0" lang="en-US" sz="2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5" name="Rectangle 3"/>
          <p:cNvSpPr/>
          <p:nvPr/>
        </p:nvSpPr>
        <p:spPr>
          <a:xfrm>
            <a:off x="285840" y="2928960"/>
            <a:ext cx="1800000" cy="64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амосозн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Rectangle 6"/>
          <p:cNvSpPr/>
          <p:nvPr/>
        </p:nvSpPr>
        <p:spPr>
          <a:xfrm>
            <a:off x="2556000" y="1197000"/>
            <a:ext cx="2376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браз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Rectangle 7"/>
          <p:cNvSpPr/>
          <p:nvPr/>
        </p:nvSpPr>
        <p:spPr>
          <a:xfrm>
            <a:off x="2484360" y="4941720"/>
            <a:ext cx="23767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бу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9"/>
          <p:cNvSpPr/>
          <p:nvPr/>
        </p:nvSpPr>
        <p:spPr>
          <a:xfrm>
            <a:off x="2484360" y="3500280"/>
            <a:ext cx="23767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оспит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ctangle 11"/>
          <p:cNvSpPr/>
          <p:nvPr/>
        </p:nvSpPr>
        <p:spPr>
          <a:xfrm>
            <a:off x="2484360" y="2133720"/>
            <a:ext cx="237672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Зн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ectangle 13"/>
          <p:cNvSpPr/>
          <p:nvPr/>
        </p:nvSpPr>
        <p:spPr>
          <a:xfrm>
            <a:off x="6516720" y="1197000"/>
            <a:ext cx="237636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Ум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Line 23"/>
          <p:cNvSpPr/>
          <p:nvPr/>
        </p:nvSpPr>
        <p:spPr>
          <a:xfrm>
            <a:off x="4932360" y="141300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Line 25"/>
          <p:cNvSpPr/>
          <p:nvPr/>
        </p:nvSpPr>
        <p:spPr>
          <a:xfrm>
            <a:off x="5815080" y="429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26"/>
          <p:cNvSpPr/>
          <p:nvPr/>
        </p:nvSpPr>
        <p:spPr>
          <a:xfrm>
            <a:off x="6516720" y="2205000"/>
            <a:ext cx="237636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вы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Rectangle 27"/>
          <p:cNvSpPr/>
          <p:nvPr/>
        </p:nvSpPr>
        <p:spPr>
          <a:xfrm>
            <a:off x="6516720" y="2852640"/>
            <a:ext cx="237636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тно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28"/>
          <p:cNvSpPr/>
          <p:nvPr/>
        </p:nvSpPr>
        <p:spPr>
          <a:xfrm>
            <a:off x="6516720" y="3500280"/>
            <a:ext cx="237636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Мировоззр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29"/>
          <p:cNvSpPr/>
          <p:nvPr/>
        </p:nvSpPr>
        <p:spPr>
          <a:xfrm>
            <a:off x="6516720" y="4076640"/>
            <a:ext cx="237636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ове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30"/>
          <p:cNvSpPr/>
          <p:nvPr/>
        </p:nvSpPr>
        <p:spPr>
          <a:xfrm>
            <a:off x="6516720" y="4581360"/>
            <a:ext cx="237636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репода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31"/>
          <p:cNvSpPr/>
          <p:nvPr/>
        </p:nvSpPr>
        <p:spPr>
          <a:xfrm>
            <a:off x="6516720" y="5300640"/>
            <a:ext cx="237636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У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Line 32"/>
          <p:cNvSpPr/>
          <p:nvPr/>
        </p:nvSpPr>
        <p:spPr>
          <a:xfrm>
            <a:off x="5796000" y="3068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Line 33"/>
          <p:cNvSpPr/>
          <p:nvPr/>
        </p:nvSpPr>
        <p:spPr>
          <a:xfrm>
            <a:off x="5796000" y="3068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Line 34"/>
          <p:cNvSpPr/>
          <p:nvPr/>
        </p:nvSpPr>
        <p:spPr>
          <a:xfrm flipV="1">
            <a:off x="4859280" y="4797360"/>
            <a:ext cx="16574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Line 35"/>
          <p:cNvSpPr/>
          <p:nvPr/>
        </p:nvSpPr>
        <p:spPr>
          <a:xfrm>
            <a:off x="4859280" y="5084640"/>
            <a:ext cx="165744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Line 36"/>
          <p:cNvSpPr/>
          <p:nvPr/>
        </p:nvSpPr>
        <p:spPr>
          <a:xfrm>
            <a:off x="4859280" y="371628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Line 37"/>
          <p:cNvSpPr/>
          <p:nvPr/>
        </p:nvSpPr>
        <p:spPr>
          <a:xfrm flipH="1">
            <a:off x="4859280" y="234936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Line 38"/>
          <p:cNvSpPr/>
          <p:nvPr/>
        </p:nvSpPr>
        <p:spPr>
          <a:xfrm>
            <a:off x="1908000" y="3213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Line 39"/>
          <p:cNvSpPr/>
          <p:nvPr/>
        </p:nvSpPr>
        <p:spPr>
          <a:xfrm>
            <a:off x="2124000" y="141300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40"/>
          <p:cNvSpPr/>
          <p:nvPr/>
        </p:nvSpPr>
        <p:spPr>
          <a:xfrm>
            <a:off x="2124000" y="5157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41"/>
          <p:cNvSpPr/>
          <p:nvPr/>
        </p:nvSpPr>
        <p:spPr>
          <a:xfrm>
            <a:off x="2124000" y="3716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Line 42"/>
          <p:cNvSpPr/>
          <p:nvPr/>
        </p:nvSpPr>
        <p:spPr>
          <a:xfrm>
            <a:off x="2124000" y="2349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43"/>
          <p:cNvSpPr/>
          <p:nvPr/>
        </p:nvSpPr>
        <p:spPr>
          <a:xfrm>
            <a:off x="2124000" y="141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b9899"/>
                </a:solidFill>
                <a:latin typeface="Georgia"/>
              </a:rPr>
              <a:t>–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7b9899"/>
                </a:solidFill>
                <a:latin typeface="Georgia"/>
              </a:rPr>
              <a:t> </a:t>
            </a:r>
            <a:r>
              <a:rPr b="1" i="1" lang="ru-RU" sz="3600" spc="-1" strike="noStrike">
                <a:solidFill>
                  <a:srgbClr val="7b9899"/>
                </a:solidFill>
                <a:latin typeface="Georgia"/>
              </a:rPr>
              <a:t>Обучение</a:t>
            </a:r>
            <a:r>
              <a:rPr b="0" lang="ru-RU" sz="3600" spc="-1" strike="noStrike">
                <a:solidFill>
                  <a:srgbClr val="7b9899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то специально организованный, целеполагаемый, управляемый процесс взаимодействия учителей и учащихся, направленный на усвоение знаний, умений, навыков, формирование мировоззрения, развитие умственных сил, потенциальных возможностей обучаемых, закрепление навыков самообразования в соответствии с поставленными целями.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4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-457200" y="-8872200"/>
            <a:ext cx="457200" cy="88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6840" y="1571400"/>
            <a:ext cx="821844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Знания -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то отражения человеком объективной  деятельности в форме фактов, представлений, поняти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Умения –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то готовность сознательно и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амостоятельно  выполнять практические и теоретические действия на основе усвоенных знаний, жизненного опыт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Навыки –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то компоненты практической деятельности  проявляющееся при  выполнении необходимых действи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7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7b9899"/>
                </a:solidFill>
                <a:latin typeface="Georgia"/>
              </a:rPr>
              <a:t>Образование-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это объем систематизированных  знаний, умений, навыков, которыми овладел обучаемы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разование – результат обучения. В буквальном смысле оно означает формирование образов, законченных представлений об изучаемых предметах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PS: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разованным принято называть человека, который  овладел определенным объемом систематизированных знаний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0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7b9899"/>
                </a:solidFill>
                <a:latin typeface="Georgia"/>
              </a:rPr>
              <a:t>Воспитание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499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это целенаправленный и организационный процесс формирования личност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499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1)в широком смысле – это передача накопленного опыта от старших поколений к младшим (под опытом понимается известные людям знания, умения, способы мышления, нравственные, этические, правовые нормы – словом, все созданное в процессе развития духовное наследие человечества); 2)в узком социальном смысле под воспитанием понимается направленное воздействие на человека со стороны общественных институтов  с целью формирования у него определенных знаний, взглядов, убеждений, нравственных ценностей и т.д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56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56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Цель воспитания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 – это то, к чему стремится воспитание, будущее, на достижение  которого направляются усилия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3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7b9899"/>
                </a:solidFill>
                <a:latin typeface="Georgia"/>
              </a:rPr>
              <a:t>Формирование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процесс становления человека как социального существа под воздействием всех без исключения факторов – экологических, социальных, экономических, психологических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6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7b9899"/>
                </a:solidFill>
                <a:latin typeface="Georgia"/>
              </a:rPr>
              <a:t>Развитие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3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это процесс количественных и качественных изменений в организме человека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Результат развития – становление человека как биологического вида и как социального существа. Социальное развитие находит выражение, в психологическом, духовном, интеллектуальном росте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9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799308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16349"/>
                </a:solidFill>
                <a:latin typeface="Georgia"/>
              </a:rPr>
              <a:t>ПСИХОЛОГИЯ И ПЕДАГОГИКА</a:t>
            </a:r>
            <a:br>
              <a:rPr sz="2800"/>
            </a:br>
            <a:r>
              <a:rPr b="0" lang="ru-RU" sz="2800" spc="-1" strike="noStrike">
                <a:solidFill>
                  <a:srgbClr val="d16349"/>
                </a:solidFill>
                <a:latin typeface="Georgia"/>
              </a:rPr>
              <a:t>литература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356760" y="2500200"/>
            <a:ext cx="8358120" cy="378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e0c0b"/>
                </a:solidFill>
                <a:latin typeface="Times New Roman"/>
                <a:ea typeface="Times New Roman"/>
              </a:rPr>
              <a:t>1.ПСИХОЛОГИЯ И ПЕДАГОГИКА: УЧЕБНОЕ ПОСОБИЕ / ПОД РЕД. А.А. РАДУГИНА. – М.: ЦЕНТР,2002. – 256 С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e0c0b"/>
                </a:solidFill>
                <a:latin typeface="Times New Roman"/>
                <a:ea typeface="Times New Roman"/>
              </a:rPr>
              <a:t>2. РЕАН А.А., БОРДОВСКАЯ Н.В., РОЗУМ С.И. ПСИХОЛОГИЯ И ПЕДАГОГИКА: УЧЕБНИК ДЛЯ ВУЗОВ. – СПБ.: ПИТЕР, 2000. –  432 С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e0c0b"/>
                </a:solidFill>
                <a:latin typeface="Times New Roman"/>
                <a:ea typeface="Times New Roman"/>
              </a:rPr>
              <a:t>3. ПСИХОЛОГИЯ И ПЕДАГОГИКА: УЧЕБНОЕ ПОСОБИЕ. – ТОМСК: ИЗД-ВО ТПУ, 2009. – 80 С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e0c0b"/>
                </a:solidFill>
                <a:latin typeface="Times New Roman"/>
                <a:ea typeface="Times New Roman"/>
              </a:rPr>
              <a:t>4. ПСИХОЛОГИЯ. УЧЕБНИК ДЛЯ ТЕХНИЧЕСКИХ ВУЗОВ / ПОД ОБЩ. РЕД. В.Н. ДРУЖИНИНА. – СПБ.: ПИТЕР, 2000. – 608 С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183520" cy="57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Georgia"/>
              </a:rPr>
              <a:t>Методы педагогики</a:t>
            </a:r>
            <a:endParaRPr b="0" lang="en-US" sz="2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педагогическое наблюдение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исследовательская беседа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изучение школьной документации и продуктов деятельности учащихся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педагогический эксперимент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изучение и обобщение передового педагогического опыта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Педагогическое наблюдение применяется в любой исследовательской деятельности. Наблюдение - основной источник накопления фактов и сведений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2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Педагогический эксперимент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- это метод исследования, ориентированный на подтверждение или отрицание.  Каких-либо теоретических выкладок опытным путем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В зависимости от имеющихся целей различают следующие виды экспериментов: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констатирующий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созидательно-преобразующий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контрольный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естественный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5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b9899"/>
                </a:solidFill>
                <a:latin typeface="Georgia"/>
              </a:rPr>
              <a:t>Словарь: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380880" y="1571400"/>
            <a:ext cx="830592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Воспитание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– целенаправленный и организационный процесс формирования личности.1)в широком смысле В – это передача накопленного опыта от старших поколений к младшим (под опытом понимается известные людям знания, умения, способы мышления, нравственные, этические, правовые нормы – словом, все созданное в процессе развития духовное наследие человечества); 2)в узком социальном смысле под воспитанием понимается направленное воздействие на человека со стороны общественных институтов  с целью формирования у него определенных знаний, взглядов, убеждений, нравственных ценностей и т.д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Обучение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– это специально организованный, целенаправленный и управляемый процесс взаимодействия учителя и ученика, направленный на усвоение  знаний, умений, навыков и т.д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Формирование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– процесс становления человека как социального существа под воздействием всех без исключения факторов – экологических, социальных, экономических, психологических, …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Развитие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– это процесс и результат количественных и качественных изменений в организме человека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8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2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1000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1000"/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3" dur="1000"/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1" dur="1000"/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7b9899"/>
                </a:solidFill>
                <a:latin typeface="Georgia"/>
              </a:rPr>
              <a:t>Лекция окончена</a:t>
            </a:r>
            <a:endParaRPr b="0" lang="en-US" sz="8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0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8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2" dur="8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8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8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 txBox="1"/>
          <p:nvPr/>
        </p:nvSpPr>
        <p:spPr>
          <a:xfrm>
            <a:off x="457200" y="274680"/>
            <a:ext cx="8229600" cy="58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9" name="Прямоугольник 2"/>
          <p:cNvSpPr/>
          <p:nvPr/>
        </p:nvSpPr>
        <p:spPr>
          <a:xfrm>
            <a:off x="714240" y="500040"/>
            <a:ext cx="7715520" cy="58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5. Психология. Полный энциклопедический справочник / Сост. и общ. ред. Б. Г. Мещерякова, В. П. Зинченко. – СПб.: Прайм-Еврознак, 2007. – 896 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6. Современный словарь по психологии. А-Я / Авт.-сост. В.В. Юрчук.. – Минск: Элайда, 2000. – 704 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7. Полонский В.М. Словарь по образованию и педагогике. – М.: Высшая школа, 2004. – 512 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8. Словарь по социальной педагогике: учебное пособие / Сост. Л.В. Мардахаев. – М.: Академия, 2002. – 366 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000"/>
                </a:solidFill>
                <a:latin typeface="Georgia"/>
              </a:rPr>
              <a:t>ПСИХОЛОГИЯ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928800" y="3143160"/>
            <a:ext cx="685800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СИХОЛОГИЯ (ГРЕЧ. </a:t>
            </a:r>
            <a:r>
              <a:rPr b="1" lang="el-GR" sz="2000" spc="-1" strike="noStrike">
                <a:solidFill>
                  <a:srgbClr val="000000"/>
                </a:solidFill>
                <a:latin typeface="Georgia"/>
              </a:rPr>
              <a:t>ΨΥΧΗ —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ДУША И 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ЛОГОС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— НАУКА) — НАУКА О ЗАКОНОМЕРНОСТЯХ РАЗВИТИЯ И ФУНКЦИОНИРОВАНИЯ ПСИХИКИ. (НАУКА, ИЗУЧАЮЩАЯ ПРОЦЕССЫ И ЗАКОНОМЕРНОСТИ ПСИХИЧЕСКОЙ ДЕЯТЕЛЬНОСТИ.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3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сихология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«Специфический круг явлений, который изучает психология, выделяется отчетливо и ясно, - это наши восприятия, чувства, мысли, стремления, намерения, желания…,- то есть все то, что составляет внутреннее содержание нашей жизни и что в качестве переживания как будто непосредственно нам дано…».        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.Л. Рубинштейн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6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сихика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войство головного мозга, обеспечивающее человеку и животным способность отражать воздействия предметов и явлений реального мир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9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Georgia"/>
              </a:rPr>
              <a:t>Объект психологии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1" name="Прямоугольник 2"/>
          <p:cNvSpPr/>
          <p:nvPr/>
        </p:nvSpPr>
        <p:spPr>
          <a:xfrm>
            <a:off x="1571760" y="2000160"/>
            <a:ext cx="52862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- психические я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- индиви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- груп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- общн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07:28:49Z</dcterms:created>
  <dc:creator>Милена</dc:creator>
  <dc:description/>
  <dc:language>en-US</dc:language>
  <cp:lastModifiedBy>LEGION</cp:lastModifiedBy>
  <dcterms:modified xsi:type="dcterms:W3CDTF">2014-11-12T07:36:51Z</dcterms:modified>
  <cp:revision>163</cp:revision>
  <dc:subject/>
  <dc:title>Слайд 1</dc:title>
</cp:coreProperties>
</file>