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7673-D8A8-432F-BD88-B8362ADD24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E670-CE4C-4316-BD45-5D70C95DF2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СНОВНЫЕ</a:t>
            </a:r>
            <a:r>
              <a:rPr b="1" i="1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ТРАСЛИ ПСИХОЛОГИИ</a:t>
            </a: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EFB8-616F-419C-A58A-EFFA32E533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ческ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B1BD-4711-4515-B8D0-C8332A9B26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етоды псих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B0BE-E1AE-4188-99F1-334EF2DF4D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Определение педагог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(от греческих слов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дитя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, в дословном переводе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агог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означает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детоводител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AC06-4963-40AA-8F4A-6FC691F5C4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мужчина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человек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1732-5418-450B-87A7-50430C3882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мет, объект и методы психологи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сто психологии в системе нау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, личность, субъект, индивидуальность. Психика и организм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ик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сихические проц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лич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личностные отношени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малых групп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рупповые отношения и взаимо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4020-2950-408B-BF8F-761EB0DA83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зникновение и развитие педагогики, ее представит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же в наиболее развитых государствах древнего мира –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ита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д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гипт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Грец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философ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и в ней же были сделаны первые педагогические об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ADCC-D7AF-4DAA-80CD-4648B4E78E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лыбелью европейских систем воспитания стала древнегреческая философия:</a:t>
            </a:r>
            <a:br>
              <a:rPr sz="12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мокрит (460 – 370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крат (469 – з99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тон (427 – 347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ристотель (384 – 322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рк Квинтилиан (35 -9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9669-5F35-4C35-8DBD-54E07E8E8D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ртулиан (160 – 22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густин (354 -43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квинат (1225 – 127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AA01-CB65-4F2D-8F8D-7B9CD6B37D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Я – человек, и ничто человеческое мне не чуждо». – лозунг Эпохи Воз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разм Роттердамский (1466 – 153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тторино де Фельтрэ (1378 – 144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ранссуа Рабле (1494 -1553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Ян Амос Коменский (1592 1670 гг.)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делил педагогику из философии и оформил ее в научную систему!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жон Локк (1632 – 170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. Дидро (1713 – 178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. Гильвеций (1715 -177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. Гольбах (1723 – 17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.Ж. Руссо (1712 – 1778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4DDD-49B6-4AE1-A905-60C56C157F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едставители русской педагогической мысл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. Белинский (1811 -184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И. Герцен (1812 – 187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Г. Чернышевский (1828 – 18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А. Добролюбов (1836 -186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Н. Толстой (1828 – 191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Д. Ушинский (1824 – 1871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3EEB-F45D-4DAB-B4B8-6CEE4087F2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IX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начал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Дьюи (1859 – 195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вард Торндайк (1874 – 194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217B-85A3-406D-8E13-8148BAFC88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общие осн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идактика (теория обу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теория вос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зрастн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ошкольн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     Педагогика высшей: школы занимается педагогическими проблемами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E767-B2C0-4804-A8CB-7B2BB45299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Социальная педагогика: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семейная педагогик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перевоспитание правонарушителе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и др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Сурдопедагогика – воспитание глухонемых и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Тифлопедагогика – воспитание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Олигофренопедагогика – Воспитание умственно отсталых.</a:t>
            </a:r>
            <a:br>
              <a:rPr sz="1200"/>
            </a:b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F109-A585-4163-8A50-0AAA77832F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 развивается в тесной связи с другими наукам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Философские нау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сте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наук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Анато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Физ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История, литература, медицина, экология, экономика, археология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D599-EC91-4565-A4FE-FD4B1D1E6E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ВЫПИСКА ИЗ СТАНДАРТ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ъект, предмет, задачи, функции, методы педагогик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 педагог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й проце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формы организации учебной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, приемы, средства организации и управления педагогическим процессом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тельными 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F22C-F287-4881-A125-0FD030A8A1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100"/>
            </a:br>
            <a:br>
              <a:rPr sz="11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5BEF-E91D-4E3D-9844-A8D048D6F5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едагог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8744-703E-45FE-AFC0-E6CD43379E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сновные категории педагог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A9D8-FA43-455A-954A-336B9A88FE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тегории педагог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D533-907B-4EFA-BDF1-EA3BBFE7D9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D688-3DFA-4758-999D-3878295A61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 - это отражения человеком объективной  деятельности в форме фактов, представлений, по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я – это готовность сознательно 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 – это компоненты практической деятельности  проявляющееся при  выполнении необходим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E4E4-7A64-4ED9-9E94-D3A5BF5E1A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бразовани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объем систематизированных  знаний, умений, навыков, которыми овладел обучаем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S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431D-493F-4CED-A21A-5B8B639672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целенаправленный и организационный процесс формирования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 воспита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FA13-8282-4547-A334-ACA0BFD759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b9899"/>
                </a:solidFill>
                <a:latin typeface="Calibri"/>
              </a:rPr>
              <a:t>Форм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4B76-CFB4-48BD-8AE8-AFE0BCAF89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цесс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620C-D613-4C5C-A776-97BECE1F46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СИХОЛОГИЯ И ПЕДАГОГИК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CD96-BB18-4E96-A29F-C14F98FE79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Методы педагогик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ая бесе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школьной документации и продуктов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обобщение передового педагогического оп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12A4-7172-4FE5-A232-7031704151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имеющихся целей различают следующие виды эксперимен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атир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идательно-преобраз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C371-7BC5-4AB3-BACA-0BECDEB03C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Словар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Воспитани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у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E1D0-7DDB-42A8-BB0F-24BD07281E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екция оконч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E05B-EE38-46CF-A617-CA910277A0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ПСИХ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(греч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ψυχη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а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г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5389-353D-459F-9987-87BE132862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Рубинштей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1EF6-3DD5-4C37-9162-5FC71B11FD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E5BE-DB5A-42D0-96DF-84551855AD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ект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786F-6762-46D1-83B0-5126E69BE7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30B-3084-448A-B44C-14809926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4C0-04E1-4290-B5D1-BDD549E6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5EA1D-08FA-42B7-B9B7-0975C785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7A111-D096-4EF1-B2F1-B5FAD320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33E81-F67D-4BE8-B973-C9B8AF62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F90201-18D8-40B1-9678-A4B07E70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E82D0-C71C-42A5-B4E1-3E596A17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0DDAA-4E79-454F-8051-2A453CA3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B2AFE0-96FF-4386-968C-284D99A1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487B0-FC1F-4E3E-83C7-4233298A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791AE8-4CE0-4C64-9469-065A8341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4C51E-4ADD-47CC-9040-785AB19B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A92-5A52-4379-A576-F9DE8A3F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97CAA-2F90-4D69-94F2-E17A0F44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E1B36-4302-4FA1-AC8F-400C241B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D3F4A3-91D7-4968-B6A8-0C88597B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8E5AF8-5CF7-4AF1-A94A-0E1DC079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419CE-4FD4-42E8-B41A-A7AA9E01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F8AD2-7BEE-40DB-AAA4-5B43130B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80786-72AC-4F69-AA4F-8C8A40B3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D1208-9247-4CE3-96D4-9CAC9952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505D0-6DA5-40FE-A54B-C6638339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3B173-8766-492D-BBC2-02357E30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CFC-4D80-486B-8831-E49034D1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40200-9A01-48D6-93D0-D0F96597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E32AB-9D5D-415D-A751-0D391DDE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78C66-1A41-42C1-BE0E-4A17B56C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974BE-0478-4505-A537-2D912C50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73F00-0996-4B0A-8102-326CED27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6859B-ABFE-4A97-BD1C-0A7B0492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AC40E-CC74-45D2-90B9-761692FC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8FA25-1038-4016-9A9E-6F92D37D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16003-4A79-4625-92FF-790DB94C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0AFEE-295B-4419-A0ED-4034BCF5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381C-680E-41D9-BC75-943D8B12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B3F9D-EDA2-4672-A1E8-0127DE5C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F121C-E726-4F50-8150-F1763152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3A20A-9BF5-4AEF-9C30-278BE8D9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FAB97-0293-45F3-A459-524F0A8E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0887E-E92E-417A-88C1-D4E5B801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43E36F-C52D-4140-AAF5-9FECCA8D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B248E-DE93-4FBB-BE63-DAA24736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57F923-8EA0-448C-BEFE-0DEDF90B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79270-1C7D-4CE8-9A34-BA2A0448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516A50-1CA2-4CCC-8C32-325201F4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3754-346E-490D-A071-EC562AD6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CB3BB9-2B85-4CCF-B35F-DE2891C3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1C7948-A3F6-43F7-8E4D-1BB8CA82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130B7-1E28-4579-8F73-AD5C5D9D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D990C-6E3A-45AF-95FD-E81A045E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36528-53BB-4E63-AEBF-BBFC86E2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1C5D5C-F48A-43EE-B882-C2CF1561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048AEC-F6CC-49D7-9201-0F891408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88EF46-812F-49AE-AA5A-D514BEF7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B2E99B-98D9-4C70-B8E2-08D25FAA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463D61-457C-4691-988E-2B769C37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C5D3-3F7A-4738-8BAB-8F966C5D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6990CE-F225-4164-BA10-BDA726EA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62F850-9388-44D4-80B4-197DE7A1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2C09AE-2ACB-4731-9DD5-A4E77EED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771AB2E-0AF3-46E4-A148-7C16C4EE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120DE2-656C-4F9E-806F-AF095FA1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B4F0AB-C590-413B-A558-D7E04DD5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DD54010-0657-46A9-8E30-A2E04B0F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F447B-1735-492F-BC61-4B3FD3D7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58B791-C65E-4B2B-8C65-2DD0026E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58110C-9C3E-4327-9B3E-EFA832DE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2D69-F0B2-4378-A2F0-896FB0BF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79C68-1AF4-4579-A90B-6CC819AE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C0536-9B20-49F9-A7F8-2F9FA994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C6DD8-B724-4E4D-9132-8BE9D226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1493A-4E1D-4A40-95F9-896452C3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44834-0679-4035-908B-F4A94C5A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D7E57-DC3D-4158-A9B3-C8D5CEDF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C076E-9254-4734-9E6F-48BB03AB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354B58-DE85-4A00-AB2E-C59ABB51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60BE8-B621-410B-BCCE-128C724E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AC15-A875-44F8-937E-D2EA4181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1B79-D6C4-4DCA-B035-D88ED8B1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310B-9026-472D-8797-809DDE01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D5A-4A6C-4BCD-87DE-FD32D1EB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9203-BB87-4358-9537-14FDEF2F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8FEF-3CAB-4D98-9083-01E64ADB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D079-15E8-4ADD-A190-ED039BE0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0D60-D647-42F7-AFAC-018C8E07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B6BB-E0B5-40F6-9A1B-5C02B942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B4E37-8DA2-4043-BD6B-E751F394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62301-F122-486D-9AED-BFC2C845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E5BE6-78AE-4FA0-B20B-7949F6CC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CD272-C671-43D2-8724-E83C15F0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6ADCF-88CF-4E02-B35B-1A85D924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BF5-E51C-4856-842C-50ED042E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C2760-F711-4C33-A238-5D67D080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FC6DD-6A78-4FA9-AEE3-45786F0A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EF730-6BEA-45AF-8DBD-A44B4C4C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05AF9-2FD3-433F-8042-0E9E8E4C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B78C0-B687-41E5-8B83-6FF47631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2D543-67E7-442B-9DDC-B4079D49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BE76A-46BC-410D-ACC8-4F9554B5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AB058-31D6-4A1D-B07C-30D92949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1656E-8B9C-4EE3-B26E-675791B1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628D7-CCA4-4777-B232-5A9CD369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A0F-8009-42A3-810C-3BD622D5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473AD-CC2F-46B6-805B-774E4537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DBA94-5388-4A58-881A-03AE3B0A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6B7E9-C1E8-475F-A979-052F2DF0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5A9B5-5DCD-46A1-AC5E-CEF94D4E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12CE0-6431-4717-B536-74F05336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02095-20D9-4610-9F20-DD96F404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A1EF0-5616-4678-A637-39EAA076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62499-78FD-4A40-AFDC-C81676E5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44A77-993D-485F-966B-9FA9002C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AD4D1-9CA5-4D63-88C5-B074602D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0E2-1362-4775-8C36-A6751B56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62E24-DF0C-4DC6-8201-E1DDDCF5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3699C-68F7-43DE-BD62-3F8A7E2F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8AAE8-4EAC-4991-923D-97DAB42A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C383E-A353-49FE-9622-C534A3D6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F6A34-E95D-46FF-ADFC-6092ECE3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FD8C9-C6A8-4DFF-86F0-E600A775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19FA8-8918-44C8-8EFC-3F29F6BF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6261E-A37F-46BB-97DB-98CE0919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5727F-5FF2-4A3F-A1E7-E6C97ED0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44DC5-296B-4057-A0B9-63E27F10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807-1F41-4AFB-B9F3-D6A150F0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46FDC-BE05-48E4-92A8-BC5E28C7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AAF77-D0C5-4FEC-BB09-F5963C9E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45FA9-486C-497A-AA65-86B21714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817D1-D7FF-4C42-BF69-E699DA66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5D5A9-79F8-40FE-9091-ED373CEA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ABB43-0F56-40BC-9D2C-324FF6AB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B6D22-A512-471C-B956-8A5D491B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93206-AA98-4ADE-874A-21DCB843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AA3D3-4015-48E3-9CE9-7FD3282F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795DF-FE50-4DCB-A75D-A2A55F61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F06-15EF-471D-B545-FF3A7DD0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E8D62-38D1-4F5F-A1AE-E94AAA91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7B9D3-30E3-4301-B938-45628561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803B6-C5D9-472B-9194-35569DE5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494C9-076E-45FF-9F55-A1BF0EF3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60763-C2D6-4789-BE66-42177ABF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C0937-B9AE-4821-B6B0-1ED3BB8C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0B390-5342-4B1C-ABBB-BEF4823C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6324F-F4A5-40E5-93D3-B91C2B3B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36CD8-98E4-45B6-9E9B-BEFED952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18A46-5ACC-45FC-9C60-0F3DEBC6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6139-7109-410E-B693-532CC1CF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A158C-A18D-41B4-87BD-F0A48ACF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64CF8-716B-4F70-B823-67392D26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CA790-5CEE-4128-A75C-F71ECEB8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5CD17-C8FE-428D-8E7C-37B70987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539A7-775D-480C-B0E8-433D620C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A37B3-D7E4-4AA2-A644-9D578634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32142-C8E1-4C2D-BEF2-7A647D37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9C4A9-E87E-49D8-BA96-9DC0B418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039FF-23F3-4D65-BD85-EE90FBFC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C4DE5-00FB-4D33-9E5B-DF9DC8E2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E6F-0DC0-45F5-BC6F-FCFE5729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9078A-CEDF-4661-851C-55B5A024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5EF63-432D-47FB-A17E-5A111DBC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4E113-E164-4103-B1CA-A201AE15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40540-31A6-4D75-B214-53C68F8C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60208-00CC-4B89-9089-3841645E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B56C2-0145-4C0D-9C48-B2665116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BCD98-B45A-4C0A-ABBA-46023084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17FFB8-01FF-44FF-A883-154AB55C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61792-7290-4483-817F-7F54535D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C0E7A-316E-47F7-905A-0B40DC1A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7561-B30D-443C-8EB4-9CCC9F3151D0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290D-E1F3-4924-B8F7-D6C93DCE2A1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84CC-3076-42F8-A24C-1E419052F26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8476-3FC9-4F20-ACD9-EDE4E21A73F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2A0C-F7DB-4C68-A9A7-3A51ADB0C7E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5639-1C13-4CE2-907D-4496734CEB4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F7CD-19F5-4B5D-A888-89596AA7140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52CD-3949-45FF-82DE-947072884E7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3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1CFF-3149-4186-8D41-609451BED16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DE0A-1B4D-40C9-AAC3-72329378F89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3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8367-E2C8-424A-8B91-DAAD1880662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DDC9-C8AE-451C-AD49-E95F91C1E74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CB6F-F237-4E43-823C-E664EA2C878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A117-215A-4D13-87E6-C42E2628DB4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BC49-1EBB-49FB-863E-84BBD4628D25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4FA7-0ECF-45C3-85F6-8E53537A30E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5652-B518-4571-AEE6-0F630ABC3E0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D91A-6294-4120-A52D-9A6BAAF4887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0255-AC0C-410A-A8C1-D0D91B2816C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667F-531B-4229-9372-BD2EF9EF3BE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5432-3E10-45AB-B84C-B0398C1D05AC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4642-6A39-4DB1-8C5B-B69428AD3FA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4DBD-F64E-4643-9620-9C7D24DBFA61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3F27-9090-431D-BE68-9036EC927B5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8185-E9A0-4E26-B3DE-02E9FE3C7B6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1D7A-2A24-4AD4-B1D5-6D93E94C8780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F8ED-C9EE-4D17-B6DF-C2D3E60C040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BEC1-B8DF-4F4F-8D55-DD74F88EA59F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Психология и педагогика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Прямоугольник 2"/>
          <p:cNvSpPr/>
          <p:nvPr/>
        </p:nvSpPr>
        <p:spPr>
          <a:xfrm>
            <a:off x="1357200" y="2714760"/>
            <a:ext cx="62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3"/>
          <p:cNvSpPr/>
          <p:nvPr/>
        </p:nvSpPr>
        <p:spPr>
          <a:xfrm>
            <a:off x="2468520" y="3286080"/>
            <a:ext cx="64612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Лектор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пова Людмила Льв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афедра социологии, психологии и права, 302 ауд. 19 корп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СНОВНЫЕ</a:t>
            </a:r>
            <a:r>
              <a:rPr b="1" i="1" lang="ru-RU" sz="4900" spc="-1" strike="noStrike">
                <a:solidFill>
                  <a:srgbClr val="003366"/>
                </a:solidFill>
                <a:latin typeface="Georgia"/>
              </a:rPr>
              <a:t> </a:t>
            </a: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ТРАСЛИ ПСИХОЛОГИИ</a:t>
            </a:r>
            <a:br>
              <a:rPr sz="49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4" name="Прямоугольник 2"/>
          <p:cNvSpPr/>
          <p:nvPr/>
        </p:nvSpPr>
        <p:spPr>
          <a:xfrm>
            <a:off x="357120" y="171468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1905120" y="304920"/>
            <a:ext cx="4967280" cy="9471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СПЕЦИАЛЬНЫЕ ОТРА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          </a:t>
            </a: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214920" y="1752480"/>
            <a:ext cx="202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ГЕНЕ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228600" y="2209680"/>
            <a:ext cx="2914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ФИЗ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(НЕЙРОПСИХОЛОГ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200880" y="2971800"/>
            <a:ext cx="2841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ДИФФЕРЕНЦИАЛЬНАЯ</a:t>
            </a:r>
            <a:r>
              <a:rPr b="0" lang="ru-RU" sz="1800" spc="-1" strike="noStrike">
                <a:solidFill>
                  <a:srgbClr val="c5d1d7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202680" y="3505320"/>
            <a:ext cx="170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ВОЗРА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220320" y="3962520"/>
            <a:ext cx="179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СОЦИ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8"/>
          <p:cNvSpPr/>
          <p:nvPr/>
        </p:nvSpPr>
        <p:spPr>
          <a:xfrm>
            <a:off x="220680" y="4495680"/>
            <a:ext cx="2346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ЕДАГ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5748120" y="1752480"/>
            <a:ext cx="2024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1"/>
          <p:cNvSpPr/>
          <p:nvPr/>
        </p:nvSpPr>
        <p:spPr>
          <a:xfrm>
            <a:off x="5782680" y="2362320"/>
            <a:ext cx="243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2"/>
          <p:cNvSpPr/>
          <p:nvPr/>
        </p:nvSpPr>
        <p:spPr>
          <a:xfrm>
            <a:off x="5755320" y="2895480"/>
            <a:ext cx="200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ЮРИД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3"/>
          <p:cNvSpPr/>
          <p:nvPr/>
        </p:nvSpPr>
        <p:spPr>
          <a:xfrm>
            <a:off x="5776560" y="3429000"/>
            <a:ext cx="2760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5765760" y="3962520"/>
            <a:ext cx="2085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3"/>
          <p:cNvSpPr/>
          <p:nvPr/>
        </p:nvSpPr>
        <p:spPr>
          <a:xfrm>
            <a:off x="2209680" y="304920"/>
            <a:ext cx="4719600" cy="5205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1f1c"/>
                </a:solidFill>
                <a:latin typeface="Georgia"/>
              </a:rPr>
              <a:t>ОТРАСЛИ 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365040" y="171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360000" y="1752480"/>
            <a:ext cx="2024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3021120" y="1752480"/>
            <a:ext cx="24318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6143760" y="1752480"/>
            <a:ext cx="208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8"/>
          <p:cNvSpPr/>
          <p:nvPr/>
        </p:nvSpPr>
        <p:spPr>
          <a:xfrm flipH="1">
            <a:off x="1752480" y="83808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9"/>
          <p:cNvSpPr/>
          <p:nvPr/>
        </p:nvSpPr>
        <p:spPr>
          <a:xfrm>
            <a:off x="4495680" y="838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0"/>
          <p:cNvSpPr/>
          <p:nvPr/>
        </p:nvSpPr>
        <p:spPr>
          <a:xfrm>
            <a:off x="4495680" y="838080"/>
            <a:ext cx="2590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428760" y="2571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Каждая из них имеют дело с отклонениями от нормы в псих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и поведени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642960" y="3714840"/>
            <a:ext cx="85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Задача этих отраслей психологической науки – объ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ричины возможных психологических нарушений и обосн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методы их предупреждения и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22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ческая педагог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7"/>
          <p:cNvSpPr/>
          <p:nvPr/>
        </p:nvSpPr>
        <p:spPr>
          <a:xfrm>
            <a:off x="1712160" y="355680"/>
            <a:ext cx="593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Основные типы явлений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изучает общая психология</a:t>
            </a:r>
            <a:r>
              <a:rPr b="0" lang="ru-RU" sz="3200" spc="-1" strike="noStrike">
                <a:solidFill>
                  <a:srgbClr val="646b86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8"/>
          <p:cNvSpPr/>
          <p:nvPr/>
        </p:nvSpPr>
        <p:spPr>
          <a:xfrm>
            <a:off x="722160" y="1905120"/>
            <a:ext cx="146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3610080" y="1905120"/>
            <a:ext cx="159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"/>
          <p:cNvSpPr/>
          <p:nvPr/>
        </p:nvSpPr>
        <p:spPr>
          <a:xfrm>
            <a:off x="6261480" y="1905120"/>
            <a:ext cx="1413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1"/>
          <p:cNvSpPr/>
          <p:nvPr/>
        </p:nvSpPr>
        <p:spPr>
          <a:xfrm>
            <a:off x="638640" y="3214800"/>
            <a:ext cx="2515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ДИВИД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2"/>
          <p:cNvSpPr/>
          <p:nvPr/>
        </p:nvSpPr>
        <p:spPr>
          <a:xfrm>
            <a:off x="6172200" y="3200400"/>
            <a:ext cx="19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РУПП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3"/>
          <p:cNvSpPr/>
          <p:nvPr/>
        </p:nvSpPr>
        <p:spPr>
          <a:xfrm>
            <a:off x="914400" y="4800600"/>
            <a:ext cx="2286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СИХ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4"/>
          <p:cNvSpPr/>
          <p:nvPr/>
        </p:nvSpPr>
        <p:spPr>
          <a:xfrm>
            <a:off x="5410080" y="4800600"/>
            <a:ext cx="26067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ОВЕДЕН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6"/>
          <p:cNvSpPr/>
          <p:nvPr/>
        </p:nvSpPr>
        <p:spPr>
          <a:xfrm flipH="1">
            <a:off x="693396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7"/>
          <p:cNvSpPr/>
          <p:nvPr/>
        </p:nvSpPr>
        <p:spPr>
          <a:xfrm flipH="1">
            <a:off x="2361960" y="2286000"/>
            <a:ext cx="4724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8"/>
          <p:cNvSpPr/>
          <p:nvPr/>
        </p:nvSpPr>
        <p:spPr>
          <a:xfrm flipH="1">
            <a:off x="2361960" y="22860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9"/>
          <p:cNvSpPr/>
          <p:nvPr/>
        </p:nvSpPr>
        <p:spPr>
          <a:xfrm>
            <a:off x="4419720" y="2286000"/>
            <a:ext cx="2514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0"/>
          <p:cNvSpPr/>
          <p:nvPr/>
        </p:nvSpPr>
        <p:spPr>
          <a:xfrm>
            <a:off x="1447920" y="22860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1"/>
          <p:cNvSpPr/>
          <p:nvPr/>
        </p:nvSpPr>
        <p:spPr>
          <a:xfrm>
            <a:off x="1447920" y="2286000"/>
            <a:ext cx="5410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2"/>
          <p:cNvSpPr/>
          <p:nvPr/>
        </p:nvSpPr>
        <p:spPr>
          <a:xfrm>
            <a:off x="198108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3"/>
          <p:cNvSpPr/>
          <p:nvPr/>
        </p:nvSpPr>
        <p:spPr>
          <a:xfrm>
            <a:off x="1981080" y="3581280"/>
            <a:ext cx="4572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4"/>
          <p:cNvSpPr/>
          <p:nvPr/>
        </p:nvSpPr>
        <p:spPr>
          <a:xfrm>
            <a:off x="716292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5"/>
          <p:cNvSpPr/>
          <p:nvPr/>
        </p:nvSpPr>
        <p:spPr>
          <a:xfrm flipH="1">
            <a:off x="2057400" y="3581280"/>
            <a:ext cx="5105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2590920" y="20484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2739240" y="3049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БЩАЯ ПСИХОЛОГ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357120" y="1523880"/>
            <a:ext cx="514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ПОЗНАВА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РОЦЕ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228600" y="22096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ОЩУ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259920" y="2590920"/>
            <a:ext cx="17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СПРИ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231480" y="2971800"/>
            <a:ext cx="160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252360" y="3429000"/>
            <a:ext cx="12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254880" y="3809880"/>
            <a:ext cx="19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0"/>
          <p:cNvSpPr/>
          <p:nvPr/>
        </p:nvSpPr>
        <p:spPr>
          <a:xfrm>
            <a:off x="250560" y="426708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1"/>
          <p:cNvSpPr/>
          <p:nvPr/>
        </p:nvSpPr>
        <p:spPr>
          <a:xfrm>
            <a:off x="238680" y="4648320"/>
            <a:ext cx="88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РЕЧ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2"/>
          <p:cNvSpPr/>
          <p:nvPr/>
        </p:nvSpPr>
        <p:spPr>
          <a:xfrm>
            <a:off x="5849280" y="15238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3"/>
          <p:cNvSpPr/>
          <p:nvPr/>
        </p:nvSpPr>
        <p:spPr>
          <a:xfrm>
            <a:off x="5784120" y="2195640"/>
            <a:ext cx="131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ЭМО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4"/>
          <p:cNvSpPr/>
          <p:nvPr/>
        </p:nvSpPr>
        <p:spPr>
          <a:xfrm>
            <a:off x="5829120" y="257652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5"/>
          <p:cNvSpPr/>
          <p:nvPr/>
        </p:nvSpPr>
        <p:spPr>
          <a:xfrm>
            <a:off x="5807880" y="2971800"/>
            <a:ext cx="17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ОТИВ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6"/>
          <p:cNvSpPr/>
          <p:nvPr/>
        </p:nvSpPr>
        <p:spPr>
          <a:xfrm>
            <a:off x="5819040" y="3429000"/>
            <a:ext cx="19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ТЕМПЕРА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7"/>
          <p:cNvSpPr/>
          <p:nvPr/>
        </p:nvSpPr>
        <p:spPr>
          <a:xfrm>
            <a:off x="5813640" y="3809880"/>
            <a:ext cx="14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8"/>
          <p:cNvSpPr/>
          <p:nvPr/>
        </p:nvSpPr>
        <p:spPr>
          <a:xfrm>
            <a:off x="5807160" y="42670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Методы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4" name="Прямоугольник 5"/>
          <p:cNvSpPr/>
          <p:nvPr/>
        </p:nvSpPr>
        <p:spPr>
          <a:xfrm>
            <a:off x="4786200" y="164304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ый мет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тествен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395280" y="428760"/>
            <a:ext cx="813744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етоды психологических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0"/>
          <p:cNvSpPr/>
          <p:nvPr/>
        </p:nvSpPr>
        <p:spPr>
          <a:xfrm>
            <a:off x="395280" y="2637000"/>
            <a:ext cx="1152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оронн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67"/>
          <p:cNvGrpSpPr/>
          <p:nvPr/>
        </p:nvGrpSpPr>
        <p:grpSpPr>
          <a:xfrm>
            <a:off x="395280" y="1844640"/>
            <a:ext cx="8497800" cy="432000"/>
            <a:chOff x="395280" y="1844640"/>
            <a:chExt cx="8497800" cy="432000"/>
          </a:xfrm>
        </p:grpSpPr>
        <p:sp>
          <p:nvSpPr>
            <p:cNvPr id="800" name="Rectangle 8"/>
            <p:cNvSpPr/>
            <p:nvPr/>
          </p:nvSpPr>
          <p:spPr>
            <a:xfrm>
              <a:off x="395280" y="1844640"/>
              <a:ext cx="13683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Наблюд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7"/>
            <p:cNvSpPr/>
            <p:nvPr/>
          </p:nvSpPr>
          <p:spPr>
            <a:xfrm>
              <a:off x="2124000" y="1844640"/>
              <a:ext cx="720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Опрос</a:t>
              </a: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9"/>
            <p:cNvSpPr/>
            <p:nvPr/>
          </p:nvSpPr>
          <p:spPr>
            <a:xfrm>
              <a:off x="3851280" y="1844640"/>
              <a:ext cx="936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Тест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0"/>
            <p:cNvSpPr/>
            <p:nvPr/>
          </p:nvSpPr>
          <p:spPr>
            <a:xfrm>
              <a:off x="5580000" y="1844640"/>
              <a:ext cx="12970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Экспери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1"/>
            <p:cNvSpPr/>
            <p:nvPr/>
          </p:nvSpPr>
          <p:spPr>
            <a:xfrm>
              <a:off x="7307280" y="1844640"/>
              <a:ext cx="15858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Моделирова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66"/>
          <p:cNvGrpSpPr/>
          <p:nvPr/>
        </p:nvGrpSpPr>
        <p:grpSpPr>
          <a:xfrm>
            <a:off x="755640" y="1484280"/>
            <a:ext cx="7488360" cy="360360"/>
            <a:chOff x="755640" y="1484280"/>
            <a:chExt cx="7488360" cy="360360"/>
          </a:xfrm>
        </p:grpSpPr>
        <p:sp>
          <p:nvSpPr>
            <p:cNvPr id="806" name="AutoShape 12"/>
            <p:cNvSpPr/>
            <p:nvPr/>
          </p:nvSpPr>
          <p:spPr>
            <a:xfrm>
              <a:off x="75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22"/>
            <p:cNvSpPr/>
            <p:nvPr/>
          </p:nvSpPr>
          <p:spPr>
            <a:xfrm>
              <a:off x="2195640" y="1484280"/>
              <a:ext cx="57600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23"/>
            <p:cNvSpPr/>
            <p:nvPr/>
          </p:nvSpPr>
          <p:spPr>
            <a:xfrm>
              <a:off x="399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24"/>
            <p:cNvSpPr/>
            <p:nvPr/>
          </p:nvSpPr>
          <p:spPr>
            <a:xfrm>
              <a:off x="586728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25"/>
            <p:cNvSpPr/>
            <p:nvPr/>
          </p:nvSpPr>
          <p:spPr>
            <a:xfrm>
              <a:off x="7667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26"/>
          <p:cNvSpPr/>
          <p:nvPr/>
        </p:nvSpPr>
        <p:spPr>
          <a:xfrm>
            <a:off x="395280" y="5084640"/>
            <a:ext cx="1297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утреннее (самонаблюд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7"/>
          <p:cNvSpPr/>
          <p:nvPr/>
        </p:nvSpPr>
        <p:spPr>
          <a:xfrm>
            <a:off x="395280" y="3141720"/>
            <a:ext cx="122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8"/>
          <p:cNvSpPr/>
          <p:nvPr/>
        </p:nvSpPr>
        <p:spPr>
          <a:xfrm>
            <a:off x="395280" y="5929200"/>
            <a:ext cx="12952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ешнее (со сторон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9"/>
          <p:cNvSpPr/>
          <p:nvPr/>
        </p:nvSpPr>
        <p:spPr>
          <a:xfrm>
            <a:off x="395280" y="3716280"/>
            <a:ext cx="1297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рова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0"/>
          <p:cNvSpPr/>
          <p:nvPr/>
        </p:nvSpPr>
        <p:spPr>
          <a:xfrm>
            <a:off x="395280" y="4437000"/>
            <a:ext cx="1297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ключ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31"/>
          <p:cNvSpPr/>
          <p:nvPr/>
        </p:nvSpPr>
        <p:spPr>
          <a:xfrm>
            <a:off x="1979640" y="2637000"/>
            <a:ext cx="1008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32"/>
          <p:cNvSpPr/>
          <p:nvPr/>
        </p:nvSpPr>
        <p:spPr>
          <a:xfrm>
            <a:off x="1908000" y="4308480"/>
            <a:ext cx="1366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ован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3"/>
          <p:cNvSpPr/>
          <p:nvPr/>
        </p:nvSpPr>
        <p:spPr>
          <a:xfrm>
            <a:off x="3635280" y="3213000"/>
            <a:ext cx="165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з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4"/>
          <p:cNvSpPr/>
          <p:nvPr/>
        </p:nvSpPr>
        <p:spPr>
          <a:xfrm>
            <a:off x="3635280" y="3789360"/>
            <a:ext cx="1584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ективный те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5"/>
          <p:cNvSpPr/>
          <p:nvPr/>
        </p:nvSpPr>
        <p:spPr>
          <a:xfrm>
            <a:off x="1835280" y="3211560"/>
            <a:ext cx="1296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исьм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6"/>
          <p:cNvSpPr/>
          <p:nvPr/>
        </p:nvSpPr>
        <p:spPr>
          <a:xfrm>
            <a:off x="1908000" y="3718080"/>
            <a:ext cx="1152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7"/>
          <p:cNvSpPr/>
          <p:nvPr/>
        </p:nvSpPr>
        <p:spPr>
          <a:xfrm>
            <a:off x="3635280" y="2637000"/>
            <a:ext cx="158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опрос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8"/>
          <p:cNvSpPr/>
          <p:nvPr/>
        </p:nvSpPr>
        <p:spPr>
          <a:xfrm>
            <a:off x="5435640" y="263700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Естеств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9"/>
          <p:cNvSpPr/>
          <p:nvPr/>
        </p:nvSpPr>
        <p:spPr>
          <a:xfrm>
            <a:off x="5435640" y="322272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аборато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0"/>
          <p:cNvSpPr/>
          <p:nvPr/>
        </p:nvSpPr>
        <p:spPr>
          <a:xfrm>
            <a:off x="5943960" y="4220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41"/>
          <p:cNvSpPr/>
          <p:nvPr/>
        </p:nvSpPr>
        <p:spPr>
          <a:xfrm>
            <a:off x="7308720" y="264168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атемат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42"/>
          <p:cNvSpPr/>
          <p:nvPr/>
        </p:nvSpPr>
        <p:spPr>
          <a:xfrm>
            <a:off x="7308720" y="378936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ог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43"/>
          <p:cNvSpPr/>
          <p:nvPr/>
        </p:nvSpPr>
        <p:spPr>
          <a:xfrm>
            <a:off x="7308720" y="321300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хн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44"/>
          <p:cNvSpPr/>
          <p:nvPr/>
        </p:nvSpPr>
        <p:spPr>
          <a:xfrm>
            <a:off x="7308720" y="4365720"/>
            <a:ext cx="1656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ибернет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46"/>
          <p:cNvSpPr/>
          <p:nvPr/>
        </p:nvSpPr>
        <p:spPr>
          <a:xfrm>
            <a:off x="97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47"/>
          <p:cNvSpPr/>
          <p:nvPr/>
        </p:nvSpPr>
        <p:spPr>
          <a:xfrm flipH="1">
            <a:off x="971640" y="292428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8"/>
          <p:cNvSpPr/>
          <p:nvPr/>
        </p:nvSpPr>
        <p:spPr>
          <a:xfrm flipH="1">
            <a:off x="971640" y="349884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9"/>
          <p:cNvSpPr/>
          <p:nvPr/>
        </p:nvSpPr>
        <p:spPr>
          <a:xfrm flipH="1">
            <a:off x="971640" y="42195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50"/>
          <p:cNvSpPr/>
          <p:nvPr/>
        </p:nvSpPr>
        <p:spPr>
          <a:xfrm flipH="1">
            <a:off x="971640" y="486720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51"/>
          <p:cNvSpPr/>
          <p:nvPr/>
        </p:nvSpPr>
        <p:spPr>
          <a:xfrm flipH="1">
            <a:off x="971640" y="58039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2411280" y="2276640"/>
            <a:ext cx="7164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54"/>
          <p:cNvSpPr/>
          <p:nvPr/>
        </p:nvSpPr>
        <p:spPr>
          <a:xfrm flipH="1">
            <a:off x="2410560" y="2997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5"/>
          <p:cNvSpPr/>
          <p:nvPr/>
        </p:nvSpPr>
        <p:spPr>
          <a:xfrm flipH="1">
            <a:off x="2410560" y="34988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6"/>
          <p:cNvSpPr/>
          <p:nvPr/>
        </p:nvSpPr>
        <p:spPr>
          <a:xfrm flipH="1">
            <a:off x="2410560" y="40766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421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58"/>
          <p:cNvSpPr/>
          <p:nvPr/>
        </p:nvSpPr>
        <p:spPr>
          <a:xfrm flipH="1">
            <a:off x="421164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9"/>
          <p:cNvSpPr/>
          <p:nvPr/>
        </p:nvSpPr>
        <p:spPr>
          <a:xfrm flipH="1">
            <a:off x="4212360" y="3573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615636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1"/>
          <p:cNvSpPr/>
          <p:nvPr/>
        </p:nvSpPr>
        <p:spPr>
          <a:xfrm flipH="1">
            <a:off x="615636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795672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3"/>
          <p:cNvSpPr/>
          <p:nvPr/>
        </p:nvSpPr>
        <p:spPr>
          <a:xfrm flipH="1">
            <a:off x="795672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64"/>
          <p:cNvSpPr/>
          <p:nvPr/>
        </p:nvSpPr>
        <p:spPr>
          <a:xfrm flipH="1">
            <a:off x="7956720" y="3573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5"/>
          <p:cNvSpPr/>
          <p:nvPr/>
        </p:nvSpPr>
        <p:spPr>
          <a:xfrm flipH="1">
            <a:off x="7956720" y="41497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пределение педагогики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(от греческих слов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дитя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, в дословном переводе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агог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означает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товодитель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ом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мужчина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человек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4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14200" y="1527120"/>
            <a:ext cx="8591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сихология и педагоги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сихология: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едмет, объект и методы психологии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сто психологии в системе наук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дивид, личность, субъект, индивидуальность. Психика и организм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ика,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сновные психические процесс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Межличностные отношения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малых групп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жгрупповые отношения и взаимодействи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7b9899"/>
                </a:solidFill>
                <a:latin typeface="Georgia"/>
              </a:rPr>
              <a:t>Возникновение и развитие педагогики, ее представители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же в наиболее развитых государствах древнего мира –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ита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д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гипт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Грец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илософ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и в ней же были сделаны первые педагогические обобщ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250" autoRev="1" fill="hold"/>
                                        <p:tgtEl>
                                          <p:spTgt spid="8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Колыбелью европейских систем воспитания стала древнегреческая философия:</a:t>
            </a: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мокрит (460 – 370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крат (469 – з99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латон (427 – 347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ристотель (384 – 322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арк Квинтилиан (35 -9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40600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914400" y="32144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ртулиан (160 – 222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вгустин (354 -43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квинат (1225 – 127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«Я – человек, и ничто человеческое мне не чуждо». – лозунг Эпохи Возрождения.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разм Роттердамский (1466 – 153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итторино де Фельтрэ (1378 – 144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ранссуа Рабле (1494 -1553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Ян Амос Коменский (1592 1670 гг.)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делил педагогику из философии и оформил ее в научную систему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жон Локк (1632 – 170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. Дидро (1713 – 178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. Гильвеций (1715 -177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 Гольбах (1723 – 178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Ж.Ж. Руссо (1712 – 1778 гг.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редставители русской педагогической мысли: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.Г. Белинский (1811 -1848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.И. Герцен (1812 – 187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Г. Чернышевский (1828 – 1889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А. Добролюбов (1836 -1861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.Н. Толстой (1828 – 191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.Д. Ушинский (1824 – 1871 гг.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" y="1500120"/>
            <a:ext cx="8686800" cy="25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конц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IX -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начал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4643280"/>
            <a:ext cx="8686800" cy="17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жон Дьюи (1859 – 1952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двард Торндайк (1874 – 1949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27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усская педагогика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слеоктябрьского периода пошла по пути разработки идей воспитания человека в новом обществ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1320" y="3142800"/>
            <a:ext cx="850428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.Т. Шацкий (1878 – 193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П. Блонский (1884 – 194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П. Пинкевич (1884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.К. Крупская (1869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С. Макаренко (1888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.А. Сухомлинский (1918 – 197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385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85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3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5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7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385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85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7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9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385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8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385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9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1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щ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общие основ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идактика (теория обучения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теория воспит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озрастн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ошкольная педагог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ьна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     Педагогика высшей: школы занимается педагогическими проблемами взрослы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4. Социальная педагогика: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семейная педагогика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перевоспитание правонарушителей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и др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5. Сурдопедагогика – воспитание глухонемых и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6. Тифлопедагогика – воспитание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7. Олигофренопедагогика – Воспитание умственно отсталых.</a:t>
            </a:r>
            <a:br>
              <a:rPr sz="2600"/>
            </a:br>
            <a:r>
              <a:rPr b="1" i="1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едагогика развивается в тесной связи с другими науками: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1. Философские наук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сте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наук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Анатом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Физи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4. Псих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5. История, литература, медицина, экология, экономика, археология…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9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ЫПИСКА ИЗ СТАНДАРТ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едагогика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объект, предмет, задачи, функции, методы педагогик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ые категории педагогики: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дагогический процесс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щие формы организации учебной деятельности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тоды, приемы, средства организации и управления педагогическим процессом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правление образовательными система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200"/>
            </a:br>
            <a:br>
              <a:rPr sz="2200"/>
            </a:b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едагогика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785880" y="2357280"/>
            <a:ext cx="714384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сновные категории педагогик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Формир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Развит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атегории педагогики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5" name="Rectangle 3"/>
          <p:cNvSpPr/>
          <p:nvPr/>
        </p:nvSpPr>
        <p:spPr>
          <a:xfrm>
            <a:off x="285840" y="2928960"/>
            <a:ext cx="180000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6"/>
          <p:cNvSpPr/>
          <p:nvPr/>
        </p:nvSpPr>
        <p:spPr>
          <a:xfrm>
            <a:off x="2556000" y="1197000"/>
            <a:ext cx="23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7"/>
          <p:cNvSpPr/>
          <p:nvPr/>
        </p:nvSpPr>
        <p:spPr>
          <a:xfrm>
            <a:off x="2484360" y="494172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"/>
          <p:cNvSpPr/>
          <p:nvPr/>
        </p:nvSpPr>
        <p:spPr>
          <a:xfrm>
            <a:off x="2484360" y="350028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1"/>
          <p:cNvSpPr/>
          <p:nvPr/>
        </p:nvSpPr>
        <p:spPr>
          <a:xfrm>
            <a:off x="2484360" y="2133720"/>
            <a:ext cx="2376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3"/>
          <p:cNvSpPr/>
          <p:nvPr/>
        </p:nvSpPr>
        <p:spPr>
          <a:xfrm>
            <a:off x="6516720" y="1197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23"/>
          <p:cNvSpPr/>
          <p:nvPr/>
        </p:nvSpPr>
        <p:spPr>
          <a:xfrm>
            <a:off x="4932360" y="1413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25"/>
          <p:cNvSpPr/>
          <p:nvPr/>
        </p:nvSpPr>
        <p:spPr>
          <a:xfrm>
            <a:off x="5815080" y="429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6"/>
          <p:cNvSpPr/>
          <p:nvPr/>
        </p:nvSpPr>
        <p:spPr>
          <a:xfrm>
            <a:off x="6516720" y="2205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7"/>
          <p:cNvSpPr/>
          <p:nvPr/>
        </p:nvSpPr>
        <p:spPr>
          <a:xfrm>
            <a:off x="6516720" y="2852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8"/>
          <p:cNvSpPr/>
          <p:nvPr/>
        </p:nvSpPr>
        <p:spPr>
          <a:xfrm>
            <a:off x="6516720" y="350028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ировозз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9"/>
          <p:cNvSpPr/>
          <p:nvPr/>
        </p:nvSpPr>
        <p:spPr>
          <a:xfrm>
            <a:off x="6516720" y="4076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30"/>
          <p:cNvSpPr/>
          <p:nvPr/>
        </p:nvSpPr>
        <p:spPr>
          <a:xfrm>
            <a:off x="6516720" y="458136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под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31"/>
          <p:cNvSpPr/>
          <p:nvPr/>
        </p:nvSpPr>
        <p:spPr>
          <a:xfrm>
            <a:off x="6516720" y="5300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32"/>
          <p:cNvSpPr/>
          <p:nvPr/>
        </p:nvSpPr>
        <p:spPr>
          <a:xfrm>
            <a:off x="579600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33"/>
          <p:cNvSpPr/>
          <p:nvPr/>
        </p:nvSpPr>
        <p:spPr>
          <a:xfrm>
            <a:off x="5796000" y="3068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34"/>
          <p:cNvSpPr/>
          <p:nvPr/>
        </p:nvSpPr>
        <p:spPr>
          <a:xfrm flipV="1">
            <a:off x="4859280" y="4797360"/>
            <a:ext cx="1657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35"/>
          <p:cNvSpPr/>
          <p:nvPr/>
        </p:nvSpPr>
        <p:spPr>
          <a:xfrm>
            <a:off x="4859280" y="5084640"/>
            <a:ext cx="1657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36"/>
          <p:cNvSpPr/>
          <p:nvPr/>
        </p:nvSpPr>
        <p:spPr>
          <a:xfrm>
            <a:off x="4859280" y="3716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37"/>
          <p:cNvSpPr/>
          <p:nvPr/>
        </p:nvSpPr>
        <p:spPr>
          <a:xfrm flipH="1">
            <a:off x="4859280" y="2349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38"/>
          <p:cNvSpPr/>
          <p:nvPr/>
        </p:nvSpPr>
        <p:spPr>
          <a:xfrm>
            <a:off x="190800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39"/>
          <p:cNvSpPr/>
          <p:nvPr/>
        </p:nvSpPr>
        <p:spPr>
          <a:xfrm>
            <a:off x="2124000" y="141300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40"/>
          <p:cNvSpPr/>
          <p:nvPr/>
        </p:nvSpPr>
        <p:spPr>
          <a:xfrm>
            <a:off x="2124000" y="51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41"/>
          <p:cNvSpPr/>
          <p:nvPr/>
        </p:nvSpPr>
        <p:spPr>
          <a:xfrm>
            <a:off x="212400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42"/>
          <p:cNvSpPr/>
          <p:nvPr/>
        </p:nvSpPr>
        <p:spPr>
          <a:xfrm>
            <a:off x="212400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43"/>
          <p:cNvSpPr/>
          <p:nvPr/>
        </p:nvSpPr>
        <p:spPr>
          <a:xfrm>
            <a:off x="2124000" y="141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–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бучение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-457200" y="-8872200"/>
            <a:ext cx="457200" cy="88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218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нания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отражения человеком объективной  деятельности в форме фактов, представлений, понят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мения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готовность сознательно 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выки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компоненты практической деятельности  проявляющееся при  выполнении необходимых действ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бразование-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то объем систематизированных  знаний, умений, навыков, которыми овладел обучаемы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PS: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Воспит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то целенаправленный и организационный процесс формирования личност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Цель воспитания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b9899"/>
                </a:solidFill>
                <a:latin typeface="Georgia"/>
              </a:rPr>
              <a:t>Формирование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Развит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процесс количественных и качественных изменений в организме человек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99308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ПСИХОЛОГИЯ И ПЕДАГОГИКА</a:t>
            </a:r>
            <a:br>
              <a:rPr sz="2800"/>
            </a:b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литератур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356760" y="2500200"/>
            <a:ext cx="835812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835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етоды педагогики</a:t>
            </a:r>
            <a:endParaRPr b="0" lang="en-US" sz="2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сследовательская беседа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школьной документации и продуктов деятельности учащихся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и обобщение передового педагогического опыт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зависимости от имеющихся целей различают следующие виды экспериментов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статир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озидательно-преобраз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трольны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естественны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ловарь: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80880" y="1571400"/>
            <a:ext cx="83059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Воспит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буче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Развит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7b9899"/>
                </a:solidFill>
                <a:latin typeface="Georgia"/>
              </a:rPr>
              <a:t>Лекция окончена</a:t>
            </a:r>
            <a:endParaRPr b="0" lang="en-US" sz="8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8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457200" y="274680"/>
            <a:ext cx="82296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Прямоугольник 2"/>
          <p:cNvSpPr/>
          <p:nvPr/>
        </p:nvSpPr>
        <p:spPr>
          <a:xfrm>
            <a:off x="714240" y="500040"/>
            <a:ext cx="771552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. Психология. Полный энциклопедический справочник / Сост. и общ. ред. Б. Г. Мещерякова, В. П. Зинченко. – СПб.: Прайм-Еврознак, 2007. – 896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6. Современный словарь по психологии. А-Я / Авт.-сост. В.В. Юрчук.. – Минск: Элайда, 2000. – 704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7. Полонский В.М. Словарь по образованию и педагогике. – М.: Высшая школа, 2004. – 512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8. Словарь по социальной педагогике: учебное пособие / Сост. Л.В. Мардахаев. – М.: Академия, 2002. – 366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000"/>
                </a:solidFill>
                <a:latin typeface="Georgia"/>
              </a:rPr>
              <a:t>ПСИХОЛОГИ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928800" y="3143160"/>
            <a:ext cx="68580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СИХОЛОГИЯ (ГРЕЧ. </a:t>
            </a:r>
            <a:r>
              <a:rPr b="1" lang="el-GR" sz="2000" spc="-1" strike="noStrike">
                <a:solidFill>
                  <a:srgbClr val="000000"/>
                </a:solidFill>
                <a:latin typeface="Georgia"/>
              </a:rPr>
              <a:t>ΨΥΧΗ —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УША И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ЛОГОС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.Л. Рубинштей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Объект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Прямоугольник 2"/>
          <p:cNvSpPr/>
          <p:nvPr/>
        </p:nvSpPr>
        <p:spPr>
          <a:xfrm>
            <a:off x="1571760" y="2000160"/>
            <a:ext cx="5286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7:28:49Z</dcterms:created>
  <dc:creator>Милена</dc:creator>
  <dc:description/>
  <dc:language>en-US</dc:language>
  <cp:lastModifiedBy>LEGION</cp:lastModifiedBy>
  <dcterms:modified xsi:type="dcterms:W3CDTF">2014-11-12T07:36:51Z</dcterms:modified>
  <cp:revision>163</cp:revision>
  <dc:subject/>
  <dc:title>Слайд 1</dc:title>
</cp:coreProperties>
</file>