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834E-D63A-4083-9CF7-5CDF0A7B1F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68B9-185D-46AB-9866-E7F3FCCB3B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СНОВНЫЕ</a:t>
            </a:r>
            <a:r>
              <a:rPr b="1" i="1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ТРАСЛИ ПСИХОЛОГИИ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640A-78F4-4EAF-B781-5E3C5044FF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ческ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2E93-8F05-4B59-AA95-AFD2D2EE6B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E719-E424-4DED-8ABE-23C339B186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Определение педагог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дитя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, в дословном переводе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агог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означает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товодител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5B46-FE83-443F-B0B5-EA9F9172FE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мужчина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человек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13BD-F48C-4949-9EF9-C5CE9FBCDB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мет, объект и методы психологи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сто психологии в системе нау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личность, субъект, индивидуальность. Психика и организм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и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сихические проц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личностные отноше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малых групп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рупповые отнош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FD29-2081-49EA-87DC-157366C01C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никновение и развитие педагогики, ее представ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же в наиболее развитых государствах древнего мира –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ита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гипт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ец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философ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и в ней же были сделаны первые педагогические об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F219-0257-4409-BC98-91CC127757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лыбелью европейских систем воспитания стала древнегреческая философия:</a:t>
            </a: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мокрит (460 – 370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крат (469 – з99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тон (427 – 347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истотель (384 – 322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рк Квинтилиан (35 -9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3095-B411-4601-9514-055852A8BB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ртулиан (160 – 22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густин (354 -43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винат (1225 – 127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F43E-246C-4CE6-86D5-FA15280A3C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человек, и ничто человеческое мне не чуждо». – лозунг Эпохи Воз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разм Роттердамский (1466 – 153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тторино де Фельтрэ (1378 – 144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ранссуа Рабле (1494 -155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н Амос Коменский (1592 1670 гг.)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делил педагогику из философии и оформил ее в научную систему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жон Локк (1632 – 17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. Дидро (1713 – 178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. Гильвеций (1715 -177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. Гольбах (1723 – 17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Ж. Руссо (1712 – 1778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AEAE-E2A9-4E48-94B4-E81FA25B46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ставители русской педагогической мыс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. Белинский (1811 -184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И. Герцен (1812 – 187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Г. Чернышевский (1828 – 18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А. Добролюбов (1836 -186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 Толстой (1828 – 191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Д. Ушинский (1824 – 1871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8C7A-CA62-4DB0-ADEB-1F741E003A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IX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начал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ьюи (1859 – 195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вард Торндайк (1874 – 194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A75B-C0B6-4F9C-B4FD-C22311D919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общие осн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идактика (теория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теория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зрастн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ошкольн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     Педагогика высшей: школы занимается педагогическими проблемами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4AC8-D111-4C4E-BC02-8EB089BFD8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Социальная педагогика: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семейная педагоги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перевоспитание правонарушителе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и др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Сурдопедагогика – воспитание глухонемых и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Тифлопедагогика – воспитание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Олигофренопедагогика – Воспитание умственно отсталых.</a:t>
            </a:r>
            <a:br>
              <a:rPr sz="1200"/>
            </a:b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419E-8CF8-4026-BFB9-73C25F7E6F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 развивается в тесной связи с другими наукам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Философские нау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ст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наук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Анато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Физ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История, литература, медицина, экология, экономика, археология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CB13-6C52-49E5-9299-A768525F1F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ЫПИСКА ИЗ СТАНДАР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ект, предмет, задачи, функции, методы педагогик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 педагог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формы организации учеб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, приемы, средства организации и управления педагогическим процессо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ыми 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13B8-A56F-4381-84BE-867B4C02BD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1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2004-7538-4153-9EFF-239DF3C1B6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едагог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B1F3-37A0-40AE-AC67-875FD17A03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сновные категории педагог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DD8D-EC16-4BF5-AF46-8AC971C4A5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егории педагог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DBFF-6E01-4B6F-B4DE-19008DC7A9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CFC6-98F7-44A1-98D7-76026801DE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- это отражения человеком объективной  деятельности в форме фактов, представлений,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я – это готовность сознательно 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– это компоненты практической деятельности  проявляющееся при  выполнении необходим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1B79-7A33-400B-B176-7A9A63BEA0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бразовани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объем систематизированных  знаний, умений, навыков, которыми овладел обуч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S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DD1C-12C8-4FE7-B309-92E876262D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ый и организационный процесс формирован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воспита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8038-1F7E-4532-9BFE-AAFBB8A7A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b9899"/>
                </a:solidFill>
                <a:latin typeface="Calibri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9D8D-3F3E-4693-8475-F005BB0B31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0FDE-057D-43C7-9D1F-A3F90230B6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Я И ПЕДАГОГИ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593A-8AA5-4D75-ADE9-B0042FF92A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Методы педагоги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ая бесе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школьной документации и продуктов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обобщение передового педагогического оп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5C2D-591C-4597-9277-692746544A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имеющихся целей различают следующие виды эксперимен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ир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о-преобраз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6782-2498-42AE-9993-A0324C1A2D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Словар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3B42-2029-4508-894D-DF65722099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к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F023-7DEF-4D76-B859-1243C9E8F2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(греч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υχη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а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г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54C2-90B8-44D1-8929-D09B2C771E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C120-710D-4480-AB73-16FCA38DA1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34C4-975F-4127-8190-8D1B9BAD92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ект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8E78-E96A-45C4-B35A-367158A922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790-8010-4F1D-88A8-13E0C673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E58-385A-4E91-BCE7-B7C926F4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3B7A9-05A6-427A-B3EC-9C6EC71B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493F2-EE43-40AC-B1DD-09694DEF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7ECF1-C732-487E-B7A8-0AF87652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FFE92-B9B0-49D7-B932-6FC554C6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289ED-6C4C-4656-8D38-FB8F2E6B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F8DB9-B348-4954-801E-88E95B5D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B6981-D8D6-41B0-ADCB-A2B2453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1B61E-8B0A-4B07-81B9-9E726AD3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BD5D8-EA8A-4B92-9B09-F5CA9149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21F35-72BB-47B2-B869-1D44AB71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013-A72B-4629-9EC1-C1BAD13D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8FE4B-74E2-4A38-AB63-5C3BC40A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09A04-ADCA-44F6-9C0D-67CA7BC3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F0B4B-3CD7-47A9-89E7-F22C47C1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0A537-F272-47EE-80F1-DFF52DAA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C067A-0CAA-48D1-AA4E-D5E045E9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989D7-73E2-4625-8AFB-D2812CAB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09924-EF90-46DB-9F3C-9F856ACD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A4C48-D152-490F-A6D1-C17DB067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FF1B8-DE91-4C44-8488-A83E3AD7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60AD8-E3E2-4352-9410-AB859B9A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C6B-B3E0-4999-8E87-155D9552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0D32D-7A9D-4913-BED7-FB61D0D4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781C5-B3BF-423E-8E4E-4374F8E9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8B3C7-1E85-4705-9EEB-BA84B578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37CC7-9C4E-4E19-9043-3A513A3A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DA132-0071-4A41-94E2-783D0565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2686A-1671-4D77-95A6-D6D0B6E2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EAC82-6B92-49D7-8347-7E33201B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42ACD-BD27-4D88-9C50-17A195A9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BC5DA-E481-4FA3-8E40-23473BFF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049B9-4BA8-49C8-A5EE-1F6F0938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0BD0-8DA8-4931-881B-C9B55F6B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73099-F54A-4846-92F0-5E12483D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0474F-0E6B-4945-B103-604A9C93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7B838-02E8-404E-AB52-D0F56488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7D2D7-6A42-4780-9157-8239047C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2FD52-C126-4D96-9978-CEA6F5F6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1469F-6459-4CBC-AEC4-50601B81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C2FD33-C1BA-4E57-8363-04CD5182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E9E5E-C958-42C7-9D98-4078306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C1E58-DB19-43A4-9F36-75B61A55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26235-EDC1-4003-8B26-48CECD9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5F6B-C29B-4307-8256-EB45A87F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EC953-4770-4350-9931-ED9B628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0199F-70B7-4BEF-8E48-B94F74D5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F7775-FE21-41C0-99AE-C17A12F0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2A3C1-65C2-4DDF-838B-DE1A80F6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67BB8-57E3-4671-83CF-66CAC8EB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A6AE3B-1783-47A1-B3DC-4472B072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32E638-5E83-4EE0-9F8A-0958B2A5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644CB8-CC8A-468F-A205-EDD8CFB3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51B416-678A-493C-9C55-C40AFDC6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CBCBDF-9AD1-433E-B018-967BF137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DA54-4DAB-4602-8D3E-ECEFA918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E38C67-04B7-466C-9897-3A77C618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8D4E8C-355C-406D-B361-A235D77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749A2E-F0C9-4A26-B407-489A87F6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148BC2-218F-4925-BFFD-5CEBBF9A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C4839E-7136-4E09-97A0-9215A694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E6D1C3-4C27-4CCC-AE17-B2365D4E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5BCEFB-A8CF-4632-86FA-16ABBB4D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D063F-0AAE-49F2-8860-E6B53926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0CC40-85A9-4E33-9024-E817930D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D594F-C06B-4F3A-8F60-A89B0059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C472-A84D-4BBD-8465-2B02F858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D2629-8594-4905-96DD-FF619405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D1969-62C8-4A78-9942-263B7ED6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B882C-13D4-4BA2-88CB-3B116A7B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45B93-0A56-4ABB-9645-2AC06D8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9869F-8DCC-4746-957A-4AB21D49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6D5FF-EC24-4E00-AFCD-CF971028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4C40A-79D1-4B4E-8AD6-C84DE20D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89C3A-34CF-4F23-9EC2-A827EB70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04431-6D1C-4207-A68D-87F8F931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CDFC-1054-473B-A214-E06526EC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093D-2C32-4F8C-80D0-A3583D80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C635-DD8C-4974-A69A-C3D41420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400-844F-4E1A-82DD-DA849509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8F5E-D03A-4216-9F3A-B460E3B5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21B7-C08F-4242-850D-AFCE138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28D5-B494-4453-B1C7-FFF7C8C8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590E-2E13-4D88-B78F-23ACA04E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4C8E-C4D7-421B-A003-6844D9EF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C3635-DBF7-4BB7-BD78-C8834928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CA8D-65E0-488E-9C4F-0F608578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8990-A174-4DF6-92F0-6F550B97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207B-C932-40E3-9AF2-D9CF865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33F2-5158-44D0-AAD0-52F8AD54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361-D403-43E3-9404-CB25748B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EEE9-2E4C-44D5-BBC7-C969442D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4EFE-C87B-4272-ADE3-11CADFA9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04337-13DC-4EB9-B585-E445243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41CF-6C5E-4037-91FD-FFFF05EA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CD98-0CC4-4D1B-A00A-4B2A0F37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F0D7-CEBF-45A7-B948-CDB782BD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5118-7DCD-436F-B936-5ECE8195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6940B-1390-4890-B7F2-41D59579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EAEC5-1565-4DF8-9C3D-4BD0083A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B25C-B3AE-49C6-AB0F-CEF30880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D4B-9B21-4501-BEB6-670EF465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94AD7-FD03-4EE9-8341-5CE38524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24B7F-7CFF-49C6-A197-26D37E95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963D-1455-4762-AA07-08A44CA0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B8CFA-F2D4-4D60-BF3A-E02A5D58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653E-42FC-4BAB-89C2-9E3245E7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BE829-30C5-40BA-B125-F053AF49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58D7-4F47-43B1-AF31-5D8451E7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1671-E103-4EB9-9B8E-FA658320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8C42B-5031-4492-8F80-B179C3F9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79D17-54CF-47F2-9345-A03E5968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23E-DBB1-48E0-9E29-6CDFF7DC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A27BB-015D-4F64-A31A-FCC5CD83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7CDD5-E484-4276-8D14-DBE99AD8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2815F-DDF7-4AB1-8969-88CBD9C0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ECBF0-C3FE-42A2-8875-43D6C8C3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C4CF2-DEB3-46DD-B7A7-F2EBF401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2F81B-44E0-4185-A317-C7CAAF3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4FBF-DD7B-4E4B-A513-203333EE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D119B-CDE6-479F-9E40-99E19C5F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2923-853A-44CD-A69B-25EA87D8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EA330-BA41-49D8-BCAF-47E54C7F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958-9AC3-4C26-BDF3-09535CE7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85B6C-BB7E-42BB-BC48-30223C35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D622A-B614-4CA1-B4DD-0FEE8454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06A2C-1835-417D-826B-0EA0B43F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03239-B336-4EB6-A297-F08F56DA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6119A-FB0C-4680-AAFE-4CD6328D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8AC48-E9FD-46D7-9CD0-B0C910D2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65A28-CD58-4990-8F90-9D0EB9C3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FC759-FE83-4693-BFAB-738EA82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0509E-7B5E-4F92-AD84-B566142D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FB5AE-B6CF-4DFD-9B6B-4FE3CC92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4F6-4844-4E05-8796-0B05EB16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27C8F-0695-419C-988B-9C6895AC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AD07-839A-47C4-B067-CBE138D8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E7FB-E8A6-498D-B912-EE8ABBE1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FF784-605C-4989-A95D-59FB4C9B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0082D-03BB-40F6-8994-977EBD13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F385E-49F4-46A8-8DAA-F9361F72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33B74-9840-487B-B6AF-D6E16D65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F7815-DCB4-4DAF-AB27-633F738C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80928-AB33-4D3F-8AA2-12038D5D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D6ABF-0AEC-466D-9CB8-BEC12EA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9C7-2E6B-4329-B0FF-A6CA5B1A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763A7-2C89-4CEB-99BA-BE013941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A190B-D496-452B-BF62-DF20D967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25DE4-DC4A-4765-9EA0-FC399241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2583-67C0-4284-B980-59BF2272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57691-D4D9-4410-8378-FFEDFBB4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457B3-92A8-436C-A902-0C3719F9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FD9CD-E8ED-4E24-85FC-2C435EAC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91FFC-563C-418A-88DE-2E768ECC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758D-2008-4002-B3C2-43E6B65C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2A1B3-7282-4F4C-A6F9-B170C853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1C4-B667-44E1-BE60-B76BFB8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959FB-D89A-4DA1-80F6-0BC7FCD1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19199-9B40-4ABF-A4A9-17203E90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942C8-8015-4832-8472-B3FAB448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6D236-AEA1-445C-8DA6-87A57AB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15190-FA55-4676-BE49-B14BBC8B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2105A-E966-40DD-A24F-E01FBFEB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6C5B5-3C40-4EFE-92C6-F0505A70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C1906-5351-4DB4-98A8-6813004B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C3952-AAD3-4094-98EF-9DDEC963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178E10-1A65-4060-8C17-CDAADC93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2ADD-5CE8-48F7-A8E6-43BB4BC87AE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AEA5-2480-40B8-A8A4-27549FE19DE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D49E-4839-4CE6-AF28-A332B381C70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56F2-9DCD-4E6E-B173-3125C4FE3D2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FBD-0577-42A8-A5B0-5EA425D1C0E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DFA7-EB3D-4C31-BDE8-60CA58FFE55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5811-C49B-4A9A-BFFD-2440893F8F0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DA89-1691-4C91-B629-1D6838D096F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4E71-94EF-4B82-89E5-894E6E3F533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10E9-ACF2-4A26-A4C9-11A8265AD15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2E53-DF3D-4E1E-A371-CB950E9E28C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94D7-574F-47A0-92EA-EEC3618F5AE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1FDA-9ECA-4F53-BE46-C60228F903F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862-F149-45E2-975B-4321BDF802B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63C2-F3E0-4515-97F4-9AB03D9120A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2650-7FDE-42D7-80B4-B02784A188F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6A15-A78E-4974-890C-09E247398D1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71F-E54D-4626-8DD6-C66F81D1480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1771-C40B-4247-8E5B-6FE45AA96E9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9F9D-9B27-4DE7-807F-98F885F473F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B09F-EA14-40A2-A961-D7E89BE2FA7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5C85-C289-47EE-ACD3-3F89331D33E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030F-4D24-42F9-B197-20D7D9401CA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C00-9220-431A-B320-4E883C168E3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BAFE-991F-4DB8-9317-BE2CB5CE644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3809-3C2C-47A6-ABC2-25D2C272F7C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4F53-840A-418B-B1BA-CD9B89004B2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0A24-654B-4E2F-BF8C-50762A17E23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Психология и педагогик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1357200" y="27147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3"/>
          <p:cNvSpPr/>
          <p:nvPr/>
        </p:nvSpPr>
        <p:spPr>
          <a:xfrm>
            <a:off x="2468520" y="3286080"/>
            <a:ext cx="6461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Ле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пова Людмил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федра социологии, психологии и права, 302 ауд. 19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СНОВНЫЕ</a:t>
            </a:r>
            <a:r>
              <a:rPr b="1" i="1" lang="ru-RU" sz="49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ТРАСЛИ ПСИХОЛОГИИ</a:t>
            </a:r>
            <a:br>
              <a:rPr sz="49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Прямоугольник 2"/>
          <p:cNvSpPr/>
          <p:nvPr/>
        </p:nvSpPr>
        <p:spPr>
          <a:xfrm>
            <a:off x="357120" y="1714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905120" y="304920"/>
            <a:ext cx="4967280" cy="94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СПЕЦИАЛЬНЫЕ ОТ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          </a:t>
            </a: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4920" y="1752480"/>
            <a:ext cx="202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ГЕНЕ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28600" y="2209680"/>
            <a:ext cx="2914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ФИЗ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(НЕЙРОПСИХОЛОГ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00880" y="2971800"/>
            <a:ext cx="284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ДИФФЕРЕНЦИАЛЬНАЯ</a:t>
            </a:r>
            <a:r>
              <a:rPr b="0" lang="ru-RU" sz="1800" spc="-1" strike="noStrike">
                <a:solidFill>
                  <a:srgbClr val="c5d1d7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02680" y="3505320"/>
            <a:ext cx="17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ВОЗРА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20320" y="3962520"/>
            <a:ext cx="179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220680" y="4495680"/>
            <a:ext cx="234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748120" y="1752480"/>
            <a:ext cx="20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5782680" y="2362320"/>
            <a:ext cx="243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5755320" y="2895480"/>
            <a:ext cx="200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РИ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5776560" y="3429000"/>
            <a:ext cx="276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5765760" y="3962520"/>
            <a:ext cx="208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2209680" y="304920"/>
            <a:ext cx="4719600" cy="5205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1c"/>
                </a:solidFill>
                <a:latin typeface="Georgia"/>
              </a:rPr>
              <a:t>ОТРАСЛИ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3650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60000" y="1752480"/>
            <a:ext cx="2024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3021120" y="1752480"/>
            <a:ext cx="2431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143760" y="1752480"/>
            <a:ext cx="208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 flipH="1">
            <a:off x="1752480" y="8380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449568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4495680" y="8380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28760" y="2571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Каждая из них имеют дело с отклонениями от нормы в псих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и поведени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642960" y="371484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Задача этих отраслей психологической науки – объ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чины возможных психологических нарушений и обос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тоды их предупреждения и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2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ческая педагог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7"/>
          <p:cNvSpPr/>
          <p:nvPr/>
        </p:nvSpPr>
        <p:spPr>
          <a:xfrm>
            <a:off x="1712160" y="355680"/>
            <a:ext cx="59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Основные типы явлен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изучает общая психология</a:t>
            </a:r>
            <a:r>
              <a:rPr b="0" lang="ru-RU" sz="3200" spc="-1" strike="noStrike">
                <a:solidFill>
                  <a:srgbClr val="646b86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722160" y="1905120"/>
            <a:ext cx="146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3610080" y="1905120"/>
            <a:ext cx="159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261480" y="1905120"/>
            <a:ext cx="1413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38640" y="3214800"/>
            <a:ext cx="2515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6172200" y="320040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914400" y="480060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СИХ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5410080" y="4800600"/>
            <a:ext cx="2606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ОВЕДЕН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H="1">
            <a:off x="693396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>
            <a:off x="2361960" y="228600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>
            <a:off x="2361960" y="2286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>
            <a:off x="4419720" y="22860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>
            <a:off x="1447920" y="2286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>
            <a:off x="1447920" y="2286000"/>
            <a:ext cx="5410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"/>
          <p:cNvSpPr/>
          <p:nvPr/>
        </p:nvSpPr>
        <p:spPr>
          <a:xfrm>
            <a:off x="1981080" y="3581280"/>
            <a:ext cx="4572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"/>
          <p:cNvSpPr/>
          <p:nvPr/>
        </p:nvSpPr>
        <p:spPr>
          <a:xfrm>
            <a:off x="7162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"/>
          <p:cNvSpPr/>
          <p:nvPr/>
        </p:nvSpPr>
        <p:spPr>
          <a:xfrm flipH="1">
            <a:off x="2057400" y="3581280"/>
            <a:ext cx="5105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2590920" y="204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739240" y="3049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ЩАЯ ПСИХ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57120" y="1523880"/>
            <a:ext cx="51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28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9920" y="259092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231480" y="2971800"/>
            <a:ext cx="16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252360" y="342900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254880" y="3809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250560" y="42670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38680" y="464832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5849280" y="15238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5784120" y="2195640"/>
            <a:ext cx="13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5829120" y="25765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5807880" y="297180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819040" y="342900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ТЕМПЕРА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7"/>
          <p:cNvSpPr/>
          <p:nvPr/>
        </p:nvSpPr>
        <p:spPr>
          <a:xfrm>
            <a:off x="5813640" y="380988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5807160" y="42670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етоды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5"/>
          <p:cNvSpPr/>
          <p:nvPr/>
        </p:nvSpPr>
        <p:spPr>
          <a:xfrm>
            <a:off x="4786200" y="164304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й 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95280" y="428760"/>
            <a:ext cx="813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ы психолог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395280" y="26370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орон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67"/>
          <p:cNvGrpSpPr/>
          <p:nvPr/>
        </p:nvGrpSpPr>
        <p:grpSpPr>
          <a:xfrm>
            <a:off x="395280" y="1844640"/>
            <a:ext cx="8497800" cy="432000"/>
            <a:chOff x="395280" y="1844640"/>
            <a:chExt cx="8497800" cy="432000"/>
          </a:xfrm>
        </p:grpSpPr>
        <p:sp>
          <p:nvSpPr>
            <p:cNvPr id="800" name="Rectangle 8"/>
            <p:cNvSpPr/>
            <p:nvPr/>
          </p:nvSpPr>
          <p:spPr>
            <a:xfrm>
              <a:off x="395280" y="1844640"/>
              <a:ext cx="1368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Наблю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2124000" y="1844640"/>
              <a:ext cx="720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Опрос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9"/>
            <p:cNvSpPr/>
            <p:nvPr/>
          </p:nvSpPr>
          <p:spPr>
            <a:xfrm>
              <a:off x="3851280" y="1844640"/>
              <a:ext cx="936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Тес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"/>
            <p:cNvSpPr/>
            <p:nvPr/>
          </p:nvSpPr>
          <p:spPr>
            <a:xfrm>
              <a:off x="5580000" y="1844640"/>
              <a:ext cx="1297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Экспери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1"/>
            <p:cNvSpPr/>
            <p:nvPr/>
          </p:nvSpPr>
          <p:spPr>
            <a:xfrm>
              <a:off x="7307280" y="1844640"/>
              <a:ext cx="15858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Моделиров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6"/>
          <p:cNvGrpSpPr/>
          <p:nvPr/>
        </p:nvGrpSpPr>
        <p:grpSpPr>
          <a:xfrm>
            <a:off x="755640" y="1484280"/>
            <a:ext cx="7488360" cy="360360"/>
            <a:chOff x="755640" y="1484280"/>
            <a:chExt cx="7488360" cy="360360"/>
          </a:xfrm>
        </p:grpSpPr>
        <p:sp>
          <p:nvSpPr>
            <p:cNvPr id="806" name="AutoShape 12"/>
            <p:cNvSpPr/>
            <p:nvPr/>
          </p:nvSpPr>
          <p:spPr>
            <a:xfrm>
              <a:off x="75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22"/>
            <p:cNvSpPr/>
            <p:nvPr/>
          </p:nvSpPr>
          <p:spPr>
            <a:xfrm>
              <a:off x="2195640" y="1484280"/>
              <a:ext cx="57600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3"/>
            <p:cNvSpPr/>
            <p:nvPr/>
          </p:nvSpPr>
          <p:spPr>
            <a:xfrm>
              <a:off x="399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4"/>
            <p:cNvSpPr/>
            <p:nvPr/>
          </p:nvSpPr>
          <p:spPr>
            <a:xfrm>
              <a:off x="586728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5"/>
            <p:cNvSpPr/>
            <p:nvPr/>
          </p:nvSpPr>
          <p:spPr>
            <a:xfrm>
              <a:off x="7667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26"/>
          <p:cNvSpPr/>
          <p:nvPr/>
        </p:nvSpPr>
        <p:spPr>
          <a:xfrm>
            <a:off x="395280" y="5084640"/>
            <a:ext cx="1297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утреннее (самонаблюд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7"/>
          <p:cNvSpPr/>
          <p:nvPr/>
        </p:nvSpPr>
        <p:spPr>
          <a:xfrm>
            <a:off x="395280" y="3141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8"/>
          <p:cNvSpPr/>
          <p:nvPr/>
        </p:nvSpPr>
        <p:spPr>
          <a:xfrm>
            <a:off x="395280" y="5929200"/>
            <a:ext cx="1295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ешнее (со сторо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9"/>
          <p:cNvSpPr/>
          <p:nvPr/>
        </p:nvSpPr>
        <p:spPr>
          <a:xfrm>
            <a:off x="395280" y="3716280"/>
            <a:ext cx="1297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0"/>
          <p:cNvSpPr/>
          <p:nvPr/>
        </p:nvSpPr>
        <p:spPr>
          <a:xfrm>
            <a:off x="395280" y="443700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ключ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1979640" y="263700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2"/>
          <p:cNvSpPr/>
          <p:nvPr/>
        </p:nvSpPr>
        <p:spPr>
          <a:xfrm>
            <a:off x="1908000" y="43084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ов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3"/>
          <p:cNvSpPr/>
          <p:nvPr/>
        </p:nvSpPr>
        <p:spPr>
          <a:xfrm>
            <a:off x="3635280" y="321300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4"/>
          <p:cNvSpPr/>
          <p:nvPr/>
        </p:nvSpPr>
        <p:spPr>
          <a:xfrm>
            <a:off x="3635280" y="3789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ивный т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5"/>
          <p:cNvSpPr/>
          <p:nvPr/>
        </p:nvSpPr>
        <p:spPr>
          <a:xfrm>
            <a:off x="1835280" y="3211560"/>
            <a:ext cx="129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исьм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6"/>
          <p:cNvSpPr/>
          <p:nvPr/>
        </p:nvSpPr>
        <p:spPr>
          <a:xfrm>
            <a:off x="1908000" y="3718080"/>
            <a:ext cx="115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7"/>
          <p:cNvSpPr/>
          <p:nvPr/>
        </p:nvSpPr>
        <p:spPr>
          <a:xfrm>
            <a:off x="3635280" y="2637000"/>
            <a:ext cx="158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опрос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8"/>
          <p:cNvSpPr/>
          <p:nvPr/>
        </p:nvSpPr>
        <p:spPr>
          <a:xfrm>
            <a:off x="5435640" y="2637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Есте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9"/>
          <p:cNvSpPr/>
          <p:nvPr/>
        </p:nvSpPr>
        <p:spPr>
          <a:xfrm>
            <a:off x="5435640" y="3222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борат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0"/>
          <p:cNvSpPr/>
          <p:nvPr/>
        </p:nvSpPr>
        <p:spPr>
          <a:xfrm>
            <a:off x="5943960" y="422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1"/>
          <p:cNvSpPr/>
          <p:nvPr/>
        </p:nvSpPr>
        <p:spPr>
          <a:xfrm>
            <a:off x="7308720" y="26416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2"/>
          <p:cNvSpPr/>
          <p:nvPr/>
        </p:nvSpPr>
        <p:spPr>
          <a:xfrm>
            <a:off x="7308720" y="378936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308720" y="321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4"/>
          <p:cNvSpPr/>
          <p:nvPr/>
        </p:nvSpPr>
        <p:spPr>
          <a:xfrm>
            <a:off x="7308720" y="4365720"/>
            <a:ext cx="16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бернет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97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7"/>
          <p:cNvSpPr/>
          <p:nvPr/>
        </p:nvSpPr>
        <p:spPr>
          <a:xfrm flipH="1">
            <a:off x="971640" y="292428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8"/>
          <p:cNvSpPr/>
          <p:nvPr/>
        </p:nvSpPr>
        <p:spPr>
          <a:xfrm flipH="1">
            <a:off x="971640" y="349884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9"/>
          <p:cNvSpPr/>
          <p:nvPr/>
        </p:nvSpPr>
        <p:spPr>
          <a:xfrm flipH="1">
            <a:off x="971640" y="42195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0"/>
          <p:cNvSpPr/>
          <p:nvPr/>
        </p:nvSpPr>
        <p:spPr>
          <a:xfrm flipH="1">
            <a:off x="971640" y="486720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1"/>
          <p:cNvSpPr/>
          <p:nvPr/>
        </p:nvSpPr>
        <p:spPr>
          <a:xfrm flipH="1">
            <a:off x="971640" y="58039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2411280" y="2276640"/>
            <a:ext cx="7164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4"/>
          <p:cNvSpPr/>
          <p:nvPr/>
        </p:nvSpPr>
        <p:spPr>
          <a:xfrm flipH="1">
            <a:off x="2410560" y="2997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5"/>
          <p:cNvSpPr/>
          <p:nvPr/>
        </p:nvSpPr>
        <p:spPr>
          <a:xfrm flipH="1">
            <a:off x="2410560" y="34988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6"/>
          <p:cNvSpPr/>
          <p:nvPr/>
        </p:nvSpPr>
        <p:spPr>
          <a:xfrm flipH="1">
            <a:off x="2410560" y="40766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421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8"/>
          <p:cNvSpPr/>
          <p:nvPr/>
        </p:nvSpPr>
        <p:spPr>
          <a:xfrm flipH="1">
            <a:off x="421164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9"/>
          <p:cNvSpPr/>
          <p:nvPr/>
        </p:nvSpPr>
        <p:spPr>
          <a:xfrm flipH="1">
            <a:off x="4212360" y="3573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615636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1"/>
          <p:cNvSpPr/>
          <p:nvPr/>
        </p:nvSpPr>
        <p:spPr>
          <a:xfrm flipH="1">
            <a:off x="615636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795672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3"/>
          <p:cNvSpPr/>
          <p:nvPr/>
        </p:nvSpPr>
        <p:spPr>
          <a:xfrm flipH="1">
            <a:off x="795672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4"/>
          <p:cNvSpPr/>
          <p:nvPr/>
        </p:nvSpPr>
        <p:spPr>
          <a:xfrm flipH="1">
            <a:off x="7956720" y="3573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5"/>
          <p:cNvSpPr/>
          <p:nvPr/>
        </p:nvSpPr>
        <p:spPr>
          <a:xfrm flipH="1">
            <a:off x="7956720" y="41497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пределение педагоги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от греческих слов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дитя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, в дословном переводе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агог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означает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мужчина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человек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я и педагог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сихология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мет, объект и методы психологии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сто психологии в системе наук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, личность, субъект, индивидуальность. Психика и организм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ика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ные психически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жличностные отношения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малых групп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жгрупповые отнош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b9899"/>
                </a:solidFill>
                <a:latin typeface="Georgia"/>
              </a:rPr>
              <a:t>Возникновение и развитие педагогики, ее представител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же в наиболее развитых государствах древнего мира –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ита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д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гипт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илософ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и в ней же были сделаны первые педагогические обобщ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Колыбелью европейских систем воспитания стала древнегреческая философия: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мокрит (460 – 370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крат (469 – з99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он (427 – 347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стотель (384 – 322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рк Квинтилиан (35 -9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406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3214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ртулиан (160 – 222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вгустин (354 -43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винат (1225 – 127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«Я – человек, и ничто человеческое мне не чуждо». – лозунг Эпохи Возрождения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разм Роттердамский (1466 – 153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тторино де Фельтрэ (1378 – 144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ранссуа Рабле (1494 -1553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н Амос Коменский (1592 1670 гг.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делил педагогику из философии и оформил ее в научную систему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жон Локк (1632 – 170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. Дидро (1713 – 178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. Гильвеций (1715 -177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 Гольбах (1723 – 178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.Ж. Руссо (1712 – 1778 гг.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редставители русской педагогической мысли: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Г. Белинский (1811 -1848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И. Герцен (1812 – 187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Г. Чернышевский (1828 – 1889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А. Добролюбов (1836 -1861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.Н. Толстой (1828 – 191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.Д. Ушинский (1824 – 1871 гг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00120"/>
            <a:ext cx="8686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нц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IX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начал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4643280"/>
            <a:ext cx="8686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жон Дьюи (1859 – 1952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двард Торндайк (1874 – 1949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усская педагог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слеоктябрьского периода пошла по пути разработки идей воспитания человека в новом обществ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320" y="3142800"/>
            <a:ext cx="8504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.Т. Шацкий (1878 – 193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П. Блонский (1884 – 194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П. Пинкевич (1884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.К. Крупская (1869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С. Макаренко (1888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.А. Сухомлинский (1918 – 197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85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общие осн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идактика (теория обуч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теория воспит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зрастн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ошкольная педагог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ьна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   Педагогика высшей: школы занимается педагогическими проблемами взросл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Социальная педагогика: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семейная педагогика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перевоспитание правонарушителей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и др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Сурдопедагогика – воспитание глухонемых и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Тифлопедагогика – воспитание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Олигофренопедагогика – Воспитание умственно отсталых.</a:t>
            </a:r>
            <a:br>
              <a:rPr sz="2600"/>
            </a:br>
            <a:r>
              <a:rPr b="1" i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едагогика развивается в тесной связи с другими науками: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Философские нау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сте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наук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Анатом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Физи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 Псих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 История, литература, медицина, экология, экономика, археология…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ЫПИСКА ИЗ СТАНДАР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дагогика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бъект, предмет, задачи, функции, методы педагогик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ые категории педагогик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дагогический процес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ие формы организации учеб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ы, приемы, средства организации и управления педагогическим процессом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правление образовательными систем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едагогика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85880" y="2357280"/>
            <a:ext cx="714384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сновные категории педагогик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атегории педагогики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85840" y="2928960"/>
            <a:ext cx="1800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2556000" y="1197000"/>
            <a:ext cx="23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484360" y="494172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2484360" y="350028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1"/>
          <p:cNvSpPr/>
          <p:nvPr/>
        </p:nvSpPr>
        <p:spPr>
          <a:xfrm>
            <a:off x="2484360" y="2133720"/>
            <a:ext cx="23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6516720" y="1197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3"/>
          <p:cNvSpPr/>
          <p:nvPr/>
        </p:nvSpPr>
        <p:spPr>
          <a:xfrm>
            <a:off x="4932360" y="14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581508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6516720" y="2205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"/>
          <p:cNvSpPr/>
          <p:nvPr/>
        </p:nvSpPr>
        <p:spPr>
          <a:xfrm>
            <a:off x="6516720" y="2852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6516720" y="350028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9"/>
          <p:cNvSpPr/>
          <p:nvPr/>
        </p:nvSpPr>
        <p:spPr>
          <a:xfrm>
            <a:off x="6516720" y="4076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6516720" y="458136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1"/>
          <p:cNvSpPr/>
          <p:nvPr/>
        </p:nvSpPr>
        <p:spPr>
          <a:xfrm>
            <a:off x="6516720" y="5300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2"/>
          <p:cNvSpPr/>
          <p:nvPr/>
        </p:nvSpPr>
        <p:spPr>
          <a:xfrm>
            <a:off x="5796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3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4"/>
          <p:cNvSpPr/>
          <p:nvPr/>
        </p:nvSpPr>
        <p:spPr>
          <a:xfrm flipV="1">
            <a:off x="4859280" y="4797360"/>
            <a:ext cx="165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5"/>
          <p:cNvSpPr/>
          <p:nvPr/>
        </p:nvSpPr>
        <p:spPr>
          <a:xfrm>
            <a:off x="4859280" y="5084640"/>
            <a:ext cx="1657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6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7"/>
          <p:cNvSpPr/>
          <p:nvPr/>
        </p:nvSpPr>
        <p:spPr>
          <a:xfrm flipH="1">
            <a:off x="4859280" y="234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8"/>
          <p:cNvSpPr/>
          <p:nvPr/>
        </p:nvSpPr>
        <p:spPr>
          <a:xfrm>
            <a:off x="1908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9"/>
          <p:cNvSpPr/>
          <p:nvPr/>
        </p:nvSpPr>
        <p:spPr>
          <a:xfrm>
            <a:off x="212400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0"/>
          <p:cNvSpPr/>
          <p:nvPr/>
        </p:nvSpPr>
        <p:spPr>
          <a:xfrm>
            <a:off x="212400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1"/>
          <p:cNvSpPr/>
          <p:nvPr/>
        </p:nvSpPr>
        <p:spPr>
          <a:xfrm>
            <a:off x="2124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2124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"/>
          <p:cNvSpPr/>
          <p:nvPr/>
        </p:nvSpPr>
        <p:spPr>
          <a:xfrm>
            <a:off x="2124000" y="14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–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бучение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-457200" y="-8872200"/>
            <a:ext cx="457200" cy="88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2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нания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тражения человеком объективной  деятельности в форме фактов, представлений, пон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ения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готовность сознательно 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ыки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компоненты практической деятельности  проявляющееся при  выполнении необходимых 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бразование-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то объем систематизированных  знаний, умений, навыков, которыми овладел обучаем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S: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Воспит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целенаправленный и организационный процесс формирования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 воспитан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9899"/>
                </a:solidFill>
                <a:latin typeface="Georgia"/>
              </a:rPr>
              <a:t>Формиро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Разви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процесс количественных и качественных изменений в организме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993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ПСИХОЛОГИЯ И ПЕДАГОГИКА</a:t>
            </a: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6760" y="2500200"/>
            <a:ext cx="835812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етоды педагогики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следовательская беседа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школьной документации и продуктов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и обобщение передового педагогического опы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зависимости от имеющихся целей различают следующие виды экспериментов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атир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зидательно-преобраз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ы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стественны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ловарь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спит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буче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b9899"/>
                </a:solidFill>
                <a:latin typeface="Georgia"/>
              </a:rPr>
              <a:t>Лекция окончена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2746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Прямоугольник 2"/>
          <p:cNvSpPr/>
          <p:nvPr/>
        </p:nvSpPr>
        <p:spPr>
          <a:xfrm>
            <a:off x="714240" y="500040"/>
            <a:ext cx="77155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Психология. Полный энциклопедический справочник / Сост. и общ. ред. Б. Г. Мещерякова, В. П. Зинченко. – СПб.: Прайм-Еврознак, 2007. – 89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Современный словарь по психологии. А-Я / Авт.-сост. В.В. Юрчук.. – Минск: Элайда, 2000. – 704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Полонский В.М. Словарь по образованию и педагогике. – М.: Высшая школа, 2004. – 512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Словарь по социальной педагогике: учебное пособие / Сост. Л.В. Мардахаев. – М.: Академия, 2002. – 36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Georgia"/>
              </a:rPr>
              <a:t>ПСИХОЛОГИ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685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СИХОЛОГИЯ (ГРЕЧ.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ΨΥΧΗ —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УША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ОС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.Л. Рубинштей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Объект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1571760" y="2000160"/>
            <a:ext cx="5286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28:49Z</dcterms:created>
  <dc:creator>Милена</dc:creator>
  <dc:description/>
  <dc:language>en-US</dc:language>
  <cp:lastModifiedBy>LEGION</cp:lastModifiedBy>
  <dcterms:modified xsi:type="dcterms:W3CDTF">2014-11-12T07:36:51Z</dcterms:modified>
  <cp:revision>163</cp:revision>
  <dc:subject/>
  <dc:title>Слайд 1</dc:title>
</cp:coreProperties>
</file>