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F88A-6742-49EC-9026-CF04736F7B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ф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Африка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963-6966-4662-8F11-68B0899D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1D9-3C13-4D32-802B-FEB0D7E9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766-89A6-4B9B-90B0-5F0C012A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CFC-B8D6-4FBD-9948-62659C7F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1777-086A-4C05-983A-45BBFE8C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BD5E-31D6-4DA8-80AD-FB2D7B3D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147D-A7DC-4873-AF74-C3B8B49E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9F77-E06F-439F-94AD-02A1B3FF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11EA-B158-4495-BCC7-8FC5FEC0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B48C-2B26-400E-9F41-FA7E1FEF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E9DC-5B64-4B68-9B9D-4881CDAD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86A-5EA7-4A9D-B51C-86F621EB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62AA-48E5-4A00-A06B-A641018C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5A52-03A5-433D-A288-CE9220BF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DD01-8976-4B7B-B63B-BC6CE624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B724-A21C-42ED-BD68-5D121711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A089-20CC-4409-B38F-F5610E0A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E0A-F9A3-4875-96DC-0B71EA02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05A-71EB-4000-AC85-66B126C6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474-AA00-4685-AAA1-5585B9A0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5C2-66FC-49C4-8FA7-7BD57CAA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8F5-73EA-4DDC-ACEC-6928B7BC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CA3-EFB0-4E50-9923-3F767143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738-1114-49EA-8809-1164199A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A731-7A49-43A4-848B-2F7B42CD9E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D9E9-9004-4794-8A36-154B7C2BE4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b0f0"/>
                </a:solidFill>
                <a:latin typeface="Comic Sans MS"/>
              </a:rPr>
              <a:t>Африка</a:t>
            </a:r>
            <a:r>
              <a:rPr b="0" lang="ru-RU" sz="9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1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1397642341_7850711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Africa_0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africa-s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afrika1"/>
          <p:cNvPicPr/>
          <p:nvPr/>
        </p:nvPicPr>
        <p:blipFill>
          <a:blip r:embed="rId1"/>
          <a:srcRect l="0" t="23754" r="0" b="74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afrika-peo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bbc-afrika-scen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30:53Z</dcterms:created>
  <dc:creator>User</dc:creator>
  <dc:description/>
  <dc:language>en-US</dc:language>
  <cp:lastModifiedBy>Legion</cp:lastModifiedBy>
  <dcterms:modified xsi:type="dcterms:W3CDTF">2017-09-22T10:27:23Z</dcterms:modified>
  <cp:revision>6</cp:revision>
  <dc:subject/>
  <dc:title>Слайд 1</dc:title>
</cp:coreProperties>
</file>