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FA4BE-C190-4A25-AF33-E21CE019B1D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Афри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omic Sans MS"/>
              </a:rPr>
              <a:t>Африка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E806-4A7D-4DFC-8F74-D2CD090C8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1C92-ECED-4F7A-8AC0-41461E3DB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75B0-AEB8-4E8A-A6FB-918C9E2BD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475D-C168-4F9E-AAEB-3A317536F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DCB0B-298D-4678-92D7-CE5855ADB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0BE64-7494-4A6A-9D81-145C3133A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49E65-75C6-4623-AC6A-9DC2CB43C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032AB-D6C9-4958-B0C8-992413119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45CFC-19CA-4C64-8AE5-2A85364D8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51D02-0958-4504-BA63-58FB76B05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CFD61-A78F-419C-B27D-F52D4BE80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D9CC-80F2-49A5-A25A-A78458F11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EECB3-1192-4649-A4EF-EBB6B8A9A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B3164-1912-46EE-B419-909BB36EC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9F41A-EE2C-4438-97AC-E97777675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ED78E-78B6-4B7F-87A3-866C10384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CFE99-AF4B-4F60-83E5-0F51397E8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6F93-F3DF-46E4-BC3C-99FF4E382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6056-4C70-4E14-8F06-ED4C1AB0E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69A5-E97A-4C34-B170-B30AB8440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BEF9-8D4D-45AA-9A92-37BEB61E3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1CAC-3391-4E09-BC20-98D5E357B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7F10-80B0-4237-9594-1078A1F8F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C5CD-D2EF-4E94-824D-A813A63AE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B0077-0CC9-47F3-B232-EC5850ECCF7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480" y="-86400"/>
            <a:ext cx="2429640" cy="2250000"/>
            <a:chOff x="7170480" y="-86400"/>
            <a:chExt cx="2429640" cy="225000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480" y="-86400"/>
              <a:ext cx="2429640" cy="2250000"/>
              <a:chOff x="7170480" y="-86400"/>
              <a:chExt cx="2429640" cy="225000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480" y="-86400"/>
                <a:ext cx="2429640" cy="2250000"/>
                <a:chOff x="7170480" y="-86400"/>
                <a:chExt cx="2429640" cy="225000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8640" y="522720"/>
                  <a:ext cx="42804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6600" y="285480"/>
                  <a:ext cx="80388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1400" y="-27720"/>
                  <a:ext cx="12070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3920" y="1422360"/>
                  <a:ext cx="2692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800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160" y="333720"/>
                  <a:ext cx="28800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8440" y="219960"/>
                  <a:ext cx="28512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8EBF4-69AD-4792-99BA-76096A4EB8C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32000" y="259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0" spc="-1" strike="noStrike">
                <a:solidFill>
                  <a:srgbClr val="00b0f0"/>
                </a:solidFill>
                <a:latin typeface="Comic Sans MS"/>
              </a:rPr>
              <a:t>Африка</a:t>
            </a:r>
            <a:r>
              <a:rPr b="0" lang="ru-RU" sz="96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60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5" name="Рисунок 6" descr="1468136265744_scrapeene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3" name="Picture 4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4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Picture 4" descr="109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1" name="Picture 4" descr="1397642341_7850711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5" name="Picture 4" descr="Africa_08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9" name="Picture 4" descr="africa-sigh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3" name="Picture 4" descr="afrika1"/>
          <p:cNvPicPr/>
          <p:nvPr/>
        </p:nvPicPr>
        <p:blipFill>
          <a:blip r:embed="rId1"/>
          <a:srcRect l="0" t="23754" r="0" b="742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7" name="Picture 4" descr="afrika-peopl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1" name="Picture 4" descr="bbc-afrika-scene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3T17:30:53Z</dcterms:created>
  <dc:creator>User</dc:creator>
  <dc:description/>
  <dc:language>en-US</dc:language>
  <cp:lastModifiedBy>Legion</cp:lastModifiedBy>
  <dcterms:modified xsi:type="dcterms:W3CDTF">2017-09-22T10:27:23Z</dcterms:modified>
  <cp:revision>6</cp:revision>
  <dc:subject/>
  <dc:title>Слайд 1</dc:title>
</cp:coreProperties>
</file>