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6ACD-9D48-434A-B5C5-CAD9EAAC8BF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фр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Африка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38E4-EB6B-4A03-979B-D3B46BBA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72FA-6176-4352-A57C-BF6ADE82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2579-74B1-485B-9841-8C5EA5899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F535-0F6A-434D-9C2E-D8AA00DF3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4FAD-976E-4B24-956E-3BBCDBA5F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5AFB-3CE2-4C22-AF9C-1681035D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041D-4B94-4AEE-9C5B-1C3D2DF7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67C5-7633-4643-B2CC-84EA739F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43EC-2EB4-4A0C-BD94-16E06BB1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7DBF-5331-4A5E-A7F2-AF1E2BF0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FDB9-1286-4550-941E-184E499E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C38C-76DA-400A-B3F3-C65627BD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53F3-CEDD-4F90-B3D2-D3E0E58F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414F-CEED-4383-9740-37A676FD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A13D-9117-49C8-9353-77193BB8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2FB6-4A95-4FA3-9CDF-69E7D6CEE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13CD-38CD-4147-B9A5-6A0065BDA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985D-131D-4568-B5FE-9C81803F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5DF8-8B48-4B51-89EA-DC1378E6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BE87-2E17-4385-BF99-778DE3A0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AFF6-943E-4AC3-A557-13AA5AE5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AC58-2283-4E3E-98B5-E3FF25D8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51BB-B639-4A75-BB8E-828BA38F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F92A-4E29-4375-B676-D14D0ADC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70F5-DB7E-452C-96D0-461B39AA4C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8340-0C18-4DCC-8548-5F8C38BB34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b0f0"/>
                </a:solidFill>
                <a:latin typeface="Comic Sans MS"/>
              </a:rPr>
              <a:t>Африка</a:t>
            </a:r>
            <a:r>
              <a:rPr b="0" lang="ru-RU" sz="9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6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4" descr="10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4" descr="1397642341_7850711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" descr="Africa_0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4" descr="africa-sigh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4" descr="afrika1"/>
          <p:cNvPicPr/>
          <p:nvPr/>
        </p:nvPicPr>
        <p:blipFill>
          <a:blip r:embed="rId1"/>
          <a:srcRect l="0" t="23754" r="0" b="74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4" descr="afrika-peop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4" descr="bbc-afrika-scene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7:30:53Z</dcterms:created>
  <dc:creator>User</dc:creator>
  <dc:description/>
  <dc:language>en-US</dc:language>
  <cp:lastModifiedBy>Legion</cp:lastModifiedBy>
  <dcterms:modified xsi:type="dcterms:W3CDTF">2017-09-22T10:27:23Z</dcterms:modified>
  <cp:revision>6</cp:revision>
  <dc:subject/>
  <dc:title>Слайд 1</dc:title>
</cp:coreProperties>
</file>