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55761-E63C-4EE7-8B04-4385B847E1F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фр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Африка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A9C3-5011-408D-B70D-1CAECDEC6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827C-C021-4B98-906D-F56998AB3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DB36-79D2-41BC-8193-4AF00B780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DA21-EED8-40CE-BE01-97E8954C9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CF3DE-235F-4438-9248-B4FB69DFC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9361F-D412-4EDB-991F-5FFD64C9C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AA5DF-86BA-4C4A-B1EC-C7574EE53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B950E-C0B7-4D3B-8F51-B98750903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23783-C356-4B94-B445-8E94D0FD1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9D80A-DBA7-4036-918C-D3232AE62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45916-A32A-495C-A941-7F7514D1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FACE-ED8C-4ACA-9CE3-A7378FC90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0E3C2-C4C4-468C-A537-C436307F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5E265-4243-4016-A8CC-E9618F3B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155BA-D597-419D-A8A6-A86F7833B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9C44B-3F80-4AA9-8AD3-02DA62640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1A6E2-75BA-4B4B-88A9-38490F525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DA00-64FD-4122-8EC0-27C985F8D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BBCE-3564-437A-A16B-0A0826AD8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E4AF-FE58-4655-B8A8-5A655E3B1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C521-3A67-42AC-9235-5A27B33B8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A0C2-1E65-4227-98A0-04364A9C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B9EB-FFA3-4F32-A47E-6110A3DD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C700-47D7-468A-9506-2C17297C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16ACE-EE8E-48EA-8199-0747732ABD9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F50AD-7283-4870-B83B-3B2C3835594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b0f0"/>
                </a:solidFill>
                <a:latin typeface="Comic Sans MS"/>
              </a:rPr>
              <a:t>Африка</a:t>
            </a:r>
            <a:r>
              <a:rPr b="0" lang="ru-RU" sz="96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6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5" name="Рисунок 6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4" descr="109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4" descr="1397642341_7850711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4" descr="Africa_0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4" descr="africa-sigh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Picture 4" descr="afrika1"/>
          <p:cNvPicPr/>
          <p:nvPr/>
        </p:nvPicPr>
        <p:blipFill>
          <a:blip r:embed="rId1"/>
          <a:srcRect l="0" t="23754" r="0" b="742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Picture 4" descr="afrika-peopl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Picture 4" descr="bbc-afrika-scene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7:30:53Z</dcterms:created>
  <dc:creator>User</dc:creator>
  <dc:description/>
  <dc:language>en-US</dc:language>
  <cp:lastModifiedBy>Legion</cp:lastModifiedBy>
  <dcterms:modified xsi:type="dcterms:W3CDTF">2017-09-22T10:27:23Z</dcterms:modified>
  <cp:revision>6</cp:revision>
  <dc:subject/>
  <dc:title>Слайд 1</dc:title>
</cp:coreProperties>
</file>