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94FB-EE69-4DDA-9F96-C82EAD68BF2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фр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Африка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0842-24E6-43D7-BF07-078AE8A76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0495-8056-40CC-B5BA-61FA626D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9362-DBEF-483D-B40E-05542D88F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85F4-9365-4DA5-8C9F-50B558F4C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7542-9BB2-46B9-B105-25C6C1211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834C-E778-49E9-A34C-03E7D23B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0DA2-7BB7-4E26-84A5-C1A4D5F7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683A-E860-4D0E-8388-21DE668A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A7A7F-47C9-408D-88B5-9DFB1E26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321E-DDBE-4F02-9CE7-55ABA449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6AE7-DF7E-4FAC-B205-ACFDC77B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D7CE-B1CC-4A58-8647-F84725FC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045E-F670-4D41-A33A-EEE1B81A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1FD5A-0D6C-4D07-AF76-E348019D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DF20-A8AB-4717-9C25-4AEBAB38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5A54F-071B-42E8-9C74-842D852EA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9487A-0F47-440D-844D-DCA71047E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5D68-1E39-45C4-8B45-E948DFE2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930E-1A9E-4A18-B484-CD008BDE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7578-EE99-48A1-BC23-7D61B640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1112-7F0E-4572-894D-E896A2D5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C393-E040-4805-9B92-A259CCA3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0330-7240-4C94-9A6B-D8F8317F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41FA-C9CC-4866-A05B-2BAF256B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C1A5-01C2-406D-9C67-71DBF22478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6F6B-551A-4FDC-AA41-60527785D9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b0f0"/>
                </a:solidFill>
                <a:latin typeface="Comic Sans MS"/>
              </a:rPr>
              <a:t>Африка</a:t>
            </a:r>
            <a:r>
              <a:rPr b="0" lang="ru-RU" sz="96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6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4" descr="10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4" descr="1397642341_7850711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4" descr="Africa_0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4" descr="africa-sigh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4" descr="afrika1"/>
          <p:cNvPicPr/>
          <p:nvPr/>
        </p:nvPicPr>
        <p:blipFill>
          <a:blip r:embed="rId1"/>
          <a:srcRect l="0" t="23754" r="0" b="742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4" descr="afrika-peop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4" descr="bbc-afrika-scene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7:30:53Z</dcterms:created>
  <dc:creator>User</dc:creator>
  <dc:description/>
  <dc:language>en-US</dc:language>
  <cp:lastModifiedBy>Legion</cp:lastModifiedBy>
  <dcterms:modified xsi:type="dcterms:W3CDTF">2017-09-22T10:27:23Z</dcterms:modified>
  <cp:revision>6</cp:revision>
  <dc:subject/>
  <dc:title>Слайд 1</dc:title>
</cp:coreProperties>
</file>