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A37F-DC49-47DC-8F03-BBEB39C81F7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цте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цте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A8D6-7252-4CFD-B6F7-9CB0F56E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3F89-B4AA-4B4A-B91B-BAD9357D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341A-B5F2-43E7-90BD-0438747C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C5E1-E500-4FA7-ABD7-2377AEA9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7B2F-5EA1-44BA-ABB1-03085456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FFE3-3AC2-4D13-B338-41846C95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0653-A530-4954-90D3-CBFDE763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6E0D-85FF-4EA2-900B-BFCD57E8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AFBA-4546-48BF-AFBE-3789B04D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7F83-07E4-426E-91C7-F922F2C2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D554-B416-4670-998E-D92C2F23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133E-D7CB-4CAB-9145-26DC880F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1F70-3E5F-4D3B-B139-51991842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B056-7E7D-401B-B98B-3C30C92A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D1EB-713F-4D2D-8F35-CF1964D6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3034-6BFB-4F5C-B829-3A8C36D5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8DFC-11CC-4D6E-BE33-D6A1C3CE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0B1-DFD7-4E05-A22B-2DEBB6DA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6F6B-098E-474B-B862-C4357376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9D40-8007-405D-AA9B-ECBD4D9B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E961-B968-4140-BC13-A1541E40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B352-DD48-4FE9-91A1-54C530D5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8321-7FEE-4391-97D7-BDF24A88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695-C341-45C2-A992-E8B0446F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C2EF-5720-45B5-9E0D-65609FD1432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FB02-DB45-4836-B6BD-DB8F99B1152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Ацтеки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411280" y="4254480"/>
            <a:ext cx="6400800" cy="20210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782a87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007097gDBYCV000nbZYD15pzw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332672307_pisc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20130606123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actecs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azte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ztec-Armies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8:00:14Z</dcterms:created>
  <dc:creator>User</dc:creator>
  <dc:description/>
  <dc:language>en-US</dc:language>
  <cp:lastModifiedBy>Legion</cp:lastModifiedBy>
  <dcterms:modified xsi:type="dcterms:W3CDTF">2017-09-22T10:28:38Z</dcterms:modified>
  <cp:revision>5</cp:revision>
  <dc:subject/>
  <dc:title>Ацтеки</dc:title>
</cp:coreProperties>
</file>