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68F8-C264-4B2C-95DF-F5DE13A2FD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56A-8B33-47D2-A146-70D08E94B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576-090E-4D32-826B-5C370D33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9B2-B663-4E32-9A63-A96FAE19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F4B-10A1-4E18-B9CB-4EDA4400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4EEB-CE99-4C6D-9A5A-B121D081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ED48-2566-4DB8-8E82-4524A9A3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CCD6-8BE0-4C94-BA79-47DD2451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F97E-2A1A-4867-A72F-27DC68B3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4229-F51B-4829-980F-220230C8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A6B-5EC4-467E-B4B2-8364BEFB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4C1D-0759-4157-B98F-7DDB3354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10B-E880-4C6A-BCBC-4C2482DB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3AD1-1743-4A0C-80C8-B895DEA4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A9E5-FB42-41DA-A10F-9E8AF738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A4D3-86EC-42FD-83CB-FD04CB7A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1BB7-8533-4325-8F1C-1311C452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C335-ED5D-459C-A140-76CCFE42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A99-2395-497F-BB7E-127D0047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79C-4D56-4680-AC91-09E51006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6365-9C93-4B8D-A483-272ACA17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1B0-E854-4F55-9DBE-88E7B7C1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437-E773-4DBC-9EBE-2C5E6E20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486-010E-48F3-ADC8-DAE480BC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B918-B3E6-47AE-82EF-F75D621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0C0-7389-4C1F-9CB4-F35D629AD9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CE11-E02C-4C70-8ADF-761FAE6AFB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цтек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11280" y="4254480"/>
            <a:ext cx="6400800" cy="2021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82a8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07097gDBYCV000nbZYD15pz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332672307_pisc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130606123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ctec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zte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ztec-Armies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0:14Z</dcterms:created>
  <dc:creator>User</dc:creator>
  <dc:description/>
  <dc:language>en-US</dc:language>
  <cp:lastModifiedBy>Legion</cp:lastModifiedBy>
  <dcterms:modified xsi:type="dcterms:W3CDTF">2017-09-22T10:28:38Z</dcterms:modified>
  <cp:revision>5</cp:revision>
  <dc:subject/>
  <dc:title>Ацтеки</dc:title>
</cp:coreProperties>
</file>