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  <p:custShowLst>
    <p:custShow name="Произвольный показ 1" id="0">
      <p:sldLst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676C-9D94-4664-ADFC-A40037BD91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41B-CDE5-4CD2-BB50-84C844F6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F37-7370-4191-B5D0-ED48954F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C88-33CF-41DE-B32A-B919F55A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EAA-4D12-4049-927D-ACC4BE97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06AD-0474-4BC9-89ED-138B78C8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9FBD-F5D1-4731-9379-9ED24CE7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3E1E-7042-4BD8-9802-F0400074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977D-CA17-4CD2-956B-EB6C48EA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C9FD-5D02-425F-A0FE-BCB64FD6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9CC2-CDCC-4520-B5EA-C8FBBA31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0CA5-335C-480D-B136-BCF21DB7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B5E-0004-463C-A569-47955446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D96C-2B2B-4777-B64C-2C2B00B5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E9B6-E5FB-4E06-9BC6-660124AA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2F3B-F071-46B6-B7FD-9761351D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A664-92E6-4E46-9198-E0F91744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A2BF-634C-4B1F-BD83-43EF6791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C0B42-A5A1-4012-B149-556E1034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3C91-FA14-44A1-AE2F-1228C35B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0B480-DB20-48A2-84AD-0FCC251E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C3ED-81BD-41C7-926E-C2319C97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B9ADE-9232-4C51-A914-618EBA84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CA5-B07F-4CFA-9A4E-5F5D991D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CA8DD-72C4-4716-8962-276426F2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76E5B-9AF5-46F2-9C10-0A8F815B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C214-17E1-43F2-BF25-247A9785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6EBAF-D1C0-4A23-ADC7-1D8DB78A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1773A-376B-4747-B6C1-C81B92A2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DF9EC-C73C-4AB0-B955-5E537AF6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67AD7-78AB-449B-ACFA-7F087ECD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A6E0F-D759-402F-B78E-ACAA38C7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42E47-3E6F-4B9D-8D06-104B472E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B6D36-16E4-4470-AF27-43AFF0FD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329-FD97-4DA4-9F50-7271289B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C435F-D14F-4C63-B2C6-C3FF7DB1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D7679-3D58-447C-AB0B-8075A51A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817C0-0A62-46E9-80CF-229F9ABB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B2B5-FF7E-4FD4-9C26-6E68B76D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D5C7E-1960-40AE-82BB-A4035CE0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068F2-3835-4432-8595-BEA370CE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1AE00-F749-48AB-A906-B1307CBF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399E7-D372-4EF3-99C0-C2635C3B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A1A36-69C1-4D50-8BE3-70811B79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D6140-2513-4F8D-B0AA-DE0CD857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119-336E-4D11-8415-DF42CB5D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5BD2E-933F-4B34-A18F-38CC6D01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98F14-2D71-4E03-AEEE-EAF14D70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315C2-E099-4785-8EE3-3ABE9A06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A55E6-F088-49C6-9B61-826A2EAE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B50E9-3DA9-475B-AC10-E339549A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C58C6-42E6-4B7A-9E45-18439344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7F41D-7499-47BE-A05E-DFC4CC0C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C7C4A-0276-412A-9F79-6BA6C169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D8303-6607-4869-AABB-6DBEC212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6D097-86CC-4D31-8534-0FC90C5C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37C-9DB8-4F1F-92DA-DE947B03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767E0-C1AD-4B09-9148-5C703380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DCE10-84CF-4E5C-BBE0-255C37F1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E3EBB-E1C7-4429-8C07-2EE5359B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0E249-F6AB-497B-A3E9-8F3A8BC3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F7445-AD40-4094-9FBC-75838AC7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021E3-2AD8-4B79-B8C6-EAF9CC00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D56F4-14A2-419B-9766-D13AB6BC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01CCE-439A-4417-9556-640B66B1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39DE0-BB61-43FB-A7AD-64B41D03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9E7D1-3116-49A5-8A5E-6FA77806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1F9-3264-411D-9FC3-1CB2B0A9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168AA-7581-432D-A0D0-E42A4F98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271C8-75E5-4721-9C0F-0392B882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7F646-EFD7-4197-92E4-CEA7A3E1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C1EB-CEE3-4A4E-A3C4-CEF045E7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EBB-B5FF-4A22-BA95-ED9F1A34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461B-3D0A-4105-B7A2-CB8F014FE2B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45AF-186B-4CF6-9C82-DF5A52C5735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2F07-122E-4E3F-8855-76A1FB786F1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449D-396C-4BF5-BE0D-3DF093C63A0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EBEB-3784-43C3-BC2E-6EE9EBDDB8B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1765-A25B-40DC-834F-DE187B80156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2089-B32F-4A83-9EBB-7851DD982BE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F4F2-CDE5-4653-86FA-E8AF64F893C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CA69-5037-4474-946F-E7F77223987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F880-B737-4063-AEC4-6E2A6C1BB88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832F-6D87-4E96-BAEF-4DFBE1F836A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6BBE-FA38-4278-94BF-BDE94B3E3E5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4e3b30"/>
                </a:solidFill>
                <a:latin typeface="Arial"/>
              </a:rPr>
              <a:t>Аэропорты</a:t>
            </a:r>
            <a:r>
              <a:rPr b="0" lang="ru-RU" sz="86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8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68000" y="4941720"/>
            <a:ext cx="845820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43329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7-charles-de-gaulle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357120" y="1143000"/>
            <a:ext cx="83581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67851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0492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000080" y="214200"/>
            <a:ext cx="5643720" cy="78588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1306389412_munich-airport-german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Заголовок 1"/>
          <p:cNvSpPr/>
          <p:nvPr/>
        </p:nvSpPr>
        <p:spPr>
          <a:xfrm>
            <a:off x="3714840" y="1714680"/>
            <a:ext cx="500040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071720" y="285840"/>
            <a:ext cx="5357520" cy="78732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1386763597_369737_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9" name="Picture 4" descr="aero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3" name="Picture 4" descr="ajeroporty-mir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7" name="Picture 4" descr="cXHuZdOx_6LVTNWDH08p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1" name="Picture 4" descr="frankfurt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7:23:38Z</dcterms:created>
  <dc:creator>Your User Name</dc:creator>
  <dc:description/>
  <dc:language>en-US</dc:language>
  <cp:lastModifiedBy>Legion</cp:lastModifiedBy>
  <dcterms:modified xsi:type="dcterms:W3CDTF">2017-09-22T10:29:59Z</dcterms:modified>
  <cp:revision>180</cp:revision>
  <dc:subject/>
  <dc:title>Слайд 1</dc:title>
</cp:coreProperties>
</file>