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  <p:custShowLst>
    <p:custShow name="Произвольный показ 1" id="0">
      <p:sldLst>
        <p:sld r:id="rId10"/>
        <p:sld r:id="rId11"/>
        <p:sld r:id="rId12"/>
        <p:sld r:id="rId1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05F9-2B27-41E8-8791-B61B666D3C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эропор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пор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A207-C6B9-402B-890B-145935EFB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9BDD-7885-449F-B6CF-C90A16BD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AD05-6A4D-4FA8-9695-0ADA9A66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6A10-D7DB-4236-B594-424C7B96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E7DF-0645-4260-82F8-9D17482C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058C-7D8F-428E-A7F7-FAC38C08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AF67-27A7-4CCC-A8F2-B05046CD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70BC-95EC-4F0A-B211-BCFDA618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AE98-3A2A-4384-8678-031A1A0F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3D95-C6A0-4261-8A30-0750F7A6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369D-744B-4216-A391-D8DED9D3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5299-5281-46F4-B142-EE04A33E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5302-8C2B-4738-BF80-A5B222BE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37DA-E9C7-4E75-8B11-2DFA8D67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4995-9E95-4C97-869D-35A8A492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0196-1105-48D3-BF10-3A0DDB587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031D-99E3-45A5-A17A-786A3047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2C529-7ED3-4613-9A97-A52FA725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97344-B8A7-4B02-BFBA-34D5E578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E88A5-AD9B-4748-9DBA-BEC702DF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09055-872C-4C3E-8824-71D085F4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38FCD-08F0-4078-A0FC-522C3C6A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8A0C-253B-42A0-A63F-543BD8EF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1DF9F-0678-48CE-8F58-58EB7250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2C071-0539-498A-ACE6-9E7C3D8B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73691-7D8D-465E-A112-6F33CDDB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21C10-6F98-4E15-BF91-97E17DF0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8DEEB-1B4C-4DA1-9B41-71686550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81331-3715-409F-A017-2999307B8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77367-F17D-4EF9-82F0-6685B5E2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63504-F58D-4FEC-BA08-F628C3A2F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F85FB-D413-47F3-90AB-0BAF26EE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7C455-A3B1-435A-B71E-EA5F7AF8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215C-2BE9-4CFE-BEC9-50046599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2A716-B7C8-4FDE-9843-7AE7F281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3D20E-FD4B-44E6-8F9B-2F9DDBE1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8906B-53CF-43D8-9044-5A8133B8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02F37-AE3C-44CF-99D6-BA57DD31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AFECC-E211-432F-BA64-0117957B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B86FC-9237-4327-A50A-0608D57F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D808B-EBFF-40BA-8E4E-2578A317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90C20-7C5F-494E-A753-6C97225F8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A6A22-73BC-4050-9A63-9F3256F40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7C59B-2085-47DF-A6B3-6493AEEBF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330D-E0C0-4F96-B177-A0951AA4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3BD7B-1B3E-427B-A2D3-E7676286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170C2-FBAF-43C4-BB76-5BF115D1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69C02-260F-4BBE-9315-D9D2AAF4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19875-7E5E-4150-A4A9-E3AF2FD3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4E641-5B78-4AC5-8C75-900D3016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A2621-ABDF-4C8D-BB7F-80D1CACB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70A9F-315C-4132-803A-787CB1E9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43C3F-E791-4913-99BC-6AE8CA61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F473C-1B30-4821-97F6-0ACA13E9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0E7D2-4B9B-4224-B992-3052D20A9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472F-865E-4440-B70A-4F554C62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5E35B-CA22-4373-8C5A-59B0EBC4C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A450F-DEC4-49D7-A1FC-A3C4D016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7989B-7147-409E-A634-BF70FBE3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25F0D-1F52-423A-97CA-1CB8D039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FC52E-D9C2-40D7-A70E-63A3C343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21183-0BBD-4593-AE88-64DD4F36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3EA19-9791-421F-A56A-7C0F880B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9CEEB-1DA4-4E5A-96BD-A38D86D5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B17C4-5B0E-41BA-950D-C408D0EE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6D243-C8F7-498A-9724-E407CE27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0FC7-048B-4198-8ADE-26037E93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9F577-5758-4164-B785-4A5A3D22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20F12-A7F9-4497-AA85-BE6A5476B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FDA5E-9B11-4EE2-B707-02586BD16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056B-6E54-4595-A96D-4467EBAC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9A5C-2146-4F75-B359-1CA9CE30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1E38-AF7F-44BF-B600-34758C7AFC47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D460-DB27-47AD-8E6B-495A74B02C9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37F5-C81F-4547-876B-5FB969644A4F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6AFA-4D00-4CA5-91A0-AA264F265AC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1897-B6D7-4295-947A-592EE4230586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F9BD-5C34-4300-9A9E-0568FC40E32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E4BF-86CB-4B4D-A783-7B2D76DD6E1A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B64A-5CA0-4F47-8E3A-533EE65A8EE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F544-9B28-4503-BF34-A619186BFF06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BE88-C826-4423-845C-FF50CA9B49E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2116-C20D-4477-AFB9-9AA65F8288F3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DE98-24DC-4A1B-B470-7EF56889D92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23640" y="1341360"/>
            <a:ext cx="8458200" cy="12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4e3b30"/>
                </a:solidFill>
                <a:latin typeface="Arial"/>
              </a:rPr>
              <a:t>Аэропорты</a:t>
            </a:r>
            <a:r>
              <a:rPr b="0" lang="ru-RU" sz="8600" spc="-1" strike="noStrike">
                <a:solidFill>
                  <a:srgbClr val="4e3b30"/>
                </a:solidFill>
                <a:latin typeface="Arial"/>
              </a:rPr>
              <a:t> </a:t>
            </a:r>
            <a:endParaRPr b="0" lang="en-US" sz="8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68000" y="4941720"/>
            <a:ext cx="845820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43329"/>
              </a:solidFill>
              <a:latin typeface="Arial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55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5"/>
          <p:cNvSpPr/>
          <p:nvPr/>
        </p:nvSpPr>
        <p:spPr>
          <a:xfrm>
            <a:off x="1000080" y="142920"/>
            <a:ext cx="5643720" cy="85716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ffecd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5" descr="7-charles-de-gaulle-airpo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3"/>
          <p:cNvSpPr/>
          <p:nvPr/>
        </p:nvSpPr>
        <p:spPr>
          <a:xfrm>
            <a:off x="357120" y="1143000"/>
            <a:ext cx="835812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1000080" y="142920"/>
            <a:ext cx="5643720" cy="85716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ffecd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5" descr="678517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04920" y="1142640"/>
            <a:ext cx="8686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1000080" y="214200"/>
            <a:ext cx="5643720" cy="78588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ffecd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5" descr="1306389412_munich-airport-german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Заголовок 1"/>
          <p:cNvSpPr/>
          <p:nvPr/>
        </p:nvSpPr>
        <p:spPr>
          <a:xfrm>
            <a:off x="3714840" y="1714680"/>
            <a:ext cx="5000400" cy="37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1071720" y="285840"/>
            <a:ext cx="5357520" cy="78732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ffecd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5" descr="1386763597_369737_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39" name="Picture 4" descr="aeropo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43" name="Picture 4" descr="ajeroporty-mira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47" name="Picture 4" descr="cXHuZdOx_6LVTNWDH08pv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51" name="Picture 4" descr="frankfurt-airpo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7:23:38Z</dcterms:created>
  <dc:creator>Your User Name</dc:creator>
  <dc:description/>
  <dc:language>en-US</dc:language>
  <cp:lastModifiedBy>Legion</cp:lastModifiedBy>
  <dcterms:modified xsi:type="dcterms:W3CDTF">2017-09-22T10:29:59Z</dcterms:modified>
  <cp:revision>180</cp:revision>
  <dc:subject/>
  <dc:title>Слайд 1</dc:title>
</cp:coreProperties>
</file>