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</p:sldIdLst>
  <p:sldSz cx="9144000" cy="6858000"/>
  <p:notesSz cx="6858000" cy="9144000"/>
  <p:custShowLst>
    <p:custShow name="Произвольный показ 1" id="0">
      <p:sldLst>
        <p:sld r:id="rId10"/>
        <p:sld r:id="rId11"/>
        <p:sld r:id="rId12"/>
        <p:sld r:id="rId13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513E3-0736-4816-86F4-FF4DF365C60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Аэропорт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эропорт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Верхний колонтитул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Номер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390B5-7641-437B-81B6-7DDA2CA61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51A46-C01E-4159-A280-40D235A8C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D60AD-8015-46BD-87C9-95FE2280B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8B8ED-F872-4D9D-A8D5-AE16F53C7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2EA78-F8C8-4070-B6B3-942122BE8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F09E5-C891-4FF1-883D-939B98F99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069C2-9F03-4F45-8E5E-BC57A72A8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A0AF8-C52C-4683-81B3-915BCF726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8ED34-CD63-4E09-81BC-205978F51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72058-28BB-4B3A-9061-DA6C0628C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00F46-BB82-4889-81DA-EEB55F4EB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324C4-8803-489B-A67B-0E9F5F6F8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50AAB-6D18-4E02-98C5-35EF7481C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6F5CA-A3AF-4202-94D9-8BA22DFDF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75911-3204-46D9-8184-9A18CD9AE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16B7E-8972-4D9B-B563-44AAD7777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85CD4-B3BE-42BD-AACE-B1C94CEFA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145BE9-337E-41F7-9544-CF331C381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5E3A95-9459-453F-9F44-41D43BF7E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941724-E5C3-479D-A546-D3A721322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1522C5-D34F-4873-90CC-56F30BE15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C8FDBF-0C95-4B59-9540-5BD5B9EB6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9EEB3-F8D5-47C9-B5E4-E62D5FABA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55182C-550E-4C8D-ABE7-6BA698B20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5D59C0-9ACB-49F0-8F6D-8D4CDFC61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E798E1-6ED2-48CF-B477-22866681F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532449-8010-4B67-8621-72F867681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DAA748-49C0-4269-82AC-EB3DD667B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EB21D8-8F9E-49E2-A321-487316BCA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6A2F4F-A3FF-4F75-B61C-CD4A43347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E21C48-2FB4-4638-9A85-102E560B2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FD0169-190A-476F-AD5A-3D760C715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76D11D-038B-4B24-8305-9E0227F99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3ACB7-D13B-493F-BAA8-B59934589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FF202C-24FB-4F41-8D71-A28C31F71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968C93-E145-4B7F-861B-C099E48A1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0339C2-0041-44DF-B949-52292D295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25F5B1-E49E-4181-B07F-A3590827F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3F0089-96D9-46E8-94F3-6176F7987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A5CAD1-81BE-48A3-A9C2-0616AD518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399298-AFC8-4AF0-9A7E-790C1CA3C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0C1840-2976-4457-B0D7-700EAA6DF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085AD1-6C9F-401B-A71D-039A6FC4B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EF2C07-E68F-433F-9DD0-37BC08455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ACD0B-AE32-4D87-AAD4-8AF2E82A8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1F2E1F-293C-4FEC-B03D-501AE77CA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97A7BD-B982-4795-9C99-1910E94D8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2633DB-98CA-4E81-BCA8-7B41E46E5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95F77A-EE6E-47F0-A519-5848ECCBC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DE3255-7675-4075-BC83-B5F8F5862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51A4FC-73E1-40F7-969E-C7E43F65C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B91680-E6B8-4F9B-B380-4EDC6EC4E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092B8D-4974-4433-878C-2B3351C44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88A73B-4A20-4723-AAA7-0CDE55D85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72B7E7-76C1-4D5A-8695-74A0E4100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E63DF-AD35-4DFF-A634-56FA71C8F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041B58-26E6-43CC-A8E0-826268E11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F39BA7-EB39-40E9-8A2D-85235FFFA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FDE4F0-BEA6-4C21-8136-F639179AE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7BA961-342E-4DCF-9325-F7FE74E51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02A0A2-5369-4497-8071-6C53ABE14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CFCCCB-F15E-4B82-A91A-309CCA295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6DB809-5F30-4003-9903-7741449C8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42BEDE-1EFA-4234-BAFA-B3D296E97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F0A353-5D57-4111-93EF-ECF97C032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B1A9EA-C8AD-4C92-B885-6CBD8AB62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765BC-D762-4022-B023-3890FFCCE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46B25E-0130-40B3-9C26-A197E05AA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03B5BB-8FE9-4007-AB5F-2A9B82591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32BF49-053E-45F4-B09A-11BAB82A8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1B8BA-0827-4A08-AB8D-F5E588D24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1D199-219B-4DA8-81A3-CCED65073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b050"/>
            </a:gs>
            <a:gs pos="100000">
              <a:srgbClr val="ffecd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2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DFAEF-3E97-4CA2-AB90-5146B2100ED7}" type="datetime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6C45A-D005-404E-9D75-654594B7F7E7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4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b050"/>
            </a:gs>
            <a:gs pos="100000">
              <a:srgbClr val="ffecd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51" name="Прямая соединительная линия 6" descr=""/>
            <p:cNvPicPr/>
            <p:nvPr/>
          </p:nvPicPr>
          <p:blipFill>
            <a:blip r:embed="rId2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54" name="Прямая соединительная линия 8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57" name="Прямая соединительная линия 11" descr=""/>
            <p:cNvPicPr/>
            <p:nvPr/>
          </p:nvPicPr>
          <p:blipFill>
            <a:blip r:embed="rId4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Прямая соединительная линия 12"/>
          <p:cNvGrpSpPr/>
          <p:nvPr/>
        </p:nvGrpSpPr>
        <p:grpSpPr>
          <a:xfrm>
            <a:off x="512640" y="5346720"/>
            <a:ext cx="8631360" cy="11160"/>
            <a:chOff x="512640" y="5346720"/>
            <a:chExt cx="8631360" cy="11160"/>
          </a:xfrm>
        </p:grpSpPr>
        <p:pic>
          <p:nvPicPr>
            <p:cNvPr id="60" name="Прямая соединительная линия 12" descr=""/>
            <p:cNvPicPr/>
            <p:nvPr/>
          </p:nvPicPr>
          <p:blipFill>
            <a:blip r:embed="rId5"/>
            <a:stretch/>
          </p:blipFill>
          <p:spPr>
            <a:xfrm>
              <a:off x="512640" y="534672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8B216-CB93-409C-ADD5-5E82A5F8BAFE}" type="datetime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75F84-D425-437C-A2CD-60DC39723CDA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b050"/>
            </a:gs>
            <a:gs pos="100000">
              <a:srgbClr val="ffecd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04" name="Прямая соединительная линия 6" descr=""/>
            <p:cNvPicPr/>
            <p:nvPr/>
          </p:nvPicPr>
          <p:blipFill>
            <a:blip r:embed="rId2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07" name="Прямая соединительная линия 8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10" name="Прямая соединительная линия 11" descr=""/>
            <p:cNvPicPr/>
            <p:nvPr/>
          </p:nvPicPr>
          <p:blipFill>
            <a:blip r:embed="rId4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D20CC-2447-49F1-BDC9-4280D8A129D0}" type="datetime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64B7B-E04E-4BF5-9274-1C80D0AC0505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b050"/>
            </a:gs>
            <a:gs pos="100000">
              <a:srgbClr val="ffecd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3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54" name="Прямая соединительная линия 6" descr=""/>
            <p:cNvPicPr/>
            <p:nvPr/>
          </p:nvPicPr>
          <p:blipFill>
            <a:blip r:embed="rId2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57" name="Прямая соединительная линия 8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60" name="Прямая соединительная линия 11" descr=""/>
            <p:cNvPicPr/>
            <p:nvPr/>
          </p:nvPicPr>
          <p:blipFill>
            <a:blip r:embed="rId4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Прямая соединительная линия 12"/>
          <p:cNvGrpSpPr/>
          <p:nvPr/>
        </p:nvGrpSpPr>
        <p:grpSpPr>
          <a:xfrm>
            <a:off x="512640" y="3438360"/>
            <a:ext cx="8631360" cy="11160"/>
            <a:chOff x="512640" y="3438360"/>
            <a:chExt cx="8631360" cy="11160"/>
          </a:xfrm>
        </p:grpSpPr>
        <p:pic>
          <p:nvPicPr>
            <p:cNvPr id="163" name="Прямая соединительная линия 12" descr=""/>
            <p:cNvPicPr/>
            <p:nvPr/>
          </p:nvPicPr>
          <p:blipFill>
            <a:blip r:embed="rId5"/>
            <a:stretch/>
          </p:blipFill>
          <p:spPr>
            <a:xfrm>
              <a:off x="512640" y="34383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B0009-D943-4709-97DC-C5180CA00158}" type="datetime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A0908-80DE-4C50-90E6-6E98E14291DF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b050"/>
            </a:gs>
            <a:gs pos="100000">
              <a:srgbClr val="ffecd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207" name="Прямая соединительная линия 6" descr=""/>
            <p:cNvPicPr/>
            <p:nvPr/>
          </p:nvPicPr>
          <p:blipFill>
            <a:blip r:embed="rId2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210" name="Прямая соединительная линия 8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213" name="Прямая соединительная линия 11" descr=""/>
            <p:cNvPicPr/>
            <p:nvPr/>
          </p:nvPicPr>
          <p:blipFill>
            <a:blip r:embed="rId4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Прямая соединительная линия 12"/>
          <p:cNvGrpSpPr/>
          <p:nvPr/>
        </p:nvGrpSpPr>
        <p:grpSpPr>
          <a:xfrm>
            <a:off x="512640" y="6016680"/>
            <a:ext cx="8631360" cy="12600"/>
            <a:chOff x="512640" y="6016680"/>
            <a:chExt cx="8631360" cy="12600"/>
          </a:xfrm>
        </p:grpSpPr>
        <p:pic>
          <p:nvPicPr>
            <p:cNvPr id="216" name="Прямая соединительная линия 12" descr=""/>
            <p:cNvPicPr/>
            <p:nvPr/>
          </p:nvPicPr>
          <p:blipFill>
            <a:blip r:embed="rId5"/>
            <a:stretch/>
          </p:blipFill>
          <p:spPr>
            <a:xfrm>
              <a:off x="512640" y="60166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61E63-B20F-45B5-860B-2C4E7EB46684}" type="datetime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2320E-C786-4183-90A2-F3FAB316F3E8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b050"/>
            </a:gs>
            <a:gs pos="100000">
              <a:srgbClr val="ffecd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9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260" name="Прямая соединительная линия 6" descr=""/>
            <p:cNvPicPr/>
            <p:nvPr/>
          </p:nvPicPr>
          <p:blipFill>
            <a:blip r:embed="rId2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263" name="Прямая соединительная линия 8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4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266" name="Прямая соединительная линия 11" descr=""/>
            <p:cNvPicPr/>
            <p:nvPr/>
          </p:nvPicPr>
          <p:blipFill>
            <a:blip r:embed="rId4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7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" name="Прямая соединительная линия 12"/>
          <p:cNvGrpSpPr/>
          <p:nvPr/>
        </p:nvGrpSpPr>
        <p:grpSpPr>
          <a:xfrm>
            <a:off x="512640" y="5846760"/>
            <a:ext cx="8631360" cy="11160"/>
            <a:chOff x="512640" y="5846760"/>
            <a:chExt cx="8631360" cy="11160"/>
          </a:xfrm>
        </p:grpSpPr>
        <p:pic>
          <p:nvPicPr>
            <p:cNvPr id="269" name="Прямая соединительная линия 12" descr=""/>
            <p:cNvPicPr/>
            <p:nvPr/>
          </p:nvPicPr>
          <p:blipFill>
            <a:blip r:embed="rId5"/>
            <a:stretch/>
          </p:blipFill>
          <p:spPr>
            <a:xfrm>
              <a:off x="512640" y="58467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0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1F2AC-0807-4409-B98E-4D5C2F855C5D}" type="datetime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BAA22-10BB-4D0E-B0B3-7B0ED2AE19B7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23640" y="1341360"/>
            <a:ext cx="8458200" cy="122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0" spc="-1" strike="noStrike">
                <a:solidFill>
                  <a:srgbClr val="4e3b30"/>
                </a:solidFill>
                <a:latin typeface="Arial"/>
              </a:rPr>
              <a:t>Аэропорты</a:t>
            </a:r>
            <a:r>
              <a:rPr b="0" lang="ru-RU" sz="8600" spc="-1" strike="noStrike">
                <a:solidFill>
                  <a:srgbClr val="4e3b30"/>
                </a:solidFill>
                <a:latin typeface="Arial"/>
              </a:rPr>
              <a:t> </a:t>
            </a:r>
            <a:endParaRPr b="0" lang="en-US" sz="8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468000" y="4941720"/>
            <a:ext cx="8458200" cy="17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443329"/>
              </a:solidFill>
              <a:latin typeface="Arial"/>
            </a:endParaRPr>
          </a:p>
        </p:txBody>
      </p:sp>
      <p:sp>
        <p:nvSpPr>
          <p:cNvPr id="321" name="Місце для нижнього колонтитула 1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355" name="Рисунок 4" descr="1468136265744_scrapeenet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56" name="Місце для нижнього колонтитула 1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5"/>
          <p:cNvSpPr/>
          <p:nvPr/>
        </p:nvSpPr>
        <p:spPr>
          <a:xfrm>
            <a:off x="1000080" y="142920"/>
            <a:ext cx="5643720" cy="857160"/>
          </a:xfrm>
          <a:prstGeom prst="rect">
            <a:avLst/>
          </a:prstGeom>
          <a:gradFill rotWithShape="0">
            <a:gsLst>
              <a:gs pos="0">
                <a:srgbClr val="00b050"/>
              </a:gs>
              <a:gs pos="100000">
                <a:srgbClr val="ffecd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Picture 5" descr="7-charles-de-gaulle-airport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24" name="Місце для нижнього колонтитула 1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3"/>
          <p:cNvSpPr/>
          <p:nvPr/>
        </p:nvSpPr>
        <p:spPr>
          <a:xfrm>
            <a:off x="357120" y="1143000"/>
            <a:ext cx="8358120" cy="528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5"/>
          <p:cNvSpPr/>
          <p:nvPr/>
        </p:nvSpPr>
        <p:spPr>
          <a:xfrm>
            <a:off x="1000080" y="142920"/>
            <a:ext cx="5643720" cy="857160"/>
          </a:xfrm>
          <a:prstGeom prst="rect">
            <a:avLst/>
          </a:prstGeom>
          <a:gradFill rotWithShape="0">
            <a:gsLst>
              <a:gs pos="0">
                <a:srgbClr val="00b050"/>
              </a:gs>
              <a:gs pos="100000">
                <a:srgbClr val="ffecd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Picture 5" descr="6785178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28" name="Місце для нижнього колонтитула 1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304920" y="1142640"/>
            <a:ext cx="86868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0" name="Rectangle 5"/>
          <p:cNvSpPr/>
          <p:nvPr/>
        </p:nvSpPr>
        <p:spPr>
          <a:xfrm>
            <a:off x="1000080" y="214200"/>
            <a:ext cx="5643720" cy="785880"/>
          </a:xfrm>
          <a:prstGeom prst="rect">
            <a:avLst/>
          </a:prstGeom>
          <a:gradFill rotWithShape="0">
            <a:gsLst>
              <a:gs pos="0">
                <a:srgbClr val="00b050"/>
              </a:gs>
              <a:gs pos="100000">
                <a:srgbClr val="ffecd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Picture 5" descr="1306389412_munich-airport-germany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32" name="Місце для нижнього колонтитула 1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Заголовок 1"/>
          <p:cNvSpPr/>
          <p:nvPr/>
        </p:nvSpPr>
        <p:spPr>
          <a:xfrm>
            <a:off x="3714840" y="1714680"/>
            <a:ext cx="5000400" cy="37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5"/>
          <p:cNvSpPr/>
          <p:nvPr/>
        </p:nvSpPr>
        <p:spPr>
          <a:xfrm>
            <a:off x="1071720" y="285840"/>
            <a:ext cx="5357520" cy="787320"/>
          </a:xfrm>
          <a:prstGeom prst="rect">
            <a:avLst/>
          </a:prstGeom>
          <a:gradFill rotWithShape="0">
            <a:gsLst>
              <a:gs pos="0">
                <a:srgbClr val="00b050"/>
              </a:gs>
              <a:gs pos="100000">
                <a:srgbClr val="ffecd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Picture 5" descr="1386763597_369737_9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36" name="Місце для нижнього колонтитула 1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339" name="Picture 4" descr="aeroport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40" name="Місце для нижнього колонтитула 1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343" name="Picture 4" descr="ajeroporty-mira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44" name="Місце для нижнього колонтитула 1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347" name="Picture 4" descr="cXHuZdOx_6LVTNWDH08pv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48" name="Місце для нижнього колонтитула 1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351" name="Picture 4" descr="frankfurt-airport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52" name="Місце для нижнього колонтитула 1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5T17:23:38Z</dcterms:created>
  <dc:creator>Your User Name</dc:creator>
  <dc:description/>
  <dc:language>en-US</dc:language>
  <cp:lastModifiedBy>Legion</cp:lastModifiedBy>
  <dcterms:modified xsi:type="dcterms:W3CDTF">2017-09-22T10:29:59Z</dcterms:modified>
  <cp:revision>180</cp:revision>
  <dc:subject/>
  <dc:title>Слайд 1</dc:title>
</cp:coreProperties>
</file>