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  <p:custShowLst>
    <p:custShow name="Произвольный показ 1" id="0">
      <p:sldLst>
        <p:sld r:id="rId10"/>
        <p:sld r:id="rId11"/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AB80-F46C-49C9-9C00-0FACBA56E6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эропор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по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E6C-7880-492B-A6B5-242F02B0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1E0-F3FA-4335-BE15-5B1416BF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A794-FFF2-400A-8042-3700738D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F7C8-F1B0-4370-86AC-85F760CE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B081-D434-4DE2-84F2-1C8718E0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C346-50AE-4CDE-A4F6-1318F17E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6DCF-F270-425F-B564-B7346837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BEFE-45C1-4C23-B17C-F6A76EDF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75F2-A7C1-4EDC-A2FA-14ED8144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36B0-9081-4FE0-A51A-12A39230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6DA3-F4CF-4451-9FCE-FEFCF493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C37-97E1-423C-B131-48F9D5A9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6149-8001-4F59-BA7A-62FA17DB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C783-27F1-4FFC-B5F4-5DDB1AA7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2DEA-87B3-43F9-911D-974655B0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7F97-7DB2-4636-9D45-5A534915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4D15-8AA6-4BB9-BF8E-82CF6E95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4E61B-DE10-43B2-91F4-4CD784B7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939ED-1955-457C-A9C7-CFF968E2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8E22C-874C-407C-95BA-381AEABA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A1F6A-65D4-4DC8-8456-384C9810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68D5B-5B26-46FD-A924-617340E4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70F-9C3D-4E5A-8B78-8C94AAEA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010B5-01E0-488C-95E8-6ED33B03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87F40-E78E-410F-ACDB-994D8648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F14B9-2716-460C-A3DD-EF95DF1C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08845-DC05-49F7-A276-9CFA2A67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222BF-6992-48A8-A738-7AB7B1D3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E0F20-F80F-45B9-8BA3-87DC2EE7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10A72-0535-4E8D-93BB-B4C30974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ECF4A-D409-4379-87BC-AF2F7082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B8D91-CD7C-4423-993F-D71C7503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5F04B-32DC-46FE-967A-8FB05C6B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97F0-EDB6-48C6-87D1-15D4BFFD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89600-331F-4C12-A04D-22289549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8FD14-A738-4577-9E48-5A6FDC54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836C2-8171-4E33-BA6E-45242061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14378-E725-451E-93FB-E1D47ECF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BF97E-1371-42C6-99CC-E1A625EE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21F2B-5126-4AAD-9EA5-41035554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9AA18-4351-471D-AD9F-4339E83E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D14AF-4B86-49D8-AC8A-BCC241FE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CD9A2-084F-4CAD-97E6-BB6B825F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64CF5-38E8-4E2A-982C-5AD589D6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BEDD-217F-4566-ABB9-4F3BA526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2FF6A-1013-4D68-A360-20FC978D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CF0DA-E3B1-4E9A-861E-CC3DD22B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CE553-9A83-43DB-A650-6A1E8A6E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97984-F93B-4734-A2B3-3503315A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27677-C208-4973-A9AB-F515B4B8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1E59A-0A24-46D6-B485-4E73874F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E0DED-11C3-4A8F-9848-22248AD9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3DDC5-0511-464A-9242-DEE8C27F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853A9-C50B-4D4A-8525-19115475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A794D-EE67-431E-9384-3D149817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786-DF11-45A5-A2FB-E9EEEE21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EEC0F-6DE9-4C1B-A2E9-00F5A7BB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D8290-D979-40CF-86CC-4CCB02A0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857F9-F1D4-4992-B055-B55A2070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337D8-1E91-4E60-AB84-9A66FD9B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77898-0077-402D-918D-322B1D3F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69CE3-9FAB-4442-8BDB-FD3F526D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5AA44-6723-49B6-8B74-9E1ABE8C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5F9D3-569E-45BC-9365-863DC00F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629EA-B6B2-4AF1-B4EE-8E724E39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6DCA0-1F7B-4FE1-BF04-B8017A6D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46A-F91B-422C-B770-8BCF245E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15154-E2E6-4A71-9A0D-22602229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A2E5F-96CA-45BA-BE33-BFDFC6EF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48368-DEEA-4B79-B5AD-34FE32E3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B88-D2DC-4895-B3BD-66E818E1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AD5-B82D-4851-91DD-3266B869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D7A3-1D92-49E6-B38E-6E84C8534E34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3A4F-17F8-4B2E-A98A-56EEBEA1CA9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9443-E3E1-4DE1-B879-3894C6EF7CE3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D1A6-ACBC-4649-A06D-BD4B44D73F8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2CD6-13B5-4252-BE3F-8A6023AFF9C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C870-48C9-4F34-9FBB-7F7C9532328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E022-F784-4A65-B5BE-02305A303310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7DE6-566A-40F0-9BB5-F994F9B02BA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B5D7-B560-49BD-A92A-4378F6A767C6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8827-42A3-4BFF-95AF-14A48DFD5C3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89E2-01BF-472A-9B85-646A970CF4D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A527-4037-4B40-A41B-FBDA6287838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3640" y="134136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4e3b30"/>
                </a:solidFill>
                <a:latin typeface="Arial"/>
              </a:rPr>
              <a:t>Аэропорты</a:t>
            </a:r>
            <a:r>
              <a:rPr b="0" lang="ru-RU" sz="86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8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68000" y="4941720"/>
            <a:ext cx="845820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43329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5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5"/>
          <p:cNvSpPr/>
          <p:nvPr/>
        </p:nvSpPr>
        <p:spPr>
          <a:xfrm>
            <a:off x="1000080" y="142920"/>
            <a:ext cx="5643720" cy="85716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7-charles-de-gaulle-air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357120" y="1143000"/>
            <a:ext cx="83581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1000080" y="142920"/>
            <a:ext cx="5643720" cy="85716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67851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04920" y="11426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000080" y="214200"/>
            <a:ext cx="5643720" cy="78588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1306389412_munich-airport-german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Заголовок 1"/>
          <p:cNvSpPr/>
          <p:nvPr/>
        </p:nvSpPr>
        <p:spPr>
          <a:xfrm>
            <a:off x="3714840" y="1714680"/>
            <a:ext cx="500040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071720" y="285840"/>
            <a:ext cx="5357520" cy="78732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1386763597_369737_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9" name="Picture 4" descr="aero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3" name="Picture 4" descr="ajeroporty-mir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7" name="Picture 4" descr="cXHuZdOx_6LVTNWDH08pv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1" name="Picture 4" descr="frankfurt-air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7:23:38Z</dcterms:created>
  <dc:creator>Your User Name</dc:creator>
  <dc:description/>
  <dc:language>en-US</dc:language>
  <cp:lastModifiedBy>Legion</cp:lastModifiedBy>
  <dcterms:modified xsi:type="dcterms:W3CDTF">2017-09-22T10:29:59Z</dcterms:modified>
  <cp:revision>180</cp:revision>
  <dc:subject/>
  <dc:title>Слайд 1</dc:title>
</cp:coreProperties>
</file>