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453D-EEAB-4119-B507-8E3D92B0F6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ения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МЕТ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BCE-EA84-4948-A39D-355CCBFE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70A-2071-404D-85C1-E95C0F60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3B3-1DCB-4947-BCAB-449DBD0B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0E1-4630-46E4-981F-E7378316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ADAC-30B4-4F4D-93A6-F543ABC0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A5CB-A3D7-499F-BADB-06DD82C6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37EB-FAA6-430E-AC79-1214167D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8724-A2CA-4C5F-AB33-1F52F6EF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AD5D-913D-49A1-996F-D52017E0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A6A4-097E-4DA1-BED5-A7EA1AC8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FE2D-9E46-4196-B048-51E9E282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0F9-9935-4303-937B-ABC32F8C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4938-9541-48D7-8E53-B26465AE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9463-42B9-4522-AF09-27F89C1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9460-5228-4CE8-8D70-3F07EEDF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A973-2C36-4211-94BE-C9C188F3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4154-2F61-451B-9F29-31BDA522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0CCC-33AB-4CD4-B768-B2496873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3797-6097-4931-8CB3-1E06FBEA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9D8A-AA25-4209-A138-EFEA7D94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7AB9-B3F1-4F4F-9FD2-4CC7D6C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D958-35CC-4863-ACE7-6695F3C2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C65-4CB3-4311-BB8C-0354B5B0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9041-CA70-4E4D-B514-35FFBC79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3801-40EC-4E71-BF51-DAE46B0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2A42-C890-4BDB-A7C3-2DD5AEA3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E1A8-AFA6-40F9-A902-5EEED0C1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2867-55D7-4E16-84EC-9717950B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B180-C817-44E3-9027-C13F714C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2E66-DE38-4C7B-B7B2-E2AEF127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7BF86-2499-44BE-9715-6D9269FF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0229C-5967-4E1A-9E8A-9AFDD2F3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AE59B-6305-4B28-86C5-41212DFE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08A-51AC-498B-91ED-376AB45B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0CA2E-011D-42CD-B88C-37D0443A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0A5D7-5D56-430B-A175-06E3C573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0D2AC-D364-4EB8-B7ED-AA507ED8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EB0EE-AC9C-44D8-AC8B-6DE4F35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6CD96-D5C0-4584-901F-0DED4A6C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8F0EE-2924-4ED3-BAF4-F8C22488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E5DA4-26EB-4DC4-BA4D-296219C8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FFD4C-F415-4895-8B5A-F1C40A4F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8F934-F0A6-4948-8F05-545D1274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F0B07-7F4A-4195-9AE9-428BD301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FB6-0D48-4B0B-A43E-148A0D08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2619D-5565-448D-B834-28C63BCA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3F98C-8BDF-4EA5-8154-2A308F4A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828CE-250F-403B-A306-AA75D11D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FA99-11B4-43B7-8A23-5A34C7A0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3A34-667A-4E2F-B57B-1F8E0C67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5668-8DD5-4F2F-B9CF-207A56CC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FD7B-7B35-404E-9EDC-087FAD9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AC93-CA27-424F-A594-3DC3D9A2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322C4-BD71-461B-86E3-DB264CBC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D840D-B5B3-4C82-A7AF-50ADBBC0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657-0769-4A09-AD62-80895E43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8370B-8199-4194-8E0E-87C674B8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D06B-A0AB-4436-AFAB-84093470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2FBAB-8EF2-422B-A671-73102EC1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AEB5D-CFD1-4B0C-939C-FE8F0EF3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CCA4E-0C3C-4B0C-8414-EF8E8A39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EE02-5D7A-4E9C-A106-3C5BBD13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655B1-E882-403E-90F3-42AACD7E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1F0BC-5AFC-4B20-964A-FCD3CC8C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F717A-35B1-49F0-9188-5965CE8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A63F7-61EE-4CBF-B3DB-62D2DD5A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60C-C0C0-444A-A28A-0A2CF573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4E8B-EA5C-472B-856B-9C2E129D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B0F93-414A-48E3-8AA2-E12E3512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41DEE-A3F7-4811-AC56-01DBF038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782B-6455-4378-A8EE-169695C6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7E0F5-C5A9-484C-8940-D824D21D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6F25-2EFC-49E7-914D-4B107681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B2D6C-1B81-4A40-844B-699FFE88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55C0E-CBBB-45CE-89F9-9A1CAABC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08565-656A-43CA-B607-8051C617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C5103-CB43-41BE-8565-DA256F2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B04-4FA1-4ADF-B1FB-4599CEF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256C2-ED03-43A6-8240-996995D2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9BA62-9AE6-4F1A-817E-007E474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C3E3A-F121-43FE-9170-CEFF84AB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B590E-ABEE-4BC8-8109-B5FA220E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667D-203C-4A30-B596-54292A0A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84C-FBD9-42C5-AFE2-230003B4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D767-E068-472E-B433-C224E0DBB96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5CB-27EC-4A6A-AE7F-3C2DCE0608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B7BA-A008-4847-BAD0-5EAEF3A72E5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E800-6D03-4A38-8F47-0D1AD61A39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CE77-1A1D-4E0F-B179-9E68D97824B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5A94-8B01-43D7-B06B-85B53D42902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5FBB-7F65-43B9-8365-92B1F854AD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5;&#1072;&#1085;&#1080;&#1077;" TargetMode="External"/><Relationship Id="rId2" Type="http://schemas.openxmlformats.org/officeDocument/2006/relationships/hyperlink" Target="http://ru.wikipedia.org/wiki/&#1048;&#1076;&#1077;&#1103;" TargetMode="External"/><Relationship Id="rId3" Type="http://schemas.openxmlformats.org/officeDocument/2006/relationships/hyperlink" Target="http://ru.wikipedia.org/wiki/&#1050;&#1086;&#1085;&#1094;&#1077;&#1087;&#1094;&#1080;&#1103;" TargetMode="External"/><Relationship Id="rId4" Type="http://schemas.openxmlformats.org/officeDocument/2006/relationships/hyperlink" Target="http://ru.wikipedia.org/w/index.php?title=&#1063;&#1072;&#1089;&#1090;&#1085;&#1099;&#1081;_&#1089;&#1083;&#1091;&#1095;&#1072;&#1081;&amp;action=edit&amp;redlink=1" TargetMode="External"/><Relationship Id="rId5" Type="http://schemas.openxmlformats.org/officeDocument/2006/relationships/hyperlink" Target="http://ru.wikipedia.org/wiki/&#1058;&#1077;&#1086;&#1088;&#1080;&#1103;" TargetMode="External"/><Relationship Id="rId6" Type="http://schemas.openxmlformats.org/officeDocument/2006/relationships/hyperlink" Target="http://ru.wikipedia.org/wiki/&#1044;&#1086;&#1075;&#1084;&#1072;&#1090;" TargetMode="External"/><Relationship Id="rId7" Type="http://schemas.openxmlformats.org/officeDocument/2006/relationships/hyperlink" Target="http://ru.wikipedia.org/wiki/&#1040;&#1073;&#1089;&#1086;&#1083;&#1102;&#1090;&#1085;&#1072;&#1103;_&#1080;&#1089;&#1090;&#1080;&#1085;&#1072;" TargetMode="External"/><Relationship Id="rId8" Type="http://schemas.openxmlformats.org/officeDocument/2006/relationships/hyperlink" Target="http://ru.wikipedia.org/wiki/&#1044;&#1086;&#1082;&#1072;&#1079;&#1072;&#1085;&#1085;&#1099;&#1081;_&#1092;&#1072;&#1082;&#1090;" TargetMode="External"/><Relationship Id="rId9" Type="http://schemas.openxmlformats.org/officeDocument/2006/relationships/hyperlink" Target="http://ru.wikipedia.org/wiki/&#1055;&#1088;&#1080;&#1095;&#1080;&#1085;&#1085;&#1086;-&#1089;&#1083;&#1077;&#1076;&#1089;&#1090;&#1074;&#1077;&#1085;&#1085;&#1072;&#1103;_&#1089;&#1074;&#1103;&#1079;&#1100;" TargetMode="External"/><Relationship Id="rId10" Type="http://schemas.openxmlformats.org/officeDocument/2006/relationships/hyperlink" Target="http://ru.wikipedia.org/wiki/&#1062;&#1080;&#1074;&#1080;&#1083;&#1080;&#1079;&#1072;&#1094;&#1080;&#1103;" TargetMode="External"/><Relationship Id="rId11" Type="http://schemas.openxmlformats.org/officeDocument/2006/relationships/hyperlink" Target="http://ru.wikipedia.org/wiki/&#1055;&#1088;&#1086;&#1075;&#1085;&#1086;&#1079;" TargetMode="External"/><Relationship Id="rId12" Type="http://schemas.openxmlformats.org/officeDocument/2006/relationships/hyperlink" Target="http://ru.wikipedia.org/wiki/&#1053;&#1072;&#1091;&#1095;&#1085;&#1099;&#1081;_&#1084;&#1077;&#1090;&#1086;&#1076;" TargetMode="Externa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8;&#1077;&#1082;&#1090;&#1080;&#1074;&#1085;&#1072;&#1103;_&#1088;&#1077;&#1072;&#1083;&#1100;&#1085;&#1086;&#1089;&#1090;&#1100;" TargetMode="External"/><Relationship Id="rId2" Type="http://schemas.openxmlformats.org/officeDocument/2006/relationships/hyperlink" Target="http://ru.wikipedia.org/wiki/&#1052;&#1077;&#1090;&#1086;&#1076;&#1086;&#1083;&#1086;&#1075;&#1080;&#1103;_&#1085;&#1072;&#1091;&#1082;&#1080;" TargetMode="External"/><Relationship Id="rId3" Type="http://schemas.openxmlformats.org/officeDocument/2006/relationships/hyperlink" Target="http://ru.wikipedia.org/wiki/&#1053;&#1072;&#1091;&#1095;&#1085;&#1099;&#1081;_&#1084;&#1077;&#1090;&#1086;&#1076;" TargetMode="External"/><Relationship Id="rId4" Type="http://schemas.openxmlformats.org/officeDocument/2006/relationships/hyperlink" Target="http://ru.wikipedia.org/wiki/&#1040;&#1073;&#1089;&#1090;&#1088;&#1072;&#1082;&#1094;&#1080;&#1103;" TargetMode="External"/><Relationship Id="rId5" Type="http://schemas.openxmlformats.org/officeDocument/2006/relationships/hyperlink" Target="http://ru.wikipedia.org/wiki/&#1043;&#1080;&#1087;&#1086;&#1090;&#1077;&#1079;&#1072;" TargetMode="External"/><Relationship Id="rId6" Type="http://schemas.openxmlformats.org/officeDocument/2006/relationships/hyperlink" Target="http://ru.wikipedia.org/wiki/&#1058;&#1077;&#1086;&#1088;&#1080;&#1103;" TargetMode="External"/><Relationship Id="rId7" Type="http://schemas.openxmlformats.org/officeDocument/2006/relationships/hyperlink" Target="http://ru.wikipedia.org/wiki/&#1044;&#1077;&#1076;&#1091;&#1082;&#1094;&#1080;&#1103;" TargetMode="External"/><Relationship Id="rId8" Type="http://schemas.openxmlformats.org/officeDocument/2006/relationships/hyperlink" Target="http://ru.wikipedia.org/wiki/&#1048;&#1085;&#1076;&#1091;&#1082;&#1090;&#1080;&#1074;&#1085;&#1086;&#1077;_&#1091;&#1084;&#1086;&#1079;&#1072;&#1082;&#1083;&#1102;&#1095;&#1077;&#1085;&#1080;&#1077;" TargetMode="External"/><Relationship Id="rId9" Type="http://schemas.openxmlformats.org/officeDocument/2006/relationships/hyperlink" Target="http://ru.wikipedia.org/wiki/&#1051;&#1086;&#1075;&#1080;&#1082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91;&#1085;&#1076;&#1072;&#1084;&#1077;&#1085;&#1090;&#1072;&#1083;&#1100;&#1085;&#1086;&#1089;&#1090;&#1100;&amp;action=edit&amp;redlink=1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8;&#1077;&#1093;&#1085;&#1086;&#1083;&#1086;&#1075;&#1080;&#1103;" TargetMode="External"/><Relationship Id="rId4" Type="http://schemas.openxmlformats.org/officeDocument/2006/relationships/hyperlink" Target="http://ru.wikipedia.org/wiki/&#1053;&#1048;&#1054;&#1050;&#1056;" TargetMode="External"/><Relationship Id="rId5" Type="http://schemas.openxmlformats.org/officeDocument/2006/relationships/hyperlink" Target="http://ru.wikipedia.org/wiki/&#1055;&#1088;&#1086;&#1080;&#1079;&#1074;&#1086;&#1076;&#1089;&#1090;&#1074;&#1086;" TargetMode="External"/><Relationship Id="rId6" Type="http://schemas.openxmlformats.org/officeDocument/2006/relationships/hyperlink" Target="http://ru.wikipedia.org/wiki/&#1053;&#1072;&#1091;&#1095;&#1085;&#1086;-&#1090;&#1077;&#1093;&#1085;&#1080;&#1095;&#1077;&#1089;&#1082;&#1072;&#1103;_&#1088;&#1077;&#1074;&#1086;&#1083;&#1102;&#1094;&#1080;&#1103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X_&#1074;&#1077;&#1082;" TargetMode="External"/><Relationship Id="rId2" Type="http://schemas.openxmlformats.org/officeDocument/2006/relationships/hyperlink" Target="http://ru.wikipedia.org/wiki/&#1053;&#1072;&#1091;&#1082;&#1072;" TargetMode="External"/><Relationship Id="rId3" Type="http://schemas.openxmlformats.org/officeDocument/2006/relationships/hyperlink" Target="http://ru.wikipedia.org/wiki/&#1048;&#1085;&#1076;&#1091;&#1089;&#1090;&#1088;&#1080;&#1072;&#1083;&#1100;&#1085;&#1086;&#1077;_&#1086;&#1073;&#1097;&#1077;&#1089;&#1090;&#1074;&#1086;" TargetMode="External"/><Relationship Id="rId4" Type="http://schemas.openxmlformats.org/officeDocument/2006/relationships/hyperlink" Target="http://ru.wikipedia.org/wiki/&#1055;&#1086;&#1089;&#1090;&#1080;&#1085;&#1076;&#1091;&#1089;&#1090;&#1088;&#1080;&#1072;&#1083;&#1100;&#1085;&#1086;&#1077;_&#1086;&#1073;&#1097;&#1077;&#1089;&#1090;&#1074;&#1086;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3;&#1072;&#1091;&#1082;&#1072;" TargetMode="External"/><Relationship Id="rId4" Type="http://schemas.openxmlformats.org/officeDocument/2006/relationships/hyperlink" Target="http://ru.wikipedia.org/wiki/&#1050;&#1091;&#1083;&#1100;&#1090;&#1091;&#1088;&#1085;&#1099;&#1077;_&#1094;&#1077;&#1085;&#1085;&#1086;&#1089;&#1090;&#1080;" TargetMode="External"/><Relationship Id="rId5" Type="http://schemas.openxmlformats.org/officeDocument/2006/relationships/hyperlink" Target="http://ru.wikipedia.org/wiki/&#1060;&#1080;&#1079;&#1080;&#1082;&#1072;" TargetMode="External"/><Relationship Id="rId6" Type="http://schemas.openxmlformats.org/officeDocument/2006/relationships/hyperlink" Target="http://ru.wikipedia.org/wiki/&#1052;&#1072;&#1090;&#1077;&#1084;&#1072;&#1090;&#1080;&#1082;&#1072;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0;&#1080;&#1083;&#1086;&#1089;&#1086;&#1092;&#1080;&#1103;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9"/>
          <p:cNvSpPr/>
          <p:nvPr/>
        </p:nvSpPr>
        <p:spPr>
          <a:xfrm>
            <a:off x="0" y="-205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6" descr="%D0%BD%D0%B0%D1%83%D0%BA%D0%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АУ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22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1" descr="Наука"/>
          <p:cNvPicPr/>
          <p:nvPr/>
        </p:nvPicPr>
        <p:blipFill>
          <a:blip r:embed="rId1"/>
          <a:stretch/>
        </p:blipFill>
        <p:spPr>
          <a:xfrm>
            <a:off x="457200" y="1994040"/>
            <a:ext cx="4038480" cy="3736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225px-Empedokles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5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Две конформации одной и той же полимерной цепи - клубок и глобула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legro BT"/>
              </a:rPr>
              <a:t>Определения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0" y="-20520"/>
            <a:ext cx="250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" descr="Наука и образование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460836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АЯ КАРТИНА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цессе развития науки происходит постоянное обновлени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зн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ид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онцепц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более ранние представления становятс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частными случая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ов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еор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ая картина мира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догм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абсолютная исти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ые представления об окружающем мире основаны на всей совокупност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доказанных фак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установле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причинно-следственных связ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что позволяет с определённой степенью уверенности делать способствующие развитию челове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цивилиза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заключения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рогноз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реальности. В таком развитии — суть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научного мет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Й МЕТ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8243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метный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ъектив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ставления о науке и научном методе 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етодология нау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 временем менялис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3280" y="206028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труктуру современного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научного мет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о есть способа построения новых знаний, вход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абстра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общение (синтез) и формулирован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гипотез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теор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ноз: формулирование следствий из предложенной гипотезы или принятой теории с помощью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е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ин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ли других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огически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метод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Фундаменталь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фундаментальность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лат.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fundare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иклад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технологий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Научно-исследовательские и опытно-конструкторские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НИОКР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 — здесь соединяется наука 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производством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, тем самым обеспечивая как научные, так и технические и инженерные проработки данного проекта. Иногда полученные результаты могут привести к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научно-технической революци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0" descr="научная деятельность"/>
          <p:cNvPicPr/>
          <p:nvPr/>
        </p:nvPicPr>
        <p:blipFill>
          <a:blip r:embed="rId7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́чно-техни́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узком смысле — коренная перестройка технических основ материального производства, начавшееся в середин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XX 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основе превращен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едущий фактор производства, в результате которого происходит трансформац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индустриального 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остиндустр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иенти́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cienti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общее название идейной позиции, представляющ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чное 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высш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ультурной цен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сновополагающим фактором взаимодействия человека с миром. Нередко сциентисты считают «образцовыми науками»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из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темат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Сциентизм и антисциентизм"/>
          <p:cNvPicPr/>
          <p:nvPr/>
        </p:nvPicPr>
        <p:blipFill>
          <a:blip r:embed="rId1"/>
          <a:stretch/>
        </p:blipFill>
        <p:spPr>
          <a:xfrm>
            <a:off x="789120" y="1600200"/>
            <a:ext cx="33750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1" descr="Сциентизм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nt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против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знания) —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илософс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29:26Z</dcterms:created>
  <dc:creator>victor</dc:creator>
  <dc:description/>
  <dc:language>en-US</dc:language>
  <cp:lastModifiedBy>Legion</cp:lastModifiedBy>
  <dcterms:modified xsi:type="dcterms:W3CDTF">2017-09-22T10:35:50Z</dcterms:modified>
  <cp:revision>5</cp:revision>
  <dc:subject/>
  <dc:title>Слайд 1</dc:title>
</cp:coreProperties>
</file>