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3AE7-BCAD-4EF5-A48B-6C0E1A41EC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ения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МЕТ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28B-B617-4FAD-9335-B469FD9E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30F-4082-46C1-AC59-9DB907A4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F57-57B7-4538-8221-E98232CF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CDB-2E05-4A58-B0B6-CB3AB71D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49B0-EEED-4B20-AD19-0233EA86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0AAE-0345-4B9A-8D88-9EFCD5E2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C210-E7EF-4285-A84F-5CF10F95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FC0E-D8E8-41D0-942F-CC01637C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1022-A1F4-49F0-88F0-FB9855B6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74C4-83B6-43DA-9136-2A9057F3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E147-B724-450A-B00C-D9AC0612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68E-E8C8-46F7-BCCD-535A0E1D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1B18-291C-42F7-B348-C4817199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C69A-1CFA-4839-B667-C0279FE5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BA85-FCE3-4906-B19F-7431E7CD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18AE-705E-4EF5-A69A-57A6C9A6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8829-2A38-40C7-800D-853B98F6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0DF6-9FE7-403F-BA1B-D6118F01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E7585-6356-4A0D-B487-E436A670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D7FD-5BC1-4AF1-827A-E1F502CA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3A5A-C256-40A3-B561-B132DEE7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A751-F63A-43F7-8931-039907E1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39C-C900-4B7B-992D-89D04C37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E0C4-61BC-4283-9A1F-488563C6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037E-A988-4C40-973F-9AD5552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E7F2-94A8-47DB-9511-55B503BC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AE40-BA75-4A89-8E1A-CD37215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654E-46B0-492A-9E8E-D52B0CE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61A6-CF5D-4F10-9675-5AF3F082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F9CE-6536-42F6-AA25-CD3C05F9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780B6E-1E8C-4C4B-8C92-09C8B0F0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5BA92-571A-404E-9A76-518CD78A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46C75-B90F-4CE6-916C-9F80B95C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6E0-8B2C-44ED-80ED-8AF016BA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F40D1-9395-4A70-AE6D-D53D023D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D53F5-F191-439A-A1E9-EC833AF3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54438-111B-4595-801D-4ABD3106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E7DFE-8E61-48A8-8F9A-7CA255E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22A1A-29A7-4C68-B9E5-A049FBE8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4F321-223C-4E48-8233-092E611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17D3D-CE99-46CC-86F3-40D88330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2764A-9DE4-4D53-B704-FF9BCBAB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8FA04-2674-48D9-83C6-0409FAB6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E52D7-375B-44B6-A0AE-37880264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D0C-5F44-44CA-9637-8A84436E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B451-EEA4-4FE6-86C8-CE0ADEA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945E-5979-4B1F-887E-2DA368B3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3737-4672-412D-A11E-E2C35D54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91461-3E03-43FC-8BCD-800228DD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0D9D-A3A5-4250-8835-911C22F0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E572-3877-421E-996C-60057AAF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2A6D4-74C2-4F09-8BD9-D50C6577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43FB-FF6C-4147-9D1C-9B2D970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C7967-6684-49E5-B117-FFB5201E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3490E-C778-4B92-978A-12FB4A13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7D9-43A6-414F-B1D3-0503F822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D5E2-8FBD-476B-B790-649F466B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92DE3-18B3-4FA4-BAE8-4C51806E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B81AD-DBC6-4C94-BD8E-6FDD6CA5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BA47-B95A-4DD4-89BD-607B0FBA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A9637-49AE-4E37-AB7D-256C5340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7D34A-F11C-4F0B-A6B3-A54CC0F9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C710D-F9B7-42FC-888C-5A42EB74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EBFDB-9E72-45D2-BE96-4F070C8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FECCD-7661-42AC-BBAB-051BEC3A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799F1-414C-4C71-B30C-08AA37D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1D3-D3FA-4866-AAA3-2E554B20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113CC-C4F0-4C83-B9AA-08710A5A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24580-DE11-47A9-84BB-941CC494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684E0-90A3-4CBC-B7B2-12BE854D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11B0-58F2-425A-8D55-831B546A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4BB9-A5E6-48BC-905B-B5F8B1EA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3DCCA-7142-431C-BB80-5BC1136E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927CB-0C4B-42D6-8ED1-674FEEE8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B4AD8-7E82-4C18-8FF4-C5E18B2C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06D50-EE4A-44B3-AA10-8DB5A66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466F3-0C40-48A2-A70C-D0234AB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E4A-8CA9-4F58-A791-D648F976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2F3D7-620B-4594-8BDB-3F38D6C6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E2FE9-9B63-47DF-958F-617B37F6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5548C-E883-47F9-90F4-D7813060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E4B2-35FA-41EA-A16E-A129FB31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ED200-086E-4DEC-885A-24CCB167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028-EB9F-49BD-A55D-66124DE3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9BA2-0602-40C2-B919-65AB0AF45E1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C0E-94FB-4A91-B52F-306A3046E4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ECCC-7E6B-4F5C-A24A-FA8EBA09855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0F10-C323-452E-8703-A8341B733C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CB24-1BD9-455E-9871-DD514C37E5C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F341-F98B-45C7-8064-0A4E329BC01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851E-0E3A-4948-9B49-A880312A27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5;&#1072;&#1085;&#1080;&#1077;" TargetMode="External"/><Relationship Id="rId2" Type="http://schemas.openxmlformats.org/officeDocument/2006/relationships/hyperlink" Target="http://ru.wikipedia.org/wiki/&#1048;&#1076;&#1077;&#1103;" TargetMode="External"/><Relationship Id="rId3" Type="http://schemas.openxmlformats.org/officeDocument/2006/relationships/hyperlink" Target="http://ru.wikipedia.org/wiki/&#1050;&#1086;&#1085;&#1094;&#1077;&#1087;&#1094;&#1080;&#1103;" TargetMode="External"/><Relationship Id="rId4" Type="http://schemas.openxmlformats.org/officeDocument/2006/relationships/hyperlink" Target="http://ru.wikipedia.org/w/index.php?title=&#1063;&#1072;&#1089;&#1090;&#1085;&#1099;&#1081;_&#1089;&#1083;&#1091;&#1095;&#1072;&#1081;&amp;action=edit&amp;redlink=1" TargetMode="External"/><Relationship Id="rId5" Type="http://schemas.openxmlformats.org/officeDocument/2006/relationships/hyperlink" Target="http://ru.wikipedia.org/wiki/&#1058;&#1077;&#1086;&#1088;&#1080;&#1103;" TargetMode="External"/><Relationship Id="rId6" Type="http://schemas.openxmlformats.org/officeDocument/2006/relationships/hyperlink" Target="http://ru.wikipedia.org/wiki/&#1044;&#1086;&#1075;&#1084;&#1072;&#1090;" TargetMode="External"/><Relationship Id="rId7" Type="http://schemas.openxmlformats.org/officeDocument/2006/relationships/hyperlink" Target="http://ru.wikipedia.org/wiki/&#1040;&#1073;&#1089;&#1086;&#1083;&#1102;&#1090;&#1085;&#1072;&#1103;_&#1080;&#1089;&#1090;&#1080;&#1085;&#1072;" TargetMode="External"/><Relationship Id="rId8" Type="http://schemas.openxmlformats.org/officeDocument/2006/relationships/hyperlink" Target="http://ru.wikipedia.org/wiki/&#1044;&#1086;&#1082;&#1072;&#1079;&#1072;&#1085;&#1085;&#1099;&#1081;_&#1092;&#1072;&#1082;&#1090;" TargetMode="External"/><Relationship Id="rId9" Type="http://schemas.openxmlformats.org/officeDocument/2006/relationships/hyperlink" Target="http://ru.wikipedia.org/wiki/&#1055;&#1088;&#1080;&#1095;&#1080;&#1085;&#1085;&#1086;-&#1089;&#1083;&#1077;&#1076;&#1089;&#1090;&#1074;&#1077;&#1085;&#1085;&#1072;&#1103;_&#1089;&#1074;&#1103;&#1079;&#1100;" TargetMode="External"/><Relationship Id="rId10" Type="http://schemas.openxmlformats.org/officeDocument/2006/relationships/hyperlink" Target="http://ru.wikipedia.org/wiki/&#1062;&#1080;&#1074;&#1080;&#1083;&#1080;&#1079;&#1072;&#1094;&#1080;&#1103;" TargetMode="External"/><Relationship Id="rId11" Type="http://schemas.openxmlformats.org/officeDocument/2006/relationships/hyperlink" Target="http://ru.wikipedia.org/wiki/&#1055;&#1088;&#1086;&#1075;&#1085;&#1086;&#1079;" TargetMode="External"/><Relationship Id="rId12" Type="http://schemas.openxmlformats.org/officeDocument/2006/relationships/hyperlink" Target="http://ru.wikipedia.org/wiki/&#1053;&#1072;&#1091;&#1095;&#1085;&#1099;&#1081;_&#1084;&#1077;&#1090;&#1086;&#1076;" TargetMode="Externa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8;&#1077;&#1082;&#1090;&#1080;&#1074;&#1085;&#1072;&#1103;_&#1088;&#1077;&#1072;&#1083;&#1100;&#1085;&#1086;&#1089;&#1090;&#1100;" TargetMode="External"/><Relationship Id="rId2" Type="http://schemas.openxmlformats.org/officeDocument/2006/relationships/hyperlink" Target="http://ru.wikipedia.org/wiki/&#1052;&#1077;&#1090;&#1086;&#1076;&#1086;&#1083;&#1086;&#1075;&#1080;&#1103;_&#1085;&#1072;&#1091;&#1082;&#1080;" TargetMode="External"/><Relationship Id="rId3" Type="http://schemas.openxmlformats.org/officeDocument/2006/relationships/hyperlink" Target="http://ru.wikipedia.org/wiki/&#1053;&#1072;&#1091;&#1095;&#1085;&#1099;&#1081;_&#1084;&#1077;&#1090;&#1086;&#1076;" TargetMode="External"/><Relationship Id="rId4" Type="http://schemas.openxmlformats.org/officeDocument/2006/relationships/hyperlink" Target="http://ru.wikipedia.org/wiki/&#1040;&#1073;&#1089;&#1090;&#1088;&#1072;&#1082;&#1094;&#1080;&#1103;" TargetMode="External"/><Relationship Id="rId5" Type="http://schemas.openxmlformats.org/officeDocument/2006/relationships/hyperlink" Target="http://ru.wikipedia.org/wiki/&#1043;&#1080;&#1087;&#1086;&#1090;&#1077;&#1079;&#1072;" TargetMode="External"/><Relationship Id="rId6" Type="http://schemas.openxmlformats.org/officeDocument/2006/relationships/hyperlink" Target="http://ru.wikipedia.org/wiki/&#1058;&#1077;&#1086;&#1088;&#1080;&#1103;" TargetMode="External"/><Relationship Id="rId7" Type="http://schemas.openxmlformats.org/officeDocument/2006/relationships/hyperlink" Target="http://ru.wikipedia.org/wiki/&#1044;&#1077;&#1076;&#1091;&#1082;&#1094;&#1080;&#1103;" TargetMode="External"/><Relationship Id="rId8" Type="http://schemas.openxmlformats.org/officeDocument/2006/relationships/hyperlink" Target="http://ru.wikipedia.org/wiki/&#1048;&#1085;&#1076;&#1091;&#1082;&#1090;&#1080;&#1074;&#1085;&#1086;&#1077;_&#1091;&#1084;&#1086;&#1079;&#1072;&#1082;&#1083;&#1102;&#1095;&#1077;&#1085;&#1080;&#1077;" TargetMode="External"/><Relationship Id="rId9" Type="http://schemas.openxmlformats.org/officeDocument/2006/relationships/hyperlink" Target="http://ru.wikipedia.org/wiki/&#1051;&#1086;&#1075;&#1080;&#1082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91;&#1085;&#1076;&#1072;&#1084;&#1077;&#1085;&#1090;&#1072;&#1083;&#1100;&#1085;&#1086;&#1089;&#1090;&#1100;&amp;action=edit&amp;redlink=1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8;&#1077;&#1093;&#1085;&#1086;&#1083;&#1086;&#1075;&#1080;&#1103;" TargetMode="External"/><Relationship Id="rId4" Type="http://schemas.openxmlformats.org/officeDocument/2006/relationships/hyperlink" Target="http://ru.wikipedia.org/wiki/&#1053;&#1048;&#1054;&#1050;&#1056;" TargetMode="External"/><Relationship Id="rId5" Type="http://schemas.openxmlformats.org/officeDocument/2006/relationships/hyperlink" Target="http://ru.wikipedia.org/wiki/&#1055;&#1088;&#1086;&#1080;&#1079;&#1074;&#1086;&#1076;&#1089;&#1090;&#1074;&#1086;" TargetMode="External"/><Relationship Id="rId6" Type="http://schemas.openxmlformats.org/officeDocument/2006/relationships/hyperlink" Target="http://ru.wikipedia.org/wiki/&#1053;&#1072;&#1091;&#1095;&#1085;&#1086;-&#1090;&#1077;&#1093;&#1085;&#1080;&#1095;&#1077;&#1089;&#1082;&#1072;&#1103;_&#1088;&#1077;&#1074;&#1086;&#1083;&#1102;&#1094;&#1080;&#1103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X_&#1074;&#1077;&#1082;" TargetMode="External"/><Relationship Id="rId2" Type="http://schemas.openxmlformats.org/officeDocument/2006/relationships/hyperlink" Target="http://ru.wikipedia.org/wiki/&#1053;&#1072;&#1091;&#1082;&#1072;" TargetMode="External"/><Relationship Id="rId3" Type="http://schemas.openxmlformats.org/officeDocument/2006/relationships/hyperlink" Target="http://ru.wikipedia.org/wiki/&#1048;&#1085;&#1076;&#1091;&#1089;&#1090;&#1088;&#1080;&#1072;&#1083;&#1100;&#1085;&#1086;&#1077;_&#1086;&#1073;&#1097;&#1077;&#1089;&#1090;&#1074;&#1086;" TargetMode="External"/><Relationship Id="rId4" Type="http://schemas.openxmlformats.org/officeDocument/2006/relationships/hyperlink" Target="http://ru.wikipedia.org/wiki/&#1055;&#1086;&#1089;&#1090;&#1080;&#1085;&#1076;&#1091;&#1089;&#1090;&#1088;&#1080;&#1072;&#1083;&#1100;&#1085;&#1086;&#1077;_&#1086;&#1073;&#1097;&#1077;&#1089;&#1090;&#1074;&#1086;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3;&#1072;&#1091;&#1082;&#1072;" TargetMode="External"/><Relationship Id="rId4" Type="http://schemas.openxmlformats.org/officeDocument/2006/relationships/hyperlink" Target="http://ru.wikipedia.org/wiki/&#1050;&#1091;&#1083;&#1100;&#1090;&#1091;&#1088;&#1085;&#1099;&#1077;_&#1094;&#1077;&#1085;&#1085;&#1086;&#1089;&#1090;&#1080;" TargetMode="External"/><Relationship Id="rId5" Type="http://schemas.openxmlformats.org/officeDocument/2006/relationships/hyperlink" Target="http://ru.wikipedia.org/wiki/&#1060;&#1080;&#1079;&#1080;&#1082;&#1072;" TargetMode="External"/><Relationship Id="rId6" Type="http://schemas.openxmlformats.org/officeDocument/2006/relationships/hyperlink" Target="http://ru.wikipedia.org/wiki/&#1052;&#1072;&#1090;&#1077;&#1084;&#1072;&#1090;&#1080;&#1082;&#1072;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0;&#1080;&#1083;&#1086;&#1089;&#1086;&#1092;&#1080;&#1103;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9"/>
          <p:cNvSpPr/>
          <p:nvPr/>
        </p:nvSpPr>
        <p:spPr>
          <a:xfrm>
            <a:off x="0" y="-205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6" descr="%D0%BD%D0%B0%D1%83%D0%BA%D0%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АУ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22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1" descr="Наука"/>
          <p:cNvPicPr/>
          <p:nvPr/>
        </p:nvPicPr>
        <p:blipFill>
          <a:blip r:embed="rId1"/>
          <a:stretch/>
        </p:blipFill>
        <p:spPr>
          <a:xfrm>
            <a:off x="457200" y="1994040"/>
            <a:ext cx="4038480" cy="3736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225px-Empedokles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5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Две конформации одной и той же полимерной цепи - клубок и глобула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legro BT"/>
              </a:rPr>
              <a:t>Определения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0" y="-20520"/>
            <a:ext cx="250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" descr="Наука и образование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460836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АЯ КАРТИНА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цессе развития науки происходит постоянное обновлени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зн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ид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онцепц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более ранние представления становятс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частными случая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ов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еор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ая картина мира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догм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абсолютная исти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ые представления об окружающем мире основаны на всей совокупност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доказанных фак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установле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причинно-следственных связ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что позволяет с определённой степенью уверенности делать способствующие развитию челове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цивилиза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заключения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рогноз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реальности. В таком развитии — суть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научного мет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Й МЕТ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8243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метный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ъектив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ставления о науке и научном методе 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етодология нау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 временем менялис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3280" y="206028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труктуру современного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научного мет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о есть способа построения новых знаний, вход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абстра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общение (синтез) и формулирован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гипотез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теор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ноз: формулирование следствий из предложенной гипотезы или принятой теории с помощью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е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ин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ли других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огически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метод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Фундаменталь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фундаментальность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лат.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fundare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иклад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технологий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Научно-исследовательские и опытно-конструкторские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НИОКР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 — здесь соединяется наука 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производством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, тем самым обеспечивая как научные, так и технические и инженерные проработки данного проекта. Иногда полученные результаты могут привести к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научно-технической революци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0" descr="научная деятельность"/>
          <p:cNvPicPr/>
          <p:nvPr/>
        </p:nvPicPr>
        <p:blipFill>
          <a:blip r:embed="rId7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́чно-техни́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узком смысле — коренная перестройка технических основ материального производства, начавшееся в середин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XX 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основе превращен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едущий фактор производства, в результате которого происходит трансформац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индустриального 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остиндустр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иенти́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cienti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общее название идейной позиции, представляющ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чное 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высш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ультурной цен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сновополагающим фактором взаимодействия человека с миром. Нередко сциентисты считают «образцовыми науками»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из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темат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Сциентизм и антисциентизм"/>
          <p:cNvPicPr/>
          <p:nvPr/>
        </p:nvPicPr>
        <p:blipFill>
          <a:blip r:embed="rId1"/>
          <a:stretch/>
        </p:blipFill>
        <p:spPr>
          <a:xfrm>
            <a:off x="789120" y="1600200"/>
            <a:ext cx="33750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1" descr="Сциентизм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nt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против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знания) —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илософс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29:26Z</dcterms:created>
  <dc:creator>victor</dc:creator>
  <dc:description/>
  <dc:language>en-US</dc:language>
  <cp:lastModifiedBy>Legion</cp:lastModifiedBy>
  <dcterms:modified xsi:type="dcterms:W3CDTF">2017-09-22T10:35:50Z</dcterms:modified>
  <cp:revision>5</cp:revision>
  <dc:subject/>
  <dc:title>Слайд 1</dc:title>
</cp:coreProperties>
</file>