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9762-E153-48E8-9F81-EC367050C43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учреждения и организации, в которых осуществляется научный тру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ения 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учреждения и организации, в которых осуществляется научный труд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развития науки происходит постоянное обновление знаний, идей и концепций, более ранние представления становятся частными случаями новых теорий. Научная картина мира не догма и не абсолютная истина. Научные представления об окружающем мире основаны на всей совокупности доказанных фактов и установленных причинно-следственных связей, что позволяет с определённой степенью уверенности делать способствующие развитию человеческой цивилизации заключения и прогнозы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 реальности. В таком развитии — суть научного мет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АЯ КАРТИН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цессе развития науки происходит постоянное обновление знаний, идей и концепций, более ранние представления становятся частными случаями новых теорий. Научная картина мира не догма и не абсолютная истина. Научные представления об окружающем мире основаны на всей совокупности доказанных фактов и установленных причинно-следственных связей, что позволяет с определённой степенью уверенности делать способствующие развитию человеческой цивилизации заключения и прогнозы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 реальности. В таком развитии — суть научного мет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ый и объективный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я о науке и научном методе — методология науки, со временем меня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у современного научного метода, то есть способа построения новых знаний, входя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абстра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(синтез) и формулирование гипотез, тео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: формулирование следствий из предложенной гипотезы или принятой теории с помощью дедукции, индукции или других логических мет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ЫЙ МЕТ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ный и объективный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ставления о науке и научном методе — методология науки, со временем менялис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труктуру современного научного метода, то есть способа построения новых знаний, входя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абстрак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бщение (синтез) и формулирование гипотез, теор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: формулирование следствий из предложенной гипотезы или принятой теории с помощью дедукции, индукции или других логических метод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новных направления в научных исследов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даментальные научные исследования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фундаментальность (лат. fundare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ые научные исследования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технолог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ие и опытно-конструкторские разработки (НИОКР) — здесь соединяется наука с производством, тем самым обеспечивая как научные, так и технические и инженерные проработки данного проекта. Иногда полученные результаты могут привести к научно-технической револю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основных направления в научных исследования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даментальные научные исследования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фундаментальность (лат. fundare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ладные научные исследования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технолог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о-исследовательские и опытно-конструкторские разработки (НИОКР) — здесь соединяется наука с производством, тем самым обеспечивая как научные, так и технические и инженерные проработки данного проекта. Иногда полученные результаты могут привести к научно-технической револю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́чно-техни́ческая революция (НТР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техническая революция в узком смысле — коренная перестройка технических основ материального производства, начавшееся в середине XX в., на основе превращения науки в ведущий фактор производства, в результате которого происходит трансформация индустриального общества в постиндустриаль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Т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́чно-техни́ческая революция (НТР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о-техническая революция в узком смысле — коренная перестройка технических основ материального производства, начавшееся в середине XX в., на основе превращения науки в ведущий фактор производства, в результате которого происходит трансформация индустриального общества в постиндустриально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иен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иенти́зм (фр. scientisme, от лат. scientia — наука, знание) — общее название идейной позиции, представляющей научное знание наивысшей культурной ценностью и основополагающим фактором взаимодействия человека с миром. Нередко сциентисты считают «образцовыми науками» физику или математику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циент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циенти́зм (фр. scientisme, от лат. scientia — наука, знание) — общее название идейной позиции, представляющей научное знание наивысшей культурной ценностью и основополагающим фактором взаимодействия человека с миром. Нередко сциентисты считают «образцовыми науками» физику или математику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циен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циент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сциенти́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сциенти́зм (от греч. anti- — против и лат. scientia — знания) — философско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ие виды антисциентизма базировались на отличных от науки формах сознания, таких как религия, искусство, нрав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сциенти́зм (от греч. anti- — против и лат. scientia — знания) — философско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нние виды антисциентизма базировались на отличных от науки формах сознания, таких как религия, искусство, нравственност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4A9-FCEE-49F7-986C-26E7DD86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591-C763-413E-95A1-81BAADB4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5D9-045A-4BA2-85B3-F2DCB39F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2D2-B681-48EA-B16D-DC9DF14F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C67C-2878-4812-8CE6-63D88F86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140D-E60D-4211-BEB3-DD597631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6D5E-1969-4F3A-B065-239A1A79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25D1-F49F-46F5-AB91-D54F26D9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C323-CFEA-4CC1-8855-DF3B0356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2632-6C73-4E74-84BE-90EA5300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425D-173C-4A82-84B7-2D948F5E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2886-E59C-4C91-9F86-C45BEB64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663A-7209-48B0-81E0-D68BD485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2ED2-496C-4D20-9450-49FF52D6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B3DC-0E46-41BF-8D81-E4963517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F2AF-BB9F-4128-8250-45F037B2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7856-A566-417E-8825-E2459734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1EB14-A07D-4FD8-ADA9-D680B93C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E5BA4-F3C0-4AA5-9A7B-F40F0599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B697D-0333-4C1D-9898-760D03F6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EC413-F2C6-4E03-B9E3-34815776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567D4-B063-4866-9787-C7CD1693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5A4-9C2C-47FA-A08C-DBD2718A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CF2CB-8DCD-4DCE-B322-3F03955E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7CDDB-01DC-4438-B3D8-442AA310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68843-7768-4327-9C72-76A75A5B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25927-F028-4E0D-86B5-166C3C0D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88C7E-0B33-4ADF-AF2E-39E31AAC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CF8AC-1649-45B3-BB10-5C552838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B3CE5-355F-4C3D-B1B3-8F7AD3D8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632226-999B-43D3-A53A-A3062786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6DB2FD-830D-4215-A033-5AC94759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D51240-318E-4362-A775-BED09853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9F5-F06F-445F-9D21-256C5384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72473A-F835-4A79-BE6C-394BD163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A838B5-FED0-434F-AB3D-9C1BC3E5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D4B8D6-8863-4FD2-9CE5-7835061B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3218EF-DD6E-4260-8245-C9DFEF3F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A27E66-5EF5-449D-815B-1E64E413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5C3612-7944-4A11-A404-8473FFC1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56241A-CA75-4593-A56E-9D7DD54D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19B460-5EDC-4D1E-825E-76994938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459142-FF3E-4E82-BA5F-D339E943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DBFCB-0782-4D62-9ECF-B7622C67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001-6C3D-4541-9928-C307A19E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9F3A5-7BE9-4469-8DB7-3EACA839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950DD-8700-4039-8EB0-A0BA0B77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5A5FF-70D3-4E5A-9BF2-B97BD73B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8373E-CD7F-4FA7-B99D-920270AE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F03F1-0D53-4FC7-978F-AFB2B634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0F4D4-8F08-4C17-885F-83A7D2E9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B79E0-4109-4088-8086-76516ABA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F1FCD-6940-40D5-B747-228D8B12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624D6-826C-4216-B7D8-107C7D08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406FC-58BD-4604-BB6F-5D9A784F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10D-95F9-4670-A24D-5DAC94E4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B4415-147F-4E87-B7FE-46DDED3A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36E56-EFDA-4F57-897E-1AA2BAC9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25B3D-54FF-4122-90DD-B4A0A383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D2991-33DC-49F2-85F2-27A5DB63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DE7CF-46C9-4629-9B35-2BCAA698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0BB35-3732-4277-A29E-8AF40C18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8D423-AF2E-4DE1-9A5E-F99A8FDD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9DCE8-5F23-42C7-8AC2-D1C3363B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93A54-BFB6-4824-AC0E-CCA5E51F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1995F-AFB1-46DE-A4E7-D520D359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06C-16A9-4A3E-A196-EE50113F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DC791-D223-49D1-B314-A6A39719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080AE-434F-460C-B571-460331D3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731EF-0155-41EA-9441-06C8CA14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78794-5F11-413E-8F45-AC16E903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9F4B4-0014-415F-ADD2-9605A460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8946C-60C5-4D8C-9D3E-CA8594EE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05A5C-214B-49B0-9B73-4EDDE66B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974F6-F6AB-4018-ABD1-2BBA84A1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16E4B-4320-439D-AE11-D065637A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B67EF-437D-4CF2-BEB7-9C17FE7A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AEB2-C265-471B-B240-4F0ED065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4753E-8127-48C9-84B2-67EC3D8E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06938-BD33-4066-AD12-50A6FE8D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D54E4-00ED-41D3-A4AD-D2AE3BD5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C71BF-B3B8-45B7-AC0D-4432F914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35935-4D04-42EE-82C0-DCAE07BE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77C-8BBD-4BC1-A6A3-E40DC5EB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45C0-D7D2-40B0-8E90-35D5E629E90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164A-9E6F-4F0F-AA61-46CC895FD4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7BF2-5B69-4649-B9A5-55D5752AD39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CBC3-5A72-4686-84BF-3F691052EB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8960-36BD-4A81-8D44-77AD9996D70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2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2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5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8BB3-2B4F-4B29-8071-5649C67A4D8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24B5-D5B5-4949-9977-FED120A461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85;&#1072;&#1085;&#1080;&#1077;" TargetMode="External"/><Relationship Id="rId2" Type="http://schemas.openxmlformats.org/officeDocument/2006/relationships/hyperlink" Target="http://ru.wikipedia.org/wiki/&#1048;&#1076;&#1077;&#1103;" TargetMode="External"/><Relationship Id="rId3" Type="http://schemas.openxmlformats.org/officeDocument/2006/relationships/hyperlink" Target="http://ru.wikipedia.org/wiki/&#1050;&#1086;&#1085;&#1094;&#1077;&#1087;&#1094;&#1080;&#1103;" TargetMode="External"/><Relationship Id="rId4" Type="http://schemas.openxmlformats.org/officeDocument/2006/relationships/hyperlink" Target="http://ru.wikipedia.org/w/index.php?title=&#1063;&#1072;&#1089;&#1090;&#1085;&#1099;&#1081;_&#1089;&#1083;&#1091;&#1095;&#1072;&#1081;&amp;action=edit&amp;redlink=1" TargetMode="External"/><Relationship Id="rId5" Type="http://schemas.openxmlformats.org/officeDocument/2006/relationships/hyperlink" Target="http://ru.wikipedia.org/wiki/&#1058;&#1077;&#1086;&#1088;&#1080;&#1103;" TargetMode="External"/><Relationship Id="rId6" Type="http://schemas.openxmlformats.org/officeDocument/2006/relationships/hyperlink" Target="http://ru.wikipedia.org/wiki/&#1044;&#1086;&#1075;&#1084;&#1072;&#1090;" TargetMode="External"/><Relationship Id="rId7" Type="http://schemas.openxmlformats.org/officeDocument/2006/relationships/hyperlink" Target="http://ru.wikipedia.org/wiki/&#1040;&#1073;&#1089;&#1086;&#1083;&#1102;&#1090;&#1085;&#1072;&#1103;_&#1080;&#1089;&#1090;&#1080;&#1085;&#1072;" TargetMode="External"/><Relationship Id="rId8" Type="http://schemas.openxmlformats.org/officeDocument/2006/relationships/hyperlink" Target="http://ru.wikipedia.org/wiki/&#1044;&#1086;&#1082;&#1072;&#1079;&#1072;&#1085;&#1085;&#1099;&#1081;_&#1092;&#1072;&#1082;&#1090;" TargetMode="External"/><Relationship Id="rId9" Type="http://schemas.openxmlformats.org/officeDocument/2006/relationships/hyperlink" Target="http://ru.wikipedia.org/wiki/&#1055;&#1088;&#1080;&#1095;&#1080;&#1085;&#1085;&#1086;-&#1089;&#1083;&#1077;&#1076;&#1089;&#1090;&#1074;&#1077;&#1085;&#1085;&#1072;&#1103;_&#1089;&#1074;&#1103;&#1079;&#1100;" TargetMode="External"/><Relationship Id="rId10" Type="http://schemas.openxmlformats.org/officeDocument/2006/relationships/hyperlink" Target="http://ru.wikipedia.org/wiki/&#1062;&#1080;&#1074;&#1080;&#1083;&#1080;&#1079;&#1072;&#1094;&#1080;&#1103;" TargetMode="External"/><Relationship Id="rId11" Type="http://schemas.openxmlformats.org/officeDocument/2006/relationships/hyperlink" Target="http://ru.wikipedia.org/wiki/&#1055;&#1088;&#1086;&#1075;&#1085;&#1086;&#1079;" TargetMode="External"/><Relationship Id="rId12" Type="http://schemas.openxmlformats.org/officeDocument/2006/relationships/hyperlink" Target="http://ru.wikipedia.org/wiki/&#1053;&#1072;&#1091;&#1095;&#1085;&#1099;&#1081;_&#1084;&#1077;&#1090;&#1086;&#1076;" TargetMode="External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8;&#1077;&#1082;&#1090;&#1080;&#1074;&#1085;&#1072;&#1103;_&#1088;&#1077;&#1072;&#1083;&#1100;&#1085;&#1086;&#1089;&#1090;&#1100;" TargetMode="External"/><Relationship Id="rId2" Type="http://schemas.openxmlformats.org/officeDocument/2006/relationships/hyperlink" Target="http://ru.wikipedia.org/wiki/&#1052;&#1077;&#1090;&#1086;&#1076;&#1086;&#1083;&#1086;&#1075;&#1080;&#1103;_&#1085;&#1072;&#1091;&#1082;&#1080;" TargetMode="External"/><Relationship Id="rId3" Type="http://schemas.openxmlformats.org/officeDocument/2006/relationships/hyperlink" Target="http://ru.wikipedia.org/wiki/&#1053;&#1072;&#1091;&#1095;&#1085;&#1099;&#1081;_&#1084;&#1077;&#1090;&#1086;&#1076;" TargetMode="External"/><Relationship Id="rId4" Type="http://schemas.openxmlformats.org/officeDocument/2006/relationships/hyperlink" Target="http://ru.wikipedia.org/wiki/&#1040;&#1073;&#1089;&#1090;&#1088;&#1072;&#1082;&#1094;&#1080;&#1103;" TargetMode="External"/><Relationship Id="rId5" Type="http://schemas.openxmlformats.org/officeDocument/2006/relationships/hyperlink" Target="http://ru.wikipedia.org/wiki/&#1043;&#1080;&#1087;&#1086;&#1090;&#1077;&#1079;&#1072;" TargetMode="External"/><Relationship Id="rId6" Type="http://schemas.openxmlformats.org/officeDocument/2006/relationships/hyperlink" Target="http://ru.wikipedia.org/wiki/&#1058;&#1077;&#1086;&#1088;&#1080;&#1103;" TargetMode="External"/><Relationship Id="rId7" Type="http://schemas.openxmlformats.org/officeDocument/2006/relationships/hyperlink" Target="http://ru.wikipedia.org/wiki/&#1044;&#1077;&#1076;&#1091;&#1082;&#1094;&#1080;&#1103;" TargetMode="External"/><Relationship Id="rId8" Type="http://schemas.openxmlformats.org/officeDocument/2006/relationships/hyperlink" Target="http://ru.wikipedia.org/wiki/&#1048;&#1085;&#1076;&#1091;&#1082;&#1090;&#1080;&#1074;&#1085;&#1086;&#1077;_&#1091;&#1084;&#1086;&#1079;&#1072;&#1082;&#1083;&#1102;&#1095;&#1077;&#1085;&#1080;&#1077;" TargetMode="External"/><Relationship Id="rId9" Type="http://schemas.openxmlformats.org/officeDocument/2006/relationships/hyperlink" Target="http://ru.wikipedia.org/wiki/&#1051;&#1086;&#1075;&#1080;&#1082;&#1072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91;&#1085;&#1076;&#1072;&#1084;&#1077;&#1085;&#1090;&#1072;&#1083;&#1100;&#1085;&#1086;&#1089;&#1090;&#1100;&amp;action=edit&amp;redlink=1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58;&#1077;&#1093;&#1085;&#1086;&#1083;&#1086;&#1075;&#1080;&#1103;" TargetMode="External"/><Relationship Id="rId4" Type="http://schemas.openxmlformats.org/officeDocument/2006/relationships/hyperlink" Target="http://ru.wikipedia.org/wiki/&#1053;&#1048;&#1054;&#1050;&#1056;" TargetMode="External"/><Relationship Id="rId5" Type="http://schemas.openxmlformats.org/officeDocument/2006/relationships/hyperlink" Target="http://ru.wikipedia.org/wiki/&#1055;&#1088;&#1086;&#1080;&#1079;&#1074;&#1086;&#1076;&#1089;&#1090;&#1074;&#1086;" TargetMode="External"/><Relationship Id="rId6" Type="http://schemas.openxmlformats.org/officeDocument/2006/relationships/hyperlink" Target="http://ru.wikipedia.org/wiki/&#1053;&#1072;&#1091;&#1095;&#1085;&#1086;-&#1090;&#1077;&#1093;&#1085;&#1080;&#1095;&#1077;&#1089;&#1082;&#1072;&#1103;_&#1088;&#1077;&#1074;&#1086;&#1083;&#1102;&#1094;&#1080;&#1103;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X_&#1074;&#1077;&#1082;" TargetMode="External"/><Relationship Id="rId2" Type="http://schemas.openxmlformats.org/officeDocument/2006/relationships/hyperlink" Target="http://ru.wikipedia.org/wiki/&#1053;&#1072;&#1091;&#1082;&#1072;" TargetMode="External"/><Relationship Id="rId3" Type="http://schemas.openxmlformats.org/officeDocument/2006/relationships/hyperlink" Target="http://ru.wikipedia.org/wiki/&#1048;&#1085;&#1076;&#1091;&#1089;&#1090;&#1088;&#1080;&#1072;&#1083;&#1100;&#1085;&#1086;&#1077;_&#1086;&#1073;&#1097;&#1077;&#1089;&#1090;&#1074;&#1086;" TargetMode="External"/><Relationship Id="rId4" Type="http://schemas.openxmlformats.org/officeDocument/2006/relationships/hyperlink" Target="http://ru.wikipedia.org/wiki/&#1055;&#1086;&#1089;&#1090;&#1080;&#1085;&#1076;&#1091;&#1089;&#1090;&#1088;&#1080;&#1072;&#1083;&#1100;&#1085;&#1086;&#1077;_&#1086;&#1073;&#1097;&#1077;&#1089;&#1090;&#1074;&#1086;" TargetMode="External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53;&#1072;&#1091;&#1082;&#1072;" TargetMode="External"/><Relationship Id="rId4" Type="http://schemas.openxmlformats.org/officeDocument/2006/relationships/hyperlink" Target="http://ru.wikipedia.org/wiki/&#1050;&#1091;&#1083;&#1100;&#1090;&#1091;&#1088;&#1085;&#1099;&#1077;_&#1094;&#1077;&#1085;&#1085;&#1086;&#1089;&#1090;&#1080;" TargetMode="External"/><Relationship Id="rId5" Type="http://schemas.openxmlformats.org/officeDocument/2006/relationships/hyperlink" Target="http://ru.wikipedia.org/wiki/&#1060;&#1080;&#1079;&#1080;&#1082;&#1072;" TargetMode="External"/><Relationship Id="rId6" Type="http://schemas.openxmlformats.org/officeDocument/2006/relationships/hyperlink" Target="http://ru.wikipedia.org/wiki/&#1052;&#1072;&#1090;&#1077;&#1084;&#1072;&#1090;&#1080;&#1082;&#1072;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7;&#1095;&#1077;&#1089;&#1082;&#1080;&#1081;_&#1103;&#1079;&#1099;&#1082;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60;&#1080;&#1083;&#1086;&#1089;&#1086;&#1092;&#1080;&#1103;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AutoShape 9"/>
          <p:cNvSpPr/>
          <p:nvPr/>
        </p:nvSpPr>
        <p:spPr>
          <a:xfrm>
            <a:off x="0" y="-2052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4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16" descr="%D0%BD%D0%B0%D1%83%D0%BA%D0%B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Arial"/>
              </a:rPr>
              <a:t>НАУ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20"/>
          <p:cNvSpPr/>
          <p:nvPr/>
        </p:nvSpPr>
        <p:spPr>
          <a:xfrm>
            <a:off x="3591000" y="2262240"/>
            <a:ext cx="196200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22"/>
          <p:cNvSpPr/>
          <p:nvPr/>
        </p:nvSpPr>
        <p:spPr>
          <a:xfrm>
            <a:off x="3591000" y="2262240"/>
            <a:ext cx="196200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1" descr="Наука"/>
          <p:cNvPicPr/>
          <p:nvPr/>
        </p:nvPicPr>
        <p:blipFill>
          <a:blip r:embed="rId1"/>
          <a:stretch/>
        </p:blipFill>
        <p:spPr>
          <a:xfrm>
            <a:off x="457200" y="1994040"/>
            <a:ext cx="4038480" cy="37368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2" descr="225px-Empedokles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5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6" descr="Две конформации одной и той же полимерной цепи - клубок и глобула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llegro BT"/>
              </a:rPr>
              <a:t>Определения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учреждения и организации, в которых осуществляется научны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6"/>
          <p:cNvSpPr/>
          <p:nvPr/>
        </p:nvSpPr>
        <p:spPr>
          <a:xfrm>
            <a:off x="0" y="-20520"/>
            <a:ext cx="2505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8" descr="Наука и образование"/>
          <p:cNvPicPr/>
          <p:nvPr/>
        </p:nvPicPr>
        <p:blipFill>
          <a:blip r:embed="rId1"/>
          <a:stretch/>
        </p:blipFill>
        <p:spPr>
          <a:xfrm>
            <a:off x="4643280" y="1557360"/>
            <a:ext cx="4392720" cy="4608360"/>
          </a:xfrm>
          <a:prstGeom prst="rect">
            <a:avLst/>
          </a:prstGeom>
          <a:ln w="0">
            <a:noFill/>
          </a:ln>
        </p:spPr>
      </p:pic>
      <p:sp>
        <p:nvSpPr>
          <p:cNvPr id="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УЧНАЯ КАРТИНА МИ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процессе развития науки происходит постоянное обновлени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знан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иде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концепц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более ранние представления становятс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частными случаям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нов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теор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Научная картина мира н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догм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н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абсолютная истин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Научные представления об окружающем мире основаны на всей совокупност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доказанных факто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установленн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причинно-следственных связе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что позволяет с определённой степенью уверенности делать способствующие развитию человеческ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цивилизаци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заключения 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прогнозы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реальности. В таком развитии — суть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научного метод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УЧНЫЙ МЕТОД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482436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метный и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объективны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ставления о науке и научном методе —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методология наук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со временем менялис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03280" y="2060280"/>
            <a:ext cx="414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структуру современного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научного мето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то есть способа построения новых знаний, входят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абстра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бобщение (синтез) и формулирование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гипотез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теори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гноз: формулирование следствий из предложенной гипотезы или принятой теории с помощью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деду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инду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или других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логических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методов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и основных направления в научных исследования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Фундаментальные научные исследования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фундаментальность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2"/>
              </a:rPr>
              <a:t>лат.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fundare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Прикладные научные исследования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3"/>
              </a:rPr>
              <a:t>технологий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Научно-исследовательские и опытно-конструкторские разработки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4"/>
              </a:rPr>
              <a:t>НИОКР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) — здесь соединяется наука с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5"/>
              </a:rPr>
              <a:t>производством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, тем самым обеспечивая как научные, так и технические и инженерные проработки данного проекта. Иногда полученные результаты могут привести к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6"/>
              </a:rPr>
              <a:t>научно-технической революции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0" descr="научная деятельность"/>
          <p:cNvPicPr/>
          <p:nvPr/>
        </p:nvPicPr>
        <p:blipFill>
          <a:blip r:embed="rId7"/>
          <a:stretch/>
        </p:blipFill>
        <p:spPr>
          <a:xfrm>
            <a:off x="4643280" y="1557360"/>
            <a:ext cx="4105440" cy="460836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Т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́чно-техни́ческая ре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о-техническая ре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узком смысле — коренная перестройка технических основ материального производства, начавшееся в середине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XX 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 основе превращения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нау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ведущий фактор производства, в результате которого происходит трансформация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индустриального об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постиндустриаль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циент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циенти́з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cientis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т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scient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н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общее название идейной позиции, представляюще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научное зн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ивысше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ультурной ценн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сновополагающим фактором взаимодействия человека с миром. Нередко сциентисты считают «образцовыми науками»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физ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математ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циент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Сциентизм и антисциентизм"/>
          <p:cNvPicPr/>
          <p:nvPr/>
        </p:nvPicPr>
        <p:blipFill>
          <a:blip r:embed="rId1"/>
          <a:stretch/>
        </p:blipFill>
        <p:spPr>
          <a:xfrm>
            <a:off x="789120" y="1600200"/>
            <a:ext cx="3375000" cy="4525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1" descr="Сциентизм"/>
          <p:cNvPicPr/>
          <p:nvPr/>
        </p:nvPicPr>
        <p:blipFill>
          <a:blip r:embed="rId2"/>
          <a:stretch/>
        </p:blipFill>
        <p:spPr>
          <a:xfrm>
            <a:off x="4572000" y="1557360"/>
            <a:ext cx="4176720" cy="4608360"/>
          </a:xfrm>
          <a:prstGeom prst="rect">
            <a:avLst/>
          </a:prstGeom>
          <a:ln w="0">
            <a:noFill/>
          </a:ln>
        </p:spPr>
      </p:pic>
      <p:sp>
        <p:nvSpPr>
          <p:cNvPr id="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реч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anti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против и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scienti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знания) —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философск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нние виды антисциентизма базировались на отличных от науки формах сознания, таких как религия, искусство, нравствен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1:29:26Z</dcterms:created>
  <dc:creator>victor</dc:creator>
  <dc:description/>
  <dc:language>en-US</dc:language>
  <cp:lastModifiedBy>Legion</cp:lastModifiedBy>
  <dcterms:modified xsi:type="dcterms:W3CDTF">2017-09-22T10:35:50Z</dcterms:modified>
  <cp:revision>5</cp:revision>
  <dc:subject/>
  <dc:title>Слайд 1</dc:title>
</cp:coreProperties>
</file>