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99F4-311D-4B63-B340-62603CF582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ения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МЕТ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DB1-CE71-4C25-9C3D-3312B13A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972-164E-4771-9F80-2C26EFC8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D4D-63F1-4CE0-9070-64155025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28E-EDBF-43F6-BE5D-EA92E6A0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F95A-3781-469E-915D-1A0049B4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1BF3-468C-48AB-A719-60FACB21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13FC-1B08-4721-A100-CBA21EFC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5155-9AE5-4A4D-9E42-1841058C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C2A4-E4FB-4206-9D66-7452BD02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9507-C9E2-4457-A927-39184C5A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694F-F5C1-4512-B0E0-045D2041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D09-3D8E-4C51-A3CE-B15488B0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9A45-E77D-4ABD-9447-685A5AEB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F084-65EA-4A3C-9507-AB4BA533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7F69-9BAA-4EB7-AA6D-A170C6B2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2BF3-26D4-4DB3-8559-CF03BADA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E6F2-97AC-469C-9E28-138E0C29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6105-C469-4BD1-890D-60919909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BC7E-4EF8-47E8-B3F6-7A999FE0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8B25-76BB-4558-9537-E7108415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05D6-96DD-4E3D-8E97-4EE1192B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1CF78-ED2D-46AB-AAA4-D3175FCD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E0C-26FB-40EC-A841-59E40C68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02564-5001-4332-9810-6AD90BB0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267F-EEFD-4DBD-92C1-30EDC288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CAA15-366C-4DC8-B516-F2281C4F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4654E-CE39-4D2B-A4A1-C1F7C6E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DFB3F-57BC-4939-9E67-24BCAE33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97462-255C-4142-BA4D-ACC4E7FB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88C19-25F6-44F2-A91D-62EAC2E4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F2AEDC-A655-4A15-8472-9D52BC1A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453A9-ACC6-4643-81B1-5DC0BB9C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6D367-2D63-44DF-8F49-5E797A1B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09F-2368-418E-918C-8D3482E9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D0674-7EB0-4B73-AE74-502DE0A1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F2218-CD0A-49D4-97C2-34EB54DC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79068-C5FC-453C-8C2C-B17489E6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85162-47A4-46CC-B477-D125D9F9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93C05A-912B-4513-9CFA-87B32F68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3D9D5-A84C-4A63-9C58-2FEEB1D9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4FD91-61AD-4D24-905C-90DA82A3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640ED-273D-4C77-A9D0-D20D27A3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64295-1190-4469-80F2-1EB7388E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83A7-74C5-4A25-BC55-CAC67987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678-B4ED-4632-AC0B-AFF9C557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D5E0A-BB8D-4153-9CA3-9D10F9B5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3E904-8955-47CC-A36E-051510C5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EF2E4-7E77-4ED2-B400-B0C24C36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B3D56-E42A-4B39-BD74-5CF73BC5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5255-D2C4-4D82-A033-830028C6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1F525-DB9D-4F42-A05F-384D0807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A4D3D-F2BE-428D-9B44-132647C7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DCD67-E906-49D4-A632-E9D9DA25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68744-AD19-4582-B1E0-2665BAD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8FA2D-8048-427C-AF7C-06DC2FEF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0C2-9AF7-4521-8BA4-5E5E5C6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0088B-6AE2-405D-80D3-7E66AA12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9CCB7-F8E5-4FF4-B23B-76470544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088F-D2E9-4574-AA3C-752FCA52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EC03C-2628-4F42-9A0D-D53E0D94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325FF-D8F0-495F-A48D-62FDE5F9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6874D-A91C-44E9-9B03-3A0D101C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B23BF-0E02-47B4-AAB2-57D2DA4E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2D5E7-C512-4000-B96F-F7CE9AEF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9D00-C783-46EB-824D-A1E14E95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B728B-BA59-4A98-9A47-CAB974DB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687-3E36-4FC4-A361-6AB4BE32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F9CD1-E9DE-41D4-A2AF-7C137464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27E9C-E885-4D53-A1E7-76868CF2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65F8D-46E7-4DFF-A4A3-2DDB90E4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F165B-DBAF-4E51-AE55-E2A60F0D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14DFC-80D6-438A-90C7-843DA3C5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F5875-ECBC-4BCD-849F-ACFA3286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709DA-BF42-4D40-A320-CF3941C7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1BEA2-83F6-47CD-BC78-8B57EA8B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6C74E-F34E-4C99-B288-E3828B6E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7EE73-712E-4F06-911A-053C6571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F14-3978-4C2D-A1E0-11EEA43D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F3535-62D4-4E1E-BDCC-1FB5962D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A485C-60E7-4886-996C-8AEB1DD5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5602E-F975-439D-8A84-922AF245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A48A5-856D-4AF2-BFD0-CD81FCA6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C47C2-8690-4FB1-91A6-7927E3DB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D3B-86D6-4EBA-9F7F-64E05892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4FB0-30D0-4C9A-9617-53B60359DA2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6B7C-40A1-48D6-8580-68646A6CE4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C41C-CCB4-48CC-8D45-8A1B6F77C55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42E9-F859-4DBC-A9E7-471570502EB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CDB8-11AF-4553-B96D-1B4BBAFCEA0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0983-7954-4596-81D0-C7B4DBD1B11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F12A-4F08-450F-8CDD-F31183A51E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5;&#1072;&#1085;&#1080;&#1077;" TargetMode="External"/><Relationship Id="rId2" Type="http://schemas.openxmlformats.org/officeDocument/2006/relationships/hyperlink" Target="http://ru.wikipedia.org/wiki/&#1048;&#1076;&#1077;&#1103;" TargetMode="External"/><Relationship Id="rId3" Type="http://schemas.openxmlformats.org/officeDocument/2006/relationships/hyperlink" Target="http://ru.wikipedia.org/wiki/&#1050;&#1086;&#1085;&#1094;&#1077;&#1087;&#1094;&#1080;&#1103;" TargetMode="External"/><Relationship Id="rId4" Type="http://schemas.openxmlformats.org/officeDocument/2006/relationships/hyperlink" Target="http://ru.wikipedia.org/w/index.php?title=&#1063;&#1072;&#1089;&#1090;&#1085;&#1099;&#1081;_&#1089;&#1083;&#1091;&#1095;&#1072;&#1081;&amp;action=edit&amp;redlink=1" TargetMode="External"/><Relationship Id="rId5" Type="http://schemas.openxmlformats.org/officeDocument/2006/relationships/hyperlink" Target="http://ru.wikipedia.org/wiki/&#1058;&#1077;&#1086;&#1088;&#1080;&#1103;" TargetMode="External"/><Relationship Id="rId6" Type="http://schemas.openxmlformats.org/officeDocument/2006/relationships/hyperlink" Target="http://ru.wikipedia.org/wiki/&#1044;&#1086;&#1075;&#1084;&#1072;&#1090;" TargetMode="External"/><Relationship Id="rId7" Type="http://schemas.openxmlformats.org/officeDocument/2006/relationships/hyperlink" Target="http://ru.wikipedia.org/wiki/&#1040;&#1073;&#1089;&#1086;&#1083;&#1102;&#1090;&#1085;&#1072;&#1103;_&#1080;&#1089;&#1090;&#1080;&#1085;&#1072;" TargetMode="External"/><Relationship Id="rId8" Type="http://schemas.openxmlformats.org/officeDocument/2006/relationships/hyperlink" Target="http://ru.wikipedia.org/wiki/&#1044;&#1086;&#1082;&#1072;&#1079;&#1072;&#1085;&#1085;&#1099;&#1081;_&#1092;&#1072;&#1082;&#1090;" TargetMode="External"/><Relationship Id="rId9" Type="http://schemas.openxmlformats.org/officeDocument/2006/relationships/hyperlink" Target="http://ru.wikipedia.org/wiki/&#1055;&#1088;&#1080;&#1095;&#1080;&#1085;&#1085;&#1086;-&#1089;&#1083;&#1077;&#1076;&#1089;&#1090;&#1074;&#1077;&#1085;&#1085;&#1072;&#1103;_&#1089;&#1074;&#1103;&#1079;&#1100;" TargetMode="External"/><Relationship Id="rId10" Type="http://schemas.openxmlformats.org/officeDocument/2006/relationships/hyperlink" Target="http://ru.wikipedia.org/wiki/&#1062;&#1080;&#1074;&#1080;&#1083;&#1080;&#1079;&#1072;&#1094;&#1080;&#1103;" TargetMode="External"/><Relationship Id="rId11" Type="http://schemas.openxmlformats.org/officeDocument/2006/relationships/hyperlink" Target="http://ru.wikipedia.org/wiki/&#1055;&#1088;&#1086;&#1075;&#1085;&#1086;&#1079;" TargetMode="External"/><Relationship Id="rId12" Type="http://schemas.openxmlformats.org/officeDocument/2006/relationships/hyperlink" Target="http://ru.wikipedia.org/wiki/&#1053;&#1072;&#1091;&#1095;&#1085;&#1099;&#1081;_&#1084;&#1077;&#1090;&#1086;&#1076;" TargetMode="External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8;&#1077;&#1082;&#1090;&#1080;&#1074;&#1085;&#1072;&#1103;_&#1088;&#1077;&#1072;&#1083;&#1100;&#1085;&#1086;&#1089;&#1090;&#1100;" TargetMode="External"/><Relationship Id="rId2" Type="http://schemas.openxmlformats.org/officeDocument/2006/relationships/hyperlink" Target="http://ru.wikipedia.org/wiki/&#1052;&#1077;&#1090;&#1086;&#1076;&#1086;&#1083;&#1086;&#1075;&#1080;&#1103;_&#1085;&#1072;&#1091;&#1082;&#1080;" TargetMode="External"/><Relationship Id="rId3" Type="http://schemas.openxmlformats.org/officeDocument/2006/relationships/hyperlink" Target="http://ru.wikipedia.org/wiki/&#1053;&#1072;&#1091;&#1095;&#1085;&#1099;&#1081;_&#1084;&#1077;&#1090;&#1086;&#1076;" TargetMode="External"/><Relationship Id="rId4" Type="http://schemas.openxmlformats.org/officeDocument/2006/relationships/hyperlink" Target="http://ru.wikipedia.org/wiki/&#1040;&#1073;&#1089;&#1090;&#1088;&#1072;&#1082;&#1094;&#1080;&#1103;" TargetMode="External"/><Relationship Id="rId5" Type="http://schemas.openxmlformats.org/officeDocument/2006/relationships/hyperlink" Target="http://ru.wikipedia.org/wiki/&#1043;&#1080;&#1087;&#1086;&#1090;&#1077;&#1079;&#1072;" TargetMode="External"/><Relationship Id="rId6" Type="http://schemas.openxmlformats.org/officeDocument/2006/relationships/hyperlink" Target="http://ru.wikipedia.org/wiki/&#1058;&#1077;&#1086;&#1088;&#1080;&#1103;" TargetMode="External"/><Relationship Id="rId7" Type="http://schemas.openxmlformats.org/officeDocument/2006/relationships/hyperlink" Target="http://ru.wikipedia.org/wiki/&#1044;&#1077;&#1076;&#1091;&#1082;&#1094;&#1080;&#1103;" TargetMode="External"/><Relationship Id="rId8" Type="http://schemas.openxmlformats.org/officeDocument/2006/relationships/hyperlink" Target="http://ru.wikipedia.org/wiki/&#1048;&#1085;&#1076;&#1091;&#1082;&#1090;&#1080;&#1074;&#1085;&#1086;&#1077;_&#1091;&#1084;&#1086;&#1079;&#1072;&#1082;&#1083;&#1102;&#1095;&#1077;&#1085;&#1080;&#1077;" TargetMode="External"/><Relationship Id="rId9" Type="http://schemas.openxmlformats.org/officeDocument/2006/relationships/hyperlink" Target="http://ru.wikipedia.org/wiki/&#1051;&#1086;&#1075;&#1080;&#1082;&#107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91;&#1085;&#1076;&#1072;&#1084;&#1077;&#1085;&#1090;&#1072;&#1083;&#1100;&#1085;&#1086;&#1089;&#1090;&#1100;&amp;action=edit&amp;redlink=1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8;&#1077;&#1093;&#1085;&#1086;&#1083;&#1086;&#1075;&#1080;&#1103;" TargetMode="External"/><Relationship Id="rId4" Type="http://schemas.openxmlformats.org/officeDocument/2006/relationships/hyperlink" Target="http://ru.wikipedia.org/wiki/&#1053;&#1048;&#1054;&#1050;&#1056;" TargetMode="External"/><Relationship Id="rId5" Type="http://schemas.openxmlformats.org/officeDocument/2006/relationships/hyperlink" Target="http://ru.wikipedia.org/wiki/&#1055;&#1088;&#1086;&#1080;&#1079;&#1074;&#1086;&#1076;&#1089;&#1090;&#1074;&#1086;" TargetMode="External"/><Relationship Id="rId6" Type="http://schemas.openxmlformats.org/officeDocument/2006/relationships/hyperlink" Target="http://ru.wikipedia.org/wiki/&#1053;&#1072;&#1091;&#1095;&#1085;&#1086;-&#1090;&#1077;&#1093;&#1085;&#1080;&#1095;&#1077;&#1089;&#1082;&#1072;&#1103;_&#1088;&#1077;&#1074;&#1086;&#1083;&#1102;&#1094;&#1080;&#1103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X_&#1074;&#1077;&#1082;" TargetMode="External"/><Relationship Id="rId2" Type="http://schemas.openxmlformats.org/officeDocument/2006/relationships/hyperlink" Target="http://ru.wikipedia.org/wiki/&#1053;&#1072;&#1091;&#1082;&#1072;" TargetMode="External"/><Relationship Id="rId3" Type="http://schemas.openxmlformats.org/officeDocument/2006/relationships/hyperlink" Target="http://ru.wikipedia.org/wiki/&#1048;&#1085;&#1076;&#1091;&#1089;&#1090;&#1088;&#1080;&#1072;&#1083;&#1100;&#1085;&#1086;&#1077;_&#1086;&#1073;&#1097;&#1077;&#1089;&#1090;&#1074;&#1086;" TargetMode="External"/><Relationship Id="rId4" Type="http://schemas.openxmlformats.org/officeDocument/2006/relationships/hyperlink" Target="http://ru.wikipedia.org/wiki/&#1055;&#1086;&#1089;&#1090;&#1080;&#1085;&#1076;&#1091;&#1089;&#1090;&#1088;&#1080;&#1072;&#1083;&#1100;&#1085;&#1086;&#1077;_&#1086;&#1073;&#1097;&#1077;&#1089;&#1090;&#1074;&#1086;" TargetMode="Externa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3;&#1072;&#1091;&#1082;&#1072;" TargetMode="External"/><Relationship Id="rId4" Type="http://schemas.openxmlformats.org/officeDocument/2006/relationships/hyperlink" Target="http://ru.wikipedia.org/wiki/&#1050;&#1091;&#1083;&#1100;&#1090;&#1091;&#1088;&#1085;&#1099;&#1077;_&#1094;&#1077;&#1085;&#1085;&#1086;&#1089;&#1090;&#1080;" TargetMode="External"/><Relationship Id="rId5" Type="http://schemas.openxmlformats.org/officeDocument/2006/relationships/hyperlink" Target="http://ru.wikipedia.org/wiki/&#1060;&#1080;&#1079;&#1080;&#1082;&#1072;" TargetMode="External"/><Relationship Id="rId6" Type="http://schemas.openxmlformats.org/officeDocument/2006/relationships/hyperlink" Target="http://ru.wikipedia.org/wiki/&#1052;&#1072;&#1090;&#1077;&#1084;&#1072;&#1090;&#1080;&#1082;&#1072;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0;&#1080;&#1083;&#1086;&#1089;&#1086;&#1092;&#1080;&#1103;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9"/>
          <p:cNvSpPr/>
          <p:nvPr/>
        </p:nvSpPr>
        <p:spPr>
          <a:xfrm>
            <a:off x="0" y="-205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6" descr="%D0%BD%D0%B0%D1%83%D0%BA%D0%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НАУ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22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1" descr="Наука"/>
          <p:cNvPicPr/>
          <p:nvPr/>
        </p:nvPicPr>
        <p:blipFill>
          <a:blip r:embed="rId1"/>
          <a:stretch/>
        </p:blipFill>
        <p:spPr>
          <a:xfrm>
            <a:off x="457200" y="1994040"/>
            <a:ext cx="4038480" cy="3736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2" descr="225px-Empedokles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5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6" descr="Две конформации одной и той же полимерной цепи - клубок и глобула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llegro BT"/>
              </a:rPr>
              <a:t>Определения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0" y="-20520"/>
            <a:ext cx="250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8" descr="Наука и образование"/>
          <p:cNvPicPr/>
          <p:nvPr/>
        </p:nvPicPr>
        <p:blipFill>
          <a:blip r:embed="rId1"/>
          <a:stretch/>
        </p:blipFill>
        <p:spPr>
          <a:xfrm>
            <a:off x="4643280" y="1557360"/>
            <a:ext cx="4392720" cy="460836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УЧНАЯ КАРТИНА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цессе развития науки происходит постоянное обновлени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зн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ид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концепц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более ранние представления становятс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частными случая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ов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теор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ая картина мира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догм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абсолютная истин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ые представления об окружающем мире основаны на всей совокупност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доказанных факт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установле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причинно-следственных связ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что позволяет с определённой степенью уверенности делать способствующие развитию челове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цивилиза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заключения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рогноз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реальности. В таком развитии — суть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научного метод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Й МЕТ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8243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метный и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бъективны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ставления о науке и научном методе —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методология наук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 временем менялис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03280" y="206028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труктуру современного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научного мет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то есть способа построения новых знаний, входя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абстра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общение (синтез) и формулировани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гипотез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теор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гноз: формулирование следствий из предложенной гипотезы или принятой теории с помощью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де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ин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ли других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логически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метод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Фундаменталь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фундаментальность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лат.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fundare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иклад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технологий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Научно-исследовательские и опытно-конструкторские разработк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НИОКР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 — здесь соединяется наука с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производством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, тем самым обеспечивая как научные, так и технические и инженерные проработки данного проекта. Иногда полученные результаты могут привести к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научно-технической революци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0" descr="научная деятельность"/>
          <p:cNvPicPr/>
          <p:nvPr/>
        </p:nvPicPr>
        <p:blipFill>
          <a:blip r:embed="rId7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́чно-техни́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узком смысле — коренная перестройка технических основ материального производства, начавшееся в середине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XX 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основе превращен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едущий фактор производства, в результате которого происходит трансформац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индустриального об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постиндустри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циенти́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cientis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общее название идейной позиции, представляющ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аучное 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ивысш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ультурной цен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сновополагающим фактором взаимодействия человека с миром. Нередко сциентисты считают «образцовыми науками»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физ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атемат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Сциентизм и антисциентизм"/>
          <p:cNvPicPr/>
          <p:nvPr/>
        </p:nvPicPr>
        <p:blipFill>
          <a:blip r:embed="rId1"/>
          <a:stretch/>
        </p:blipFill>
        <p:spPr>
          <a:xfrm>
            <a:off x="789120" y="1600200"/>
            <a:ext cx="3375000" cy="452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1" descr="Сциентизм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4608360"/>
          </a:xfrm>
          <a:prstGeom prst="rect">
            <a:avLst/>
          </a:prstGeom>
          <a:ln w="0">
            <a:noFill/>
          </a:ln>
        </p:spPr>
      </p:pic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ant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против 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знания) —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илософс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29:26Z</dcterms:created>
  <dc:creator>victor</dc:creator>
  <dc:description/>
  <dc:language>en-US</dc:language>
  <cp:lastModifiedBy>Legion</cp:lastModifiedBy>
  <dcterms:modified xsi:type="dcterms:W3CDTF">2017-09-22T10:35:50Z</dcterms:modified>
  <cp:revision>5</cp:revision>
  <dc:subject/>
  <dc:title>Слайд 1</dc:title>
</cp:coreProperties>
</file>