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2C0-A50C-434E-8EE9-9E861ECA274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НАУ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ения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МИ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цессе развития науки происходит постоянное обновление знаний, идей и концепций, более ранние представления становятся частными случаями новых теорий. Научная картина мира не догма и не абсолютная истина. Научные представления об окружающем мире основаны на всей совокупности доказанных фактов и установленных причинно-следственных связей, что позволяет с определённой степенью уверенности делать способствующие развитию человеческой цивилизации заключения и прогнозы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 реальности. В таком развитии — суть научного мет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ЫЙ МЕТО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метный и объективный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ставления о науке и научном методе — методология науки, со временем менялис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уктуру современного научного метода, то есть способа построения новых знаний, входя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абстрак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общение (синтез) и формулирование гипотез, теор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гноз: формулирование следствий из предложенной гипотезы или принятой теории с помощью дедукции, индукции или других логических методов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даментальные научные исследования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фундаментальность (лат. fundare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чные исследования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технологий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исследовательские и опытно-конструкторские разработки (НИОКР) — здесь соединяется наука с производством, тем самым обеспечивая как научные, так и технические и инженерные проработки данного проекта. Иногда полученные результаты могут привести к научно-технической револю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ТР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́чно-техни́ческая революция (НТР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чно-техническая революция в узком смысле — коренная перестройка технических основ материального производства, начавшееся в середине XX в., на основе превращения науки в ведущий фактор производства, в результате которого происходит трансформация индустриального общества в постиндустриально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циенти́зм (фр. scientisme, от лат. scientia — наука, знание) — общее название идейной позиции, представляющей научное знание наивысшей культурной ценностью и основополагающим фактором взаимодействия человека с миром. Нередко сциентисты считают «образцовыми науками» физику или математику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циент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сциент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сциенти́зм (от греч. anti- — против и лат. scientia — знания) — философско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D31-7025-4AE4-ADBD-B6B8F204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AD2-215C-4D49-B47C-9EDD68A6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426-90F0-4652-861D-EF6C95F7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4D77-F149-469F-B8D4-7847208A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101C-47BF-4041-A9EA-D8D519D0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A8A-15EE-472F-B96A-F0936FA0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0A0E-8D74-420C-A963-C5C0155D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A51B-80E9-4BFE-83BF-40CCB241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B4CA-74A0-4ED4-8524-0126F32D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123D-1CDD-4A64-ACA0-644475CB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C5E0D-0A8E-4012-BCDF-7E29EFDA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F7F4-BF2B-4447-B960-896D9F96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E289-024C-4397-ADAE-21D958C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3F6A-DE82-4009-AD97-84C6D2C3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602A-6E2D-4A90-B58B-8A5CCD9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BA2A-2D29-4F4D-A0BA-66C1CE64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803B-AFFF-4A0E-A27E-E487BAAC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AA11D-0F8B-4B6A-AD2E-F6762FAE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AAA9C-F57B-4187-813A-49FB541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BFF6-9C55-4AEA-9C66-2DF8813D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A5DFA-9DC0-4409-9E7C-0F959D68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77555-9AAF-40C5-9CA1-76BA1BA8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D743-894E-4A9E-9A25-3F046B12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79CE-5E08-4330-934D-5FE501E4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3FA5A-C9A0-46ED-842A-738FC197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1F8F8-F027-4BB8-AC3C-7BAA28D7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E5408-D208-470F-B1CE-FA8E4AF2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511B2-46CE-485E-A0C3-D484F8B3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797FB-128F-4063-94F6-A9F23C7B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A9C85-DE2D-4459-818F-3E4779508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A76481-439E-48B2-AE4E-D5E86895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CF48E-81E6-41F2-AF08-34491AD7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720DE3-E168-43F6-A54C-9BBB258E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443-AD4E-4464-9929-59640DA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07B0E-4CA8-47B0-B6CB-F0263FA8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39AB7-DB9F-40C4-AB32-7EBED26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296A1-A03F-4DA1-84E3-3E3DC7AB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E08E5-7470-4AE8-89D3-EEB92F7C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4D06FF-6A48-4572-89F7-EA2F7FA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A576D-11DE-4B6E-BEB7-9E81DB8C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947D8D-8240-477F-A3B5-7ED64627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B1E635-3CC8-44DA-B917-14659549D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FD682-540E-4ABD-B3D9-5827921A1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1662A-47B3-48B4-8ABC-6A42C375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2CE8-119B-40A4-AE29-C65371CA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4445E-D330-405C-A608-9CA61AFD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61B2B-218C-4EBD-BF63-A483BE9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7F3EA-24F6-4383-8BAF-F5B4AAC5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FD8CD-45D5-4CB0-9BAF-4EAC1B6F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5DE1-0F13-43B2-80A8-CDF14EAC2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6737-AF74-437D-B20D-CDFCDC2E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D24AD-E351-41FB-9BD9-DE784D34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3F6B0-B280-4826-85F9-79104FDE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29C6-05F1-474C-B8CC-C1E6AED9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82CC1-776F-4AD4-AD19-C49054F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4622-7B4E-483B-BA6B-C9DD601B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274DD-59FB-421C-9E56-87250753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CC438-986A-431F-963C-919CB36F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57509-406E-4771-B086-7BC7FB66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FC93F-9799-4B45-A80F-AB9DF03B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AFCB-BFE2-43DE-8A35-0EEFECAE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DB054-9846-4B84-8F46-D924092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11540-6C34-45CF-A04C-BEFAAA09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4C4CA-2835-45A0-A950-C44FF9B8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F3BF1-9257-4301-BE4E-FD4F503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ABB9B-8486-4621-A5E1-9F01FFB1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155-552F-4834-B05B-23BDFA8D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97B7F-E3A3-46F2-AAA3-9DFC0A4E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4CC34-F4CC-454E-BBAD-2E8DB1F8C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AF3E-DB72-49FD-969A-A2224B84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75EA3-980C-45D9-96CD-9DDE31D1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F504B-A82C-42C6-96F2-8A59688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92D78-02F5-4F12-BBA2-1F5D0B70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3EF56-4782-44C1-B194-36284EED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641AB-C528-4D97-8E47-7AE7590C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A8233-90E9-42F9-9347-54634325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8527-7B2D-445B-BCEB-B67381FC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E6B2-F202-4E29-BA9B-6D609416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F9F94-8C3D-4369-A060-CFD9090F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5D0C-0037-4328-9B33-A7B710C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0A90B-E191-45A1-8071-5431006A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92B1B-03B5-4492-B9A7-8D759070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EBD50-0AB1-4161-9795-621444F0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288-1D05-4605-BAC6-065AD952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0072-A3A2-4625-BFEC-02F064A528D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65B-8CE7-438E-A27D-AA6969B622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4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A335-5758-47F3-A3A5-47BF2F53E62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77B3-DCE9-4B49-A3BC-E1CC7BF717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9EDD-9775-47D0-A693-A507435BFF6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23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27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52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84AA-D4AB-40B0-9377-F98BC6EBBF31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FFC8-D056-43EB-A95F-616FAF9B0E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7;&#1085;&#1072;&#1085;&#1080;&#1077;" TargetMode="External"/><Relationship Id="rId2" Type="http://schemas.openxmlformats.org/officeDocument/2006/relationships/hyperlink" Target="http://ru.wikipedia.org/wiki/&#1048;&#1076;&#1077;&#1103;" TargetMode="External"/><Relationship Id="rId3" Type="http://schemas.openxmlformats.org/officeDocument/2006/relationships/hyperlink" Target="http://ru.wikipedia.org/wiki/&#1050;&#1086;&#1085;&#1094;&#1077;&#1087;&#1094;&#1080;&#1103;" TargetMode="External"/><Relationship Id="rId4" Type="http://schemas.openxmlformats.org/officeDocument/2006/relationships/hyperlink" Target="http://ru.wikipedia.org/w/index.php?title=&#1063;&#1072;&#1089;&#1090;&#1085;&#1099;&#1081;_&#1089;&#1083;&#1091;&#1095;&#1072;&#1081;&amp;action=edit&amp;redlink=1" TargetMode="External"/><Relationship Id="rId5" Type="http://schemas.openxmlformats.org/officeDocument/2006/relationships/hyperlink" Target="http://ru.wikipedia.org/wiki/&#1058;&#1077;&#1086;&#1088;&#1080;&#1103;" TargetMode="External"/><Relationship Id="rId6" Type="http://schemas.openxmlformats.org/officeDocument/2006/relationships/hyperlink" Target="http://ru.wikipedia.org/wiki/&#1044;&#1086;&#1075;&#1084;&#1072;&#1090;" TargetMode="External"/><Relationship Id="rId7" Type="http://schemas.openxmlformats.org/officeDocument/2006/relationships/hyperlink" Target="http://ru.wikipedia.org/wiki/&#1040;&#1073;&#1089;&#1086;&#1083;&#1102;&#1090;&#1085;&#1072;&#1103;_&#1080;&#1089;&#1090;&#1080;&#1085;&#1072;" TargetMode="External"/><Relationship Id="rId8" Type="http://schemas.openxmlformats.org/officeDocument/2006/relationships/hyperlink" Target="http://ru.wikipedia.org/wiki/&#1044;&#1086;&#1082;&#1072;&#1079;&#1072;&#1085;&#1085;&#1099;&#1081;_&#1092;&#1072;&#1082;&#1090;" TargetMode="External"/><Relationship Id="rId9" Type="http://schemas.openxmlformats.org/officeDocument/2006/relationships/hyperlink" Target="http://ru.wikipedia.org/wiki/&#1055;&#1088;&#1080;&#1095;&#1080;&#1085;&#1085;&#1086;-&#1089;&#1083;&#1077;&#1076;&#1089;&#1090;&#1074;&#1077;&#1085;&#1085;&#1072;&#1103;_&#1089;&#1074;&#1103;&#1079;&#1100;" TargetMode="External"/><Relationship Id="rId10" Type="http://schemas.openxmlformats.org/officeDocument/2006/relationships/hyperlink" Target="http://ru.wikipedia.org/wiki/&#1062;&#1080;&#1074;&#1080;&#1083;&#1080;&#1079;&#1072;&#1094;&#1080;&#1103;" TargetMode="External"/><Relationship Id="rId11" Type="http://schemas.openxmlformats.org/officeDocument/2006/relationships/hyperlink" Target="http://ru.wikipedia.org/wiki/&#1055;&#1088;&#1086;&#1075;&#1085;&#1086;&#1079;" TargetMode="External"/><Relationship Id="rId12" Type="http://schemas.openxmlformats.org/officeDocument/2006/relationships/hyperlink" Target="http://ru.wikipedia.org/wiki/&#1053;&#1072;&#1091;&#1095;&#1085;&#1099;&#1081;_&#1084;&#1077;&#1090;&#1086;&#1076;" TargetMode="Externa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4;&#1073;&#1098;&#1077;&#1082;&#1090;&#1080;&#1074;&#1085;&#1072;&#1103;_&#1088;&#1077;&#1072;&#1083;&#1100;&#1085;&#1086;&#1089;&#1090;&#1100;" TargetMode="External"/><Relationship Id="rId2" Type="http://schemas.openxmlformats.org/officeDocument/2006/relationships/hyperlink" Target="http://ru.wikipedia.org/wiki/&#1052;&#1077;&#1090;&#1086;&#1076;&#1086;&#1083;&#1086;&#1075;&#1080;&#1103;_&#1085;&#1072;&#1091;&#1082;&#1080;" TargetMode="External"/><Relationship Id="rId3" Type="http://schemas.openxmlformats.org/officeDocument/2006/relationships/hyperlink" Target="http://ru.wikipedia.org/wiki/&#1053;&#1072;&#1091;&#1095;&#1085;&#1099;&#1081;_&#1084;&#1077;&#1090;&#1086;&#1076;" TargetMode="External"/><Relationship Id="rId4" Type="http://schemas.openxmlformats.org/officeDocument/2006/relationships/hyperlink" Target="http://ru.wikipedia.org/wiki/&#1040;&#1073;&#1089;&#1090;&#1088;&#1072;&#1082;&#1094;&#1080;&#1103;" TargetMode="External"/><Relationship Id="rId5" Type="http://schemas.openxmlformats.org/officeDocument/2006/relationships/hyperlink" Target="http://ru.wikipedia.org/wiki/&#1043;&#1080;&#1087;&#1086;&#1090;&#1077;&#1079;&#1072;" TargetMode="External"/><Relationship Id="rId6" Type="http://schemas.openxmlformats.org/officeDocument/2006/relationships/hyperlink" Target="http://ru.wikipedia.org/wiki/&#1058;&#1077;&#1086;&#1088;&#1080;&#1103;" TargetMode="External"/><Relationship Id="rId7" Type="http://schemas.openxmlformats.org/officeDocument/2006/relationships/hyperlink" Target="http://ru.wikipedia.org/wiki/&#1044;&#1077;&#1076;&#1091;&#1082;&#1094;&#1080;&#1103;" TargetMode="External"/><Relationship Id="rId8" Type="http://schemas.openxmlformats.org/officeDocument/2006/relationships/hyperlink" Target="http://ru.wikipedia.org/wiki/&#1048;&#1085;&#1076;&#1091;&#1082;&#1090;&#1080;&#1074;&#1085;&#1086;&#1077;_&#1091;&#1084;&#1086;&#1079;&#1072;&#1082;&#1083;&#1102;&#1095;&#1077;&#1085;&#1080;&#1077;" TargetMode="External"/><Relationship Id="rId9" Type="http://schemas.openxmlformats.org/officeDocument/2006/relationships/hyperlink" Target="http://ru.wikipedia.org/wiki/&#1051;&#1086;&#1075;&#1080;&#1082;&#1072;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60;&#1091;&#1085;&#1076;&#1072;&#1084;&#1077;&#1085;&#1090;&#1072;&#1083;&#1100;&#1085;&#1086;&#1089;&#1090;&#1100;&amp;action=edit&amp;redlink=1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8;&#1077;&#1093;&#1085;&#1086;&#1083;&#1086;&#1075;&#1080;&#1103;" TargetMode="External"/><Relationship Id="rId4" Type="http://schemas.openxmlformats.org/officeDocument/2006/relationships/hyperlink" Target="http://ru.wikipedia.org/wiki/&#1053;&#1048;&#1054;&#1050;&#1056;" TargetMode="External"/><Relationship Id="rId5" Type="http://schemas.openxmlformats.org/officeDocument/2006/relationships/hyperlink" Target="http://ru.wikipedia.org/wiki/&#1055;&#1088;&#1086;&#1080;&#1079;&#1074;&#1086;&#1076;&#1089;&#1090;&#1074;&#1086;" TargetMode="External"/><Relationship Id="rId6" Type="http://schemas.openxmlformats.org/officeDocument/2006/relationships/hyperlink" Target="http://ru.wikipedia.org/wiki/&#1053;&#1072;&#1091;&#1095;&#1085;&#1086;-&#1090;&#1077;&#1093;&#1085;&#1080;&#1095;&#1077;&#1089;&#1082;&#1072;&#1103;_&#1088;&#1077;&#1074;&#1086;&#1083;&#1102;&#1094;&#1080;&#1103;" TargetMode="Externa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XX_&#1074;&#1077;&#1082;" TargetMode="External"/><Relationship Id="rId2" Type="http://schemas.openxmlformats.org/officeDocument/2006/relationships/hyperlink" Target="http://ru.wikipedia.org/wiki/&#1053;&#1072;&#1091;&#1082;&#1072;" TargetMode="External"/><Relationship Id="rId3" Type="http://schemas.openxmlformats.org/officeDocument/2006/relationships/hyperlink" Target="http://ru.wikipedia.org/wiki/&#1048;&#1085;&#1076;&#1091;&#1089;&#1090;&#1088;&#1080;&#1072;&#1083;&#1100;&#1085;&#1086;&#1077;_&#1086;&#1073;&#1097;&#1077;&#1089;&#1090;&#1074;&#1086;" TargetMode="External"/><Relationship Id="rId4" Type="http://schemas.openxmlformats.org/officeDocument/2006/relationships/hyperlink" Target="http://ru.wikipedia.org/wiki/&#1055;&#1086;&#1089;&#1090;&#1080;&#1085;&#1076;&#1091;&#1089;&#1090;&#1088;&#1080;&#1072;&#1083;&#1100;&#1085;&#1086;&#1077;_&#1086;&#1073;&#1097;&#1077;&#1089;&#1090;&#1074;&#1086;" TargetMode="External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88;&#1072;&#1085;&#1094;&#1091;&#1079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53;&#1072;&#1091;&#1082;&#1072;" TargetMode="External"/><Relationship Id="rId4" Type="http://schemas.openxmlformats.org/officeDocument/2006/relationships/hyperlink" Target="http://ru.wikipedia.org/wiki/&#1050;&#1091;&#1083;&#1100;&#1090;&#1091;&#1088;&#1085;&#1099;&#1077;_&#1094;&#1077;&#1085;&#1085;&#1086;&#1089;&#1090;&#1080;" TargetMode="External"/><Relationship Id="rId5" Type="http://schemas.openxmlformats.org/officeDocument/2006/relationships/hyperlink" Target="http://ru.wikipedia.org/wiki/&#1060;&#1080;&#1079;&#1080;&#1082;&#1072;" TargetMode="External"/><Relationship Id="rId6" Type="http://schemas.openxmlformats.org/officeDocument/2006/relationships/hyperlink" Target="http://ru.wikipedia.org/wiki/&#1052;&#1072;&#1090;&#1077;&#1084;&#1072;&#1090;&#1080;&#1082;&#1072;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88;&#1077;&#1095;&#1077;&#1089;&#1082;&#1080;&#1081;_&#1103;&#1079;&#1099;&#1082;" TargetMode="External"/><Relationship Id="rId2" Type="http://schemas.openxmlformats.org/officeDocument/2006/relationships/hyperlink" Target="http://ru.wikipedia.org/wiki/&#1051;&#1072;&#1090;&#1080;&#1085;&#1089;&#1082;&#1080;&#1081;_&#1103;&#1079;&#1099;&#1082;" TargetMode="External"/><Relationship Id="rId3" Type="http://schemas.openxmlformats.org/officeDocument/2006/relationships/hyperlink" Target="http://ru.wikipedia.org/wiki/&#1060;&#1080;&#1083;&#1086;&#1089;&#1086;&#1092;&#1080;&#1103;" TargetMode="External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9"/>
          <p:cNvSpPr/>
          <p:nvPr/>
        </p:nvSpPr>
        <p:spPr>
          <a:xfrm>
            <a:off x="0" y="-2052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AutoShape 11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14"/>
          <p:cNvSpPr/>
          <p:nvPr/>
        </p:nvSpPr>
        <p:spPr>
          <a:xfrm>
            <a:off x="3267000" y="2552760"/>
            <a:ext cx="261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5" name="Picture 16" descr="%D0%BD%D0%B0%D1%83%D0%BA%D0%B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8f8f8"/>
                </a:solidFill>
                <a:latin typeface="Arial"/>
              </a:rPr>
              <a:t>НАУ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20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22"/>
          <p:cNvSpPr/>
          <p:nvPr/>
        </p:nvSpPr>
        <p:spPr>
          <a:xfrm>
            <a:off x="3591000" y="2262240"/>
            <a:ext cx="196200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1" descr="Наука"/>
          <p:cNvPicPr/>
          <p:nvPr/>
        </p:nvPicPr>
        <p:blipFill>
          <a:blip r:embed="rId1"/>
          <a:stretch/>
        </p:blipFill>
        <p:spPr>
          <a:xfrm>
            <a:off x="457200" y="1994040"/>
            <a:ext cx="4038480" cy="3736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2" descr="225px-Empedokles"/>
          <p:cNvPicPr/>
          <p:nvPr/>
        </p:nvPicPr>
        <p:blipFill>
          <a:blip r:embed="rId2"/>
          <a:stretch/>
        </p:blipFill>
        <p:spPr>
          <a:xfrm>
            <a:off x="464328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5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6" descr="Две конформации одной и той же полимерной цепи - клубок и глобула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llegro BT"/>
              </a:rPr>
              <a:t>Определения на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азработанная система знаний (информации) о природе, обществе, мышлении, об объективных законах их развития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  деятельность людей, направленная на: а) систематизацию знаний;  б) более углубленное познание законов природы, общества, мышления;      в) дальнейшее воплощение полученных знаний (информации) в техническом, технологическом или организационном применении (а также в воспитании человека, его обслуживании и т.д.)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учреждения и организации, в которых осуществляется научный труд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0" y="-20520"/>
            <a:ext cx="25052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8" descr="Наука и образование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608360"/>
          </a:xfrm>
          <a:prstGeom prst="rect">
            <a:avLst/>
          </a:prstGeom>
          <a:ln w="0">
            <a:noFill/>
          </a:ln>
        </p:spPr>
      </p:pic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УЧНАЯ КАРТИНА МИ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учная картина (модель) мира — система представлений о свойствах и закономерностях реальной действительности, построенная в результате обобщения и синтеза научных понятий и принцип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цессе развития науки происходит постоянное обновлени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знан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ид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концепц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более ранние представления становятся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частными случаям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нов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теори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ая картина мира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догм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не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абсолютная истина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. Научные представления об окружающем мире основаны на всей совокупност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доказанных фактов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и установленных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9"/>
              </a:rPr>
              <a:t>причинно-следственных связей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, что позволяет с определённой степенью уверенности делать способствующие развитию человеческой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0"/>
              </a:rPr>
              <a:t>цивилизаци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заключения и </a:t>
            </a: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1"/>
              </a:rPr>
              <a:t>прогнозы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о свойствах нашего мира. Несоответствие результатов проверки теории, гипотезе, концепции, выявление новых фактов — всё это заставляет пересматривать имеющиеся представления и создавать новые, более соответствующие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реальности. В таком развитии — суть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2"/>
              </a:rPr>
              <a:t>научного метод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НАУЧНЫЙ МЕТОД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482436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метный и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объективны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способ рассмотрения мира отличает науку от иных способов познания, таких как обыденное, художественное, религиозное, мифологическое, философское постижение мира. Например, в искусстве отражение действительности происходит как сумма субъективного и объективного, когда любое воспроизведение реальности предполагает эмоциональную оценку или реакцию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 каждом этапе принципиальное значение имеет критичное отношение как к данным, так и к полученным результатам любого уровня. Необходимость всё доказывать, обосновывать проверяемыми данными, подтверждать теоретические выводы результатами экспериментов отличает науку от других форм познания, в том числе от религии, которая основывается на вере в те или иные основные догма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дставления о науке и научном методе —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методология наук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со временем менялис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03280" y="2060280"/>
            <a:ext cx="4140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структуру современного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научного метода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то есть способа построения новых знаний, входят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блюдение фактов и измерение, количественное или качественное описание наблюдений. В таких описаниях с необходимостью используются различны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абстра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нализ результатов наблюдения — их систематизация, вычленение значимого и второстепенног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бобщение (синтез) и формулирование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гипотез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теорий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гноз: формулирование следствий из предложенной гипотезы или принятой теории с помощью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де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индукции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или других </a:t>
            </a:r>
            <a:r>
              <a:rPr b="0" lang="ru-RU" sz="1400" spc="-1" strike="noStrike" u="sng">
                <a:solidFill>
                  <a:srgbClr val="ffcc66"/>
                </a:solidFill>
                <a:uFillTx/>
                <a:latin typeface="Tahoma"/>
                <a:hlinkClick r:id="rId9"/>
              </a:rPr>
              <a:t>логических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методов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верка прогнозируемых следствий с помощью эксперимента (по терминологии Карла Поппера — критического эксперимента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и основных направления в научных исследовани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Фундаменталь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глубокое и всестороннее исследование предмета с целью получения новых основополагающих знаний, а также с целью выяснения закономерностей выясняемых явлений, результаты которых не предполагаются для непосредственного промышленного использования. Термин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1"/>
              </a:rPr>
              <a:t>фундамент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2"/>
              </a:rPr>
              <a:t>лат.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fundare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«основывать») отражает направленность этих наук на исследование первопричинных, основных законов приро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Прикладные научные исследования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 — это такие исследования, которые используют достижения фундаментальной науки, для решения практических задач. Результатом исследования является создание и совершенствование новых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3"/>
              </a:rPr>
              <a:t>технологий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 Narrow"/>
              </a:rPr>
              <a:t>Научно-исследовательские и опытно-конструкторские разработк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4"/>
              </a:rPr>
              <a:t>НИОКР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) — здесь соединяется наука с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5"/>
              </a:rPr>
              <a:t>производством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, тем самым обеспечивая как научные, так и технические и инженерные проработки данного проекта. Иногда полученные результаты могут привести к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 Narrow"/>
                <a:hlinkClick r:id="rId6"/>
              </a:rPr>
              <a:t>научно-технической революции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0" descr="научная деятельность"/>
          <p:cNvPicPr/>
          <p:nvPr/>
        </p:nvPicPr>
        <p:blipFill>
          <a:blip r:embed="rId7"/>
          <a:stretch/>
        </p:blipFill>
        <p:spPr>
          <a:xfrm>
            <a:off x="4643280" y="1557360"/>
            <a:ext cx="4105440" cy="46083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Т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́чно-техни́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коренной качественный переворот в производительных силах человечества, основанный на превращении науки в непосредственную производительную силу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чно-техническая револю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узком смысле — коренная перестройка технических основ материального производства, начавшееся в середине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XX 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 основе превращен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нау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ведущий фактор производства, в результате которого происходит трансформация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индустриального об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постиндустриально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циенти́з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cientism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у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 — общее название идейной позиции, представляющ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чное зн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ивысше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культурной цен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основополагающим фактором взаимодействия человека с миром. Нередко сциентисты считают «образцовыми науками»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физ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математ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ризывают строить остальные науки по их образу и подобию. Сциентизм ставит науку во главу идейной и культурной жизни общества. Сциентизм сам по себе не является стройной системой взглядов, а скорее может рассматриваться как определённая ориентация различных 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циент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9" descr="Сциентизм и антисциентизм"/>
          <p:cNvPicPr/>
          <p:nvPr/>
        </p:nvPicPr>
        <p:blipFill>
          <a:blip r:embed="rId1"/>
          <a:stretch/>
        </p:blipFill>
        <p:spPr>
          <a:xfrm>
            <a:off x="789120" y="1600200"/>
            <a:ext cx="3375000" cy="4525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11" descr="Сциентизм"/>
          <p:cNvPicPr/>
          <p:nvPr/>
        </p:nvPicPr>
        <p:blipFill>
          <a:blip r:embed="rId2"/>
          <a:stretch/>
        </p:blipFill>
        <p:spPr>
          <a:xfrm>
            <a:off x="4572000" y="1557360"/>
            <a:ext cx="4176720" cy="4608360"/>
          </a:xfrm>
          <a:prstGeom prst="rect">
            <a:avLst/>
          </a:prstGeom>
          <a:ln w="0">
            <a:noFill/>
          </a:ln>
        </p:spPr>
      </p:pic>
      <p:sp>
        <p:nvSpPr>
          <p:cNvPr id="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тисциенти́з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греч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anti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против и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scienti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знания) —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философск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ровоззренческая позиция, противостоящая сциентизму, заключающаяся в критическом отношении к науке, её положению в культуре и её возможностям познания, различающаяся по степени критичности от умеренного отношения до враждебного. Концепции, учения и деятельность радикальной антисциентистской направленности носят обобщённое наименование «антинау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нние виды антисциентизма базировались на отличных от науки формах сознания, таких как религия, искусство, нравствен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которые современные варианты антисциентизма обращают внимание на противоречивость научно-технического прогресса, который приводит, с одной стороны, к несомненным успехам, а с другой — влечёт за собой разрушительные последствия. Выдвигается требование, что наука должна нести за это ответственность. Такая разновидность антисциентической критики позволяет оценить роль и возможности науки с различных точек зрения, в том числе подчеркнуть значимость этических аспектов в научн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1T21:29:26Z</dcterms:created>
  <dc:creator>victor</dc:creator>
  <dc:description/>
  <dc:language>en-US</dc:language>
  <cp:lastModifiedBy>Legion</cp:lastModifiedBy>
  <dcterms:modified xsi:type="dcterms:W3CDTF">2017-09-22T10:35:50Z</dcterms:modified>
  <cp:revision>5</cp:revision>
  <dc:subject/>
  <dc:title>Слайд 1</dc:title>
</cp:coreProperties>
</file>