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D5B73-3FC4-44CF-A445-CD873AA23E46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НАУ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Arial"/>
              </a:rPr>
              <a:t>НАУК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Антисциенти́з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ffffff"/>
                </a:solidFill>
                <a:latin typeface="Arial"/>
              </a:rPr>
              <a:t>Антисциенти́зм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ения нау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 разработанная система знаний (информации) о природе, обществе, мышлении, об объективных законах их развития;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  деятельность людей, направленная на: а) систематизацию знаний;  б) более углубленное познание законов природы, общества, мышления;      в) дальнейшее воплощение полученных знаний (информации) в техническом, технологическом или организационном применении (а также в воспитании человека, его обслуживании и т.д.);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) учреждения и организации, в которых осуществляется научный труд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пределения наук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) разработанная система знаний (информации) о природе, обществе, мышлении, об объективных законах их развития;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)  деятельность людей, направленная на: а) систематизацию знаний;  б) более углубленное познание законов природы, общества, мышления;      в) дальнейшее воплощение полученных знаний (информации) в техническом, технологическом или организационном применении (а также в воспитании человека, его обслуживании и т.д.);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) учреждения и организации, в которых осуществляется научный труд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УЧНАЯ КАРТИНА МИ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учная картина (модель) мира — система представлений о свойствах и закономерностях реальной действительности, построенная в результате обобщения и синтеза научных понятий и принцип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роцессе развития науки происходит постоянное обновление знаний, идей и концепций, более ранние представления становятся частными случаями новых теорий. Научная картина мира не догма и не абсолютная истина. Научные представления об окружающем мире основаны на всей совокупности доказанных фактов и установленных причинно-следственных связей, что позволяет с определённой степенью уверенности делать способствующие развитию человеческой цивилизации заключения и прогнозы о свойствах нашего мира. Несоответствие результатов проверки теории, гипотезе, концепции, выявление новых фактов — всё это заставляет пересматривать имеющиеся представления и создавать новые, более соответствующие реальности. В таком развитии — суть научного мето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АУЧНАЯ КАРТИНА МИР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аучная картина (модель) мира — система представлений о свойствах и закономерностях реальной действительности, построенная в результате обобщения и синтеза научных понятий и принципов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процессе развития науки происходит постоянное обновление знаний, идей и концепций, более ранние представления становятся частными случаями новых теорий. Научная картина мира не догма и не абсолютная истина. Научные представления об окружающем мире основаны на всей совокупности доказанных фактов и установленных причинно-следственных связей, что позволяет с определённой степенью уверенности делать способствующие развитию человеческой цивилизации заключения и прогнозы о свойствах нашего мира. Несоответствие результатов проверки теории, гипотезе, концепции, выявление новых фактов — всё это заставляет пересматривать имеющиеся представления и создавать новые, более соответствующие реальности. В таком развитии — суть научного метода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УЧНЫЙ МЕТ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метный и объективный способ рассмотрения мира отличает науку от иных способов познания, таких как обыденное, художественное, религиозное, мифологическое, философское постижение мира. Например, в искусстве отражение действительности происходит как сумма субъективного и объективного, когда любое воспроизведение реальности предполагает эмоциональную оценку или реакцию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каждом этапе принципиальное значение имеет критичное отношение как к данным, так и к полученным результатам любого уровня. Необходимость всё доказывать, обосновывать проверяемыми данными, подтверждать теоретические выводы результатами экспериментов отличает науку от других форм познания, в том числе от религии, которая основывается на вере в те или иные основные догма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ставления о науке и научном методе — методология науки, со временем менялис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труктуру современного научного метода, то есть способа построения новых знаний, входя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блюдение фактов и измерение, количественное или качественное описание наблюдений. В таких описаниях с необходимостью используются различные абстракц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ализ результатов наблюдения — их систематизация, вычленение значимого и второстепенног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общение (синтез) и формулирование гипотез, теори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гноз: формулирование следствий из предложенной гипотезы или принятой теории с помощью дедукции, индукции или других логических метод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ерка прогнозируемых следствий с помощью эксперимента (по терминологии Карла Поппера — критического эксперимента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АУЧНЫЙ МЕТОД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едметный и объективный способ рассмотрения мира отличает науку от иных способов познания, таких как обыденное, художественное, религиозное, мифологическое, философское постижение мира. Например, в искусстве отражение действительности происходит как сумма субъективного и объективного, когда любое воспроизведение реальности предполагает эмоциональную оценку или реакцию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а каждом этапе принципиальное значение имеет критичное отношение как к данным, так и к полученным результатам любого уровня. Необходимость всё доказывать, обосновывать проверяемыми данными, подтверждать теоретические выводы результатами экспериментов отличает науку от других форм познания, в том числе от религии, которая основывается на вере в те или иные основные догматы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едставления о науке и научном методе — методология науки, со временем менялись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структуру современного научного метода, то есть способа построения новых знаний, входят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аблюдение фактов и измерение, количественное или качественное описание наблюдений. В таких описаниях с необходимостью используются различные абстракции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нализ результатов наблюдения — их систематизация, вычленение значимого и второстепенного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общение (синтез) и формулирование гипотез, теорий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огноз: формулирование следствий из предложенной гипотезы или принятой теории с помощью дедукции, индукции или других логических методов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оверка прогнозируемых следствий с помощью эксперимента (по терминологии Карла Поппера — критического эксперимента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и основных направления в научных исследованиях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ундаментальные научные исследования — это глубокое и всестороннее исследование предмета с целью получения новых основополагающих знаний, а также с целью выяснения закономерностей выясняемых явлений, результаты которых не предполагаются для непосредственного промышленного использования. Термин фундаментальность (лат. fundare — «основывать») отражает направленность этих наук на исследование первопричинных, основных законов природ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кладные научные исследования — это такие исследования, которые используют достижения фундаментальной науки, для решения практических задач. Результатом исследования является создание и совершенствование новых технологи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учно-исследовательские и опытно-конструкторские разработки (НИОКР) — здесь соединяется наука с производством, тем самым обеспечивая как научные, так и технические и инженерные проработки данного проекта. Иногда полученные результаты могут привести к научно-технической революц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три основных направления в научных исследованиях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Фундаментальные научные исследования — это глубокое и всестороннее исследование предмета с целью получения новых основополагающих знаний, а также с целью выяснения закономерностей выясняемых явлений, результаты которых не предполагаются для непосредственного промышленного использования. Термин фундаментальность (лат. fundare — «основывать») отражает направленность этих наук на исследование первопричинных, основных законов природы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икладные научные исследования — это такие исследования, которые используют достижения фундаментальной науки, для решения практических задач. Результатом исследования является создание и совершенствование новых технологий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аучно-исследовательские и опытно-конструкторские разработки (НИОКР) — здесь соединяется наука с производством, тем самым обеспечивая как научные, так и технические и инженерные проработки данного проекта. Иногда полученные результаты могут привести к научно-технической революции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Т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у́чно-техни́ческая революция (НТР) — коренной качественный переворот в производительных силах человечества, основанный на превращении науки в непосредственную производительную силу обще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учно-техническая революция в узком смысле — коренная перестройка технических основ материального производства, начавшееся в середине XX в., на основе превращения науки в ведущий фактор производства, в результате которого происходит трансформация индустриального общества в постиндустриально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ТР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ау́чно-техни́ческая революция (НТР) — коренной качественный переворот в производительных силах человечества, основанный на превращении науки в непосредственную производительную силу общества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аучно-техническая революция в узком смысле — коренная перестройка технических основ материального производства, начавшееся в середине XX в., на основе превращения науки в ведущий фактор производства, в результате которого происходит трансформация индустриального общества в постиндустриальное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циентиз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циенти́зм (фр. scientisme, от лат. scientia — наука, знание) — общее название идейной позиции, представляющей научное знание наивысшей культурной ценностью и основополагающим фактором взаимодействия человека с миром. Нередко сциентисты считают «образцовыми науками» физику или математику и призывают строить остальные науки по их образу и подобию. Сциентизм ставит науку во главу идейной и культурной жизни общества. Сциентизм сам по себе не является стройной системой взглядов, а скорее может рассматриваться как определённая ориентация различных сист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циентизм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циенти́зм (фр. scientisme, от лат. scientia — наука, знание) — общее название идейной позиции, представляющей научное знание наивысшей культурной ценностью и основополагающим фактором взаимодействия человека с миром. Нередко сциентисты считают «образцовыми науками» физику или математику и призывают строить остальные науки по их образу и подобию. Сциентизм ставит науку во главу идейной и культурной жизни общества. Сциентизм сам по себе не является стройной системой взглядов, а скорее может рассматриваться как определённая ориентация различных систем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сциентиз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Arial"/>
              </a:rPr>
              <a:t>сциентизм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тисциенти́з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тисциенти́зм (от греч. anti- — против и лат. scientia — знания) — философско-мировоззренческая позиция, противостоящая сциентизму, заключающаяся в критическом отношении к науке, её положению в культуре и её возможностям познания, различающаяся по степени критичности от умеренного отношения до враждебного. Концепции, учения и деятельность радикальной антисциентистской направленности носят обобщённое наименование «антинаука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нние виды антисциентизма базировались на отличных от науки формах сознания, таких как религия, искусство, нравственност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которые современные варианты антисциентизма обращают внимание на противоречивость научно-технического прогресса, который приводит, с одной стороны, к несомненным успехам, а с другой — влечёт за собой разрушительные последствия. Выдвигается требование, что наука должна нести за это ответственность. Такая разновидность антисциентической критики позволяет оценить роль и возможности науки с различных точек зрения, в том числе подчеркнуть значимость этических аспектов в научной деятельн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нтисциенти́зм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нтисциенти́зм (от греч. anti- — против и лат. scientia — знания) — философско-мировоззренческая позиция, противостоящая сциентизму, заключающаяся в критическом отношении к науке, её положению в культуре и её возможностям познания, различающаяся по степени критичности от умеренного отношения до враждебного. Концепции, учения и деятельность радикальной антисциентистской направленности носят обобщённое наименование «антинаука»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анние виды антисциентизма базировались на отличных от науки формах сознания, таких как религия, искусство, нравственность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екоторые современные варианты антисциентизма обращают внимание на противоречивость научно-технического прогресса, который приводит, с одной стороны, к несомненным успехам, а с другой — влечёт за собой разрушительные последствия. Выдвигается требование, что наука должна нести за это ответственность. Такая разновидность антисциентической критики позволяет оценить роль и возможности науки с различных точек зрения, в том числе подчеркнуть значимость этических аспектов в научной деятельности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18CF5-2A63-403D-9EC1-144A78980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6F678-26B4-48B6-A6D9-FD9A4E876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24BA6-985E-47BF-BAEC-AF202F978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F9C37-C0AD-46B6-B7A7-2B0F1AADC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AFF94-3CF7-4280-9F38-8ED85A37F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6F94E-D499-45EB-82DE-12C5054AC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6C371-58F2-450A-8163-6C9D8FE68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B19D6-D64E-4CB3-98DA-0EC5C81F1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28EFE-4C96-4858-8A8A-01120D1C0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C60FC-C161-47D9-A39E-FE54AEE9C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830E0-54AD-4AF2-A1EF-35FA7DC05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E7B4C-158C-41CC-86B0-9C2098CA4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7906C-38E1-45C4-852C-BF8145348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880E6-8336-4180-9008-4F762592B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8CB4C-6511-4AD8-A440-3E9502866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DD4BA-D59E-4C23-BAF8-D7709A4BB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F998D-4C8B-4969-B1AE-FE095E2B5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4F3E84-298E-4FDB-8375-3D07BDD3E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4A8E33-83EB-4C60-B7BB-76669119D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8CC0B6-1FC2-4B6F-B819-034ECDB9B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F9B7A4-FBE4-47A6-9BB9-1715FF466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832267-0657-40E0-86AA-BE87B327C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5BD3D-EDB4-41FB-864A-5B70ECC8C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E8B96B-CD23-4617-AE5E-E22BE4983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FAEF5F-226B-4DC1-AE9B-E1C9F83D5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1D9CFD-4503-4314-B358-CA3001110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4469D2-661D-4102-8864-1098A73CB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9CA6AE-79BA-45F6-89DA-4EF74B072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1B548C-88BC-4479-998E-9746D5318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0C1CCE-56BF-4259-AA23-E24255491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FE5BE6E-27D2-45DA-B59A-9DD27375B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CD6B37B-7A61-4B50-9FBE-A2D76D8F0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88E7817-568D-4CFC-8958-3DFD25641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E0BFF-75E3-4BBE-BCD9-BA86E5654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7DB33A5-7D8A-4502-9DC1-7527320A8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EA4BEBD-918F-47BB-AA57-65B51668C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E9945D6-D05D-47FE-A33C-4AF27D5E0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CC96303-058F-4659-8219-8DC4586C9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3077D02-CE51-460B-8CED-27FE46DBA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3C6D5CC-8B9E-428D-89CB-B0BCB0583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A802BEA-70AD-405B-AE5C-42F3AC6E7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D95643F-B369-44E7-BF29-4D5EC0C49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865AAC3-6D4C-43A8-87EF-AF921943C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3E0135-4182-4E62-B4CB-4042C879E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37950-FB66-4EBA-A377-0545CB016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21FD36-1239-4B12-975B-6165C1F6C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4C56FE-F9B2-4E49-84AE-11EF899F2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CBED85-F7B3-417A-B099-8C71A39B5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8BBF10-9545-4FE3-9F11-8A96F740C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52CB9A-2F8A-425D-8B7A-8DCEB6586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D927EB-1788-4E3F-BACE-C3204D4DF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D289EB-14F0-4EDD-83F8-33C2F83E9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0FD725-6EB0-4E70-87DA-C6831EC58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74F248-E536-40AA-9C85-C5BBFF624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B8D8C2-1E1C-4BA8-AFA6-707CA28B6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D65E6-4162-42B8-A263-A18354624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8031F7-6EE1-4D73-9600-CCEF02EF4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6AF451-5B8A-481C-931C-E6957447A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2665A9-5036-4355-9196-F8ED70C39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00515A-DF03-4C9F-BBA3-816AABD07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81136E-FC2E-4CEB-9C14-452D5446E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0D261A-74D9-4072-AFD9-CD9391304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2A0235-7EC8-45B7-B0B0-4B3D412A9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080E5F-1610-4BA5-9B3B-8987D4B03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5BBD75-6FB9-40E9-80CC-4EE640096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E3F339-12D4-40FC-9689-EF4D538AD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A0437-18D0-4899-B18E-66A6C0880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FE940D-6FC9-47E7-8FA4-1125CFCAB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0CFD42-1673-4EB7-8333-56FD8F1E9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76A2B6-B92B-427A-9B36-60A4126D8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03B83E-C966-4B83-A189-8AF2A5CD1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FAA432-3441-47C3-8225-65B7227C8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3C5DE5-3C6B-4692-B35F-496071E32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2551F7-B8D0-4A86-A93C-B400C66D0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3A6ABC-F344-466B-982F-A1F316736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71F6EB-E244-45F9-AC03-2C826C6EB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C3D885-550D-4210-BF30-32560B287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C392B-3972-4A34-94FF-D18BBB89A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93DF9F-3DAE-49CE-8306-8DBFC0949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9BFA86-04B1-43CA-8006-AF6F2B38D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313561-39D4-4D0F-A1FC-A2BD78226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7EBE3E-62AA-4387-95A5-E69A35011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5D88CE-5894-4394-B854-EDCC84775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DD896-4B91-481C-8F59-0E2540F31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AE759-A618-4BDF-94B2-4DA78083D750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986DB-FCB2-4EC3-8143-C809AEC88BC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18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1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122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35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46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147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52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7DB59-2974-4176-9B08-A6204D7E7204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ftr" idx="1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0BA05-AD07-444E-B71B-71BA569B0157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7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98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7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dt" idx="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24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3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14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15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2B64A-9BA1-42E0-A41E-3D4DB6F6BB9D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2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323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26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327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40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51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352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7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53FFC-8B61-4E3B-870C-6C6FA64C1563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0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0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40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4A477-1EB0-4777-8A25-A7B0325F9775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7;&#1085;&#1072;&#1085;&#1080;&#1077;" TargetMode="External"/><Relationship Id="rId2" Type="http://schemas.openxmlformats.org/officeDocument/2006/relationships/hyperlink" Target="http://ru.wikipedia.org/wiki/&#1048;&#1076;&#1077;&#1103;" TargetMode="External"/><Relationship Id="rId3" Type="http://schemas.openxmlformats.org/officeDocument/2006/relationships/hyperlink" Target="http://ru.wikipedia.org/wiki/&#1050;&#1086;&#1085;&#1094;&#1077;&#1087;&#1094;&#1080;&#1103;" TargetMode="External"/><Relationship Id="rId4" Type="http://schemas.openxmlformats.org/officeDocument/2006/relationships/hyperlink" Target="http://ru.wikipedia.org/w/index.php?title=&#1063;&#1072;&#1089;&#1090;&#1085;&#1099;&#1081;_&#1089;&#1083;&#1091;&#1095;&#1072;&#1081;&amp;action=edit&amp;redlink=1" TargetMode="External"/><Relationship Id="rId5" Type="http://schemas.openxmlformats.org/officeDocument/2006/relationships/hyperlink" Target="http://ru.wikipedia.org/wiki/&#1058;&#1077;&#1086;&#1088;&#1080;&#1103;" TargetMode="External"/><Relationship Id="rId6" Type="http://schemas.openxmlformats.org/officeDocument/2006/relationships/hyperlink" Target="http://ru.wikipedia.org/wiki/&#1044;&#1086;&#1075;&#1084;&#1072;&#1090;" TargetMode="External"/><Relationship Id="rId7" Type="http://schemas.openxmlformats.org/officeDocument/2006/relationships/hyperlink" Target="http://ru.wikipedia.org/wiki/&#1040;&#1073;&#1089;&#1086;&#1083;&#1102;&#1090;&#1085;&#1072;&#1103;_&#1080;&#1089;&#1090;&#1080;&#1085;&#1072;" TargetMode="External"/><Relationship Id="rId8" Type="http://schemas.openxmlformats.org/officeDocument/2006/relationships/hyperlink" Target="http://ru.wikipedia.org/wiki/&#1044;&#1086;&#1082;&#1072;&#1079;&#1072;&#1085;&#1085;&#1099;&#1081;_&#1092;&#1072;&#1082;&#1090;" TargetMode="External"/><Relationship Id="rId9" Type="http://schemas.openxmlformats.org/officeDocument/2006/relationships/hyperlink" Target="http://ru.wikipedia.org/wiki/&#1055;&#1088;&#1080;&#1095;&#1080;&#1085;&#1085;&#1086;-&#1089;&#1083;&#1077;&#1076;&#1089;&#1090;&#1074;&#1077;&#1085;&#1085;&#1072;&#1103;_&#1089;&#1074;&#1103;&#1079;&#1100;" TargetMode="External"/><Relationship Id="rId10" Type="http://schemas.openxmlformats.org/officeDocument/2006/relationships/hyperlink" Target="http://ru.wikipedia.org/wiki/&#1062;&#1080;&#1074;&#1080;&#1083;&#1080;&#1079;&#1072;&#1094;&#1080;&#1103;" TargetMode="External"/><Relationship Id="rId11" Type="http://schemas.openxmlformats.org/officeDocument/2006/relationships/hyperlink" Target="http://ru.wikipedia.org/wiki/&#1055;&#1088;&#1086;&#1075;&#1085;&#1086;&#1079;" TargetMode="External"/><Relationship Id="rId12" Type="http://schemas.openxmlformats.org/officeDocument/2006/relationships/hyperlink" Target="http://ru.wikipedia.org/wiki/&#1053;&#1072;&#1091;&#1095;&#1085;&#1099;&#1081;_&#1084;&#1077;&#1090;&#1086;&#1076;" TargetMode="External"/><Relationship Id="rId13" Type="http://schemas.openxmlformats.org/officeDocument/2006/relationships/slideLayout" Target="../slideLayouts/slideLayout25.xml"/><Relationship Id="rId1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4;&#1073;&#1098;&#1077;&#1082;&#1090;&#1080;&#1074;&#1085;&#1072;&#1103;_&#1088;&#1077;&#1072;&#1083;&#1100;&#1085;&#1086;&#1089;&#1090;&#1100;" TargetMode="External"/><Relationship Id="rId2" Type="http://schemas.openxmlformats.org/officeDocument/2006/relationships/hyperlink" Target="http://ru.wikipedia.org/wiki/&#1052;&#1077;&#1090;&#1086;&#1076;&#1086;&#1083;&#1086;&#1075;&#1080;&#1103;_&#1085;&#1072;&#1091;&#1082;&#1080;" TargetMode="External"/><Relationship Id="rId3" Type="http://schemas.openxmlformats.org/officeDocument/2006/relationships/hyperlink" Target="http://ru.wikipedia.org/wiki/&#1053;&#1072;&#1091;&#1095;&#1085;&#1099;&#1081;_&#1084;&#1077;&#1090;&#1086;&#1076;" TargetMode="External"/><Relationship Id="rId4" Type="http://schemas.openxmlformats.org/officeDocument/2006/relationships/hyperlink" Target="http://ru.wikipedia.org/wiki/&#1040;&#1073;&#1089;&#1090;&#1088;&#1072;&#1082;&#1094;&#1080;&#1103;" TargetMode="External"/><Relationship Id="rId5" Type="http://schemas.openxmlformats.org/officeDocument/2006/relationships/hyperlink" Target="http://ru.wikipedia.org/wiki/&#1043;&#1080;&#1087;&#1086;&#1090;&#1077;&#1079;&#1072;" TargetMode="External"/><Relationship Id="rId6" Type="http://schemas.openxmlformats.org/officeDocument/2006/relationships/hyperlink" Target="http://ru.wikipedia.org/wiki/&#1058;&#1077;&#1086;&#1088;&#1080;&#1103;" TargetMode="External"/><Relationship Id="rId7" Type="http://schemas.openxmlformats.org/officeDocument/2006/relationships/hyperlink" Target="http://ru.wikipedia.org/wiki/&#1044;&#1077;&#1076;&#1091;&#1082;&#1094;&#1080;&#1103;" TargetMode="External"/><Relationship Id="rId8" Type="http://schemas.openxmlformats.org/officeDocument/2006/relationships/hyperlink" Target="http://ru.wikipedia.org/wiki/&#1048;&#1085;&#1076;&#1091;&#1082;&#1090;&#1080;&#1074;&#1085;&#1086;&#1077;_&#1091;&#1084;&#1086;&#1079;&#1072;&#1082;&#1083;&#1102;&#1095;&#1077;&#1085;&#1080;&#1077;" TargetMode="External"/><Relationship Id="rId9" Type="http://schemas.openxmlformats.org/officeDocument/2006/relationships/hyperlink" Target="http://ru.wikipedia.org/wiki/&#1051;&#1086;&#1075;&#1080;&#1082;&#1072;" TargetMode="External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ru.wikipedia.org/w/index.php?title=&#1060;&#1091;&#1085;&#1076;&#1072;&#1084;&#1077;&#1085;&#1090;&#1072;&#1083;&#1100;&#1085;&#1086;&#1089;&#1090;&#1100;&amp;action=edit&amp;redlink=1" TargetMode="External"/><Relationship Id="rId2" Type="http://schemas.openxmlformats.org/officeDocument/2006/relationships/hyperlink" Target="http://ru.wikipedia.org/wiki/&#1051;&#1072;&#1090;&#1080;&#1085;&#1089;&#1082;&#1080;&#1081;_&#1103;&#1079;&#1099;&#1082;" TargetMode="External"/><Relationship Id="rId3" Type="http://schemas.openxmlformats.org/officeDocument/2006/relationships/hyperlink" Target="http://ru.wikipedia.org/wiki/&#1058;&#1077;&#1093;&#1085;&#1086;&#1083;&#1086;&#1075;&#1080;&#1103;" TargetMode="External"/><Relationship Id="rId4" Type="http://schemas.openxmlformats.org/officeDocument/2006/relationships/hyperlink" Target="http://ru.wikipedia.org/wiki/&#1053;&#1048;&#1054;&#1050;&#1056;" TargetMode="External"/><Relationship Id="rId5" Type="http://schemas.openxmlformats.org/officeDocument/2006/relationships/hyperlink" Target="http://ru.wikipedia.org/wiki/&#1055;&#1088;&#1086;&#1080;&#1079;&#1074;&#1086;&#1076;&#1089;&#1090;&#1074;&#1086;" TargetMode="External"/><Relationship Id="rId6" Type="http://schemas.openxmlformats.org/officeDocument/2006/relationships/hyperlink" Target="http://ru.wikipedia.org/wiki/&#1053;&#1072;&#1091;&#1095;&#1085;&#1086;-&#1090;&#1077;&#1093;&#1085;&#1080;&#1095;&#1077;&#1089;&#1082;&#1072;&#1103;_&#1088;&#1077;&#1074;&#1086;&#1083;&#1102;&#1094;&#1080;&#1103;" TargetMode="External"/><Relationship Id="rId7" Type="http://schemas.openxmlformats.org/officeDocument/2006/relationships/image" Target="../media/image3.jpe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ru.wikipedia.org/wiki/XX_&#1074;&#1077;&#1082;" TargetMode="External"/><Relationship Id="rId2" Type="http://schemas.openxmlformats.org/officeDocument/2006/relationships/hyperlink" Target="http://ru.wikipedia.org/wiki/&#1053;&#1072;&#1091;&#1082;&#1072;" TargetMode="External"/><Relationship Id="rId3" Type="http://schemas.openxmlformats.org/officeDocument/2006/relationships/hyperlink" Target="http://ru.wikipedia.org/wiki/&#1048;&#1085;&#1076;&#1091;&#1089;&#1090;&#1088;&#1080;&#1072;&#1083;&#1100;&#1085;&#1086;&#1077;_&#1086;&#1073;&#1097;&#1077;&#1089;&#1090;&#1074;&#1086;" TargetMode="External"/><Relationship Id="rId4" Type="http://schemas.openxmlformats.org/officeDocument/2006/relationships/hyperlink" Target="http://ru.wikipedia.org/wiki/&#1055;&#1086;&#1089;&#1090;&#1080;&#1085;&#1076;&#1091;&#1089;&#1090;&#1088;&#1080;&#1072;&#1083;&#1100;&#1085;&#1086;&#1077;_&#1086;&#1073;&#1097;&#1077;&#1089;&#1090;&#1074;&#1086;" TargetMode="External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88;&#1072;&#1085;&#1094;&#1091;&#1079;&#1089;&#1082;&#1080;&#1081;_&#1103;&#1079;&#1099;&#1082;" TargetMode="External"/><Relationship Id="rId2" Type="http://schemas.openxmlformats.org/officeDocument/2006/relationships/hyperlink" Target="http://ru.wikipedia.org/wiki/&#1051;&#1072;&#1090;&#1080;&#1085;&#1089;&#1082;&#1080;&#1081;_&#1103;&#1079;&#1099;&#1082;" TargetMode="External"/><Relationship Id="rId3" Type="http://schemas.openxmlformats.org/officeDocument/2006/relationships/hyperlink" Target="http://ru.wikipedia.org/wiki/&#1053;&#1072;&#1091;&#1082;&#1072;" TargetMode="External"/><Relationship Id="rId4" Type="http://schemas.openxmlformats.org/officeDocument/2006/relationships/hyperlink" Target="http://ru.wikipedia.org/wiki/&#1050;&#1091;&#1083;&#1100;&#1090;&#1091;&#1088;&#1085;&#1099;&#1077;_&#1094;&#1077;&#1085;&#1085;&#1086;&#1089;&#1090;&#1080;" TargetMode="External"/><Relationship Id="rId5" Type="http://schemas.openxmlformats.org/officeDocument/2006/relationships/hyperlink" Target="http://ru.wikipedia.org/wiki/&#1060;&#1080;&#1079;&#1080;&#1082;&#1072;" TargetMode="External"/><Relationship Id="rId6" Type="http://schemas.openxmlformats.org/officeDocument/2006/relationships/hyperlink" Target="http://ru.wikipedia.org/wiki/&#1052;&#1072;&#1090;&#1077;&#1084;&#1072;&#1090;&#1080;&#1082;&#1072;" TargetMode="External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3;&#1088;&#1077;&#1095;&#1077;&#1089;&#1082;&#1080;&#1081;_&#1103;&#1079;&#1099;&#1082;" TargetMode="External"/><Relationship Id="rId2" Type="http://schemas.openxmlformats.org/officeDocument/2006/relationships/hyperlink" Target="http://ru.wikipedia.org/wiki/&#1051;&#1072;&#1090;&#1080;&#1085;&#1089;&#1082;&#1080;&#1081;_&#1103;&#1079;&#1099;&#1082;" TargetMode="External"/><Relationship Id="rId3" Type="http://schemas.openxmlformats.org/officeDocument/2006/relationships/hyperlink" Target="http://ru.wikipedia.org/wiki/&#1060;&#1080;&#1083;&#1086;&#1089;&#1086;&#1092;&#1080;&#1103;" TargetMode="External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AutoShape 9"/>
          <p:cNvSpPr/>
          <p:nvPr/>
        </p:nvSpPr>
        <p:spPr>
          <a:xfrm>
            <a:off x="0" y="-20520"/>
            <a:ext cx="26100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AutoShape 11"/>
          <p:cNvSpPr/>
          <p:nvPr/>
        </p:nvSpPr>
        <p:spPr>
          <a:xfrm>
            <a:off x="3267000" y="2552760"/>
            <a:ext cx="26100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AutoShape 14"/>
          <p:cNvSpPr/>
          <p:nvPr/>
        </p:nvSpPr>
        <p:spPr>
          <a:xfrm>
            <a:off x="3267000" y="2552760"/>
            <a:ext cx="26100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5" name="Picture 16" descr="%D0%BD%D0%B0%D1%83%D0%BA%D0%B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8f8f8"/>
                </a:solidFill>
                <a:latin typeface="Arial"/>
              </a:rPr>
              <a:t>НАУК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AutoShape 20"/>
          <p:cNvSpPr/>
          <p:nvPr/>
        </p:nvSpPr>
        <p:spPr>
          <a:xfrm>
            <a:off x="3591000" y="2262240"/>
            <a:ext cx="1962000" cy="23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AutoShape 22"/>
          <p:cNvSpPr/>
          <p:nvPr/>
        </p:nvSpPr>
        <p:spPr>
          <a:xfrm>
            <a:off x="3591000" y="2262240"/>
            <a:ext cx="1962000" cy="23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нтисциенти́з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5" name="Picture 11" descr="Наука"/>
          <p:cNvPicPr/>
          <p:nvPr/>
        </p:nvPicPr>
        <p:blipFill>
          <a:blip r:embed="rId1"/>
          <a:stretch/>
        </p:blipFill>
        <p:spPr>
          <a:xfrm>
            <a:off x="457200" y="1994040"/>
            <a:ext cx="4038480" cy="373680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12" descr="225px-Empedokles"/>
          <p:cNvPicPr/>
          <p:nvPr/>
        </p:nvPicPr>
        <p:blipFill>
          <a:blip r:embed="rId2"/>
          <a:stretch/>
        </p:blipFill>
        <p:spPr>
          <a:xfrm>
            <a:off x="4643280" y="1557360"/>
            <a:ext cx="4032360" cy="4535640"/>
          </a:xfrm>
          <a:prstGeom prst="rect">
            <a:avLst/>
          </a:prstGeom>
          <a:ln w="0">
            <a:noFill/>
          </a:ln>
        </p:spPr>
      </p:pic>
      <p:sp>
        <p:nvSpPr>
          <p:cNvPr id="5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8" name="Picture 6" descr="Две конформации одной и той же полимерной цепи - клубок и глобула"/>
          <p:cNvPicPr/>
          <p:nvPr/>
        </p:nvPicPr>
        <p:blipFill>
          <a:blip r:embed="rId1"/>
          <a:stretch/>
        </p:blipFill>
        <p:spPr>
          <a:xfrm>
            <a:off x="0" y="-792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5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llegro BT"/>
              </a:rPr>
              <a:t>Определения нау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) разработанная система знаний (информации) о природе, обществе, мышлении, об объективных законах их развития;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)  деятельность людей, направленная на: а) систематизацию знаний;  б) более углубленное познание законов природы, общества, мышления;      в) дальнейшее воплощение полученных знаний (информации) в техническом, технологическом или организационном применении (а также в воспитании человека, его обслуживании и т.д.);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) учреждения и организации, в которых осуществляется научный труд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AutoShape 6"/>
          <p:cNvSpPr/>
          <p:nvPr/>
        </p:nvSpPr>
        <p:spPr>
          <a:xfrm>
            <a:off x="0" y="-20520"/>
            <a:ext cx="250524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5" name="Picture 8" descr="Наука и образование"/>
          <p:cNvPicPr/>
          <p:nvPr/>
        </p:nvPicPr>
        <p:blipFill>
          <a:blip r:embed="rId1"/>
          <a:stretch/>
        </p:blipFill>
        <p:spPr>
          <a:xfrm>
            <a:off x="4643280" y="1557360"/>
            <a:ext cx="4392720" cy="4608360"/>
          </a:xfrm>
          <a:prstGeom prst="rect">
            <a:avLst/>
          </a:prstGeom>
          <a:ln w="0">
            <a:noFill/>
          </a:ln>
        </p:spPr>
      </p:pic>
      <p:sp>
        <p:nvSpPr>
          <p:cNvPr id="4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НАУЧНАЯ КАРТИНА МИР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Научная картина (модель) мира — система представлений о свойствах и закономерностях реальной действительности, построенная в результате обобщения и синтеза научных понятий и принципов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22200" indent="-32220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В процессе развития науки происходит постоянное обновление </a:t>
            </a:r>
            <a:r>
              <a:rPr b="0" lang="ru-RU" sz="2000" spc="-1" strike="noStrike" u="sng">
                <a:solidFill>
                  <a:srgbClr val="ffffcc"/>
                </a:solidFill>
                <a:uFillTx/>
                <a:latin typeface="Verdana"/>
                <a:hlinkClick r:id="rId1"/>
              </a:rPr>
              <a:t>знаний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, </a:t>
            </a:r>
            <a:r>
              <a:rPr b="0" lang="ru-RU" sz="2000" spc="-1" strike="noStrike" u="sng">
                <a:solidFill>
                  <a:srgbClr val="ffffcc"/>
                </a:solidFill>
                <a:uFillTx/>
                <a:latin typeface="Verdana"/>
                <a:hlinkClick r:id="rId2"/>
              </a:rPr>
              <a:t>идей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и </a:t>
            </a:r>
            <a:r>
              <a:rPr b="0" lang="ru-RU" sz="2000" spc="-1" strike="noStrike" u="sng">
                <a:solidFill>
                  <a:srgbClr val="ffffcc"/>
                </a:solidFill>
                <a:uFillTx/>
                <a:latin typeface="Verdana"/>
                <a:hlinkClick r:id="rId3"/>
              </a:rPr>
              <a:t>концепций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, более ранние представления становятся </a:t>
            </a:r>
            <a:r>
              <a:rPr b="0" lang="ru-RU" sz="2000" spc="-1" strike="noStrike" u="sng">
                <a:solidFill>
                  <a:srgbClr val="ffffcc"/>
                </a:solidFill>
                <a:uFillTx/>
                <a:latin typeface="Verdana"/>
                <a:hlinkClick r:id="rId4"/>
              </a:rPr>
              <a:t>частными случаями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новых </a:t>
            </a:r>
            <a:r>
              <a:rPr b="0" lang="ru-RU" sz="2000" spc="-1" strike="noStrike" u="sng">
                <a:solidFill>
                  <a:srgbClr val="ffffcc"/>
                </a:solidFill>
                <a:uFillTx/>
                <a:latin typeface="Verdana"/>
                <a:hlinkClick r:id="rId5"/>
              </a:rPr>
              <a:t>теорий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. Научная картина мира не </a:t>
            </a:r>
            <a:r>
              <a:rPr b="0" lang="ru-RU" sz="2000" spc="-1" strike="noStrike" u="sng">
                <a:solidFill>
                  <a:srgbClr val="ffffcc"/>
                </a:solidFill>
                <a:uFillTx/>
                <a:latin typeface="Verdana"/>
                <a:hlinkClick r:id="rId6"/>
              </a:rPr>
              <a:t>догма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и не </a:t>
            </a:r>
            <a:r>
              <a:rPr b="0" lang="ru-RU" sz="2000" spc="-1" strike="noStrike" u="sng">
                <a:solidFill>
                  <a:srgbClr val="ffffcc"/>
                </a:solidFill>
                <a:uFillTx/>
                <a:latin typeface="Verdana"/>
                <a:hlinkClick r:id="rId7"/>
              </a:rPr>
              <a:t>абсолютная истина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. Научные представления об окружающем мире основаны на всей совокупности </a:t>
            </a:r>
            <a:r>
              <a:rPr b="0" lang="ru-RU" sz="2000" spc="-1" strike="noStrike" u="sng">
                <a:solidFill>
                  <a:srgbClr val="ffffcc"/>
                </a:solidFill>
                <a:uFillTx/>
                <a:latin typeface="Verdana"/>
                <a:hlinkClick r:id="rId8"/>
              </a:rPr>
              <a:t>доказанных фактов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и установленных </a:t>
            </a:r>
            <a:r>
              <a:rPr b="0" lang="ru-RU" sz="2000" spc="-1" strike="noStrike" u="sng">
                <a:solidFill>
                  <a:srgbClr val="ffffcc"/>
                </a:solidFill>
                <a:uFillTx/>
                <a:latin typeface="Verdana"/>
                <a:hlinkClick r:id="rId9"/>
              </a:rPr>
              <a:t>причинно-следственных связей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, что позволяет с определённой степенью уверенности делать способствующие развитию человеческой </a:t>
            </a:r>
            <a:r>
              <a:rPr b="0" lang="ru-RU" sz="2000" spc="-1" strike="noStrike" u="sng">
                <a:solidFill>
                  <a:srgbClr val="ffffcc"/>
                </a:solidFill>
                <a:uFillTx/>
                <a:latin typeface="Verdana"/>
                <a:hlinkClick r:id="rId10"/>
              </a:rPr>
              <a:t>цивилизации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заключения и </a:t>
            </a:r>
            <a:r>
              <a:rPr b="0" lang="ru-RU" sz="2000" spc="-1" strike="noStrike" u="sng">
                <a:solidFill>
                  <a:srgbClr val="ffffcc"/>
                </a:solidFill>
                <a:uFillTx/>
                <a:latin typeface="Verdana"/>
                <a:hlinkClick r:id="rId11"/>
              </a:rPr>
              <a:t>прогнозы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о свойствах нашего мира. Несоответствие результатов проверки теории, гипотезе, концепции, выявление новых фактов — всё это заставляет пересматривать имеющиеся представления и создавать новые, более соответствующие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реальности. В таком развитии — суть </a:t>
            </a:r>
            <a:r>
              <a:rPr b="0" lang="ru-RU" sz="1800" spc="-1" strike="noStrike" u="sng">
                <a:solidFill>
                  <a:srgbClr val="ffffcc"/>
                </a:solidFill>
                <a:uFillTx/>
                <a:latin typeface="Verdana"/>
                <a:hlinkClick r:id="rId12"/>
              </a:rPr>
              <a:t>научного метода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" dur="250" autoRev="1" fill="hold"/>
                                        <p:tgtEl>
                                          <p:spTgt spid="47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НАУЧНЫЙ МЕТОД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-360" y="1989000"/>
            <a:ext cx="482436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3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Предметный и </a:t>
            </a:r>
            <a:r>
              <a:rPr b="0" lang="ru-RU" sz="1400" spc="-1" strike="noStrike" u="sng">
                <a:solidFill>
                  <a:srgbClr val="ffcc66"/>
                </a:solidFill>
                <a:uFillTx/>
                <a:latin typeface="Tahoma"/>
                <a:hlinkClick r:id="rId1"/>
              </a:rPr>
              <a:t>объективный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способ рассмотрения мира отличает науку от иных способов познания, таких как обыденное, художественное, религиозное, мифологическое, философское постижение мира. Например, в искусстве отражение действительности происходит как сумма субъективного и объективного, когда любое воспроизведение реальности предполагает эмоциональную оценку или реакцию.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3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На каждом этапе принципиальное значение имеет критичное отношение как к данным, так и к полученным результатам любого уровня. Необходимость всё доказывать, обосновывать проверяемыми данными, подтверждать теоретические выводы результатами экспериментов отличает науку от других форм познания, в том числе от религии, которая основывается на вере в те или иные основные догматы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3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Представления о науке и научном методе — </a:t>
            </a:r>
            <a:r>
              <a:rPr b="0" lang="ru-RU" sz="1400" spc="-1" strike="noStrike" u="sng">
                <a:solidFill>
                  <a:srgbClr val="ffcc66"/>
                </a:solidFill>
                <a:uFillTx/>
                <a:latin typeface="Tahoma"/>
                <a:hlinkClick r:id="rId2"/>
              </a:rPr>
              <a:t>методология науки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, со временем менялись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5003280" y="2060280"/>
            <a:ext cx="41403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В структуру современного </a:t>
            </a:r>
            <a:r>
              <a:rPr b="0" lang="ru-RU" sz="1400" spc="-1" strike="noStrike" u="sng">
                <a:solidFill>
                  <a:srgbClr val="ffcc66"/>
                </a:solidFill>
                <a:uFillTx/>
                <a:latin typeface="Tahoma"/>
                <a:hlinkClick r:id="rId3"/>
              </a:rPr>
              <a:t>научного метода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, то есть способа построения новых знаний, входят: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Наблюдение фактов и измерение, количественное или качественное описание наблюдений. В таких описаниях с необходимостью используются различные </a:t>
            </a:r>
            <a:r>
              <a:rPr b="0" lang="ru-RU" sz="1400" spc="-1" strike="noStrike" u="sng">
                <a:solidFill>
                  <a:srgbClr val="ffcc66"/>
                </a:solidFill>
                <a:uFillTx/>
                <a:latin typeface="Tahoma"/>
                <a:hlinkClick r:id="rId4"/>
              </a:rPr>
              <a:t>абстракции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Анализ результатов наблюдения — их систематизация, вычленение значимого и второстепенного.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Обобщение (синтез) и формулирование </a:t>
            </a:r>
            <a:r>
              <a:rPr b="0" lang="ru-RU" sz="1400" spc="-1" strike="noStrike" u="sng">
                <a:solidFill>
                  <a:srgbClr val="ffcc66"/>
                </a:solidFill>
                <a:uFillTx/>
                <a:latin typeface="Tahoma"/>
                <a:hlinkClick r:id="rId5"/>
              </a:rPr>
              <a:t>гипотез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ru-RU" sz="1400" spc="-1" strike="noStrike" u="sng">
                <a:solidFill>
                  <a:srgbClr val="ffcc66"/>
                </a:solidFill>
                <a:uFillTx/>
                <a:latin typeface="Tahoma"/>
                <a:hlinkClick r:id="rId6"/>
              </a:rPr>
              <a:t>теорий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Прогноз: формулирование следствий из предложенной гипотезы или принятой теории с помощью </a:t>
            </a:r>
            <a:r>
              <a:rPr b="0" lang="ru-RU" sz="1400" spc="-1" strike="noStrike" u="sng">
                <a:solidFill>
                  <a:srgbClr val="ffcc66"/>
                </a:solidFill>
                <a:uFillTx/>
                <a:latin typeface="Tahoma"/>
                <a:hlinkClick r:id="rId7"/>
              </a:rPr>
              <a:t>дедукции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ru-RU" sz="1400" spc="-1" strike="noStrike" u="sng">
                <a:solidFill>
                  <a:srgbClr val="ffcc66"/>
                </a:solidFill>
                <a:uFillTx/>
                <a:latin typeface="Tahoma"/>
                <a:hlinkClick r:id="rId8"/>
              </a:rPr>
              <a:t>индукции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или других </a:t>
            </a:r>
            <a:r>
              <a:rPr b="0" lang="ru-RU" sz="1400" spc="-1" strike="noStrike" u="sng">
                <a:solidFill>
                  <a:srgbClr val="ffcc66"/>
                </a:solidFill>
                <a:uFillTx/>
                <a:latin typeface="Tahoma"/>
                <a:hlinkClick r:id="rId9"/>
              </a:rPr>
              <a:t>логических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методов.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Проверка прогнозируемых следствий с помощью эксперимента (по терминологии Карла Поппера — критического эксперимента)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3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три основных направления в научных исследованиях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 Narrow"/>
              </a:rPr>
              <a:t>Фундаментальные научные исследования</a:t>
            </a:r>
            <a:r>
              <a:rPr b="0" lang="ru-RU" sz="1400" spc="-1" strike="noStrike">
                <a:solidFill>
                  <a:srgbClr val="000000"/>
                </a:solidFill>
                <a:latin typeface="Arial Narrow"/>
              </a:rPr>
              <a:t> — это глубокое и всестороннее исследование предмета с целью получения новых основополагающих знаний, а также с целью выяснения закономерностей выясняемых явлений, результаты которых не предполагаются для непосредственного промышленного использования. Термин 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 Narrow"/>
                <a:hlinkClick r:id="rId1"/>
              </a:rPr>
              <a:t>фундаментальность</a:t>
            </a:r>
            <a:r>
              <a:rPr b="0" lang="ru-RU" sz="1400" spc="-1" strike="noStrike">
                <a:solidFill>
                  <a:srgbClr val="000000"/>
                </a:solidFill>
                <a:latin typeface="Arial Narrow"/>
              </a:rPr>
              <a:t> (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 Narrow"/>
                <a:hlinkClick r:id="rId2"/>
              </a:rPr>
              <a:t>лат.</a:t>
            </a:r>
            <a:r>
              <a:rPr b="0" lang="ru-RU" sz="1400" spc="-1" strike="noStrike">
                <a:solidFill>
                  <a:srgbClr val="000000"/>
                </a:solidFill>
                <a:latin typeface="Arial Narrow"/>
              </a:rPr>
              <a:t> </a:t>
            </a:r>
            <a:r>
              <a:rPr b="0" i="1" lang="ru-RU" sz="1400" spc="-1" strike="noStrike">
                <a:solidFill>
                  <a:srgbClr val="000000"/>
                </a:solidFill>
                <a:latin typeface="Arial Narrow"/>
              </a:rPr>
              <a:t>fundare</a:t>
            </a:r>
            <a:r>
              <a:rPr b="0" lang="ru-RU" sz="1400" spc="-1" strike="noStrike">
                <a:solidFill>
                  <a:srgbClr val="000000"/>
                </a:solidFill>
                <a:latin typeface="Arial Narrow"/>
              </a:rPr>
              <a:t> — «основывать») отражает направленность этих наук на исследование первопричинных, основных законов природы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 Narrow"/>
              </a:rPr>
              <a:t>Прикладные научные исследования</a:t>
            </a:r>
            <a:r>
              <a:rPr b="0" lang="ru-RU" sz="1400" spc="-1" strike="noStrike">
                <a:solidFill>
                  <a:srgbClr val="000000"/>
                </a:solidFill>
                <a:latin typeface="Arial Narrow"/>
              </a:rPr>
              <a:t> — это такие исследования, которые используют достижения фундаментальной науки, для решения практических задач. Результатом исследования является создание и совершенствование новых 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 Narrow"/>
                <a:hlinkClick r:id="rId3"/>
              </a:rPr>
              <a:t>технологий</a:t>
            </a:r>
            <a:r>
              <a:rPr b="0" lang="ru-RU" sz="1400" spc="-1" strike="noStrike">
                <a:solidFill>
                  <a:srgbClr val="000000"/>
                </a:solidFill>
                <a:latin typeface="Arial Narrow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 Narrow"/>
              </a:rPr>
              <a:t>Научно-исследовательские и опытно-конструкторские разработки</a:t>
            </a:r>
            <a:r>
              <a:rPr b="0" lang="ru-RU" sz="1400" spc="-1" strike="noStrike">
                <a:solidFill>
                  <a:srgbClr val="000000"/>
                </a:solidFill>
                <a:latin typeface="Arial Narrow"/>
              </a:rPr>
              <a:t> (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 Narrow"/>
                <a:hlinkClick r:id="rId4"/>
              </a:rPr>
              <a:t>НИОКР</a:t>
            </a:r>
            <a:r>
              <a:rPr b="0" lang="ru-RU" sz="1400" spc="-1" strike="noStrike">
                <a:solidFill>
                  <a:srgbClr val="000000"/>
                </a:solidFill>
                <a:latin typeface="Arial Narrow"/>
              </a:rPr>
              <a:t>) — здесь соединяется наука с 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 Narrow"/>
                <a:hlinkClick r:id="rId5"/>
              </a:rPr>
              <a:t>производством</a:t>
            </a:r>
            <a:r>
              <a:rPr b="0" lang="ru-RU" sz="1400" spc="-1" strike="noStrike">
                <a:solidFill>
                  <a:srgbClr val="000000"/>
                </a:solidFill>
                <a:latin typeface="Arial Narrow"/>
              </a:rPr>
              <a:t>, тем самым обеспечивая как научные, так и технические и инженерные проработки данного проекта. Иногда полученные результаты могут привести к 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 Narrow"/>
                <a:hlinkClick r:id="rId6"/>
              </a:rPr>
              <a:t>научно-технической революции</a:t>
            </a:r>
            <a:r>
              <a:rPr b="0" lang="ru-RU" sz="1400" spc="-1" strike="noStrike">
                <a:solidFill>
                  <a:srgbClr val="000000"/>
                </a:solidFill>
                <a:latin typeface="Arial Narrow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7" name="Picture 10" descr="научная деятельность"/>
          <p:cNvPicPr/>
          <p:nvPr/>
        </p:nvPicPr>
        <p:blipFill>
          <a:blip r:embed="rId7"/>
          <a:stretch/>
        </p:blipFill>
        <p:spPr>
          <a:xfrm>
            <a:off x="4643280" y="1557360"/>
            <a:ext cx="4105440" cy="4608360"/>
          </a:xfrm>
          <a:prstGeom prst="rect">
            <a:avLst/>
          </a:prstGeom>
          <a:ln w="0">
            <a:noFill/>
          </a:ln>
        </p:spPr>
      </p:pic>
      <p:sp>
        <p:nvSpPr>
          <p:cNvPr id="4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НТ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у́чно-техни́ческая революц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Т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 — коренной качественный переворот в производительных силах человечества, основанный на превращении науки в непосредственную производительную силу обще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Научно-техническая революц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 узком смысле — коренная перестройка технических основ материального производства, начавшееся в середине </a:t>
            </a:r>
            <a:r>
              <a:rPr b="0" lang="ru-RU" sz="24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XX в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на основе превращения </a:t>
            </a:r>
            <a:r>
              <a:rPr b="0" lang="ru-RU" sz="24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наук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 ведущий фактор производства, в результате которого происходит трансформация </a:t>
            </a:r>
            <a:r>
              <a:rPr b="0" lang="ru-RU" sz="24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индустриального обществ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 </a:t>
            </a:r>
            <a:r>
              <a:rPr b="0" lang="ru-RU" sz="24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постиндустриально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4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циентиз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циенти́з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фр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i="1" lang="fr-FR" sz="2400" spc="-1" strike="noStrike">
                <a:solidFill>
                  <a:srgbClr val="000000"/>
                </a:solidFill>
                <a:latin typeface="Arial"/>
              </a:rPr>
              <a:t>scientisme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от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лат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scientia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—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наук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знан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 — общее название идейной позиции, представляющей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научное знан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наивысшей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культурной ценностью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основополагающим фактором взаимодействия человека с миром. Нередко сциентисты считают «образцовыми науками»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физику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ли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математику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призывают строить остальные науки по их образу и подобию. Сциентизм ставит науку во главу идейной и культурной жизни общества. Сциентизм сам по себе не является стройной системой взглядов, а скорее может рассматриваться как определённая ориентация различных сист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циентиз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7" name="Picture 9" descr="Сциентизм и антисциентизм"/>
          <p:cNvPicPr/>
          <p:nvPr/>
        </p:nvPicPr>
        <p:blipFill>
          <a:blip r:embed="rId1"/>
          <a:stretch/>
        </p:blipFill>
        <p:spPr>
          <a:xfrm>
            <a:off x="789120" y="1600200"/>
            <a:ext cx="3375000" cy="4525920"/>
          </a:xfrm>
          <a:prstGeom prst="rect">
            <a:avLst/>
          </a:prstGeom>
          <a:ln w="0">
            <a:noFill/>
          </a:ln>
        </p:spPr>
      </p:pic>
      <p:pic>
        <p:nvPicPr>
          <p:cNvPr id="498" name="Picture 11" descr="Сциентизм"/>
          <p:cNvPicPr/>
          <p:nvPr/>
        </p:nvPicPr>
        <p:blipFill>
          <a:blip r:embed="rId2"/>
          <a:stretch/>
        </p:blipFill>
        <p:spPr>
          <a:xfrm>
            <a:off x="4572000" y="1557360"/>
            <a:ext cx="4176720" cy="4608360"/>
          </a:xfrm>
          <a:prstGeom prst="rect">
            <a:avLst/>
          </a:prstGeom>
          <a:ln w="0">
            <a:noFill/>
          </a:ln>
        </p:spPr>
      </p:pic>
      <p:sp>
        <p:nvSpPr>
          <p:cNvPr id="4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нтисциенти́з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нтисциенти́зм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(от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греч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anti-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— против и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лат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scientia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— знания) —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философско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мировоззренческая позиция, противостоящая сциентизму, заключающаяся в критическом отношении к науке, её положению в культуре и её возможностям познания, различающаяся по степени критичности от умеренного отношения до враждебного. Концепции, учения и деятельность радикальной антисциентистской направленности носят обобщённое наименование «антинаука»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нние виды антисциентизма базировались на отличных от науки формах сознания, таких как религия, искусство, нравственность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которые современные варианты антисциентизма обращают внимание на противоречивость научно-технического прогресса, который приводит, с одной стороны, к несомненным успехам, а с другой — влечёт за собой разрушительные последствия. Выдвигается требование, что наука должна нести за это ответственность. Такая разновидность антисциентической критики позволяет оценить роль и возможности науки с различных точек зрения, в том числе подчеркнуть значимость этических аспектов в научной деятельности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31T21:29:26Z</dcterms:created>
  <dc:creator>victor</dc:creator>
  <dc:description/>
  <dc:language>en-US</dc:language>
  <cp:lastModifiedBy>Legion</cp:lastModifiedBy>
  <dcterms:modified xsi:type="dcterms:W3CDTF">2017-09-22T10:35:50Z</dcterms:modified>
  <cp:revision>5</cp:revision>
  <dc:subject/>
  <dc:title>Слайд 1</dc:title>
</cp:coreProperties>
</file>