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0C272-641E-42F6-B8B4-42E96D24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A3A3E-D9A7-48DA-B9FC-0290E663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E5152-37FA-4A33-8ED8-3F76CF8C2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19B9-DE29-429E-890A-2AAB0DAC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5C08-CE46-4914-97FB-4F1A359A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1421-CF9A-44D6-9798-19F1BBF6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F457-BAE8-4598-84FC-0ECB79A5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062-7668-4A78-9D09-B799EDBD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A13B-26F0-49A2-92AB-C6723A92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F13-135E-410D-BA39-C36F01A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FE71-EE56-4CBE-80BE-1DC46384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B739C-716C-4CF2-9DAF-01159DEE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3761-6207-4A57-BC4F-88CE011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F65F-E21D-4134-86EA-0E89AAFC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2DAE-0C9C-49D6-9B9D-1FAA5025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707D-074B-40FE-841D-5CA9C2DE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C325-7E91-4248-A60C-9ABD28C4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429E-A58D-43E5-A821-07E640C6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FB3C2-200D-4C93-BB90-CAC5B2BD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AA216-0EFE-4D93-969A-3A805541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B1AB-53F5-48EA-A13F-5BB3CB7F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9669-4B6E-499D-B07B-4157DCF5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CF38-0616-4536-AA8D-3278FB81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2822A-90A5-4D06-A273-0A099E3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418-2AAD-4FCE-BB97-40BA5B006D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8A78-07F3-4245-911E-0D5543C0FA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сихологическая уравновешенность. Стресс. Влияние стресса на человека.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храрова Владислав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7 класс 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е симптомы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риз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пыльчивость, раздраж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возможность расслаб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жиданные приступы пан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одино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прессия, постоянные перепады настро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янное чувство вины, нервозность, трев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ждебность, гн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лонность к суиц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адекватная реакция на мелкие неприя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93080" y="1916280"/>
            <a:ext cx="1230120" cy="1458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36000" y="3789360"/>
            <a:ext cx="12189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7d"/>
                </a:solidFill>
                <a:uFillTx/>
                <a:latin typeface="Arial"/>
              </a:rPr>
              <a:t>Физические признаки стрес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дание и бо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рипение зубами, сжимание челю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животе, изж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окружение, тошн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ащенное сердцебиение, боль в гру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трудненное дых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ик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стые просту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ожание рук, ног, г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 в спине, шее, мышечные спа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 в уш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лив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ухость во р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пивница, зуд, сып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лергия без видимых прич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лабость, вялость, устал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2095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Поведенческие признаки стр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доедание или, напротив, переед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нормально короткий или долгий с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изоляция от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небрежение своими обязаннос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урение, алкоголь или нарко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пульсивные покупки, азартны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ульсивное или навязчивое пове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рмочущая, быстрая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зрительность или чрезмерная защ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удности в об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27255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йкость и поверхностное обаяни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Специалисты считают, что психопат скрывается под симпатичной и приятной маской здравомысл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андиозное восприятие себ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часто считают, что они умнее или могущественнее, чем они есть на самом де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тоянная потребность в стим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Тишина и спокойствие не являются чертами психопатов. Им нужны постоянные развлечения и актив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сутствие патологической лж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 врет по любому поводу, вводя в заблуждение незначительной ложью и огромными выдуманными истор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психоп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ные уровни манипуляци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Всем психопатам свойственна хитрость, и они способны заставить людей делать вещи, которые те обычно не делают. Психопаты могут вызвать чувство вины, использовать силу и другие способы для манипуля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тсутствие чувства вин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Отсутствие вины или угрызений совести является признаком психопат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ффект или эмоциональная реакци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Психопаты демонстрируют слабую эмоциональную реакцию на смерть, травмы, ранения или другие события, которые должны вызывать более глубокий откли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знь всяческих домашних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480440" y="4986360"/>
            <a:ext cx="16635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88032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сихологическая уравновеш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Отличительные черты уравновешенного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мотрим, как на практике выглядит эмоциональная уравновешенность, ведь определившись с конкретными целями можно дотянутьс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этого эфемерного состояния души и разума мудрейш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овешенность предполагает гармонию мыслей, эмоций и поступков человека, без каких либо внезапных или противоречивых проя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58040" y="4336920"/>
            <a:ext cx="885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лияние стресса н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нергетика человека под воздействием стресса снижается, появляется быстрая утомляемость. Силы истощаются, и возникает такое ощущение, что ничего не хочется делать. Нет сил, чтоб успешно справляться с рабо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моциональная сфера страдает, снижается настроение, появляются депрессивные мысли. Человек начинает концентрироваться на плохом, а это приводит к тому, что плохое только усиливается. И получается замкнутый круг, из которого нужно выходить с помощью освобождения от отрицательных эмо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изическое здоровье дает сбои. Обостряются хронические заболевания или появляются новые, такие как гипертония, диабет, болезни желудочно-кишечного тракта, болезни сердца и многие другие. Так же под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м стресса у челове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повышается риск заболевание онколог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еловек, под влиянием стресса может поправиться. Это происходит потому, что еда начинает выполнять защитную функцию, происходит заедание стресса и естественно это отражается на вашей фигуре не самым лучшим образ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5084640"/>
            <a:ext cx="176544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избавиться от влия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стресса?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нны с морской солью или эфирными мас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но хорошо принимать после работы. Помогают расслабиться и снять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улки на свежем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рошо успокаивают и приводят мысли в порядок. Кроме того помогают укрепить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лакс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око известный и рекомендуемый способ для расслабления ума и тела. Для его осуществления достаточно включить приятную спокойную музыку, удобно расположиться и расслабиться. Чтоб было приятней можно еще и во время сеанса визуализировать приятные картинки. Например, берег моря, или прогулку в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дых на при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рода обладает целительным действием. Она помогает снятию стресса и дарит гармо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372360" y="5450040"/>
            <a:ext cx="259236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32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ТРЕВОЖ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П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307332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сихология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я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 наука, изучающая закономерности возникновения, развития и функционирования психики и психической деятельности человека и групп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3162240" cy="3362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21337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Трудно сконцентрировать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Чувство перегруж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3144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1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человечка, какой 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Все физические при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стр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2676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Невозмож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расслаб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624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           </a:t>
            </a:r>
            <a:r>
              <a:rPr b="0" lang="en-US" sz="4400" spc="-1" strike="noStrike" u="sng">
                <a:solidFill>
                  <a:srgbClr val="00007d"/>
                </a:solidFill>
                <a:uFillTx/>
                <a:latin typeface="Arial"/>
              </a:rPr>
              <a:t>В О П Р О С Ы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ядя на мод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дени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ловечка ка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 видите при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ес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стоянное чув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2421000"/>
            <a:ext cx="400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5300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есс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25916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ответная реакция организма человека на перенапряжение, негативные эмоции или просто на монотонную суету. Во время стресса, организм человека вырабатывает гормон адреналин, который заставляет искать выход. Стресс в небольших количествах нужен всем, так как он заставляет думать, искать выход из проблемы, без стресса вообще жизнь была бы скучной. Но с другой стороны, если стрессов становится слишком много, организм слабеет, теряет силы и способность решать пробл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360" cy="3815280"/>
            <a:chOff x="431640" y="1971720"/>
            <a:chExt cx="8208360" cy="3815280"/>
          </a:xfrm>
        </p:grpSpPr>
        <p:cxnSp>
          <p:nvCxnSpPr>
            <p:cNvPr id="115" name="_s31758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5590440" y="244188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31757"/>
            <p:cNvCxnSpPr>
              <a:stCxn id="119" idx="0"/>
              <a:endCxn id="117" idx="2"/>
            </p:cNvCxnSpPr>
            <p:nvPr/>
          </p:nvCxnSpPr>
          <p:spPr>
            <a:xfrm flipV="1">
              <a:off x="4536000" y="3497040"/>
              <a:ext cx="3600" cy="76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1756"/>
            <p:cNvCxnSpPr>
              <a:stCxn id="121" idx="0"/>
              <a:endCxn id="117" idx="2"/>
            </p:cNvCxnSpPr>
            <p:nvPr/>
          </p:nvCxnSpPr>
          <p:spPr>
            <a:xfrm flipH="1" flipV="1" rot="5400000">
              <a:off x="2717640" y="2442240"/>
              <a:ext cx="763560" cy="2873520"/>
            </a:xfrm>
            <a:prstGeom prst="bentConnector3">
              <a:avLst>
                <a:gd name="adj1" fmla="val 1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31752"/>
            <p:cNvSpPr/>
            <p:nvPr/>
          </p:nvSpPr>
          <p:spPr>
            <a:xfrm>
              <a:off x="3304440" y="197172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у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31753"/>
            <p:cNvSpPr/>
            <p:nvPr/>
          </p:nvSpPr>
          <p:spPr>
            <a:xfrm>
              <a:off x="4316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и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1754"/>
            <p:cNvSpPr/>
            <p:nvPr/>
          </p:nvSpPr>
          <p:spPr>
            <a:xfrm>
              <a:off x="330444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Эмоциональны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1755"/>
            <p:cNvSpPr/>
            <p:nvPr/>
          </p:nvSpPr>
          <p:spPr>
            <a:xfrm>
              <a:off x="6177600" y="4260960"/>
              <a:ext cx="2462400" cy="1526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тресс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Эу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онятие имеет два значения — «стресс, вызванный положительными эмоциями» и «несильный стресс, мобилизующий организм»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Ди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егативный тип стресса, с которым организм не в силах справиться. Он подрывает здоровье человека и может привести к тяжелым заболеваниям. От стресса страда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мунная систем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В стрессовом состоянии люди чаще оказываются жертвами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поскольку продукция иммунных клеток заметно падает в период физического или психического стресса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Эмоциональный стресс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Эмоциональным стрессом называю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моциональные процессы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 сопровождающие стресс, и ведущие к неблагоприятным изменениям в организме. Во время стресса, эмоциональная реакция развивается раньше других. При длительном или многократно повторяющемся стрессе эмоциональное возбуждение может застаиваться, а функционирование организма — разлажива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ды стресса как тер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7d"/>
                </a:solidFill>
                <a:uFillTx/>
                <a:latin typeface="Arial"/>
              </a:rPr>
              <a:t>Психологический стресс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ий стресс, как вид стресса, понимается разными авторами по-разному, но многие авторы определяют его как стресс, обусловленный социальными факто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мптомы стрес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запоминается новая инфор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бывчивость, беспорядок, неорганиз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о принять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о сконцентриров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альновид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ссим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чки мыс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янное чувство беспокойства и повышенная тревож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ссонница или ночные кош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23763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9:45:23Z</dcterms:created>
  <dc:creator>Deafult User</dc:creator>
  <dc:description/>
  <dc:language>en-US</dc:language>
  <cp:lastModifiedBy>Deafult User</cp:lastModifiedBy>
  <dcterms:modified xsi:type="dcterms:W3CDTF">2015-04-09T12:22:33Z</dcterms:modified>
  <cp:revision>4</cp:revision>
  <dc:subject/>
  <dc:title>Психологическая уравновешенность. Стресс. Влияние стресса на человека. </dc:title>
</cp:coreProperties>
</file>