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gif" ContentType="image/gif"/>
  <Override PartName="/ppt/media/image16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5F6AA-971C-4AFC-909A-15B10D32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680B9-FC9D-4EA3-962F-3F2B5683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A65DD-6FCC-43CF-A0C0-8C4B7E12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29945-C241-4F0D-8238-692C0B9F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232D-89D7-4957-846D-383ED87C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6374-AB93-45D6-A7AD-231E088E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B1E4-90ED-4F82-B1E8-29E46C95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CEE6-BFC9-454D-9336-9686CCD9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B610-6954-41B8-BA38-8CE62DF1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99D1-A4DC-4D64-8773-E3E8F8A6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02E0-615E-4BCC-8F4D-B6A0223E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13C1C-0622-42BE-AEBB-D556E11C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6B1A-D2AA-4837-AA83-5614E9B7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EE4A-C73E-49E1-8378-7B1D3326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CBD6-31E1-4A8E-9D3C-605EAC8E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2BBE-BE91-4EA0-A4ED-3B7BAA2F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2BDF-52AE-42EB-8A62-1A14A26D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74DF3-049F-447D-B6A5-6737FBC3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63F4-AD80-4961-A603-EC9F2987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481AA-A4D1-474A-A5F4-5680C04E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9D339-7D31-4F9D-BD34-20F67F0C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E1A1C-4506-420A-A2F7-EAD631C9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E63F2-7235-4B2F-B169-0B847E0E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76AF0-573A-44C7-896D-34F6298C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FD38-DF9A-4DAA-8501-E6CA45F586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E7B5-AAD0-4C4B-BE57-FB251783A2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сихологическая уравновешенность. Стресс. Влияние стресса на человека.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Ахрарова Владисла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7 класс 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Эмоциональные симптомы стр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приз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пыльчивость, раздражи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возможность расслаб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жиданные приступы па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перегруж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одино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прессия, постоянные перепады настро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оянное чувство вины, нервозность, трев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аждебность, гн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лонность к суици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адекватная реакция на мелкие неприя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93080" y="1916280"/>
            <a:ext cx="1230120" cy="1458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236000" y="3789360"/>
            <a:ext cx="12189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Физические признаки стрес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радание и бо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рипение зубами, сжимание челю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 в животе, изж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ловокружение, тошн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ащенное сердцебиение, боль в гру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трудненное дых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ик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тые просту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рожание рук, ног, г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 в спине, шее, мышечные спаз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вон в уш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тлив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ухость во р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пивница, зуд, сып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ллергия без видимых прич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абость, вялость, устал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20955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Поведенческие признаки стр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доедание или, напротив, перее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нормально короткий или долгий с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изоляция от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небрежение своими обязан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рение, алкоголь или нарко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пульсивные покупки, азартны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ульсивное или навязчивое пове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рмочущая, быстрая 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озрительность или чрезмерная защ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ности в об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12000" y="981000"/>
            <a:ext cx="27255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психоп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йкость и поверхностное обаян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Специалисты считают, что психопат скрывается под симпатичной и приятной маской здравомысл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ндиозное восприятие себ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ы часто считают, что они умнее или могущественнее, чем они есть на самом де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оянная потребность в стимуляци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Тишина и спокойствие не являются чертами психопатов. Им нужны постоянные развлечения и актив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сутствие патологической лж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 врет по любому поводу, вводя в заблуждение незначительной ложью и огромными выдуманными истор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психоп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личные уровни манипуляци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Всем психопатам свойственна хитрость, и они способны заставить людей делать вещи, которые те обычно не делают. Психопаты могут вызвать чувство вины, использовать силу и другие способы для манипуля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сутствие чувства вины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Отсутствие вины или угрызений совести является признаком психопат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ффект или эмоциональная реакци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ы демонстрируют слабую эмоциональную реакцию на смерть, травмы, ранения или другие события, которые должны вызывать более глубокий отклик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язнь всяческих домашних живот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480440" y="4986360"/>
            <a:ext cx="1663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сихологическая уравновеш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88032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сихологическая уравновеш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Отличительные черты уравновешенного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мотрим, как на практике выглядит эмоциональная уравновешенность, ведь определившись с конкретными целями можно дотянутьс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этого эфемерного состояния души и разума мудрейш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овешенность предполагает гармонию мыслей, эмоций и поступков человека, без каких либо внезапных или противоречивых проя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58040" y="4336920"/>
            <a:ext cx="8859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лияние стресса н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нергетика человека под воздействием стресса снижается, появляется быстрая утомляемость. Силы истощаются, и возникает такое ощущение, что ничего не хочется делать. Нет сил, чтоб успешно справляться с работ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моциональная сфера страдает, снижается настроение, появляются депрессивные мысли. Человек начинает концентрироваться на плохом, а это приводит к тому, что плохое только усиливается. И получается замкнутый круг, из которого нужно выходить с помощью освобождения от отрицательных эмо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изическое здоровье дает сбои. Обостряются хронические заболевания или появляются новые, такие как гипертония, диабет, болезни желудочно-кишечного тракта, болезни сердца и многие другие. Так же под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лиянием стресса у челове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повышается риск заболевание онколог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ловек, под влиянием стресса может поправиться. Это происходит потому, что еда начинает выполнять защитную функцию, происходит заедание стресса и естественно это отражается на вашей фигуре не самым лучшим образ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5084640"/>
            <a:ext cx="176544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избавиться от влия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стресса?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нны с морской солью или эфирными мас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енно хорошо принимать после работы. Помогают расслабиться и снять напря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улки на свежем воздух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рошо успокаивают и приводят мысли в порядок. Кроме того помогают укрепить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лакс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ироко известный и рекомендуемый способ для расслабления ума и тела. Для его осуществления достаточно включить приятную спокойную музыку, удобно расположиться и расслабиться. Чтоб было приятней можно еще и во время сеанса визуализировать приятные картинки. Например, берег моря, или прогулку в ле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дых на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рода обладает целительным действием. Она помогает снятию стресса и дарит гармо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372360" y="5450040"/>
            <a:ext cx="2592360" cy="1407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732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ТРЕВО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ПА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80000" y="2133720"/>
            <a:ext cx="30733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сихология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Психология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 наука, изучающая закономерности возникновения, развития и функционирования психики и психической деятельности человека и групп лю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3162240" cy="3362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4000" y="21337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Трудно сконцентрировать в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Чувство перегруж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435640" y="2421000"/>
            <a:ext cx="3144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Все физические при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стр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2676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чка ка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Невозмож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расслаб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6244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чка ка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Постоянное чув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беспокойства и повышенная трево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421000"/>
            <a:ext cx="40068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65300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есс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25916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ответная реакция организма человека на перенапряжение, негативные эмоции или просто на монотонную суету. Во время стресса, организм человека вырабатывает гормон адреналин, который заставляет искать выход. Стресс в небольших количествах нужен всем, так как он заставляет думать, искать выход из проблемы, без стресса вообще жизнь была бы скучной. Но с другой стороны, если стрессов становится слишком много, организм слабеет, теряет силы и способность решать пробл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1640" y="1971720"/>
            <a:ext cx="8208360" cy="3815280"/>
            <a:chOff x="431640" y="1971720"/>
            <a:chExt cx="8208360" cy="3815280"/>
          </a:xfrm>
        </p:grpSpPr>
        <p:cxnSp>
          <p:nvCxnSpPr>
            <p:cNvPr id="115" name="_s31758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590440" y="2441880"/>
              <a:ext cx="763560" cy="2873520"/>
            </a:xfrm>
            <a:prstGeom prst="bentConnector3">
              <a:avLst>
                <a:gd name="adj1" fmla="val 15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31757"/>
            <p:cNvCxnSpPr>
              <a:stCxn id="119" idx="0"/>
              <a:endCxn id="117" idx="2"/>
            </p:cNvCxnSpPr>
            <p:nvPr/>
          </p:nvCxnSpPr>
          <p:spPr>
            <a:xfrm flipV="1">
              <a:off x="4536000" y="3497040"/>
              <a:ext cx="3600" cy="76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31756"/>
            <p:cNvCxnSpPr>
              <a:stCxn id="121" idx="0"/>
              <a:endCxn id="117" idx="2"/>
            </p:cNvCxnSpPr>
            <p:nvPr/>
          </p:nvCxnSpPr>
          <p:spPr>
            <a:xfrm flipH="1" flipV="1" rot="5400000">
              <a:off x="2717640" y="2442240"/>
              <a:ext cx="763560" cy="2873520"/>
            </a:xfrm>
            <a:prstGeom prst="bentConnector3">
              <a:avLst>
                <a:gd name="adj1" fmla="val 15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31752"/>
            <p:cNvSpPr/>
            <p:nvPr/>
          </p:nvSpPr>
          <p:spPr>
            <a:xfrm>
              <a:off x="3304440" y="197172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у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31753"/>
            <p:cNvSpPr/>
            <p:nvPr/>
          </p:nvSpPr>
          <p:spPr>
            <a:xfrm>
              <a:off x="43164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и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31754"/>
            <p:cNvSpPr/>
            <p:nvPr/>
          </p:nvSpPr>
          <p:spPr>
            <a:xfrm>
              <a:off x="330444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моциональны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1755"/>
            <p:cNvSpPr/>
            <p:nvPr/>
          </p:nvSpPr>
          <p:spPr>
            <a:xfrm>
              <a:off x="617760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сихологическ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Эустресс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нятие имеет два значения — «стресс, вызванный положительными эмоциями» и «несильный стресс, мобилизующий организм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Дистресс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егативный тип стресса, с которым организм не в силах справиться. Он подрывает здоровье человека и может привести к тяжелым заболеваниям. От стресса страдае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мунная систем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В стрессовом состоянии люди чаще оказываются жертвами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екции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поскольку продукция иммунных клеток заметно падает в период физического или психического стресс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Эмоциональный стресс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Эмоциональным стрессом называют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моциональные процессы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сопровождающие стресс, и ведущие к неблагоприятным изменениям в организме. Во время стресса, эмоциональная реакция развивается раньше других. При длительном или многократно повторяющемся стрессе эмоциональное возбуждение может застаиваться, а функционирование организма — разлаживать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Психологический стресс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ий стресс, как вид стресса, понимается разными авторами по-разному, но многие авторы определяют его как стресс, обусловленный социальными факто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 запоминается нов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бывчивость, беспорядок, неорганиз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но принять 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 сконцентрировать 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альновид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ссим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ачки мыс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янное чувство беспокойства и повышенная трево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сонница или ночные кош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2000" y="1052640"/>
            <a:ext cx="23763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9:45:23Z</dcterms:created>
  <dc:creator>Deafult User</dc:creator>
  <dc:description/>
  <dc:language>en-US</dc:language>
  <cp:lastModifiedBy>Deafult User</cp:lastModifiedBy>
  <dcterms:modified xsi:type="dcterms:W3CDTF">2015-04-09T12:22:33Z</dcterms:modified>
  <cp:revision>4</cp:revision>
  <dc:subject/>
  <dc:title>Психологическая уравновешенность. Стресс. Влияние стресса на человека. </dc:title>
</cp:coreProperties>
</file>