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A8C3-A9CA-4F3D-A2D6-97B3411819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сихологической  диагностики в семейной психолог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рофимова И.М. психолог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федра клинической психологии ЮУрГ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1638-EF08-4395-9D0C-22267E5C5A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Методы психологической  диагностики в семейной психологии  и психотерап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еловек,  набираемых в группу 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ю  прохождения курса выдается сертификат  государственного образ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телеф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7-97-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E29F-6B73-4667-A941-78B543FE00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Цель курс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рок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6B7F-EB75-4202-8C77-2A4433B055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труктура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основа психодиагностики в семейной психологии и 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8E94-6C9C-4C55-86DB-02AF5ED212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99"/>
                </a:solidFill>
                <a:latin typeface="Calibri"/>
              </a:rPr>
              <a:t>Теоретические основы психодиагностики в семейной психологии и  психо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Модели  и функции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руктура семьи и стадии ее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емья как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5707-734A-4D10-8395-AD9EAC8974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B205-708A-4FE9-8875-C0B5F1FDF3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кулярное 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  по  генограм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A83E-B044-4847-9CA3-A336E5EC4F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оективные методы в  психодиагностике семейных взаимоотношения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етический рисунок семьи (КР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м-тест Рене Ж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ый тест  отношений (С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ая соци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исьмо супр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сиходрамы и сказкотерапии как психодиагностического инстру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238B-2E93-4774-B898-8C14AF00C7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взаимодействие родитель-ребенок (ВР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«Подростки о  родителях» (П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родительского отношения (Т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сплоч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измерения родительских установок и реакций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C972-7734-42F8-BD4E-BE7C4B6AD4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уровень удовлетворенности бра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супружескую совмест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Шкала любви и симпат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 сплоч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ых взаимоотнош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Семейные ро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ой трево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363B-A791-49F5-BF1B-ADA2AE259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A25-8A1D-4DD6-964C-BB6D037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FFC-13AA-412A-ABAB-0FCD7BAA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2DF-7184-4E42-8516-5D5CF6FE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DF8-966E-48F2-A805-34A6CE75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3C9-43D7-461E-8840-0887E911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DE5-E131-4200-9E11-B7F6C393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45D-EB25-4548-BB30-DC29F468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26F-8D51-43F4-A714-E1E66376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E76-AB88-45C9-B809-C178C56B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A74-6E69-4FB8-A767-6A49EF8A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592-4BA1-4343-8C50-F0A8F47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FAD-631A-4080-803A-BCAC34E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F1B0-66EE-4E5E-B462-5BA3BC62B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психологической  диагностики в семейной психологии  и психо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фимова И.М. 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клинической психологии ЮУр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урсы повышения квалификац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тоды психологической  диагностики в семейной психологии  и психотерап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7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еловек,  набираемых в группу  -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ю  прохождения курса выдается сертификат  государственного образ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актный телеф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7-97-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" y="1628280"/>
            <a:ext cx="9010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Цель курс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рок обучения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72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Структура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ая основа психодиагностики в семейной психологии и 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0920" y="1197000"/>
            <a:ext cx="187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219640" y="1197000"/>
            <a:ext cx="1728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оретические основы психодиагностики в семейной психологии и  псих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одели  и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руктура семьи и стадии е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емья как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2565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рно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  по  генограм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ективные методы в  психодиагностике семейных взаимоотношен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етический рисунок семьи (К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ок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ьм-тест Рене Ж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й тест  отношений (С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ая соци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 письмо суп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сиходрамы и сказкотерапии как психодиагностического инстр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взаимодействие родитель-ребенок (ВР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«Подростки о  родителях» (П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родительского отношения (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сплоч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мерения родительских установок и реакци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уровень удовлетворенности бра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супружескую совместим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Шкала любви и симпат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 сплоч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ых взаимоотнош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Семейные ро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ой трев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23:03Z</dcterms:created>
  <dc:creator>user</dc:creator>
  <dc:description/>
  <dc:language>en-US</dc:language>
  <cp:lastModifiedBy>LEGION</cp:lastModifiedBy>
  <dcterms:modified xsi:type="dcterms:W3CDTF">2014-11-12T07:38:39Z</dcterms:modified>
  <cp:revision>8</cp:revision>
  <dc:subject/>
  <dc:title>Методы психологической  диагностики в семейной психологии  и психотерапии</dc:title>
</cp:coreProperties>
</file>