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25A2-7760-4E1E-B137-2165EFA2FD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сихологической  диагностики в семейной психолог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рофимова И.М. психолог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афедра клинической психологии ЮУрГ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5B4F-5BCD-4487-AD5B-E442D065F1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alibri"/>
              </a:rPr>
              <a:t>Курсы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Методы психологической  диагностики в семейной психологии  и психотерапии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ельность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человек,  набираемых в группу 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кончанию  прохождения курса выдается сертификат  государственного образ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ый телеф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7-97-5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2332-B02B-4899-B969-43908AB80C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Цель курс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рок обучен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72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C8A6-57AD-4641-BB86-CF72F6C573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Структура кур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ая основа психодиагностики в семейной психологии и 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8FD9-E457-48A2-B7AB-CF9C0BB451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99"/>
                </a:solidFill>
                <a:latin typeface="Calibri"/>
              </a:rPr>
              <a:t>Теоретические основы психодиагностики в семейной психологии и  психотерап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Модели  и функции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руктура семьи и стадии ее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емья как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2388-7531-431C-BBBE-65647DA272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4F5C-F770-48FA-9794-1F8613959B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ркулярное интерв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вью  по  генограм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я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473E-9B36-4D05-8FB8-D97A1BE6FA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Проективные методы в  психодиагностике семейных взаимоотношения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нетический рисунок семьи (КР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унок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м-тест Рене Жи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ый тест  отношений (СТ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йная социограм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исьмо супр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сиходрамы и сказкотерапии как психодиагностического инстру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DE3F-748A-42B5-90DE-653E4E8515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взаимодействие родитель-ребенок (ВР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«Подростки о  родителях» (П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родительского отношения (Т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сплоч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измерения родительских установок и реакций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3CC9-8D92-40D8-8CF1-11CC4494ED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уровень удовлетворенности бра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на супружескую совмест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Шкала любви и симпат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й адаптации и  сплоч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ых взаимоотноше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семейного ок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Семейные ро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ник «Анализ семейной тревог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5B4B-2E95-4743-B6D3-C37ED8DD99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1C6-1649-4277-839A-76D84F97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100-0DFF-4AFC-94FC-7B274D78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3FE0-5456-4C24-A01B-AD97E7BC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370-9C7C-45F1-9256-D541723D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C6D-5000-494F-AAFF-C2E9C1A9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857-8278-4586-984F-A030ECF7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F49-F32C-4D02-9CD2-B367E486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02B1-59F5-4FA5-917B-84E9F0B8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F27-3335-4881-9423-068CEBC2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A627-4DB8-47B0-82B3-7C8981C2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ACB3-9531-40F3-96D2-21089185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7DF-85B8-4803-AD2F-6529D1BB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05C6-3B3F-4DAD-8F73-AB3546E99A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психологической  диагностики в семейной психологии  и психотерап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офимова И.М. психол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 клинической психологии ЮУр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Курсы повышения квалификац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тоды психологической  диагностики в семейной психологии  и психотерапи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тельность 72 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человек,  набираемых в группу  - 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окончанию  прохождения курса выдается сертификат  государственного образ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актный телефо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67-97-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3200" y="1628280"/>
            <a:ext cx="90108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Цель курс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риобретение практических  навыков применения методов клинико-психологической диагностики в практике семейного консультирования и  психотерап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Срок обучения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72 ча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99"/>
                </a:solidFill>
                <a:latin typeface="Arial"/>
              </a:rPr>
              <a:t>Структура кур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оретическая основа психодиагностики в семейной психологии и 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ы и методики психодиагностики в семейной психологии и психотерапии (структура методик, процедура проведения и интерпретации полученных данны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2050920" y="1197000"/>
            <a:ext cx="1873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5219640" y="1197000"/>
            <a:ext cx="17287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Теоретические основы психодиагностики в семейной психологии и  псих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Модели  и функции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руктура семьи и стадии ее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емья как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Стили  воспитания и виды их  нарушения как факторы риска патохарактерологического развития л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«Мишени» клинико-психологической диагностики в семейном  консультировании  и психотерап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256500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Arial"/>
              </a:rPr>
              <a:t>Методы и методики,  применяемые в психологической диагностике при  семейном  консультировании и семейной психотерап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0244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Клинические беседа и интервью как методы психодиагностики в семейном консультировании и  психотерап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иркулярное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вью  по  генограм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ия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оективные методы в  психодиагностике семейных взаимоотношени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етический рисунок семьи (КР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унок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льм-тест Рене Жи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ый тест  отношений (СТ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йная соци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е письмо супру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 психодрамы и сказкотерапии как психодиагностического инстру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детско-родительских 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взаимодействие родитель-ребенок (ВР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«Подростки о  родителях» (П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родительского отношения (Т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сплоч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ка измерения родительских установок и реакций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тандартизованные опросники в психодиагностике супружеских  и партнерских взаимоотношен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уровень удовлетворенности бра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супружескую совместим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Шкала любви и симпат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й адаптации и  сплоч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ых взаимоотношен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ала семейного окру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Семейные ро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осник «Анализ семейной тревог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6:23:03Z</dcterms:created>
  <dc:creator>user</dc:creator>
  <dc:description/>
  <dc:language>en-US</dc:language>
  <cp:lastModifiedBy>LEGION</cp:lastModifiedBy>
  <dcterms:modified xsi:type="dcterms:W3CDTF">2014-11-12T07:38:39Z</dcterms:modified>
  <cp:revision>8</cp:revision>
  <dc:subject/>
  <dc:title>Методы психологической  диагностики в семейной психологии  и психотерапии</dc:title>
</cp:coreProperties>
</file>