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2032-2199-4B51-9C27-01F17F3ED8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12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FF33-DDB1-4C0E-8867-092A904571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ите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е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вык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консультирования в области социально-психологических пробле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с группой и проведения социально-психологического тренин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й работы в сфере массовой коммуникации и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я социальной психологии и профильных дисциплин в вуз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3260-5F00-46BF-A364-65F0F1AA6F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научно-исследовательских организациях, учреждениях и центр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5175-2EE3-4AE4-AB2B-62630FFCF8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186 г. Санкт-Петербур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б. р. Мойки, 48,корпус 11, ауд. 4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а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. (812) 571 9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4954-9C4E-409C-B96F-CD524E91EE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2B8B-0112-47AB-A1B1-67A799F6F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Теоре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-исследовательская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туальные основания психологии социальных отношений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основы социального поведения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возрастных взаимодействий и возрастных субкульту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этнический отношений и этнического взаимо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жизнен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гендер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актическая ча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ое консультировани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F80E-94D7-4387-B24B-FD7F96C57C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федерального компон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общую теоретическую и практическую значим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национально-регионального компонента и специальных дисцип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меющих теоретическую значимость для специалиста в области социальн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исциплин по выбор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содержательно дополняют дисциплины в каждом цикле,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ой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049B-E75F-4E0E-AF5A-0FA39ED932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науки и производ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ы 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феров В.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сель Ю.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, доцент, доктора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и методология науки и производства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вторы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ремеев Б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д.п.н., профессор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ил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годова С.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в науке и производств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етом специфики направления «Психология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втор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ляков О.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A992-7576-49BD-A41F-BE06C1A213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069A-9FE5-409F-86B2-A7B792DA31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EA97-9EB2-41D8-9D79-9E8DFC06F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ого взаим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анферов В.Н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, заведующий кафедрой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Актуальные проблемы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И.С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д.п.н., Поссель Ю.А.,  к.п.н., доцен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этнически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икевич З.В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с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етодика преподавания социаль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лецина И.С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работы с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ил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ческие основы коммун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Терешкина И.Б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сихология соци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езгодова С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педагогическая практ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кова Е.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-исследовательская практика: Еремеев Б.А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п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8E94-728F-4441-9DEF-0512A0F8A6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дерная 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Клецина И.С., д.п.н., професс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й практик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: Барсукова О.В., к.п.н.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в области социально-псих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Румянцева П.В., к.п.н, доц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массови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психология рекла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сева Ю.Е. к.п.н. доцент кафедры психологи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0F84-F1EC-4074-AEE9-387A4C7C6B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F0A-5D92-40D3-BD34-6BFCA24B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16B-65E1-4CE9-BE50-8DD7271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970-0703-420B-AEFC-04FC60AC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5BC-855C-4D66-910C-50432B64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CB02-D8E8-4C08-87A0-00BA61A8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E77B-35BD-4CB8-9305-DC8BFB84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01FD-A862-4745-B790-02718CA1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04F1-1A80-4492-B6C4-94A0E86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DE9A-31BC-45AB-B568-872281C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2321-B121-4CB7-8B61-C8687015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AAD9-7156-4984-B124-4F0167FB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61C0-D297-41C6-8B1C-30BC68A7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E8BC-5F32-4B7D-9751-81C8024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67E-73AC-4FC3-842B-E4105441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31B6-9EF4-4BBA-86FB-62E13673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304F-DAAA-4299-A38B-85FCB2E6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9925-5CF0-48B5-9AF1-6F326B55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0AF-CCFD-4BC2-9D4C-E99F42A6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AF6-BEAB-4E21-8318-C5DC5269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286-345D-4E88-BB68-19D648AA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449-0566-4E06-B681-955601F3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F74-DE97-4438-8C63-43F1991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89D-C243-4E1B-95CB-648D4F5D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8B9-8EBC-4827-A33A-23FC29E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24FE-3730-4D20-84E0-868CC351724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5D13-185B-4ABB-B00B-349D812724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3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сихолого-педагогический Факультет</a:t>
            </a: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2286000" y="4038480"/>
            <a:ext cx="559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истерская программ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езультате обучения В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е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ть и исследовать психологические проблемы социального взаимодействия людей в конкретных жизненных ситуациях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ировать и моделировать социально-психологические явления в процессе массовой коммун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ладее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вы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го консультирования в области социально-психологи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ы с группой и проведения социально-психологического тренин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ческой работы в сфере массовой коммуникации и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ния социальной психологии и профильных дисциплин в вуз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феры деятельности выпускников магист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научно-исследовательских организациях, учреждениях и центр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образования в качестве преподавателей социальной психологии и практических психологов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государственных и частных консультационных пунктах по оказанию психологической помощи и поддержки отдельным лицам или группам людей (психолог-консультант, тренер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качестве специалиста в области анализа и моделирования социально-психологических явлений в массовой коммуникации и рекла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 сфере управления в качестве специалиста по регуляции групповых процессов (администратор, руководит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КОНТАКТЫ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1186 г. Санкт-Петербур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б. р. Мойки, 48,корпус 11, ауд. 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федра психологи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 (812) 571 9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Цель и задачи программы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социальной психологии человеческих отношений, имеющих углубленную подготовку по проблемам взаимодействия в социальной практике совместной жизнедеятельности люд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понятийным аппаратом, описывающим проблемные поля теоретической и прикладной социальной псих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ство с методологией социально-психологического анализа процессов социального взаимодейств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обретение опыта анализа психологических проблем социального взаимодействия людей в конкретных жизненных ситуация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ладение функциями научно-исследовательской работы в выбранной специализации и преподавания социальной психологии и профильных дисципли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умений работы с группой и навыков практического применения методов социально-психологического консуль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ое содержание магистерской програм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оре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рия, методология, а также современные проблемы науки и производства. Актуальные проблемы социальной психологии. Психология социального взаимодействия. Основные направления практической социальной психологии: промышленное производство, управление, организационное развитие, массовая коммуникация и реклама, школьная психологическая служба и служба сем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туальные основания психологии социальных отношений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ческие основы социального поведения люд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возрастных взаимодействий и возрастных субкульту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этнический отношений и этнического взаимодейств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жизненных ситу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сихология гендерных отнош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сихологическое консультиров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проблем общения и межличностного взаимодействия; способы работы с трудностями, возникающими у человека как члена различных социальных групп, как больших, так и малых. Социально-психологический тренин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тельная структура программ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55640" y="1700280"/>
            <a:ext cx="7920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ая образовательная программа подготовки магистра, специалиста в области социальной психологии состоит из основной образовательной программы бакалавра программы специализированной подготовки магистра, которая форм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1" action="ppaction://hlinksldjump"/>
              </a:rPr>
              <a:t>дисциплин федерального компонен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общую теоретическую и практическую значим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0" lang="ru-RU" sz="2000" spc="-1" strike="noStrike" u="sng">
                <a:solidFill>
                  <a:srgbClr val="5a84d8"/>
                </a:solidFill>
                <a:uFillTx/>
                <a:latin typeface="Arial"/>
                <a:hlinkClick r:id="rId2" action="ppaction://hlinksldjump"/>
              </a:rPr>
              <a:t>дисциплин национально-регионального компонен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специальных дисцип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меющих теоретическую значимость для специалиста в области социальной психолог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циплин 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е содержательно дополняют дисциплины в каждом цикле,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но-исследовательской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Федер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проблемы науки и производ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ы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феров В.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ц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.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сель Ю.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п.н, доцент, доктора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я и методология науки и производст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вторы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ремеев Б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д.п.н., профессор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ил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годова С.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ые технологии в науке и производств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 учетом специфики направления «Психология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автор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яков О.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к.п.н., доцен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611280" y="5805360"/>
            <a:ext cx="649080" cy="503280"/>
          </a:xfrm>
          <a:prstGeom prst="leftArrow">
            <a:avLst>
              <a:gd name="adj1" fmla="val 50000"/>
              <a:gd name="adj2" fmla="val 32242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84360" y="1557360"/>
            <a:ext cx="243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й идент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мянцева П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859280" y="1628640"/>
            <a:ext cx="25210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возрастного взаимо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ляева А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Mikljaeva"/>
          <p:cNvPicPr/>
          <p:nvPr/>
        </p:nvPicPr>
        <p:blipFill>
          <a:blip r:embed="rId1"/>
          <a:stretch/>
        </p:blipFill>
        <p:spPr>
          <a:xfrm>
            <a:off x="7524720" y="1700280"/>
            <a:ext cx="1212840" cy="1262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2340000" y="4149720"/>
            <a:ext cx="22320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жизненных ситу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жова Е.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д.п.н., проф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Korzhova"/>
          <p:cNvPicPr/>
          <p:nvPr/>
        </p:nvPicPr>
        <p:blipFill>
          <a:blip r:embed="rId2"/>
          <a:stretch/>
        </p:blipFill>
        <p:spPr>
          <a:xfrm>
            <a:off x="826920" y="4221000"/>
            <a:ext cx="1306800" cy="157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Vekilova"/>
          <p:cNvPicPr/>
          <p:nvPr/>
        </p:nvPicPr>
        <p:blipFill>
          <a:blip r:embed="rId3"/>
          <a:stretch/>
        </p:blipFill>
        <p:spPr>
          <a:xfrm>
            <a:off x="4648320" y="4191120"/>
            <a:ext cx="1600200" cy="1523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6"/>
          <p:cNvSpPr/>
          <p:nvPr/>
        </p:nvSpPr>
        <p:spPr>
          <a:xfrm>
            <a:off x="6477120" y="4114800"/>
            <a:ext cx="22320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емейных отнош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2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Румянцева"/>
          <p:cNvPicPr/>
          <p:nvPr/>
        </p:nvPicPr>
        <p:blipFill>
          <a:blip r:embed="rId4"/>
          <a:stretch/>
        </p:blipFill>
        <p:spPr>
          <a:xfrm>
            <a:off x="3124080" y="1676520"/>
            <a:ext cx="1319400" cy="1982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ционально-региональный компонент (дисциплины по выбору)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4038480" y="2362320"/>
            <a:ext cx="449604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сихология социального поведения лич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сель Ю.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 и процедуры социально-психологических исследов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нова З.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395280" y="6021360"/>
            <a:ext cx="649440" cy="503280"/>
          </a:xfrm>
          <a:prstGeom prst="leftArrow">
            <a:avLst>
              <a:gd name="adj1" fmla="val 50000"/>
              <a:gd name="adj2" fmla="val 32260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5" descr="Семенова"/>
          <p:cNvPicPr/>
          <p:nvPr/>
        </p:nvPicPr>
        <p:blipFill>
          <a:blip r:embed="rId1"/>
          <a:stretch/>
        </p:blipFill>
        <p:spPr>
          <a:xfrm>
            <a:off x="1905120" y="3733920"/>
            <a:ext cx="1752480" cy="2438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2"/>
          <p:cNvSpPr/>
          <p:nvPr/>
        </p:nvSpPr>
        <p:spPr>
          <a:xfrm>
            <a:off x="333864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Rotation of DSC_0079"/>
          <p:cNvPicPr/>
          <p:nvPr/>
        </p:nvPicPr>
        <p:blipFill>
          <a:blip r:embed="rId2"/>
          <a:stretch/>
        </p:blipFill>
        <p:spPr>
          <a:xfrm>
            <a:off x="685800" y="1600200"/>
            <a:ext cx="1690560" cy="2538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Rotation of DSC_0047"/>
          <p:cNvPicPr/>
          <p:nvPr/>
        </p:nvPicPr>
        <p:blipFill>
          <a:blip r:embed="rId1"/>
          <a:stretch/>
        </p:blipFill>
        <p:spPr>
          <a:xfrm>
            <a:off x="5791320" y="1143000"/>
            <a:ext cx="1454040" cy="21891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685800" y="1600200"/>
            <a:ext cx="548640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ого взаимодейст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Панферов В.Н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, заведующий кафедрой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Актуальные проблемы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.С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д.п.н., Поссель Ю.А.,  к.п.н., доц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этнически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икевич З.В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с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Методика преподавания социальной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лецина И.С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работы с груп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кил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ческие основы коммун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Терешкина И.Б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сихология социальных 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езгодова С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педагогическая прак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кова Е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аучно-исследовательская практика: Еремеев Б.А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п.н., проф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795672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4f91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3" descr="Лена Юркова"/>
          <p:cNvPicPr/>
          <p:nvPr/>
        </p:nvPicPr>
        <p:blipFill>
          <a:blip r:embed="rId2"/>
          <a:stretch/>
        </p:blipFill>
        <p:spPr>
          <a:xfrm>
            <a:off x="6553080" y="2362320"/>
            <a:ext cx="1113120" cy="167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6" descr="Panferov"/>
          <p:cNvPicPr/>
          <p:nvPr/>
        </p:nvPicPr>
        <p:blipFill>
          <a:blip r:embed="rId3"/>
          <a:stretch/>
        </p:blipFill>
        <p:spPr>
          <a:xfrm>
            <a:off x="7315200" y="762120"/>
            <a:ext cx="1666800" cy="16761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0"/>
          <p:cNvSpPr/>
          <p:nvPr/>
        </p:nvSpPr>
        <p:spPr>
          <a:xfrm>
            <a:off x="351468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9" descr="Re-exposure of Rotation of DSC_0109"/>
          <p:cNvPicPr/>
          <p:nvPr/>
        </p:nvPicPr>
        <p:blipFill>
          <a:blip r:embed="rId4"/>
          <a:stretch/>
        </p:blipFill>
        <p:spPr>
          <a:xfrm>
            <a:off x="7620120" y="35053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Eremejev"/>
          <p:cNvPicPr/>
          <p:nvPr/>
        </p:nvPicPr>
        <p:blipFill>
          <a:blip r:embed="rId5"/>
          <a:stretch/>
        </p:blipFill>
        <p:spPr>
          <a:xfrm>
            <a:off x="7620120" y="502920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Tereshkina"/>
          <p:cNvPicPr/>
          <p:nvPr/>
        </p:nvPicPr>
        <p:blipFill>
          <a:blip r:embed="rId6"/>
          <a:stretch/>
        </p:blipFill>
        <p:spPr>
          <a:xfrm>
            <a:off x="7696080" y="2286000"/>
            <a:ext cx="1287720" cy="117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4" descr="Vekilova"/>
          <p:cNvPicPr/>
          <p:nvPr/>
        </p:nvPicPr>
        <p:blipFill>
          <a:blip r:embed="rId7"/>
          <a:stretch/>
        </p:blipFill>
        <p:spPr>
          <a:xfrm>
            <a:off x="5486400" y="3429000"/>
            <a:ext cx="137160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5" descr="Bezgodova"/>
          <p:cNvPicPr/>
          <p:nvPr/>
        </p:nvPicPr>
        <p:blipFill>
          <a:blip r:embed="rId8"/>
          <a:stretch/>
        </p:blipFill>
        <p:spPr>
          <a:xfrm>
            <a:off x="5715000" y="4952880"/>
            <a:ext cx="12240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6" descr="Possel"/>
          <p:cNvPicPr/>
          <p:nvPr/>
        </p:nvPicPr>
        <p:blipFill>
          <a:blip r:embed="rId9"/>
          <a:stretch/>
        </p:blipFill>
        <p:spPr>
          <a:xfrm>
            <a:off x="6705720" y="4114800"/>
            <a:ext cx="1055520" cy="13669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Специальные дисциплины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(по выбору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2438280"/>
            <a:ext cx="54723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дерная псих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лецина И.С., д.п.н., проф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о-психологический практику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ы: Барсукова О.В., к.п.н.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ирование в области социально-псих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Румянцева П.В., к.п.н, д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массовидных 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психология рекла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сева Ю.Е. к.п.н. доцент кафедры психолог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1" descr="Гусева"/>
          <p:cNvPicPr/>
          <p:nvPr/>
        </p:nvPicPr>
        <p:blipFill>
          <a:blip r:embed="rId1"/>
          <a:stretch/>
        </p:blipFill>
        <p:spPr>
          <a:xfrm>
            <a:off x="7543800" y="4114800"/>
            <a:ext cx="1163520" cy="1752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4" descr="Rumjanzeva"/>
          <p:cNvPicPr/>
          <p:nvPr/>
        </p:nvPicPr>
        <p:blipFill>
          <a:blip r:embed="rId2"/>
          <a:stretch/>
        </p:blipFill>
        <p:spPr>
          <a:xfrm>
            <a:off x="5715000" y="3581280"/>
            <a:ext cx="1608120" cy="16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5" descr="Barsukova"/>
          <p:cNvPicPr/>
          <p:nvPr/>
        </p:nvPicPr>
        <p:blipFill>
          <a:blip r:embed="rId3"/>
          <a:stretch/>
        </p:blipFill>
        <p:spPr>
          <a:xfrm>
            <a:off x="7238880" y="1981080"/>
            <a:ext cx="1447920" cy="1757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6" descr="Klezina"/>
          <p:cNvPicPr/>
          <p:nvPr/>
        </p:nvPicPr>
        <p:blipFill>
          <a:blip r:embed="rId4"/>
          <a:stretch/>
        </p:blipFill>
        <p:spPr>
          <a:xfrm>
            <a:off x="5410080" y="1676520"/>
            <a:ext cx="1597320" cy="15192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2:14Z</dcterms:created>
  <dc:creator>Marina</dc:creator>
  <dc:description/>
  <dc:language>en-US</dc:language>
  <cp:lastModifiedBy>LEGION</cp:lastModifiedBy>
  <dcterms:modified xsi:type="dcterms:W3CDTF">2014-11-12T07:39:16Z</dcterms:modified>
  <cp:revision>88</cp:revision>
  <dc:subject/>
  <dc:title>РОССИЙСКИЙ ГОСУДАРСТВЕННЫЙ ПЕДАГОГИЧЕСКИЙ УНИВЕРСИТЕТ  ИМ. А.И. ГЕРЦЕ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