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5AFC-BF1D-422E-87F2-88DD0BA31D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E3F6-96BF-458C-AF65-8752AFB980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ите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е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консультирования в области социально-психологических проб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с группой и проведения социально-психологического тренин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й работы в сфере массовой коммуникации и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я социальной психологии и профильных дисциплин в вуз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EA37-DE59-41E6-8B37-56FE1DC8E3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научно-исследовательских организациях, учреждениях и цент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8E6A-4FE7-44F7-B10C-737592E08A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186 г. Санкт-Петербур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. р. Мойки, 48,корпус 11, ауд. 4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а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. (812) 571 9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860-7417-4427-929E-156BFB3B41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38E8-6A65-4526-945E-584BB7D2C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оре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 основания психологии социальных отношений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основы социального поведен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возрастных взаимодействий и возрастных субкуль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этнический отношений и этническ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жизнен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гендер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консульт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B62E-5D55-444C-AC17-AA1F08D314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федерального компон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общую теоретическую и практическую значи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национально-регионального компонента и специальных дисцип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теоретическую значимость для специалиста в области социальн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по выб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содержательно дополняют дисциплины в каждом цикле,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5B6B-582B-431B-8EC4-33B0B3DF7A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науки и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ы 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феров В.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сель Ю.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, доцент, доктора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и методология науки и производств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вторы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ремеев Б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ил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год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в науке и производств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ляков О.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0F7B-119C-4396-93E5-289BCF9D31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B414-25D4-46E0-A40D-300CB11625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E5C6-5831-4545-A738-EE09703E0F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ого взаим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анферов В.Н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заведующий кафедрой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уальные проблемы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д.п.н., Поссель Ю.А.,  к.п.н., доце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этн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икевич З.В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с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етодика преподавания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 И.С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работы с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ил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ческие основы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Терешкина И.Б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езгод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педагогическая практ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кова Е.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исследовательская практика: Еремеев Б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6826-70C3-43EF-95D1-806B374CA4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дерная 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Клецина И.С., д.п.н., професс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й практик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: Барсукова О.В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в области социально-псих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Румянцева П.В., к.п.н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массови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а Ю.Е. к.п.н. доцент кафедры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9D11-84EA-480A-9F85-27D176F9C5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015-6B76-4652-B711-B4EA0BF7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326-EF49-4518-A2B1-C8B7E351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F6A-1852-469E-B4CE-0930561A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7B7-CD02-4C24-A04F-1C3EA4FB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E566-A090-4CD1-962E-5CD19D20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6161-27DA-4E7D-87E5-D1D089CD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6E6A-8A2B-4118-82C2-1690DFE2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8A98-4258-4356-ACE8-E27B4301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EAB9-288C-4956-BF70-D1EB3EF0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D14A-B89D-4214-A2BF-A340669D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C9CA-E01B-40A5-A155-AE1B722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058-3A48-4DE5-B79E-0F977E5B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1075-5B1D-4A8E-8B79-3DCF12D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34D7-AA54-4600-B01D-C5782BF0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688D-6E7A-4299-BB3E-EC4700E4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9A28-6817-41BE-8BA0-02E46229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7374-AFB9-4934-BCB6-F0BEB324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82D-42E4-421B-A78A-519D453F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035-7D9E-48CE-B652-264681A5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2B2-F3A2-43D3-86A1-373594E0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6B7-4FF5-4140-BDAE-FB3E656D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EFB-622E-4E22-9929-4080D4E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1A8-F023-4172-89CE-D18E47A2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ECE-98D9-4212-A7B5-7A980DB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6338-E875-45A0-92A3-C0CDC53AEC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3E1F-D6BF-4426-9508-DBF2C19799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2286000" y="4038480"/>
            <a:ext cx="55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истерск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е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ы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го консультирования в области социально-психологических проб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с группой и проведения социально-психологического тренин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ой работы в сфере массовой коммуникации и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ния социальной психологии и профильных дисциплин в вуз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научно-исследовательских организациях, учреждениях и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1186 г. Санкт-Петербур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. р. Мойки, 48,корпус 11, ауд. 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федра психолог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 (812) 571 9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ые основания психологии социальных отношений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ие основы социального поведен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возрастных взаимодействий и возрастных субкульт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этнический отношений и этнического взаимодей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жизненных ситу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гендер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консультир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70028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1" action="ppaction://hlinksldjump"/>
              </a:rPr>
              <a:t>дисциплин федерального компон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общую теоретическую и практическую знач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2" action="ppaction://hlinksldjump"/>
              </a:rPr>
              <a:t>дисциплин национально-регионального компонен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пециальных дисцип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теоретическую значимость для специалиста в области социальной псих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 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одержательно дополняют дисциплины в каждом цикле,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ой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роблемы науки и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ы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феров В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ц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.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сель Ю.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п.н, доцент, доктор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и методология науки и производ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вторы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ремеев Б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ил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год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ые технологии в науке и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яков О.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11280" y="5805360"/>
            <a:ext cx="649080" cy="503280"/>
          </a:xfrm>
          <a:prstGeom prst="leftArrow">
            <a:avLst>
              <a:gd name="adj1" fmla="val 50000"/>
              <a:gd name="adj2" fmla="val 32242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4360" y="1557360"/>
            <a:ext cx="243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й идент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цева П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628640"/>
            <a:ext cx="25210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возраст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ляева А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Mikljaeva"/>
          <p:cNvPicPr/>
          <p:nvPr/>
        </p:nvPicPr>
        <p:blipFill>
          <a:blip r:embed="rId1"/>
          <a:stretch/>
        </p:blipFill>
        <p:spPr>
          <a:xfrm>
            <a:off x="7524720" y="1700280"/>
            <a:ext cx="1212840" cy="126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340000" y="4149720"/>
            <a:ext cx="2232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жизнен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жова Е.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д.п.н., 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Korzhova"/>
          <p:cNvPicPr/>
          <p:nvPr/>
        </p:nvPicPr>
        <p:blipFill>
          <a:blip r:embed="rId2"/>
          <a:stretch/>
        </p:blipFill>
        <p:spPr>
          <a:xfrm>
            <a:off x="826920" y="4221000"/>
            <a:ext cx="1306800" cy="157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Vekilova"/>
          <p:cNvPicPr/>
          <p:nvPr/>
        </p:nvPicPr>
        <p:blipFill>
          <a:blip r:embed="rId3"/>
          <a:stretch/>
        </p:blipFill>
        <p:spPr>
          <a:xfrm>
            <a:off x="4648320" y="41911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6477120" y="4114800"/>
            <a:ext cx="2232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Румянцева"/>
          <p:cNvPicPr/>
          <p:nvPr/>
        </p:nvPicPr>
        <p:blipFill>
          <a:blip r:embed="rId4"/>
          <a:stretch/>
        </p:blipFill>
        <p:spPr>
          <a:xfrm>
            <a:off x="3124080" y="1676520"/>
            <a:ext cx="1319400" cy="1982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38480" y="2362320"/>
            <a:ext cx="449604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го поведения лич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сель Ю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 и процедуры социально-психологических исследов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ова З.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95280" y="602136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Семенова"/>
          <p:cNvPicPr/>
          <p:nvPr/>
        </p:nvPicPr>
        <p:blipFill>
          <a:blip r:embed="rId1"/>
          <a:stretch/>
        </p:blipFill>
        <p:spPr>
          <a:xfrm>
            <a:off x="1905120" y="3733920"/>
            <a:ext cx="175248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33386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Rotation of DSC_0079"/>
          <p:cNvPicPr/>
          <p:nvPr/>
        </p:nvPicPr>
        <p:blipFill>
          <a:blip r:embed="rId2"/>
          <a:stretch/>
        </p:blipFill>
        <p:spPr>
          <a:xfrm>
            <a:off x="685800" y="1600200"/>
            <a:ext cx="1690560" cy="2538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Rotation of DSC_0047"/>
          <p:cNvPicPr/>
          <p:nvPr/>
        </p:nvPicPr>
        <p:blipFill>
          <a:blip r:embed="rId1"/>
          <a:stretch/>
        </p:blipFill>
        <p:spPr>
          <a:xfrm>
            <a:off x="5791320" y="1143000"/>
            <a:ext cx="1454040" cy="2189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685800" y="1600200"/>
            <a:ext cx="54864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ого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анферов В.Н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, заведующий кафедрой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ьные проблемы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.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.п.н., Поссель Ю.А.,  к.п.н., доц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этниче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кевич З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с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ика преподавания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 И.С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работы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ческие основы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Терешкина И.Б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год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педагогическая прак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кова Е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исследовательская практика: Еремеев Б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Лена Юркова"/>
          <p:cNvPicPr/>
          <p:nvPr/>
        </p:nvPicPr>
        <p:blipFill>
          <a:blip r:embed="rId2"/>
          <a:stretch/>
        </p:blipFill>
        <p:spPr>
          <a:xfrm>
            <a:off x="6553080" y="2362320"/>
            <a:ext cx="1113120" cy="167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6" descr="Panferov"/>
          <p:cNvPicPr/>
          <p:nvPr/>
        </p:nvPicPr>
        <p:blipFill>
          <a:blip r:embed="rId3"/>
          <a:stretch/>
        </p:blipFill>
        <p:spPr>
          <a:xfrm>
            <a:off x="7315200" y="762120"/>
            <a:ext cx="16668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"/>
          <p:cNvSpPr/>
          <p:nvPr/>
        </p:nvSpPr>
        <p:spPr>
          <a:xfrm>
            <a:off x="35146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9" descr="Re-exposure of Rotation of DSC_0109"/>
          <p:cNvPicPr/>
          <p:nvPr/>
        </p:nvPicPr>
        <p:blipFill>
          <a:blip r:embed="rId4"/>
          <a:stretch/>
        </p:blipFill>
        <p:spPr>
          <a:xfrm>
            <a:off x="7620120" y="350532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Eremejev"/>
          <p:cNvPicPr/>
          <p:nvPr/>
        </p:nvPicPr>
        <p:blipFill>
          <a:blip r:embed="rId5"/>
          <a:stretch/>
        </p:blipFill>
        <p:spPr>
          <a:xfrm>
            <a:off x="7620120" y="502920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Tereshkina"/>
          <p:cNvPicPr/>
          <p:nvPr/>
        </p:nvPicPr>
        <p:blipFill>
          <a:blip r:embed="rId6"/>
          <a:stretch/>
        </p:blipFill>
        <p:spPr>
          <a:xfrm>
            <a:off x="7696080" y="2286000"/>
            <a:ext cx="12877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4" descr="Vekilova"/>
          <p:cNvPicPr/>
          <p:nvPr/>
        </p:nvPicPr>
        <p:blipFill>
          <a:blip r:embed="rId7"/>
          <a:stretch/>
        </p:blipFill>
        <p:spPr>
          <a:xfrm>
            <a:off x="5486400" y="342900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Bezgodova"/>
          <p:cNvPicPr/>
          <p:nvPr/>
        </p:nvPicPr>
        <p:blipFill>
          <a:blip r:embed="rId8"/>
          <a:stretch/>
        </p:blipFill>
        <p:spPr>
          <a:xfrm>
            <a:off x="5715000" y="4952880"/>
            <a:ext cx="12240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6" descr="Possel"/>
          <p:cNvPicPr/>
          <p:nvPr/>
        </p:nvPicPr>
        <p:blipFill>
          <a:blip r:embed="rId9"/>
          <a:stretch/>
        </p:blipFill>
        <p:spPr>
          <a:xfrm>
            <a:off x="6705720" y="4114800"/>
            <a:ext cx="1055520" cy="13669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09480" y="2438280"/>
            <a:ext cx="54723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дерн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ецина И.С., д.п.н., проф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й практик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: Барсукова О.В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ирование в области социально-псих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Румянцева П.В., к.п.н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массовидных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ева Ю.Е. к.п.н.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Гусева"/>
          <p:cNvPicPr/>
          <p:nvPr/>
        </p:nvPicPr>
        <p:blipFill>
          <a:blip r:embed="rId1"/>
          <a:stretch/>
        </p:blipFill>
        <p:spPr>
          <a:xfrm>
            <a:off x="7543800" y="4114800"/>
            <a:ext cx="116352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4" descr="Rumjanzeva"/>
          <p:cNvPicPr/>
          <p:nvPr/>
        </p:nvPicPr>
        <p:blipFill>
          <a:blip r:embed="rId2"/>
          <a:stretch/>
        </p:blipFill>
        <p:spPr>
          <a:xfrm>
            <a:off x="5715000" y="3581280"/>
            <a:ext cx="16081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Barsukova"/>
          <p:cNvPicPr/>
          <p:nvPr/>
        </p:nvPicPr>
        <p:blipFill>
          <a:blip r:embed="rId3"/>
          <a:stretch/>
        </p:blipFill>
        <p:spPr>
          <a:xfrm>
            <a:off x="7238880" y="1981080"/>
            <a:ext cx="1447920" cy="1757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6" descr="Klezina"/>
          <p:cNvPicPr/>
          <p:nvPr/>
        </p:nvPicPr>
        <p:blipFill>
          <a:blip r:embed="rId4"/>
          <a:stretch/>
        </p:blipFill>
        <p:spPr>
          <a:xfrm>
            <a:off x="5410080" y="1676520"/>
            <a:ext cx="1597320" cy="15192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2:14Z</dcterms:created>
  <dc:creator>Marina</dc:creator>
  <dc:description/>
  <dc:language>en-US</dc:language>
  <cp:lastModifiedBy>LEGION</cp:lastModifiedBy>
  <dcterms:modified xsi:type="dcterms:W3CDTF">2014-11-12T07:39:16Z</dcterms:modified>
  <cp:revision>88</cp:revision>
  <dc:subject/>
  <dc:title>РОССИЙСКИЙ ГОСУДАРСТВЕННЫЙ ПЕДАГОГИЧЕСКИЙ УНИВЕРСИТЕТ  ИМ. А.И. ГЕРЦ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