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18.wmf" ContentType="image/x-wmf"/>
  <Override PartName="/ppt/media/image3.jpeg" ContentType="image/jpe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9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093C-B509-4A9A-AF18-1ADFFEC84ABA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сихолог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лужба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F37C-694B-4899-AC2E-5A970B7A71A2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овая психодиагностика для выявления актуального состояния интеллектуальной и эмоционально-личностной сферы и проведение психопрофилактических и коррекционных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и психологии как учебный предмет дают представление о психической жизни человека, знания о самом себе, знакомят с механизмами управления собственной псих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 и коррекционно-развивающие занятия для гармонизации эмоционально-личностного развития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ятия по профессиональному самоопределению с целью формирования у учащихся способности соотносить свои психологические особенности с требованиями профе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е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C6A4-628B-48B5-865C-3A8E6E26F8DE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ст школьной тревожности Филлип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е эмоциональное состояние в школе (контакты со сверстниками, страх самовыражения, в ситуации проверки знаний, перед учителем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9A69-7D5A-4493-B90A-6B0B19EF8896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едколлекти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ю работы является повышение психологической компетентности учителя, создание комфортного психологического климата в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б индивидуальных особенностях развития ребенка для выработки стратегии взаимодействия с н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ическое просвещ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 основных закономерностях развития ребенка на всех возрастных этап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типологических личностных особенност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психологических причинах дезадаптации к шко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развитии познавательной актив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ледование эмоционального состояния педколлект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видуальные консуль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0676-BAA6-446B-9F65-C10784635DCE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ние в школе единого образовательного и воспитательного пространства, главной ценностью которого яв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ость каждого ребенка, обладающего сознанием, ориентированным на умение при любых условиях и ситуациях сохранять уважение и взаимопонимание друг к друг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общение школьников к традициям и культуре своего народа на основе гармоничного включения богатства национального культурного наследия в общероссийской социокультурный контекс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толерантности, гуманистического мировоззрения при условии понимания себя как части мирового со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91F2-96D9-4C70-937F-5E5090A8909C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ветительская работ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ступление на классных и общешкольных родительских собра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е семейного воспитания на характер ребенка и его адаптацию к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особенности детей разных возрас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фликт и стратегии поведения в конфлик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сс и его послед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 развития в ранней юности и профессиональное самоопреде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ответственности за свою жизнь как профилактика отклонений в поведении, в том числе наркотических зависимос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уальное консультирование родителей по проблемам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ка стиля семейного воспит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запросам ро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нятия в системе дополнительного образов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фессиональное самоопреде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7D2E-C591-4F9F-96E8-5B5F765FF20E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трудничество с ВУЗ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сковский городской психолого-педагогический университет. 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грамма «Психологический классов»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фориентационная работа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открытый педагогический университет.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йский Государственный Гуманитарный Университет.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77E8-140A-4EE8-A2BF-015E52B55B42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сихолог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безопа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8707-2BF9-4DAC-892B-3964947D9933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Результаты анкетирования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2FDB-F717-4103-8182-9D241144B092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Monotype Corsiva"/>
              </a:rPr>
              <a:t>Создание комфортной образовательной среды, позволяющей реализоваться личности школьника и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Monotype Corsiva"/>
              </a:rPr>
              <a:t>Формирование педагогического сообщества, включенность всех субъектов образовательного процесса в проектирование адаптивной среды обучения и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одель выпуск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толерантный, способный к сопереживанию и жизни в мире с другими люд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успешный, конкурентносбособный, готовый к самоисследованию и самосовершенствованию, умеющий перестраиваться в динамично меняющемся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меющий сознательную нравственную пози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понимающий Россию и русского человека через духовное освоение русск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бладающий активной гражданской пози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BF9C-72D1-49F4-A79A-E35F288B862F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Этно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этнического сознания и самосознания, национальных ценностей и ориентаций, национальных ожиданий, националь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оспитание этнической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Формирование этнического уровня взаимодействия куль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C8B4-6770-4ABA-B5D6-7C8640C4A809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 работы школы был представлен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Разработка модели психологически безопасной психологической среды "Школа Доброты"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Преподавание психологии как учебного предмета на всех этапах обучения в школ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Психолого-педагогическое обеспечение личностно-ориентированного образован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0301-1D23-41B8-9E12-82E553DF7825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и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т привлечению внимания к психической жизн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ют, что существует класс объектов – человеческие феномены, которые интересны сами по себе и "живут" по определенным законам, показывают уникальность, сложность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ют не только психологическую грамотность, но и развитие внутренней психологическ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осят в образование представление о человеке как главной ценности мира, формируют толерантное отношение к людям, миру, самому с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A128-5DA3-43EA-BF3D-7DBECBC88453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8D6-D51D-42E1-936D-0D090F58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B87-9FD2-42F3-B20B-764874D2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8203-26A4-4E5B-B17B-13FA9BF9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B19-0AD1-4CA0-A4FE-228D86D1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F42E-8E85-4938-9AF1-EE104893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707-1974-4CD8-9964-C3CF4CB9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68E6-BB03-427F-A79D-759C30AE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3575-EF74-405D-A786-28F730D3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1FC-A345-4010-A7C8-69F15AEB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EFC-31BC-4BDB-A2F5-EF1B1C25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DEC7-2C83-4688-A1BB-BEEE27B5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96DE-6BFD-4B06-8864-554610FE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9B30-E4E1-4F64-8106-0354918F58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26"/>
          <p:cNvSpPr txBox="1"/>
          <p:nvPr/>
        </p:nvSpPr>
        <p:spPr>
          <a:xfrm>
            <a:off x="1984320" y="1917720"/>
            <a:ext cx="66200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Психологическ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служба школ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6" descr="Психология 4"/>
          <p:cNvPicPr/>
          <p:nvPr/>
        </p:nvPicPr>
        <p:blipFill>
          <a:blip r:embed="rId1"/>
          <a:stretch/>
        </p:blipFill>
        <p:spPr>
          <a:xfrm>
            <a:off x="324000" y="685800"/>
            <a:ext cx="8569080" cy="55339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026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учащихся школы № 868 к предмету "Психология"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05" name="Object 1027"/>
          <p:cNvGraphicFramePr/>
          <p:nvPr/>
        </p:nvGraphicFramePr>
        <p:xfrm>
          <a:off x="1476360" y="1387440"/>
          <a:ext cx="6492960" cy="521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87440"/>
                    <a:ext cx="649296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учащихся школы № 868 к предмету "Психология"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1103400" y="1424160"/>
          <a:ext cx="706896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424160"/>
                    <a:ext cx="706896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ние учащихся школы № 868 о практической пользе уроков психологии (в настоящий момент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108000" y="1484280"/>
          <a:ext cx="9626400" cy="53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84280"/>
                    <a:ext cx="962640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ние учащихся школы № 868 о практической пользе уроков психологии (в будущем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130320" y="1521000"/>
          <a:ext cx="9410400" cy="52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521000"/>
                    <a:ext cx="941040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учащими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лановая психодиагностика для выявления актуального состояния интеллектуальной и эмоционально-личностной сферы и проведение психопрофилактических и коррекционных мероприят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Уроки психологии как учебный предмет дают представление о психической жизни человека, знания о самом себе, знакомят с механизмами управления собственной психико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 и коррекционно-развивающие занятия для гармонизации эмоционально-личностного развития учащихс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Занятия по профессиональному самоопределению с целью формирования у учащихся способности соотносить свои психологические особенности с требованиями професс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Индивидуальные консульта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3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144360" y="2230560"/>
          <a:ext cx="8820360" cy="42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2230560"/>
                    <a:ext cx="88203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ст школьной тревожности Филлип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9"/>
          <p:cNvSpPr/>
          <p:nvPr/>
        </p:nvSpPr>
        <p:spPr>
          <a:xfrm>
            <a:off x="324000" y="907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е эмоциональное состояние в школе (контакты со сверстниками, страх самовыражения, в ситуации проверки знаний, перед учителем и т.д.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3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28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4"/>
          <p:cNvGraphicFramePr/>
          <p:nvPr/>
        </p:nvGraphicFramePr>
        <p:xfrm>
          <a:off x="71280" y="2449440"/>
          <a:ext cx="8964720" cy="436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449440"/>
                    <a:ext cx="8964720" cy="43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"/>
          <p:cNvSpPr/>
          <p:nvPr/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кета школьной мотивации Лускановой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951200" y="806400"/>
          <a:ext cx="5789520" cy="1798560"/>
        </p:xfrm>
        <a:graphic>
          <a:graphicData uri="http://schemas.openxmlformats.org/drawingml/2006/table">
            <a:tbl>
              <a:tblPr/>
              <a:tblGrid>
                <a:gridCol w="566640"/>
                <a:gridCol w="5222880"/>
              </a:tblGrid>
              <a:tr h="27432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Уровни мотив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V - 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высокая и нормальная мотив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положительное отношение к школе; привлекает внеучебная ст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II -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низкая мотивация и дезадапт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26" descr="4"/>
          <p:cNvPicPr/>
          <p:nvPr/>
        </p:nvPicPr>
        <p:blipFill>
          <a:blip r:embed="rId1"/>
          <a:stretch/>
        </p:blipFill>
        <p:spPr>
          <a:xfrm>
            <a:off x="142920" y="600120"/>
            <a:ext cx="8893080" cy="56372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педколлектив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ю работы является повышение психологической компетентности учителя, создание комфортного психологического климата в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ирование учителей об индивидуальных особенностях развития ребенка для выработки стратегии взаимодействия с 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е просвещ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 основных закономерностях развития ребенка на всех возрастных эта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типологических личностных особенн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психологических причинах дезадаптации к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развитии познаватель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ледование эмоционального состояния педколл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4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4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3880"/>
                            </p:stCondLst>
                            <p:childTnLst>
                              <p:par>
                                <p:cTn id="4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4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4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ь каждого ребенка, обладающего сознанием, ориентированным на умение при любых условиях и ситуациях сохранять уважение и взаимопонимание друг к друг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общение школьников к традициям и культуре своего народа на основе гармоничного включения богатства национального культурного наследия в общероссийской социокультурный контекс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толерантности, гуманистического мировоззрения при условии понимания себя как части мирового со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в школе единого образовательного и воспитательного пространства, главной ценностью которого явл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Титова"/>
          <p:cNvPicPr/>
          <p:nvPr/>
        </p:nvPicPr>
        <p:blipFill>
          <a:blip r:embed="rId1"/>
          <a:stretch/>
        </p:blipFill>
        <p:spPr>
          <a:xfrm>
            <a:off x="324000" y="446040"/>
            <a:ext cx="8496000" cy="59659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ветительская работ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ступление на классных и общешкольных родительских собр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е семейного воспитания на характер ребенка и его адаптацию к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особенности детей разных возра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фликт и стратегии поведения в конфлик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сс и его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 развития в ранней юности и профессиональное самоо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ответственности за свою жизнь как профилактика отклонений в поведении, в том числе наркотических зависим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уальное консультирование родителей по проблемам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ка стиля семейного воспит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запросам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нятия в системе дополнительного образов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фессиональное самоопреде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4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4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72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720"/>
                            </p:stCondLst>
                            <p:childTnLst>
                              <p:par>
                                <p:cTn id="5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трудничество с ВУЗ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ский городской психолого-педагогический университет. 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грамма «Психологический классов»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фориентационная работа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открытый педагогический университет.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ий Государственный Гуманитарный Университет.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5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5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5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026" descr="Восхождение к истокам 1-2"/>
          <p:cNvPicPr/>
          <p:nvPr/>
        </p:nvPicPr>
        <p:blipFill>
          <a:blip r:embed="rId1"/>
          <a:stretch/>
        </p:blipFill>
        <p:spPr>
          <a:xfrm>
            <a:off x="77760" y="189000"/>
            <a:ext cx="9036000" cy="6462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908000" y="1125360"/>
            <a:ext cx="66963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Психологичес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безопасн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сред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1547640" y="4510080"/>
            <a:ext cx="6050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762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зультаты анкетирования школьников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Результаты анкетирования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1027"/>
          <p:cNvGraphicFramePr/>
          <p:nvPr/>
        </p:nvGraphicFramePr>
        <p:xfrm>
          <a:off x="2484360" y="2349360"/>
          <a:ext cx="352764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349360"/>
                    <a:ext cx="352764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1028"/>
          <p:cNvGraphicFramePr/>
          <p:nvPr/>
        </p:nvGraphicFramePr>
        <p:xfrm>
          <a:off x="0" y="3890880"/>
          <a:ext cx="2987640" cy="29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10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90880"/>
                    <a:ext cx="298764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1029"/>
          <p:cNvGraphicFramePr/>
          <p:nvPr/>
        </p:nvGraphicFramePr>
        <p:xfrm>
          <a:off x="5873760" y="1268280"/>
          <a:ext cx="3340080" cy="352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10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73760" y="1268280"/>
                    <a:ext cx="33400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5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860"/>
                            </p:stCondLst>
                            <p:childTnLst>
                              <p:par>
                                <p:cTn id="5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5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Object 2"/>
          <p:cNvGraphicFramePr/>
          <p:nvPr/>
        </p:nvGraphicFramePr>
        <p:xfrm>
          <a:off x="0" y="2781360"/>
          <a:ext cx="375120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1360"/>
                    <a:ext cx="375120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3"/>
          <p:cNvGraphicFramePr/>
          <p:nvPr/>
        </p:nvGraphicFramePr>
        <p:xfrm>
          <a:off x="2484360" y="0"/>
          <a:ext cx="4319640" cy="400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0"/>
                    <a:ext cx="431964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4"/>
          <p:cNvGraphicFramePr/>
          <p:nvPr/>
        </p:nvGraphicFramePr>
        <p:xfrm>
          <a:off x="5076720" y="2914560"/>
          <a:ext cx="4067280" cy="394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2914560"/>
                    <a:ext cx="40672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P3030513"/>
          <p:cNvPicPr/>
          <p:nvPr/>
        </p:nvPicPr>
        <p:blipFill>
          <a:blip r:embed="rId1"/>
          <a:stretch/>
        </p:blipFill>
        <p:spPr>
          <a:xfrm>
            <a:off x="468360" y="351000"/>
            <a:ext cx="8280360" cy="6210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жидаемые 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Создание комфортной образовательной среды, позволяющей реализоваться личности школьника и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Формирование педагогического сообщества, включенность всех субъектов образовательного процесса в проектирование адаптивной среды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дель выпуск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олерантный, способный к сопереживанию и жизни в мире с другими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спешный, конкурентносбособный, готовый к самоисследованию и самосовершенствованию, умеющий перестраиваться в динамично меняющемся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меющий сознательную нравственную пози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нимающий Россию и русского человека через духовное освоение русск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бладающий активной гражданской пози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Этнопсих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сследование этнического сознания и самосознания, национальных ценностей и ориентаций, национальных ожиданий, национального харак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оспитание этнической толерант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ормирование этнического уровня взаимодействия куль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6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1"/>
          <p:cNvSpPr/>
          <p:nvPr/>
        </p:nvSpPr>
        <p:spPr>
          <a:xfrm>
            <a:off x="885960" y="1700280"/>
            <a:ext cx="7416720" cy="244944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Text Box 34"/>
          <p:cNvSpPr/>
          <p:nvPr/>
        </p:nvSpPr>
        <p:spPr>
          <a:xfrm>
            <a:off x="3279600" y="592200"/>
            <a:ext cx="2629080" cy="66672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ическа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служба школы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Text Box 35"/>
          <p:cNvSpPr/>
          <p:nvPr/>
        </p:nvSpPr>
        <p:spPr>
          <a:xfrm>
            <a:off x="2627280" y="1916280"/>
            <a:ext cx="1638360" cy="86508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Тематические лекции для учителе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Text Box 36"/>
          <p:cNvSpPr/>
          <p:nvPr/>
        </p:nvSpPr>
        <p:spPr>
          <a:xfrm>
            <a:off x="3808440" y="2913120"/>
            <a:ext cx="1600200" cy="80316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Развивающие занятия с учащимис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Text Box 37"/>
          <p:cNvSpPr/>
          <p:nvPr/>
        </p:nvSpPr>
        <p:spPr>
          <a:xfrm>
            <a:off x="5865840" y="2913120"/>
            <a:ext cx="1447920" cy="80316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роведение психотре-нинг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Text Box 38"/>
          <p:cNvSpPr/>
          <p:nvPr/>
        </p:nvSpPr>
        <p:spPr>
          <a:xfrm>
            <a:off x="1814400" y="2913120"/>
            <a:ext cx="1447920" cy="87624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Консультации для родителе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Text Box 39"/>
          <p:cNvSpPr/>
          <p:nvPr/>
        </p:nvSpPr>
        <p:spPr>
          <a:xfrm>
            <a:off x="5048280" y="1916280"/>
            <a:ext cx="1828800" cy="86508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реподавание предмета психологии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Text Box 40"/>
          <p:cNvSpPr/>
          <p:nvPr/>
        </p:nvSpPr>
        <p:spPr>
          <a:xfrm>
            <a:off x="3635280" y="4437000"/>
            <a:ext cx="2173320" cy="43200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профилакт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2390760" y="5199120"/>
            <a:ext cx="2067120" cy="146988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личности школьник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4572000" y="5199120"/>
            <a:ext cx="2087640" cy="146988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личности и деятельности учител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Text Box 46"/>
          <p:cNvSpPr/>
          <p:nvPr/>
        </p:nvSpPr>
        <p:spPr>
          <a:xfrm>
            <a:off x="179280" y="5029200"/>
            <a:ext cx="2100240" cy="16398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явлений в школьном коллективе, групп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" name="Text Box 47"/>
          <p:cNvSpPr/>
          <p:nvPr/>
        </p:nvSpPr>
        <p:spPr>
          <a:xfrm>
            <a:off x="6783480" y="4998960"/>
            <a:ext cx="2166840" cy="16560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Выявление психологических особенностей и их влияние на личность школьн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Line 48"/>
          <p:cNvSpPr/>
          <p:nvPr/>
        </p:nvSpPr>
        <p:spPr>
          <a:xfrm flipH="1">
            <a:off x="3922200" y="4869000"/>
            <a:ext cx="18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Line 50"/>
          <p:cNvSpPr/>
          <p:nvPr/>
        </p:nvSpPr>
        <p:spPr>
          <a:xfrm flipH="1">
            <a:off x="1618920" y="4653000"/>
            <a:ext cx="198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Line 51"/>
          <p:cNvSpPr/>
          <p:nvPr/>
        </p:nvSpPr>
        <p:spPr>
          <a:xfrm flipV="1">
            <a:off x="5838840" y="4653000"/>
            <a:ext cx="19731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Line 52"/>
          <p:cNvSpPr/>
          <p:nvPr/>
        </p:nvSpPr>
        <p:spPr>
          <a:xfrm>
            <a:off x="781200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Line 54"/>
          <p:cNvSpPr/>
          <p:nvPr/>
        </p:nvSpPr>
        <p:spPr>
          <a:xfrm>
            <a:off x="460836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Line 57"/>
          <p:cNvSpPr/>
          <p:nvPr/>
        </p:nvSpPr>
        <p:spPr>
          <a:xfrm>
            <a:off x="428472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Line 58"/>
          <p:cNvSpPr/>
          <p:nvPr/>
        </p:nvSpPr>
        <p:spPr>
          <a:xfrm flipV="1">
            <a:off x="500364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Line 59"/>
          <p:cNvSpPr/>
          <p:nvPr/>
        </p:nvSpPr>
        <p:spPr>
          <a:xfrm flipH="1">
            <a:off x="5433480" y="4869000"/>
            <a:ext cx="18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Line 60"/>
          <p:cNvSpPr/>
          <p:nvPr/>
        </p:nvSpPr>
        <p:spPr>
          <a:xfrm>
            <a:off x="1619280" y="465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826920" y="11592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лагодарим за внимание!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5" name="Picture 1024" descr="Без имени-1"/>
          <p:cNvPicPr/>
          <p:nvPr/>
        </p:nvPicPr>
        <p:blipFill>
          <a:blip r:embed="rId1"/>
          <a:stretch/>
        </p:blipFill>
        <p:spPr>
          <a:xfrm>
            <a:off x="395280" y="981000"/>
            <a:ext cx="8280360" cy="577224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0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26" descr="Психология 1"/>
          <p:cNvPicPr/>
          <p:nvPr/>
        </p:nvPicPr>
        <p:blipFill>
          <a:blip r:embed="rId1"/>
          <a:stretch/>
        </p:blipFill>
        <p:spPr>
          <a:xfrm>
            <a:off x="179280" y="625320"/>
            <a:ext cx="8785440" cy="5607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436680" y="420840"/>
            <a:ext cx="2622600" cy="24001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о-педагогические условия формирования этнокультурной идентичности в образовательном пространств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708360" y="477720"/>
            <a:ext cx="5184720" cy="251964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рганизация учебно-воспитательного процесса на основ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антропологического подхода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643280" y="1125360"/>
            <a:ext cx="3384720" cy="60192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бразовательная среда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как система запросов учен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851280" y="2095560"/>
            <a:ext cx="1476360" cy="68580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Мониторинг запрос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435640" y="1952640"/>
            <a:ext cx="1728720" cy="82872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сихолого-педагогический консилиум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7275600" y="2095560"/>
            <a:ext cx="1473120" cy="68580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ИСУ школьник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340000" y="3176640"/>
            <a:ext cx="6553080" cy="8287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рганизация учебно-воспитательного процесса  на основ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системы традиционных этнических ценностей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(коллективизм, соборность, общинность)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2340000" y="4292640"/>
            <a:ext cx="6553080" cy="12286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Развити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рофессиональных компетентностей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учителей. Совершенствование психологической культуры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овышение квалификации педагогического состав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Качественные изменения кадрового состав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2340000" y="5805360"/>
            <a:ext cx="6553080" cy="68580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Взаимодействие с семьей,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как источника «культуры национального чувства и патриотической верности» (И. Ильин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478800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78850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6300720" y="17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419640" y="1773360"/>
            <a:ext cx="5508360" cy="424800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Создание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сихологически безопасной среды для всех участников образовательного пространства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на основе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успешности в обучени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эмоциональной устойчивост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готовности к психологическим нагрузкам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толерантност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умения принимать решения  и нести ответственность за их последствия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36680" y="420840"/>
            <a:ext cx="2622600" cy="24001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о-педагогические условия формирования этнокультурной идентичности в образовательном пространств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026"/>
          <p:cNvSpPr txBox="1"/>
          <p:nvPr/>
        </p:nvSpPr>
        <p:spPr>
          <a:xfrm>
            <a:off x="1547640" y="1773360"/>
            <a:ext cx="741708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Инновационн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деятельност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школ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Разработка модели психологически безопасной психологической среды "Школа Доброты"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Преподавание психологии как учебного предмета на всех этапах обучения в школе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Психолого-педагогическое обеспечение личностно-ориентированного образования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50920" y="2708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ыт работы школы был представле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68360" y="357336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оссийско-германском семинаре "Школа без стресса", 2005 год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сероссийской конференции "Преподавание психологии как предмета", 2005 год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 рамках Российско-германского проекта "Школа без стресса, май 2006 год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I – XV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х рождественских образовательных чтениях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и псих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ют привлечению внимания к психической жизни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ывают, что существует класс объектов – человеческие феномены, которые интересны сами по себе и "живут" по определенным законам, показывают уникальность, слож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ют не только психологическую грамотность, но и развитие внутренней психологическ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осят в образование представление о человеке как главной ценности мира, формируют толерантное отношение к людям, миру, самому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07:16:14Z</dcterms:created>
  <dc:creator>Dmitry</dc:creator>
  <dc:description/>
  <dc:language>en-US</dc:language>
  <cp:lastModifiedBy>LEGION</cp:lastModifiedBy>
  <dcterms:modified xsi:type="dcterms:W3CDTF">2014-11-12T08:52:51Z</dcterms:modified>
  <cp:revision>27</cp:revision>
  <dc:subject/>
  <dc:title>Rr</dc:title>
</cp:coreProperties>
</file>