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508E-B790-4A00-AC79-EC5F8DE5253E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лужба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91DF-E3CD-44E2-8075-B1BAA2483E8B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8A3F-3867-4B68-A483-2FCC36E66B3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77BF-6B6A-4F07-B654-40CD4A797F5C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едколлекти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F7FB-D638-4C9F-AED2-20CE24B8366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D068-9AB7-4225-9D55-E27AA58478E1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C87A-A235-4B55-A65A-E300120CD13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14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B770-572C-48A6-B8DF-8DB15B79B5D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Психологиче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безопа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ре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27B6-10DC-4306-B4BA-26B5890C0BB6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00"/>
                </a:solidFill>
                <a:latin typeface="Calibri"/>
              </a:rPr>
              <a:t>Результаты анкетирования шк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482E-2448-4094-9373-9086492379B2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88C0-0992-4369-A0DA-D1D44B8D0950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E16C-ADBC-42C3-AC16-212945C40503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551C-8794-4D4A-ACB8-DC766FB582BB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и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т привлечению внимания к психической жизни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9203-1B3D-419A-AC01-30B84F3D7C6D}" type="slidenum">
              <a:rPr b="0" lang="uk-UA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CD1-7D72-4475-B4AE-4A5C834E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BFB-E1CD-4032-BFB2-12C86F49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B2C-04D6-44F2-874A-5B69AE3B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E3C6-2277-477E-A11F-4FB0CA82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219-A37A-4EA6-A243-4F7EEBEC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F6A4-F15A-4305-89ED-892FAD12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C51-53C7-4E65-A197-E0B05DF9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9AE-4E7F-4CC4-BDA5-B0C9F39D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81BA-2312-4E48-B33B-2C9A9BC0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D4C-2466-4752-A12E-45CD91B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F50-8556-4DE2-868B-CE108F12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B2A-BBD1-411E-8DE3-EAD26EE6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6CDC5-722B-43EC-ADF6-7F0F88311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26"/>
          <p:cNvSpPr txBox="1"/>
          <p:nvPr/>
        </p:nvSpPr>
        <p:spPr>
          <a:xfrm>
            <a:off x="1984320" y="1917720"/>
            <a:ext cx="66200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Психологическ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служба 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026" descr="Психология 4"/>
          <p:cNvPicPr/>
          <p:nvPr/>
        </p:nvPicPr>
        <p:blipFill>
          <a:blip r:embed="rId1"/>
          <a:stretch/>
        </p:blipFill>
        <p:spPr>
          <a:xfrm>
            <a:off x="324000" y="685800"/>
            <a:ext cx="8569080" cy="55339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5" name="Object 1027"/>
          <p:cNvGraphicFramePr/>
          <p:nvPr/>
        </p:nvGraphicFramePr>
        <p:xfrm>
          <a:off x="1476360" y="1387440"/>
          <a:ext cx="649296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87440"/>
                    <a:ext cx="649296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шение учащихся школы № 868 к предмету "Психология"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1103400" y="1424160"/>
          <a:ext cx="706896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424160"/>
                    <a:ext cx="70689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настоящий момент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08000" y="1484280"/>
          <a:ext cx="962640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84280"/>
                    <a:ext cx="962640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54936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ение учащихся школы № 868 о практической пользе уроков психологии (в будущем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130320" y="1521000"/>
          <a:ext cx="9410400" cy="52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21000"/>
                    <a:ext cx="9410400" cy="52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учащими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лановая психодиагностика для выявления актуального состояния интеллектуальной и эмоционально-личностной сферы и проведение психопрофилактических и коррекционных мероприяти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роки психологии как учебный предмет дают представление о психической жизни человека, знания о самом себе, знакомят с механизмами управления собственной психи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сихологические тренинги и коррекционно-развивающие занятия для гармонизации эмоционально-личностного развития учащихс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нятия по профессиональному самоопределению с целью формирования у учащихся способности соотносить свои психологические особенности с требованиями профе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Индивидуальные консульта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44360" y="2230560"/>
          <a:ext cx="8820360" cy="429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230560"/>
                    <a:ext cx="88203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школьной тревожности Филлип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324000" y="9079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е эмоциональное состояние в школе (контакты со сверстниками, страх самовыражения, в ситуации проверки знаний, перед учителем и т.д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4"/>
          <p:cNvGraphicFramePr/>
          <p:nvPr/>
        </p:nvGraphicFramePr>
        <p:xfrm>
          <a:off x="71280" y="2449440"/>
          <a:ext cx="8964720" cy="43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449440"/>
                    <a:ext cx="8964720" cy="43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5"/>
          <p:cNvSpPr/>
          <p:nvPr/>
        </p:nvSpPr>
        <p:spPr>
          <a:xfrm>
            <a:off x="457200" y="18900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а школьной мотивации Лускановой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51200" y="806400"/>
          <a:ext cx="5789520" cy="1798560"/>
        </p:xfrm>
        <a:graphic>
          <a:graphicData uri="http://schemas.openxmlformats.org/drawingml/2006/table">
            <a:tbl>
              <a:tblPr/>
              <a:tblGrid>
                <a:gridCol w="566640"/>
                <a:gridCol w="5222880"/>
              </a:tblGrid>
              <a:tr h="27432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Уровни мотив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V -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высокая и нормальная мотив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положительное отношение к школе; привлекает внеучебная ст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II -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- низкая мотивация и дезадап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26" descr="4"/>
          <p:cNvPicPr/>
          <p:nvPr/>
        </p:nvPicPr>
        <p:blipFill>
          <a:blip r:embed="rId1"/>
          <a:stretch/>
        </p:blipFill>
        <p:spPr>
          <a:xfrm>
            <a:off x="142920" y="600120"/>
            <a:ext cx="8893080" cy="56372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педколлектив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ю работы является повышение психологической компетентности учителя, создание комфортного психологического климата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ование учителей об индивидуальных особенностях развития ребенка для выработки стратегии взаимодействия с 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логическое просвещ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 основных закономерностях развития ребенка на всех возрастных этап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типологических личностных особ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психологических причинах дезадаптации к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развитии познавательной а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ледование эмоционального состояния педколл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8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388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4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чность каждого ребенка, обладающего сознанием, ориентированным на умение при любых условиях и ситуациях сохранять уважение и взаимопонимание друг к друг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общение школьников к традициям и культуре своего народа на основе гармоничного включения богатства национального культурного наследия в общероссийской социокультурный контек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ирование толерантности, гуманистического мировоззрения при условии понимания себя как части мирового со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в школе единого образовательного и воспитательного пространства, главной ценностью которого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Титова"/>
          <p:cNvPicPr/>
          <p:nvPr/>
        </p:nvPicPr>
        <p:blipFill>
          <a:blip r:embed="rId1"/>
          <a:stretch/>
        </p:blipFill>
        <p:spPr>
          <a:xfrm>
            <a:off x="324000" y="446040"/>
            <a:ext cx="8496000" cy="59659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светительская работ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ыступление на классных и общешкольных родительских собр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лияние семейного воспитания на характер ребенка и его адаптацию к шк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ологические особенности детей разных возра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фликт и стратегии поведения в конфли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есс и его послед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обенности развития в ранней юности и профессиональное самоопре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ответственности за свою жизнь как профилактика отклонений в поведении, в том числе наркотических зависим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уальное консультирование родителей по проблемам обучения и вос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агностика стиля семейного воспит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запросам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нятия в системе дополнительного образовани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фессиональное самоопреде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4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720"/>
                            </p:stCondLst>
                            <p:childTnLst>
                              <p:par>
                                <p:cTn id="4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720"/>
                            </p:stCondLst>
                            <p:childTnLst>
                              <p:par>
                                <p:cTn id="4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72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720"/>
                            </p:stCondLst>
                            <p:childTnLst>
                              <p:par>
                                <p:cTn id="5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трудничество с ВУЗ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родской психолого-педагогический университет. 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грамма «Психологический классов».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фориентационная работа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ский государственный открытый педагогически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й Государственный Гуманитарный Университет.</a:t>
            </a: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роведение психологической практики для студентов.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уденты оказывают помощь в проведении плановых психологических меропри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5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5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026" descr="Восхождение к истокам 1-2"/>
          <p:cNvPicPr/>
          <p:nvPr/>
        </p:nvPicPr>
        <p:blipFill>
          <a:blip r:embed="rId1"/>
          <a:stretch/>
        </p:blipFill>
        <p:spPr>
          <a:xfrm>
            <a:off x="77760" y="189000"/>
            <a:ext cx="9036000" cy="64627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66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Психологически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безопас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004700"/>
                    </a:gs>
                  </a:gsLst>
                  <a:lin ang="0"/>
                </a:gradFill>
                <a:latin typeface="Impact"/>
              </a:rPr>
              <a:t>сред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00"/>
                  </a:gs>
                  <a:gs pos="100000">
                    <a:srgbClr val="004700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547640" y="4510080"/>
            <a:ext cx="60501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762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зультаты анкетирования школьников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00"/>
                </a:solidFill>
                <a:latin typeface="Arial"/>
              </a:rPr>
              <a:t>Результаты анкетирова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1027"/>
          <p:cNvGraphicFramePr/>
          <p:nvPr/>
        </p:nvGraphicFramePr>
        <p:xfrm>
          <a:off x="2484360" y="2349360"/>
          <a:ext cx="35276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35276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1028"/>
          <p:cNvGraphicFramePr/>
          <p:nvPr/>
        </p:nvGraphicFramePr>
        <p:xfrm>
          <a:off x="0" y="3890880"/>
          <a:ext cx="2987640" cy="296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10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90880"/>
                    <a:ext cx="2987640" cy="29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029"/>
          <p:cNvGraphicFramePr/>
          <p:nvPr/>
        </p:nvGraphicFramePr>
        <p:xfrm>
          <a:off x="5873760" y="1268280"/>
          <a:ext cx="334008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10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73760" y="1268280"/>
                    <a:ext cx="33400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860"/>
                            </p:stCondLst>
                            <p:childTnLst>
                              <p:par>
                                <p:cTn id="5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5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0" y="2781360"/>
          <a:ext cx="375120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375120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3"/>
          <p:cNvGraphicFramePr/>
          <p:nvPr/>
        </p:nvGraphicFramePr>
        <p:xfrm>
          <a:off x="2484360" y="0"/>
          <a:ext cx="4319640" cy="400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0"/>
                    <a:ext cx="431964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4"/>
          <p:cNvGraphicFramePr/>
          <p:nvPr/>
        </p:nvGraphicFramePr>
        <p:xfrm>
          <a:off x="5076720" y="2914560"/>
          <a:ext cx="4067280" cy="39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914560"/>
                    <a:ext cx="406728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0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3030513"/>
          <p:cNvPicPr/>
          <p:nvPr/>
        </p:nvPicPr>
        <p:blipFill>
          <a:blip r:embed="rId1"/>
          <a:stretch/>
        </p:blipFill>
        <p:spPr>
          <a:xfrm>
            <a:off x="468360" y="351000"/>
            <a:ext cx="8280360" cy="6210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жидаемые 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Создание комфортной образовательной среды, позволяющей реализоваться личности школьника и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Monotype Corsiva"/>
              </a:rPr>
              <a:t>Формирование педагогического сообщества, включенность всех субъектов образовательного процесса в проектирование адаптивной среды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дель выпускн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олерантный, способный к сопереживанию и жизни в мире с другими люд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спешный, конкурентносбособный, готовый к самоисследованию и самосовершенствованию, умеющий перестраиваться в динамично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имеющий сознательную нравственную пози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нимающий Россию и русского человека через духовное освое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обладающий активной гражданской пози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Этнопсих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сследование этнического сознания и самосознания, национальных ценностей и ориентаций, национальных ожиданий, национального характ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Воспитание этнической толеран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Формирование этнического уровня взаимодействия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6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1"/>
          <p:cNvSpPr/>
          <p:nvPr/>
        </p:nvSpPr>
        <p:spPr>
          <a:xfrm>
            <a:off x="885960" y="1700280"/>
            <a:ext cx="7416720" cy="2449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Text Box 34"/>
          <p:cNvSpPr/>
          <p:nvPr/>
        </p:nvSpPr>
        <p:spPr>
          <a:xfrm>
            <a:off x="3279600" y="592200"/>
            <a:ext cx="2629080" cy="66672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ическая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служба школы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Text Box 35"/>
          <p:cNvSpPr/>
          <p:nvPr/>
        </p:nvSpPr>
        <p:spPr>
          <a:xfrm>
            <a:off x="2627280" y="1916280"/>
            <a:ext cx="163836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Тематические лекции для уч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Text Box 36"/>
          <p:cNvSpPr/>
          <p:nvPr/>
        </p:nvSpPr>
        <p:spPr>
          <a:xfrm>
            <a:off x="3808440" y="2913120"/>
            <a:ext cx="160020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Развивающие занятия с учащимис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Text Box 37"/>
          <p:cNvSpPr/>
          <p:nvPr/>
        </p:nvSpPr>
        <p:spPr>
          <a:xfrm>
            <a:off x="5865840" y="2913120"/>
            <a:ext cx="1447920" cy="80316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оведение психотре-нинг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Text Box 38"/>
          <p:cNvSpPr/>
          <p:nvPr/>
        </p:nvSpPr>
        <p:spPr>
          <a:xfrm>
            <a:off x="1814400" y="2913120"/>
            <a:ext cx="1447920" cy="87624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Консультации для родителей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Text Box 39"/>
          <p:cNvSpPr/>
          <p:nvPr/>
        </p:nvSpPr>
        <p:spPr>
          <a:xfrm>
            <a:off x="5048280" y="1916280"/>
            <a:ext cx="1828800" cy="86508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реподавание предмета психологии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Text Box 40"/>
          <p:cNvSpPr/>
          <p:nvPr/>
        </p:nvSpPr>
        <p:spPr>
          <a:xfrm>
            <a:off x="3635280" y="4437000"/>
            <a:ext cx="2173320" cy="432000"/>
          </a:xfrm>
          <a:prstGeom prst="rect">
            <a:avLst/>
          </a:prstGeom>
          <a:solidFill>
            <a:srgbClr val="99cc00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профилакт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2390760" y="5199120"/>
            <a:ext cx="206712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Text Box 45"/>
          <p:cNvSpPr/>
          <p:nvPr/>
        </p:nvSpPr>
        <p:spPr>
          <a:xfrm>
            <a:off x="4572000" y="5199120"/>
            <a:ext cx="2087640" cy="146988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личности и деятельности учителя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Text Box 46"/>
          <p:cNvSpPr/>
          <p:nvPr/>
        </p:nvSpPr>
        <p:spPr>
          <a:xfrm>
            <a:off x="179280" y="5029200"/>
            <a:ext cx="2100240" cy="16398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Психодиагностика явлений в школьном коллективе, группе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Text Box 47"/>
          <p:cNvSpPr/>
          <p:nvPr/>
        </p:nvSpPr>
        <p:spPr>
          <a:xfrm>
            <a:off x="6783480" y="4998960"/>
            <a:ext cx="2166840" cy="165600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ngsana New"/>
              </a:rPr>
              <a:t>Выявление психологических особенностей и их влияние на личность школь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Line 48"/>
          <p:cNvSpPr/>
          <p:nvPr/>
        </p:nvSpPr>
        <p:spPr>
          <a:xfrm flipH="1">
            <a:off x="392220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Line 50"/>
          <p:cNvSpPr/>
          <p:nvPr/>
        </p:nvSpPr>
        <p:spPr>
          <a:xfrm flipH="1">
            <a:off x="1618920" y="4653000"/>
            <a:ext cx="198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Line 51"/>
          <p:cNvSpPr/>
          <p:nvPr/>
        </p:nvSpPr>
        <p:spPr>
          <a:xfrm flipV="1">
            <a:off x="5838840" y="4653000"/>
            <a:ext cx="1973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Line 52"/>
          <p:cNvSpPr/>
          <p:nvPr/>
        </p:nvSpPr>
        <p:spPr>
          <a:xfrm>
            <a:off x="78120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460836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Line 57"/>
          <p:cNvSpPr/>
          <p:nvPr/>
        </p:nvSpPr>
        <p:spPr>
          <a:xfrm>
            <a:off x="428472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Line 58"/>
          <p:cNvSpPr/>
          <p:nvPr/>
        </p:nvSpPr>
        <p:spPr>
          <a:xfrm flipV="1">
            <a:off x="500364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Line 59"/>
          <p:cNvSpPr/>
          <p:nvPr/>
        </p:nvSpPr>
        <p:spPr>
          <a:xfrm flipH="1">
            <a:off x="5433480" y="4869000"/>
            <a:ext cx="18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Line 60"/>
          <p:cNvSpPr/>
          <p:nvPr/>
        </p:nvSpPr>
        <p:spPr>
          <a:xfrm>
            <a:off x="1619280" y="465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826920" y="11592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Благодарим за внимание!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5" name="Picture 1024" descr="Без имени-1"/>
          <p:cNvPicPr/>
          <p:nvPr/>
        </p:nvPicPr>
        <p:blipFill>
          <a:blip r:embed="rId1"/>
          <a:stretch/>
        </p:blipFill>
        <p:spPr>
          <a:xfrm>
            <a:off x="395280" y="981000"/>
            <a:ext cx="8280360" cy="577224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0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6" descr="Психология 1"/>
          <p:cNvPicPr/>
          <p:nvPr/>
        </p:nvPicPr>
        <p:blipFill>
          <a:blip r:embed="rId1"/>
          <a:stretch/>
        </p:blipFill>
        <p:spPr>
          <a:xfrm>
            <a:off x="179280" y="625320"/>
            <a:ext cx="8785440" cy="5607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708360" y="477720"/>
            <a:ext cx="5184720" cy="251964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антропологического подхода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643280" y="1125360"/>
            <a:ext cx="3384720" cy="6019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бразовательная среда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к система запросов ученик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51280" y="2095560"/>
            <a:ext cx="147636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Мониторинг запрос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435640" y="1952640"/>
            <a:ext cx="1728720" cy="82872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о-педагогический консилиум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75600" y="2095560"/>
            <a:ext cx="1473120" cy="685800"/>
          </a:xfrm>
          <a:prstGeom prst="rect">
            <a:avLst/>
          </a:prstGeom>
          <a:solidFill>
            <a:srgbClr val="99cc00">
              <a:alpha val="43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ИСУ школьников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340000" y="3176640"/>
            <a:ext cx="6553080" cy="8287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Организация учебно-воспитательного процесса  на основ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истемы традиционных этнических цен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(коллективизм, соборность, общинность)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340000" y="4292640"/>
            <a:ext cx="6553080" cy="1228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Развитие </a:t>
            </a: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рофессиональных компетентностей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учителей. Совершенствование психологической культуры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овышение квалификации педагогическ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Качественные изменения кадрового соста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340000" y="5805360"/>
            <a:ext cx="6553080" cy="6858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Взаимодействие с семьей,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как источника «культуры национального чувства и патриотической верности» (И. Ильин)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4788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78850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6300720" y="1773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419640" y="1773360"/>
            <a:ext cx="5508360" cy="424800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Создание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психологически безопасной среды для всех участников образовательного пространств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на основе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спешности в обучени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эмоциональной устойчив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готовности к психологическим нагрузкам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толерантности;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Angsana New"/>
              </a:rPr>
              <a:t>умения принимать решения  и нести ответственность за их последстви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36680" y="420840"/>
            <a:ext cx="2622600" cy="24001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Психолого-педагогические условия формирования этнокультурной идентичности в образовательном пространств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1026"/>
          <p:cNvSpPr txBox="1"/>
          <p:nvPr/>
        </p:nvSpPr>
        <p:spPr>
          <a:xfrm>
            <a:off x="1547640" y="1773360"/>
            <a:ext cx="741708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Инновационная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деятельност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029"/>
                    </a:gs>
                    <a:gs pos="100000">
                      <a:srgbClr val="763b13"/>
                    </a:gs>
                  </a:gsLst>
                  <a:lin ang="0"/>
                </a:gradFill>
                <a:latin typeface="Impact"/>
              </a:rPr>
              <a:t>школы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029"/>
                  </a:gs>
                  <a:gs pos="100000">
                    <a:srgbClr val="763b13"/>
                  </a:gs>
                </a:gsLst>
                <a:lin ang="0"/>
              </a:gradFill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1592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Разработка модели психологически безопасной психологической среды "Школа Доброты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реподавание психологии как учебного предмета на всех этапах обучения в школе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ЭП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"Психолого-педагогическое обеспечение личностно-ориентированного образования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50920" y="2708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ыт работы школы был представлен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68360" y="3573360"/>
            <a:ext cx="82296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Российско-германском семинаре "Школа без стресс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Всероссийской конференции "Преподавание психологии как предмета", 2005 го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 рамках Российско-германского проекта "Школа без стресса, май 2006 год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– XV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дународных рождественских образовательных чтениях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и псих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ствуют привлечению внимания к психической жизни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ывают, что существует класс объектов – человеческие феномены, которые интересны сами по себе и "живут" по определенным законам, показывают уникальность, слож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ют не только психологическую грамотность, но и развитие внутренней психологиче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осят в образование представление о человеке как главной ценности мира, формируют толерантное отношение к людям, миру, самому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9T07:16:14Z</dcterms:created>
  <dc:creator>Dmitry</dc:creator>
  <dc:description/>
  <dc:language>en-US</dc:language>
  <cp:lastModifiedBy>LEGION</cp:lastModifiedBy>
  <dcterms:modified xsi:type="dcterms:W3CDTF">2014-11-12T08:52:51Z</dcterms:modified>
  <cp:revision>27</cp:revision>
  <dc:subject/>
  <dc:title>Rr</dc:title>
</cp:coreProperties>
</file>