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E08C-994E-4C63-BCE4-946FD4C7BD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едующая кабинетом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аева Оксана Николаев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EECE-D962-486F-BDE4-671BD4A139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кабинета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8E0A-0CFA-4452-9FD6-B69C271291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ekton Pro Ext"/>
              </a:rPr>
              <a:t>Наличие посадочных ме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1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Наличие рабочих сектор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Консульт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Диагно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Психологической разгрузки (релакс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Организационно-метод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Игр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AD53-AD19-429B-B375-052CEB8E21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23D0-C9BB-4F6A-839E-C53019714C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51C-1DCF-43AD-AE55-C0F50304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3C0-847B-4C4A-A995-6EEA20FC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7CC-40F0-41E8-B629-AD952CCB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90DD-3E77-4619-9F90-F24A98CC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38FD-E8BD-4FDB-A454-236BE32D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8292-4496-4C5A-AF30-EBE13579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FFC9-1936-4E02-8AE0-CEC991A4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B8A7-8997-4050-A206-B277DE9A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DADC-DFE2-4A4C-AF4C-456E4FC1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8AD5-6242-4800-92F4-C7140D60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E27A-0F6E-4999-B1A6-28D01760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7D3-CDFD-416E-AA5A-B48CE140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C5DF-975C-4339-9219-8002EE60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5E1D-C03D-4916-B813-FCA66EBA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3CEF-D2E1-48B6-B5A1-CCA73B47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ADAF-52DF-4573-9640-DB9E4FEC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266A-4EFC-4B24-B8EC-0DA6A272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872-A513-423A-996F-AFE04E2F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3C4-4EC8-48C8-BFDB-25D90643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3689-3BC8-47AE-80F0-5AA68F3A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F66-3DF6-426F-93B7-8B5A1A48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0AF-AB26-45EC-BB58-4AC7A6C8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8A03-4931-4F2B-8FF9-78EDA8D2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069-BD10-476D-998A-56D75E14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13F1-9F08-40FC-9B06-43AE0BC67F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6FE7-B21A-48AB-9D36-0BD6AA81A61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79640" y="4764240"/>
            <a:ext cx="67816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ведующая кабинетом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таева Оксана Николаев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90720" y="1863720"/>
            <a:ext cx="7772400" cy="17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порт кабинета педагога-психолог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ан кабинета психолог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1052640"/>
            <a:ext cx="6443640" cy="5805360"/>
            <a:chOff x="0" y="1052640"/>
            <a:chExt cx="6443640" cy="5805360"/>
          </a:xfrm>
        </p:grpSpPr>
        <p:sp>
          <p:nvSpPr>
            <p:cNvPr id="110" name="Rectangle 8"/>
            <p:cNvSpPr/>
            <p:nvPr/>
          </p:nvSpPr>
          <p:spPr>
            <a:xfrm>
              <a:off x="0" y="1052640"/>
              <a:ext cx="6443640" cy="5805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гровое простр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рганизационно-методическое пространст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она релакс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776920" y="5018040"/>
              <a:ext cx="592560" cy="1354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4443840" y="6275880"/>
              <a:ext cx="1184760" cy="483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258720" y="5985720"/>
              <a:ext cx="1036800" cy="87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74052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5400000">
              <a:off x="5852160" y="291600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5852160" y="165816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259200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36968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4962240" y="3469680"/>
              <a:ext cx="1481040" cy="483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сультативное простра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4962240" y="4437360"/>
              <a:ext cx="1481040" cy="290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480840" y="4437360"/>
              <a:ext cx="1481400" cy="290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999800" y="4437360"/>
              <a:ext cx="1481040" cy="290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5406840" y="3953520"/>
              <a:ext cx="518400" cy="387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5703120" y="2695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23"/>
            <p:cNvSpPr/>
            <p:nvPr/>
          </p:nvSpPr>
          <p:spPr>
            <a:xfrm>
              <a:off x="5703120" y="3082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392544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5776920" y="1147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>
              <a:off x="6073200" y="2308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5703120" y="1534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8"/>
            <p:cNvSpPr/>
            <p:nvPr/>
          </p:nvSpPr>
          <p:spPr>
            <a:xfrm>
              <a:off x="5703120" y="1921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29"/>
            <p:cNvSpPr/>
            <p:nvPr/>
          </p:nvSpPr>
          <p:spPr>
            <a:xfrm>
              <a:off x="266616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30"/>
            <p:cNvSpPr/>
            <p:nvPr/>
          </p:nvSpPr>
          <p:spPr>
            <a:xfrm>
              <a:off x="325872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45180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32"/>
            <p:cNvSpPr/>
            <p:nvPr/>
          </p:nvSpPr>
          <p:spPr>
            <a:xfrm>
              <a:off x="50364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33"/>
            <p:cNvSpPr/>
            <p:nvPr/>
          </p:nvSpPr>
          <p:spPr>
            <a:xfrm>
              <a:off x="1036800" y="2792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34"/>
            <p:cNvSpPr/>
            <p:nvPr/>
          </p:nvSpPr>
          <p:spPr>
            <a:xfrm>
              <a:off x="518400" y="3179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35"/>
            <p:cNvSpPr/>
            <p:nvPr/>
          </p:nvSpPr>
          <p:spPr>
            <a:xfrm>
              <a:off x="13330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36"/>
            <p:cNvSpPr/>
            <p:nvPr/>
          </p:nvSpPr>
          <p:spPr>
            <a:xfrm>
              <a:off x="8128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37"/>
            <p:cNvSpPr/>
            <p:nvPr/>
          </p:nvSpPr>
          <p:spPr>
            <a:xfrm>
              <a:off x="29628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38"/>
            <p:cNvSpPr/>
            <p:nvPr/>
          </p:nvSpPr>
          <p:spPr>
            <a:xfrm>
              <a:off x="214776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39"/>
            <p:cNvSpPr/>
            <p:nvPr/>
          </p:nvSpPr>
          <p:spPr>
            <a:xfrm>
              <a:off x="1851480" y="3566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40"/>
            <p:cNvSpPr/>
            <p:nvPr/>
          </p:nvSpPr>
          <p:spPr>
            <a:xfrm>
              <a:off x="1258920" y="3953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19411800">
              <a:off x="624600" y="3178080"/>
              <a:ext cx="1376280" cy="76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иагностическое простран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>
              <a:off x="296280" y="6566040"/>
              <a:ext cx="1258920" cy="290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43"/>
            <p:cNvSpPr/>
            <p:nvPr/>
          </p:nvSpPr>
          <p:spPr>
            <a:xfrm>
              <a:off x="2147760" y="6275880"/>
              <a:ext cx="740520" cy="580320"/>
            </a:xfrm>
            <a:prstGeom prst="flowChartMerg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44"/>
            <p:cNvGrpSpPr/>
            <p:nvPr/>
          </p:nvGrpSpPr>
          <p:grpSpPr>
            <a:xfrm>
              <a:off x="0" y="1824840"/>
              <a:ext cx="295920" cy="387000"/>
              <a:chOff x="0" y="1824840"/>
              <a:chExt cx="295920" cy="387000"/>
            </a:xfrm>
          </p:grpSpPr>
          <p:sp>
            <p:nvSpPr>
              <p:cNvPr id="147" name="Line 45"/>
              <p:cNvSpPr/>
              <p:nvPr/>
            </p:nvSpPr>
            <p:spPr>
              <a:xfrm>
                <a:off x="0" y="211536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46"/>
              <p:cNvSpPr/>
              <p:nvPr/>
            </p:nvSpPr>
            <p:spPr>
              <a:xfrm>
                <a:off x="0" y="182484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7"/>
              <p:cNvSpPr/>
              <p:nvPr/>
            </p:nvSpPr>
            <p:spPr>
              <a:xfrm>
                <a:off x="222120" y="2115360"/>
                <a:ext cx="73800" cy="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Rectangle 48"/>
          <p:cNvSpPr/>
          <p:nvPr/>
        </p:nvSpPr>
        <p:spPr>
          <a:xfrm>
            <a:off x="6680160" y="1748880"/>
            <a:ext cx="228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– рабочий стол психолога; 2 – журнальный столик; 3 – стол ученический; 4 – стул ученический; 5 – диван; 6 – кресло; 7 – большой цветок; 8 –.шкаф с картотеками; 9 – книжный шкаф; 10 – шкаф с игру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Tekton Pro Ext"/>
              </a:rPr>
              <a:t>Наличие посадочных мест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Monotype Corsiva"/>
              </a:rPr>
              <a:t> </a:t>
            </a:r>
            <a:r>
              <a:rPr b="1" i="1" lang="ru-RU" sz="4000" spc="-1" strike="noStrike" u="sng">
                <a:solidFill>
                  <a:srgbClr val="ffffb7"/>
                </a:solidFill>
                <a:uFillTx/>
                <a:latin typeface="Monotype Corsiva"/>
              </a:rPr>
              <a:t>14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ekton Pro Ext"/>
              </a:rPr>
              <a:t>Наличие рабочих сектор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Консультатив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Диагнос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Психологической разгрузки (релакс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Организационно-метод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Игр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3:41:37Z</dcterms:created>
  <dc:creator>Катаева О.Н.</dc:creator>
  <dc:description/>
  <dc:language>en-US</dc:language>
  <cp:lastModifiedBy>LEGION</cp:lastModifiedBy>
  <dcterms:modified xsi:type="dcterms:W3CDTF">2014-11-12T09:31:53Z</dcterms:modified>
  <cp:revision>6</cp:revision>
  <dc:subject/>
  <dc:title>Слайд 1</dc:title>
</cp:coreProperties>
</file>