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B872-E568-442E-93F8-B31A6372E81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ведующая кабинетом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таева Оксана Николаев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6001-E3D0-4090-A9B5-6C2D7F2434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кабинета 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DC89-1CB3-4FEF-A114-0A8B396308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ekton Pro Ext"/>
              </a:rPr>
              <a:t>Наличие посадочных мес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14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ekton Pro Ext"/>
              </a:rPr>
              <a:t>Наличие рабочих секторо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Консультати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Диагнос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Психологической разгрузки (релакс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Организационно-метод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Игр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5AAA-0515-4A75-828A-98D0992853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ekton Pro Ext"/>
              </a:rPr>
              <a:t>Каталог учебно-методической литературы и пособий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Литература по общей, педагогической, социальной и возрастн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Учебники по психологии детей и взрос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Словари, справ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Методические пособ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Картотека игр, упраж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Периодические из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Видеоматериалы (видеокассеты, лазерные диски, слай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Аудиоматериалы (аудиокассеты, лазерные дис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47E0-692F-48CD-834D-D4D73FFC1A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AE57-65D6-487D-91DB-92D82A57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5F7C-C40A-4660-A52E-3FC588D2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0FDA-8C6C-40BE-B57B-2D69792B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F746-78A1-4EE2-ADF3-D0736F64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99C2-B41F-44D0-8778-42C327DC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61A0-6D53-4CF7-8AFD-192C48A5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43BD-8A62-4673-A6E0-6CE192F7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7C84-98E1-470D-B038-8C7F81FD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A223-2838-4013-A221-F94EF09C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3CD7-6E4B-4747-A9B4-6C789778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1767-2AD2-4F9A-90EA-EE47E437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426D-7F0B-4086-91C8-E2B14905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939F-A465-469D-B5DA-01AB9020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D9B7-7055-48C7-B00B-843EC756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C743-52EC-4547-9B6F-A9C3CD2B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9FDC-3A3A-4CA6-8FCB-C2EC5FC5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3691-A435-41EF-B000-9C74D851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7A1D-F164-4B9D-A0F8-88337487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8EE1-AFDF-4C15-8C85-D3BA63CA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E637-8915-4485-80A8-8853A9F4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D1F5-788C-4E33-9E93-8690A8EA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BF8-AD68-477E-A29E-A5787C48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C817-F741-404F-8024-F703D330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AFD3-A144-4B32-9F21-BDEE60AA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6EBB-9100-49E9-A4C0-45ECEA4D1A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DA6E-4424-40C5-AE5B-8A6F189E131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79640" y="4764240"/>
            <a:ext cx="67816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ведующая кабинетом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таева Оксана Николаев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990720" y="1863720"/>
            <a:ext cx="7772400" cy="170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спорт кабинета педагога-психолог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лан кабинета психолог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0" y="1052640"/>
            <a:ext cx="6443640" cy="5805360"/>
            <a:chOff x="0" y="1052640"/>
            <a:chExt cx="6443640" cy="5805360"/>
          </a:xfrm>
        </p:grpSpPr>
        <p:sp>
          <p:nvSpPr>
            <p:cNvPr id="110" name="Rectangle 8"/>
            <p:cNvSpPr/>
            <p:nvPr/>
          </p:nvSpPr>
          <p:spPr>
            <a:xfrm>
              <a:off x="0" y="1052640"/>
              <a:ext cx="6443640" cy="5805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                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гровое простран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            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рганизационно-методическое пространств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                                      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она релаксац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776920" y="5018040"/>
              <a:ext cx="592560" cy="1354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0"/>
            <p:cNvSpPr/>
            <p:nvPr/>
          </p:nvSpPr>
          <p:spPr>
            <a:xfrm>
              <a:off x="4443840" y="6275880"/>
              <a:ext cx="1184760" cy="4834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258720" y="5985720"/>
              <a:ext cx="1036800" cy="870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740520" y="1244160"/>
              <a:ext cx="1184760" cy="290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 rot="5400000">
              <a:off x="5852160" y="2916000"/>
              <a:ext cx="774000" cy="333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 rot="5400000">
              <a:off x="5852160" y="1658160"/>
              <a:ext cx="774000" cy="333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2592000" y="1244160"/>
              <a:ext cx="1184760" cy="290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4369680" y="1244160"/>
              <a:ext cx="1184760" cy="290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4962240" y="3469680"/>
              <a:ext cx="1481040" cy="483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нсультативное пространств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4962240" y="4437360"/>
              <a:ext cx="1481040" cy="2901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3480840" y="4437360"/>
              <a:ext cx="1481400" cy="290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1999800" y="4437360"/>
              <a:ext cx="1481040" cy="290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21"/>
            <p:cNvSpPr/>
            <p:nvPr/>
          </p:nvSpPr>
          <p:spPr>
            <a:xfrm>
              <a:off x="5406840" y="3953520"/>
              <a:ext cx="518400" cy="3870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22"/>
            <p:cNvSpPr/>
            <p:nvPr/>
          </p:nvSpPr>
          <p:spPr>
            <a:xfrm>
              <a:off x="5703120" y="2695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23"/>
            <p:cNvSpPr/>
            <p:nvPr/>
          </p:nvSpPr>
          <p:spPr>
            <a:xfrm>
              <a:off x="5703120" y="3082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24"/>
            <p:cNvSpPr/>
            <p:nvPr/>
          </p:nvSpPr>
          <p:spPr>
            <a:xfrm>
              <a:off x="3925440" y="124416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25"/>
            <p:cNvSpPr/>
            <p:nvPr/>
          </p:nvSpPr>
          <p:spPr>
            <a:xfrm>
              <a:off x="5776920" y="114768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26"/>
            <p:cNvSpPr/>
            <p:nvPr/>
          </p:nvSpPr>
          <p:spPr>
            <a:xfrm>
              <a:off x="6073200" y="230868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27"/>
            <p:cNvSpPr/>
            <p:nvPr/>
          </p:nvSpPr>
          <p:spPr>
            <a:xfrm>
              <a:off x="5703120" y="1534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28"/>
            <p:cNvSpPr/>
            <p:nvPr/>
          </p:nvSpPr>
          <p:spPr>
            <a:xfrm>
              <a:off x="5703120" y="1921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29"/>
            <p:cNvSpPr/>
            <p:nvPr/>
          </p:nvSpPr>
          <p:spPr>
            <a:xfrm>
              <a:off x="266616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30"/>
            <p:cNvSpPr/>
            <p:nvPr/>
          </p:nvSpPr>
          <p:spPr>
            <a:xfrm>
              <a:off x="325872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31"/>
            <p:cNvSpPr/>
            <p:nvPr/>
          </p:nvSpPr>
          <p:spPr>
            <a:xfrm>
              <a:off x="451800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32"/>
            <p:cNvSpPr/>
            <p:nvPr/>
          </p:nvSpPr>
          <p:spPr>
            <a:xfrm>
              <a:off x="503640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33"/>
            <p:cNvSpPr/>
            <p:nvPr/>
          </p:nvSpPr>
          <p:spPr>
            <a:xfrm>
              <a:off x="1036800" y="2792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34"/>
            <p:cNvSpPr/>
            <p:nvPr/>
          </p:nvSpPr>
          <p:spPr>
            <a:xfrm>
              <a:off x="518400" y="3179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35"/>
            <p:cNvSpPr/>
            <p:nvPr/>
          </p:nvSpPr>
          <p:spPr>
            <a:xfrm>
              <a:off x="133308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36"/>
            <p:cNvSpPr/>
            <p:nvPr/>
          </p:nvSpPr>
          <p:spPr>
            <a:xfrm>
              <a:off x="81288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37"/>
            <p:cNvSpPr/>
            <p:nvPr/>
          </p:nvSpPr>
          <p:spPr>
            <a:xfrm>
              <a:off x="296280" y="124416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38"/>
            <p:cNvSpPr/>
            <p:nvPr/>
          </p:nvSpPr>
          <p:spPr>
            <a:xfrm>
              <a:off x="2147760" y="124416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39"/>
            <p:cNvSpPr/>
            <p:nvPr/>
          </p:nvSpPr>
          <p:spPr>
            <a:xfrm>
              <a:off x="1851480" y="3566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40"/>
            <p:cNvSpPr/>
            <p:nvPr/>
          </p:nvSpPr>
          <p:spPr>
            <a:xfrm>
              <a:off x="1258920" y="3953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41"/>
            <p:cNvSpPr/>
            <p:nvPr/>
          </p:nvSpPr>
          <p:spPr>
            <a:xfrm rot="19411800">
              <a:off x="624600" y="3178080"/>
              <a:ext cx="1376280" cy="762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иагностическое пространств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42"/>
            <p:cNvSpPr/>
            <p:nvPr/>
          </p:nvSpPr>
          <p:spPr>
            <a:xfrm>
              <a:off x="296280" y="6566040"/>
              <a:ext cx="1258920" cy="290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43"/>
            <p:cNvSpPr/>
            <p:nvPr/>
          </p:nvSpPr>
          <p:spPr>
            <a:xfrm>
              <a:off x="2147760" y="6275880"/>
              <a:ext cx="740520" cy="580320"/>
            </a:xfrm>
            <a:prstGeom prst="flowChartMerg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" name="Group 44"/>
            <p:cNvGrpSpPr/>
            <p:nvPr/>
          </p:nvGrpSpPr>
          <p:grpSpPr>
            <a:xfrm>
              <a:off x="0" y="1824840"/>
              <a:ext cx="295920" cy="387000"/>
              <a:chOff x="0" y="1824840"/>
              <a:chExt cx="295920" cy="387000"/>
            </a:xfrm>
          </p:grpSpPr>
          <p:sp>
            <p:nvSpPr>
              <p:cNvPr id="147" name="Line 45"/>
              <p:cNvSpPr/>
              <p:nvPr/>
            </p:nvSpPr>
            <p:spPr>
              <a:xfrm>
                <a:off x="0" y="2115360"/>
                <a:ext cx="22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46"/>
              <p:cNvSpPr/>
              <p:nvPr/>
            </p:nvSpPr>
            <p:spPr>
              <a:xfrm>
                <a:off x="0" y="1824840"/>
                <a:ext cx="22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47"/>
              <p:cNvSpPr/>
              <p:nvPr/>
            </p:nvSpPr>
            <p:spPr>
              <a:xfrm>
                <a:off x="222120" y="2115360"/>
                <a:ext cx="73800" cy="9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Rectangle 48"/>
          <p:cNvSpPr/>
          <p:nvPr/>
        </p:nvSpPr>
        <p:spPr>
          <a:xfrm>
            <a:off x="6680160" y="1748880"/>
            <a:ext cx="2284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– рабочий стол психолога; 2 – журнальный столик; 3 – стол ученический; 4 – стул ученический; 5 – диван; 6 – кресло; 7 – большой цветок; 8 –.шкаф с картотеками; 9 – книжный шкаф; 10 – шкаф с игруш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Tekton Pro Ext"/>
              </a:rPr>
              <a:t>Наличие посадочных мест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Monotype Corsiva"/>
              </a:rPr>
              <a:t> </a:t>
            </a:r>
            <a:r>
              <a:rPr b="1" i="1" lang="ru-RU" sz="4000" spc="-1" strike="noStrike" u="sng">
                <a:solidFill>
                  <a:srgbClr val="ffffb7"/>
                </a:solidFill>
                <a:uFillTx/>
                <a:latin typeface="Monotype Corsiva"/>
              </a:rPr>
              <a:t>14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2060280"/>
            <a:ext cx="80074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ekton Pro Ext"/>
              </a:rPr>
              <a:t>Наличие рабочих секторов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Консультатив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Диагности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Психологической разгрузки (релаксаци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Организационно-методи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Игро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Tekton Pro Ext"/>
              </a:rPr>
              <a:t>Каталог учебно-методической литературы и пособий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Литература по общей, педагогической, социальной и возрастной псих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Учебники по психологии детей и взросл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Словари, справоч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Методические пособия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Картотека игр, упражн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Периодические из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Видеоматериалы (видеокассеты, лазерные диски, слайд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Аудиоматериалы (аудиокассеты, лазерные диск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3:41:37Z</dcterms:created>
  <dc:creator>Катаева О.Н.</dc:creator>
  <dc:description/>
  <dc:language>en-US</dc:language>
  <cp:lastModifiedBy>LEGION</cp:lastModifiedBy>
  <dcterms:modified xsi:type="dcterms:W3CDTF">2014-11-12T09:31:53Z</dcterms:modified>
  <cp:revision>6</cp:revision>
  <dc:subject/>
  <dc:title>Слайд 1</dc:title>
</cp:coreProperties>
</file>