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4447-F39B-43C7-80A7-532E0AC257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1200"/>
            </a:b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6E7-3E22-4A6E-9D83-0A61DE86BE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возникающие во взаимодействии врача и медицинского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рачи клиниц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ют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ицинские психолог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90C6-E30A-4AEF-B223-70C570BBA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лоб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анамнеза бо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ый режим психотерапевтического или фармакологического лече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FFDE-6F35-4765-ADC6-FEA10F153F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CF3C-1C8F-4672-8571-A248B8E3B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дифференциальной диагностики посредство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я качественных и количественных методов оце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824-290E-4FBF-889B-452584BB50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типы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0C7D-1C0F-4F2B-BED8-352425F998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обследования может опреде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кретиз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е по основным вопросам и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авит собственную задачу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ругих видов деятельности (научной, коррекционной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414D-0126-40A5-AA41-005FFED370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й т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заимодействия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патологией влеч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циклотимоподоб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F70-6686-4452-A0E5-0B32E86E3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E5CC-748E-46FC-9923-4FBCFAD30C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DA2-2480-4853-9604-9D5D1618EC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правления женщин к психологу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едотвращ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фликтных ситуаций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мье, на работе и т.д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выработ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и пове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обыч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х откло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страхов и фобий различного гене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причины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и психогенного фак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оянии пациен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B3B-7796-43F4-9B01-6868FF1D5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ациентками в ходе 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я запроса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отивации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возможные «плюсы» и «минусы» работы с психо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сбор анамнеза и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64BD-6476-4D14-BA7E-92FBE5485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сть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5C15-378E-464E-B91D-D48EF24150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е знания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ие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AB52-4FB4-4D8D-A46B-C6EBA1BCD7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в области семейной психологии и психотерап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80D3-8F34-40A4-AF55-949359C9E9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ндивидуальной клинической модели болезни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6D83-4CAE-4B1B-8F43-3AF51191A2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C39-CAA5-426E-8592-745DCD1C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082-F234-4928-9362-7EB85D0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715-F0A6-45DF-9C45-2EBFBD6A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145-E62A-4F67-BE5F-59139EAE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B589-7B57-431E-96F0-79EF9231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3A29-0ECB-4D7D-9487-2DC392FF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BAC4-2430-4540-90A4-27D9E163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9AC3-A455-4535-94BB-C97050C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9569-E807-4110-A657-1F03B0F6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38F9-D86F-428E-B241-97ED05F8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E49D-6C1B-4792-8AD0-59318905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F74-ADA1-4771-900B-9931992A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2FF8-4BA5-4BAD-B4F4-F9A23CB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2328-C6E6-4628-AB91-1C15CBF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229A-CCF8-4139-B121-E4E8A302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558-976B-418B-979E-1E6B40F4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D0DA-727F-4B3C-A198-0C2E446A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0A7E5-E956-4E32-830B-66B321A9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30F34-B102-4D1D-9332-891A6780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CCD9F-9048-4964-BA58-5E9142D8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5101C-26AE-4441-9068-041D2696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9EE96-B1CA-451D-B144-029FF4A7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720-DE00-4D03-98CB-EB1678B2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E7EDB-C000-4070-8D16-F102462D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CB6D9-0B80-48B5-ABF3-8C25418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918A0-FEE0-4054-87EC-033C1E3A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2213E-AFA9-40D3-92B9-99A0714F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70AA7-B57E-4ABB-B987-43F02D4F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258B8-F506-4248-999C-026FFA27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3C514-8B6D-47F9-8B47-E4F8E108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F861-E763-4213-8A69-B792533F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DE07-0103-4D8E-ADAB-AADFA70B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6A60-6BB6-4AAA-A866-D1193586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C58-9F70-461F-95AF-59DFD2A5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2A95-F283-4ED3-8EA6-F496BAB0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6AE7-E203-4DD8-953A-71AAD445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6307-681C-4FD0-81C5-C8885EE5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3C90-D77C-4EC6-8EB9-E43E82C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BA88-D77B-48D6-B24C-298B0356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CE26-9575-4A7E-B755-6CBFF2E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9AD0-783A-477C-A2D7-710D1291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C889-3F0E-4F87-94B8-9F8B566D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73D4-614F-472B-A222-F02F0421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D08-B909-43E1-A7E9-6F1E5332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6AC-1AE6-4013-98A5-18B62536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645-C3FC-44CF-A89D-3F4489A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60E-B758-43F2-ADA4-19C899D6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668-ED28-4336-B482-432606B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EDD-2550-4E18-A585-6340887FFB7F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1865-570B-4567-A4D9-F136BF41CFF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375D-7D1F-4CFE-9770-D9A041D452A8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9BB-64F1-43F8-8B55-11944AA5F36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03A0-6776-4ADB-8096-DAD9A01A913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976D-B65F-48CA-BE10-E277C72E6D5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DB9B-B14A-4D11-BF87-4BC0921928B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CF6E-9BD1-4750-AAD6-3A8C4071B21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3900240"/>
            <a:ext cx="68580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4" descr="Изображение 001(1).jpg"/>
          <p:cNvPicPr/>
          <p:nvPr/>
        </p:nvPicPr>
        <p:blipFill>
          <a:blip r:embed="rId1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рудности, возникающие во взаимодействии врача и медицинского психолог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рачи клиницист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читают, 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едицинские психолог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алобы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енности анамнеза больного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длагаемый режим психотерапевтического или фармакологического лечения больного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1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дель позволя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низить потребность здравоохранения в специалистах психологах/психиатр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психиатрического стациона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шение вопросов дифференциальной диагностики посредством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я качественных и количественных методов оцен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20968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деляют типы взаимодействия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динамическом (в том числе катамнестическом) экспериментальном наблюдении детей, впервые заболевших, или имеющих определенный тип  и тяжесть течения заболев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местный анализ индивидуальных сложных случаев (в виде мультидисциплинарных консилиумов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ые типы взаимодействия, их сочетание в совместной работе над проблемой специфики проявлений психического дизонтогенеза при шизофрении в детском возраст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у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сихологического обследования может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ач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сихоло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кретизиру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е по основным вопросам ил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тавит собственную задачу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амках других видов деятельности (научной, коррекционной и т.п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лексный ти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заимодействия специалис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патологией влечен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циклотимоподобным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соматической клин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сихиатрического стациона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ели направления женщин к психологу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разрешении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редотвращени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фликтных ситуаций (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емье, на работе и т.д.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выработке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тратегии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еобычной ситуац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рекц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осоматических отклоне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странение страхов и фобий различного генез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явление причины и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оли психогенного фактора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остоянии пациент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ациентками в ходе психологической консульт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кретизация запроса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мотивации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возможные «плюсы» и «минусы» работы с психолог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олнительный сбор анамнеза и диагност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рабо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иденциальность информ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выки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выки в области семейной психологии и психотерап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61960"/>
            <a:ext cx="9144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индивидуальной клинической модели болезни пац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9:54:42Z</dcterms:modified>
  <cp:revision>31</cp:revision>
  <dc:subject/>
  <dc:title>Роль психолога при работе в различных медицинских учреждениях  (психолог и медик: точки взаимодействия)</dc:title>
</cp:coreProperties>
</file>