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15F4-6C20-4238-B321-A4D8A906445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1200"/>
            </a:br>
            <a:r>
              <a:rPr b="1" i="1" lang="ru-RU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B15A-14FC-4672-B84E-BB37EA5FC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сти, возникающие во взаимодействии врача и медицинского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рачи клиниц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ют, чт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дицинские психолог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C973-7B30-44C7-864A-23C4645A0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лоб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анамнеза бо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агаемый режим психотерапевтического или фармакологического лече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B91E-42D6-425C-998F-1D18222838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«взаимодействия – прикрепл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зить потребность здравоохранения в специалистах психологах/психиат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A577-8C6E-42C5-AE32-F3C57C388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вопросов дифференциальной диагностики посредство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я качественных и количественных методов оцен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FD69-53A9-4AF5-B7B9-DDF7458699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яют типы взаимодейст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782C-216E-48CC-B46F-2161DE981C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го обследования может определя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сих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нкретизиру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е по основным вопросам и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тавит собственную задачу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ругих видов деятельности (научной, коррекционной и т.п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3FF8-C84A-4F9F-B244-B1985D5614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продуктивного взаимодействия врачей и псих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плексный т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заимодействия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патологией влеч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ти с циклотимоподобны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3B0-FD61-42CB-8FEB-7E97C7275F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5A93-739A-4BCF-A228-1DB5C7DA0E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психиатрического стациона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D2E2-C3AA-4362-B63C-DBD509D1B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направления женщин к психологу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е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едотвращении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нфликтных ситуаций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мье, на работе и т.д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в выработк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тегии поведен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обыч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рек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соматических откло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ранение страхов и фобий различного гене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причины 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ли психогенного фактор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оянии пациент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040D-9108-4205-9F3A-BEC642B6B1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ациентками в ходе психологической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я запроса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отивации на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возможные «плюсы» и «минусы» работы с психоло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й сбор анамнеза и диагно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рекцион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B330-F309-4F73-B171-9EB9394F40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сть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D136-DEDB-44D6-808A-1222022C48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дицинские знания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ие зн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106-70D9-4CF1-8740-523C9398C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, необходимые психоло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в области семейной психологии и психотерап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AD63-861B-4FB9-9779-2E73035F52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ндивидуальной клинической модели болезни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4193-01DC-4445-90FD-174D2D765D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968-793F-4E57-A5F6-BE98D037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8A1-884E-4CDC-AB8F-0AB9493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A56-4A6D-4898-8926-D1BE636E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7876-FF83-4EE9-9279-DC0C67B6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2777-549A-4470-83FB-F0C49560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5920-B86D-45DD-89A2-0AAE27DF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DDE6-8A47-4968-AF25-5069BEA0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A65E-3187-4C95-8C9C-C4584E30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05A-1120-4534-9D9A-A5A113DA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02FE-A915-406A-8F4C-7DB248B1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E1E6-5249-419E-B750-8C15286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2EB-10B8-4F10-9C15-C4CFBFF6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399-C731-480B-BCF5-417A774E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F42-F072-40B7-8B58-95D8E998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E9F-9926-4D9F-AB5F-AEB01088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B957-AC37-4A9E-82DA-B5048311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5F00-1302-4B8B-97B8-2DA260DA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05984A-4044-4A51-AE3F-F1D3C1EF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ED1C3C-E2CC-4591-98CC-F6657658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94F02E-2A4A-4406-A02F-C9CE7402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333977-8072-4284-A58C-806522B5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CFE27-532C-477D-BF48-BB8EF24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D0F-86F1-41B2-9EB0-CD77A525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AF040-1A35-49F3-BAD4-13FEDA3F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CB8A7-54F9-4797-8927-D6DFD522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17EEE-B184-440E-A955-34A2B7DB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D62E7-D94A-41B4-8878-B279B321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307D3-4ECF-4631-8849-DF0F673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7C6A55-B650-44B6-9906-F10A56AD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5D909-190B-496E-9D5B-95F8C22E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AAB22-4CC7-4AE7-BE95-9F29B463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A93A5-111A-4094-BFE9-F6A0C973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CF023-C2B4-4783-9E2A-33DB6D8F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115-F757-4E6D-B916-F1ED658E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351CB-8737-421F-84D0-A1B0C63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253D-5FFA-441B-8378-481983E8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DBA3-D23D-4D51-8B92-75869F51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6509-554D-4DAA-88A5-094FAE6A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9DB66-2FA1-4E29-9267-CB931FF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EB03C-4B36-4DD2-A8FB-45DA16F1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C6E89-A301-4243-81B2-726E0BE0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558A-2120-42F0-A8EA-4716CE26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E38BA-453A-4009-B449-DCD4AFE9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1672-0C16-473C-87B8-EA7E9FC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D3D6-F024-46AD-85CC-6F4B07B5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BF6-5D0D-4031-A1A8-1C5ED98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205-4FB5-4954-BB67-0115423D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23B0-A4B6-44D6-BDFE-549E0254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DC23-2015-4A1D-901F-186D8EFCBFB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91EF-3138-4230-825D-71DA4C9B2AE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50C-FFDA-4BC7-BB96-1BB75A41D9BE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B487-352D-49CF-A484-89A42C09CD5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8141-8B48-43A8-98BC-9783657F9CC3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7A1C-7DC0-45B1-B991-F2C6271F38F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E01-BCEB-48B8-97FE-28BB359E5C4B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9E9-1DD5-4E61-AE84-5B4A236ED677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ль психолога при работе в различных медицинских учреждениях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психолог и медик: точки взаимодействия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066680" y="3900240"/>
            <a:ext cx="685800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А.А.Коваль-Зайцев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МГППУ, ф-т КСП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Кафедра нейро- и патопсихологи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Рисунок 4" descr="Изображение 001(1).jpg"/>
          <p:cNvPicPr/>
          <p:nvPr/>
        </p:nvPicPr>
        <p:blipFill>
          <a:blip r:embed="rId1"/>
          <a:stretch/>
        </p:blipFill>
        <p:spPr>
          <a:xfrm>
            <a:off x="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41008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Трудности, возникающие во взаимодействии врача и медицинского психолога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рачи клиницист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читают, что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вобождение или усиление тревоги в ходе психотерапии, приведет к подрыву позитивного эффекта лекарственного лечения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едицинские психолог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идят проблему в другом: редукция тревоги, быстро достигаемая за счет психотропной терапии, приводит к избеганию личностной активности вообще и активной роли пациента в процессе психологической коррекции и психотерапии в частност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Работа медицинского психолога с соматическими больными с коморбидными психическими расстройствами, осуществляется в сотрудничестве с лечащим врачом, совместно обсуждаются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жалобы,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обенности анамнеза больного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едлагаемый режим психотерапевтического или фармакологического лечения больного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тог сотрудничества включен в дальнейшую работу врача.  Лечение касается  как  соматической, так и психической сферы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88920" indent="147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озможны повторные консультации психологом тех же больных и повторные собеседования с врачом-интернистом. Модель позволяет преодолеть недостаточную осведомленность врачей-интернистов в области медицинской психологии/психиатрии, а также снизить потребность здравоохранения в специалистах психологах/психиатрах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Модель «взаимодействия – прикрепления»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1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дель позволяе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одолеть недостаточную осведомленность врачей-интернистов в области общей и медицинской психологии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93600" indent="158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низить потребность здравоохранения в специалистах психологах/психиатр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психиатрического стациона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шение вопросов дифференциальной диагностики посредством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ндивидуализированного экспериментального подхода с опорой на системный качественный анализ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валифицированного использования математических методов обработки, где это необходим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менения качественных и количественных методов оценк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220968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ыделяют типы взаимодействия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рамках специализированного экспериментально-психологического исследования какого-либо определенного психического процесса (памяти, мышления, восприятия и т.п.) у аномальных дете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 обычном диагностическом патопсихологическом обследовании детей, больных шизофренией с определенным набором расстройств (какой-либо фиксированный синдром, наличие сопутствующих расстройств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динамическом (в том числе катамнестическом) экспериментальном наблюдении детей, впервые заболевших, или имеющих определенный тип  и тяжесть течения заболев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вместный анализ индивидуальных сложных случаев (в виде мультидисциплинарных консилиумов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2520" indent="-343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дельные типы взаимодействия, их сочетание в совместной работе над проблемой специфики проявлений психического дизонтогенеза при шизофрении в детском возраст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49640"/>
            <a:ext cx="914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адачу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сихологического обследования может определять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ач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сихолог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нкретизирует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ее по основным вопросам или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ставит собственную задачу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рамках других видов деятельности (научной, коррекционной и т.п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ипы продуктивного взаимодействия врачей и психологов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3160" indent="-335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Комплексный тип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взаимодействия специалистов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патологией влечений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–синдром патологии влечений (разного генеза), выявляется свой набор верифицируемых клинико-психологическими методами нарушений психического развития (снижение уровня обобщения, личностные особенности)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циклотимоподобными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сстройствами  по большинству характеристик укладываются в рамки индивидуальных различий, важно, что особым образом знаком, соответствующим аффекту, окрашены все психологические параметры деятельн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43160" indent="-3358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ПАСИБО ЗА ВНИМАНИЕ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Формы взаимодействия психологов и медиков в различных учреждениях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оликлинического звена (на примере работы в женской консультации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соматической клиник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бота психолога в условиях психиатрического стационар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Работа психолога в условиях поликлинического звена медицинской помощи</a:t>
            </a:r>
            <a:br>
              <a:rPr sz="3200"/>
            </a:br>
            <a:r>
              <a:rPr b="0" lang="ru-RU" sz="32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 (на примере работы в женской консультации)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Цели направления женщин к психологу 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разрешении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редотвращени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нфликтных ситуаций (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емье, на работе и т.д. 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мощь в выработке </a:t>
            </a:r>
            <a:r>
              <a:rPr b="0" lang="ru-RU" sz="2900" spc="-1" strike="noStrike">
                <a:solidFill>
                  <a:srgbClr val="000000"/>
                </a:solidFill>
                <a:latin typeface="Georgia"/>
              </a:rPr>
              <a:t>стратегии поведения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необычной ситуаци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ррекция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сихосоматических отклонений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эмоциональной сферы (депрессивные состояния, неустойчивость настроения, невротические реакции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устранение страхов и фобий различного генез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ыявление причины и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оли психогенного фактора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состоянии пациентки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Місце для нижнього колонтитула 3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абота с пациентками в ходе психологической консультац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кретизация запроса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мотивации на помощ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зать возможные «плюсы» и «минусы» работы с психолого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полнительный сбор анамнеза и диагност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ррекционная рабо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Технические проблем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уществление обратной связи: устное обсуждение или написание заключения под возникающие запрос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нфиденциальность информ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нания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Медицинские знания-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щие сведения о перинатальном развитии плода, о физиологических особенностях протекания беременности -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более глубокой оценки состояния пациентки и возможности вести полноценный диалог с врач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сихологические знания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: владение знаниями теоретической и экспериментальной клинической психологии и ее разделов –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ля дифференциальной диагностики малоизученных психологических феноменов, возникающих во время беременности и после родов и адекватной индивидуальной терап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выки, необходимые психолог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пыт ведения психокоррекционной  работы, компетентность при оказании помощи в случае посттравматических расстройств (например, при потере ребенка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умение работать с разного рода страхами (страх роженицы за свое здоровье, за здоровье ребенка, перед родами и др.)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чальный опыт групповой работы для создания в палатах отделения благоприятного психологического клима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авыки в области семейной психологии и психотерапии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вободная ориентация в литературе по данному вопросу (в особенности научно-популярной и периодической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Работа психолога в условиях соматической клиники (модель «взаимодействие-прикрепление»)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2361960"/>
            <a:ext cx="91440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ределение индивидуальной клинической модели болезни пац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здание дифференцированного алгоритма поэтапной тактики оказания медицинской помощи в зависимости от индивидуальной клинической картины болезни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Місце для нижнього колонтитула 2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www.sliderpoint.or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2T09:54:42Z</dcterms:modified>
  <cp:revision>31</cp:revision>
  <dc:subject/>
  <dc:title>Роль психолога при работе в различных медицинских учреждениях  (психолог и медик: точки взаимодействия)</dc:title>
</cp:coreProperties>
</file>