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EA5E-2220-4E1D-811D-B41A9F4309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1200"/>
            </a:b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E6E8-82A4-4B75-8FD4-352CC64600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, возникающие во взаимодействии врача и медицинского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рачи клиниц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ют, чт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дицинские психолог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655C-410C-46E7-8A04-E886F6C766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лоб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анамнеза бо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ый режим психотерапевтического или фармакологического лече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CBBA-E68B-4DC1-B087-158911CB0D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543E-F691-4EE5-9FFA-8553EB1605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дифференциальной диагностики посредство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я качественных и количественных методов оце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1EF3-7476-4A37-8EDF-C2997C4E50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типы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C0B6-C33C-4940-8CE1-602EF5C17E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обследования может опреде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кретиз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е по основным вопросам и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авит собственную задачу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ругих видов деятельности (научной, коррекционной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9C23-78F4-4DC5-B1C0-E9E198C191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й т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заимодействия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патологией влеч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циклотимоподоб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0C75-DE72-4C3B-8FB8-D47E335F3D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8F5C-6676-42D1-98C8-26FE0231BC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9E5E-6601-41D2-916C-12FC57D813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правления женщин к психологу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едотвращен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фликтных ситуаций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мье, на работе и т.д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выработ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и пове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обыч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х откло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страхов и фобий различного гене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причины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ли психогенного фак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оянии пациен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8A9C-23AC-4AFC-92F0-4075D5CD8B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ациентками в ходе 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я запроса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отивации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возможные «плюсы» и «минусы» работы с психоло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сбор анамнеза и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6137-B6E9-4E1F-8B2C-0E1A832AFA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сть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A36F-23B4-408D-9B9E-B617844690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ие знания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ие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3802-A0EA-41EF-9A7A-D019D594AA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в области семейной психологии и психотерап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29C9-7ABD-4C70-9F9C-E022218F0C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ндивидуальной клинической модели болезни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A5BD-72ED-4E71-9743-F9B40284F2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D9C-A18F-407E-9A63-F63CAB7D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165-5269-468B-9F2B-91003D29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759-4DE5-47B7-9D7D-01A70011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103-7F12-42F6-BC87-70E3E6D8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6E28-26D8-4E08-B7C6-1229996D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706B-87AE-48DA-B3C6-AC861FF5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973B-07BC-46F8-AF20-BF54A13C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8003-88C1-47B1-A228-C2115090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0237-E1C4-490D-B319-63044629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B5F2-0F53-443E-94B9-3C65040D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3A37-AB88-4674-B5D8-A5948D0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746-B737-4F0C-BE83-2011CB11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0B74-517F-486F-BE38-FEB937C1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7B4D-15D7-4E85-BB52-A11329C7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4066-BAB0-4291-90A4-BAC3F36A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F2E2-D94B-49E2-99E1-AB21AA71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F987-0027-44EC-97D7-6DEF5E37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D1138-7B5B-4AA7-B3A2-47C76946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7F004-AA5F-44B0-948C-4555F56B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3EBFE-4E0B-42D9-9420-AF918F63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3BF44-D597-40DE-B31D-310745F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C1FF5-CC07-4993-812A-1DF1A83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07D-3A51-4316-B290-371C5AF2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89C69-DB6F-4C51-BF54-AAD4E839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F1747-427A-4094-96FE-AE1452BD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1395E-3F14-4095-97C2-42468214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31AB9-12C2-4271-86DA-AB4549E6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59B1E-56E4-49F1-94BD-76978023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97EE0-8029-4596-9583-96617FB6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A0C0F-3C0E-40A7-B767-EBD814D1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5A4E-89E5-4187-BAB5-AB2CBA4A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7593-80AC-4D60-958A-F7552C7E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D7FBF-B33D-4AEC-9677-C9C1E805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10A-41F6-4350-8E5F-29DBF757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43E52-CEC1-40AF-BA8B-5DC122AF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D65B-86DF-455B-AD83-EF9F7A7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F8AD-117A-4C36-AD27-BAAF4CCA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301A2-11CF-4D38-8CD8-5B00F23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7E957-26DB-4BBD-B931-FC077B04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0D85B-F099-4821-8556-A277F6A0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B45C-10EF-4653-B46D-A30C1257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83A7-4974-4DA8-8FB8-8E03931A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9C0B6-093C-4F9A-AF71-5661AD37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FCE-FC55-4916-8697-A9BEABA7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1C0-2FF5-4CCD-9CC2-FC8D9E50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200-8E08-4FC8-B8E3-B69D5A7E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944-C4C3-4D71-8C6B-FBDF3B7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779-8ABB-42ED-8C37-85A728BC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7F1B-751D-4E73-9193-CC93E153EB8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099A-0C59-4A62-B89A-1A02E16203B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5289-9817-4DB7-8E5F-BA9D44D785EB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8646-9A61-41F9-874B-35543113B50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9C51-F003-4858-9EAD-6017E23B92A9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B21F-1117-4AE1-8CFC-A75692815EC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D4FA-D000-4089-8BC8-61DE6309F55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1B2D-6E29-401E-B875-BF8FA5AA919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680" y="3900240"/>
            <a:ext cx="68580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Рисунок 4" descr="Изображение 001(1).jpg"/>
          <p:cNvPicPr/>
          <p:nvPr/>
        </p:nvPicPr>
        <p:blipFill>
          <a:blip r:embed="rId1"/>
          <a:stretch/>
        </p:blipFill>
        <p:spPr>
          <a:xfrm>
            <a:off x="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рудности, возникающие во взаимодействии врача и медицинского психолога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рачи клиницист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читают, что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Медицинские психологи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жалобы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обенности анамнеза больного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едлагаемый режим психотерапевтического или фармакологического лечения больного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1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дель позволя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низить потребность здравоохранения в специалистах психологах/психиатр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психиатрического стациона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шение вопросов дифференциальной диагностики посредством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нения качественных и количественных методов оцен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220968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деляют типы взаимодействия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динамическом (в том числе катамнестическом) экспериментальном наблюдении детей, впервые заболевших, или имеющих определенный тип  и тяжесть течения заболев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местный анализ индивидуальных сложных случаев (в виде мультидисциплинарных консилиумов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дельные типы взаимодействия, их сочетание в совместной работе над проблемой специфики проявлений психического дизонтогенеза при шизофрении в детском возраст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дачу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сихологического обследования может определя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рач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сихоло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нкретизируе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ее по основным вопросам ил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тавит собственную задачу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амках других видов деятельности (научной, коррекционной и т.п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316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мплексный тип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заимодействия специалис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патологией влечений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циклотимоподобным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соматической клин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сихиатрического стационар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Цели направления женщин к психологу 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разрешении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 предотвращени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фликтных ситуаций (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емье, на работе и т.д. 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выработке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тратегии поведения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необычной ситуац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ррекц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сихосоматических отклонени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странение страхов и фобий различного генез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ыявление причины и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оли психогенного фактора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остоянии пациентк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ациентками в ходе психологической консульт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кретизация запроса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мотивации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казать возможные «плюсы» и «минусы» работы с психолог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полнительный сбор анамнеза и диагност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рекционная рабо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хнические пробл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иденциальность информа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выки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выки в области семейной психологии и психотерапи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2361960"/>
            <a:ext cx="91440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индивидуальной клинической модели болезни пац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9:54:42Z</dcterms:modified>
  <cp:revision>31</cp:revision>
  <dc:subject/>
  <dc:title>Роль психолога при работе в различных медицинских учреждениях  (психолог и медик: точки взаимодействия)</dc:title>
</cp:coreProperties>
</file>