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5708-5A8E-47E9-9566-6B06D095385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оль психолога при работе в различных медицинских учреждениях </a:t>
            </a:r>
            <a:br>
              <a:rPr sz="1200"/>
            </a:br>
            <a:r>
              <a:rPr b="1" i="1" lang="ru-RU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психолог и медик: точки взаимодейств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А.Коваль-Зайце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ГППУ, ф-т КС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а нейро- и патопсихолог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7AB2-EFDB-46D8-BDC4-D4B48F70B24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ности, возникающие во взаимодействии врача и медицинского психолог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рачи клиницист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итают, что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вобождение или усиление тревоги в ходе психотерапии, приведет к подрыву позитивного эффекта лекарственного ле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едицинские психолог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ят проблему в другом: редукция тревоги, быстро достигаемая за счет психотропной терапии, приводит к избеганию личностной активности вообще и активной роли пациента в процессе психологической коррекции и психотерапии в част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6C15-805B-4AC5-8F9E-F5098FC19F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«взаимодействия – прикрепле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медицинского психолога с соматическими больными с коморбидными психическими расстройствами, осуществляется в сотрудничестве с лечащим врачом, совместно обсуждаются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алоб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анамнеза боль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агаемый режим психотерапевтического или фармакологического лечения б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ог сотрудничества включен в дальнейшую работу врача.  Лечение касается  как  соматической, так и психической сфе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ы повторные консультации психологом тех же больных и повторные собеседования с врачом-интернистом. Модель позволяет преодолеть недостаточную осведомленность врачей-интернистов в области медицинской психологии/психиатрии, а также снизить потребность здравоохранения в специалистах психологах/психиатр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C95F-9354-4D8A-845F-F94BAA0E33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«взаимодействия – прикрепле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позво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долеть недостаточную осведомленность врачей-интернистов в области общей и медицинской психолог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зить потребность здравоохранения в специалистах психологах/психиатр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D534-D930-4295-B6DE-ABC0442DE2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сихолога в условиях психиатрического стацион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вопросов дифференциальной диагностики посредство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изированного экспериментального подхода с опорой на системный качественный анали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лифицированного использования математических методов обработки, где это необходим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я качественных и количественных методов оцен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84E7-5BCC-4DDB-A1C2-4ABFA4AD02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продуктивного взаимодействия врачей и психол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яют типы взаимодейств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мках специализированного экспериментально-психологического исследования какого-либо определенного психического процесса (памяти, мышления, восприятия и т.п.) у аномальных де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бычном диагностическом патопсихологическом обследовании детей, больных шизофренией с определенным набором расстройств (какой-либо фиксированный синдром, наличие сопутствующих расстройств и др.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D978-1AF4-4E36-B4E1-91902A1D67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продуктивного взаимодействия врачей и психол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у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го обследования может определя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ра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нкретизиру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е по основным вопросам ил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тавит собственную задачу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мках других видов деятельности (научной, коррекционной и т.п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0B6B-5A88-47AC-9B73-26BF08601F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продуктивного взаимодействия врачей и психол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мплексный тип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заимодействия специалис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ти с патологией влечен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синдром патологии влечений (разного генеза), выявляется свой набор верифицируемых клинико-психологическими методами нарушений психического развития (снижение уровня обобщения, личностные особенност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ти с циклотимоподобны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тройствами  по большинству характеристик укладываются в рамки индивидуальных различий, важно, что особым образом знаком, соответствующим аффекту, окрашены все психологические параметры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1C01-19B2-4382-B48B-278E11806C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ADF4-18EA-47EE-8861-7EF6BFC689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взаимодействия психологов и медиков в различных учрежден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сихолога в условиях поликлинического звена (на примере работы в женской консульт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сихолога в условиях соматической кли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сихолога в условиях психиатрического стациона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E185-F96A-43D1-9BCB-5C88032239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психолога в условиях поликлинического звена медицинской помощ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на примере работы в женской консультации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направления женщин к психологу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щь в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решен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едотвращении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нфликтных ситуаций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емье, на работе и т.д.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щь в выработк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атегии повед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обычной ситу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ррек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соматических откло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оциональной сферы (депрессивные состояния, неустойчивость настроения, невротические реакци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ранение страхов и фобий различного гене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причины 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ли психогенного фактор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стоянии пациент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BEE8-0332-4E38-B3B9-29DA98F402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пациентками в ходе психологической консуль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ретизация запроса на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мотивации на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ь возможные «плюсы» и «минусы» работы с психолог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ый сбор анамнеза и диагно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екционн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A834-91C2-42C9-92BB-123CFBE663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и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обратной связи: устное обсуждение или написание заключения под возникающие за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иденциальность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9EC0-4111-4584-9B80-8E3CAA7FFE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я, необходимые психолог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едицинские знания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сведения о перинатальном развитии плода, о физиологических особенностях протекания беременности -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ля более глубокой оценки состояния пациентки и возможности вести полноценный диалог с врач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сихологические зн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владение знаниями теоретической и экспериментальной клинической психологии и ее разделов –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ля дифференциальной диагностики малоизученных психологических феноменов, возникающих во время беременности и после родов и адекватной индивидуальной терап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895F-7016-4878-A940-CBF401A88B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ыки, необходимые психолог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 ведения психокоррекционной  работы, компетентность при оказании помощи в случае посттравматических расстройств (например, при потере ребенка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ие работать с разного рода страхами (страх роженицы за свое здоровье, за здоровье ребенка, перед родами и др.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ьный опыт групповой работы для создания в палатах отделения благоприятного психологического клима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ыки в области семейной психологии и психотерап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ая ориентация в литературе по данному вопросу (в особенности научно-популярной и периодическо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AEF6-5912-45E0-9197-79781A5A85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сихолога в условиях соматической клиники (модель «взаимодействие-прикрепление»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индивидуальной клинической модели болезни паци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дифференцированного алгоритма поэтапной тактики оказания медицинской помощи в зависимости от индивидуальной клинической картины боле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4D87-B53A-411E-9D5F-652490FC22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AB21-BE06-44C4-98A8-23ED46F4D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8B96-90DE-4182-BB6A-6C2AE1D8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B700-1939-4FA9-8B8E-03D456484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89DD-CA17-42A2-A1C8-E8079AD98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B7C2-5FC4-4A2A-8469-FA2D0436A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A31A-D11A-4248-B0A6-B2B75ED4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4E11-FD64-480B-A0D2-42433889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C4AB-53C9-4F5D-AD85-8A846153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B171C-B2DA-4C5C-90A3-3AE963DB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71C0-F16B-419D-AC2B-1FE5CC7D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CA21-9FB7-4830-A2A1-3E269EF0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C65B-1E6D-48D5-9A37-364A0865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B2DC-BBF0-4A3C-AFA7-73745696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6B96-0E7D-49BD-8FBB-01F4B2E4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9055-B29C-4A0B-B98B-A3A1407A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532F8-AEF6-4279-8C2B-A51407294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50F0-04BA-41D2-95B0-92725600D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DE6DC7-19BA-45EC-BB0C-6F221F805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4A6747-E858-4470-90D5-EDE4CE97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7F5434-02F2-44D6-B8B9-B3ECA43D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6B5E4F-4EAC-4442-8CCC-2DA6A7D5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8AD1B0-8B68-4112-BDA7-55D8EA96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C1B7-928D-4852-9B0A-A90AC9A4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E6F020-2ECB-4B8E-BBEE-1B8059DB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4A1357-FC7A-4114-93B4-39B2BC40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F7BCCA-FAB9-40A8-88BA-92512274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690A37-892E-4367-B732-6F469D74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E68D3E-550F-44D4-9629-0C35AB77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58574E-B622-4C48-A631-13D36C7EB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9A243E-0AF7-4F5E-AD2B-C1882BBF3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047F3-B923-4FE0-A04B-FDE1EB40A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C1EF7-47DF-4B62-BF10-E2C217E6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76F0C-D624-49CD-AAB9-7AA05E1B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018C-1515-43FA-946F-54F0569D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7DEA3-C1CA-41AD-A7A8-3E7409BB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8DD19-C3A5-4242-A381-1DA4FF25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25462-57E4-43F4-8887-FF0A5B5C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30E5E-DA26-4438-9232-EF85F68B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262A0-E4FD-4114-91A8-168A1AEA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7F2CD-3E71-4362-A7FB-12DE743C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3EEE3-7F7C-493B-AC1A-5028152F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81D93-E44E-4DBA-A30D-1C54E8F79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1D03D-3578-4ED5-8769-71FD5EC69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939B-480E-4D79-BE8E-08F29E8C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4A71-2887-4498-8828-845CCD2F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E8C6-042E-49E0-846D-738EB0E7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90B9-B715-46CB-B78B-18E5CA2C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9F61-34CE-4D95-98C5-6F8EEB9D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FBCA-BD8C-4BB6-95B9-4B43CE72C812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8060-1AEE-40D4-B4FC-8BCB0E6CF27C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9D75-39B3-4D1B-8EEE-A40D8030F34C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D4C4-926D-44FB-BE9B-4768207FD5FD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E559-9D8F-4A68-B321-79270A3E3446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D2FF-ED3C-468C-B7C3-8AB2F8319B13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C662-60E0-41FE-9C0F-1E0651C4DCCB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C33B-8D13-481A-948F-73D97776D917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оль психолога при работе в различных медицинских учреждениях </a:t>
            </a:r>
            <a:br>
              <a:rPr sz="4400"/>
            </a:br>
            <a:r>
              <a:rPr b="1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психолог и медик: точки взаимодействия)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066680" y="3900240"/>
            <a:ext cx="6858000" cy="24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А.А.Коваль-Зайцев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МГППУ, ф-т КСП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Кафедра нейро- и патопсихологии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6" name="Рисунок 4" descr="Изображение 001(1).jpg"/>
          <p:cNvPicPr/>
          <p:nvPr/>
        </p:nvPicPr>
        <p:blipFill>
          <a:blip r:embed="rId1"/>
          <a:stretch/>
        </p:blipFill>
        <p:spPr>
          <a:xfrm>
            <a:off x="0" y="3886200"/>
            <a:ext cx="2209680" cy="297180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541008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Трудности, возникающие во взаимодействии врача и медицинского психолога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0" y="2249640"/>
            <a:ext cx="914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Врачи клиницисты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читают, что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свобождение или усиление тревоги в ходе психотерапии, приведет к подрыву позитивного эффекта лекарственного лечения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Медицинские психологи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идят проблему в другом: редукция тревоги, быстро достигаемая за счет психотропной терапии, приводит к избеганию личностной активности вообще и активной роли пациента в процессе психологической коррекции и психотерапии в частности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Модель «взаимодействия – прикрепления»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0" y="2249640"/>
            <a:ext cx="914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88920" indent="147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Работа медицинского психолога с соматическими больными с коморбидными психическими расстройствами, осуществляется в сотрудничестве с лечащим врачом, совместно обсуждаются 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88920" indent="147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жалобы,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88920" indent="147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особенности анамнеза больного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88920" indent="147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редлагаемый режим психотерапевтического или фармакологического лечения больного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88920" indent="147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Итог сотрудничества включен в дальнейшую работу врача.  Лечение касается  как  соматической, так и психической сферы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88920" indent="147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озможны повторные консультации психологом тех же больных и повторные собеседования с врачом-интернистом. Модель позволяет преодолеть недостаточную осведомленность врачей-интернистов в области медицинской психологии/психиатрии, а также снизить потребность здравоохранения в специалистах психологах/психиатрах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Модель «взаимодействия – прикрепления»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0" y="2249640"/>
            <a:ext cx="914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0" indent="1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одель позволяет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93600" indent="158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еодолеть недостаточную осведомленность врачей-интернистов в области общей и медицинской психологии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93600" indent="158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низить потребность здравоохранения в специалистах психологах/психиатрах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Работа психолога в условиях психиатрического стациона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0" y="2249640"/>
            <a:ext cx="914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ешение вопросов дифференциальной диагностики посредством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ндивидуализированного экспериментального подхода с опорой на системный качественный анализ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валифицированного использования математических методов обработки, где это необходим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менения качественных и количественных методов оценки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ипы продуктивного взаимодействия врачей и психологов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0" y="2209680"/>
            <a:ext cx="914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ыделяют типы взаимодействия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 рамках специализированного экспериментально-психологического исследования какого-либо определенного психического процесса (памяти, мышления, восприятия и т.п.) у аномальных детей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ри обычном диагностическом патопсихологическом обследовании детей, больных шизофренией с определенным набором расстройств (какой-либо фиксированный синдром, наличие сопутствующих расстройств и др.)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ипы продуктивного взаимодействия врачей и психологов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343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и динамическом (в том числе катамнестическом) экспериментальном наблюдении детей, впервые заболевших, или имеющих определенный тип  и тяжесть течения заболевания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2520" indent="-343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вместный анализ индивидуальных сложных случаев (в виде мультидисциплинарных консилиумов)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2520" indent="-343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тдельные типы взаимодействия, их сочетание в совместной работе над проблемой специфики проявлений психического дизонтогенеза при шизофрении в детском возрасте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ипы продуктивного взаимодействия врачей и психологов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0" y="2249640"/>
            <a:ext cx="914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Задачу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сихологического обследования может определять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рач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сихолог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конкретизирует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ее по основным вопросам или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ставит собственную задачу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рамках других видов деятельности (научной, коррекционной и т.п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ипы продуктивного взаимодействия врачей и психологов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3160" indent="-335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43160" indent="-3358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Комплексный тип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взаимодействия специалистов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43160" indent="-33588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ети с патологией влечений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–синдром патологии влечений (разного генеза), выявляется свой набор верифицируемых клинико-психологическими методами нарушений психического развития (снижение уровня обобщения, личностные особенности)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43160" indent="-33588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ети с циклотимоподобным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сстройствами  по большинству характеристик укладываются в рамки индивидуальных различий, важно, что особым образом знаком, соответствующим аффекту, окрашены все психологические параметры деятельност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43160" indent="-3358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СПАСИБО ЗА ВНИМАНИЕ!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Формы взаимодействия психологов и медиков в различных учреждениях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бота психолога в условиях поликлинического звена (на примере работы в женской консультации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бота психолога в условиях соматической клиник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бота психолога в условиях психиатрического стационара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Работа психолога в условиях поликлинического звена медицинской помощи</a:t>
            </a:r>
            <a:br>
              <a:rPr sz="3200"/>
            </a:br>
            <a:r>
              <a:rPr b="0" lang="ru-RU" sz="3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(на примере работы в женской консультации)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Цели направления женщин к психологу :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омощь в </a:t>
            </a:r>
            <a:r>
              <a:rPr b="0" lang="ru-RU" sz="2900" spc="-1" strike="noStrike">
                <a:solidFill>
                  <a:srgbClr val="000000"/>
                </a:solidFill>
                <a:latin typeface="Georgia"/>
              </a:rPr>
              <a:t>разрешении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и предотвращении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онфликтных ситуаций (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 семье, на работе и т.д. 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омощь в выработке </a:t>
            </a:r>
            <a:r>
              <a:rPr b="0" lang="ru-RU" sz="2900" spc="-1" strike="noStrike">
                <a:solidFill>
                  <a:srgbClr val="000000"/>
                </a:solidFill>
                <a:latin typeface="Georgia"/>
              </a:rPr>
              <a:t>стратегии поведения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 необычной ситуации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Коррекция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сихосоматических отклонений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эмоциональной сферы (депрессивные состояния, неустойчивость настроения, невротические реакции)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устранение страхов и фобий различного генеза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ыявление причины и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роли психогенного фактора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 состоянии пациентки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7631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Работа с пациентками в ходе психологической консультаци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нкретизация запроса на помощ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здание мотивации на помощ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казать возможные «плюсы» и «минусы» работы с психолого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ополнительный сбор анамнеза и диагностик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ррекционная работ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ехнические проблемы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существление обратной связи: устное обсуждение или написание заключения под возникающие запросы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нфиденциальность информаци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Знания, необходимые психологу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Georgia"/>
              </a:rPr>
              <a:t>Медицинские знания-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бщие сведения о перинатальном развитии плода, о физиологических особенностях протекания беременности - 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для более глубокой оценки состояния пациентки и возможности вести полноценный диалог с врачом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Georgia"/>
              </a:rPr>
              <a:t>Психологические знания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: владение знаниями теоретической и экспериментальной клинической психологии и ее разделов – 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для дифференциальной диагностики малоизученных психологических феноменов, возникающих во время беременности и после родов и адекватной индивидуальной терапии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Знания, необходимые психологу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Georgia"/>
              </a:rPr>
              <a:t>Медицинские знания-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бщие сведения о перинатальном развитии плода, о физиологических особенностях протекания беременности - 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для более глубокой оценки состояния пациентки и возможности вести полноценный диалог с врачом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Georgia"/>
              </a:rPr>
              <a:t>Психологические знания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: владение знаниями теоретической и экспериментальной клинической психологии и ее разделов – 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для дифференциальной диагностики малоизученных психологических феноменов, возникающих во время беременности и после родов и адекватной индивидуальной терапии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5345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Навыки, необходимые психологу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пыт ведения психокоррекционной  работы, компетентность при оказании помощи в случае посттравматических расстройств (например, при потере ребенка)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умение работать с разного рода страхами (страх роженицы за свое здоровье, за здоровье ребенка, перед родами и др.)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начальный опыт групповой работы для создания в палатах отделения благоприятного психологического климата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навыки в области семейной психологии и психотерапии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свободная ориентация в литературе по данному вопросу (в особенности научно-популярной и периодической)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Работа психолога в условиях соматической клиники (модель «взаимодействие-прикрепление»)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2361960"/>
            <a:ext cx="9144000" cy="42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пределение индивидуальной клинической модели болезни пациент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здание дифференцированного алгоритма поэтапной тактики оказания медицинской помощи в зависимости от индивидуальной клинической картины болезни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Місце для нижнього колонтитула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2T09:54:42Z</dcterms:modified>
  <cp:revision>31</cp:revision>
  <dc:subject/>
  <dc:title>Роль психолога при работе в различных медицинских учреждениях  (психолог и медик: точки взаимодействия)</dc:title>
</cp:coreProperties>
</file>