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2943-03A4-459B-AAFC-5FA14A4567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Социально – психологиче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тренинг с подрост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Методическая разработка  в помощь</a:t>
            </a: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 организатору тренинга с подрост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оставитель –  Платонова М.В., педагог - -психоло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МОУ «Нововилговская средняя школа №3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еспублики Кар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220C-031D-499F-94E4-2F2DD6E67A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4451-7037-40D1-87C2-037A95C57F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4EC3-5884-4FFF-AE3F-6D6B86D3BF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авила работы в груп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бровольность учас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кренность и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инцип «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«здесь и тепер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конфиденци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беспечение психологической и физической безопасности участников группы</a:t>
            </a: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1FC4-9090-4C0B-BDD1-C769F6F43B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труктура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ми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здание непринуждённой, доброжелательной атм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овышение сплочённости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.    Основная ч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скрытие темы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шение задач поставленных перед участниками трен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флек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существление обратной связи о состоянии участников трен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 конце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7A05-0501-419B-8474-7A2E93C6C2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ценарии зан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азработанные авторским коллективом Нововилговской средне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общения (Платонова М.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к учебному курсу «Экология» (Рыжкова Л.И., Платонова М.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профессионального самоопределения (Платонова М.В., Соловьёва Р.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лидерских качеств (Платонова М.В.,Соловьёва М.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«Школа лидера» (Мальцева Т.П.,Платонова М.В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екомендованные учёнными - психоло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ля работы с подростками 6,7,12,13, 14,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сихологические тренинги детско-родительских отношений 2, 9,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8EFD-9FA3-4526-930C-CDCB7C34FD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ерезников А. Обратная связь в групповой работе с подростками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1999, №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аринская В.М. Психологический тренинг детско-родительских отношений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Семейная псих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 семейная терапия.2000,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урина Г. Групповая динамика в тренинговых группах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9,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бедева Е. Психология изменений и изменчивый мир подростка в групповой работе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актического психолога.1998,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5.     Лидерс А.Г. Группы личностного роста с подростка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1996,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дерс А.Г. Психологические игры с подростка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6, №1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дерс А.Г. Психологический тренинг с подростками.М.,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кшанов С. Принципы психологического тренинга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1999,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рковская И. Опыт проведения тренинга взаимодействия родителей с деть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ческого психолога.1998, №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инеева О.А.,Кабанов А.В. Программа «Работа с семьями подростков,имеющими трудности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даптации»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Семейная психология и семейная терапия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1997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,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овак А. Обратная связь о состоянии группы и участников социально-психологического тренинга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,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удченков А.С. Социально-психологический тренинг в школе. М.,200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сихологическое сопровождение выбора профессии. Научно-методическое пособие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под.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итиной Л.М. М.,200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оманенко О.К. Практическая гештальттерапия. М.,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лдатова , Шайгерова Г.У., Шарова О.Д. Жить в мире с собой и другими. Тренинг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ля подростков. М.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Хасан Е.Б. Игра и конфликт в подростковом возрасте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 1996,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Хасан Б.И. Психолого-педагогические условия протекания пубертатного периода у девочек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льчиков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 1996,№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18.     Чистякова С.Н., Лернер П.С., Родичев Н.Ф., Титов Е. В. Педагогическая поддержка профессиона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ого самоопределения старшеклассников. М.,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7D04-0561-409B-B9F6-76FBA3D439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D600-8359-4F21-A036-BE4044BF3E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ABCB-3E02-42D9-94C9-0DE970520F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Вместе с тем, подростку важен взрослый, ему важно его признание  и важно его понимание, по каким нормам живут люди (взрослые) в эт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Что подходит ему уже сейчас, а что нет». (Хасан Е.Б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Старшие подростки обнаруживают не меньшую, а часто и большую потребность в доверительных, глубоких, диалогических, демократических,  очень похожих на интимные в широком смысле этого слова контактах со взрослыми, причём как своего так и противоположного пола». (Лидерс А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ACD7-BF7F-41BE-8D83-DA7D6FDAC4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Основные потребности подростка (Ремшмидт Х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Группы личностного рост с подростками дают последним возможность опробовать, а частично и реализовать, способы удовлетворения всех этих потребностей». (Лидерс А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D342-6CC4-4696-9D94-6D976EFB4A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«Педагогическое сопровождение социально – профессионального самоопределения школьников – это особая сфера деятельности педагога – фасилитатора, ориентированная на взаимодействие со школьником по оказанию ему поддержки в становлении личностного роста, социальной адаптации, принятии решения об избираемой профессиональной деятельности и самоутверждения в ней». (Чистякова С.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Принципиально новым оптимальным методом для реализации такого подхода может служить 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E995-C0A6-4F4B-BA02-5725C7D63B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 это форма специально организованного общения, психологическое воздействие которого основано на активных методах группов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«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Важнейшая задача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помочь участнику выразить себя своими индивидуальными средствами, именно СВОИМИ, а для этого сначала нужно научиться  воспринимать и понимать себя». (Прудченков А.С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6A7B-BCFA-493E-83F2-33D382A044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Даёт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 возможность воспринимать себя чере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793B-46B4-4E17-BBA2-8BE4E661F5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Ведущая гуманистическая идея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не принуждать человека, не давить на не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 помочь ему стать самим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Основная цель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развитие компетентности в общ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2A81-EE69-4299-A108-1CEB9D1F73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745-CEA7-4A29-AAAF-E3FA93A5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4AA-DEA2-41D9-8D69-D0F35B7B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EA5-0385-40C8-84E3-6A2EBFD3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BB31-D4C0-442D-9FE1-5C44C046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657-D22D-42E5-9824-B5AC3B5B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EAA7-CA9A-4AA6-87C8-4BB11254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1E3-190D-4EF7-9BC7-161A053F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F97-FBF8-46F3-82CB-7C4A90E3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A7D8-9916-4B64-A524-2037A07E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DD8-0E0C-439D-A3BE-6F4F77CD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81D0-1648-4454-8105-123B50CD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81A-E1BD-443D-BA65-4B2E34E8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5B8C-18C6-4260-B29A-FE6D1FBA65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404640"/>
            <a:ext cx="864216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циально – психолог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ренинг с подрост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етодическая разработка  в помощь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организатору тренинга с подрост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ставитель –  Платонова М.В., педагог - -психоло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У «Нововилговская средняя школа №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спублики Кар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0312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60360" y="90792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32280" y="1484280"/>
            <a:ext cx="72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азвития личности в межличностном простран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урт Л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24000" y="220500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жизненных умений( бихевиорально ориентированный подх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жон Уот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.П.Пав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28680" y="3141720"/>
            <a:ext cx="83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ешения личностных проблем (психодраматический подх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жекобу Леви Мор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28320" y="4005360"/>
            <a:ext cx="84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свободного самоопределения групп (гуманистический под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рл Родже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ильям Шут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95280" y="494172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ационального самопознания и саморазвития (трансактный анали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Эрик Бё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234360" y="5942160"/>
            <a:ext cx="88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самоактуализации и саморегуляции (гештальтподход в групп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редерик Перл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2044440" y="47628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2989440" y="112536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нци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акшан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41120" y="184464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зд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109960" y="29973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ве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час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732200" y="4581360"/>
            <a:ext cx="23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рганиз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732720" y="242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60200" y="1771560"/>
            <a:ext cx="2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2176560" y="2563920"/>
            <a:ext cx="24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173400" y="251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2125440" y="2781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4567680" y="5084640"/>
            <a:ext cx="285516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физическая закрыт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комплектование груп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(гомогенность-гетерогенност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странственно-врем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орган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588000" y="2924280"/>
            <a:ext cx="219564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конфиденци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оответствие заяв-ленных целей тренинга его содерж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енанесение ущер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180720" y="2492280"/>
            <a:ext cx="162072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истем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етермин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еалист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збыто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1617480" y="3716280"/>
            <a:ext cx="27486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ак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следовательская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ворческая пози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убъект-субъектное общ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объективация по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кр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«здесь и тепер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1412640" y="26028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 flipH="1">
            <a:off x="1402920" y="1484280"/>
            <a:ext cx="1513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 flipH="1">
            <a:off x="2916360" y="1557360"/>
            <a:ext cx="576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4427640" y="1557360"/>
            <a:ext cx="1224000" cy="30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5219640" y="1557360"/>
            <a:ext cx="201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95280" y="1484280"/>
            <a:ext cx="820908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бровольность учас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скренность и открыт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инцип «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здесь и тепер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нфиденци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беспечение психологической и физической безопасности участников группы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412640" y="26028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68360" y="907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вила работы в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"/>
          <p:cNvSpPr/>
          <p:nvPr/>
        </p:nvSpPr>
        <p:spPr>
          <a:xfrm>
            <a:off x="23184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21760" y="1001880"/>
            <a:ext cx="34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труктура за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9840" y="1700280"/>
            <a:ext cx="90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187200"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зм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18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здание непринуждённой, доброжелательной атм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18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вышение сплочённости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160" y="3284640"/>
            <a:ext cx="924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    Основная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скрытие темы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шение задач поставленных перед участниками трен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79280" y="4797360"/>
            <a:ext cx="91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77920">
              <a:buClr>
                <a:srgbClr val="333399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флек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уществление обратной связи о состоянии участников трен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конце 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1125000" y="40464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5"/>
          <p:cNvSpPr/>
          <p:nvPr/>
        </p:nvSpPr>
        <p:spPr>
          <a:xfrm>
            <a:off x="3205440" y="90792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ценарии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79280" y="1628640"/>
            <a:ext cx="8613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зработанные авторским коллективом Нововилговской средней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общения (Платонова М.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к учебному курсу «Экология» (Рыжкова Л.И., Платонова М.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профессионального самоопределения (Платонова М.В., Соловьёва Р.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лидерских качеств (Платонова М.В.,Соловьёва М.М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«Школа лидера» (Мальцева Т.П.,Платонова М.В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89000" y="5157720"/>
            <a:ext cx="895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екомендованные учёнными - психо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ля работы с подростками 6,7,12,13, 14,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сихологические тренинги детско-родительских отношений 2, 9,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1125000" y="33336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-447480" y="65160"/>
            <a:ext cx="972756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Березников А. Обратная связь в групповой работе с подростками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1999, №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аринская В.М. Психологический тренинг детско-родительских отношений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Семейная психолог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 семейная терапия.2000, №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урина Г. Групповая динамика в тренинговых группах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9,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ебедева Е. Психология изменений и изменчивый мир подростка в групповой работе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актического психолога.1998,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5.     Лидерс А.Г. Группы личностного роста с подростка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1996,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идерс А.Г. Психологические игры с подростка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6, №1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идерс А.Г. Психологический тренинг с подростками.М.,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кшанов С. Принципы психологического тренинга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1999,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рковская И. Опыт проведения тренинга взаимодействия родителей с деть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ческого психолога.1998, №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инеева О.А.,Кабанов А.В. Программа «Работа с семьями подростков,имеющими трудности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адаптации»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Семейная психология и семейная терапия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997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,№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овак А. Обратная связь о состоянии группы и участников социально-психологического тренинга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,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удченков А.С. Социально-психологический тренинг в школе. М.,200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сихологическое сопровождение выбора профессии. Научно-методическое пособие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под.ре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итиной Л.М. М.,200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оманенко О.К. Практическая гештальттерапия. М.,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олдатова , Шайгерова Г.У., Шарова О.Д. Жить в мире с собой и другими. Тренинг толерант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ля подростков. М.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Хасан Е.Б. Игра и конфликт в подростковом возрасте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 1996,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Хасан Б.И. Психолого-педагогические условия протекания пубертатного периода у девочек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льчиков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 1996,№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18.     Чистякова С.Н., Лернер П.С., Родичев Н.Ф., Титов Е. В. Педагогическая поддержка профессиональ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ого самоопределения старшеклассников. М.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897120" y="476280"/>
            <a:ext cx="74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Специфика подросткового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63560" y="136512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Сферы развития, подвергающиеся изменен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757440" y="220500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765440" y="2708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ыш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348360" y="321300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циальная жиз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230520" y="36450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амос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770200" y="4148280"/>
            <a:ext cx="42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ые задачи (Кле М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809640" y="4672080"/>
            <a:ext cx="53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убертат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гнитив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образования соци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ановление идент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-92160" y="37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11280" y="1413000"/>
            <a:ext cx="8204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адача само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ло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зраст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ци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ловая                         уже не ребёнок,                необходимость з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дентификация             но ещё не взрослый.       нять определё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то же?                             место в обществ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руппе сверстн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837080" y="47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9"/>
          <p:cNvGrpSpPr/>
          <p:nvPr/>
        </p:nvGrpSpPr>
        <p:grpSpPr>
          <a:xfrm>
            <a:off x="1763280" y="2708280"/>
            <a:ext cx="5545440" cy="504720"/>
            <a:chOff x="1763280" y="2708280"/>
            <a:chExt cx="5545440" cy="504720"/>
          </a:xfrm>
        </p:grpSpPr>
        <p:sp>
          <p:nvSpPr>
            <p:cNvPr id="63" name="Line 6"/>
            <p:cNvSpPr/>
            <p:nvPr/>
          </p:nvSpPr>
          <p:spPr>
            <a:xfrm flipH="1">
              <a:off x="1763280" y="2708280"/>
              <a:ext cx="201636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"/>
            <p:cNvSpPr/>
            <p:nvPr/>
          </p:nvSpPr>
          <p:spPr>
            <a:xfrm>
              <a:off x="4572000" y="27813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8"/>
            <p:cNvSpPr/>
            <p:nvPr/>
          </p:nvSpPr>
          <p:spPr>
            <a:xfrm>
              <a:off x="5219640" y="2781360"/>
              <a:ext cx="20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1484280"/>
            <a:ext cx="511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Вместе с тем, подростку важен взрослый, ему важно его признание  и важно его понимание, по каким нормам живут люди (взрослые) в эт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Что подходит ему уже сейчас, а что нет». (Хасан Е.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79640" y="3933720"/>
            <a:ext cx="668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Старшие подростки обнаруживают не меньшую, а часто и большую потребность в доверительных, глубоких, диалогических, демократических,  очень похожих на интимные в широком смысле этого слова контактах со взрослыми, причём как своего так и противоположного пола». (Лидерс А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405440" y="45576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38920" y="112536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ые потребности подростка (Ремшмидт Х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95280" y="198900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Физиологическая (запускающая физиологическую и сексуа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ктивно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99240" y="2637000"/>
            <a:ext cx="68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безопасности (принадлежность к групп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06440" y="2997360"/>
            <a:ext cx="64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зависимости и эмансипации от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8880" y="3429000"/>
            <a:ext cx="38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привяза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01040" y="3933720"/>
            <a:ext cx="67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успехе, в проверке своих возмож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03920" y="4437000"/>
            <a:ext cx="72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самореализации и развитии собственного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9220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47840" y="481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24000" y="5229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Группы личностного рост с подростками дают последним возможность опробовать, а частично и реализовать, способы удовлетворения всех этих потребностей». (Лидерс А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1405440" y="45576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324000" y="549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«Педагогическое сопровождение социально – профессионального самоопределения школьников – это особая сфера деятельности педагога – фасилитатора, ориентированная на взаимодействие со школьником по оказанию ему поддержки в становлении личностного роста, социальной адаптации, принятии решения об избираемой профессиональной деятельности и самоутверждения в ней». (Чистякова С.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Принципиально новым оптимальным методом для реализации такого подхода может служить психологический тре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7620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0920" y="476280"/>
            <a:ext cx="86421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это форма специально организованного общения, психологическое воздействие которого основано на активных методах группов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ажнейшая задач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помочь участнику выразить себя своими индивидуальными средствами, именно СВОИМИ, а для этого сначала нужно научиться  воспринимать и понимать себя». (Прудченков А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043280" y="1341360"/>
            <a:ext cx="73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ёт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возможность воспринимать себя чере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64400" y="2395440"/>
            <a:ext cx="50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отнесения себя с другим челове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64040" y="3116160"/>
            <a:ext cx="45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приятие себя другими люд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32080" y="3908520"/>
            <a:ext cx="55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езультаты собствен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01920" y="4556160"/>
            <a:ext cx="646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блюдение собственных внутренних состоя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06240" y="5275440"/>
            <a:ext cx="579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приятие собственного внешнего обл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00000" y="549360"/>
            <a:ext cx="748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08000" y="1341360"/>
            <a:ext cx="859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едущая гуманистическая иде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не принуждать человека, не давить на н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 помочь ему стать самим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ая цел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развитие компетентности в общ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80680" y="37162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ругие 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92560" y="4168800"/>
            <a:ext cx="213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чностный 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259640" y="4653000"/>
            <a:ext cx="53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учение новым психологическим технолог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703240" y="5229360"/>
            <a:ext cx="49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тработка новых поведенческих паттер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2044440" y="45072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3:24:09Z</dcterms:created>
  <dc:creator>User</dc:creator>
  <dc:description/>
  <dc:language>en-US</dc:language>
  <cp:lastModifiedBy>LEGION</cp:lastModifiedBy>
  <dcterms:modified xsi:type="dcterms:W3CDTF">2014-11-12T09:34:36Z</dcterms:modified>
  <cp:revision>39</cp:revision>
  <dc:subject/>
  <dc:title>Слайд 1</dc:title>
</cp:coreProperties>
</file>