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4C80-8317-431D-A3C2-49B43D9D29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Социально – психолог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тренинг с подрост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Методическая разработка  в помощь</a:t>
            </a: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рганизатору тренинга с подрост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оставитель –  Платонова М.В., педагог - -психоло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МОУ «Нововилговская средняя школа №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спублики Кар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A45C-58BB-4DD4-B570-52896BB427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7541-C9B2-479D-B50A-C4E8A622BE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32CB-371F-4D2F-91AE-52A2F21991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ила работы в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бровольность учас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кренность и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инцип «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здесь и тепе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онфиденц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еспечение психологической и физической безопасности участников группы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0F39-92C9-429E-BD88-AB5200F265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руктура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ми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здание непринуждённой, доброжелательной атм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овышение сплочённост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.    Основная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скрытие темы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шение задач поставленных перед участниками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уществление обратной связи о состоянии участников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 конце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51E6-4312-462D-B164-55CBCC53B3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ценарии зан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азработанные авторским коллективом Нововилговской средн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общения (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к учебному курсу «Экология» (Рыжкова Л.И., 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профессионального самоопределения (Платонова М.В., Соловьёва Р.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лидерских качеств (Платонова М.В.,Соловьёва М.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«Школа лидера» (Мальцева Т.П.,Платонова М.В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комендованные учёнными - психоло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работы с подростками 6,7,12,13, 14,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ие тренинги детско-родительских отношений 2, 9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EFCF-7368-43FC-AF5A-6E118569CD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зников А. Обратная связь в групповой работе с подростками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999,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ринская В.М. Психологический тренинг детско-родительских отношений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 семейная терапия.2000,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урина Г. Групповая динамика в тренинговых группах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актического психолога.1998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5.     Лидерс А.Г. Группы личностного роста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6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е игры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6, №1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й тренинг с подростками.М.,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шанов С. Принципы 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рковская И. Опыт проведения тренинга взаимодействия родителей с деть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ческого психолога.1998, №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неева О.А.,Кабанов А.В. Программа «Работа с семьями подростков,имеющими трудности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даптации»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и семейная терапия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1997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удченков А.С. Социально-психологический тренинг в школе. М.,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ое сопровождение выбора профессии. Научно-методическое пособие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под.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тиной Л.М. М.,200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маненко О.К. Практическая гештальттерапия. М.,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подростков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Е.Б. Игра и конфликт в подростковом возрас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льчиков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го самоопределения старшеклассников. М.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7AFD-65D9-405F-AAB2-D1DCC5AFDC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C35F-E140-45C6-83B3-A2ABD21763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E903-5734-44F8-941C-5A2CCCE156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Что подходит ему уже сейчас, а что нет». (Хасан Е.Б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851D-47D4-4AD1-ACE1-C4E75136FB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ые потребности подростка (Ремшмидт 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7812-8F2A-4356-BA85-7B285B4A25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6C10-93E7-458B-9C9D-4B31A5E3D6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ажнейшая задача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EB13-493F-4681-9B76-B82649710F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аёт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возможность воспринимать себя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E79A-EAAE-48B8-B1EF-4C26B5BD9D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едущая гуманистическая идея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не принуждать человека, не давить на н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 помочь ему стать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ая цель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развитие компетентности в общ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E93C-DC50-467B-AD17-AFCDF54AD1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CA3-BF65-41ED-B4C4-1DD526E6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783-8730-49F8-9375-7A8F634E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DF8-63D5-4859-BB5B-DD2FB88A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ACC-4703-46FD-B296-EB44BE07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0C8-E548-47CB-9472-EC970D93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FED-DEE2-48B1-B89A-F43E2871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03C-496C-42AE-8360-88B2BA5E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F40-7ECA-40F1-B495-58B57A5D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567-15D9-419E-BD50-90CDD683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A09-242A-4FBC-966C-49B15814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F09-7ED3-4C66-8A07-146FB8FA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670-6C1C-43A3-8076-5126D49B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4C1C-93E0-464F-8E56-F5A3991761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404640"/>
            <a:ext cx="86421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циально – псих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ренинг с подрос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одическая разработка  в помощь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организатору тренинга с подрос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тель –  Платонова М.В., педагог - -психоло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У «Нововилговская средняя школа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спублики Кар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60360" y="90792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32280" y="1484280"/>
            <a:ext cx="72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звития личности в межличностном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урт 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4000" y="2205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жизненных умений( бихевиорально ориентированны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он Уот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.П.Пав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28680" y="3141720"/>
            <a:ext cx="83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ешения личностных проблем (психодраматически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екобу Леви Мор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28320" y="4005360"/>
            <a:ext cx="84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вободного самоопределения групп (гуманистически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рл Родже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ильям Шут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95280" y="4941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ционального самопознания и саморазвития (трансактный анали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Эрик Бё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34360" y="5942160"/>
            <a:ext cx="88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амоактуализации и саморегуляции (гештальтподход в 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дерик Перл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044440" y="47628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2989440" y="112536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ц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акша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41120" y="184464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109960" y="29973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732200" y="4581360"/>
            <a:ext cx="23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рганиз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73272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60200" y="1771560"/>
            <a:ext cx="2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176560" y="2563920"/>
            <a:ext cx="24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17340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125440" y="278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567680" y="5084640"/>
            <a:ext cx="285516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физическая закрыт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мплектование груп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(гомогенность-гетероген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странственно-врем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рган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588000" y="2924280"/>
            <a:ext cx="219564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ответствие заяв-ленных целей тренинга его содерж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енанесение ущер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180720" y="2492280"/>
            <a:ext cx="162072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истем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етермин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еалис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збыто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1617480" y="3716280"/>
            <a:ext cx="27486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следовательская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ворческая поз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убъект-субъектное об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бъективация п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кр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H="1">
            <a:off x="1402920" y="148428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 flipH="1">
            <a:off x="2916360" y="1557360"/>
            <a:ext cx="576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4427640" y="1557360"/>
            <a:ext cx="1224000" cy="30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5219640" y="1557360"/>
            <a:ext cx="201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95280" y="1484280"/>
            <a:ext cx="820908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бровольность учас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скренность и открыт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нцип «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еспечение психологической и физической безопасности участников группы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907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а работы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23184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21760" y="100188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руктура за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9840" y="1700280"/>
            <a:ext cx="90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87200"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м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здание непринуждённой, доброжелательной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вышение сплочённост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160" y="3284640"/>
            <a:ext cx="92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   Основн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скрытие темы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ение задач поставленных перед участниками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9280" y="4797360"/>
            <a:ext cx="91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77920">
              <a:buClr>
                <a:srgbClr val="3333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уществление обратной связи о состоянии участников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конце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125000" y="40464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3205440" y="9079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ценарии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79280" y="1628640"/>
            <a:ext cx="8613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работанные авторским коллективом Нововилговской средне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общения (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к учебному курсу «Экология» (Рыжкова Л.И., 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профессионального самоопределения (Платонова М.В., Соловьёва Р.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лидерских качеств (Платонова М.В.,Соловьёва М.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«Школа лидера» (Мальцева Т.П.,Платонова М.В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89000" y="5157720"/>
            <a:ext cx="895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комендованные учёнными - психо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ля работы с подростками 6,7,12,13, 14,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сихологические тренинги детско-родительских отношений 2, 9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125000" y="33336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-447480" y="65160"/>
            <a:ext cx="972756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Березников А. Обратная связь в групповой работе с подростками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999,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аринская В.М. Психологический тренинг детско-родительских отношений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 семейная терапия.2000,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урина Г. Групповая динамика в тренинговых группах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актического психолога.1998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5.     Лидерс А.Г. Группы личностного роста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6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е игры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6, №1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й тренинг с подростками.М.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кшанов С. Принципы 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рковская И. Опыт проведения тренинга взаимодействия родителей с деть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ческого психолога.1998, №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неева О.А.,Кабанов А.В. Программа «Работа с семьями подростков,имеющими трудност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даптации»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и семейная терапия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удченков А.С. Социально-психологический тренинг в школе. М.,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сихологическое сопровождение выбора профессии. Научно-методическое пособие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под.р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тиной Л.М. М.,200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оманенко О.К. Практическая гештальттерапия. М.,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ля подростков. М.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Е.Б. Игра и конфликт в подростковом возрас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льчиков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го самоопределения старшеклассников. М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897120" y="47628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пецифика подросткового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63560" y="136512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феры развития, подвергающиеся измен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57440" y="22050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65440" y="2708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360" y="32130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циальная жиз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230520" y="3645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мо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770200" y="414828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задачи (Кле М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809640" y="4672080"/>
            <a:ext cx="53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бертат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гни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образования соци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новление идент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-9216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11280" y="1413000"/>
            <a:ext cx="820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дача сам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ло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зраст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ци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ловая                         уже не ребёнок,                необходимость з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дентификация             но ещё не взрослый.       нять определё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то же?                             место в общест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руппе сверстн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837080" y="47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763280" y="2708280"/>
            <a:ext cx="5545440" cy="504720"/>
            <a:chOff x="1763280" y="2708280"/>
            <a:chExt cx="5545440" cy="504720"/>
          </a:xfrm>
        </p:grpSpPr>
        <p:sp>
          <p:nvSpPr>
            <p:cNvPr id="63" name="Line 6"/>
            <p:cNvSpPr/>
            <p:nvPr/>
          </p:nvSpPr>
          <p:spPr>
            <a:xfrm flipH="1">
              <a:off x="1763280" y="2708280"/>
              <a:ext cx="20163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"/>
            <p:cNvSpPr/>
            <p:nvPr/>
          </p:nvSpPr>
          <p:spPr>
            <a:xfrm>
              <a:off x="4572000" y="2781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8"/>
            <p:cNvSpPr/>
            <p:nvPr/>
          </p:nvSpPr>
          <p:spPr>
            <a:xfrm>
              <a:off x="5219640" y="2781360"/>
              <a:ext cx="20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1484280"/>
            <a:ext cx="51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Что подходит ему уже сейчас, а что нет». (Хасан Е.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79640" y="3933720"/>
            <a:ext cx="668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38920" y="112536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потребности подростка (Ремшмидт Х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198900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зиологическая (запускающая физиологическую и сексу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ктив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9240" y="2637000"/>
            <a:ext cx="68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безопасности (принадлежность к групп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06440" y="2997360"/>
            <a:ext cx="64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зависимости и эмансипации от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8880" y="3429000"/>
            <a:ext cx="38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привяз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01040" y="3933720"/>
            <a:ext cx="67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успехе, в проверке своих возмож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03920" y="4437000"/>
            <a:ext cx="72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самореализации и развитии собственного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9220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4784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24000" y="5229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324000" y="549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476280"/>
            <a:ext cx="8642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ажнейшая задач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043280" y="1341360"/>
            <a:ext cx="73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ёт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возможность воспринимать себя чере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4400" y="2395440"/>
            <a:ext cx="50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отнесения себя с другим челове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4040" y="311616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ебя другими люд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2080" y="3908520"/>
            <a:ext cx="55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езультаты собствен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01920" y="4556160"/>
            <a:ext cx="64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блюдение собственных внутренних состоя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6240" y="5275440"/>
            <a:ext cx="579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обственного внешнего обл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54936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08000" y="1341360"/>
            <a:ext cx="859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едущая гуманистическая иде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не принуждать человека, не давить на н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помочь ему стать самим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ая цел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азвитие компетентности в об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80680" y="3716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ие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92560" y="4168800"/>
            <a:ext cx="213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чност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259640" y="4653000"/>
            <a:ext cx="53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учение новым психологическим техн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703240" y="5229360"/>
            <a:ext cx="49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работка новых поведенческих паттер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044440" y="45072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3:24:09Z</dcterms:created>
  <dc:creator>User</dc:creator>
  <dc:description/>
  <dc:language>en-US</dc:language>
  <cp:lastModifiedBy>LEGION</cp:lastModifiedBy>
  <dcterms:modified xsi:type="dcterms:W3CDTF">2014-11-12T09:34:36Z</dcterms:modified>
  <cp:revision>39</cp:revision>
  <dc:subject/>
  <dc:title>Слайд 1</dc:title>
</cp:coreProperties>
</file>