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E5F6-37E8-4897-97AF-D1D3454C03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оциально – психолог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ренинг с подрост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етодическая разработка  в помощь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рганизатору тренинга с подрос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оставитель –  Платонова М.В., педагог - -психол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МОУ «Нововилговская средняя школа 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спублики Кар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6054-C6D2-41DA-BBE1-1AB005DD40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EB4E-85FD-4B2B-B6A1-861C50522A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8044-6B39-4A64-9B05-DA929963F3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ила работы в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бровольность учас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кренность и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инцип «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здесь и тепе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онфиденц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еспечение психологической и физической безопасности участников группы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E435-B412-4F22-9EC1-F842192510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руктура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м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здание непринуждённой, доброжелательной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вышение сплочённост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.    Основная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скрытие темы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шение задач поставленных перед участниками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уществление обратной связи о состоянии участников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 конце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7972-3E45-4495-913A-0769495D46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ценарии зан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азработанные авторским коллективом Нововилговской средн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общения (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к учебному курсу «Экология» (Рыжкова Л.И., 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профессионального самоопределения (Платонова М.В., Соловьёва Р.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лидерских качеств (Платонова М.В.,Соловьёва М.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«Школа лидера» (Мальцева Т.П.,Платонова М.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комендованные учёнными - психоло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работы с подростками 6,7,12,13, 14,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ие тренинги детско-родительских отношений 2, 9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FB13-E7FC-4D11-A773-71F3ABE56E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зников А. Обратная связь в групповой работе с подростками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999,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ринская В.М. Психологический тренинг детско-родительских отношений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 семейная терапия.2000,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урина Г. Групповая динамика в тренинговых группах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актического психолога.1998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5.     Лидерс А.Г. Группы личностного роста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6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е игры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6, №1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й тренинг с подростками.М.,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шанов С. Принципы 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рковская И. Опыт проведения тренинга взаимодействия родителей с деть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еского психолога.1998, №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неева О.А.,Кабанов А.В. Программа «Работа с семьями подростков,имеющими трудности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даптации»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и семейная терапия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1997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удченков А.С. Социально-психологический тренинг в школе. М.,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ое сопровождение выбора профессии. Научно-методическое пособие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под.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тиной Л.М. М.,200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маненко О.К. Практическая гештальттерапия. М.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подростков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Е.Б. Игра и конфликт в подростковом возрас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льчиков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го самоопределения старшеклассников. М.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379D-84B0-4760-BB5B-D51C044E9C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08CD-B77C-4715-8B60-9A0BD9462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A40B-B3DF-4CBC-90F2-BEEDE3B12B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то подходит ему уже сейчас, а что нет». (Хасан Е.Б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5608-5FCD-4E75-8D29-09C9E4A684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ые потребности подростка (Ремшмидт 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DD0D-62C0-458A-809C-2F9212E82F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2A87-D6AE-41A4-913C-F94492D06F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ажнейшая задача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C49A-0BE5-4CDD-B44C-B6FA1D62C2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аёт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возможность воспринимать себя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7EFE-B462-4A52-B0B6-25F86690BC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едущая гуманистическая идея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не принуждать человека, не давить на н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помочь ему стать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ая цель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развитие компетентности в общ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10E3-7C11-4E62-A088-7BAD24A17E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C81-54AE-4C44-8A46-7F344755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7C5-97EE-40C0-8A5E-17B3BF4C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29A-4D06-429C-A067-40A1EFE1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590-73D1-4840-8218-014FC3F7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D5C-066E-4496-BF2F-971B20AD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41C-B146-42A2-9494-886AC04E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012-7B38-476E-B5F6-3C780022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536-5528-41C7-9B04-5C438129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191-719F-44CF-8C7C-14913C35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0D8-F416-4441-B219-84107DDC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C8E-5B17-429F-BD36-65B02B8F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4CB-7AAF-4189-8FAE-54D2C5BC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61DF-F693-422E-BA97-08A8145B2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404640"/>
            <a:ext cx="8642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о – 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ренинг с подрос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ческая разработка  в помощь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организатору тренинга с подрос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тель –  Платонова М.В., педагог - -психол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У «Нововилговская средня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60360" y="9079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2280" y="1484280"/>
            <a:ext cx="72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звития личности в межличност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рт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20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жизненных умений( бихевиорально ориентированны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он Уот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.П.Пав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8680" y="3141720"/>
            <a:ext cx="83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ешения личностных проблем (психодраматически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екобу Леви Мо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8320" y="4005360"/>
            <a:ext cx="84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вободного самоопределения групп (гуманистическ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рл Родже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ильям Шу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5280" y="4941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ционального самопознания и саморазвития (трансакт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рик Бё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34360" y="5942160"/>
            <a:ext cx="88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амоактуализации и саморегуляции (гештальтподход в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дерик Пер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044440" y="47628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989440" y="11253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кш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1120" y="184464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09960" y="2997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732200" y="458136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3272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200" y="1771560"/>
            <a:ext cx="2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176560" y="2563920"/>
            <a:ext cx="24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17340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12544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67680" y="5084640"/>
            <a:ext cx="2855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изическая закры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мплектование гру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гомогенность-гетероге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странственно-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588000" y="2924280"/>
            <a:ext cx="219564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ответствие заяв-ленных целей тренинга его 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енанесение у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0720" y="2492280"/>
            <a:ext cx="16207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истем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етермин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еал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збыто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617480" y="3716280"/>
            <a:ext cx="27486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следовательска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ворческая поз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бъект-субъектное 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бъективация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>
            <a:off x="1402920" y="148428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 flipH="1">
            <a:off x="2916360" y="1557360"/>
            <a:ext cx="57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27640" y="1557360"/>
            <a:ext cx="1224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219640" y="155736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1484280"/>
            <a:ext cx="82090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бровольность учас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кренность и от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цип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еспечение психологической и физической безопасности участников групп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907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работы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231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21760" y="10018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уктура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40" y="170028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7200"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ие непринуждённой, доброжелательной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сплочённост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60" y="3284640"/>
            <a:ext cx="92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   Осно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крытие темы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задач поставленных перед участниками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4797360"/>
            <a:ext cx="91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уществление обратной связи о состоянии участников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конце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5000" y="40464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05440" y="9079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ценарии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9280" y="1628640"/>
            <a:ext cx="861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анные авторским коллективом Нововилговской сред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общения (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к учебному курсу «Экология» (Рыжкова Л.И., 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профессионального самоопределения (Платонова М.В., Соловьёва Р.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лидерских качеств (Платонова М.В.,Соловьёва М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«Школа лидера» (Мальцева Т.П.,Платонова М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89000" y="5157720"/>
            <a:ext cx="89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ованные учёнными - психо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ы с подростками 6,7,12,13, 14,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сихологические тренинги детско-родительских отношений 2, 9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125000" y="33336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-447480" y="65160"/>
            <a:ext cx="97275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ерезников А. Обратная связь в групповой работе с подростками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999,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аринская В.М. Психологический тренинг детско-родительских отношений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семейная терапия.2000,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урина Г. Групповая динамика в тренинговых группах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ктического психолога.1998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5.     Лидерс А.Г. Группы личностного роста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6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е игры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6, №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й тренинг с подростками.М.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кшанов С. Принципы 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рковская И. Опыт проведения тренинга взаимодействия родителей с деть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еского психолога.1998,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неева О.А.,Кабанов А.В. Программа «Работа с семьями подростков,имеющими трудност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даптации»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и семейная терапия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удченков А.С. Социально-психологический тренинг в школе. М.,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выбора профессии. Научно-методическое пособие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од.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тиной Л.М. М.,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маненко О.К. Практическая гештальттерапия. М.,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подростков. М.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Е.Б. Игра и конфликт в подростковом возрас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льчико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го самоопределения старшеклассников. М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97120" y="47628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ецифика подростков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3560" y="13651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феры развития, подвергающиеся изме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7440" y="2205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5440" y="2708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360" y="32130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230520" y="3645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70200" y="4148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(Кле М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809640" y="4672080"/>
            <a:ext cx="53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бертат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образования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овление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-921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1413000"/>
            <a:ext cx="820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ам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зрас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овая                         уже не ребёнок,                необходимость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дентификация             но ещё не взрослый.       нять определ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то же?                             место в общ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уппе сверст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7080" y="47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763280" y="2708280"/>
            <a:ext cx="5545440" cy="504720"/>
            <a:chOff x="1763280" y="2708280"/>
            <a:chExt cx="5545440" cy="504720"/>
          </a:xfrm>
        </p:grpSpPr>
        <p:sp>
          <p:nvSpPr>
            <p:cNvPr id="63" name="Line 6"/>
            <p:cNvSpPr/>
            <p:nvPr/>
          </p:nvSpPr>
          <p:spPr>
            <a:xfrm flipH="1">
              <a:off x="1763280" y="2708280"/>
              <a:ext cx="2016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4572000" y="2781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5219640" y="2781360"/>
              <a:ext cx="20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4842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Что подходит ему уже сейчас, а что нет». (Хасан Е.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3933720"/>
            <a:ext cx="668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8920" y="112536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требности подростка (Ремшмидт Х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9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зиологическая (запускающая физиологическую и сексу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тив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" y="2637000"/>
            <a:ext cx="68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безопасности (принадлежность к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06440" y="299736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зависимости и эмансипации от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8880" y="3429000"/>
            <a:ext cx="38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привяз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1040" y="3933720"/>
            <a:ext cx="67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успехе, в проверке свои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3920" y="443700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самореализации и развитии собственного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7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400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24000" y="549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47628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ейшая задач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3280" y="1341360"/>
            <a:ext cx="73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ё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возможность воспринимать себ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400" y="23954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отнесения себя с други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040" y="311616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ебя друг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2080" y="3908520"/>
            <a:ext cx="55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езультаты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1920" y="455616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блюдение собственных внутренних состоя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6240" y="5275440"/>
            <a:ext cx="57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обственного внешнего обл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549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8000" y="1341360"/>
            <a:ext cx="85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дущая гуманистическая иде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не принуждать человека, не дав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помочь ему ста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ая це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азвитие компетентности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80680" y="371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2560" y="4168800"/>
            <a:ext cx="21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чност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59640" y="4653000"/>
            <a:ext cx="53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учение новым психологически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703240" y="5229360"/>
            <a:ext cx="49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ботка новых поведенческих патт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044440" y="45072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3:24:09Z</dcterms:created>
  <dc:creator>User</dc:creator>
  <dc:description/>
  <dc:language>en-US</dc:language>
  <cp:lastModifiedBy>LEGION</cp:lastModifiedBy>
  <dcterms:modified xsi:type="dcterms:W3CDTF">2014-11-12T09:34:36Z</dcterms:modified>
  <cp:revision>39</cp:revision>
  <dc:subject/>
  <dc:title>Слайд 1</dc:title>
</cp:coreProperties>
</file>