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FBEF-0C6B-4027-8472-0959E7EB05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1EA-6B78-4530-9200-EBBEC039812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364-F737-4837-9BE5-C8EB82A2529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E638-F4D7-4B9E-8FA1-26AD3B97DE8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тносительное место учащегося в классе и паралле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ранжирование учащихся (классов) по заданному параметр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группы учащихся с высокими и низкими показател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дить динамику изменений результатов от года к го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сравнение групп (классов, параллелей) по заданным парамет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4354-6B83-4FBB-BC42-F32C31BA0CEE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C2DF-534C-4330-9253-0913E0486BA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5FE4-2403-4176-A094-792F6FCD5E5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6C3F-24A6-4788-840A-9BBA27CC9BBE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E99-536C-4519-8514-AB365F5DF99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FC6-1B91-4D2F-ABEC-4397B9AB07E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2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7CB-3600-4B2E-BA4B-E74BBAB71BE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9F9-907A-4001-8750-52B714E5A46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инског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еводе 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щий или предостерегаю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D87-DB81-4986-9149-EF9B710AAF47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ет рассматривать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исследования реа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уемый в различных нау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обеспеч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его звена своевременной и качествен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 состоянии системы и происходящих в ней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57EE-CD37-4ADD-8408-0408480FFE9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0519-AE06-4282-9099-7EB475A9C29E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2634-660F-4B12-B1BF-45FC52D77E2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52B9-8412-457A-BD12-BAB1CA1AABD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этой информации в наиболее удобном виде пользователям раз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системы психолого-педагогических коррекцион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A0BB-E68B-4C11-8B39-C7F29F52D9C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сфера и динамика ее разви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9471-BB8A-4420-96F9-C6004350B557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F706-D075-4324-A0C4-D85E73DCE02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597-07B1-4889-8C5E-038EEEDD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111-6480-4C77-8A82-EBDE8876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A81-A26A-4009-AA47-C446BBBC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537-B6F4-4F37-B170-2C42FE65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9A6E-066E-4A22-BD20-DC5305A7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5EA3-FD65-4F78-A847-F1CD5600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092D-BA89-4AA1-AF5D-10DC932E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08AB-56ED-427D-85C9-E54E2485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946C-F9D4-40F6-B9D4-5E5595AD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1761-E224-476B-8EB3-1BFD0B9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F68E-A64F-4AF0-875C-6D72949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B02-EE37-42DD-8A5F-1506A54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D45A-2B76-4F89-866B-03BC1C74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B5EC-1135-4D24-894E-BD8849A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173-2899-44A0-85CE-0EACFCE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6A09-1B90-4D38-9236-40B32C72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85D3-13C0-4FE1-B50C-80824A7B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ACAF-C5E4-4AB3-8C2D-F062C45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DF72-112E-4C6C-8DB5-9389A5A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F43C-3A30-4656-BAF6-98F40133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7FF8-E1E9-42E9-9E16-3FEA0469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74C6-0FAC-430F-939A-1434B0FF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3DC-0B2A-47AE-B39D-3E3971FE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5DCF-F5FB-486C-B4FA-E5A07F0B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12D7-4B51-4145-8BFC-B4AB1C2E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AC76-9A0C-469B-BA79-102F3BF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16DB-0A5D-49FB-A231-AE169C8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682A-4FFF-4F7A-9CCE-F5EF4054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9969-A2CA-4BE7-99DC-03F4DABF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4E1E-D298-4EAC-8040-EF516F44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9DCD6-9DF5-4EEC-9E89-40419E51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5AFA-FCC4-4167-8813-65DA24CA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F55B-F2DD-4640-848F-A3309F11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4D1-BC32-478E-AE7D-5C859E9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CFA3-167E-426B-B6CB-CDE1FF9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4C56-3334-46C9-9C73-5299608E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5ADE-CD51-431C-AB54-6B34A85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6896D-1AD5-4B5E-838F-D11C66B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EB4A-E88C-45B8-965E-9050822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BD8A-F936-4635-8966-5BC1A4C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89B2-2BEC-4951-A328-13F5D264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AA7D-ACDB-40FD-A0B9-49BD6CDD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D0C6-5E70-488B-8CBF-94DAAC87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C17-0432-4CBE-9C1C-A2272D5A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EEF-6579-4DD8-A56E-2C2F61E5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0A3-B31D-4293-9A8E-E428E25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2A0-5FEA-4FF8-94AC-6BBC120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1C3-E1B7-4EF9-9B56-2682E4F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5E5-89CE-4E2D-9D98-49B39D86AF5A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576-E90F-4547-AECA-C5A1AE63556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34D-A913-4A6E-BEAA-0BD1E95EDF0D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BA49-37B3-4F1F-BB3B-11FF0527181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C3C-F354-406B-8FCD-9072A67FCF0F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F9A-982B-43B2-BBE6-553E21B1096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2DE-871A-4CE3-AB26-0AF4DCB2E2C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1EB1-68EF-43F9-910F-C39DD492567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8577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о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19664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10" descr="C:\Program Files\Common Files\Microsoft Shared\Clipart\cagcat50\BD04972_.WMF"/>
          <p:cNvPicPr/>
          <p:nvPr/>
        </p:nvPicPr>
        <p:blipFill>
          <a:blip r:embed="rId1"/>
          <a:stretch/>
        </p:blipFill>
        <p:spPr>
          <a:xfrm>
            <a:off x="5148360" y="1052640"/>
            <a:ext cx="3744720" cy="5256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412640"/>
            <a:ext cx="461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9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11280" y="2133720"/>
            <a:ext cx="3313080" cy="395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тносительное место учащегося в классе и параллел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ранжирование учащихся (классов) по заданному параметр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ить группы учащихся с высокими и низкими показател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ледить динамику изменений результатов от года к год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сравнение групп (классов, параллелей) по заданным парамет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8596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36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9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6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8308800" cy="19209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лово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мониторинг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от латинского «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monitor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переводе означ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оминающий или предостерегающий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«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жет рассматривать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исследования реальности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 используемый в различных науках,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обеспечения 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управляющего звена своевременной и качественной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ей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о состоянии системы и происходящих в ней процессах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 – эт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сихологический мониторин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557360"/>
            <a:ext cx="460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0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588000" y="4437000"/>
            <a:ext cx="2152800" cy="221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Program Files\Common Files\Microsoft Shared\Clipart\cagcat50\PE01561_.wmf"/>
          <p:cNvPicPr/>
          <p:nvPr/>
        </p:nvPicPr>
        <p:blipFill>
          <a:blip r:embed="rId2"/>
          <a:stretch/>
        </p:blipFill>
        <p:spPr>
          <a:xfrm>
            <a:off x="4788000" y="1916280"/>
            <a:ext cx="3384360" cy="23349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ставление этой информации в наиболее удобном виде пользователям разного уров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уктурирование системы психолого-педагогических коррекционных мероприят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468360" y="1989000"/>
            <a:ext cx="3816360" cy="34164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тивационная сфера и динамика ее развит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2" descr="C:\Program Files\Common Files\Microsoft Shared\Clipart\cagcat50\PE01194_.wmf"/>
          <p:cNvPicPr/>
          <p:nvPr/>
        </p:nvPicPr>
        <p:blipFill>
          <a:blip r:embed="rId1"/>
          <a:stretch/>
        </p:blipFill>
        <p:spPr>
          <a:xfrm>
            <a:off x="4788000" y="1989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07:38Z</dcterms:created>
  <dc:creator>Admin</dc:creator>
  <dc:description/>
  <dc:language>en-US</dc:language>
  <cp:lastModifiedBy>LEGION</cp:lastModifiedBy>
  <dcterms:modified xsi:type="dcterms:W3CDTF">2014-11-12T09:35:24Z</dcterms:modified>
  <cp:revision>48</cp:revision>
  <dc:subject/>
  <dc:title>ПСИХОЛОГИЧЕСКИЙ МОНИТОРИНГ</dc:title>
</cp:coreProperties>
</file>