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5.png" ContentType="image/png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35DE-896D-4335-8BB6-9DEB57204E0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СИХОЛОГИЧЕСКИЙ МОНИТОР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A0EA-9482-4F9A-8AF8-93F8C413EB6E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ий мониторинг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ная технология, объединяющая диагностику, консультацию, коррекцию в единую эффективную систему психологических средств, реализуемых в определенной последовательности, наполняемых строго отобранным содержанием и позволяющих гибко и действенно осуществлять психологическое сопровождение образовательного процесса, достигать желаемую ц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B271-438F-4466-8574-05A7918D47AF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комплексного изучения, параллельного использования двух направлений деятельности (психолога – психодиагностическое обследование, педагога (воспитателя) – метод экспертного наблюдения) получаем два ряда данных, отражающих одни и те же явления, что значительно расширяет возможности интерпретации результа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4194-48BE-4EC5-A4E5-95960604D77F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сихологическое сопровождение учащегося в режиме психологического мониторинга дает возможност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относительное место учащегося в классе и параллел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ранжирование учащихся (классов) по заданному параметр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ить группы учащихся с высокими и низкими показателя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ледить динамику изменений результатов от года к год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сравнение групп (классов, параллелей) по заданным параметр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D1FB-7C71-42B8-81A8-9F35DF08A9CA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ктронная модель психологического мониторин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Дает возможность производить ввод сп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учащихся по группам и класс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Осуществляет хранение психологических характеристик учащих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Дает возможность получать подробную информацию об отдельном ученике, классе, параллели, групп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Содержит сведения об используемых в системе психологических методиках, нормах и алгоритмах расч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4898-8751-4505-81EC-BDCD9D90832F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ктронная модель психологического мониторин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Позволяет проводить тестирование в соответствии со сформированной базой психологических методик и хранение результатов психологической диагнос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Дает возможность ввода и накопления психолого-педагогических рекоменд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Позволяет получать статист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данные в виде диаграм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Позволяет формировать отчеты психолога учебного заведения о проделанной раб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4178-5D84-4F02-9445-F0F85C991FD1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ктронная модель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мониторинга</a:t>
            </a:r>
            <a:br>
              <a:rPr sz="1200"/>
            </a:b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римеры работы с программо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5717-962F-46AF-AB97-35554A755642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ктронная модель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мониторинга</a:t>
            </a:r>
            <a:br>
              <a:rPr sz="1200"/>
            </a:b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римеры работы с программо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0322-F117-4EEF-90B5-57364FADC818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ктронная модель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мониторинга</a:t>
            </a:r>
            <a:br>
              <a:rPr sz="1800"/>
            </a:b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римеры работы с программо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F580-9F4E-481B-A951-98A4ADC43572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ктронная модель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мониторинга</a:t>
            </a:r>
            <a:br>
              <a:rPr sz="2800"/>
            </a:b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римеры работы с программо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B7EC-2085-4472-AA93-C6A61F545B40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5D6B-B15E-4610-ABB7-D1422C3A49EB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мониторин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 латинского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monito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еводе означ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оминающий или предостерегающ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2E8F-746E-4779-A206-6EC89B15DEE7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ниторин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может рассматриваться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как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пособ исследования реа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спользуемый в различных наука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как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пособ обеспеч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ющего звена своевременной и качественн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формаци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 состоянии системы и происходящих в ней процес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36A1-515F-455A-BFF8-DEDFF1D7EB6B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«мониторинг»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учной литературе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-ых годов XX ве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общим образом обознач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ую «деятельность по наблюдению», «систему повторных, целенаправленных наблюдений» или «методику и систему наблюдений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сех определениях ключевым словом является слово «наблюдение». Позже, в более поздний период наблюдение сменяется на «контроль с периодическим слежением» или «процесс отслеживания информации по изучаемой систем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87E6-CE90-4B0E-AC13-81F8CAA74761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ниторинг – э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уровневая, иерархическа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ганизации, сбора, хранения обработки и распространения информации об обследуемой системе или отдельных её элементах, ориентированная на информационное обеспечение управления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ая позволяет суди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 состоянии объекта мониторинга в любой момент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обеспечить прогно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го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723E-46E0-4384-90E0-69E146F70F3B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ий монитор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ет собой систему постоянного отслеживания посредством психологической диагностики процесса личностного развития учащегося (ребенка), создания банка психологических данных на каждого учащегося (ребенка), проектирование индивидуальной психологической и педагогической траектории учащегося (ребенк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5BB9-B9E5-4A9D-AE0F-980FF78610AF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ий мониторинг реализует следующие 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максимально полной психологической информации, характеризующей образовательный процесс в школ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этой информации в наиболее удобном виде пользователям разного уровн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ирование системы психолого-педагогических коррекционных меро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E3C5-7388-4D75-AD1E-B9AA6655D4F9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и помощи психологического мониторинга отслеживаются следующие психологические критерии, показатели результативности образовательного процесса в школ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вательная сфера ребенка (восприятие, память, внимание, мышление) и динамика ее развития, сформированность учебной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тивационная сфера и динамика ее развит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онально-волевая сфера (уровень тревожности, активности) и динамика ее развития, влияние эмоционального состояния на процесс обучения, удовлетворенность различными сторонами образовательного процес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ная сфера (самооценка, потребность в достижении, уровень коммуникации, ценностные ориентации) и динамика ее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0E60-81DC-447A-8E1F-2AA0873CBE55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абота психологической службы ОУ в режиме психологического мониторинга осуществляется по следующим направлениям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ая диагностик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&gt;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ализ результат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&gt;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омендации, консультац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&gt;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коррекционные мероприят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&gt;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ая диагностик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&gt;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ализ результат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&gt;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омендации, консультац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&gt;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коррекционные мероприятия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B4A9-3296-4054-BCD0-20454C5B94F6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3C88-21B3-4DE1-95F9-9E500A50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A026-4F21-446B-AA3E-2A30739B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8189-756A-4366-91FB-EB06C08B2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C161-4E2D-4A6F-AA9E-77C539E80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3FC8-04FD-4ACC-B7D3-077B2C6E6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001E-1141-447A-B63E-AE344D91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0A41-7628-4DD9-BDCA-D41CDD5F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0B23-6BD3-4D28-AB7B-9FE9DDF6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FC9F-C9CD-4C43-BB25-D9DF1DF9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FB0F-6F70-443B-A6D3-ECDC4708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440E-5A23-4276-B471-79410BCC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7818-72AB-4A86-B505-340DAFF3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C602-CB9D-486D-A2E9-10C39917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13F0-91DD-4276-9E8A-BB4792D4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5721-FE3E-4EDB-B9AC-2E1E3269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7F7B-0DBB-414F-A156-42CD7B815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3034-3F21-4878-B4A9-F5B16CA55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D7DDB-6DB9-468F-A74A-1C536A57D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D13D5-18FE-49D9-94BA-61A0BDD5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874F0-4808-4C27-AD91-A8ECFB82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6DE48-D7F3-4548-833A-DE508F59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45730-5A9C-4004-A388-359552B8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0C18-7382-46C2-A8E6-0133DC0C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40D89-15A7-4808-BED0-6C3991B5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12743-CABF-4EBB-BAB1-0A61D13A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C0D9E-61F4-4491-8115-2A899682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69C3D-F5D1-40DC-8E4F-B9706275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158A6-5DD5-47EA-8279-F22349FF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EBF09-B06B-4FF9-B7FC-26D469AC9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41D58-292C-4EBF-8F7F-E1C15DA80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49E2D-6487-42FA-B6B4-BB9FE17F7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C078C-923D-4262-8F30-8D7740BB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2B9D1-AC93-4F94-A3F4-7050E886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206D-39FE-47A9-A6D0-CCF3FCC1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18CF5-24BE-47D7-A864-494ECCC4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4DFAC-F7DD-459E-A0B5-557E9D17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AE5FD-3BC7-4B51-B4B1-EB14D4B1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0F869-2997-4A41-ACE7-89491C79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0BBA7-C73B-413C-AC65-DD4F1BEC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FB97C-AC8F-43EE-8B50-DCDF0853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8AEDC-6FBD-4F76-9AD0-8DDF43DF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4A514-2895-4DB2-BB32-D95088B59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F39EE-41D4-480F-A6B4-E85FCABD2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1D04-A776-4552-8F2F-90FFFC9E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A875-21B4-4B8F-8DFF-C2163B00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8F77-5603-4CA5-9EC8-68A0DEDE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0DBB-CC1D-4521-BFBA-F0C0B55B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57E5-6785-491A-83DF-6F357DEF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A406-5A88-440A-9F94-263A004F8DD8}" type="datetime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00F9-2FAF-4A0B-B6DF-86CF3F8373E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CEA7-F07C-4629-8B0B-22E58DDE92DD}" type="datetime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C4A6-0491-4891-8F59-1DEB8DCF073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FBE3-C386-4C0E-A8BB-E8D3F3AABB84}" type="datetime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A294-3143-4308-A750-C0E22B42EF0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29C7-72AB-4B5C-921B-34C26F837F85}" type="datetime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F1FA-C711-4B52-AD9A-3FE4EB51C68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450720" y="1255680"/>
            <a:ext cx="8577360" cy="24382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Психологический мониторинг 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– </a:t>
            </a: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это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50560" y="1196640"/>
            <a:ext cx="439236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мплексная технология, объединяющая диагностику, консультацию, коррекцию в единую эффективную систему психологических средств, реализуемых в определенной последовательности, наполняемых строго отобранным содержанием и позволяющих гибко и действенно осуществлять психологическое сопровождение образовательного процесса, достигать желаемую цел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5" name="Picture 10" descr="C:\Program Files\Common Files\Microsoft Shared\Clipart\cagcat50\BD04972_.WMF"/>
          <p:cNvPicPr/>
          <p:nvPr/>
        </p:nvPicPr>
        <p:blipFill>
          <a:blip r:embed="rId1"/>
          <a:stretch/>
        </p:blipFill>
        <p:spPr>
          <a:xfrm>
            <a:off x="5148360" y="1052640"/>
            <a:ext cx="3744720" cy="525600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067280" y="1412640"/>
            <a:ext cx="46195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результате комплексного изучения, параллельного использования двух направлений деятельности (психолога – психодиагностическое обследование, педагога (воспитателя) – метод экспертного наблюдения) получаем два ряда данных, отражающих одни и те же явления, что значительно расширяет возможности интерпретации результато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19" descr="C:\Program Files\Common Files\Microsoft Shared\Clipart\cagcat50\PE03166_.wmf"/>
          <p:cNvPicPr/>
          <p:nvPr/>
        </p:nvPicPr>
        <p:blipFill>
          <a:blip r:embed="rId1"/>
          <a:stretch/>
        </p:blipFill>
        <p:spPr>
          <a:xfrm>
            <a:off x="611280" y="2133720"/>
            <a:ext cx="3313080" cy="395928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сихологическое сопровождение учащегося в режиме психологического мониторинга дает возможность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50920" y="2133720"/>
            <a:ext cx="86421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ить относительное место учащегося в классе и параллели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вести ранжирование учащихся (классов) по заданному параметру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делить группы учащихся с высокими и низкими показателями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следить динамику изменений результатов от года к году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вести сравнение групп (классов, параллелей) по заданным параметра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Электронная модель психологического мониторинга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35244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f5f5f"/>
                </a:solidFill>
                <a:latin typeface="Arial"/>
              </a:rPr>
              <a:t>Дает возможность производить ввод списк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f5f5f"/>
                </a:solidFill>
                <a:latin typeface="Arial"/>
              </a:rPr>
              <a:t>учащихся по группам и класса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35244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f5f5f"/>
                </a:solidFill>
                <a:latin typeface="Arial"/>
              </a:rPr>
              <a:t>Осуществляет хранение психологических характеристик учащихс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35244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f5f5f"/>
                </a:solidFill>
                <a:latin typeface="Arial"/>
              </a:rPr>
              <a:t>Дает возможность получать подробную информацию об отдельном ученике, классе, параллели, групп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35244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f5f5f"/>
                </a:solidFill>
                <a:latin typeface="Arial"/>
              </a:rPr>
              <a:t>Содержит сведения об используемых в системе психологических методиках, нормах и алгоритмах расчет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35244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35244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Электронная модель психологического мониторинга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785960"/>
            <a:ext cx="84009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356040">
              <a:lnSpc>
                <a:spcPct val="7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5f5f"/>
                </a:solidFill>
                <a:latin typeface="Arial"/>
              </a:rPr>
              <a:t>Позволяет проводить тестирование в соответствии со сформированной базой психологических методик и хранение результатов психологической диагностик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356040">
              <a:lnSpc>
                <a:spcPct val="7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5f5f"/>
                </a:solidFill>
                <a:latin typeface="Arial"/>
              </a:rPr>
              <a:t>Дает возможность ввода и накопления психолого-педагогических рекомендаций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356040">
              <a:lnSpc>
                <a:spcPct val="7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5f5f"/>
                </a:solidFill>
                <a:latin typeface="Arial"/>
              </a:rPr>
              <a:t>Позволяет получать статистическ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5f5f"/>
                </a:solidFill>
                <a:latin typeface="Arial"/>
              </a:rPr>
              <a:t>данные в виде диаграмм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356040">
              <a:lnSpc>
                <a:spcPct val="7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5f5f"/>
                </a:solidFill>
                <a:latin typeface="Arial"/>
              </a:rPr>
              <a:t>Позволяет формировать отчеты психолога учебного заведения о проделанной работ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356040">
              <a:lnSpc>
                <a:spcPct val="7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3560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Электронная модель 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сихологического мониторинга</a:t>
            </a:r>
            <a:br>
              <a:rPr sz="4500"/>
            </a:b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Примеры работы с программой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Электронная модель 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сихологического мониторинга</a:t>
            </a:r>
            <a:br>
              <a:rPr sz="3600"/>
            </a:b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Примеры работы с программой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Электронная модель 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сихологического мониторинга</a:t>
            </a:r>
            <a:br>
              <a:rPr sz="4900"/>
            </a:b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Примеры работы с программой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96908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Электронная модель 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сихологического мониторинга</a:t>
            </a:r>
            <a:br>
              <a:rPr sz="6500"/>
            </a:b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Примеры работы с программой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3" descr=""/>
          <p:cNvPicPr/>
          <p:nvPr/>
        </p:nvPicPr>
        <p:blipFill>
          <a:blip r:embed="rId1"/>
          <a:stretch/>
        </p:blipFill>
        <p:spPr>
          <a:xfrm>
            <a:off x="457200" y="2212920"/>
            <a:ext cx="8308800" cy="192096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лово </a:t>
            </a: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«мониторинг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» 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(от латинского «</a:t>
            </a: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monitor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»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в переводе означает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напоминающий или предостерегающий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нятие «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ониторинг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может рассматриваться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и как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onstantia"/>
              </a:rPr>
              <a:t>способ исследования реальности</a:t>
            </a: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, используемый в различных науках, 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и как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onstantia"/>
              </a:rPr>
              <a:t>способ обеспечения </a:t>
            </a: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управляющего звена своевременной и качественной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onstantia"/>
              </a:rPr>
              <a:t>информацией</a:t>
            </a: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 о состоянии системы и происходящих в ней процессах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онятие «мониторинг» </a:t>
            </a:r>
            <a:br>
              <a:rPr sz="4300"/>
            </a:br>
            <a:r>
              <a:rPr b="1" lang="ru-RU" sz="43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 научной литературе </a:t>
            </a:r>
            <a:br>
              <a:rPr sz="4300"/>
            </a:br>
            <a:r>
              <a:rPr b="1" lang="ru-RU" sz="43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80-ых годов XX века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500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общим образом обозначает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ую «деятельность по наблюдению», «систему повторных, целенаправленных наблюдений» или «методику и систему наблюдений»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сех определениях ключевым словом является слово «наблюдение». Позже, в более поздний период наблюдение сменяется на «контроль с периодическим слежением» или «процесс отслеживания информации по изучаемой системе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ониторинг – это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уровневая, иерархическа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ганизации, сбора, хранения обработки и распространения информации об обследуемой системе или отдельных её элементах, ориентированная на информационное обеспечение управления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ая позволяет суди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 состоянии объекта мониторинга в любой момент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обеспечить прогноз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го развити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77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сихологический мониторинг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79280" y="1557360"/>
            <a:ext cx="4608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дставляет собой систему постоянного отслеживания посредством психологической диагностики процесса личностного развития учащегося (ребенка), создания банка психологических данных на каждого учащегося (ребенка), проектирование индивидуальной психологической и педагогической траектории учащегося (ребенка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10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6588000" y="4437000"/>
            <a:ext cx="2152800" cy="2216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C:\Program Files\Common Files\Microsoft Shared\Clipart\cagcat50\PE01561_.wmf"/>
          <p:cNvPicPr/>
          <p:nvPr/>
        </p:nvPicPr>
        <p:blipFill>
          <a:blip r:embed="rId2"/>
          <a:stretch/>
        </p:blipFill>
        <p:spPr>
          <a:xfrm>
            <a:off x="4788000" y="1916280"/>
            <a:ext cx="3384360" cy="23349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Психологический мониторинг реализует следующие задачи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лучение максимально полной психологической информации, характеризующей образовательный процесс в школе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едоставление этой информации в наиболее удобном виде пользователям разного уровня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труктурирование системы психолого-педагогических коррекционных мероприятий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6" descr="C:\Program Files\Common Files\Microsoft Shared\Clipart\cagcat50\BD06663_.WMF"/>
          <p:cNvPicPr/>
          <p:nvPr/>
        </p:nvPicPr>
        <p:blipFill>
          <a:blip r:embed="rId1"/>
          <a:stretch/>
        </p:blipFill>
        <p:spPr>
          <a:xfrm>
            <a:off x="468360" y="1989000"/>
            <a:ext cx="3816360" cy="34164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При помощи психологического мониторинга отслеживаются следующие психологические критерии, показатели результативности образовательного процесса в школе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76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знавательная сфера ребенка (восприятие, память, внимание, мышление) и динамика ее развития, сформированность учебной деятельност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отивационная сфера и динамика ее развития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моционально-волевая сфера (уровень тревожности, активности) и динамика ее развития, влияние эмоционального состояния на процесс обучения, удовлетворенность различными сторонами образовательного процесс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личностная сфера (самооценка, потребность в достижении, уровень коммуникации, ценностные ориентации) и динамика ее развит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713800" cy="1514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Работа психологической службы ОУ в режиме психологического мониторинга осуществляется по следующим направлениям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сихологическая диагностика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&gt;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нализ результатов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&gt;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екомендации, консультация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&gt;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коррекционные мероприятия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&gt;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сихологическая диагностика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&gt;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нализ результатов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&gt;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екомендации, консультация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&gt;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коррекционные мероприятия и т.д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12" descr="C:\Program Files\Common Files\Microsoft Shared\Clipart\cagcat50\PE01194_.wmf"/>
          <p:cNvPicPr/>
          <p:nvPr/>
        </p:nvPicPr>
        <p:blipFill>
          <a:blip r:embed="rId1"/>
          <a:stretch/>
        </p:blipFill>
        <p:spPr>
          <a:xfrm>
            <a:off x="4788000" y="1989000"/>
            <a:ext cx="3887640" cy="417672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1T19:07:38Z</dcterms:created>
  <dc:creator>Admin</dc:creator>
  <dc:description/>
  <dc:language>en-US</dc:language>
  <cp:lastModifiedBy>LEGION</cp:lastModifiedBy>
  <dcterms:modified xsi:type="dcterms:W3CDTF">2014-11-12T09:35:24Z</dcterms:modified>
  <cp:revision>48</cp:revision>
  <dc:subject/>
  <dc:title>ПСИХОЛОГИЧЕСКИЙ МОНИТОРИНГ</dc:title>
</cp:coreProperties>
</file>