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E79D-359D-44D5-9C6A-DB41BC77E5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7933c"/>
                </a:solidFill>
                <a:latin typeface="Calibri"/>
              </a:rPr>
              <a:t>НОУ ВПО «Российский Новый Университет» (РосНОУ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СИХОЛОГИЧЕСКОЕ консульт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6822-50DE-459C-BC94-77D769D4B62E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DA9-33BF-443A-A6C6-52F56555A94D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Цель программы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По окончании обучения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по программе профессиональной переподготовки слушатели должны </a:t>
            </a:r>
            <a:r>
              <a:rPr b="0" i="1" lang="ru-RU" sz="2400" spc="-1" strike="noStrike">
                <a:solidFill>
                  <a:srgbClr val="77933c"/>
                </a:solidFill>
                <a:latin typeface="Calibri"/>
              </a:rPr>
              <a:t>уметь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диагностировать, применять имеющиеся методы исследования ли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ADBB-82A0-4B41-A13C-392661171BE3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Изучение дисциплин проводится </a:t>
            </a:r>
            <a:r>
              <a:rPr b="0" i="1" lang="ru-RU" sz="1200" spc="-1" strike="noStrike">
                <a:solidFill>
                  <a:srgbClr val="77933c"/>
                </a:solidFill>
                <a:latin typeface="Calibri"/>
              </a:rPr>
              <a:t>без отрыва 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о завершении обучения слушатели защищают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ыпускную  аттестационную работу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ED2F-EEFE-47CF-A98B-5A9D521B78F9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400" spc="-1" strike="noStrike">
                <a:solidFill>
                  <a:srgbClr val="77933c"/>
                </a:solidFill>
                <a:latin typeface="Calibri"/>
              </a:rPr>
              <a:t>присваивается право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5648-3B5F-487D-A2C1-773A1CE5D905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РАЗДЕЛЫ ПРОГРАММЫ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бщ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оциаль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озрастная психология и психологи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клинической психологии и психосо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Дифференциальная 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критически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ендер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психо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чески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ведение в практическую психолог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Индивидуаль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руппов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емей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ные направления в психоконсультировании и в психо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CE0D-871F-48A1-84A1-8C49DCA94018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1EB-1E55-4550-A323-D4285451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575-05B9-47A4-8B8E-C8ECCEEB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6F97A-D390-4DF1-A1E1-C5149562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B4658-948A-480E-A6A6-F7BDC9C5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A00FE-8AAC-41BB-8B1B-18E67966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6CE0E-9038-465F-BA9F-022AECF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B4F3B-C33A-433B-AA1A-6B7E4BC1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392F7-9C75-4BEF-B636-68464712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52B07-9100-4FF9-B64C-8BED2D40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20249-5A82-4EFC-A781-002E2DF7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BAF3A-812B-4A4F-B0D7-FF3208EA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3BC65-E717-43E0-8F7A-85205A12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EFA-5A56-47C8-BE0A-1F4EFFC0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140B0-A2FA-4AD9-865A-56D573AF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E2A83-DE42-4B53-9151-7DC356B8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9DDAF-AB0B-4937-9C9D-A242E309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B6293-85A5-4C5F-89F6-CCC9B59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B53DC-887F-4451-8B85-13652FFA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76B94-ADAF-4EBD-9667-E70D2660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1F4B4-C4B3-4174-9052-62B3817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78DB9-FB1C-4958-BD92-0080F3F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706C3-06D0-4F53-83C4-F82753D8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1CB7C-E3D9-4FFF-8012-14E98E45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4AF-40DF-4893-9A97-7AB0BDD1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53BD9-CB76-4795-AE1E-E0A3B096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A6DED-76BE-4799-B399-608E6F4A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01706-8E35-45E3-A078-CD0CEDE4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9D86E-A42B-40E6-853D-920ED441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C90C8-5767-4AAF-A23B-645E930D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D98F1-ABAC-4B02-8282-7A7FD389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DF2DD-28B5-4E8E-A917-2F6EE1B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BE270-3176-415F-8CB6-84B6703A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2CCE-6CF8-421C-BF36-ADF140E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E3F9B-85FE-4C84-BE52-2B05EA88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AFFB-2564-464C-A04C-54D47E57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766E0-BB10-4030-98A4-50EB6222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3E7CB-AB01-43AD-88EB-495E91E1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29904-11CC-42F3-95C4-2F6E0908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896CA-3F74-4AB4-9826-D36A9BCD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1C69F-A4F6-4E54-8042-D5CE79AC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A3E83-980B-41BA-98A0-ED41859B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44659-744E-45C4-84C2-4E4E2B02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3CD75-2843-4564-8F36-E8ECBCB4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782D7-6219-417C-9B64-BFE9B8EE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88867-63D5-42D1-A3B3-673AE533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B7AA-CA8B-4C4F-89DF-951FAF82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D51EB-2DD5-41AB-B656-677288F0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CC876-D293-495E-8F28-85EC03CD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C1C88-89BE-4F92-B097-B7B1EAEC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12020-BD79-49EE-95E1-2F0BEF6F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B6A4D-C9E5-423C-8823-0631E9F8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414C-8CEB-47CD-8D4A-66208607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D67C-27FA-4A8D-A4F5-3D3F2B41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3CCA-5FC7-489F-A8E1-920E9AD0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5E54-FF68-4CD7-B1B2-229DCC03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A0D7-C461-408D-8099-B8BA4CC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592-09C5-4DDC-B42B-CC0D988E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D3DB-52E3-41C0-9CCE-70C426F8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A915-B072-43E6-BBD6-2B709825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1392-9E71-4C67-9DA3-8911763B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61B9-71D0-4ACD-B0DB-3145269B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EE11-7279-41DC-9D31-0440BF26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05B4-10F7-4AC5-8521-F648581B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6225-BC25-43F2-8D05-2BC2BD23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7ABE-D6B9-43F4-A097-BCEF3B39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1EB7-B59A-4C26-8D4D-91B4B86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EAAC-1E62-440D-9DB9-9FE6F2E3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28D-29DC-4F5B-ABB4-1A37FF96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A2C6-8736-4001-9460-53406BE3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E875-9CE8-4CB0-98AD-EB5199C9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3797F-7FAB-4031-88F5-ECD8E72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A488-2F13-4D91-8DB6-8D48A710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B3A5-A21F-4931-AEC8-C51A7551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9E5D-C36A-4240-8F9F-C310AE2C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1BAB-FF30-4077-8A68-26B74FE8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0D35-32CC-42EE-8637-46688920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4A1A-DB40-4B29-AB9D-178739A6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BE32-5A72-45FE-8D9A-F5B3FEE6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F47-DC59-46B5-935B-44BF09E8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950B-8202-4754-AEDE-98DFF8C0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1605-796D-4544-BD72-65BD8D8F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8DFAC-BE17-4CAA-A3E9-9431DC0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3E1F8-A031-487B-9717-C015382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9E4D3-674F-499D-8A15-5B4A5AE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DE4E-5895-4F94-9E71-9D1535E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CDB8B-D8C8-4252-8033-9755BA03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A0A7-FE05-43FA-99C3-7E7587D9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122C-D230-45B3-879E-A0AC20A2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FAC83-BE1E-473F-8673-F4FF6351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F42-0231-4888-A206-14C78EB9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801CC-BDB6-4AAE-89D9-70ACD54F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C5A9-C786-4372-9D69-36AE2935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E2DC5-E9B5-4BE7-98A2-2BBDA10C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890FE-A1FB-40EC-BF5C-E0BA4EED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429A-476C-42B0-A8F8-B2CF2A67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79453-7AB4-4F28-A5A7-6703C31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E4EE2-6918-4565-9E72-8B8CFB8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80E37-16FF-4A98-962A-CB3C861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D867E-C5A1-49EA-99C1-BF95145E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9D32-8C04-4514-82F6-C3F86113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8F8-BD5C-4D91-A0E0-AACDEF92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DF6F9-A5DD-4B9B-AF12-6059AA04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6DD7D-06C7-4CF3-9057-7DA9FFA8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DF54A-8101-4769-9434-736A142E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8BFC-07E4-443E-8E10-C2BCCC81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E6877-86E5-4FE3-9EE9-1A6B9729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9977-21C8-4977-8256-B1EAB51F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BB2BD-7B28-45D6-8CFB-AAE15105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C7A2-E017-40BC-9D5B-3E1F1F0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165F7-D9E2-48BD-B810-BE52D249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D2EA-94B0-4C85-800B-DC7A2F4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072-1358-4E31-B7E1-45BEE3F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B7AFC-5C5D-406B-9C26-B428444A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2248-8B5E-48D9-9AE5-422E38D5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F5CC-AAD4-47EB-9283-FD42D837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BCE4E-CF62-4FEA-89AC-B8D7F5C8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78E7C-380F-4E7A-9E13-783BB17B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B001D-2D89-48E0-8015-B47E4E03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DA275-4BDD-4DBF-8C00-7F411CD2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53CE0-C7A2-4F71-BFCC-992A6A80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FB170-76E8-4EA1-B5F9-BF3F069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5E181-C481-416A-BB90-5BCA46D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D82-46D8-46CC-8B9A-038571F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8048B-7D40-4E45-A98D-A360D9A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CCF0E-AB72-4372-8FEF-8D58B7A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6A704-4E79-4E18-84DB-76CE5340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71308-27D5-47C1-B1C3-BAD5C44B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BAD9F-9877-4D3D-9A8A-771A3ED7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13948-3E35-48A7-8425-E8F38FC8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03E60-D148-43B2-96A5-E3E6FD77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0EF59-96DC-4241-B0A0-DC4E610A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6E68E-5C1F-4473-AF81-7F19ED10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8BC42-38C4-486C-8096-8B916CC9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B64-98AD-420A-A44C-0B5B2290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98470-1560-4FDB-AAC6-8B43ADBB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CD1BB-8543-45C0-A8B0-8465C4F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35EB3-5787-43F3-8C97-E60A4841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60C3-44B3-4BA3-B266-8BA46DAB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445EB-0EFC-4EF7-B954-CD86CACD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CDF79-4E92-41E5-AD60-E625D515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37F7E-D143-4BEA-B1B7-242A6149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EA743-20C5-477F-B0F8-4395EBA7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BA9DA-3915-48FC-A0AF-4562A196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1F234-96C7-4595-842C-2B6DD408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3E6B-1650-4031-9D51-D99BE6BE580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378C-7BAA-4220-9C41-8C19BD853F9C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83B8-45BD-4B76-8004-E358BD676383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496C-5085-46BF-BFBC-C99E6C1A116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5B78-8E5B-4123-A9E1-144923772D3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FD29-7860-4784-9F27-0B687584F9D5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2563-A24F-4BC3-B585-1576DF4B4AE8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2869-14F3-4F1D-B245-B4D019F6B1E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7885-84DC-4EB4-9D89-F639AB1AC1E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37CB-D58D-449F-A880-11E04C30A9E8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95B2-CBD8-439C-ADC5-41780762DA1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76A9-05E4-4879-B7A9-BC7C1FB9FAC9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C351-0642-4F28-B974-2BE6B407BD8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7594-2995-4B27-B541-02083EA717A3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6DA-CDB5-46A9-BEB8-A1512E17AB9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E1D7-3D5C-40DD-8C06-CEB3D68F580D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7C88-D6DC-43CC-877E-E25B2D5E4B1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EA71-E9FE-4E25-95F0-1E151EE3E8A3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31C-BB5B-45A1-8B20-E94E18CCF9F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46F4-D0BE-4FAF-9511-72ABF27B7C1E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8355-0CAB-43A7-A42E-EF2CA354D5E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9635-B07D-4E98-B99C-D6CE87B7790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CBB3-A063-4074-AC18-B989457CC3A6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243E-0F40-4FCD-ADA2-CACC6F5A969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ПСИХОЛОГИЧЕСКОЕ КОНСУЛЬТИР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Georgia"/>
              </a:rPr>
              <a:t>И</a:t>
            </a: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 ПСИХОКОРРЕК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НОУ ВПО «Российский Новый Университет» (РосНОУ)</a:t>
            </a:r>
            <a:endParaRPr b="0" lang="en-US" sz="14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15" name="Рисунок 3" descr="Bezymyannyjj.jpg"/>
          <p:cNvPicPr/>
          <p:nvPr/>
        </p:nvPicPr>
        <p:blipFill>
          <a:blip r:embed="rId1"/>
          <a:stretch/>
        </p:blipFill>
        <p:spPr>
          <a:xfrm>
            <a:off x="324000" y="622440"/>
            <a:ext cx="2809800" cy="17240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4" descr="Soy-Yer-Dough-Image-Blog123.jpg"/>
          <p:cNvPicPr/>
          <p:nvPr/>
        </p:nvPicPr>
        <p:blipFill>
          <a:blip r:embed="rId2"/>
          <a:stretch/>
        </p:blipFill>
        <p:spPr>
          <a:xfrm>
            <a:off x="5797440" y="622440"/>
            <a:ext cx="2876760" cy="172404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78920" y="1484280"/>
            <a:ext cx="8626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347640" y="1527120"/>
            <a:ext cx="5457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Цель программы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По окончании обучения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по программе профессиональной переподготовки слушатели должны </a:t>
            </a:r>
            <a:r>
              <a:rPr b="0" i="1" lang="ru-RU" sz="1700" spc="-1" strike="noStrike">
                <a:solidFill>
                  <a:srgbClr val="14425d"/>
                </a:solidFill>
                <a:latin typeface="Georgia"/>
              </a:rPr>
              <a:t>уметь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диагностировать, применять имеющиеся методы исследования личност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4" descr="x_da403202.jpg"/>
          <p:cNvPicPr/>
          <p:nvPr/>
        </p:nvPicPr>
        <p:blipFill>
          <a:blip r:embed="rId1"/>
          <a:stretch/>
        </p:blipFill>
        <p:spPr>
          <a:xfrm>
            <a:off x="249120" y="1487520"/>
            <a:ext cx="3170520" cy="2876400"/>
          </a:xfrm>
          <a:prstGeom prst="rect">
            <a:avLst/>
          </a:prstGeom>
          <a:ln w="0">
            <a:noFill/>
          </a:ln>
        </p:spPr>
      </p:pic>
      <p:sp>
        <p:nvSpPr>
          <p:cNvPr id="6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0560" y="1483920"/>
            <a:ext cx="55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Изучение дисциплин проводится </a:t>
            </a:r>
            <a:r>
              <a:rPr b="0" i="1" lang="ru-RU" sz="1800" spc="-1" strike="noStrike">
                <a:solidFill>
                  <a:srgbClr val="14425d"/>
                </a:solidFill>
                <a:latin typeface="Georgia"/>
              </a:rPr>
              <a:t>без отрыва 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о завершении обучения слушатели защищают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выпускную  аттестационную работу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Рисунок 3" descr="img1.png"/>
          <p:cNvPicPr/>
          <p:nvPr/>
        </p:nvPicPr>
        <p:blipFill>
          <a:blip r:embed="rId1"/>
          <a:stretch/>
        </p:blipFill>
        <p:spPr>
          <a:xfrm>
            <a:off x="5940360" y="1484280"/>
            <a:ext cx="2905200" cy="24098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4" descr="img3.png"/>
          <p:cNvPicPr/>
          <p:nvPr/>
        </p:nvPicPr>
        <p:blipFill>
          <a:blip r:embed="rId2"/>
          <a:stretch/>
        </p:blipFill>
        <p:spPr>
          <a:xfrm>
            <a:off x="5940360" y="3933720"/>
            <a:ext cx="2933640" cy="240984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250920" y="1412640"/>
            <a:ext cx="8555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800" spc="-1" strike="noStrike">
                <a:solidFill>
                  <a:srgbClr val="14425d"/>
                </a:solidFill>
                <a:latin typeface="Georgia"/>
              </a:rPr>
              <a:t>присваивается право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Diplom_PP_1.jpg"/>
          <p:cNvPicPr/>
          <p:nvPr/>
        </p:nvPicPr>
        <p:blipFill>
          <a:blip r:embed="rId1"/>
          <a:stretch/>
        </p:blipFill>
        <p:spPr>
          <a:xfrm>
            <a:off x="2255760" y="2700360"/>
            <a:ext cx="6291360" cy="362124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4" descr="artterapy5.jpg"/>
          <p:cNvPicPr/>
          <p:nvPr/>
        </p:nvPicPr>
        <p:blipFill>
          <a:blip r:embed="rId1"/>
          <a:stretch/>
        </p:blipFill>
        <p:spPr>
          <a:xfrm>
            <a:off x="4286160" y="2133720"/>
            <a:ext cx="4608720" cy="37432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6" descr="sayfa-zzsfva1hmi6ulvmyx65i3dqagn4zcc5m6iu5zgdxzmazqv875q.jpg"/>
          <p:cNvPicPr/>
          <p:nvPr/>
        </p:nvPicPr>
        <p:blipFill>
          <a:blip r:embed="rId2"/>
          <a:stretch/>
        </p:blipFill>
        <p:spPr>
          <a:xfrm>
            <a:off x="176040" y="189000"/>
            <a:ext cx="3316320" cy="1079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8" descr="k6024759.jpg"/>
          <p:cNvPicPr/>
          <p:nvPr/>
        </p:nvPicPr>
        <p:blipFill>
          <a:blip r:embed="rId3"/>
          <a:stretch/>
        </p:blipFill>
        <p:spPr>
          <a:xfrm>
            <a:off x="5651640" y="189000"/>
            <a:ext cx="331632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25056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   </a:t>
            </a: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РАЗДЕЛЫ ПРОГРАММЫ ПРОФЕССИОНАЛЬНОЙ ПЕРЕПОДГОТОВКИ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бщ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оциаль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личност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озрастная психология и психология развит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клинической психологии и психосома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Дифференциальная 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критических ситу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здоровь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ендер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психодиагнос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ческий практику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ведение в практическую психолог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Индивидуаль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руппов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емей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ные направления в психоконсультировании и в психокорре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3:33Z</dcterms:created>
  <dc:creator>ni-jakovleva</dc:creator>
  <dc:description/>
  <dc:language>en-US</dc:language>
  <cp:lastModifiedBy>LEGION</cp:lastModifiedBy>
  <dcterms:modified xsi:type="dcterms:W3CDTF">2014-11-12T09:35:57Z</dcterms:modified>
  <cp:revision>29</cp:revision>
  <dc:subject/>
  <dc:title>НОУ ВПО «Российский Новый Университет» (РосНОУ)</dc:title>
</cp:coreProperties>
</file>