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2AF0-42D4-4394-B061-98289BCE9B9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77933c"/>
                </a:solidFill>
                <a:latin typeface="Calibri"/>
              </a:rPr>
              <a:t>НОУ ВПО «Российский Новый Университет» (РосНОУ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СИХОЛОГИЧЕСКОЕ консульт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И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07DD-B2A9-4250-802E-E316EC9F6958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В настоящее время особую важность приобретает подготовка высококвалифицированных кадров психологов-консультантов для таких областей и сфер как образование, здравоохранение, социальная защита, спорт и  т.п., а также для решения широкого класса задач в системах управления, государственной службы и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Для подготовки таких кадров разработана программа профессиональной переподготовки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 Слушатели, прошедшие подготовку по данной программе, получают знания о психологических основах личности, навыки и умения по психодиагностике, консультированию, психокор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На данной программе обучающиеся знакомятся с различными направлениями в консультативной и психокоррекционной работе, овладеют методами и методиками психологического консультирования, проектирования приемов психологического воздействия и помощи личности, способствующих личностному росту, а также компенсации и коррекции отклонений в развити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90F6-D163-4D96-9180-38CBE4D5ECC7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Цель программы 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 - подготовка высококвалифицированных психологов-практиков, сочетающих достаточно высокий уровень с умениями анализировать и решать на практике широкий круг проблем: личных, межличностных, семейных, сексуальных, детских, родительских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По окончании обучения 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по программе профессиональной переподготовки слушатели должны </a:t>
            </a:r>
            <a:r>
              <a:rPr b="0" i="1" lang="ru-RU" sz="2400" spc="-1" strike="noStrike">
                <a:solidFill>
                  <a:srgbClr val="77933c"/>
                </a:solidFill>
                <a:latin typeface="Calibri"/>
              </a:rPr>
              <a:t>уметь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диагностировать, применять имеющиеся методы исследования лич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оказывать психологическую помощь лицам, испытывающим трудности личностного выбора, в ситуациях потери и горя, острой и хронической тревоги, стресса, при сниженной самооценке, неуверенности в себе, в ситуациях трудного выбора и многих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4B73-4E2B-4E7B-A2A1-B5714894E8A6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рограмма разработана для профессиональной переподготовки кадров, желающих получить навыки и умения в области психологического консультирования. Слушатели, проходящие обучение по данной программе, должны иметь высшее профессиональное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Изучение дисциплин проводится </a:t>
            </a:r>
            <a:r>
              <a:rPr b="0" i="1" lang="ru-RU" sz="1200" spc="-1" strike="noStrike">
                <a:solidFill>
                  <a:srgbClr val="77933c"/>
                </a:solidFill>
                <a:latin typeface="Calibri"/>
              </a:rPr>
              <a:t>без отрыва 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слушателей от работы (в группе выходного дня) и предполагает проведение лекционных, семинарских и тренинговых занятий для изучения теоретических и практических основ психологического консульт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о завершении обучения слушатели защищают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ыпускную  аттестационную работу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D1D4-8D6A-4BE7-A3C7-099F7E84C12D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лушателям, освоившим программу дополнительного профессионального образования и успешно прошедшим государственную итоговую аттестацию, </a:t>
            </a:r>
            <a:r>
              <a:rPr b="1" i="1" lang="ru-RU" sz="1400" spc="-1" strike="noStrike">
                <a:solidFill>
                  <a:srgbClr val="77933c"/>
                </a:solidFill>
                <a:latin typeface="Calibri"/>
              </a:rPr>
              <a:t>присваивается право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(соответствие квалификации) на ведение профессиональной деятельности в сфере психологического консультирования и психокор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50F7-A1A0-4F40-A439-C05F4FC0FBF3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7933c"/>
                </a:solidFill>
                <a:latin typeface="Calibri"/>
              </a:rPr>
              <a:t>   </a:t>
            </a:r>
            <a:r>
              <a:rPr b="1" lang="ru-RU" sz="1100" spc="-1" strike="noStrike">
                <a:solidFill>
                  <a:srgbClr val="77933c"/>
                </a:solidFill>
                <a:latin typeface="Calibri"/>
              </a:rPr>
              <a:t>РАЗДЕЛЫ ПРОГРАММЫ ПРОФЕССИОНАЛЬНОЙ ПЕРЕПОДГОТОВКИ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бщ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оциальн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озрастная психология и психологи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ы клинической психологии и психосо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Дифференциальная 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критических си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Гендерн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ы психо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ческий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ведение в практическую психолог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Индивидуальн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Группов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емейн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ные направления в психоконсультировании и в психокор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A98F-E522-4A8A-B77C-32791D52852B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AF7C-819C-45B6-8CDF-8B95FFD0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897-86CC-4AE9-BF8E-F95DF761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9733D-4DAD-4B96-A15B-B0777A52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FD32E-7507-4DDF-9444-E26B0897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1BF1B-EEE0-498B-984A-6494AEBF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0A39F-4E50-45AE-B043-4ABAD828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A58D4-09D2-4682-85D0-3C1316C7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84C9C-53BE-4BEA-BFD6-5EF7D781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9397F-77F1-4F73-9424-DC57776E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E4773-87B8-406B-BF1D-D3B4C5D1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0F914-F973-4C64-82B4-CEC1DA3E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66235F-FA4F-465E-BE6A-45683F78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E93-405E-4669-A660-1A3D0E9D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A6AD9-E93B-458D-B009-64C30335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28791-654D-401C-85C0-C5919CA7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14A17-AF2B-49B0-BF17-B13F6797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4A277-C482-4028-9489-B5A0FED8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E9F1B-89DA-4F66-9C14-8A04C283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2A81F-7C2D-4714-A356-142A1146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463D1-3DAE-4BFF-B16D-383BA8A0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C61F7-D4B4-4B00-82D2-376D8106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8982F-5738-43F5-9FA5-8319B120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725C0-AC30-4595-A466-7C5E7808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AD1-9A1A-47A4-A1CC-75B59863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8BD55-53D1-49AE-AF24-3C80A0A2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BFA76-B8AB-42A4-A076-DADF088A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D42F3-23B1-41FF-AE0A-C9414574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94030-AC6D-46D3-96E7-0A651677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90A39-2F7C-45D6-B670-CB6AD1E1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70F07-C2CE-4091-AC62-555FF187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D6FE3-C226-4A1F-A203-F5740DE0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94EA2-1D60-45D2-9D52-F9B41895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85D7B-FBF9-46B2-B18E-D4D13D6D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DE1E7-C8CA-4626-AAF7-9BE98C21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F01A-69B8-453B-8E19-B51FC477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C7DA3-F0DF-4563-BA76-678772A7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56404-0360-44A4-939C-AB8DB672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67D29-4418-4556-AEB6-E0AB4F1E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E966F-621E-4A4F-A68E-EA4ED727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CCED4-8F52-4805-B9D3-535CE1B2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B697D-91FF-4738-BBD7-E497D51A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8818A-C3AE-468A-9CD9-C9A34870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8208D-92BA-4F0E-854B-382763AF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B83F5-EB2B-422D-9C06-B5601079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CCA22-EB4E-4F55-9EE7-AE0C09AA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8796-E9CB-4A02-B8FE-1CA019AE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85A98-BD18-4F06-BDAB-E47D9806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F542F-EEEF-479C-A926-84926E26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04DC6-8AF6-4460-BE3B-BB72C0ED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35028D-ADB9-4C08-B25F-F264FA0B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815FB-9082-4369-9D20-1D33E0D2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A8F1-7BD7-4222-B770-161E5DB4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D1F1-D25B-41ED-84BC-ECEA8778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6B85-55BF-4AE0-AA45-316CAF8A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3BD7-FD33-423C-A1BD-AAEFC3D3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EF95-3727-4407-9850-B55EC813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D354-CDFD-4935-9DEE-2020657A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156C-B36A-4BEB-9CCA-FEFD9EDC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94C9-5F51-437F-8038-4A7C614F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460A-EA56-414E-A711-29F9A12A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FE98-E596-4857-9FDA-32F81A39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48CE-FF77-4E0E-AF34-C14B0AB3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2F562-865C-41E6-B512-F7ED01E5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3FEB2-2B1C-4AA7-A140-1A832514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43B8-ADF5-4F89-ABDD-A5063962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C306-C603-479A-9A7C-4F572BAC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5A0FD-23FC-4010-9282-D3DA1F77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AD3-9063-4A99-B1DE-BC8CE65A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02CDA-775E-40CF-8D27-A4319422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62A9-BFB2-4985-BA38-B44A9EEA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404B1-73E8-4A65-8203-387AE093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14249-7832-443D-B927-D999EAA8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5629C-E7A9-4C4E-9919-F4D029FA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616A-75B3-4AFE-9DA4-95C6C23C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BC467-1D69-42BD-9564-F3BD234D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0F6B6-E54A-4F49-AFB9-6C8E00A2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EF262-0A4F-4529-BCF1-6976FD8A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DC615-9895-4598-9C77-930E0533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C73-27DD-4405-912E-B5A651D1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6AB04-31B0-4020-9683-04B6BC96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3ACF2-3FDE-4C96-922F-E6BDE4FE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6CD58-3D95-407E-81FA-7007A4CB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3B869-F5FC-4A9E-A06C-1BCFDAFF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3437D-C953-4A4D-A658-FCE24282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8E328-98DD-4342-AA46-AC7B20A9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42756-B85C-424D-92D8-C4D86228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F9CCC-3423-4DB0-8995-B69C3037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6C30F-2427-4D2F-B270-AE45FF4C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869CD-DB43-4CB2-80B7-C02A46F6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2EF-623A-4E6B-8597-1DC5094B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25D33-079C-4E86-879E-ADC9FCAD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20992-03E1-494D-9268-90FBF700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FF93F-0FBC-4A86-AE09-CA6F4B96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AE702-AAD3-48BD-8620-E11A4C1F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5285F-FFF5-4511-B071-043209EF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2103B-AB48-4FBC-BE0E-42FB57B1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2E336-9E66-42C4-997D-8C81E07F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09151-7CDE-435E-A155-DEF8D6BF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4FEA2-964B-4B19-941C-99111A2B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00129-4D96-43C1-8EE0-6F5124D1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B4E-FFB5-4638-920C-75CC1E21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B548C-70D7-4748-BC3F-6E3E9E10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4844D-C170-4AD0-81C9-AE936C44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D8BC7-6340-4E9D-BC22-BEE10B17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2EFFF-486C-4303-A3C4-B471C569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AA158-3C9E-4850-AB89-7993DA88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B98B2-2766-4CC4-A400-B24DC464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73A55-F843-4F82-AADA-D26431C4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1F1B4-973D-4E6C-ADB1-62B78306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6EB8C-7603-434A-A03F-CC4E2EBE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1CBD5-A4F5-432A-A1E0-51B103E5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8FA-3DB1-4822-ABD9-0AEDC13F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ACF79-709B-4C2D-A1ED-97B3090D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159D9-2830-465E-9E1E-E42BD092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78603-053B-4D83-BCF2-9B4601F4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1D293-794A-4188-BF1F-427AEDF1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74EFE-2986-4ED6-9BF4-83AFA709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0D639-D993-4240-98A4-A3D65559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04295-3608-4C3D-A8CC-A5F9DCC4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F11EF-C004-457E-B5E0-305D1421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495AB-D0A7-43E3-8B75-82B3FA3B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D1F93-7F45-4AD7-8D57-DBE053FD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294-E992-4FA3-9AD3-EFC2401F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BABED-8CF8-4761-B9DB-CAFFDD81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246AB-3B38-4352-A4DB-533C6FF4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28FEC-BCD8-40F4-87CE-86CBB2CF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811B8-09C4-40A0-A9A3-9F9B8BBA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27CE9-F12C-467C-AAE3-2DF78487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CC3C7-2B15-469D-B7AB-2684C48D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AC027-63F4-4836-8BB1-102A8C59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2C081-B572-4936-AB30-A7EC12C5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47187-B9C3-4D17-927E-0940948B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8B7ED-4F11-415A-861A-7332EF84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A6C-03EF-4425-A340-B6673C13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A6E85-BC42-4B0F-973A-0C36F80C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ECAB2-8EC5-4AA9-9530-3AD452E2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E0176-7715-41A5-BE36-AF65559F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D4AE5-1226-436D-93F5-799D9151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388A6-EF0E-4361-B037-38EBAFD1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50DE6-C804-46A5-A786-612F7A9F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40C29-65AB-461B-AEF5-50883142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8B68A-448C-4021-B2B9-61A31EE3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6FDFB-1BB2-450B-84F1-B5166444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65E24-E74E-4977-ADA1-0AFA20B3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2FE5-0AC8-4EF6-BD87-06725DD3C3C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B2AA-B88A-487E-9363-43D3FE76BAC5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CB98-9B16-4BAC-8721-326F8725C7A8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6172-44F7-47BE-A206-AD49B2B93DB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B15A-D288-4877-9879-55968113E54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8A71-D57D-47D8-BBC9-787030A8E8EC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2B97-69BE-4353-B359-E04FF469D620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E05E-BDD2-452A-B348-AC9A2D77539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B88C-76E7-4FD6-BB66-125402A7767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943E-5583-425E-91B6-A99046A8D9C0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5498-EE39-43C1-99DD-FF9842E600F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C8B3-6763-4B67-A237-7DEF4EE8D29C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4EF3-AF4D-4B5D-AA4C-A0FEEC81E0F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0D27-9D0C-4D40-ABB4-CE4E5B0B42D2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1430-EB34-45DD-96B4-8FBE80444F2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3F27-6434-45EB-889F-8FFA81E4D4F4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A1E7-0CE7-44CD-A02D-0509D5E360E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409D-4AF8-4379-B2FA-64F97DD8C8B5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51B3-B351-4C78-A3CF-3F76AB533D1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BAA2-408A-49E9-8D19-EEA9D1EC56CE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70A3-D043-4F69-8715-8E67A06109B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E57D-477D-4E1E-9F40-CA71793C653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B581-B22B-4E3A-AE14-D430E3C4108B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6081-FE15-4E40-BACC-0B4AD5DD33F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7416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425d"/>
                </a:solidFill>
                <a:latin typeface="Georgia"/>
              </a:rPr>
              <a:t>ПСИХОЛОГИЧЕСКОЕ КОНСУЛЬТИРОВАН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Georgia"/>
              </a:rPr>
              <a:t>И</a:t>
            </a:r>
            <a:r>
              <a:rPr b="1" lang="ru-RU" sz="3200" spc="-1" strike="noStrike">
                <a:solidFill>
                  <a:srgbClr val="14425d"/>
                </a:solidFill>
                <a:latin typeface="Georgia"/>
              </a:rPr>
              <a:t> ПСИХОКОРРЕК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31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НОУ ВПО «Российский Новый Университет» (РосНОУ)</a:t>
            </a:r>
            <a:endParaRPr b="0" lang="en-US" sz="1400" spc="-1" strike="noStrike">
              <a:solidFill>
                <a:srgbClr val="164c6c"/>
              </a:solidFill>
              <a:latin typeface="Georgia"/>
            </a:endParaRPr>
          </a:p>
        </p:txBody>
      </p:sp>
      <p:pic>
        <p:nvPicPr>
          <p:cNvPr id="615" name="Рисунок 3" descr="Bezymyannyjj.jpg"/>
          <p:cNvPicPr/>
          <p:nvPr/>
        </p:nvPicPr>
        <p:blipFill>
          <a:blip r:embed="rId1"/>
          <a:stretch/>
        </p:blipFill>
        <p:spPr>
          <a:xfrm>
            <a:off x="324000" y="622440"/>
            <a:ext cx="2809800" cy="172404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4" descr="Soy-Yer-Dough-Image-Blog123.jpg"/>
          <p:cNvPicPr/>
          <p:nvPr/>
        </p:nvPicPr>
        <p:blipFill>
          <a:blip r:embed="rId2"/>
          <a:stretch/>
        </p:blipFill>
        <p:spPr>
          <a:xfrm>
            <a:off x="5797440" y="622440"/>
            <a:ext cx="2876760" cy="1724040"/>
          </a:xfrm>
          <a:prstGeom prst="rect">
            <a:avLst/>
          </a:prstGeom>
          <a:ln w="0">
            <a:noFill/>
          </a:ln>
        </p:spPr>
      </p:pic>
      <p:sp>
        <p:nvSpPr>
          <p:cNvPr id="617" name="Місце для нижнього колонтитула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178920" y="1484280"/>
            <a:ext cx="86266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В настоящее время особую важность приобретает подготовка высококвалифицированных кадров психологов-консультантов для таких областей и сфер как образование, здравоохранение, социальная защита, спорт и  т.п., а также для решения широкого класса задач в системах управления, государственной службы и социальной защиты населе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Для подготовки таких кадров разработана программа профессиональной переподготовки </a:t>
            </a:r>
            <a:r>
              <a:rPr b="1" lang="ru-RU" sz="18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 Слушатели, прошедшие подготовку по данной программе, получают знания о психологических основах личности, навыки и умения по психодиагностике, консультированию, психокоррекци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На данной программе обучающиеся знакомятся с различными направлениями в консультативной и психокоррекционной работе, овладеют методами и методиками психологического консультирования, проектирования приемов психологического воздействия и помощи личности, способствующих личностному росту, а также компенсации и коррекции отклонений в развитии личност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347640" y="1527120"/>
            <a:ext cx="5457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4425d"/>
                </a:solidFill>
                <a:latin typeface="Georgia"/>
              </a:rPr>
              <a:t>Цель программы 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 - подготовка высококвалифицированных психологов-практиков, сочетающих достаточно высокий уровень с умениями анализировать и решать на практике широкий круг проблем: личных, межличностных, семейных, сексуальных, детских, родительских и др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4425d"/>
                </a:solidFill>
                <a:latin typeface="Georgia"/>
              </a:rPr>
              <a:t>По окончании обучения 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по программе профессиональной переподготовки слушатели должны </a:t>
            </a:r>
            <a:r>
              <a:rPr b="0" i="1" lang="ru-RU" sz="1700" spc="-1" strike="noStrike">
                <a:solidFill>
                  <a:srgbClr val="14425d"/>
                </a:solidFill>
                <a:latin typeface="Georgia"/>
              </a:rPr>
              <a:t>уметь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диагностировать, применять имеющиеся методы исследования личности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оказывать психологическую помощь лицам, испытывающим трудности личностного выбора, в ситуациях потери и горя, острой и хронической тревоги, стресса, при сниженной самооценке, неуверенности в себе, в ситуациях трудного выбора и многих других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Рисунок 4" descr="x_da403202.jpg"/>
          <p:cNvPicPr/>
          <p:nvPr/>
        </p:nvPicPr>
        <p:blipFill>
          <a:blip r:embed="rId1"/>
          <a:stretch/>
        </p:blipFill>
        <p:spPr>
          <a:xfrm>
            <a:off x="249120" y="1487520"/>
            <a:ext cx="3170520" cy="2876400"/>
          </a:xfrm>
          <a:prstGeom prst="rect">
            <a:avLst/>
          </a:prstGeom>
          <a:ln w="0">
            <a:noFill/>
          </a:ln>
        </p:spPr>
      </p:pic>
      <p:sp>
        <p:nvSpPr>
          <p:cNvPr id="6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250560" y="1483920"/>
            <a:ext cx="554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Программа разработана для профессиональной переподготовки кадров, желающих получить навыки и умения в области психологического консультирования. Слушатели, проходящие обучение по данной программе, должны иметь высшее профессиональное образовани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Изучение дисциплин проводится </a:t>
            </a:r>
            <a:r>
              <a:rPr b="0" i="1" lang="ru-RU" sz="1800" spc="-1" strike="noStrike">
                <a:solidFill>
                  <a:srgbClr val="14425d"/>
                </a:solidFill>
                <a:latin typeface="Georgia"/>
              </a:rPr>
              <a:t>без отрыва 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слушателей от работы (в группе выходного дня) и предполагает проведение лекционных, семинарских и тренинговых занятий для изучения теоретических и практических основ психологического консультирова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По завершении обучения слушатели защищают </a:t>
            </a:r>
            <a:r>
              <a:rPr b="1" lang="ru-RU" sz="1800" spc="-1" strike="noStrike">
                <a:solidFill>
                  <a:srgbClr val="14425d"/>
                </a:solidFill>
                <a:latin typeface="Georgia"/>
              </a:rPr>
              <a:t>выпускную  аттестационную работу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Рисунок 3" descr="img1.png"/>
          <p:cNvPicPr/>
          <p:nvPr/>
        </p:nvPicPr>
        <p:blipFill>
          <a:blip r:embed="rId1"/>
          <a:stretch/>
        </p:blipFill>
        <p:spPr>
          <a:xfrm>
            <a:off x="5940360" y="1484280"/>
            <a:ext cx="2905200" cy="240984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4" descr="img3.png"/>
          <p:cNvPicPr/>
          <p:nvPr/>
        </p:nvPicPr>
        <p:blipFill>
          <a:blip r:embed="rId2"/>
          <a:stretch/>
        </p:blipFill>
        <p:spPr>
          <a:xfrm>
            <a:off x="5940360" y="3933720"/>
            <a:ext cx="2933640" cy="240984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250920" y="1412640"/>
            <a:ext cx="85550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Слушателям, освоившим программу дополнительного профессионального образования и успешно прошедшим государственную итоговую аттестацию, </a:t>
            </a:r>
            <a:r>
              <a:rPr b="1" i="1" lang="ru-RU" sz="1800" spc="-1" strike="noStrike">
                <a:solidFill>
                  <a:srgbClr val="14425d"/>
                </a:solidFill>
                <a:latin typeface="Georgia"/>
              </a:rPr>
              <a:t>присваивается право </a:t>
            </a: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(соответствие квалификации) на ведение профессиональной деятельности в сфере психологического консультирования и психокоррекц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Рисунок 3" descr="Diplom_PP_1.jpg"/>
          <p:cNvPicPr/>
          <p:nvPr/>
        </p:nvPicPr>
        <p:blipFill>
          <a:blip r:embed="rId1"/>
          <a:stretch/>
        </p:blipFill>
        <p:spPr>
          <a:xfrm>
            <a:off x="2255760" y="2700360"/>
            <a:ext cx="6291360" cy="3621240"/>
          </a:xfrm>
          <a:prstGeom prst="rect">
            <a:avLst/>
          </a:prstGeom>
          <a:ln w="0">
            <a:noFill/>
          </a:ln>
        </p:spPr>
      </p:pic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Рисунок 4" descr="artterapy5.jpg"/>
          <p:cNvPicPr/>
          <p:nvPr/>
        </p:nvPicPr>
        <p:blipFill>
          <a:blip r:embed="rId1"/>
          <a:stretch/>
        </p:blipFill>
        <p:spPr>
          <a:xfrm>
            <a:off x="4286160" y="2133720"/>
            <a:ext cx="4608720" cy="3743280"/>
          </a:xfrm>
          <a:prstGeom prst="rect">
            <a:avLst/>
          </a:prstGeom>
          <a:ln w="0">
            <a:noFill/>
          </a:ln>
        </p:spPr>
      </p:pic>
      <p:pic>
        <p:nvPicPr>
          <p:cNvPr id="631" name="Рисунок 6" descr="sayfa-zzsfva1hmi6ulvmyx65i3dqagn4zcc5m6iu5zgdxzmazqv875q.jpg"/>
          <p:cNvPicPr/>
          <p:nvPr/>
        </p:nvPicPr>
        <p:blipFill>
          <a:blip r:embed="rId2"/>
          <a:stretch/>
        </p:blipFill>
        <p:spPr>
          <a:xfrm>
            <a:off x="176040" y="189000"/>
            <a:ext cx="3316320" cy="1079280"/>
          </a:xfrm>
          <a:prstGeom prst="rect">
            <a:avLst/>
          </a:prstGeom>
          <a:ln w="0">
            <a:noFill/>
          </a:ln>
        </p:spPr>
      </p:pic>
      <p:pic>
        <p:nvPicPr>
          <p:cNvPr id="632" name="Рисунок 8" descr="k6024759.jpg"/>
          <p:cNvPicPr/>
          <p:nvPr/>
        </p:nvPicPr>
        <p:blipFill>
          <a:blip r:embed="rId3"/>
          <a:stretch/>
        </p:blipFill>
        <p:spPr>
          <a:xfrm>
            <a:off x="5651640" y="189000"/>
            <a:ext cx="3316320" cy="10792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25056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   </a:t>
            </a: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РАЗДЕЛЫ ПРОГРАММЫ ПРОФЕССИОНАЛЬНОЙ ПЕРЕПОДГОТОВКИ </a:t>
            </a: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бщ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Социальн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личност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Возрастная психология и психология развит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ы клинической психологии и психосоматик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Дифференциальная 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критических ситуаций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здоровь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Гендерн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ы психодиагностик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ческий практикум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Введение в практическую психологию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Индивидуальн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Группов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Семейн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ные направления в психоконсультировании и в психокоррекци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1:33:33Z</dcterms:created>
  <dc:creator>ni-jakovleva</dc:creator>
  <dc:description/>
  <dc:language>en-US</dc:language>
  <cp:lastModifiedBy>LEGION</cp:lastModifiedBy>
  <dcterms:modified xsi:type="dcterms:W3CDTF">2014-11-12T09:35:57Z</dcterms:modified>
  <cp:revision>29</cp:revision>
  <dc:subject/>
  <dc:title>НОУ ВПО «Российский Новый Университет» (РосНОУ)</dc:title>
</cp:coreProperties>
</file>