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DD8D-D7D7-4C60-A6D6-675DF2051B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77933c"/>
                </a:solidFill>
                <a:latin typeface="Calibri"/>
              </a:rPr>
              <a:t>НОУ ВПО «Российский Новый Университет» (РосНОУ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СИХОЛОГИЧЕСКОЕ консульт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И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3AAA-87AC-412D-AB51-B7059FF2B841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В настоящее время особую важность приобретает подготовка высококвалифицированных кадров психологов-консультантов для таких областей и сфер как образование, здравоохранение, социальная защита, спорт и  т.п., а также для решения широкого класса задач в системах управления, государственной службы и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Для подготовки таких кадров разработана программа профессиональной переподготовки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 Слушатели, прошедшие подготовку по данной программе, получают знания о психологических основах личности, навыки и умения по психодиагностике, консультированию, психокор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На данной программе обучающиеся знакомятся с различными направлениями в консультативной и психокоррекционной работе, овладеют методами и методиками психологического консультирования, проектирования приемов психологического воздействия и помощи личности, способствующих личностному росту, а также компенсации и коррекции отклонений в развит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46B7-EA4E-4B0D-A2EE-CE21C08C52DE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Цель программы 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 - подготовка высококвалифицированных психологов-практиков, сочетающих достаточно высокий уровень с умениями анализировать и решать на практике широкий круг проблем: личных, межличностных, семейных, сексуальных, детских, родительских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По окончании обучения 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по программе профессиональной переподготовки слушатели должны </a:t>
            </a:r>
            <a:r>
              <a:rPr b="0" i="1" lang="ru-RU" sz="2400" spc="-1" strike="noStrike">
                <a:solidFill>
                  <a:srgbClr val="77933c"/>
                </a:solidFill>
                <a:latin typeface="Calibri"/>
              </a:rPr>
              <a:t>уметь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диагностировать, применять имеющиеся методы исследования ли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оказывать психологическую помощь лицам, испытывающим трудности личностного выбора, в ситуациях потери и горя, острой и хронической тревоги, стресса, при сниженной самооценке, неуверенности в себе, в ситуациях трудного выбора и многих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C730-61AA-4646-8D72-296647674AF0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рограмма разработана для профессиональной переподготовки кадров, желающих получить навыки и умения в области психологического консультирования. Слушатели, проходящие обучение по данной программе, должны иметь высшее профессионально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Изучение дисциплин проводится </a:t>
            </a:r>
            <a:r>
              <a:rPr b="0" i="1" lang="ru-RU" sz="1200" spc="-1" strike="noStrike">
                <a:solidFill>
                  <a:srgbClr val="77933c"/>
                </a:solidFill>
                <a:latin typeface="Calibri"/>
              </a:rPr>
              <a:t>без отрыва 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слушателей от работы (в группе выходного дня) и предполагает проведение лекционных, семинарских и тренинговых занятий для изучения теоретических и практических основ психологического консульт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о завершении обучения слушатели защищают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ыпускную  аттестационную работу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903E-C35E-4C19-AAD4-A67DD9581525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лушателям, освоившим программу дополнительного профессионального образования и успешно прошедшим государственную итоговую аттестацию, </a:t>
            </a:r>
            <a:r>
              <a:rPr b="1" i="1" lang="ru-RU" sz="1400" spc="-1" strike="noStrike">
                <a:solidFill>
                  <a:srgbClr val="77933c"/>
                </a:solidFill>
                <a:latin typeface="Calibri"/>
              </a:rPr>
              <a:t>присваивается право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(соответствие квалификации) на ведение профессиональной деятельности в сфере психологического консультирования и психокор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0DBA-E010-45EA-8040-797603F7EAAF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7933c"/>
                </a:solidFill>
                <a:latin typeface="Calibri"/>
              </a:rPr>
              <a:t>   </a:t>
            </a:r>
            <a:r>
              <a:rPr b="1" lang="ru-RU" sz="1100" spc="-1" strike="noStrike">
                <a:solidFill>
                  <a:srgbClr val="77933c"/>
                </a:solidFill>
                <a:latin typeface="Calibri"/>
              </a:rPr>
              <a:t>РАЗДЕЛЫ ПРОГРАММЫ ПРОФЕССИОНАЛЬНОЙ ПЕРЕПОДГОТОВКИ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бщ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оциальн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озрастная психология и психологи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ы клинической психологии и психосо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Дифференциальная 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критических си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Гендерн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ы психо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чески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ведение в практическую психолог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Индивидуальн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Группов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емейн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ные направления в психоконсультировании и в психо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EBDC-ED7D-4B01-88F1-B171DFFD7A15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937-1108-4344-B514-BA7D2A44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E7C-D940-4A95-AE39-54E6DD82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A5C48-A431-46B6-8271-3C149D59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44697-F4A9-4C8B-A985-79892463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A1CF3-E302-4952-98C8-FF38A3DD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93D7D-DBB7-479D-9034-0FE253CA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686E4-AA1C-4AAC-90C3-9DC25B53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9803D-06FB-4681-B472-0A9DEEE7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BCC50-05E3-4453-B437-A1952760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E2830-A7D8-4332-A2DE-44339562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AED6EB-5FD4-4149-A804-87B6F213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17E1F-A8AA-42DA-AB9A-56BD08CC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C55-348A-48EC-A006-EDD12DBF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EDD47-F419-4C20-9BC8-38527E2E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2E584-2E72-4813-A522-F551B298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BE783-9BA0-4D4E-B0D7-EE258F43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BCE053-AAD5-45BE-80DB-1B4CC2AF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8DC8E2-11D7-4415-82D5-6C8C32E0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5166E2-A281-4B66-8793-3D212798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AA08A-CC9F-4930-980C-6549539C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F9B64-1B1E-4A1B-8E10-D49EE71B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D71A3-A3FE-4E69-A584-CEDA10AD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96748A-2112-4F2A-A049-5D8386AF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A9A-8D64-4D4D-94B4-F755D96B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0EF5B-5D97-45C1-8202-2A6FDDFA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72F13-FD9E-4364-8ED8-6F053E51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67EFE-5F97-4190-9594-1B59BC03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DC17E-7F73-444E-B5FC-0C2A4D5C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47E60-E00D-4E03-91DF-4FA8C931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DA08B-90AC-4934-BD47-9A0E4065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D74BB-6E1D-4D5D-87AE-07EEC36E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E32E6-A275-445C-8130-67E9406A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45115-F08E-4BDD-AF47-2F2A2BF3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A9FD4-FD89-4844-9598-A9CDD85B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D477-9BA0-46D5-A187-0316928E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C4263-CDC8-4165-AB62-4D461F43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571E3-EE7A-4692-A013-5418D5A9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4ABF4-A724-4D4E-9A1F-6806F2B2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F68AC3-CB14-4324-A4C8-DEA74687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F10BC-3090-47DB-B8D7-F5D6AE66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5913D-CBA5-47DC-81A0-3A9C7440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02C65-C3EC-4AF1-9910-644B625A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1436F-0FE5-4B11-AFA1-F523A5A2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1D3496-7CE9-4480-AE24-C5DA9543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B373F-A5B6-4DDC-9F12-604F0814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99F3-D047-4BE9-A45B-13088530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134971-C763-4093-954E-853CF47C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28009B-9CC8-40C6-801D-BCBAA1A6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FF08A-8113-4663-A622-2CBD7816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1A6BD-0F5D-45B2-B679-8B56B2C7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9D90E-446D-4809-9487-2F3D6A75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EE3E-DD47-4336-AA89-E46C2AB5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EDB2-20BE-497C-92A0-53B39140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FC0F-CB9F-4B7C-9124-D3D116B0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5E1F-72BA-46D3-A7A2-E9D8B187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42B6-9AF9-496C-9C83-64D54999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EDA-1776-4CC3-9C14-D2A391FA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56AF-D6A4-4CD7-98B5-866A4E26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1D80-2908-4D7C-8AE1-1F784D57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A83A-4419-434A-AA4E-DEA0CB27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B900-BA2B-435B-A0CE-57D850F3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A55E-527B-4E79-A1F4-3146FD07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2669-CAFA-4489-852F-CB1A8B84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C4642-A851-489A-9863-EB44F712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6F1D-D9E5-42FC-BC97-D560413D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0913-9040-48DD-9CB5-3C05FD9D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E258F-8872-4E59-A25D-8263D638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BE3-929E-4747-B0E5-BBD2D08F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51B06-999D-4CB7-B381-50BD51B3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0F295-FAC3-428A-B519-956C1F3A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83D78-F925-4691-901C-3B538ED3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EBDDA-A47B-4C41-A900-14D7C1B1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6A1CA-D481-4EE2-8510-6DC7301F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D7E0B-90A5-44E4-AB50-2D8CB196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F3B67-E01D-43A3-B630-B89A8D08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B80B7-6C98-462D-98DC-B357DAC6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224EA-FC8E-4E0F-A8CA-9C258314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65675-2F50-4E30-9CA0-C92A677C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6EB-382C-4A8E-AEDA-2D8B3271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C4276-86F6-491E-A02B-6337B769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08FC7-AD56-4D42-99BD-9536E9CB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32625-2955-4677-A7D7-D1328695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E578C-FA6F-4AA6-8FD2-F4837CD9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ED96C-B645-491F-B755-8CB1E62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F3680-E294-437D-A467-BD0F2189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6D694-0D64-4F02-ABE5-A91EA696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E61E5-8408-4492-B379-6AF5ADA0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587C5-2CD4-4620-8F8F-F6118F0D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1717E-697B-46B6-BB57-31C23D90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8F7-B5B1-47B9-89B3-2DAA9B2A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4491C-A44E-4F6D-86C3-6BA1A15C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CE646-3002-4D4A-B9BD-F9189687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E60AA-7E38-4BFF-BF7F-AB3C3EB8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A915B-F5DF-4703-A17A-52AA32CD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4112F-B9DC-46D6-9213-4CDA0121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27AC0-5CE1-4729-B13E-B72AEEF7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16A4F-B064-45DE-AE3A-F518A6E3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1C1FF-FDA1-4325-B57D-53980C75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5D8B3-2233-47C7-93BB-C8CE8D75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D5E6A-7528-4037-8836-D4B50C42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538-1592-4E3A-BF73-DF88E21C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B0907-83AF-4BCF-B5BC-EA54F73E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3FA4A-774E-4FA1-804D-E5A832F2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E8ED7-0BBF-4C96-83A2-D2B8C9DB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67739-954C-45C4-8F28-430697EF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8B42F-1DC1-42D8-A734-7CAFD417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8BB8D-F3A3-4618-B56C-A5B17C61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49FA7-4CBE-4ED2-A914-13814E8C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08C68-8F1E-451B-B5A6-13D6BC32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4F09B-734B-45FD-B314-F34C11CC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DC6E9-BF6C-4CC4-B38C-1CD1AD44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8A7B-86AF-465D-9E95-6D457AEF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B4AA4-6AFD-4DE1-8246-F5163A2E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393B1-3CD3-4F58-8F14-EF9963D1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C92CA-7E9C-4913-A756-602CFC7A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AA470-6665-420C-A347-0AF2860B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2D0BF-73D0-4ED8-B43A-44550807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3779B-0956-4508-BCDE-80495000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23507-EA59-451A-BD98-3D2A80E3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40DF0-2356-487E-B6D5-1DE88CF9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45D50-1F0A-4DC9-AF97-F0D868F9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674C7-6C7A-4755-AAFD-3AD5AB99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321-983B-440A-88D9-635C60B0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C8842-2F6A-42A9-A8E1-3BF19C0B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E3604-129F-4A19-98C9-5C1A500A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35955-F4D1-4F79-888B-8B65BD7E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8D063-8371-4503-AB05-0E239F19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D78F9-299D-4B96-A64A-2AF76C76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3E2B6-E96C-4018-92F2-2225ED1F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FB6CB-F9FC-4D98-8BBF-BAB7B0E5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59A67-CFFB-487F-AE0A-7799F8A3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0632F-5B41-4CA7-AB6D-F7345B54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97764-8C8C-4D9B-9567-F3011EE0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E02-3214-44F9-B20A-15C7C5EC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98F2D-13A8-483E-AA86-DE9555D1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2A88D-444A-4022-85C1-67250036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7A057-CC2B-4C45-8B8E-403DD646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90E6D-5407-4A03-A947-EC1E5C12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4F0FD-A810-4F37-92AD-A14AF402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4342B-F23B-4A8D-82CB-1C135FE9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0235A-8CCA-44A4-91D0-374F1572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42B08-703A-4BF5-9ED3-0BA4AEC2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16D05-E124-4091-A7B5-CFFB43B8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B05B2-11B7-462B-A364-90BE9321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3918-A071-4514-8E07-D4BF7583F36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A05F-49B2-4499-9C9E-501DEBFAEC78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4C22-ABFB-4816-9FA4-A977852862BA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AB52-5DDC-4A91-A217-D72D0FFCC14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48A0-646C-4FBB-9E90-4C1E30DF669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F5D0-EBFB-441E-B4A9-73D6C51FF453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BE25-3DFE-4FFE-B83E-18190293DA79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75D4-33A9-42B5-89AB-B42FFCD094B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EA88-7154-4DC1-82E6-24D170D1B4E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46B7-42E2-40B3-8F43-116B101AAF32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4EDF-4A11-4F2A-91E6-5190A2DC235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6589-FFC8-4FEA-922D-47153D7A6D7E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ED8D-8E4A-4A70-9FAC-530017CA803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516D-B331-46E0-9F25-8B74D8F4E10B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C754-197B-4984-9B3E-D6119B8A3C3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0A8E-7418-4504-89F9-EDF7A09E4516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78F1-7D17-46A3-AF24-DE249288B45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D4A8-E446-4AEF-BFD9-343222CB10F1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F604-CD88-4A80-AC7B-AEAC8A9F9AA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C02E-6DE5-47E9-8897-51BAD58E67C9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8F2D-7441-4A14-8299-03A57A3FE00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85E7-A494-440B-8754-43E6AD454B4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E17F-E7D8-4A00-A583-C6E64796DBC7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6928-6ABD-48F8-A846-7BC4A0FDFE5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7416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425d"/>
                </a:solidFill>
                <a:latin typeface="Georgia"/>
              </a:rPr>
              <a:t>ПСИХОЛОГИЧЕСКОЕ КОНСУЛЬТИРОВАН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Georgia"/>
              </a:rPr>
              <a:t>И</a:t>
            </a:r>
            <a:r>
              <a:rPr b="1" lang="ru-RU" sz="3200" spc="-1" strike="noStrike">
                <a:solidFill>
                  <a:srgbClr val="14425d"/>
                </a:solidFill>
                <a:latin typeface="Georgia"/>
              </a:rPr>
              <a:t> ПСИХОКОРРЕК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31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НОУ ВПО «Российский Новый Университет» (РосНОУ)</a:t>
            </a:r>
            <a:endParaRPr b="0" lang="en-US" sz="1400" spc="-1" strike="noStrike">
              <a:solidFill>
                <a:srgbClr val="164c6c"/>
              </a:solidFill>
              <a:latin typeface="Georgia"/>
            </a:endParaRPr>
          </a:p>
        </p:txBody>
      </p:sp>
      <p:pic>
        <p:nvPicPr>
          <p:cNvPr id="615" name="Рисунок 3" descr="Bezymyannyjj.jpg"/>
          <p:cNvPicPr/>
          <p:nvPr/>
        </p:nvPicPr>
        <p:blipFill>
          <a:blip r:embed="rId1"/>
          <a:stretch/>
        </p:blipFill>
        <p:spPr>
          <a:xfrm>
            <a:off x="324000" y="622440"/>
            <a:ext cx="2809800" cy="172404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4" descr="Soy-Yer-Dough-Image-Blog123.jpg"/>
          <p:cNvPicPr/>
          <p:nvPr/>
        </p:nvPicPr>
        <p:blipFill>
          <a:blip r:embed="rId2"/>
          <a:stretch/>
        </p:blipFill>
        <p:spPr>
          <a:xfrm>
            <a:off x="5797440" y="622440"/>
            <a:ext cx="2876760" cy="1724040"/>
          </a:xfrm>
          <a:prstGeom prst="rect">
            <a:avLst/>
          </a:prstGeom>
          <a:ln w="0">
            <a:noFill/>
          </a:ln>
        </p:spPr>
      </p:pic>
      <p:sp>
        <p:nvSpPr>
          <p:cNvPr id="617" name="Місце для нижнього колонтитула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178920" y="1484280"/>
            <a:ext cx="86266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В настоящее время особую важность приобретает подготовка высококвалифицированных кадров психологов-консультантов для таких областей и сфер как образование, здравоохранение, социальная защита, спорт и  т.п., а также для решения широкого класса задач в системах управления, государственной службы и социальной защиты населе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Для подготовки таких кадров разработана программа профессиональной переподготовки </a:t>
            </a:r>
            <a:r>
              <a:rPr b="1" lang="ru-RU" sz="18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 Слушатели, прошедшие подготовку по данной программе, получают знания о психологических основах личности, навыки и умения по психодиагностике, консультированию, психокоррекци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На данной программе обучающиеся знакомятся с различными направлениями в консультативной и психокоррекционной работе, овладеют методами и методиками психологического консультирования, проектирования приемов психологического воздействия и помощи личности, способствующих личностному росту, а также компенсации и коррекции отклонений в развитии личност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347640" y="1527120"/>
            <a:ext cx="5457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4425d"/>
                </a:solidFill>
                <a:latin typeface="Georgia"/>
              </a:rPr>
              <a:t>Цель программы 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 - подготовка высококвалифицированных психологов-практиков, сочетающих достаточно высокий уровень с умениями анализировать и решать на практике широкий круг проблем: личных, межличностных, семейных, сексуальных, детских, родительских и др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4425d"/>
                </a:solidFill>
                <a:latin typeface="Georgia"/>
              </a:rPr>
              <a:t>По окончании обучения 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по программе профессиональной переподготовки слушатели должны </a:t>
            </a:r>
            <a:r>
              <a:rPr b="0" i="1" lang="ru-RU" sz="1700" spc="-1" strike="noStrike">
                <a:solidFill>
                  <a:srgbClr val="14425d"/>
                </a:solidFill>
                <a:latin typeface="Georgia"/>
              </a:rPr>
              <a:t>уметь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диагностировать, применять имеющиеся методы исследования личности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оказывать психологическую помощь лицам, испытывающим трудности личностного выбора, в ситуациях потери и горя, острой и хронической тревоги, стресса, при сниженной самооценке, неуверенности в себе, в ситуациях трудного выбора и многих других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Рисунок 4" descr="x_da403202.jpg"/>
          <p:cNvPicPr/>
          <p:nvPr/>
        </p:nvPicPr>
        <p:blipFill>
          <a:blip r:embed="rId1"/>
          <a:stretch/>
        </p:blipFill>
        <p:spPr>
          <a:xfrm>
            <a:off x="249120" y="1487520"/>
            <a:ext cx="3170520" cy="2876400"/>
          </a:xfrm>
          <a:prstGeom prst="rect">
            <a:avLst/>
          </a:prstGeom>
          <a:ln w="0">
            <a:noFill/>
          </a:ln>
        </p:spPr>
      </p:pic>
      <p:sp>
        <p:nvSpPr>
          <p:cNvPr id="6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250560" y="1483920"/>
            <a:ext cx="554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Программа разработана для профессиональной переподготовки кадров, желающих получить навыки и умения в области психологического консультирования. Слушатели, проходящие обучение по данной программе, должны иметь высшее профессиональное образовани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Изучение дисциплин проводится </a:t>
            </a:r>
            <a:r>
              <a:rPr b="0" i="1" lang="ru-RU" sz="1800" spc="-1" strike="noStrike">
                <a:solidFill>
                  <a:srgbClr val="14425d"/>
                </a:solidFill>
                <a:latin typeface="Georgia"/>
              </a:rPr>
              <a:t>без отрыва 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слушателей от работы (в группе выходного дня) и предполагает проведение лекционных, семинарских и тренинговых занятий для изучения теоретических и практических основ психологического консультирова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По завершении обучения слушатели защищают </a:t>
            </a:r>
            <a:r>
              <a:rPr b="1" lang="ru-RU" sz="1800" spc="-1" strike="noStrike">
                <a:solidFill>
                  <a:srgbClr val="14425d"/>
                </a:solidFill>
                <a:latin typeface="Georgia"/>
              </a:rPr>
              <a:t>выпускную  аттестационную работу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Рисунок 3" descr="img1.png"/>
          <p:cNvPicPr/>
          <p:nvPr/>
        </p:nvPicPr>
        <p:blipFill>
          <a:blip r:embed="rId1"/>
          <a:stretch/>
        </p:blipFill>
        <p:spPr>
          <a:xfrm>
            <a:off x="5940360" y="1484280"/>
            <a:ext cx="2905200" cy="240984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4" descr="img3.png"/>
          <p:cNvPicPr/>
          <p:nvPr/>
        </p:nvPicPr>
        <p:blipFill>
          <a:blip r:embed="rId2"/>
          <a:stretch/>
        </p:blipFill>
        <p:spPr>
          <a:xfrm>
            <a:off x="5940360" y="3933720"/>
            <a:ext cx="2933640" cy="240984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250920" y="1412640"/>
            <a:ext cx="85550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Слушателям, освоившим программу дополнительного профессионального образования и успешно прошедшим государственную итоговую аттестацию, </a:t>
            </a:r>
            <a:r>
              <a:rPr b="1" i="1" lang="ru-RU" sz="1800" spc="-1" strike="noStrike">
                <a:solidFill>
                  <a:srgbClr val="14425d"/>
                </a:solidFill>
                <a:latin typeface="Georgia"/>
              </a:rPr>
              <a:t>присваивается право </a:t>
            </a: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(соответствие квалификации) на ведение профессиональной деятельности в сфере психологического консультирования и психокоррек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Рисунок 3" descr="Diplom_PP_1.jpg"/>
          <p:cNvPicPr/>
          <p:nvPr/>
        </p:nvPicPr>
        <p:blipFill>
          <a:blip r:embed="rId1"/>
          <a:stretch/>
        </p:blipFill>
        <p:spPr>
          <a:xfrm>
            <a:off x="2255760" y="2700360"/>
            <a:ext cx="6291360" cy="3621240"/>
          </a:xfrm>
          <a:prstGeom prst="rect">
            <a:avLst/>
          </a:prstGeom>
          <a:ln w="0">
            <a:noFill/>
          </a:ln>
        </p:spPr>
      </p:pic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Рисунок 4" descr="artterapy5.jpg"/>
          <p:cNvPicPr/>
          <p:nvPr/>
        </p:nvPicPr>
        <p:blipFill>
          <a:blip r:embed="rId1"/>
          <a:stretch/>
        </p:blipFill>
        <p:spPr>
          <a:xfrm>
            <a:off x="4286160" y="2133720"/>
            <a:ext cx="4608720" cy="3743280"/>
          </a:xfrm>
          <a:prstGeom prst="rect">
            <a:avLst/>
          </a:prstGeom>
          <a:ln w="0">
            <a:noFill/>
          </a:ln>
        </p:spPr>
      </p:pic>
      <p:pic>
        <p:nvPicPr>
          <p:cNvPr id="631" name="Рисунок 6" descr="sayfa-zzsfva1hmi6ulvmyx65i3dqagn4zcc5m6iu5zgdxzmazqv875q.jpg"/>
          <p:cNvPicPr/>
          <p:nvPr/>
        </p:nvPicPr>
        <p:blipFill>
          <a:blip r:embed="rId2"/>
          <a:stretch/>
        </p:blipFill>
        <p:spPr>
          <a:xfrm>
            <a:off x="176040" y="189000"/>
            <a:ext cx="3316320" cy="1079280"/>
          </a:xfrm>
          <a:prstGeom prst="rect">
            <a:avLst/>
          </a:prstGeom>
          <a:ln w="0">
            <a:noFill/>
          </a:ln>
        </p:spPr>
      </p:pic>
      <p:pic>
        <p:nvPicPr>
          <p:cNvPr id="632" name="Рисунок 8" descr="k6024759.jpg"/>
          <p:cNvPicPr/>
          <p:nvPr/>
        </p:nvPicPr>
        <p:blipFill>
          <a:blip r:embed="rId3"/>
          <a:stretch/>
        </p:blipFill>
        <p:spPr>
          <a:xfrm>
            <a:off x="5651640" y="189000"/>
            <a:ext cx="3316320" cy="10792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25056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   </a:t>
            </a: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РАЗДЕЛЫ ПРОГРАММЫ ПРОФЕССИОНАЛЬНОЙ ПЕРЕПОДГОТОВКИ </a:t>
            </a: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бщ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Социальн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личност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Возрастная психология и психология развит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ы клинической психологии и психосоматик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Дифференциальная 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критических ситуаций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здоровь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Гендерн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ы психодиагностик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ческий практикум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Введение в практическую психологию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Индивидуальн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Группов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Семейн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ные направления в психоконсультировании и в психокоррекци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1:33:33Z</dcterms:created>
  <dc:creator>ni-jakovleva</dc:creator>
  <dc:description/>
  <dc:language>en-US</dc:language>
  <cp:lastModifiedBy>LEGION</cp:lastModifiedBy>
  <dcterms:modified xsi:type="dcterms:W3CDTF">2014-11-12T09:35:57Z</dcterms:modified>
  <cp:revision>29</cp:revision>
  <dc:subject/>
  <dc:title>НОУ ВПО «Российский Новый Университет» (РосНОУ)</dc:title>
</cp:coreProperties>
</file>