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67FE-BB66-40AF-BAD9-B81DACB980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EF38-1D46-4F98-B681-8AEFE88182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Психологическое сопровождение в условиях дополнительного образования (отчет об инновационной  деятельности МОУ ДОД ДДиЮ «Факел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DEF4-9F30-4393-8A63-47019FFB8F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</a:rPr>
              <a:t>Направления деятельности и формы психологического сопрово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 объектом психологическ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провождения в учреждении дополнитель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ния является микрогруппа (7-12 человек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авило участники одного объединения. Форм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ого сопровождения реализую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 с педагогами (кураторами, классны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ями, педагогами дополнитель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ния),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которые одновременно  являются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ициаторами  запроса на психологические услуг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помощниками в реализации данных услуг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747C-7495-4028-B428-EE35FCBD8D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Система психологического сопровождения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12DE-F3F2-4AB7-B4CB-E19F15692E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Сопровождение творческих объединений  ДД и Ю «Факел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ACBE-304E-45DD-80E8-C94A9777EA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Пример психологического сопровождения ребёнка в рамках сопровождения творческого объед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оман, дошкольни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диагностической карте отмечаются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обенности поведения: обидчив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эмоциональная неустойчивость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гативизм (делает все наоборот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оворит слова «не хочу» или «н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уду»), а также  нерешительность 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еакцию новизны, иногда ситуац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стного опроса, избегание умстве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силий и непонимание слож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струк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7465-AC14-46B9-A62F-E87D75FEA3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Пример психологического сопровождения ребёнка в рамках сопровождения творческого объед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B827-3903-4564-8F08-A1697CF130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Пример психологического сопровождения ребёнка в рамках сопровождения творческого объед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7D0A-6594-4F00-9D47-E9E1DFC8F7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Сопровождение детей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«группы рис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 ДДиЮ «Факел» в 2006-2007 учебном году 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реализованы следующие виды деятельности с детьми «групп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риска»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информирование и консультирование по социальным и психологическим вопросам. Всего проведено: 213 консультаций 104 подростков и 98 родителей детей «группы риска», а также проведена индивидуальная работа с 18 педагогами О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оциальный патронаж детей и подростков. На социальном –патронаже в 2006-2007 состояли 17 детей и подростков «группы риска»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оциально-педагогическое диагностирование на предмет выявления девиаций, определения степени поведенческих отклонений, уточнение социально –психологических характеристик проведено с 465 детьми и подростк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раткосрочные и долгосрочные программы, направленные на профилактику девиантного пове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FB85-0D97-4F4C-9DBF-3D99CDA851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Сопровождение детей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«группы рис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пециалисты ДДиЮ «Факел» принимают участ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 организации и проведении социально-педагогических консилиумов (советы по профилактике в ОУ, еженедельные заседания КДН). Всего специалисты посетили 12 Советов по профилактике на базе ОУ, 2 социально- педагогических консилиума, более 54 заседаний КДН и ЗП Кировского и Советского рай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рупповые и индивидуальные формы работы с детьми реализуются как на базе Центра «Альтернатива» при ДД и Ю «Факел», так и на базе ОУ и учреждений социальной защиты (детские дома, реабилитационные центры, специализированные учреждения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1715-C8C7-48BA-B1EC-BAC91A6D17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Сопровождение   сопровождающ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взаимодействия специалистов, а также создание и поддерживание в коллективе сопровождающих атмосферу всеобщей заинтересованности в результатах труда; взаимопонимания и взаимного уважения к профессиональным  и личностным качествам колле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ение специалистов в новой логике взаимодействия; в методологии комплексности и мультидисциплинарности в решении проблем ребенка и его семь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B2E7-B618-49BA-9350-A43EBEAE84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Психологическое сопровождение процесса повышения профессиональной компетентности педагог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4DF0-FB1F-4BB4-A11B-2634BCCF9C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Цель психологического сопрово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ой целью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сихологическ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провождения в ДД и Ю «Факел» являе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ая помощь процесс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изации личности, обеспечивающ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рмонизацию отношений ребенка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а, развитие творческого потенциа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дагогического и детского коллектив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реждения, выявление перспектив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я вариативного образ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79B8-5CCB-4C24-9EDF-AA161F7EE7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Сопровождение сопровождающих: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взаимодействие с психологами, педагог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208F-2B76-48A2-A8A2-57CD210DE9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Формы взаимодействия с образовательными учрежден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оставление услуг ДД и Ю «Факел» в виде списка предлагаемых мероприятий (образовательные программы, лектории и тренинги для всех целевых групп, консультирование, проведение массовых акци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нирование мероприятий с образовательными учреждениями  в течение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ление психологического сопровождения (реализация программ, ведение консультаций, социальное проектирование, психодиагностик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ка результатов и подведение итогов в течение года и  корректировка взаимо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61F0-FC3F-4CD0-B293-2441849DC7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</a:rPr>
              <a:t>Психологическое сопровождение проек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ельным направлени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ого сопровожд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ется взаимодействие с участник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ов, реализуемых ДДиЮ «Факел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а социального успеха «Переменк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ефон доверия «Берег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ти – дет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33F4-2F67-47C3-BFDB-600C33C482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EDF6-2D41-4815-A2FD-789927FC90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Verdana"/>
              </a:rPr>
              <a:t>Психологическое сопровождение ШСУ «Переменка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варительные данные показали, что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52%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школьников вначале работы  имели </a:t>
            </a: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повышенный уровень тревожност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сле работы с ними в школе социального успеха «Переменка», при использовании интерактивных, безоценочных методик  - видна положительная динам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7301-239C-4765-86BF-8885D7E35B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Общий уровень тревож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AA61-CD14-41A7-B345-9CF61E7555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. Психодиагности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агностика психологических особенностей детей в коллективах ДД и Ю «Факел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зучение психологического потенциала педагогов ДД и Ю «Факел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зучение психологического потенциала родителей детей, посещающих коллективы учре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D914-5203-41AB-82EC-81E59F7BD3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. Коррекция, психологическое воздействие на развитие индивидуальных особенностей ребёнка через осуществление программ профилактики и психокорре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5390-759B-4707-B9EB-10C666A940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. Консультирование. Индивидуальные консультации детей и подростков, их родителей, а также педагогов дополнительного образования по проблемам возрастных и индивидуальных особенностей в развитии ребен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A37E-671B-44F6-A3EE-C814707829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росвещ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знакомление учащихся по проблемам общения, развития личности, полового воспит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ирование педагогов по вопросам возрастной психологии, проблемам межличностного общения, развития творческих способностей дет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-просветительская работа с родител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BCD3-B533-4D99-BAE9-330F49591B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рофессиональное взаимодейств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системы запросов на профессиональную деятельность психолога (ее отделение от педагогических, административных и иных обязанностей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единение теоретических основ развития личности с содержанием и организационно-методическими компонентами деятельности субъектов взаимодейств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совместной деятельности субъектов взаимодействия с функциональным распределением прав, обязанностей, формированием системы связ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D3B8-87FD-4C2D-ADC2-189889F565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Принципы психологического сопровожд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(Казакова Е. И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уманизм;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риентация на максимальные возможности личности;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оответствие характера обучения сензитивным периодам жизни ребен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рганизация личностно-ориентированного образ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забота о социальном самочувствии ребен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оциально–психологическое сопровождение личности и ее самоопределение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остоянный деловой контакт с «большой» наукой и специалистами родственных направлений работы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8F51-FB7A-462D-A76D-19E30B1FC5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Организация психологического сопрово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Знакомство. Установление доверительный отношений. Наблюдение. Бесе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Уточнение первичного запроса со стороны участников психологического сопровождения (педагоги, дети, родители). Проверка запроса на обоснованность. Работа с «автором» за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лановая психодиагностика по согласованию с родител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сиходиагностика по запросу род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рупповая и индивидуальная коррекционно - развивающая работа с ребен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сихологическая консультация всех участников сопрово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Информационно – просветительское  направление. Родительские собрания. Методические рекомендации. Детско-родительские 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AE86-18F9-4BF3-BE48-DEC049EE8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ABB1-CF3A-40C2-87EE-062A7D15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1EB1-4C7D-42B5-9935-24D89926E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5191-E041-49FF-81A1-DB157776C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87EB-4316-4D55-9D3A-7F6AB7AEB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4DD3-599E-41FC-A187-B61B6407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0A71-C2F7-405B-85B5-D439F249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DFE7-81F8-474E-9A51-7D0360B5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7165-09B1-4065-9A10-79BB9BC1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F206-25F6-406F-8A00-F5FE9065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A6487-BAA7-4955-998B-D98189FE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C095-0336-489A-BB8D-A7CBDA4D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A6C4-82C0-44C0-8BBA-9628E9D9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3007-0220-4DF4-8281-EC92809C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9AC84-E780-4E68-A507-A5AEA0D9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7C2A-BB00-4322-A829-55E7C0D48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03B0-3500-4BFE-9798-CFB978CB3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F9F1-2831-416E-9FFB-4BD74B2C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FBDD-92CC-49D4-8405-B4332744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DF24-17D9-4CD0-B587-CC9D964D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D596-41C4-45CB-B34C-37117F6D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FBE2-A887-4E70-B462-9A0E7F92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3D81-280C-4AF3-B3BE-67076A3B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1C9E-3DFA-4E60-B55A-59692108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F920-119B-49F3-998C-1A5D6ADECE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1EA5-FBD5-4FC0-A507-E594184B08BB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3320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сихологическое сопровождение в условиях дополнительного образования (отчет об инновационной  деятельности МОУ ДОД ДДиЮ «Факел»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3348000" y="907920"/>
            <a:ext cx="2664000" cy="14972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Направления деятельности и формы психологического сопровожде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новным объектом психологическог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провождения в учреждении дополнительног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разования является микрогруппа (7-12 человек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 правило участники одного объединения. Формы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сихологического сопровождения реализуютс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вместно с педагогами (кураторами, классным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уководителями, педагогами дополнительног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разования),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которые одновременно  являются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нициаторами  запроса на психологические услуг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 помощниками в реализации данных услуг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Система психологического сопровождения процесс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662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0" name="Diagram 6"/>
          <p:cNvGrpSpPr/>
          <p:nvPr/>
        </p:nvGrpSpPr>
        <p:grpSpPr>
          <a:xfrm>
            <a:off x="2480760" y="1309320"/>
            <a:ext cx="4688640" cy="5211720"/>
            <a:chOff x="2480760" y="1309320"/>
            <a:chExt cx="4688640" cy="5211720"/>
          </a:xfrm>
        </p:grpSpPr>
        <p:sp>
          <p:nvSpPr>
            <p:cNvPr id="141" name="_s1028"/>
            <p:cNvSpPr/>
            <p:nvPr/>
          </p:nvSpPr>
          <p:spPr>
            <a:xfrm flipH="1" flipV="1">
              <a:off x="3696840" y="3263760"/>
              <a:ext cx="564480" cy="325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_s1029"/>
            <p:cNvSpPr/>
            <p:nvPr/>
          </p:nvSpPr>
          <p:spPr>
            <a:xfrm>
              <a:off x="2480760" y="2286720"/>
              <a:ext cx="1302840" cy="1302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ение детей «группы риска»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_s1030"/>
            <p:cNvSpPr/>
            <p:nvPr/>
          </p:nvSpPr>
          <p:spPr>
            <a:xfrm flipH="1">
              <a:off x="3696840" y="4240800"/>
              <a:ext cx="564480" cy="325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_s1031"/>
            <p:cNvSpPr/>
            <p:nvPr/>
          </p:nvSpPr>
          <p:spPr>
            <a:xfrm>
              <a:off x="2481480" y="4241520"/>
              <a:ext cx="1302840" cy="1302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ение общеобразовательных учреждений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_s1032"/>
            <p:cNvSpPr/>
            <p:nvPr/>
          </p:nvSpPr>
          <p:spPr>
            <a:xfrm>
              <a:off x="4825080" y="4566600"/>
              <a:ext cx="0" cy="651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_s1033"/>
            <p:cNvSpPr/>
            <p:nvPr/>
          </p:nvSpPr>
          <p:spPr>
            <a:xfrm>
              <a:off x="4174200" y="5218200"/>
              <a:ext cx="1302840" cy="1302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ение процесса повышения профессиональной компетенции педагогов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_s1034"/>
            <p:cNvSpPr/>
            <p:nvPr/>
          </p:nvSpPr>
          <p:spPr>
            <a:xfrm>
              <a:off x="5389200" y="4240800"/>
              <a:ext cx="564480" cy="325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_s1035"/>
            <p:cNvSpPr/>
            <p:nvPr/>
          </p:nvSpPr>
          <p:spPr>
            <a:xfrm>
              <a:off x="5866560" y="4240440"/>
              <a:ext cx="1302840" cy="1302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ение проектов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_s1036"/>
            <p:cNvSpPr/>
            <p:nvPr/>
          </p:nvSpPr>
          <p:spPr>
            <a:xfrm flipV="1">
              <a:off x="5389200" y="3263760"/>
              <a:ext cx="564480" cy="325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_s1037"/>
            <p:cNvSpPr/>
            <p:nvPr/>
          </p:nvSpPr>
          <p:spPr>
            <a:xfrm>
              <a:off x="5866200" y="2286000"/>
              <a:ext cx="1302840" cy="1302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ение творческих объединений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_s1038"/>
            <p:cNvSpPr/>
            <p:nvPr/>
          </p:nvSpPr>
          <p:spPr>
            <a:xfrm flipV="1">
              <a:off x="4825080" y="2612160"/>
              <a:ext cx="0" cy="651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_s1039"/>
            <p:cNvSpPr/>
            <p:nvPr/>
          </p:nvSpPr>
          <p:spPr>
            <a:xfrm>
              <a:off x="4173840" y="1309320"/>
              <a:ext cx="1302840" cy="1302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ение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ающих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_s1040"/>
            <p:cNvSpPr/>
            <p:nvPr/>
          </p:nvSpPr>
          <p:spPr>
            <a:xfrm>
              <a:off x="4173840" y="3264120"/>
              <a:ext cx="1302840" cy="1302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Психологическое сопровождение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" name="Rectangle 21"/>
          <p:cNvSpPr/>
          <p:nvPr/>
        </p:nvSpPr>
        <p:spPr>
          <a:xfrm>
            <a:off x="0" y="662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Сопровождение творческих объединений  ДД и Ю «Факел»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00000" y="2060640"/>
          <a:ext cx="7772400" cy="4294080"/>
        </p:xfrm>
        <a:graphic>
          <a:graphicData uri="http://schemas.openxmlformats.org/drawingml/2006/table">
            <a:tbl>
              <a:tblPr/>
              <a:tblGrid>
                <a:gridCol w="379440"/>
                <a:gridCol w="2919600"/>
                <a:gridCol w="447336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коллект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сопровож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атральная студия «Изюм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нги, консультации родителей, семейные консультации, празд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развивающего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ения, консультации, диагностика, составление карт наблю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дия «Фитодизайн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ка, тренинги, родительское собр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ы «Аэробик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нги, консуль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изучения английского язы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н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ка, тренинги, составление карт наблю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 группы хореограф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нги, диагностика, беседы с родителями по заявленным темам, показательные выступ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тб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н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ра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ример психологического сопровождения ребёнка в рамках сопровождения творческого объединени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6000" y="198900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оман, дошкольник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диагностической карте отмечаются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обенности поведения: обидчивость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эмоциональная неустойчивость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гативизм (делает все наоборот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оворит слова «не хочу» или «н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уду»), а также  нерешительность н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кцию новизны, иногда ситуацию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ного опроса, избегание умственных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илий и непонимание сложных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струкц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ример психологического сопровождения ребёнка в рамках сопровождения творческого объединени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611280" y="1844640"/>
            <a:ext cx="7580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по методике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«Лесенка» В.Г. Щу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ль: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ыявление представлений ребенка об отношениях к нему других людей, выявление его             самооценки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55640" y="3213000"/>
          <a:ext cx="6773760" cy="2567160"/>
        </p:xfrm>
        <a:graphic>
          <a:graphicData uri="http://schemas.openxmlformats.org/drawingml/2006/table">
            <a:tbl>
              <a:tblPr/>
              <a:tblGrid>
                <a:gridCol w="1428840"/>
                <a:gridCol w="1541520"/>
                <a:gridCol w="728640"/>
                <a:gridCol w="826920"/>
                <a:gridCol w="1079640"/>
                <a:gridCol w="1168200"/>
              </a:tblGrid>
              <a:tr h="82260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 реб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ственная оц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со стороны семь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со стороны сверс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со стороны воспита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rowSpan="6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м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оров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ны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ивы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р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койны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Text Box 275"/>
          <p:cNvSpPr/>
          <p:nvPr/>
        </p:nvSpPr>
        <p:spPr>
          <a:xfrm>
            <a:off x="75564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276"/>
          <p:cNvSpPr/>
          <p:nvPr/>
        </p:nvSpPr>
        <p:spPr>
          <a:xfrm>
            <a:off x="75564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277"/>
          <p:cNvSpPr/>
          <p:nvPr/>
        </p:nvSpPr>
        <p:spPr>
          <a:xfrm>
            <a:off x="978120" y="5877000"/>
            <a:ext cx="677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ывод: личная самооценка адекватна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спытывает  незащищенность со стороны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ример психологического сопровождения ребёнка в рамках сопровождения творческого объединени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535320" y="1989000"/>
            <a:ext cx="728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анные по методике «ЦТО»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ветовой тест отношен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агностика эмоциональных отношен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50920" y="2781360"/>
          <a:ext cx="7200720" cy="1873080"/>
        </p:xfrm>
        <a:graphic>
          <a:graphicData uri="http://schemas.openxmlformats.org/drawingml/2006/table">
            <a:tbl>
              <a:tblPr/>
              <a:tblGrid>
                <a:gridCol w="1501560"/>
                <a:gridCol w="1341720"/>
                <a:gridCol w="1600200"/>
                <a:gridCol w="1417320"/>
                <a:gridCol w="1339920"/>
              </a:tblGrid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 реб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ное при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ное при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ное не при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ринимаем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м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и и часть свер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раннего разви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Text Box 69"/>
          <p:cNvSpPr/>
          <p:nvPr/>
        </p:nvSpPr>
        <p:spPr>
          <a:xfrm>
            <a:off x="179280" y="4869000"/>
            <a:ext cx="81378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анные могут меняться в зависимости от эмоционального состояния ребенка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екомендаци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. Необходимо понять и выслушать ребенк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. В момент проблемного поведения переключи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нимание на другое заняти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Сопровождение детей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«группы риска»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9280" y="2017440"/>
            <a:ext cx="89647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ДДиЮ «Факел» в 2006-2007 учебном году был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еализованы следующие виды деятельности с детьми «группы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иска»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нформирование и консультирование по социальным и психологическим вопросам. Всего проведено: 213 консультаций 104 подростков и 98 родителей детей «группы риска», а также проведена индивидуальная работа с 18 педагогами ОУ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циальный патронаж детей и подростков. На социальном –патронаже в 2006-2007 состояли 17 детей и подростков «группы риска»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циально-педагогическое диагностирование на предмет выявления девиаций, определения степени поведенческих отклонений, уточнение социально –психологических характеристик проведено с 465 детьми и подросткам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раткосрочные и долгосрочные программы, направленные на профилактику девиантного повед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4264200" y="1916280"/>
            <a:ext cx="3547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Сопровождение детей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«группы риска»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пециалисты ДДиЮ «Факел» принимают участие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организации и проведении социально-педагогических консилиумов (советы по профилактике в ОУ, еженедельные заседания КДН). Всего специалисты посетили 12 Советов по профилактике на базе ОУ, 2 социально- педагогических консилиума, более 54 заседаний КДН и ЗП Кировского и Советского район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рупповые и индивидуальные формы работы с детьми реализуются как на базе Центра «Альтернатива» при ДД и Ю «Факел», так и на базе ОУ и учреждений социальной защиты (детские дома, реабилитационные центры, специализированные учреждения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Сопровождение   сопровождающих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рганизация взаимодействия специалистов, а также создание и поддерживание в коллективе сопровождающих атмосферу всеобщей заинтересованности в результатах труда; взаимопонимания и взаимного уважения к профессиональным  и личностным качествам коллег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учение специалистов в новой логике взаимодействия; в методологии комплексности и мультидисциплинарности в решении проблем ребенка и его семь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сихологическое сопровождение процесса повышения профессиональной компетентности педагога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68360" y="2017800"/>
          <a:ext cx="8486640" cy="5486400"/>
        </p:xfrm>
        <a:graphic>
          <a:graphicData uri="http://schemas.openxmlformats.org/drawingml/2006/table">
            <a:tbl>
              <a:tblPr/>
              <a:tblGrid>
                <a:gridCol w="585720"/>
                <a:gridCol w="3219480"/>
                <a:gridCol w="2193840"/>
                <a:gridCol w="1609920"/>
                <a:gridCol w="8776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аз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Ц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Целевая 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ол-во уч-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тодическое объединение психологов и педагогов «Психофизиологические особенности детей дошкольного и школьного возраст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Формирование знаний об особенностях детей и подрост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пециалисты ДД и Ю «Факел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тодическое объединение социальных педагогов «Формы эффективного слушани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Формирование навыков эффективного слуш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оц. педагоги ОУ и ДД и Ю «Факел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тодическое объединение «Конфликты в педагогической среде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Информирование о способах выхода из конфликтных ситуаций в системе «Педагог - ребенок», «Педагог - педагог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едагоги школы № 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Цель психологического сопровожден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сновной цель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сихологического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провождения в ДД и Ю «Факел» являетс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сихологическая помощь процессу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циализации личности, обеспечивающа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армонизацию отношений ребенка 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щества, развитие творческого потенциал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дагогического и детского коллективов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чреждения, выявление перспективы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вития вариативного образов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2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Сопровождение сопровождающих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взаимодействие с психологами, педагогами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24000" y="1413000"/>
          <a:ext cx="8559720" cy="5456160"/>
        </p:xfrm>
        <a:graphic>
          <a:graphicData uri="http://schemas.openxmlformats.org/drawingml/2006/table">
            <a:tbl>
              <a:tblPr/>
              <a:tblGrid>
                <a:gridCol w="590400"/>
                <a:gridCol w="3246480"/>
                <a:gridCol w="2214360"/>
                <a:gridCol w="1624320"/>
                <a:gridCol w="884160"/>
              </a:tblGrid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евая 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уч-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инар «Формирование толерантных отношений среди подростков через развитие навыков эффективного обще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социальных компетенц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и 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инар «Модели изменения поведения в деятельности по профилактике ПАВ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личностных компетенц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, работающие в данном направле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8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инар «Профилактика девиантного поведения и методы работы с девиантными подростками (на основе опыта работы учреждения)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ко-ориентированный семинар-тренинг «Роль психолога в профилактической деятельности ОУ» (см.приложе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своей роли в профилактической деятельности ОУ каждым участником семинара-тренин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 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инар «Формы и методы профилактической работы» (см.приложе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ие профессиональной компетент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Формы взаимодействия с образовательными учреждениям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едоставление услуг ДД и Ю «Факел» в виде списка предлагаемых мероприятий (образовательные программы, лектории и тренинги для всех целевых групп, консультирование, проведение массовых акций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ланирование мероприятий с образовательными учреждениями  в течение год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уществление психологического сопровождения (реализация программ, ведение консультаций, социальное проектирование, психодиагностика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ценка результатов и подведение итогов в течение года и  корректировка взаимодейств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Психологическое сопровождение проектов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дельным направлением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сихологического сопровождени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вляется взаимодействие с участникам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ектов, реализуемых ДДиЮ «Факел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екты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Школа социального успеха «Переменка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лефон доверия «Берег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ети – детя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4" descr="Square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-252360" y="0"/>
            <a:ext cx="9753480" cy="731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9" name="Object 5"/>
          <p:cNvGraphicFramePr/>
          <p:nvPr/>
        </p:nvGraphicFramePr>
        <p:xfrm>
          <a:off x="250920" y="404640"/>
          <a:ext cx="8893080" cy="158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404640"/>
                    <a:ext cx="889308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WordArt 6"/>
          <p:cNvSpPr txBox="1"/>
          <p:nvPr/>
        </p:nvSpPr>
        <p:spPr>
          <a:xfrm>
            <a:off x="2843280" y="476280"/>
            <a:ext cx="6224400" cy="936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3399"/>
                </a:solidFill>
                <a:latin typeface="Courier New"/>
              </a:rPr>
              <a:t>Социальные проекты</a:t>
            </a:r>
            <a:endParaRPr b="1" lang="en-US" sz="2000" spc="1" strike="noStrike">
              <a:ln w="0">
                <a:noFill/>
              </a:ln>
              <a:solidFill>
                <a:srgbClr val="333399"/>
              </a:solidFill>
              <a:latin typeface="Courier New"/>
              <a:ea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3399"/>
                </a:solidFill>
                <a:latin typeface="Courier New"/>
              </a:rPr>
              <a:t>как форма интеграции детей</a:t>
            </a:r>
            <a:endParaRPr b="1" lang="en-US" sz="2000" spc="1" strike="noStrike">
              <a:ln w="0">
                <a:noFill/>
              </a:ln>
              <a:solidFill>
                <a:srgbClr val="333399"/>
              </a:solidFill>
              <a:latin typeface="Courier New"/>
              <a:ea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000" spc="1" strike="noStrike">
                <a:ln w="0">
                  <a:noFill/>
                </a:ln>
                <a:solidFill>
                  <a:srgbClr val="333399"/>
                </a:solidFill>
                <a:latin typeface="Courier New"/>
              </a:rPr>
              <a:t>в образовательную среду</a:t>
            </a:r>
            <a:endParaRPr b="1" lang="en-US" sz="2000" spc="1" strike="noStrike">
              <a:ln w="0">
                <a:noFill/>
              </a:ln>
              <a:solidFill>
                <a:srgbClr val="333399"/>
              </a:solidFill>
              <a:latin typeface="Courier New"/>
              <a:ea typeface="Courier New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971640" y="2421000"/>
            <a:ext cx="770400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468360" y="3141720"/>
            <a:ext cx="8675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250920" y="5013360"/>
            <a:ext cx="3889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етское объедин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ладшего школьног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озраст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7-10 лет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5" name="Object 10"/>
          <p:cNvGraphicFramePr/>
          <p:nvPr/>
        </p:nvGraphicFramePr>
        <p:xfrm>
          <a:off x="3924360" y="2654280"/>
          <a:ext cx="4761000" cy="4203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24360" y="2654280"/>
                    <a:ext cx="4761000" cy="42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Rectangle 11"/>
          <p:cNvSpPr/>
          <p:nvPr/>
        </p:nvSpPr>
        <p:spPr>
          <a:xfrm>
            <a:off x="324000" y="1916280"/>
            <a:ext cx="8424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Monotype Corsiva"/>
              </a:rPr>
              <a:t>Школа социального успеха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Monotype Corsiva"/>
              </a:rPr>
              <a:t>«Переменка»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Автор–составитель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оординатор проект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кирневская Елена Николаев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,-71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28,0,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,-71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28,0,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,-71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28,0,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,-71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28,0,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,-71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28,0,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сихологическое сопровождение ШСУ «Переменка»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варительные данные показали, что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52%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школьников вначале работы  имели </a:t>
            </a: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повышенный уровень тревожности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осле работы с ними в школе социального успеха «Переменка», при использовании интерактивных, безоценочных методик  - видна положительная динамик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Общий уровень тревожност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611280" y="2060640"/>
          <a:ext cx="8053200" cy="451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060640"/>
                    <a:ext cx="8053200" cy="45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. Психодиагностик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иагностика психологических особенностей детей в коллективах ДД и Ю «Факел»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учение психологического потенциала педагогов ДД и Ю «Факел»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учение психологического потенциала родителей детей, посещающих коллективы учрежд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. Коррекция, психологическое воздействие на развитие индивидуальных особенностей ребёнка через осуществление программ профилактики и психокоррекц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3. Консультирование. Индивидуальные консультации детей и подростков, их родителей, а также педагогов дополнительного образования по проблемам возрастных и индивидуальных особенностей в развитии ребенк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4. Просвещени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знакомление учащихся по проблемам общения, развития личности, полового воспитани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формирование педагогов по вопросам возрастной психологии, проблемам межличностного общения, развития творческих способностей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формационно-просветительская работа с родителя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. Профессиональное взаимодейств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рганизация системы запросов на профессиональную деятельность психолога (ее отделение от педагогических, административных и иных обязанностей)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единение теоретических основ развития личности с содержанием и организационно-методическими компонентами деятельности субъектов взаимодейств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рганизация совместной деятельности субъектов взаимодействия с функциональным распределением прав, обязанностей, формированием системы связе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Принципы психологического сопровождения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(Казакова Е. И.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уманизм;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риентация на максимальные возможности личности;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ответствие характера обучения сензитивным периодам жизни ребенк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рганизация личностно-ориентированного образовани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бота о социальном самочувствии ребенк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циально–психологическое сопровождение личности и ее самоопределение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стоянный деловой контакт с «большой» наукой и специалистами родственных направлений работы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Организация психологического сопровожде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накомство. Установление доверительный отношений. Наблюдение. Бесед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точнение первичного запроса со стороны участников психологического сопровождения (педагоги, дети, родители). Проверка запроса на обоснованность. Работа с «автором» запрос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лановая психодиагностика по согласованию с родителям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сиходиагностика по запросу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рупповая и индивидуальная коррекционно - развивающая работа с ребенко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сихологическая консультация всех участников сопровожд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нформационно – просветительское  направление. Родительские собрания. Методические рекомендации. Детско-родительские  групп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04:30:54Z</dcterms:created>
  <dc:creator>user</dc:creator>
  <dc:description/>
  <dc:language>en-US</dc:language>
  <cp:lastModifiedBy>LEGION</cp:lastModifiedBy>
  <dcterms:modified xsi:type="dcterms:W3CDTF">2014-11-12T09:43:13Z</dcterms:modified>
  <cp:revision>14</cp:revision>
  <dc:subject/>
  <dc:title>Слайд 1</dc:title>
</cp:coreProperties>
</file>