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AE0B-DA8C-4AF0-A00B-985996205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B873-B999-47F3-85BB-2150E3AF6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51DC-FE81-46B2-B752-AEEAAE209E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бъектом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учреждени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 является микрогруппа (7-12 человек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 участники одного объединения. Ф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реализу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педагогами (кураторами, класс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ми, педагогам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одновременно  явля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орами  запроса на психологические усл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помощниками в реализации данных услу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4709-5340-41F1-9CFC-2FBE384C7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4412-DD36-4AEF-9F54-0055B2C60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8ED-8648-4C84-9F76-A15C3423C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F38F-828D-4B73-8D23-2D37E7ABE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F1C9-287C-4EB0-BF8E-16CC79AA2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A373-1C8B-4EEC-8724-C645B9D7F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1016-3195-49D3-8CE8-5AE610BCF6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FC39-5F1F-4302-B0E3-DD6F28961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A984-8976-4C41-B3BB-AF50A242D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F3A4-F795-465A-8F34-EC469EA8C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ой цел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ДД и Ю «Факел»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 процес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зации личности, обеспечиваю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зацию отношений ребен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, развитие творческого потенц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ого и детского коллектив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я, выявление перспек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я вариатив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B2FC-9153-4594-B42E-9E9F6949DB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0BAF-408F-4FFA-95D5-1306FB97D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9AD4-ADB2-4725-8736-36A03563A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м направл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заимодействие с участ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ов, реализуемых ДДиЮ «Факел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оциального успеха «Перемен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 доверия «Бере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–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8841-8040-4A9E-96FB-3A2228349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F811-9F84-488B-965C-A48441DFE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ые данные показали, чт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52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кольников вначале работы  имели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овышенный уровень тревож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8CF6-E51E-4C65-810A-C335AF59BE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D278-4459-4464-850C-83AE790C2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9CFE-DF71-407C-B520-4C21F3760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B041-E17E-4E69-9C28-D4F9FC8EA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2337-1C24-4433-B78F-EAF07E7D28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свещ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учащихся по проблемам общения, развития личности, полового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просветительская работа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F9DA-FFAF-49C5-AA53-38B5BD8D0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взаимодей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0CB3-E29E-4C9E-94C8-B0B0AE87D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0777-4FB4-4295-9E39-2C31ED8D9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B16-BC09-43F9-9D67-EDA7B608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718-7A1F-4229-BAF7-123F29E4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D05-533E-42B3-92F1-1DFF5C15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951-4484-4460-ADF7-3695396A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8342-8A08-4E58-B108-13AB8D03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8E6E-9952-4C3E-AC50-B4A0D64A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C342-50DD-4FA2-9613-FA9DA7B5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54BA-1343-4098-8C51-D29D72AF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633F-18C8-4CDD-8977-AAC79009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5299-A0D1-4B17-8E96-6E202CE5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A53A-2748-4F04-B378-F5E7FC47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D04-04D8-4414-A296-C003B898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4437-C29A-4FF0-852D-88132D7D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0628-90CD-498F-8B8D-67BD0264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3389-4674-4B53-B6C4-3BCFF12B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75EE-8732-4AC6-A9F2-B8B22F42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2439-6BEB-466E-BCA8-08EBE19B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249-954D-49A8-B43C-40176A05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1A2-B299-470C-9243-0F15FE08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C85-6C70-4C2D-822F-1B2901BC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D9F-6757-4EDB-9A79-66904214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2A3-8140-467D-8E23-EB550143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072-7030-4802-B949-C11658A2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F07-0B3D-4B7A-B3AE-E05F6EF6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0ECE-1212-4C53-9427-90D0E2444E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8DA0-5DB1-42C6-B94A-48DF4EB95C8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2664000" cy="1497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ым объектом психологиче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ровождения в учреждени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 является микрогруппа (7-12 человек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правило участники одного объединения. Форм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реализую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но с педагогами (кураторами, классны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ями, педагогам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)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которые одновременно  явля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ициаторами  запроса на психологические услуг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помощниками в реализации данных услу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Diagram 6"/>
          <p:cNvGrpSpPr/>
          <p:nvPr/>
        </p:nvGrpSpPr>
        <p:grpSpPr>
          <a:xfrm>
            <a:off x="2480760" y="1309320"/>
            <a:ext cx="4688640" cy="5211720"/>
            <a:chOff x="2480760" y="1309320"/>
            <a:chExt cx="4688640" cy="5211720"/>
          </a:xfrm>
        </p:grpSpPr>
        <p:sp>
          <p:nvSpPr>
            <p:cNvPr id="141" name="_s1028"/>
            <p:cNvSpPr/>
            <p:nvPr/>
          </p:nvSpPr>
          <p:spPr>
            <a:xfrm flipH="1" flipV="1">
              <a:off x="3696840" y="3263760"/>
              <a:ext cx="564480" cy="32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1029"/>
            <p:cNvSpPr/>
            <p:nvPr/>
          </p:nvSpPr>
          <p:spPr>
            <a:xfrm>
              <a:off x="2480760" y="2286720"/>
              <a:ext cx="1302840" cy="1302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детей «группы риска»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1030"/>
            <p:cNvSpPr/>
            <p:nvPr/>
          </p:nvSpPr>
          <p:spPr>
            <a:xfrm flipH="1">
              <a:off x="369684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1031"/>
            <p:cNvSpPr/>
            <p:nvPr/>
          </p:nvSpPr>
          <p:spPr>
            <a:xfrm>
              <a:off x="2481480" y="4241520"/>
              <a:ext cx="13028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общеобразовательных учрежд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_s1032"/>
            <p:cNvSpPr/>
            <p:nvPr/>
          </p:nvSpPr>
          <p:spPr>
            <a:xfrm>
              <a:off x="4825080" y="456660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1033"/>
            <p:cNvSpPr/>
            <p:nvPr/>
          </p:nvSpPr>
          <p:spPr>
            <a:xfrm>
              <a:off x="4174200" y="5218200"/>
              <a:ext cx="13028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цесса повышения профессиональной компетенции педагог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538920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1035"/>
            <p:cNvSpPr/>
            <p:nvPr/>
          </p:nvSpPr>
          <p:spPr>
            <a:xfrm>
              <a:off x="5866560" y="4240440"/>
              <a:ext cx="1302840" cy="1302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ект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 flipV="1">
              <a:off x="5389200" y="326376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37"/>
            <p:cNvSpPr/>
            <p:nvPr/>
          </p:nvSpPr>
          <p:spPr>
            <a:xfrm>
              <a:off x="5866200" y="2286000"/>
              <a:ext cx="130284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творческих объедин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38"/>
            <p:cNvSpPr/>
            <p:nvPr/>
          </p:nvSpPr>
          <p:spPr>
            <a:xfrm flipV="1">
              <a:off x="4825080" y="261216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_s1039"/>
            <p:cNvSpPr/>
            <p:nvPr/>
          </p:nvSpPr>
          <p:spPr>
            <a:xfrm>
              <a:off x="4173840" y="1309320"/>
              <a:ext cx="13028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ающих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4173840" y="3264120"/>
              <a:ext cx="1302840" cy="1302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Психологическое 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Rectangle 21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2060640"/>
          <a:ext cx="7772400" cy="4294080"/>
        </p:xfrm>
        <a:graphic>
          <a:graphicData uri="http://schemas.openxmlformats.org/drawingml/2006/table">
            <a:tbl>
              <a:tblPr/>
              <a:tblGrid>
                <a:gridCol w="379440"/>
                <a:gridCol w="2919600"/>
                <a:gridCol w="44733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лл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пров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ьная студия «Изю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 родителей, семейные консультации, праз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звивающе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, консультации, диагностика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ия «Фитодизай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«Аэроб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изучения англий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группы хоре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диагностика, беседы с родителями по заявленным темам, показательные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11280" y="1844640"/>
            <a:ext cx="75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по методик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«Лесенка» В.Г. Щ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ление представлений ребенка об отношениях к нему других людей, выявление его             самооценк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3213000"/>
          <a:ext cx="6773760" cy="2567160"/>
        </p:xfrm>
        <a:graphic>
          <a:graphicData uri="http://schemas.openxmlformats.org/drawingml/2006/table">
            <a:tbl>
              <a:tblPr/>
              <a:tblGrid>
                <a:gridCol w="1428840"/>
                <a:gridCol w="1541520"/>
                <a:gridCol w="728640"/>
                <a:gridCol w="826920"/>
                <a:gridCol w="1079640"/>
                <a:gridCol w="1168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вер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в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275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76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77"/>
          <p:cNvSpPr/>
          <p:nvPr/>
        </p:nvSpPr>
        <p:spPr>
          <a:xfrm>
            <a:off x="978120" y="5877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 личная самооценка адекват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ытывает  незащищенность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5320" y="198900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нные по методике «ЦТО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овой тест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гностика эмо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2781360"/>
          <a:ext cx="7200720" cy="1873080"/>
        </p:xfrm>
        <a:graphic>
          <a:graphicData uri="http://schemas.openxmlformats.org/drawingml/2006/table">
            <a:tbl>
              <a:tblPr/>
              <a:tblGrid>
                <a:gridCol w="1501560"/>
                <a:gridCol w="1341720"/>
                <a:gridCol w="1600200"/>
                <a:gridCol w="1417320"/>
                <a:gridCol w="13399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н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ним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и часть свер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нн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69"/>
          <p:cNvSpPr/>
          <p:nvPr/>
        </p:nvSpPr>
        <p:spPr>
          <a:xfrm>
            <a:off x="179280" y="4869000"/>
            <a:ext cx="813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нные могут меняться в зависимости от эмоционального состояния ребенк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Необходимо понять и выслушать ребен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В момент проблемного поведения переключи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на другое занят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4200" y="1916280"/>
            <a:ext cx="354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2017800"/>
          <a:ext cx="8486640" cy="5486400"/>
        </p:xfrm>
        <a:graphic>
          <a:graphicData uri="http://schemas.openxmlformats.org/drawingml/2006/table">
            <a:tbl>
              <a:tblPr/>
              <a:tblGrid>
                <a:gridCol w="585720"/>
                <a:gridCol w="3219480"/>
                <a:gridCol w="2193840"/>
                <a:gridCol w="1609920"/>
                <a:gridCol w="87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ев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-во уч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психологов и педагогов «Психофизиологические особенности детей дошкольного и школьного возрас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знаний об особенностях детей и подрост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ециалисты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социальных педагогов «Формы эффективного слуш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навыков эффективного слуш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ц. педагоги ОУ и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«Конфликты в педагогической среде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нформирование о способах выхода из конфликтных ситуаций в системе «Педагог - ребенок», «Педагог - педаго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дагоги школы №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новной цел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сихологическ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овождения в ДД и Ю «Факел» являе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ая помощь процесс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изации личности, обеспечивающ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монизацию отношений ребенка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а, развитие творческого потенциал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дагогического и детского коллектив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реждения, выявление перспектив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я вариативного образ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1413000"/>
          <a:ext cx="8559720" cy="5456160"/>
        </p:xfrm>
        <a:graphic>
          <a:graphicData uri="http://schemas.openxmlformats.org/drawingml/2006/table">
            <a:tbl>
              <a:tblPr/>
              <a:tblGrid>
                <a:gridCol w="590400"/>
                <a:gridCol w="3246480"/>
                <a:gridCol w="2214360"/>
                <a:gridCol w="1624320"/>
                <a:gridCol w="8841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ирование толерантных отношений среди подростков через развитие навыков эффективного общ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Модели изменения поведения в деятельности по профилактике ПА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ичност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, работающие в данном направл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Профилактика девиантного поведения и методы работы с девиантными подростками (на основе опыта работы учреждения)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о-ориентированный семинар-тренинг «Роль психолога в профилактической деятельности ОУ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воей роли в профилактической деятельности ОУ каждым участником семинара-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ы и методы профилактической работы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омпетент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ьным направлени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взаимодействие с участника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ов, реализуемых ДДиЮ «Факел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кола социального успеха «Перемен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лефон доверия «Берег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ти – дет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quare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Object 5"/>
          <p:cNvGraphicFramePr/>
          <p:nvPr/>
        </p:nvGraphicFramePr>
        <p:xfrm>
          <a:off x="250920" y="404640"/>
          <a:ext cx="88930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04640"/>
                    <a:ext cx="8893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WordArt 6"/>
          <p:cNvSpPr txBox="1"/>
          <p:nvPr/>
        </p:nvSpPr>
        <p:spPr>
          <a:xfrm>
            <a:off x="2843280" y="476280"/>
            <a:ext cx="62244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Социальные проекты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как форма интеграции детей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в образовательную среду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971640" y="2421000"/>
            <a:ext cx="770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68360" y="3141720"/>
            <a:ext cx="867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50920" y="501336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тское объедин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ладшего школь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-10 лет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3924360" y="2654280"/>
          <a:ext cx="4761000" cy="42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2654280"/>
                    <a:ext cx="47610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1"/>
          <p:cNvSpPr/>
          <p:nvPr/>
        </p:nvSpPr>
        <p:spPr>
          <a:xfrm>
            <a:off x="324000" y="1916280"/>
            <a:ext cx="842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Школа социального успех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«Переменк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втор–составител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ординатор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кирневская Елена Никола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варительные данные показали, чт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52%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школьников вначале работы  имел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овышенный уровень тревожност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1280" y="2060640"/>
          <a:ext cx="805320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0532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росвещ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знакомление учащихся по проблемам общения, развития личности, полового воспит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о-просветительская работа с родител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Профессиональное взаимодейств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4:30:54Z</dcterms:created>
  <dc:creator>user</dc:creator>
  <dc:description/>
  <dc:language>en-US</dc:language>
  <cp:lastModifiedBy>LEGION</cp:lastModifiedBy>
  <dcterms:modified xsi:type="dcterms:W3CDTF">2014-11-12T09:43:13Z</dcterms:modified>
  <cp:revision>14</cp:revision>
  <dc:subject/>
  <dc:title>Слайд 1</dc:title>
</cp:coreProperties>
</file>