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E918-F459-4BF7-955E-B0763DF05A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79A1-5CA0-4AED-9635-2CDF0FCD4F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сихологическое сопровождение в условиях дополнительного образования (отчет об инновационной  деятельности МОУ ДОД ДДиЮ «Факел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E350-B9D6-46DC-B70B-10DAB2C5E9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правления деятельности и формы психологического сопр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объектом психологиче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я в учреждении дополните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я является микрогруппа (7-12 человек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 участники одного объединения. Фо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го сопровождения реализу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педагогами (кураторами, класс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ями, педагогами дополните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я)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торые одновременно  являютс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орами  запроса на психологические услу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помощниками в реализации данных услу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9AB2-EAC0-4856-9BAD-EB6EA7E9EB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истема психологического сопровождения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155A-A020-4280-B554-DAEE8903F7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опровождение творческих объединений  ДД и Ю «Факел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20DA-F22F-4BCF-8587-E97152100E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ман, дошкольн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диагностической карте отмечаютс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и поведения: обидчив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эмоциональная неустойчивость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гативизм (делает все наоборо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ворит слова «не хочу» или «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уду»), а также  нерешительность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акцию новизны, иногда ситуа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тного опроса, избегание умств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илий и непонимание слож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ру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62F8-33BE-44B5-B41C-76890BEEF3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E700-5188-41C6-9052-4B56B6A825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6654-52E0-445B-81A8-9948C0C3DE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ДДиЮ «Факел» в 2006-2007 учебном году 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ализованы следующие виды деятельности с детьми «групп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иска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ормирование и консультирование по социальным и психологическим вопросам. Всего проведено: 213 консультаций 104 подростков и 98 родителей детей «группы риска», а также проведена индивидуальная работа с 18 педагогами О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ый патронаж детей и подростков. На социальном –патронаже в 2006-2007 состояли 17 детей и подростков «группы риска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о-педагогическое диагностирование на предмет выявления девиаций, определения степени поведенческих отклонений, уточнение социально –психологических характеристик проведено с 465 детьми и подростк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раткосрочные и долгосрочные программы, направленные на профилактику девиантного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DDA3-B728-4F81-BD47-30640ABEFF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ециалисты ДДиЮ «Факел» принимают участ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организации и проведении социально-педагогических консилиумов (советы по профилактике в ОУ, еженедельные заседания КДН). Всего специалисты посетили 12 Советов по профилактике на базе ОУ, 2 социально- педагогических консилиума, более 54 заседаний КДН и ЗП Кировского и Советского рай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упповые и индивидуальные формы работы с детьми реализуются как на базе Центра «Альтернатива» при ДД и Ю «Факел», так и на базе ОУ и учреждений социальной защиты (детские дома, реабилитационные центры, специализированные учрежде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85E5-8837-4FEE-9D82-52A13201E6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провождение   сопровожда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заимодействия специалистов, а также создание и поддерживание в коллективе сопровождающих атмосферу всеобщей заинтересованности в результатах труда; взаимопонимания и взаимного уважения к профессиональным  и личностным качествам колле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пециалистов в новой логике взаимодействия; в методологии комплексности и мультидисциплинарности в решении проблем ребенка и его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68D2-B36C-43B6-AD29-FECD141E88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цесса повышения профессиональной компетентности педаго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C5D6-018E-487A-B349-C89F22FDB8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Цель психологического сопров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ой цел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сихологиче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я в ДД и Ю «Факел» я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мощь процес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изации личности, обеспечивающ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монизацию отношений ребенк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а, развитие творческого потенци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ого и детского коллектив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реждения, выявление перспекти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я вариативно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4C74-B2ED-4BCA-8ED1-8188505617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опровождение сопровождающих: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взаимодействие с психологами, педаг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F821-F2A6-4778-AE1F-5FA5FF0113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ормы взаимодействия с образовательными учрежд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услуг ДД и Ю «Факел» в виде списка предлагаемых мероприятий (образовательные программы, лектории и тренинги для всех целевых групп, консультирование, проведение массовых акц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мероприятий с образовательными учреждениями  в течение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психологического сопровождения (реализация программ, ведение консультаций, социальное проектирование, психодиагности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результатов и подведение итогов в течение года и  корректировка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6CC2-BFD5-4377-A103-58649A5A9E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ек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м направл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го сопровож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заимодействие с участн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ов, реализуемых ДДиЮ «Факел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социального успеха «Перемен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фон доверия «Берег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– де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50D1-487A-474B-AC24-9FFB050CDE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0A04-EA26-409A-966E-20F597F584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ШСУ «Переменк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ые данные показали, что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52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школьников вначале работы  имели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овышенный уровень тревож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ле работы с ними в школе социального успеха «Переменка», при использовании интерактивных, безоценочных методик  - видна положительная динам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9B82-A5DF-4C47-A244-4958FDAB10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Общий уровень тревож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BC16-E0CB-4FE6-9F4C-3123C4C897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Психодиагност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агностика психологических особенностей детей в коллективах ДД и Ю «Факел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педагогов ДД и Ю «Факел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родителей детей, посещающих коллективы учр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3683-F0F0-4A6B-BC09-461ECACDDB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Коррекция, психологическое воздействие на развитие индивидуальных особенностей ребёнка через осуществление программ профилактики и психокорре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F4F8-28DE-4DD4-B82C-80FD844A7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Консультирование. Индивидуальные консультации детей и подростков, их родителей, а также педагогов дополнительного образования по проблемам возрастных и индивидуальных особенностей в развитии ребе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868E-BE03-451E-B3EE-55826F7FA9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свещ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ление учащихся по проблемам общения, развития личности, полового воспит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педагогов по вопросам возрастной психологии, проблемам межличностного общения, развития творческих способностей д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-просветительская работа с р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BFFB-A061-4E4D-89F6-A5367EE28E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взаимодейств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системы запросов на профессиональную деятельность психолога (ее отделение от педагогических, административных и иных обязанностей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теоретических основ развития личности с содержанием и организационно-методическими компонентами деятельности субъектов взаимодей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совместной деятельности субъектов взаимодействия с функциональным распределением прав, обязанностей, формированием системы связ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C052-2007-4F6A-815C-3371521F64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Принципы психологического сопровож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(Казакова Е. 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уманизм;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риентация на максимальные возможности личности;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ответствие характера обучения сензитивным периодам жизни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рганизация личностно-ориентированного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бота о социальном самочувствии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о–психологическое сопровождение личности и ее самоопределение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стоянный деловой контакт с «большой» наукой и специалистами родственных направлений работы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833E-0ED6-4208-9FB7-C53EEE6990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Организация психологического сопров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накомство. Установление доверительный отношений. Наблюдение. Бесе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Уточнение первичного запроса со стороны участников психологического сопровождения (педагоги, дети, родители). Проверка запроса на обоснованность. Работа с «автором» за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лановая психодиагностика по согласованию с р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сиходиагностика по запросу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упповая и индивидуальная коррекционно - развивающая работа с ребен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сихологическая консультация всех участников сопров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ормационно – просветительское  направление. Родительские собрания. Методические рекомендации. Детско-родительские 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A24-4EB5-401F-A8FF-EAED3E7D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5B7-BC8A-4150-BBC7-C0462D30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8D3-AA92-4818-82F3-48E21E60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5B9-3D88-4C7F-8621-2D5A00FD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6B78-D60E-483B-8ABF-93095331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F742-2F6A-4245-B24A-46051812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58D7-3773-44D4-8468-095DD853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CE1B-A345-4702-ACB7-592763CE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C716-245C-4519-BC43-CE5E75DA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12C9-6CCD-41F3-B8DD-A1432419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ECCF-C2E7-4F57-B60B-A76A0A2C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E039-CE87-4FA1-BDCD-82A0D162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0FDA-0082-40D1-93B2-FDC0B6EB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B441-F111-496F-A163-C1AE1543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1E38-5B7A-474F-AC32-12472078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C889-B85E-4C74-BB75-7BCCF224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BDFC-0E6F-472F-8582-D7484336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7F9-256D-4DD6-9EFA-AFA365B6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CF7-F4C9-4552-AD04-83E44427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D73-FA46-4F31-82F3-D5A113C0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BDA5-6E4B-4E67-BFBC-608D53C1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8ECD-A5B8-4C9D-8045-DCEE7B61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765-9EA4-487F-85B4-882FA0D8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C82-231A-4C5E-A929-AE5B851B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F5AC-A0AF-41FC-89DA-9EB5CB5F23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A5B2-EE93-4B08-81AB-02329DBC53A9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сихологическое сопровождение в условиях дополнительного образования (отчет об инновационной  деятельности МОУ ДОД ДДиЮ «Факел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348000" y="907920"/>
            <a:ext cx="2664000" cy="14972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правления деятельности и формы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ным объектом психологическ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провождения в учреждении дополните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я является микрогруппа (7-12 человек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правило участники одного объединения. Форм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сихологического сопровождения реализуют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вместно с педагогами (кураторами, классны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уководителями, педагогами дополните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я),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которые одновременно  являют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ициаторами  запроса на психологические услуг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 помощниками в реализации данных услуг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истема психологического сопровождения процесс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662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Diagram 6"/>
          <p:cNvGrpSpPr/>
          <p:nvPr/>
        </p:nvGrpSpPr>
        <p:grpSpPr>
          <a:xfrm>
            <a:off x="2480760" y="1309320"/>
            <a:ext cx="4688640" cy="5211720"/>
            <a:chOff x="2480760" y="1309320"/>
            <a:chExt cx="4688640" cy="5211720"/>
          </a:xfrm>
        </p:grpSpPr>
        <p:sp>
          <p:nvSpPr>
            <p:cNvPr id="141" name="_s1028"/>
            <p:cNvSpPr/>
            <p:nvPr/>
          </p:nvSpPr>
          <p:spPr>
            <a:xfrm flipH="1" flipV="1">
              <a:off x="3696840" y="3263760"/>
              <a:ext cx="564480" cy="325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_s1029"/>
            <p:cNvSpPr/>
            <p:nvPr/>
          </p:nvSpPr>
          <p:spPr>
            <a:xfrm>
              <a:off x="2480760" y="2286720"/>
              <a:ext cx="1302840" cy="1302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детей «группы риска»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_s1030"/>
            <p:cNvSpPr/>
            <p:nvPr/>
          </p:nvSpPr>
          <p:spPr>
            <a:xfrm flipH="1">
              <a:off x="3696840" y="424080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_s1031"/>
            <p:cNvSpPr/>
            <p:nvPr/>
          </p:nvSpPr>
          <p:spPr>
            <a:xfrm>
              <a:off x="2481480" y="4241520"/>
              <a:ext cx="13028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общеобразовательных учреждений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_s1032"/>
            <p:cNvSpPr/>
            <p:nvPr/>
          </p:nvSpPr>
          <p:spPr>
            <a:xfrm>
              <a:off x="4825080" y="4566600"/>
              <a:ext cx="0" cy="65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_s1033"/>
            <p:cNvSpPr/>
            <p:nvPr/>
          </p:nvSpPr>
          <p:spPr>
            <a:xfrm>
              <a:off x="4174200" y="5218200"/>
              <a:ext cx="13028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процесса повышения профессиональной компетенции педагогов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_s1034"/>
            <p:cNvSpPr/>
            <p:nvPr/>
          </p:nvSpPr>
          <p:spPr>
            <a:xfrm>
              <a:off x="5389200" y="424080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_s1035"/>
            <p:cNvSpPr/>
            <p:nvPr/>
          </p:nvSpPr>
          <p:spPr>
            <a:xfrm>
              <a:off x="5866560" y="4240440"/>
              <a:ext cx="1302840" cy="1302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проектов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_s1036"/>
            <p:cNvSpPr/>
            <p:nvPr/>
          </p:nvSpPr>
          <p:spPr>
            <a:xfrm flipV="1">
              <a:off x="5389200" y="326376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_s1037"/>
            <p:cNvSpPr/>
            <p:nvPr/>
          </p:nvSpPr>
          <p:spPr>
            <a:xfrm>
              <a:off x="5866200" y="2286000"/>
              <a:ext cx="130284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творческих объединений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_s1038"/>
            <p:cNvSpPr/>
            <p:nvPr/>
          </p:nvSpPr>
          <p:spPr>
            <a:xfrm flipV="1">
              <a:off x="4825080" y="2612160"/>
              <a:ext cx="0" cy="65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_s1039"/>
            <p:cNvSpPr/>
            <p:nvPr/>
          </p:nvSpPr>
          <p:spPr>
            <a:xfrm>
              <a:off x="4173840" y="1309320"/>
              <a:ext cx="13028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ающих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4173840" y="3264120"/>
              <a:ext cx="1302840" cy="1302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Психологическое сопровождение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" name="Rectangle 21"/>
          <p:cNvSpPr/>
          <p:nvPr/>
        </p:nvSpPr>
        <p:spPr>
          <a:xfrm>
            <a:off x="0" y="662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опровождение творческих объединений  ДД и Ю «Факел»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00000" y="2060640"/>
          <a:ext cx="7772400" cy="4294080"/>
        </p:xfrm>
        <a:graphic>
          <a:graphicData uri="http://schemas.openxmlformats.org/drawingml/2006/table">
            <a:tbl>
              <a:tblPr/>
              <a:tblGrid>
                <a:gridCol w="379440"/>
                <a:gridCol w="2919600"/>
                <a:gridCol w="44733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колл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сопров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ьная студия «Изю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консультации родителей, семейные консультации, празд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развивающего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я, консультации, диагностика, составление карт наблю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ия «Фитодизайн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, тренинги, родительское собр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 «Аэроб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изучения английск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, тренинги, составление карт наблю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группы хоре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диагностика, беседы с родителями по заявленным темам, показательные вы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б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р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ман, дошкольник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диагностической карте отмечают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сти поведения: обидчивость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эмоциональная неустойчивост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гативизм (делает все наоборот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ит слова «не хочу» или «н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уду»), а также  нерешительность 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кцию новизны, иногда ситуаци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ного опроса, избегание умствен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илий и непонимание слож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кц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11280" y="1844640"/>
            <a:ext cx="758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по методике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«Лесенка» В.Г. Щу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явление представлений ребенка об отношениях к нему других людей, выявление его             самооценки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55640" y="3213000"/>
          <a:ext cx="6773760" cy="2567160"/>
        </p:xfrm>
        <a:graphic>
          <a:graphicData uri="http://schemas.openxmlformats.org/drawingml/2006/table">
            <a:tbl>
              <a:tblPr/>
              <a:tblGrid>
                <a:gridCol w="1428840"/>
                <a:gridCol w="1541520"/>
                <a:gridCol w="728640"/>
                <a:gridCol w="826920"/>
                <a:gridCol w="1079640"/>
                <a:gridCol w="1168200"/>
              </a:tblGrid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а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семь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сверс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воспит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row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в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кой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275"/>
          <p:cNvSpPr/>
          <p:nvPr/>
        </p:nvSpPr>
        <p:spPr>
          <a:xfrm>
            <a:off x="755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276"/>
          <p:cNvSpPr/>
          <p:nvPr/>
        </p:nvSpPr>
        <p:spPr>
          <a:xfrm>
            <a:off x="755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277"/>
          <p:cNvSpPr/>
          <p:nvPr/>
        </p:nvSpPr>
        <p:spPr>
          <a:xfrm>
            <a:off x="978120" y="587700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вод: личная самооценка адекватна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пытывает  незащищенность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35320" y="198900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нные по методике «ЦТО»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ветовой тест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агностика эмоциональных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50920" y="2781360"/>
          <a:ext cx="7200720" cy="1873080"/>
        </p:xfrm>
        <a:graphic>
          <a:graphicData uri="http://schemas.openxmlformats.org/drawingml/2006/table">
            <a:tbl>
              <a:tblPr/>
              <a:tblGrid>
                <a:gridCol w="1501560"/>
                <a:gridCol w="1341720"/>
                <a:gridCol w="1600200"/>
                <a:gridCol w="1417320"/>
                <a:gridCol w="133992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е н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инимаем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 и часть свер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ранне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69"/>
          <p:cNvSpPr/>
          <p:nvPr/>
        </p:nvSpPr>
        <p:spPr>
          <a:xfrm>
            <a:off x="179280" y="4869000"/>
            <a:ext cx="81378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анные могут меняться в зависимости от эмоционального состояния ребенка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коменд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 Необходимо понять и выслушать ребен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 В момент проблемного поведения переключи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имание на другое занят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2017440"/>
            <a:ext cx="8964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ДДиЮ «Факел» в 2006-2007 учебном году был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ализованы следующие виды деятельности с детьми «групп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иска»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ирование и консультирование по социальным и психологическим вопросам. Всего проведено: 213 консультаций 104 подростков и 98 родителей детей «группы риска», а также проведена индивидуальная работа с 18 педагогами ОУ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ый патронаж детей и подростков. На социальном –патронаже в 2006-2007 состояли 17 детей и подростков «группы риска»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о-педагогическое диагностирование на предмет выявления девиаций, определения степени поведенческих отклонений, уточнение социально –психологических характеристик проведено с 465 детьми и подростка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аткосрочные и долгосрочные программы, направленные на профилактику девиантного повед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264200" y="1916280"/>
            <a:ext cx="354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пециалисты ДДиЮ «Факел» принимают участи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организации и проведении социально-педагогических консилиумов (советы по профилактике в ОУ, еженедельные заседания КДН). Всего специалисты посетили 12 Советов по профилактике на базе ОУ, 2 социально- педагогических консилиума, более 54 заседаний КДН и ЗП Кировского и Советского район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упповые и индивидуальные формы работы с детьми реализуются как на базе Центра «Альтернатива» при ДД и Ю «Факел», так и на базе ОУ и учреждений социальной защиты (детские дома, реабилитационные центры, специализированные учреждения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опровождение   сопровождающи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взаимодействия специалистов, а также создание и поддерживание в коллективе сопровождающих атмосферу всеобщей заинтересованности в результатах труда; взаимопонимания и взаимного уважения к профессиональным  и личностным качествам колле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специалистов в новой логике взаимодействия; в методологии комплексности и мультидисциплинарности в решении проблем ребенка и его семь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цесса повышения профессиональной компетентности педагог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2017800"/>
          <a:ext cx="8486640" cy="5486400"/>
        </p:xfrm>
        <a:graphic>
          <a:graphicData uri="http://schemas.openxmlformats.org/drawingml/2006/table">
            <a:tbl>
              <a:tblPr/>
              <a:tblGrid>
                <a:gridCol w="585720"/>
                <a:gridCol w="3219480"/>
                <a:gridCol w="2193840"/>
                <a:gridCol w="1609920"/>
                <a:gridCol w="8776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Целев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л-во уч-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психологов и педагогов «Психофизиологические особенности детей дошкольного и школьного возрас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ирование знаний об особенностях детей и подрост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пециалисты ДД и Ю «Факе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социальных педагогов «Формы эффективного слуша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ирование навыков эффективного слуш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ц. педагоги ОУ и ДД и Ю «Факе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«Конфликты в педагогической среде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нформирование о способах выхода из конфликтных ситуаций в системе «Педагог - ребенок», «Педагог - педагог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едагоги школы №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Цель психологического сопровожд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сновной цел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сихологическог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провождения в ДД и Ю «Факел» являет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сихологическая помощь процесс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циализации личности, обеспечивающа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армонизацию отношений ребенка 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ства, развитие творческого потенциал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дагогического и детского коллективо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реждения, выявление перспектив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вития вариативного образ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Сопровождение сопровождающих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взаимодействие с психологами, педагогами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24000" y="1413000"/>
          <a:ext cx="8559720" cy="5456160"/>
        </p:xfrm>
        <a:graphic>
          <a:graphicData uri="http://schemas.openxmlformats.org/drawingml/2006/table">
            <a:tbl>
              <a:tblPr/>
              <a:tblGrid>
                <a:gridCol w="590400"/>
                <a:gridCol w="3246480"/>
                <a:gridCol w="2214360"/>
                <a:gridCol w="1624320"/>
                <a:gridCol w="88416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ая 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уч-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Формирование толерантных отношений среди подростков через развитие навыков эффективного общ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социальных компетен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Модели изменения поведения в деятельности по профилактике ПА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личностных компетен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, работающие в данном направл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Профилактика девиантного поведения и методы работы с девиантными подростками (на основе опыта работы учреждения)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о-ориентированный семинар-тренинг «Роль психолога в профилактической деятельности ОУ» (см.при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своей роли в профилактической деятельности ОУ каждым участником семинара-трен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Формы и методы профилактической работы» (см.при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профессиональной компетент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ормы взаимодействия с образовательными учреждениям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оставление услуг ДД и Ю «Факел» в виде списка предлагаемых мероприятий (образовательные программы, лектории и тренинги для всех целевых групп, консультирование, проведение массовых акци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нирование мероприятий с образовательными учреждениями  в течение г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уществление психологического сопровождения (реализация программ, ведение консультаций, социальное проектирование, психодиагностик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ка результатов и подведение итогов в течение года и  корректировка взаимодейств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екто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дельным направлени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сихологического сопровожд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ется взаимодействие с участникам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ектов, реализуемых ДДиЮ «Факел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ект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кола социального успеха «Переменка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лефон доверия «Берег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ти – детя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Square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Object 5"/>
          <p:cNvGraphicFramePr/>
          <p:nvPr/>
        </p:nvGraphicFramePr>
        <p:xfrm>
          <a:off x="250920" y="404640"/>
          <a:ext cx="889308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04640"/>
                    <a:ext cx="88930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WordArt 6"/>
          <p:cNvSpPr txBox="1"/>
          <p:nvPr/>
        </p:nvSpPr>
        <p:spPr>
          <a:xfrm>
            <a:off x="2843280" y="476280"/>
            <a:ext cx="622440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Социальные проекты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как форма интеграции детей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в образовательную среду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971640" y="2421000"/>
            <a:ext cx="7704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68360" y="3141720"/>
            <a:ext cx="8675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250920" y="5013360"/>
            <a:ext cx="3889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тское объедин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ладшего школьно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зрас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7-10 лет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5" name="Object 10"/>
          <p:cNvGraphicFramePr/>
          <p:nvPr/>
        </p:nvGraphicFramePr>
        <p:xfrm>
          <a:off x="3924360" y="2654280"/>
          <a:ext cx="4761000" cy="420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4360" y="2654280"/>
                    <a:ext cx="476100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11"/>
          <p:cNvSpPr/>
          <p:nvPr/>
        </p:nvSpPr>
        <p:spPr>
          <a:xfrm>
            <a:off x="324000" y="1916280"/>
            <a:ext cx="8424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Школа социального успех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«Переменка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втор–составитель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ординатор проек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кирневская Елена Николае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ШСУ «Переменка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варительные данные показали, чт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52%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школьников вначале работы  имели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повышенный уровень тревожности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сле работы с ними в школе социального успеха «Переменка», при использовании интерактивных, безоценочных методик  - видна положительная динами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бщий уровень тревожност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611280" y="2060640"/>
          <a:ext cx="8053200" cy="45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805320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Психодиагностик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агностика психологических особенностей детей в коллективах ДД и Ю «Факел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педагогов ДД и Ю «Факел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родителей детей, посещающих коллективы учрежд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 Коррекция, психологическое воздействие на развитие индивидуальных особенностей ребёнка через осуществление программ профилактики и психокоррек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. Консультирование. Индивидуальные консультации детей и подростков, их родителей, а также педагогов дополнительного образования по проблемам возрастных и индивидуальных особенностей в развитии ребенк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Просвещ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знакомление учащихся по проблемам общения, развития личности, полового воспит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ирование педагогов по вопросам возрастной психологии, проблемам межличностного общения, развития творческих способностей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ационно-просветительская работа с родителя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Профессиональное взаимодейств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системы запросов на профессиональную деятельность психолога (ее отделение от педагогических, административных и иных обязанностей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единение теоретических основ развития личности с содержанием и организационно-методическими компонентами деятельности субъектов взаимодей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совместной деятельности субъектов взаимодействия с функциональным распределением прав, обязанностей, формированием системы связ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инципы психологического сопровождения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(Казакова Е. И.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уманизм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иентация на максимальные возможности личности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ответствие характера обучения сензитивным периодам жизни ребен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ганизация личностно-ориентированного образова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бота о социальном самочувствии ребен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о–психологическое сопровождение личности и ее самоопределение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стоянный деловой контакт с «большой» наукой и специалистами родственных направлений работы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рганизация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накомство. Установление доверительный отношений. Наблюдение. Бесед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точнение первичного запроса со стороны участников психологического сопровождения (педагоги, дети, родители). Проверка запроса на обоснованность. Работа с «автором» запрос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лановая психодиагностика по согласованию с родителя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сиходиагностика по запросу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рупповая и индивидуальная коррекционно - развивающая работа с ребенк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сихологическая консультация всех участников сопровожд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ационно – просветительское  направление. Родительские собрания. Методические рекомендации. Детско-родительские  групп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4:30:54Z</dcterms:created>
  <dc:creator>user</dc:creator>
  <dc:description/>
  <dc:language>en-US</dc:language>
  <cp:lastModifiedBy>LEGION</cp:lastModifiedBy>
  <dcterms:modified xsi:type="dcterms:W3CDTF">2014-11-12T09:43:13Z</dcterms:modified>
  <cp:revision>14</cp:revision>
  <dc:subject/>
  <dc:title>Слайд 1</dc:title>
</cp:coreProperties>
</file>