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A797-5B7B-4C74-B1C0-EF11922767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24E17-5403-4E8B-894D-28FF8B3E073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30692-4FD7-4A10-B5BB-00610D16989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м объектом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учреждени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 является микрогруппа (7-12 человек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 участники одного объединения. Форм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реализую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педагогами (кураторами, класс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уководителями, педагогами дополнительн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зования),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которые одновременно  явля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орами  запроса на психологические услу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помощниками в реализации данных услуг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220F-64F4-4E22-99EB-3D006F0928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1ADAD-E36B-472C-A38F-22C7A9D889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F73B5-7EA0-4FE0-9EE0-1983C48E1B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7F394-A79A-480F-B727-81B288786A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7B4E5-799D-473B-9DD0-26CBA8AE32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870D-055F-43B0-B7DA-37F442509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B3112-9F16-4277-BC76-E4306EBDAA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014BE-4890-4EB9-A79C-753ED19AFA2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725DB-34F2-48B3-8E92-11A0AE632BF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EB05E-A4CA-4C06-8619-58E3FE377C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ой целью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сихологическог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провождения в ДД и Ю «Факел» являет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ая помощь процесс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изации личности, обеспечивающ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монизацию отношений ребен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ства, развитие творческого потенциал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дагогического и детского коллектив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реждения, выявление перспектив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я вариативного образ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604A-7676-49BA-97A0-3B07BFE7CD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588EC-CDFB-4E51-98EB-4B0FAE7EBA2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6C839-94DF-4788-A3E5-3180E1F69D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дельным направл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ого сопровож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взаимодействие с участника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ов, реализуемых ДДиЮ «Факел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ект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социального успеха «Переменк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лефон доверия «Берег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и – дет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5D2E-7ABB-4FA6-B311-AE45D9E590B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C753D-B90D-478F-B080-7ABE5E099E7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варительные данные показали, что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52%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школьников вначале работы  имели </a:t>
            </a: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овышенный уровень тревожности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63921-E067-4DAA-956A-E98C6E4DB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0F26A-139F-4AFB-B2A2-184BDF05D1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CA9A6-7106-4F14-AE88-16081152D9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B0D87-A410-4E61-926D-47DF707B76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67B4D-12A8-4410-A47D-F185AEC52F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Просвеще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знакомление учащихся по проблемам общения, развития личности, полового воспит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-просветительская работа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0F112-D1F7-4DF9-BC84-CD05C4CE18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Профессиональное взаимодейств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B8E25-2668-4FA7-8730-266A3C9B4B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601EE-DFF5-4D1C-A74E-2B1E3E1CA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5731-754D-4E67-A15A-17DC473EC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4D3-D493-4262-981A-2EECCFDD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833E-114F-451B-BFCC-C802F570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345A-C38C-41FE-9C09-68EFA4097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7FE9A-5462-40AD-9D8A-677D3F0D4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30276-0047-4518-8C12-5648DED6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B2F0-633A-441A-9C79-ED7D875D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63CB4-6E69-4977-B4A4-0F19422B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43BA-A449-4D04-94C0-A5DEB60A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503C1-1F79-4B76-B2CA-060285831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67C1-74A0-4D8D-8BBC-B638483B7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FCC5-C310-4AA7-ABCE-C49B31F46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3C736-2636-4EEA-B599-E5846B90C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912DC-EE79-4377-999A-B5321710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7E11D-11A6-443A-96C4-112F68C69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0B9E5-B41E-4DA2-95BB-074ACCE96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EDCB-E72F-4C4D-9B6F-A511E9153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BFAB-76F9-4D06-9B6D-0CE08315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D94-54E8-493D-8D26-148BB5000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21CE-DF1E-4537-832D-B80FDAA1D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106A-AD1B-4354-AAA9-6203059B1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8B08-84CE-467B-8912-F3128B39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C904-5511-4BAA-938D-1E884F66B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A2D0-DAA7-426A-B6AE-B9B40A6F8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66029-7ABB-4F48-90A3-FDF3932D7C2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9770-7BDA-4478-9B14-040352C52707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3320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Georgia"/>
              </a:rPr>
              <a:t>Психологическое сопровождение в условиях дополнительного образования (отчет об инновационной  деятельности МОУ ДОД ДДиЮ «Факел»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348000" y="907920"/>
            <a:ext cx="2664000" cy="1497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Направления деятельности и фор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новным объектом психологическ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провождения в учреждени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 является микрогруппа (7-12 человек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к правило участники одного объединения. Форм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реализуютс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но с педагогами (кураторами, классны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уководителями, педагогами дополнительного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разования),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которые одновременно  явля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ициаторами  запроса на психологические услуг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помощниками в реализации данных услуг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истема психологического сопровождения процесса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0" y="22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Diagram 6"/>
          <p:cNvGrpSpPr/>
          <p:nvPr/>
        </p:nvGrpSpPr>
        <p:grpSpPr>
          <a:xfrm>
            <a:off x="2480760" y="1309320"/>
            <a:ext cx="4688640" cy="5211720"/>
            <a:chOff x="2480760" y="1309320"/>
            <a:chExt cx="4688640" cy="5211720"/>
          </a:xfrm>
        </p:grpSpPr>
        <p:sp>
          <p:nvSpPr>
            <p:cNvPr id="141" name="_s1028"/>
            <p:cNvSpPr/>
            <p:nvPr/>
          </p:nvSpPr>
          <p:spPr>
            <a:xfrm flipH="1" flipV="1">
              <a:off x="3696840" y="3263760"/>
              <a:ext cx="564480" cy="325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" name="_s1029"/>
            <p:cNvSpPr/>
            <p:nvPr/>
          </p:nvSpPr>
          <p:spPr>
            <a:xfrm>
              <a:off x="2480760" y="2286720"/>
              <a:ext cx="1302840" cy="1302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детей «группы риска»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" name="_s1030"/>
            <p:cNvSpPr/>
            <p:nvPr/>
          </p:nvSpPr>
          <p:spPr>
            <a:xfrm flipH="1">
              <a:off x="369684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4" name="_s1031"/>
            <p:cNvSpPr/>
            <p:nvPr/>
          </p:nvSpPr>
          <p:spPr>
            <a:xfrm>
              <a:off x="2481480" y="4241520"/>
              <a:ext cx="1302840" cy="1302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общеобразовательных учрежд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5" name="_s1032"/>
            <p:cNvSpPr/>
            <p:nvPr/>
          </p:nvSpPr>
          <p:spPr>
            <a:xfrm>
              <a:off x="4825080" y="456660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" name="_s1033"/>
            <p:cNvSpPr/>
            <p:nvPr/>
          </p:nvSpPr>
          <p:spPr>
            <a:xfrm>
              <a:off x="4174200" y="5218200"/>
              <a:ext cx="1302840" cy="1302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цесса повышения профессиональной компетенции педагог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_s1034"/>
            <p:cNvSpPr/>
            <p:nvPr/>
          </p:nvSpPr>
          <p:spPr>
            <a:xfrm>
              <a:off x="5389200" y="424080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" name="_s1035"/>
            <p:cNvSpPr/>
            <p:nvPr/>
          </p:nvSpPr>
          <p:spPr>
            <a:xfrm>
              <a:off x="5866560" y="4240440"/>
              <a:ext cx="1302840" cy="1302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проектов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9" name="_s1036"/>
            <p:cNvSpPr/>
            <p:nvPr/>
          </p:nvSpPr>
          <p:spPr>
            <a:xfrm flipV="1">
              <a:off x="5389200" y="3263760"/>
              <a:ext cx="564480" cy="3258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" name="_s1037"/>
            <p:cNvSpPr/>
            <p:nvPr/>
          </p:nvSpPr>
          <p:spPr>
            <a:xfrm>
              <a:off x="5866200" y="2286000"/>
              <a:ext cx="1302840" cy="1302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 творческих объединений</a:t>
              </a:r>
              <a:endParaRPr b="0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" name="_s1038"/>
            <p:cNvSpPr/>
            <p:nvPr/>
          </p:nvSpPr>
          <p:spPr>
            <a:xfrm flipV="1">
              <a:off x="4825080" y="2612160"/>
              <a:ext cx="0" cy="651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" name="_s1039"/>
            <p:cNvSpPr/>
            <p:nvPr/>
          </p:nvSpPr>
          <p:spPr>
            <a:xfrm>
              <a:off x="4173840" y="1309320"/>
              <a:ext cx="1302840" cy="1302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c1c1c"/>
                  </a:solidFill>
                  <a:latin typeface="Arial"/>
                  <a:ea typeface="Times New Roman"/>
                </a:rPr>
                <a:t>сопровождающих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" name="_s1040"/>
            <p:cNvSpPr/>
            <p:nvPr/>
          </p:nvSpPr>
          <p:spPr>
            <a:xfrm>
              <a:off x="4173840" y="3264120"/>
              <a:ext cx="1302840" cy="1302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Times New Roman"/>
                </a:rPr>
                <a:t>Психологическое сопровождение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" name="Rectangle 21"/>
          <p:cNvSpPr/>
          <p:nvPr/>
        </p:nvSpPr>
        <p:spPr>
          <a:xfrm>
            <a:off x="0" y="662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творческих объединений  ДД и Ю «Факел»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900000" y="2060640"/>
          <a:ext cx="7772400" cy="4294080"/>
        </p:xfrm>
        <a:graphic>
          <a:graphicData uri="http://schemas.openxmlformats.org/drawingml/2006/table">
            <a:tbl>
              <a:tblPr/>
              <a:tblGrid>
                <a:gridCol w="379440"/>
                <a:gridCol w="2919600"/>
                <a:gridCol w="4473360"/>
              </a:tblGrid>
              <a:tr h="484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 коллекти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ы сопровож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атральная студия «Изю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 родителей, семейные консультации, празд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звивающего обу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блюдения, консультации, диагностика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тудия «Фитодизайн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родительское собр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уппы «Аэробики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консульт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изучения английского язы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, тренинги, составление карт наблюд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 группы хореограф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, диагностика, беседы с родителями по заявленным темам, показательные выступ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утб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ренинг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ерам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иагнос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6000" y="198900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ман, дошкольни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 диагностической карте отмечаются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собенности поведения: обидчивость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(эмоциональная неустойчивость)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гативизм (делает все наоборот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говорит слова «не хочу» или «н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уду»), а также  нерешительность на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акцию новизны, иногда ситуацию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тного опроса, избегание умствен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илий и непонимание сложных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нструкци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611280" y="1844640"/>
            <a:ext cx="7580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зультаты по методике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«Лесенка» В.Г. Щур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ыявление представлений ребенка об отношениях к нему других людей, выявление его             самооценки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755640" y="3213000"/>
          <a:ext cx="6773760" cy="2567160"/>
        </p:xfrm>
        <a:graphic>
          <a:graphicData uri="http://schemas.openxmlformats.org/drawingml/2006/table">
            <a:tbl>
              <a:tblPr/>
              <a:tblGrid>
                <a:gridCol w="1428840"/>
                <a:gridCol w="1541520"/>
                <a:gridCol w="728640"/>
                <a:gridCol w="826920"/>
                <a:gridCol w="1079640"/>
                <a:gridCol w="1168200"/>
              </a:tblGrid>
              <a:tr h="822600"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бственная оцен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емь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сверстник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ценка со стороны воспитателе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 rowSpan="6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о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доров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м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асив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обр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окой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Text Box 275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276"/>
          <p:cNvSpPr/>
          <p:nvPr/>
        </p:nvSpPr>
        <p:spPr>
          <a:xfrm>
            <a:off x="755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277"/>
          <p:cNvSpPr/>
          <p:nvPr/>
        </p:nvSpPr>
        <p:spPr>
          <a:xfrm>
            <a:off x="978120" y="5877000"/>
            <a:ext cx="677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ывод: личная самооценка адекватна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спытывает  незащищенность со стороны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ример психологического сопровождения ребёнка в рамках сопровождения творческого объединения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535320" y="1989000"/>
            <a:ext cx="728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анные по методике «ЦТО»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ветовой тест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Цель: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агностика эмоциональных отнош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50920" y="2781360"/>
          <a:ext cx="7200720" cy="1873080"/>
        </p:xfrm>
        <a:graphic>
          <a:graphicData uri="http://schemas.openxmlformats.org/drawingml/2006/table">
            <a:tbl>
              <a:tblPr/>
              <a:tblGrid>
                <a:gridCol w="1501560"/>
                <a:gridCol w="1341720"/>
                <a:gridCol w="1600200"/>
                <a:gridCol w="1417320"/>
                <a:gridCol w="1339920"/>
              </a:tblGrid>
              <a:tr h="78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 ребен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л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словное не принят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принимаем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м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одители и часть сверстник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асс раннего развит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спитател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Text Box 69"/>
          <p:cNvSpPr/>
          <p:nvPr/>
        </p:nvSpPr>
        <p:spPr>
          <a:xfrm>
            <a:off x="179280" y="4869000"/>
            <a:ext cx="813780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анные могут меняться в зависимости от эмоционального состояния ребенка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коменд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1. Необходимо понять и выслушать ребенк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2. В момент проблемного поведения переключит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имание на другое заняти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896472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 ДДиЮ «Факел» в 2006-2007 учебном году был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еализованы следующие виды деятельности с детьми «групп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риска»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ирование и консультирование по социальным и психологическим вопросам. Всего проведено: 213 консультаций 104 подростков и 98 родителей детей «группы риска», а также проведена индивидуальная работа с 18 педагогами ОУ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ый патронаж детей и подростков. На социальном –патронаже в 2006-2007 состояли 17 детей и подростков «группы риска»;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-педагогическое диагностирование на предмет выявления девиаций, определения степени поведенческих отклонений, уточнение социально –психологических характеристик проведено с 465 детьми и подросткам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раткосрочные и долгосрочные программы, направленные на профилактику девиантного пове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7"/>
          <p:cNvSpPr/>
          <p:nvPr/>
        </p:nvSpPr>
        <p:spPr>
          <a:xfrm>
            <a:off x="4264200" y="1916280"/>
            <a:ext cx="3547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Сопровождение детей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«группы риска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пециалисты ДДиЮ «Факел» принимают участие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 организации и проведении социально-педагогических консилиумов (советы по профилактике в ОУ, еженедельные заседания КДН). Всего специалисты посетили 12 Советов по профилактике на базе ОУ, 2 социально- педагогических консилиума, более 54 заседаний КДН и ЗП Кировского и Советского район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упповые и индивидуальные формы работы с детьми реализуются как на базе Центра «Альтернатива» при ДД и Ю «Факел», так и на базе ОУ и учреждений социальной защиты (детские дома, реабилитационные центры, специализированные учреждени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Сопровождение   сопровождающ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взаимодействия специалистов, а также создание и поддерживание в коллективе сопровождающих атмосферу всеобщей заинтересованности в результатах труда; взаимопонимания и взаимного уважения к профессиональным  и личностным качествам коллег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учение специалистов в новой логике взаимодействия; в методологии комплексности и мультидисциплинарности в решении проблем ребенка и его семь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цесса повышения профессиональной компетентности педагога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468360" y="2017800"/>
          <a:ext cx="8486640" cy="5486400"/>
        </p:xfrm>
        <a:graphic>
          <a:graphicData uri="http://schemas.openxmlformats.org/drawingml/2006/table">
            <a:tbl>
              <a:tblPr/>
              <a:tblGrid>
                <a:gridCol w="585720"/>
                <a:gridCol w="3219480"/>
                <a:gridCol w="2193840"/>
                <a:gridCol w="1609920"/>
                <a:gridCol w="87768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з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Целев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Кол-во уч-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психологов и педагогов «Психофизиологические особенности детей дошкольного и школьного возраст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знаний об особенностях детей и подрост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пециалисты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социальных педагогов «Формы эффективного слушания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Формирование навыков эффективного слуша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Соц. педагоги ОУ и ДД и Ю «Факел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4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тодическое объединение «Конфликты в педагогической среде»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нформирование о способах выхода из конфликтных ситуаций в системе «Педагог - ребенок», «Педагог - педаго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едагоги школы № 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Verdana"/>
              </a:rPr>
              <a:t>Цель психологического сопровожден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Основной целью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сихологического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провождения в ДД и Ю «Факел» являетс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ая помощь процессу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циализации личности, обеспечивающа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гармонизацию отношений ребенка 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щества, развитие творческого потенциала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едагогического и детского коллективов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чреждения, выявление перспективы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вития вариативного образова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Сопровождение сопровождающих: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Verdana"/>
              </a:rPr>
              <a:t>взаимодействие с психологами, педагогами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324000" y="1413000"/>
          <a:ext cx="8559720" cy="5456160"/>
        </p:xfrm>
        <a:graphic>
          <a:graphicData uri="http://schemas.openxmlformats.org/drawingml/2006/table">
            <a:tbl>
              <a:tblPr/>
              <a:tblGrid>
                <a:gridCol w="590400"/>
                <a:gridCol w="3246480"/>
                <a:gridCol w="2214360"/>
                <a:gridCol w="1624320"/>
                <a:gridCol w="88416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з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вая груп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-во уч-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ирование толерантных отношений среди подростков через развитие навыков эффективного общения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ормирование социаль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даг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Модели изменения поведения в деятельности по профилактике ПАВ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звитие личностных компетенций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, работающие в данном направлен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8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Профилактика девиантного поведения и методы работы с девиантными подростками (на основе опыта работы учреждения)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57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актико-ориентированный семинар-тренинг «Роль психолога в профилактической деятельности ОУ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ределение своей роли в профилактической деятельности ОУ каждым участником семинара-тренин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сихологи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минар «Формы и методы профилактической работы» (см.приложение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ышение профессиональной компетентности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пециалисты 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Формы взаимодействия с образовательными учреждениям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доставление услуг ДД и Ю «Факел» в виде списка предлагаемых мероприятий (образовательные программы, лектории и тренинги для всех целевых групп, консультирование, проведение массовых акций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нирование мероприятий с образовательными учреждениями  в течение год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существление психологического сопровождения (реализация программ, ведение консультаций, социальное проектирование, психодиагностик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1440" indent="-4852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енка результатов и подведение итогов в течение года и  корректировка взаимодейств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проектов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24000" y="198900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ьным направлением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сихологического сопровождения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является взаимодействие с участниками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ов, реализуемых ДДиЮ «Факел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екты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кола социального успеха «Переменка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Телефон доверия «Берег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ети – детя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" name="Picture 4" descr="Square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-252360" y="0"/>
            <a:ext cx="9753480" cy="7315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9" name="Object 5"/>
          <p:cNvGraphicFramePr/>
          <p:nvPr/>
        </p:nvGraphicFramePr>
        <p:xfrm>
          <a:off x="250920" y="404640"/>
          <a:ext cx="8893080" cy="158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0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404640"/>
                    <a:ext cx="8893080" cy="158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WordArt 6"/>
          <p:cNvSpPr txBox="1"/>
          <p:nvPr/>
        </p:nvSpPr>
        <p:spPr>
          <a:xfrm>
            <a:off x="2843280" y="476280"/>
            <a:ext cx="6224400" cy="9367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Социальные проекты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как форма интеграции детей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 </a:t>
            </a:r>
            <a:r>
              <a:rPr b="1" lang="en-US" sz="2000" spc="1" strike="noStrike">
                <a:ln w="0">
                  <a:noFill/>
                </a:ln>
                <a:solidFill>
                  <a:srgbClr val="333399"/>
                </a:solidFill>
                <a:latin typeface="Courier New"/>
              </a:rPr>
              <a:t>в образовательную среду</a:t>
            </a:r>
            <a:endParaRPr b="1" lang="en-US" sz="2000" spc="1" strike="noStrike">
              <a:ln w="0">
                <a:noFill/>
              </a:ln>
              <a:solidFill>
                <a:srgbClr val="333399"/>
              </a:solidFill>
              <a:latin typeface="Courier New"/>
              <a:ea typeface="Courier New"/>
            </a:endParaRPr>
          </a:p>
        </p:txBody>
      </p:sp>
      <p:sp>
        <p:nvSpPr>
          <p:cNvPr id="202" name="Rectangle 7"/>
          <p:cNvSpPr/>
          <p:nvPr/>
        </p:nvSpPr>
        <p:spPr>
          <a:xfrm>
            <a:off x="971640" y="2421000"/>
            <a:ext cx="770400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Rectangle 8"/>
          <p:cNvSpPr/>
          <p:nvPr/>
        </p:nvSpPr>
        <p:spPr>
          <a:xfrm>
            <a:off x="468360" y="3141720"/>
            <a:ext cx="867564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250920" y="5013360"/>
            <a:ext cx="3889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детское объедин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младшего школьного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возрас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        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7-10 лет </a:t>
            </a: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5" name="Object 10"/>
          <p:cNvGraphicFramePr/>
          <p:nvPr/>
        </p:nvGraphicFramePr>
        <p:xfrm>
          <a:off x="3924360" y="2654280"/>
          <a:ext cx="4761000" cy="420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Object 10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24360" y="2654280"/>
                    <a:ext cx="476100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Rectangle 11"/>
          <p:cNvSpPr/>
          <p:nvPr/>
        </p:nvSpPr>
        <p:spPr>
          <a:xfrm>
            <a:off x="324000" y="1916280"/>
            <a:ext cx="842472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Школа социального успеха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cc"/>
                </a:solidFill>
                <a:latin typeface="Monotype Corsiva"/>
              </a:rPr>
              <a:t>«Переменка»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втор–составител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координатор проек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кирневская Елена Николаевн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,-71,-24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8,-78,-78)"/>
                                          </p:val>
                                        </p:tav>
                                        <p:tav tm="50000">
                                          <p:val>
                                            <p:strVal val="rgb(-28,0,114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05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Психологическое сопровождение ШСУ «Переменка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436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едварительные данные показали, что 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52%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школьников вначале работы  имели </a:t>
            </a:r>
            <a:r>
              <a:rPr b="0" i="1" lang="ru-RU" sz="3200" spc="-1" strike="noStrike">
                <a:solidFill>
                  <a:srgbClr val="ff0000"/>
                </a:solidFill>
                <a:latin typeface="Tahoma"/>
              </a:rPr>
              <a:t>повышенный уровень тревожности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После работы с ними в школе социального успеха «Переменка», при использовании интерактивных, безоценочных методик  - видна положительная динамик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982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бщий уровень тревожност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213" name="Object 4"/>
          <p:cNvGraphicFramePr/>
          <p:nvPr/>
        </p:nvGraphicFramePr>
        <p:xfrm>
          <a:off x="611280" y="2060640"/>
          <a:ext cx="8053200" cy="451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2060640"/>
                    <a:ext cx="8053200" cy="451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5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1. Психодиагностика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иагностика психологических особенностей детей в коллективах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педагогов ДД и Ю «Факел»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зучение психологического потенциала родителей детей, посещающих коллективы учрежден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. Коррекция, психологическое воздействие на развитие индивидуальных особенностей ребёнка через осуществление программ профилактики и психокоррек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0920" y="2017800"/>
            <a:ext cx="8343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3. Консультирование. Индивидуальные консультации детей и подростков, их родителей, а также педагогов дополнительного образования по проблемам возрастных и индивидуальных особенностей в развитии ребенк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4. Просвещение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знакомление учащихся по проблемам общения, развития личности, полового воспитания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ирование педагогов по вопросам возрастной психологии, проблемам межличностного общения, развития творческих способностей детей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информационно-просветительская работа с родителя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Механизмы психологического сопровожде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. Профессиональное взаимодейств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истемы запросов на профессиональную деятельность психолога (ее отделение от педагогических, административных и иных обязанностей)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единение теоретических основ развития личности с содержанием и организационно-методическими компонентами деятельности субъектов взаимодейств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рганизация совместной деятельности субъектов взаимодействия с функциональным распределением прав, обязанностей, формированием системы связей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Принципы психологического сопровождения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Verdana"/>
              </a:rPr>
              <a:t>(Казакова Е. И.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уманизм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иентация на максимальные возможности личности;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ответствие характера обучения сензитивным периодам жизн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рганизация личностно-ориентированного образов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абота о социальном самочувствии ребенк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циально–психологическое сопровождение личности и ее самоопределение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остоянный деловой контакт с «большой» наукой и специалистами родственных направлений работы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Verdana"/>
              </a:rPr>
              <a:t>Организация психологического сопровождения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Знакомство. Установление доверительный отношений. Наблюдение. Бесед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Уточнение первичного запроса со стороны участников психологического сопровождения (педагоги, дети, родители). Проверка запроса на обоснованность. Работа с «автором» запро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лановая психодиагностика по согласованию с родителя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диагностика по запросу родителе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Групповая и индивидуальная коррекционно - развивающая работа с ребенк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Психологическая консультация всех участников сопровожде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нформационно – просветительское  направление. Родительские собрания. Методические рекомендации. Детско-родительские  группы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65760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04:30:54Z</dcterms:created>
  <dc:creator>user</dc:creator>
  <dc:description/>
  <dc:language>en-US</dc:language>
  <cp:lastModifiedBy>LEGION</cp:lastModifiedBy>
  <dcterms:modified xsi:type="dcterms:W3CDTF">2014-11-12T09:43:13Z</dcterms:modified>
  <cp:revision>14</cp:revision>
  <dc:subject/>
  <dc:title>Слайд 1</dc:title>
</cp:coreProperties>
</file>