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F700-CFBE-410D-B0AB-CD7D24DF46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5435-1E79-4418-A336-A41040F85F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3F46-4DB5-421E-88D5-C4A1359F41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бъектом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учреждени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 является микрогруппа (7-12 человек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 участники одного объединения. Фо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реализу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педагогами (кураторами, класс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ями, педагогам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)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торые одновременно  явля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орами  запроса на психологические услу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помощниками в реализации данных услу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DBEC-06C6-47CA-8D66-362112E30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C847-E4FA-4AEC-AA32-2D6937B3FF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18FA-6313-4339-8F8A-8073145A50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38F5-43F4-4B66-9B14-03D80C8D6E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9465-3ADC-4F87-BE66-7DB38CC49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FE22-09E0-4585-BEC3-385CBD5C56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5BA7-8A6E-48AD-886F-0EED0AF0AC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FD4D-AFAE-4D92-AAB2-7622C5100B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A3E4-594B-40E3-BF5A-FD1A1B9E99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BA90-B77D-4F12-9A8F-74E323E606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ой цел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ДД и Ю «Факел»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 процес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зации личности, обеспечиваю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монизацию отношений ребен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, развитие творческого потенци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ого и детского коллектив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реждения, выявление перспекти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я вариатив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1CF4-44B2-40CB-B4CE-9AA7AF28E9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2050-BB97-42C9-8EED-D7754B7298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ADC6-CF19-49D7-B8A2-06D2933902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м направл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заимодействие с участ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ов, реализуемых ДДиЮ «Факел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оциального успеха «Перемен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 доверия «Берег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– де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5DC2-3AEE-4BA3-BD64-154D92682F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DFEC-A714-4C60-8D50-31F4CBF02C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ые данные показали, чт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52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школьников вначале работы  имели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овышенный уровень тревож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9111-C964-4E65-96BD-B9477D5713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6DF9-AD83-4F37-BC69-A76E3E668E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1D0F-F078-4428-A9F6-C00C0FDA0D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4137-4FCC-45E7-A44A-2DEC9FEF4E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4FE4-5E6A-4C35-B395-F3C12EC3DD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свещ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ление учащихся по проблемам общения, развития личности, полового воспит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просветительская работа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CF02-C71F-481C-8207-ED73B41302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взаимодей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BEAA-E2F3-4002-8DCD-4982A59021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4605-CB04-47BB-8222-7B43039571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A8E-20E0-4106-9362-F514A994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E72-4409-4E29-9F7F-6D2C1E06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D4D-BD84-4AF8-B607-C5FEA8BE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46E-05C3-4555-8795-200E2116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EC89-1D58-404C-A8CF-597397C5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72A1-A9E6-4349-8C20-6ADEA2D2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92E3-AD12-4382-A365-4EAF77D9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1792-3048-40FD-AC53-DB234B7A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4D64-D0C5-4E20-B9F3-A90023B7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F327-D1E8-44C6-8C83-964B184B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3C6E-7BA4-4A84-960F-A2BB0E7F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7B7-0C83-4433-ACFC-BE106905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C6C5-76E9-4B9A-BD21-E03AC84D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0DC9-11A8-4293-B442-C6E9CE97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FDA9-69B5-437B-8117-378E395A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6F06-D67D-421E-AFDA-612E6D52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C38D-27AA-4B9A-9CFD-7B3CA1CA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A75-A1EF-43AA-9149-231B256D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B5D-217B-42E2-97B1-84812391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A4C-ACD7-4F2C-9928-8BAA70A2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515-C705-430C-BD09-86EF7513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56E-4F47-44D3-99E0-8F1EB690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0F1-3FA7-4311-B5EA-72061C9C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7F4-9701-4466-AE63-E936C631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B561-B82D-4729-B00C-837DD86B00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915F-08D8-40C4-8F48-533C269064D8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348000" y="907920"/>
            <a:ext cx="2664000" cy="1497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ным объектом психологическ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провождения в учреждени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 является микрогруппа (7-12 человек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правило участники одного объединения. Форм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реализуют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местно с педагогами (кураторами, классны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оводителями, педагогам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)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которые одновременно  явля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ициаторами  запроса на психологические услуг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помощниками в реализации данных услуг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Diagram 6"/>
          <p:cNvGrpSpPr/>
          <p:nvPr/>
        </p:nvGrpSpPr>
        <p:grpSpPr>
          <a:xfrm>
            <a:off x="2480760" y="1309320"/>
            <a:ext cx="4688640" cy="5211720"/>
            <a:chOff x="2480760" y="1309320"/>
            <a:chExt cx="4688640" cy="5211720"/>
          </a:xfrm>
        </p:grpSpPr>
        <p:sp>
          <p:nvSpPr>
            <p:cNvPr id="141" name="_s1028"/>
            <p:cNvSpPr/>
            <p:nvPr/>
          </p:nvSpPr>
          <p:spPr>
            <a:xfrm flipH="1" flipV="1">
              <a:off x="3696840" y="3263760"/>
              <a:ext cx="564480" cy="32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_s1029"/>
            <p:cNvSpPr/>
            <p:nvPr/>
          </p:nvSpPr>
          <p:spPr>
            <a:xfrm>
              <a:off x="2480760" y="2286720"/>
              <a:ext cx="1302840" cy="1302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детей «группы риска»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_s1030"/>
            <p:cNvSpPr/>
            <p:nvPr/>
          </p:nvSpPr>
          <p:spPr>
            <a:xfrm flipH="1">
              <a:off x="369684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_s1031"/>
            <p:cNvSpPr/>
            <p:nvPr/>
          </p:nvSpPr>
          <p:spPr>
            <a:xfrm>
              <a:off x="2481480" y="4241520"/>
              <a:ext cx="13028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общеобразовательных учрежд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_s1032"/>
            <p:cNvSpPr/>
            <p:nvPr/>
          </p:nvSpPr>
          <p:spPr>
            <a:xfrm>
              <a:off x="4825080" y="456660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_s1033"/>
            <p:cNvSpPr/>
            <p:nvPr/>
          </p:nvSpPr>
          <p:spPr>
            <a:xfrm>
              <a:off x="4174200" y="5218200"/>
              <a:ext cx="13028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цесса повышения профессиональной компетенции педагог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_s1034"/>
            <p:cNvSpPr/>
            <p:nvPr/>
          </p:nvSpPr>
          <p:spPr>
            <a:xfrm>
              <a:off x="538920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_s1035"/>
            <p:cNvSpPr/>
            <p:nvPr/>
          </p:nvSpPr>
          <p:spPr>
            <a:xfrm>
              <a:off x="5866560" y="4240440"/>
              <a:ext cx="1302840" cy="1302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ект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 flipV="1">
              <a:off x="5389200" y="326376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_s1037"/>
            <p:cNvSpPr/>
            <p:nvPr/>
          </p:nvSpPr>
          <p:spPr>
            <a:xfrm>
              <a:off x="5866200" y="2286000"/>
              <a:ext cx="130284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творческих объедин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_s1038"/>
            <p:cNvSpPr/>
            <p:nvPr/>
          </p:nvSpPr>
          <p:spPr>
            <a:xfrm flipV="1">
              <a:off x="4825080" y="261216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_s1039"/>
            <p:cNvSpPr/>
            <p:nvPr/>
          </p:nvSpPr>
          <p:spPr>
            <a:xfrm>
              <a:off x="4173840" y="1309320"/>
              <a:ext cx="13028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ающих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4173840" y="3264120"/>
              <a:ext cx="1302840" cy="1302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Психологическое 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" name="Rectangle 21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00000" y="2060640"/>
          <a:ext cx="7772400" cy="4294080"/>
        </p:xfrm>
        <a:graphic>
          <a:graphicData uri="http://schemas.openxmlformats.org/drawingml/2006/table">
            <a:tbl>
              <a:tblPr/>
              <a:tblGrid>
                <a:gridCol w="379440"/>
                <a:gridCol w="2919600"/>
                <a:gridCol w="44733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колл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сопров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ьная студия «Изю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 родителей, семейные консультации, празд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звивающег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я, консультации, диагностика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ия «Фитодизай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«Аэроб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изучения английс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группы хоре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диагностика, беседы с родителями по заявленным темам, показательные вы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б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11280" y="1844640"/>
            <a:ext cx="75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по методик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«Лесенка» В.Г. Щу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явление представлений ребенка об отношениях к нему других людей, выявление его             самооценки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55640" y="3213000"/>
          <a:ext cx="6773760" cy="2567160"/>
        </p:xfrm>
        <a:graphic>
          <a:graphicData uri="http://schemas.openxmlformats.org/drawingml/2006/table">
            <a:tbl>
              <a:tblPr/>
              <a:tblGrid>
                <a:gridCol w="1428840"/>
                <a:gridCol w="1541520"/>
                <a:gridCol w="728640"/>
                <a:gridCol w="826920"/>
                <a:gridCol w="1079640"/>
                <a:gridCol w="1168200"/>
              </a:tblGrid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емь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верс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воспит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row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в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кой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275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76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277"/>
          <p:cNvSpPr/>
          <p:nvPr/>
        </p:nvSpPr>
        <p:spPr>
          <a:xfrm>
            <a:off x="978120" y="5877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вод: личная самооценка адекват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пытывает  незащищенность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35320" y="198900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нные по методике «ЦТО»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ветовой тест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агностика эмоциональных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0920" y="2781360"/>
          <a:ext cx="7200720" cy="1873080"/>
        </p:xfrm>
        <a:graphic>
          <a:graphicData uri="http://schemas.openxmlformats.org/drawingml/2006/table">
            <a:tbl>
              <a:tblPr/>
              <a:tblGrid>
                <a:gridCol w="1501560"/>
                <a:gridCol w="1341720"/>
                <a:gridCol w="1600200"/>
                <a:gridCol w="1417320"/>
                <a:gridCol w="133992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н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инимае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и часть свер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нне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69"/>
          <p:cNvSpPr/>
          <p:nvPr/>
        </p:nvSpPr>
        <p:spPr>
          <a:xfrm>
            <a:off x="179280" y="4869000"/>
            <a:ext cx="8137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нные могут меняться в зависимости от эмоционального состояния ребенк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 Необходимо понять и выслушать ребен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В момент проблемного поведения переключи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имание на другое занят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2017440"/>
            <a:ext cx="8964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64200" y="1916280"/>
            <a:ext cx="354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2017800"/>
          <a:ext cx="8486640" cy="5486400"/>
        </p:xfrm>
        <a:graphic>
          <a:graphicData uri="http://schemas.openxmlformats.org/drawingml/2006/table">
            <a:tbl>
              <a:tblPr/>
              <a:tblGrid>
                <a:gridCol w="585720"/>
                <a:gridCol w="3219480"/>
                <a:gridCol w="2193840"/>
                <a:gridCol w="1609920"/>
                <a:gridCol w="87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ев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-во уч-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психологов и педагогов «Психофизиологические особенности детей дошкольного и школьного возрас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знаний об особенностях детей и подрост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пециалисты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социальных педагогов «Формы эффективного слуша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навыков эффективного слуш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ц. педагоги ОУ и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«Конфликты в педагогической среде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нформирование о способах выхода из конфликтных ситуаций в системе «Педагог - ребенок», «Педагог - педагог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дагоги школы №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сновной цел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сихологическо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провождения в ДД и Ю «Факел» являет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ая помощь процесс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циализации личности, обеспечивающа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рмонизацию отношений ребенка 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а, развитие творческого потенциал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дагогического и детского коллективо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реждения, выявление перспектив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тия вариативного образ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4000" y="1413000"/>
          <a:ext cx="8559720" cy="5456160"/>
        </p:xfrm>
        <a:graphic>
          <a:graphicData uri="http://schemas.openxmlformats.org/drawingml/2006/table">
            <a:tbl>
              <a:tblPr/>
              <a:tblGrid>
                <a:gridCol w="590400"/>
                <a:gridCol w="3246480"/>
                <a:gridCol w="2214360"/>
                <a:gridCol w="1624320"/>
                <a:gridCol w="88416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ая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уч-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ирование толерантных отношений среди подростков через развитие навыков эффективного общ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оциаль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Модели изменения поведения в деятельности по профилактике ПА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личност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, работающие в данном направл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Профилактика девиантного поведения и методы работы с девиантными подростками (на основе опыта работы учреждения)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о-ориентированный семинар-тренинг «Роль психолога в профилактической деятельности ОУ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своей роли в профилактической деятельности ОУ каждым участником семинара-трен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ы и методы профилактической работы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офессиональной компетент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дельным направлени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взаимодействие с участника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ов, реализуемых ДДиЮ «Факел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кола социального успеха «Перемен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лефон доверия «Берег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ти – детя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quare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Object 5"/>
          <p:cNvGraphicFramePr/>
          <p:nvPr/>
        </p:nvGraphicFramePr>
        <p:xfrm>
          <a:off x="250920" y="404640"/>
          <a:ext cx="889308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04640"/>
                    <a:ext cx="8893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WordArt 6"/>
          <p:cNvSpPr txBox="1"/>
          <p:nvPr/>
        </p:nvSpPr>
        <p:spPr>
          <a:xfrm>
            <a:off x="2843280" y="476280"/>
            <a:ext cx="622440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Социальные проекты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как форма интеграции детей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в образовательную среду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971640" y="2421000"/>
            <a:ext cx="7704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68360" y="3141720"/>
            <a:ext cx="8675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50920" y="5013360"/>
            <a:ext cx="3889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тское объедин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ладшего школьн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зрас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-10 лет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5" name="Object 10"/>
          <p:cNvGraphicFramePr/>
          <p:nvPr/>
        </p:nvGraphicFramePr>
        <p:xfrm>
          <a:off x="3924360" y="2654280"/>
          <a:ext cx="4761000" cy="420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2654280"/>
                    <a:ext cx="476100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1"/>
          <p:cNvSpPr/>
          <p:nvPr/>
        </p:nvSpPr>
        <p:spPr>
          <a:xfrm>
            <a:off x="324000" y="1916280"/>
            <a:ext cx="8424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Школа социального успех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«Переменка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втор–составител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ординатор проек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кирневская Елена Никола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варительные данные показали, чт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52%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школьников вначале работы  имели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овышенный уровень тревожност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1280" y="2060640"/>
          <a:ext cx="8053200" cy="45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805320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Просвещ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знакомление учащихся по проблемам общения, развития личности, полового воспит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онно-просветительская работа с родител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Профессиональное взаимодейств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4:30:54Z</dcterms:created>
  <dc:creator>user</dc:creator>
  <dc:description/>
  <dc:language>en-US</dc:language>
  <cp:lastModifiedBy>LEGION</cp:lastModifiedBy>
  <dcterms:modified xsi:type="dcterms:W3CDTF">2014-11-12T09:43:13Z</dcterms:modified>
  <cp:revision>14</cp:revision>
  <dc:subject/>
  <dc:title>Слайд 1</dc:title>
</cp:coreProperties>
</file>