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001D-62E7-48BE-A4AA-11CB897FC8D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 - профессия буду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ажно знать, чтобы помочь и предупреди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. Д. Горб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12E6-4011-439D-A7AD-E03892C7BFA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95A5-48D0-4B91-8F71-E9FDA111D2E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сти психолога, связанные с космонавт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ач-психол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веренный психол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5B8C-FCA3-47B5-BD04-78D58BD9147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оверенный психолог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монавт всегда может поделиться с ним впечатлениями, психологическим состоя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утствует на трениров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людает, как ведет себя космонав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CBB8-8F29-4AD6-B367-6E25A91D6DF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сколько психологическая подготовка важна для космонавтов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огромное, так как круг проблем поведения и работоспособности в сложных условиях очень шир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819E-ED66-4B70-8978-B85E92FD982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психологи помогают космонавтам избежать стресс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ъясняют космонавтам методы психологического самоконтроля, адаптации к стрессовым ситуациям и самокоррекции своего повед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т использовать силу стресса себе во бла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т брать ситуацию под контроль и принимать взвешенные реш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3013-1683-4AB5-9161-4A31E9132CC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работ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 подготовки космонавтов имени Гагари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 Марс-5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 медико-биологических пробл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58FD-EDDA-4216-8388-FF1C655DBDD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E6D1-3573-4CC6-B649-1135ACC10C7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требова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я очень редкая, дефицит больш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721D-C3B6-4F8C-8E39-273C6EB2DBE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15E0-ACA2-4C4D-AD48-0FF8EEA97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7FED-C406-4065-A9C7-147D2D6B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1B6D-B24E-42CB-83E0-E0EB86422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4D18-76E8-47CF-B8BF-AC80219C0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56F2-C622-4AC7-977E-544C63060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845C-B0E5-46DC-918F-C81646E7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8165-FA5D-4C1A-B4B7-579FAE2F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D24B-622D-449E-8D93-4F2B777E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BDB0-4913-4283-A198-BDE21E2D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1A94-A62E-428E-BF6A-109705EC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54FC-4F8E-4606-BE77-67C02756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A9C7-3D12-4901-8414-63788BDA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6DDB-3132-4D6B-833F-B3149B08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0293-BD9E-4BE9-88F9-BFA954B0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D1EF-2B32-4649-B143-F1DDCB6A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E7B7-9D7D-44CA-A1D1-F8593276E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9631-74AB-4665-A9A0-2710D1F09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E82D-6186-4179-8F96-DE209CBD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4B95-3898-47AD-A8FE-7E1BEB28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A94A-2FB0-4B90-A229-5E95750E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57A0-03CF-4ED7-BC76-417B9FE8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DAD8-F486-4A59-8D61-766D8A5C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7E52-D7BF-4113-9A16-C43A9146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423A-CDF9-4F4A-9746-1216A050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2430-FED2-4763-9B69-A0C0A8546B1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9AEA-7CB9-4DF9-A606-D165FABD106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Психолог - профессия будущего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47760" y="4038120"/>
            <a:ext cx="5715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Важно знать, чтобы помочь и предупредить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Ф. Д. Горб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 rot="1287000">
            <a:off x="2361960" y="2819160"/>
            <a:ext cx="2952720" cy="24206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7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Должности психолога, связанные с космонавтами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рач-психоло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веренный психоло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5105520" y="3886200"/>
            <a:ext cx="2571480" cy="200664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2b2b2"/>
                </a:solidFill>
                <a:latin typeface="Arial"/>
              </a:rPr>
              <a:t>Доверенный психолог</a:t>
            </a:r>
            <a:br>
              <a:rPr sz="36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смонавт всегда может поделиться с ним впечатлениями, психологическим состояни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сутствует на тренировк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блюдает, как ведет себя космонав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рач-психолог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одит психологические тес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следует психическую деятельность человека в условиях подготовки и осуществления космических поле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одит медицинские обслед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Насколько психологическая подготовка важна для космонавтов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777240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чение огромное, так как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уг проблем поведения и работоспособности в сложных условиях очень широк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7039080" y="3733920"/>
            <a:ext cx="1938240" cy="289548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Как психологи помогают космонавтам избежать стресса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ъясняют космонавтам методы психологического самоконтроля, адаптации к стрессовым ситуациям и самокоррекции своего повед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т использовать силу стресса себе во благ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т брать ситуацию под контроль и принимать взвешенные реш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Где работать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нтр подготовки космонавтов имени Гагари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ект Марс-50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ститут медико-биологических пробле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6248520" y="4800600"/>
            <a:ext cx="2019240" cy="14716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Перспектива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5867280" y="4572000"/>
            <a:ext cx="1646280" cy="205740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18"/>
          <p:cNvGrpSpPr/>
          <p:nvPr/>
        </p:nvGrpSpPr>
        <p:grpSpPr>
          <a:xfrm>
            <a:off x="838080" y="2133720"/>
            <a:ext cx="7315200" cy="1676160"/>
            <a:chOff x="838080" y="2133720"/>
            <a:chExt cx="7315200" cy="1676160"/>
          </a:xfrm>
        </p:grpSpPr>
        <p:sp>
          <p:nvSpPr>
            <p:cNvPr id="132" name="Rectangle 14"/>
            <p:cNvSpPr/>
            <p:nvPr/>
          </p:nvSpPr>
          <p:spPr>
            <a:xfrm>
              <a:off x="5486400" y="2133720"/>
              <a:ext cx="2666880" cy="167616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Штатный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психолог </a:t>
              </a: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(для экспедиций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3" name="Group 15"/>
            <p:cNvGrpSpPr/>
            <p:nvPr/>
          </p:nvGrpSpPr>
          <p:grpSpPr>
            <a:xfrm>
              <a:off x="838080" y="2133720"/>
              <a:ext cx="4648320" cy="1676160"/>
              <a:chOff x="838080" y="2133720"/>
              <a:chExt cx="4648320" cy="1676160"/>
            </a:xfrm>
          </p:grpSpPr>
          <p:sp>
            <p:nvSpPr>
              <p:cNvPr id="134" name="Rectangle 16"/>
              <p:cNvSpPr/>
              <p:nvPr/>
            </p:nvSpPr>
            <p:spPr>
              <a:xfrm>
                <a:off x="838080" y="2133720"/>
                <a:ext cx="2971800" cy="167616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ffffff"/>
                    </a:solidFill>
                    <a:latin typeface="Arial"/>
                  </a:rPr>
                  <a:t>Доверенный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ffffff"/>
                    </a:solidFill>
                    <a:latin typeface="Arial"/>
                  </a:rPr>
                  <a:t>психолог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AutoShape 17"/>
              <p:cNvSpPr/>
              <p:nvPr/>
            </p:nvSpPr>
            <p:spPr>
              <a:xfrm>
                <a:off x="3809880" y="2743200"/>
                <a:ext cx="1676520" cy="456840"/>
              </a:xfrm>
              <a:prstGeom prst="rightArrow">
                <a:avLst>
                  <a:gd name="adj1" fmla="val 50000"/>
                  <a:gd name="adj2" fmla="val 91745"/>
                </a:avLst>
              </a:prstGeom>
              <a:solidFill>
                <a:srgbClr val="33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36" name="Picture 22" descr=""/>
          <p:cNvPicPr/>
          <p:nvPr/>
        </p:nvPicPr>
        <p:blipFill>
          <a:blip r:embed="rId2"/>
          <a:stretch/>
        </p:blipFill>
        <p:spPr>
          <a:xfrm>
            <a:off x="1752480" y="4419720"/>
            <a:ext cx="1517760" cy="206676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стребованност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фессия очень редкая, дефицит больш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6477120" y="3962520"/>
            <a:ext cx="1681200" cy="243828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7:18:45Z</dcterms:created>
  <dc:creator>Администратор</dc:creator>
  <dc:description/>
  <dc:language>en-US</dc:language>
  <cp:lastModifiedBy>LEGION</cp:lastModifiedBy>
  <dcterms:modified xsi:type="dcterms:W3CDTF">2014-11-12T10:10:21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