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0013-AE3F-4AE5-9BA8-59BDF775E01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- профессия буд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жно знать, чтобы помочь и предупреди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. Д. Горб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37D8-A41A-4D23-BD7F-B28BDDA9A2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5869-782F-482F-8534-13DEFCD9EA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и психолога, связанные с космонав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ч-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еренный 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B787-221F-417F-A9D6-A193D30EB3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оверенный психолог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онавт всегда может поделиться с ним впечатлениями, психологическим состоя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утствует на трениров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ает, как ведет себя космона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5678-A6C4-4B55-8D03-AB3BE3B332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сколько психологическая подготовка важна для космонавтов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громное, так как круг проблем поведения и работоспособности в сложных условиях очень ши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8229-338B-4A22-A2E0-3774A4C9C4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психологи помогают космонавтам избежать стресс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ъясняют космонавтам методы психологического самоконтроля, адаптации к стрессовым ситуациям и самокоррекции своего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т использовать силу стресса себе во бла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т брать ситуацию под контроль и принимать взвешенные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90EB-A968-48DB-B7FA-76BA789F4A4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абот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подготовки космонавтов имени Гагар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 Марс-5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медико-биологических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7BD4-70C0-4EE1-81EF-F2560FF451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6050-9D7E-4912-BCA1-9A8B94AE12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требов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я очень редкая, дефицит больш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A946-EF15-4723-B92D-FF224A77FF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5F8-8062-4851-A67F-CA02397F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6BA4-85FB-42D9-B60C-F27A7866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0A6-E7B0-4BEB-991D-AB225CF0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EA2A-DCE1-4508-AAD7-B874E9C5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2E1F-06F6-4940-A44B-98308750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6B42-EF04-4450-ADCA-2B191E69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21BD-B009-413E-8B19-CA099E32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BC27-41E6-478E-83DC-04E5EC72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B0AA-E874-4430-9491-AB44B4A3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2827-9A5B-48CE-B258-1912ABD7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A9DB-8D4B-4A44-8EDC-24CE23E7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4F20-1954-496B-A8AB-EE54CBC4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5D24-031A-4C76-8474-1C3ABA48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1ECE-5C7B-4381-B67F-B011A410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2496-90E2-43F2-8AA0-0EE726C2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D221-DBBF-421E-AC30-FFBC6DAC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03F6-1E64-4E16-9511-BC64656D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E4B2-2E77-4CF0-A52A-71206023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A8F-2EF4-4B06-8711-A5E0C695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BE6B-D4B2-4E85-8E0B-9408137C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891-3470-4BAD-81BF-154F8481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BAD-5FA3-454A-A575-E7219C77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658-5D94-4CBA-8E70-B6E80FB8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02CA-1A0D-4B98-ABAE-0272D62B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FBDC-2E20-47C9-BC4F-542902B478D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DB38-97CF-4314-9A4A-A6D817F1E26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сихолог - профессия будущего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7760" y="40381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ажно знать, чтобы помочь и предупредит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Ф. Д. Горб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 rot="1287000">
            <a:off x="2361960" y="2819160"/>
            <a:ext cx="2952720" cy="24206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Должности психолога, связанные с космонавтам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ач-психо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веренный психо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105520" y="3886200"/>
            <a:ext cx="2571480" cy="20066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Доверенный психолог</a:t>
            </a:r>
            <a:br>
              <a:rPr sz="36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монавт всегда может поделиться с ним впечатлениями, психологическим состоя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утствует на трениров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людает, как ведет себя космона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рач-психолог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 психологические те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ует психическую деятельность человека в условиях подготовки и осуществления космических пол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 медицинские об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Насколько психологическая подготовка важна для космонавтов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ение огромное, так как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г проблем поведения и работоспособности в сложных условиях очень широ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7039080" y="3733920"/>
            <a:ext cx="1938240" cy="289548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ак психологи помогают космонавтам избежать стресс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ъясняют космонавтам методы психологического самоконтроля, адаптации к стрессовым ситуациям и самокоррекции своего повед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т использовать силу стресса себе во бла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т брать ситуацию под контроль и принимать взвешенные реш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Где работать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 подготовки космонавтов имени Гагар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Марс-5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титут медико-биологических пробл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6248520" y="4800600"/>
            <a:ext cx="2019240" cy="14716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ерспектив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164628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8"/>
          <p:cNvGrpSpPr/>
          <p:nvPr/>
        </p:nvGrpSpPr>
        <p:grpSpPr>
          <a:xfrm>
            <a:off x="838080" y="2133720"/>
            <a:ext cx="7315200" cy="1676160"/>
            <a:chOff x="838080" y="2133720"/>
            <a:chExt cx="7315200" cy="1676160"/>
          </a:xfrm>
        </p:grpSpPr>
        <p:sp>
          <p:nvSpPr>
            <p:cNvPr id="132" name="Rectangle 14"/>
            <p:cNvSpPr/>
            <p:nvPr/>
          </p:nvSpPr>
          <p:spPr>
            <a:xfrm>
              <a:off x="5486400" y="2133720"/>
              <a:ext cx="2666880" cy="16761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Штатны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психолог 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(для экспедиций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Group 15"/>
            <p:cNvGrpSpPr/>
            <p:nvPr/>
          </p:nvGrpSpPr>
          <p:grpSpPr>
            <a:xfrm>
              <a:off x="838080" y="2133720"/>
              <a:ext cx="4648320" cy="1676160"/>
              <a:chOff x="838080" y="2133720"/>
              <a:chExt cx="4648320" cy="16761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838080" y="2133720"/>
                <a:ext cx="2971800" cy="16761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ffffff"/>
                    </a:solidFill>
                    <a:latin typeface="Arial"/>
                  </a:rPr>
                  <a:t>Доверенный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ffffff"/>
                    </a:solidFill>
                    <a:latin typeface="Arial"/>
                  </a:rPr>
                  <a:t>психолог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AutoShape 17"/>
              <p:cNvSpPr/>
              <p:nvPr/>
            </p:nvSpPr>
            <p:spPr>
              <a:xfrm>
                <a:off x="3809880" y="2743200"/>
                <a:ext cx="1676520" cy="456840"/>
              </a:xfrm>
              <a:prstGeom prst="rightArrow">
                <a:avLst>
                  <a:gd name="adj1" fmla="val 50000"/>
                  <a:gd name="adj2" fmla="val 91745"/>
                </a:avLst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36" name="Picture 22" descr=""/>
          <p:cNvPicPr/>
          <p:nvPr/>
        </p:nvPicPr>
        <p:blipFill>
          <a:blip r:embed="rId2"/>
          <a:stretch/>
        </p:blipFill>
        <p:spPr>
          <a:xfrm>
            <a:off x="1752480" y="4419720"/>
            <a:ext cx="1517760" cy="20667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стребованно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ия очень редкая, дефицит больш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1681200" cy="243828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7:18:45Z</dcterms:created>
  <dc:creator>Администратор</dc:creator>
  <dc:description/>
  <dc:language>en-US</dc:language>
  <cp:lastModifiedBy>LEGION</cp:lastModifiedBy>
  <dcterms:modified xsi:type="dcterms:W3CDTF">2014-11-12T10:10:2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