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EAD8-F791-42AB-806A-7BCD80015C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- профессия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жно знать, чтобы помочь и предупреди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 Д. Горб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9AF6-D13F-4EFF-A08F-8A168718F2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4B22-ADD0-4573-8C15-091E6554DA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и психолога, связанные с космонав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00E4-9135-4A19-B874-DBA78E7EA3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 всегда может поделиться с ним впечатлениями, психологическим состоя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ует на трениро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, как ведет себя космона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7B07-79AF-4411-998C-BE0F78AC14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сколько психологическая подготовка важна для космонавтов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громное, так как круг проблем поведения и работоспособности в сложных условиях очень ши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8C2B-54FA-4A91-97CB-93231D3B42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психологи помогают космонавтам избежать стресс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использовать силу стресса себе во бла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брать ситуацию под контроль и принимать взвешен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CAE9-9F09-4393-8A1E-B94D0B8497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бот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подготовки космонавтов имени Гагар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Марс-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дико-биологических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DF4B-5D23-4051-ABEC-F12D3877E0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DDB2-D069-4C61-95D6-0E12C09E4F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треб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 очень редкая, дефицит больш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1806-92A2-4F1E-AABC-4C3492C2C6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85D-6BD0-44B6-9685-84656257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709-B3E0-4A5D-AA32-292FD880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997-83A5-4B41-9642-2244464B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1ED-0E1D-42FA-A376-C4F8D2C2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B16E-C699-4DF0-A07A-F16C2A61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00F1-0EC9-4D64-977F-AADA3C38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3B2B-0A50-4259-AEA8-55722982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6668-7D28-44A9-9162-0CCB1376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0657-F353-44F7-9A0C-D9ACBD7D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7AD6-6480-4B67-B158-7FFC26CE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BC6A-5C89-41CB-AF75-E18B711B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853-AEBB-4826-B131-33DC6B20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66C2-7DB2-4A3E-AF7B-CFA0D4E9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31F9-EBB2-4F5A-A752-F0F74CD4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57F2-D38F-42E0-BF56-E7666953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D2AD-BFFD-46B8-B2EA-36BFAFC2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BA91-0D76-4D5C-95FB-FFF90264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2AB-4D4C-44B0-A77E-2E12C86D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BE8-3D42-4227-BDFB-615715B6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871-BB1D-4B9C-A690-168361AD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F42-703D-47EB-8CD6-F6ABECC6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E5C-8CEF-4AFA-8ADE-A798B8B1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84A-4CB4-4CE1-AA3B-8E7EDE52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181-3E0B-487D-AB0E-31E9E176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BD69-2E26-4DE9-92D9-D1EFDAFCA58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A397-E340-4027-B056-4680B378B23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сихолог - профессия будущего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7760" y="4038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ажно знать, чтобы помочь и предупреди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Ф. Д. Горб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 rot="1287000">
            <a:off x="2361960" y="2819160"/>
            <a:ext cx="2952720" cy="2420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Должности психолога, связанные с космонавтам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ач-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енный 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2571480" cy="20066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Доверенный психолог</a:t>
            </a:r>
            <a:br>
              <a:rPr sz="36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монавт всегда может поделиться с ним впечатлениями, психологическим состоя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тствует на трениров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ает, как ведет себя космона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рач-психолог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психологические т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ует психическую деятельность человека в условиях подготовки и осуществления космических пол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медицинские об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Насколько психологическая подготовка важна для космонавтов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огромное, так ка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г проблем поведения и работоспособности в сложных условиях очень широ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7039080" y="3733920"/>
            <a:ext cx="1938240" cy="2895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ак психологи помогают космонавтам избежать стресс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использовать силу стресса себе во бла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брать ситуацию под контроль и принимать взвешенные реш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Где работать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 подготовки космонавтов имени Гагар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Марс-5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 медико-биологических пробл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6248520" y="4800600"/>
            <a:ext cx="2019240" cy="14716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ерспектив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6462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8"/>
          <p:cNvGrpSpPr/>
          <p:nvPr/>
        </p:nvGrpSpPr>
        <p:grpSpPr>
          <a:xfrm>
            <a:off x="838080" y="2133720"/>
            <a:ext cx="7315200" cy="1676160"/>
            <a:chOff x="838080" y="2133720"/>
            <a:chExt cx="7315200" cy="1676160"/>
          </a:xfrm>
        </p:grpSpPr>
        <p:sp>
          <p:nvSpPr>
            <p:cNvPr id="132" name="Rectangle 14"/>
            <p:cNvSpPr/>
            <p:nvPr/>
          </p:nvSpPr>
          <p:spPr>
            <a:xfrm>
              <a:off x="5486400" y="2133720"/>
              <a:ext cx="2666880" cy="16761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Штатны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психолог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(для экспедиций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Group 15"/>
            <p:cNvGrpSpPr/>
            <p:nvPr/>
          </p:nvGrpSpPr>
          <p:grpSpPr>
            <a:xfrm>
              <a:off x="838080" y="2133720"/>
              <a:ext cx="4648320" cy="1676160"/>
              <a:chOff x="838080" y="2133720"/>
              <a:chExt cx="4648320" cy="16761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838080" y="2133720"/>
                <a:ext cx="2971800" cy="16761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Доверенный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психолог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AutoShape 17"/>
              <p:cNvSpPr/>
              <p:nvPr/>
            </p:nvSpPr>
            <p:spPr>
              <a:xfrm>
                <a:off x="3809880" y="2743200"/>
                <a:ext cx="1676520" cy="456840"/>
              </a:xfrm>
              <a:prstGeom prst="rightArrow">
                <a:avLst>
                  <a:gd name="adj1" fmla="val 50000"/>
                  <a:gd name="adj2" fmla="val 91745"/>
                </a:avLst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Picture 22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1517760" cy="20667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стребованн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я очень редкая, дефицит больш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1681200" cy="2438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7:18:45Z</dcterms:created>
  <dc:creator>Администратор</dc:creator>
  <dc:description/>
  <dc:language>en-US</dc:language>
  <cp:lastModifiedBy>LEGION</cp:lastModifiedBy>
  <dcterms:modified xsi:type="dcterms:W3CDTF">2014-11-12T10:10:2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