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3DF7-7620-499E-A30B-7B001AB53C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- профессия буд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жно знать, чтобы помочь и предупреди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. Д. Горб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3A06-4C34-488E-8325-04F664BEDE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853C-187F-4DF0-8B9A-49D6434DC7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и психолога, связанные с космонав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ч-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ренный 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B235-D706-4F94-8EB9-9560792E97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веренный психолог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онавт всегда может поделиться с ним впечатлениями, психологическим состоя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утствует на трениров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ает, как ведет себя космона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5C92-F4B2-4782-99A7-4A9AEC42D0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сколько психологическая подготовка важна для космонавтов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громное, так как круг проблем поведения и работоспособности в сложных условиях очень ши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421E-3127-42D3-8BF4-660CAAFAC4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психологи помогают космонавтам избежать стресс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ъясняют космонавтам методы психологического самоконтроля, адаптации к стрессовым ситуациям и самокоррекции своего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т использовать силу стресса себе во бла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т брать ситуацию под контроль и принимать взвешенные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719A-FBAE-4CD9-88BC-C1B21F57C8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абот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подготовки космонавтов имени Гагар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 Марс-5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медико-биологических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ADFA-0BC9-4606-BA1F-9E63304F41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4930-D600-4549-A3C1-C874AD2D5C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требов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я очень редкая, дефицит больш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4CF1-053F-492E-81DF-9B9488890C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C3F-0AC0-4E3A-8791-B3985E0B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6FE7-63F6-4AA1-A9C8-8838EC88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879-7824-460E-BF75-831F1163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FCB-4F59-40F0-AA1B-E9EA0965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79E6-E6AD-44D6-AB28-3E2D2936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A314-50AC-4D94-B5DC-C6531F5F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7488-E81C-44F6-BE34-94945D13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F1EC-0F26-47C8-9386-FB7FE39E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30F7-10E0-4FC1-9D9D-B5DF656C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50DC-8368-4CDE-88D2-A8FBE687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D651-52F0-40E7-8EBD-7374BEBA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C75-067B-411F-BA74-C8725922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1268-0AC0-4213-AD50-A83A56AB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6214-C2B8-4BA4-BCD9-326BD9C1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7A00-1825-4AE6-80F4-FA5D4412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43C5-A3F8-4104-91FA-EE5F4A86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A0DB-6AAD-4FC4-AAB1-33B3C34F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528-9921-478D-88C9-F3D95E66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BDA-0007-462C-9460-E6D1E2F4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7916-33EF-405A-980B-7B6C61EA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884-8B33-445B-932A-D26CE855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251-392E-4431-AFB3-75235537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F1B-2E1E-4B03-BD4B-8C3EEBC5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50AD-BFB3-4A40-8B56-6C5CE09C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B228-A042-450A-B3C8-58ACDA59C73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3AFD-1307-4A6A-A7DF-4A22797D653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сихолог - профессия будущего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7760" y="4038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ажно знать, чтобы помочь и предупреди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Ф. Д. Горб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 rot="1287000">
            <a:off x="2361960" y="2819160"/>
            <a:ext cx="2952720" cy="24206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Должности психолога, связанные с космонавтам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ач-псих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веренный псих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105520" y="3886200"/>
            <a:ext cx="2571480" cy="20066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Доверенный психолог</a:t>
            </a:r>
            <a:br>
              <a:rPr sz="36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монавт всегда может поделиться с ним впечатлениями, психологическим состоя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тствует на трениров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ает, как ведет себя космона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рач-психолог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 психологические т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ует психическую деятельность человека в условиях подготовки и осуществления космических пол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 медицинские об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Насколько психологическая подготовка важна для космонавтов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огромное, так как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г проблем поведения и работоспособности в сложных условиях очень широ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7039080" y="3733920"/>
            <a:ext cx="1938240" cy="289548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ак психологи помогают космонавтам избежать стресс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ъясняют космонавтам методы психологического самоконтроля, адаптации к стрессовым ситуациям и самокоррекции своего повед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т использовать силу стресса себе во бла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т брать ситуацию под контроль и принимать взвешенные реш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Где работать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 подготовки космонавтов имени Гагар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Марс-5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итут медико-биологических пробл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6248520" y="4800600"/>
            <a:ext cx="2019240" cy="14716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ерспектив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164628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8"/>
          <p:cNvGrpSpPr/>
          <p:nvPr/>
        </p:nvGrpSpPr>
        <p:grpSpPr>
          <a:xfrm>
            <a:off x="838080" y="2133720"/>
            <a:ext cx="7315200" cy="1676160"/>
            <a:chOff x="838080" y="2133720"/>
            <a:chExt cx="7315200" cy="1676160"/>
          </a:xfrm>
        </p:grpSpPr>
        <p:sp>
          <p:nvSpPr>
            <p:cNvPr id="132" name="Rectangle 14"/>
            <p:cNvSpPr/>
            <p:nvPr/>
          </p:nvSpPr>
          <p:spPr>
            <a:xfrm>
              <a:off x="5486400" y="2133720"/>
              <a:ext cx="2666880" cy="16761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Штатны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психолог 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(для экспедиций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Group 15"/>
            <p:cNvGrpSpPr/>
            <p:nvPr/>
          </p:nvGrpSpPr>
          <p:grpSpPr>
            <a:xfrm>
              <a:off x="838080" y="2133720"/>
              <a:ext cx="4648320" cy="1676160"/>
              <a:chOff x="838080" y="2133720"/>
              <a:chExt cx="4648320" cy="16761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838080" y="2133720"/>
                <a:ext cx="2971800" cy="16761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ffffff"/>
                    </a:solidFill>
                    <a:latin typeface="Arial"/>
                  </a:rPr>
                  <a:t>Доверенный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ffffff"/>
                    </a:solidFill>
                    <a:latin typeface="Arial"/>
                  </a:rPr>
                  <a:t>психолог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AutoShape 17"/>
              <p:cNvSpPr/>
              <p:nvPr/>
            </p:nvSpPr>
            <p:spPr>
              <a:xfrm>
                <a:off x="3809880" y="2743200"/>
                <a:ext cx="1676520" cy="456840"/>
              </a:xfrm>
              <a:prstGeom prst="rightArrow">
                <a:avLst>
                  <a:gd name="adj1" fmla="val 50000"/>
                  <a:gd name="adj2" fmla="val 91745"/>
                </a:avLst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36" name="Picture 22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1517760" cy="20667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стребованн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ия очень редкая, дефицит больш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1681200" cy="243828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7:18:45Z</dcterms:created>
  <dc:creator>Администратор</dc:creator>
  <dc:description/>
  <dc:language>en-US</dc:language>
  <cp:lastModifiedBy>LEGION</cp:lastModifiedBy>
  <dcterms:modified xsi:type="dcterms:W3CDTF">2014-11-12T10:10:2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