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F44A-B8F2-41B0-B0BE-FDDA839204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Первая медицинская помощь при остановке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27EB-D77F-4821-B26F-FF8D2DDEE0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Сочетание проведения </a:t>
            </a:r>
            <a:r>
              <a:rPr b="1" i="1" lang="en-US" sz="1200" spc="-1" strike="noStrike">
                <a:solidFill>
                  <a:srgbClr val="f2e104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го массажа сердца и искусственной вентиляции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делают 4 вдоха, за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живляет ОДИН, 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ые 15 надавливаний на грудину нужно делать 2 нагнетания воздуха в легк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живляют ДВОЕ, то один делает массаж сердца, а другой – искусственное дыхание: чередуют 5 надавливаний на грудину и одно вдувание в лег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225E-7AEB-449A-B1ED-FC137067E4E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2e104"/>
                </a:solidFill>
                <a:latin typeface="Calibri"/>
              </a:rPr>
              <a:t>Реаним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восстановление или временное замещение резко нарушенных или утраченных жизненно важных функций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6294-C604-4FA6-99C4-ED967893D8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становке сердца обогащённая кислородом кровь больше не попадает в жизненно важные органы и возникает риск необратимого повреждения мозга, которое может наступить уже через 5-7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короткий период, когда процессы, происходящие в организме, еще обратимы, и человеку ещё можно помочь, называется </a:t>
            </a: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клинической смер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Клиническая смер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пограничное состояние перехода от гаснущей жизни к биологической смерти, которое возникает непосредственно после прекращения кровообращения и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0B05-A45A-4F69-90A6-A94038CDB18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знаки клинической смер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созн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дых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реакции зрачков на св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ульса на сонной ар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главное при клинической смерти - добиться, чтобы появился пульс (восстановилось сердцебиение и дыхание) и только потом если нужно останавливать кровотечение, накладывать повязки и ш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При клинической смерти необходимы немедленный массаж сердца и искусственная вентиляция легких (искусственное дыха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1C85-3391-4B4A-9314-DD1E4D6065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Прекардиаль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ардиальным ударом можно заставить сердце заработать так же синхронно, как и преж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дара как можно сильнее сотрясти грудную клетку, что станет толчком к запуску остановившегося серд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дар нанесен в течение первой минуты после остановки сердца, то вероятность оживления превышает 50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 нанесении удара в случае наличия пульса на сонной артерии, есть риск спровоцировать остановку сердц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82ED-080C-4D08-9F1A-AFFC17CFA1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непрямого массажа сердца следует положить ладонь одной руки в точку проекции сердца на грудине, а сверху на нее другую ладонь, пальцы держать приподнятыми, большие пальцы должны смотреть в разные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5A68-18BC-48E8-B69A-B2F0E9424C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и не следует отнимать от груди после каждого надавливания, но перед каждым новым надавливанием необходимо дать грудной клетке подняться в исходное положение, с тем чтобы не препятствовать наполнению полостей сердца кро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03FD-0DFA-4130-9B82-1CE7844EF0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 надавливаний на грудную клетку должен соответствовать частоте сердечных сокращений  в состоянии покоя, примерно 1 раз в секун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альное время проведения непрямого массажа сердца даже при отсутствии его эффективности не менее 15-20 мин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F0DB-9B2D-45ED-ADBF-B3992E290D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Искусственная вентиляция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кусственной вентиляции лёгких необходимо обеспечить проходимость дыхательных путей: зажать нос пострадавшего, запрокинуть голову, делать выдох в лёг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5EB5-44C4-4DFA-A713-6AB959DC7F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175C-8E62-4DBB-827D-803B38A9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7AF-0F59-4AA8-AFE9-2A96BD20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BC5B-EA6A-421B-BE14-C571A7D3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C83D-A09D-4957-8B8B-8AD98AA4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5173-1E24-41D6-BFC3-DE873BBF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2627-BCD9-4500-BA29-A8D75637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84D8-3B7A-485C-A75D-E9DBD4C3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FA52-8433-4D04-8E6D-435FBEBD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472F-C595-400D-AEA0-33F0581F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5703-30F3-4502-AC74-31FE2A1C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386A-1472-456B-9E6F-56748D7A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7907-DA68-40EC-A571-EE59AB3E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3B80-6641-4BCF-B651-94E10EB0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666B-5248-42D6-8B2B-42DCE65B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3EB1-418C-411D-A3EC-205164E9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BAA6-DF3D-480A-9418-1795C864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78DD-B600-45A8-93CB-110D11E4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28D41A-661F-4673-909F-6B3E3CF9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B33C44-C559-419C-A826-7EBAD0B4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1DB94B-B45F-455D-828F-5EC86846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349613-9131-4698-B41C-F99AA243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73CF97-CFD1-43E6-B31C-A3042DBE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4320-2078-4CEA-BBCA-FD4F31D5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BD1FC1-CA17-4581-B5F1-4DBF4FA9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8F0E18-5F9E-4B2F-83D1-5B733E2F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7E21E5-6C44-4AE0-A12F-265E1F71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0B279A-A858-4509-969E-CC1D1EE7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3063B1-5E5A-4004-AFF0-C9F5D2FB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656062-6D3A-4309-9CD3-4CC6A2FA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CF7A12-47F1-4966-853A-E035D9C1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B454-C472-4B8B-82D3-E4B4EBAF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0B95-80F5-4FDC-8D26-2B3A696C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80EE-D8D4-4A25-9DFC-42CC9340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49F2-BF11-45BE-9623-80729DEB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BE4D-1872-438B-BBE7-8324C8DA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8DD7-6658-4944-99E2-BE5EF272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54DC-688F-43EC-923B-8EDC6F86FEE4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CECA-7F18-4DF1-A814-8B3CBFC8EC8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7619-0DB8-440B-A419-67DB93696E70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C9E9-B849-4B27-BFDC-79D3445FD9D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CA4C-0E9F-4DEA-B7DE-4C1C5DB7FC4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BDDB-DD96-49C1-AE41-66F69014052A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дзаголовок 2"/>
          <p:cNvSpPr/>
          <p:nvPr/>
        </p:nvSpPr>
        <p:spPr>
          <a:xfrm>
            <a:off x="0" y="177336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Constantia"/>
              </a:rPr>
              <a:t>Первая медицинская помощь при остановке сердц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539640" y="2276640"/>
            <a:ext cx="424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ачале делают 4 вдоха, зат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оживляет ОДИН, 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аждые 15 надавливаний на грудину нужно делать 2 нагнетания воздуха в легк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оживляют ДВОЕ, то один делает массаж сердца, а другой – искусственное дыхание: чередуют 5 надавливаний на грудину и одно вдувание в легк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Последовательность действий при проведении непрямого массажа сердца"/>
          <p:cNvPicPr/>
          <p:nvPr/>
        </p:nvPicPr>
        <p:blipFill>
          <a:blip r:embed="rId1"/>
          <a:stretch/>
        </p:blipFill>
        <p:spPr>
          <a:xfrm>
            <a:off x="4788000" y="1916280"/>
            <a:ext cx="4074840" cy="45036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0" y="189000"/>
            <a:ext cx="9144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Сочетание про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го массажа сердца и искусственной вентиляции легк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3"/>
          <p:cNvSpPr/>
          <p:nvPr/>
        </p:nvSpPr>
        <p:spPr>
          <a:xfrm>
            <a:off x="468360" y="170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e104"/>
                </a:solidFill>
                <a:latin typeface="Arial"/>
              </a:rPr>
              <a:t>Реанимаци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это восстановление или временное замещение резко нарушенных или утраченных жизненно важных функций организ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341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становке сердца обогащённая кислородом кровь больше не попадает в жизненно важные органы и возникает риск необратимого повреждения мозга, которое может наступить уже через 5-7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короткий период, когда процессы, происходящие в организме, еще обратимы, и человеку ещё можно помочь, называется </a:t>
            </a: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клинической смерть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Клиническая смер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пограничное состояние перехода от гаснущей жизни к биологической смерти, которое возникает непосредственно после прекращения кровообращения и дых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95280" y="1341360"/>
            <a:ext cx="8209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Arial"/>
              </a:rPr>
              <a:t>Признаки клинической смерт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теря созн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дых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реакции зрачков на св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пульса на сонной арте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е главное при клинической смерти - добиться, чтобы появился пульс (восстановилось сердцебиение и дыхание) и только потом если нужно останавливать кровотечение, накладывать повязки и ш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При клинической смерти необходимы немедленный массаж сердца и искусственная вентиляция легких (искусственное дыхани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324000" y="981000"/>
            <a:ext cx="3311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кардиальным ударом можно заставить сердце заработать так же синхронно, как и прежд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удара как можно сильнее сотрясти грудную клетку, что станет толчком к запуску остановившегося сердц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удар нанесен в течение первой минуты после остановки сердца, то вероятность оживления превышает 50%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fac9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efac9"/>
                </a:solidFill>
                <a:latin typeface="Arial"/>
              </a:rPr>
              <a:t>При нанесении удара в случае наличия пульса на сонной артерии, есть риск спровоцировать остановку сердц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826920" y="333360"/>
            <a:ext cx="748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Прекардиальный уд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1" descr="image_112"/>
          <p:cNvPicPr/>
          <p:nvPr/>
        </p:nvPicPr>
        <p:blipFill>
          <a:blip r:embed="rId1"/>
          <a:stretch/>
        </p:blipFill>
        <p:spPr>
          <a:xfrm>
            <a:off x="3564000" y="1125360"/>
            <a:ext cx="5208480" cy="532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2"/>
          <p:cNvSpPr/>
          <p:nvPr/>
        </p:nvSpPr>
        <p:spPr>
          <a:xfrm>
            <a:off x="5940360" y="1197000"/>
            <a:ext cx="259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6f6f"/>
                </a:solidFill>
                <a:latin typeface="Arial"/>
              </a:rPr>
              <a:t>Прекардиальный удар наносят ребром сжатой в кулак ладони</a:t>
            </a:r>
            <a:r>
              <a:rPr b="0" lang="en-US" sz="1600" spc="-1" strike="noStrike">
                <a:solidFill>
                  <a:srgbClr val="7f6f6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7f6f6f"/>
                </a:solidFill>
                <a:latin typeface="Arial"/>
              </a:rPr>
              <a:t>в точку, расположенную на грудине на 2-3 см выше мечевидного отрост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8"/>
          <p:cNvPicPr/>
          <p:nvPr/>
        </p:nvPicPr>
        <p:blipFill>
          <a:blip r:embed="rId1"/>
          <a:stretch/>
        </p:blipFill>
        <p:spPr>
          <a:xfrm>
            <a:off x="3995640" y="2852640"/>
            <a:ext cx="4762440" cy="2676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Непрямой массаж сердца 2"/>
          <p:cNvPicPr/>
          <p:nvPr/>
        </p:nvPicPr>
        <p:blipFill>
          <a:blip r:embed="rId2"/>
          <a:stretch/>
        </p:blipFill>
        <p:spPr>
          <a:xfrm>
            <a:off x="468360" y="2852640"/>
            <a:ext cx="3311640" cy="2649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4"/>
          <p:cNvSpPr/>
          <p:nvPr/>
        </p:nvSpPr>
        <p:spPr>
          <a:xfrm>
            <a:off x="430200" y="1197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выполнении непрямого массажа сердца следует положить ладонь одной руки в точку проекции сердца на грудине, а сверху на нее другую ладонь, пальцы держать приподнятыми, большие пальцы должны смотреть в разные сторо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468360" y="112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и не следует отнимать от груди после каждого надавливания, но перед каждым новым надавливанием необходимо дать грудной клетке подняться в исходное положение, с тем чтобы не препятствовать наполнению полостей сердца кров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Положение рук при проведении непрямого массажа сердца"/>
          <p:cNvPicPr/>
          <p:nvPr/>
        </p:nvPicPr>
        <p:blipFill>
          <a:blip r:embed="rId1"/>
          <a:srcRect l="6470" t="1710" r="6899" b="5206"/>
          <a:stretch/>
        </p:blipFill>
        <p:spPr>
          <a:xfrm>
            <a:off x="2195640" y="2421000"/>
            <a:ext cx="4824360" cy="388764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724360" y="1197000"/>
            <a:ext cx="3024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итм надавливаний на грудную клетку должен соответствовать частоте сердечных сокращений  в состоянии покоя, примерно 1 раз в секун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мальное время проведения непрямого массажа сердца даже при отсутствии его эффективности не менее 15-20 мин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5" descr="Как следует проводить непрямой массаж сердца"/>
          <p:cNvPicPr/>
          <p:nvPr/>
        </p:nvPicPr>
        <p:blipFill>
          <a:blip r:embed="rId1"/>
          <a:stretch/>
        </p:blipFill>
        <p:spPr>
          <a:xfrm>
            <a:off x="755640" y="1197000"/>
            <a:ext cx="4641840" cy="5184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84360" y="11253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искусственной вентиляции лёгких необходимо обеспечить проходимость дыхательных путей: зажать нос пострадавшего, запрокинуть голову, делать выдох в лёгк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Искусственная вентиляция легк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3" descr="Последовательность действий при выполнении искусственной вентиляции лёгких"/>
          <p:cNvPicPr/>
          <p:nvPr/>
        </p:nvPicPr>
        <p:blipFill>
          <a:blip r:embed="rId1"/>
          <a:srcRect l="0" t="13833" r="0" b="0"/>
          <a:stretch/>
        </p:blipFill>
        <p:spPr>
          <a:xfrm>
            <a:off x="468360" y="2781360"/>
            <a:ext cx="5538600" cy="3579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4"/>
          <p:cNvPicPr/>
          <p:nvPr/>
        </p:nvPicPr>
        <p:blipFill>
          <a:blip r:embed="rId2"/>
          <a:stretch/>
        </p:blipFill>
        <p:spPr>
          <a:xfrm>
            <a:off x="6443640" y="5013360"/>
            <a:ext cx="2087640" cy="1305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6372360" y="263700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Arial"/>
              </a:rPr>
              <a:t>Способ «изо рта в рот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6372360" y="472428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Arial"/>
              </a:rPr>
              <a:t>Способ «изо рта в нос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20" descr="RotvRot150"/>
          <p:cNvPicPr/>
          <p:nvPr/>
        </p:nvPicPr>
        <p:blipFill>
          <a:blip r:embed="rId3"/>
          <a:stretch/>
        </p:blipFill>
        <p:spPr>
          <a:xfrm>
            <a:off x="6443640" y="2997360"/>
            <a:ext cx="2016000" cy="13446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2:13:54Z</dcterms:created>
  <dc:creator>Разумов В.Н.</dc:creator>
  <dc:description/>
  <dc:language>en-US</dc:language>
  <cp:lastModifiedBy>LEGION</cp:lastModifiedBy>
  <dcterms:modified xsi:type="dcterms:W3CDTF">2014-11-06T12:49:12Z</dcterms:modified>
  <cp:revision>58</cp:revision>
  <dc:subject/>
  <dc:title>Остановка сердца</dc:title>
</cp:coreProperties>
</file>