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2D42B-E8B9-439B-9C77-0593A074FFA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nstantia"/>
              </a:rPr>
              <a:t>Первая медицинская помощь при остановке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C245F-6624-4460-9475-B9B871DE7F5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2e104"/>
                </a:solidFill>
                <a:latin typeface="Times New Roman"/>
              </a:rPr>
              <a:t>Сочетание проведения </a:t>
            </a:r>
            <a:r>
              <a:rPr b="1" i="1" lang="en-US" sz="1200" spc="-1" strike="noStrike">
                <a:solidFill>
                  <a:srgbClr val="f2e104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f2e104"/>
                </a:solidFill>
                <a:latin typeface="Times New Roman"/>
              </a:rPr>
              <a:t>непрямого массажа сердца и искусственной вентиляции легк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ачале делают 4 вдоха, зат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оживляет ОДИН, 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каждые 15 надавливаний на грудину нужно делать 2 нагнетания воздуха в легк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оживляют ДВОЕ, то один делает массаж сердца, а другой – искусственное дыхание: чередуют 5 надавливаний на грудину и одно вдувание в легк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09763-DF11-4343-BAEB-0EACC882D69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2e104"/>
                </a:solidFill>
                <a:latin typeface="Calibri"/>
              </a:rPr>
              <a:t>Реанимац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восстановление или временное замещение резко нарушенных или утраченных жизненно важных функций орган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5CC63-C1C1-4E67-8882-917528FF4FC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2e104"/>
                </a:solidFill>
                <a:latin typeface="Times New Roman"/>
              </a:rPr>
              <a:t>Клиническая смер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становке сердца обогащённая кислородом кровь больше не попадает в жизненно важные органы и возникает риск необратимого повреждения мозга, которое может наступить уже через 5-7 м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т короткий период, когда процессы, происходящие в организме, еще обратимы, и человеку ещё можно помочь, называется </a:t>
            </a:r>
            <a:r>
              <a:rPr b="0" lang="ru-RU" sz="1200" spc="-1" strike="noStrike">
                <a:solidFill>
                  <a:srgbClr val="f2e104"/>
                </a:solidFill>
                <a:latin typeface="Calibri"/>
              </a:rPr>
              <a:t>клинической смерть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e104"/>
                </a:solidFill>
                <a:latin typeface="Calibri"/>
              </a:rPr>
              <a:t>Клиническая смер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это пограничное состояние перехода от гаснущей жизни к биологической смерти, которое возникает непосредственно после прекращения кровообращения и дых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1E631-77AA-4A4D-92BD-583AD054816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2e104"/>
                </a:solidFill>
                <a:latin typeface="Times New Roman"/>
              </a:rPr>
              <a:t>Клиническая смер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ризнаки клинической смерт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еря созна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дыха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реакции зрачков на све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пульса на сонной арте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е главное при клинической смерти - добиться, чтобы появился пульс (восстановилось сердцебиение и дыхание) и только потом если нужно останавливать кровотечение, накладывать повязки и ш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e104"/>
                </a:solidFill>
                <a:latin typeface="Calibri"/>
              </a:rPr>
              <a:t>При клинической смерти необходимы немедленный массаж сердца и искусственная вентиляция легких (искусственное дыхани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134ED-F227-4CFA-BF32-415066C8CD0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2e104"/>
                </a:solidFill>
                <a:latin typeface="Times New Roman"/>
              </a:rPr>
              <a:t>Прекардиальный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кардиальным ударом можно заставить сердце заработать так же синхронно, как и прежд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удара как можно сильнее сотрясти грудную клетку, что станет толчком к запуску остановившегося сердц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удар нанесен в течение первой минуты после остановки сердца, то вероятность оживления превышает 50%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ри нанесении удара в случае наличия пульса на сонной артерии, есть риск спровоцировать остановку сердц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887FC-EF8E-460F-A3C0-2B3D010EA14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2e104"/>
                </a:solidFill>
                <a:latin typeface="Times New Roman"/>
              </a:rPr>
              <a:t>Непрямой массаж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ыполнении непрямого массажа сердца следует положить ладонь одной руки в точку проекции сердца на грудине, а сверху на нее другую ладонь, пальцы держать приподнятыми, большие пальцы должны смотреть в разные сторо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787E9-2F33-42FA-B503-6899204CE57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2e104"/>
                </a:solidFill>
                <a:latin typeface="Times New Roman"/>
              </a:rPr>
              <a:t>Непрямой массаж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и не следует отнимать от груди после каждого надавливания, но перед каждым новым надавливанием необходимо дать грудной клетке подняться в исходное положение, с тем чтобы не препятствовать наполнению полостей сердца кров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3560E-776F-44E4-A0E0-E399F132ED6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2e104"/>
                </a:solidFill>
                <a:latin typeface="Times New Roman"/>
              </a:rPr>
              <a:t>Непрямой массаж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тм надавливаний на грудную клетку должен соответствовать частоте сердечных сокращений  в состоянии покоя, примерно 1 раз в секунд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имальное время проведения непрямого массажа сердца даже при отсутствии его эффективности не менее 15-20 мину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97BBE-B971-4436-BEAA-5491E085E5F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2e104"/>
                </a:solidFill>
                <a:latin typeface="Times New Roman"/>
              </a:rPr>
              <a:t>Искусственная вентиляция легк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искусственной вентиляции лёгких необходимо обеспечить проходимость дыхательных путей: зажать нос пострадавшего, запрокинуть голову, делать выдох в лёг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BA910-1607-4EC5-9547-9E61E18F567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E00D-3B95-4230-B23B-D24B3C918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7105-D0A4-400E-A123-156591723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2E5C-CC5A-4949-82E5-E04D68239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D91B-C6C6-44F6-804E-73DA0827B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C985F-B7A7-4D38-9F4F-EA41738B8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69911-AF92-4625-987B-E8E8557BC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3D175-10B6-4CA3-B44A-FAF25B8F2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59779-FF73-4B70-827C-C213A3AF5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1BC3A-E837-4EF0-B07F-3527F6F50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11733-5E5F-4CC7-A595-9681B94C0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DD60B-32A5-45A4-9239-C5EEFB9F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7AA4-8832-4B99-B658-331BA03D8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D5CD9-E463-44D6-99C3-AEBF4956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8482F-BFF5-42C3-A4FC-A6589F18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5EF4E-0083-43E1-8F88-5FEA8E9BC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FCCEC-3FE6-4F36-8919-41A6C20EB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0F113-51B9-4C83-A4ED-87BA78E02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E63D07-1AD4-41E7-B89A-7D3D5DD4F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76169C-228C-40F0-97B9-B53351D27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8C3813-0E6B-4459-9F2C-6CB1A6C36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912145-C44A-4279-9466-86F6B7C4E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0DB5D3-4148-459F-B4C6-63149A711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4DF6-EF59-46E8-A78A-5F80BA2AA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F4F4BA-DB08-484D-9631-4D1F4E477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4242D3-6C70-4413-8945-080A2AC9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9B70BB-BADF-4D49-9A40-B845718D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972D94-E12F-4351-80D3-A460A80D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8624A6-529D-4557-9327-E79E8C6A8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479E18-155C-4FDF-9FFB-60A5C8EAB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26572F-D2E3-487E-97C7-868CA873C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3A08-1A89-47A0-B286-C6A110AFA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6B87-D2A5-41E0-A252-17BD013AE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5226-4F44-4583-A0F9-DE6343EAD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2EB7-927D-4C73-BD73-2DDD5802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E06F-D4C2-43C6-A5CE-1D0DDC85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FCC3-E090-4DC5-924B-1F797AB7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B84F2-9F95-41A6-8422-62F329DFC262}" type="datetime">
              <a:rPr b="0" lang="ru-RU" sz="1200" spc="-1" strike="noStrike">
                <a:solidFill>
                  <a:srgbClr val="fefac9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8EB64-C575-4CF9-8354-E87F41B8D0F9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64916-D0B1-4A7D-8CF6-CADF536A945C}" type="datetime">
              <a:rPr b="0" lang="ru-RU" sz="1200" spc="-1" strike="noStrike">
                <a:solidFill>
                  <a:srgbClr val="fefac9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7A10A-C439-4F69-A6E7-D977FF0A8064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9597E-FDB7-438A-81C3-9F8235EBBDB5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dt" idx="9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27188-E17E-432A-8A95-6FF4EA8DC8C8}" type="datetime">
              <a:rPr b="0" lang="ru-RU" sz="1200" spc="-1" strike="noStrike">
                <a:solidFill>
                  <a:srgbClr val="fefac9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одзаголовок 2"/>
          <p:cNvSpPr/>
          <p:nvPr/>
        </p:nvSpPr>
        <p:spPr>
          <a:xfrm>
            <a:off x="0" y="1773360"/>
            <a:ext cx="91440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4400" spc="-1" strike="noStrike">
                <a:solidFill>
                  <a:srgbClr val="ffffff"/>
                </a:solidFill>
                <a:latin typeface="Constantia"/>
              </a:rPr>
              <a:t>Первая медицинская помощь при остановке сердц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539640" y="2276640"/>
            <a:ext cx="4248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начале делают 4 вдоха, зате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сли оживляет ОДИН, т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каждые 15 надавливаний на грудину нужно делать 2 нагнетания воздуха в легки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сли оживляют ДВОЕ, то один делает массаж сердца, а другой – искусственное дыхание: чередуют 5 надавливаний на грудину и одно вдувание в легк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3" descr="Последовательность действий при проведении непрямого массажа сердца"/>
          <p:cNvPicPr/>
          <p:nvPr/>
        </p:nvPicPr>
        <p:blipFill>
          <a:blip r:embed="rId1"/>
          <a:stretch/>
        </p:blipFill>
        <p:spPr>
          <a:xfrm>
            <a:off x="4788000" y="1916280"/>
            <a:ext cx="4074840" cy="45036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6"/>
          <p:cNvSpPr/>
          <p:nvPr/>
        </p:nvSpPr>
        <p:spPr>
          <a:xfrm>
            <a:off x="0" y="189000"/>
            <a:ext cx="914400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e104"/>
                </a:solidFill>
                <a:latin typeface="Times New Roman"/>
              </a:rPr>
              <a:t>Сочетание проведени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e104"/>
                </a:solidFill>
                <a:latin typeface="Times New Roman"/>
              </a:rPr>
              <a:t>непрямого массажа сердца и искусственной вентиляции легки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33"/>
          <p:cNvSpPr/>
          <p:nvPr/>
        </p:nvSpPr>
        <p:spPr>
          <a:xfrm>
            <a:off x="468360" y="170028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e104"/>
                </a:solidFill>
                <a:latin typeface="Arial"/>
              </a:rPr>
              <a:t>Реанимация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– это восстановление или временное замещение резко нарушенных или утраченных жизненно важных функций организм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0" y="404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e104"/>
                </a:solidFill>
                <a:latin typeface="Times New Roman"/>
              </a:rPr>
              <a:t>Клиническая смер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395280" y="1341360"/>
            <a:ext cx="8353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остановке сердца обогащённая кислородом кровь больше не попадает в жизненно важные органы и возникает риск необратимого повреждения мозга, которое может наступить уже через 5-7 ми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т короткий период, когда процессы, происходящие в организме, еще обратимы, и человеку ещё можно помочь, называется </a:t>
            </a:r>
            <a:r>
              <a:rPr b="0" lang="ru-RU" sz="2400" spc="-1" strike="noStrike">
                <a:solidFill>
                  <a:srgbClr val="f2e104"/>
                </a:solidFill>
                <a:latin typeface="Arial"/>
              </a:rPr>
              <a:t>клинической смертью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e104"/>
                </a:solidFill>
                <a:latin typeface="Arial"/>
              </a:rPr>
              <a:t>Клиническая смерть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это пограничное состояние перехода от гаснущей жизни к биологической смерти, которое возникает непосредственно после прекращения кровообращения и дых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4"/>
          <p:cNvSpPr/>
          <p:nvPr/>
        </p:nvSpPr>
        <p:spPr>
          <a:xfrm>
            <a:off x="0" y="404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e104"/>
                </a:solidFill>
                <a:latin typeface="Times New Roman"/>
              </a:rPr>
              <a:t>Клиническая смер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395280" y="1341360"/>
            <a:ext cx="820908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fac9"/>
                </a:solidFill>
                <a:latin typeface="Arial"/>
              </a:rPr>
              <a:t>Признаки клинической смерти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теря сознани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сутствие дыхани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сутствие реакции зрачков на свет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сутствие пульса на сонной артер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мое главное при клинической смерти - добиться, чтобы появился пульс (восстановилось сердцебиение и дыхание) и только потом если нужно останавливать кровотечение, накладывать повязки и ши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e104"/>
                </a:solidFill>
                <a:latin typeface="Arial"/>
              </a:rPr>
              <a:t>При клинической смерти необходимы немедленный массаж сердца и искусственная вентиляция легких (искусственное дыхание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4"/>
          <p:cNvSpPr/>
          <p:nvPr/>
        </p:nvSpPr>
        <p:spPr>
          <a:xfrm>
            <a:off x="324000" y="981000"/>
            <a:ext cx="33112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кардиальным ударом можно заставить сердце заработать так же синхронно, как и прежд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ель удара как можно сильнее сотрясти грудную клетку, что станет толчком к запуску остановившегося сердц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удар нанесен в течение первой минуты после остановки сердца, то вероятность оживления превышает 50%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efac9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efac9"/>
                </a:solidFill>
                <a:latin typeface="Arial"/>
              </a:rPr>
              <a:t>При нанесении удара в случае наличия пульса на сонной артерии, есть риск спровоцировать остановку сердца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826920" y="333360"/>
            <a:ext cx="7488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e104"/>
                </a:solidFill>
                <a:latin typeface="Times New Roman"/>
              </a:rPr>
              <a:t>Прекардиальный уда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11" descr="image_112"/>
          <p:cNvPicPr/>
          <p:nvPr/>
        </p:nvPicPr>
        <p:blipFill>
          <a:blip r:embed="rId1"/>
          <a:stretch/>
        </p:blipFill>
        <p:spPr>
          <a:xfrm>
            <a:off x="3564000" y="1125360"/>
            <a:ext cx="5208480" cy="5328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2"/>
          <p:cNvSpPr/>
          <p:nvPr/>
        </p:nvSpPr>
        <p:spPr>
          <a:xfrm>
            <a:off x="5940360" y="1197000"/>
            <a:ext cx="2590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6f6f"/>
                </a:solidFill>
                <a:latin typeface="Arial"/>
              </a:rPr>
              <a:t>Прекардиальный удар наносят ребром сжатой в кулак ладони</a:t>
            </a:r>
            <a:r>
              <a:rPr b="0" lang="en-US" sz="1600" spc="-1" strike="noStrike">
                <a:solidFill>
                  <a:srgbClr val="7f6f6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7f6f6f"/>
                </a:solidFill>
                <a:latin typeface="Arial"/>
              </a:rPr>
              <a:t>в точку, расположенную на грудине на 2-3 см выше мечевидного отростк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8" descr="8"/>
          <p:cNvPicPr/>
          <p:nvPr/>
        </p:nvPicPr>
        <p:blipFill>
          <a:blip r:embed="rId1"/>
          <a:stretch/>
        </p:blipFill>
        <p:spPr>
          <a:xfrm>
            <a:off x="3995640" y="2852640"/>
            <a:ext cx="4762440" cy="2676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1" descr="Непрямой массаж сердца 2"/>
          <p:cNvPicPr/>
          <p:nvPr/>
        </p:nvPicPr>
        <p:blipFill>
          <a:blip r:embed="rId2"/>
          <a:stretch/>
        </p:blipFill>
        <p:spPr>
          <a:xfrm>
            <a:off x="468360" y="2852640"/>
            <a:ext cx="3311640" cy="26496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14"/>
          <p:cNvSpPr/>
          <p:nvPr/>
        </p:nvSpPr>
        <p:spPr>
          <a:xfrm>
            <a:off x="430200" y="119700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выполнении непрямого массажа сердца следует положить ладонь одной руки в точку проекции сердца на грудине, а сверху на нее другую ладонь, пальцы держать приподнятыми, большие пальцы должны смотреть в разные сторо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0" y="333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e104"/>
                </a:solidFill>
                <a:latin typeface="Times New Roman"/>
              </a:rPr>
              <a:t>Непрямой массаж сердц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468360" y="112536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уки не следует отнимать от груди после каждого надавливания, но перед каждым новым надавливанием необходимо дать грудной клетке подняться в исходное положение, с тем чтобы не препятствовать наполнению полостей сердца кровь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0" y="333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e104"/>
                </a:solidFill>
                <a:latin typeface="Times New Roman"/>
              </a:rPr>
              <a:t>Непрямой массаж сердц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6" descr="Положение рук при проведении непрямого массажа сердца"/>
          <p:cNvPicPr/>
          <p:nvPr/>
        </p:nvPicPr>
        <p:blipFill>
          <a:blip r:embed="rId1"/>
          <a:srcRect l="6470" t="1710" r="6899" b="5206"/>
          <a:stretch/>
        </p:blipFill>
        <p:spPr>
          <a:xfrm>
            <a:off x="2195640" y="2421000"/>
            <a:ext cx="4824360" cy="388764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5724360" y="1197000"/>
            <a:ext cx="302436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итм надавливаний на грудную клетку должен соответствовать частоте сердечных сокращений  в состоянии покоя, примерно 1 раз в секунд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нимальное время проведения непрямого массажа сердца даже при отсутствии его эффективности не менее 15-20 мину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5" descr="Как следует проводить непрямой массаж сердца"/>
          <p:cNvPicPr/>
          <p:nvPr/>
        </p:nvPicPr>
        <p:blipFill>
          <a:blip r:embed="rId1"/>
          <a:stretch/>
        </p:blipFill>
        <p:spPr>
          <a:xfrm>
            <a:off x="755640" y="1197000"/>
            <a:ext cx="4641840" cy="51847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7"/>
          <p:cNvSpPr/>
          <p:nvPr/>
        </p:nvSpPr>
        <p:spPr>
          <a:xfrm>
            <a:off x="0" y="333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e104"/>
                </a:solidFill>
                <a:latin typeface="Times New Roman"/>
              </a:rPr>
              <a:t>Непрямой массаж сердц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684360" y="1125360"/>
            <a:ext cx="78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искусственной вентиляции лёгких необходимо обеспечить проходимость дыхательных путей: зажать нос пострадавшего, запрокинуть голову, делать выдох в лёгк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0" y="333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e104"/>
                </a:solidFill>
                <a:latin typeface="Times New Roman"/>
              </a:rPr>
              <a:t>Искусственная вентиляция легки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13" descr="Последовательность действий при выполнении искусственной вентиляции лёгких"/>
          <p:cNvPicPr/>
          <p:nvPr/>
        </p:nvPicPr>
        <p:blipFill>
          <a:blip r:embed="rId1"/>
          <a:srcRect l="0" t="13833" r="0" b="0"/>
          <a:stretch/>
        </p:blipFill>
        <p:spPr>
          <a:xfrm>
            <a:off x="468360" y="2781360"/>
            <a:ext cx="5538600" cy="35798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5" descr="4"/>
          <p:cNvPicPr/>
          <p:nvPr/>
        </p:nvPicPr>
        <p:blipFill>
          <a:blip r:embed="rId2"/>
          <a:stretch/>
        </p:blipFill>
        <p:spPr>
          <a:xfrm>
            <a:off x="6443640" y="5013360"/>
            <a:ext cx="2087640" cy="13050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16"/>
          <p:cNvSpPr/>
          <p:nvPr/>
        </p:nvSpPr>
        <p:spPr>
          <a:xfrm>
            <a:off x="6372360" y="2637000"/>
            <a:ext cx="21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efac9"/>
                </a:solidFill>
                <a:latin typeface="Arial"/>
              </a:rPr>
              <a:t>Способ «изо рта в рот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17"/>
          <p:cNvSpPr/>
          <p:nvPr/>
        </p:nvSpPr>
        <p:spPr>
          <a:xfrm>
            <a:off x="6372360" y="4724280"/>
            <a:ext cx="21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efac9"/>
                </a:solidFill>
                <a:latin typeface="Arial"/>
              </a:rPr>
              <a:t>Способ «изо рта в нос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20" descr="RotvRot150"/>
          <p:cNvPicPr/>
          <p:nvPr/>
        </p:nvPicPr>
        <p:blipFill>
          <a:blip r:embed="rId3"/>
          <a:stretch/>
        </p:blipFill>
        <p:spPr>
          <a:xfrm>
            <a:off x="6443640" y="2997360"/>
            <a:ext cx="2016000" cy="134460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0T12:13:54Z</dcterms:created>
  <dc:creator>Разумов В.Н.</dc:creator>
  <dc:description/>
  <dc:language>en-US</dc:language>
  <cp:lastModifiedBy>LEGION</cp:lastModifiedBy>
  <dcterms:modified xsi:type="dcterms:W3CDTF">2014-11-06T12:49:12Z</dcterms:modified>
  <cp:revision>58</cp:revision>
  <dc:subject/>
  <dc:title>Остановка сердца</dc:title>
</cp:coreProperties>
</file>