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F944-1E7D-4809-AF47-9E25CEFF99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Первая медицинская помощь при остановке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9894-EACD-4F73-A917-C7BCD010F0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Сочетание проведения </a:t>
            </a:r>
            <a:r>
              <a:rPr b="1" i="1" lang="en-US" sz="1200" spc="-1" strike="noStrike">
                <a:solidFill>
                  <a:srgbClr val="f2e104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го массажа сердца и искусственной вентиляции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делают 4 вдоха, за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живляет ОДИН, 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ые 15 надавливаний на грудину нужно делать 2 нагнетания воздуха в легк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живляют ДВОЕ, то один делает массаж сердца, а другой – искусственное дыхание: чередуют 5 надавливаний на грудину и одно вдувание в лег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B5E2-F7C1-4A08-9A7F-117B1FE782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2e104"/>
                </a:solidFill>
                <a:latin typeface="Calibri"/>
              </a:rPr>
              <a:t>Реаним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восстановление или временное замещение резко нарушенных или утраченных жизненно важных функций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5202-A1B5-40E7-811E-E23C3E9B8B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становке сердца обогащённая кислородом кровь больше не попадает в жизненно важные органы и возникает риск необратимого повреждения мозга, которое может наступить уже через 5-7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короткий период, когда процессы, происходящие в организме, еще обратимы, и человеку ещё можно помочь, называется </a:t>
            </a: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клинической смер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Клиническая смер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пограничное состояние перехода от гаснущей жизни к биологической смерти, которое возникает непосредственно после прекращения кровообращения и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1427-9705-468D-AE24-3ADDD79DF9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знаки клинической смер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созн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дых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реакции зрачков на св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ульса на сонной ар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главное при клинической смерти - добиться, чтобы появился пульс (восстановилось сердцебиение и дыхание) и только потом если нужно останавливать кровотечение, накладывать повязки и ш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При клинической смерти необходимы немедленный массаж сердца и искусственная вентиляция легких (искусственное дыха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06F0-4FF2-4D9F-9B68-776FC8E4C3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Прекардиаль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ардиальным ударом можно заставить сердце заработать так же синхронно, как и преж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дара как можно сильнее сотрясти грудную клетку, что станет толчком к запуску остановившегося серд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дар нанесен в течение первой минуты после остановки сердца, то вероятность оживления превышает 50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 нанесении удара в случае наличия пульса на сонной артерии, есть риск спровоцировать остановку сердц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EAEA-3508-4FA8-A747-2A1960EC93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непрямого массажа сердца следует положить ладонь одной руки в точку проекции сердца на грудине, а сверху на нее другую ладонь, пальцы держать приподнятыми, большие пальцы должны смотреть в разные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70F7-1293-4979-9014-79800E7383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и не следует отнимать от груди после каждого надавливания, но перед каждым новым надавливанием необходимо дать грудной клетке подняться в исходное положение, с тем чтобы не препятствовать наполнению полостей сердца кро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73AE-8D0B-4887-B965-BF2BCFE43E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 надавливаний на грудную клетку должен соответствовать частоте сердечных сокращений  в состоянии покоя, примерно 1 раз в секун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альное время проведения непрямого массажа сердца даже при отсутствии его эффективности не менее 15-20 мин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B15C-E4B6-4820-B139-FFDE935CBE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Искусственная вентиляция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кусственной вентиляции лёгких необходимо обеспечить проходимость дыхательных путей: зажать нос пострадавшего, запрокинуть голову, делать выдох в лёг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C360-82E3-4C5D-83E3-65E9CC00DF4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729-4384-48D2-85AC-269E881F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107-4E58-4C9D-B36D-7B4E198C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9BB1-EF2A-461F-8AC4-EAFD9577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578B-349A-477B-B7DB-49A3D0F5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AFB0-4945-4CFD-8431-623FC749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F5A6-B11C-4426-895A-8ACC7193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D6AB-6994-4EFD-A54C-1F98B896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941B-F1D0-4BA5-852D-13C5B219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5C08-1908-4BCA-9565-1E12CDB3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8DD5-E44E-4F4B-BD2A-A2D55781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D633-91B5-4CB3-9BA4-E0D7727E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D2B-FD30-4D17-9086-62B4BD6C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4E23-543F-4C2D-9122-24B9BAA2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5E01-DC83-47E0-B1F8-9F28A2AC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7215-B5CB-4EFC-A34F-E6CCC3C4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25C4-830F-455A-8EB1-A6B83A64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E06C-CBEE-4051-BC82-11D1AA82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D44E0C-1293-4E45-B566-4E915387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A0CEEC-1C55-4D74-972C-04F62432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2934B6-C466-41B6-BFCB-CF79AA67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8DDB3D-2774-49B8-B756-4C1D8E1B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F85F83-5A3F-460E-8848-CDB516E4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30AD-7631-4A24-BD33-437CBD67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6007F9-86AF-493B-9A75-5D812928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F42983-E733-4A6F-BB03-FBD044AD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8542A9-BD55-47A9-9FF8-DB3CA5D6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62A8A8-A9F6-49E8-972F-04EBA107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F0F8B5-EB57-46AA-B8B7-B40FFB4D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C58695-2151-4BDA-9D31-E8498FB7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2C36D6-83FD-4670-A51D-9BA35A52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6656-7C01-4F39-BBFE-C8455773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462A-488B-4D9A-B88B-627A1540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DDDD-91B7-4967-A43A-5021C863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13A-4B2B-4B77-97DE-88DA8F96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C959-3541-4D7A-9FF4-50BB4501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995-8455-4027-BD43-4B89A6E3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FB2F-2A6F-4F69-AEEA-EE24A240234F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A587-AF74-4E10-BCB8-D21D3183C1F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E102-A216-498C-A264-A41003A66C89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D23F-AF8C-46DC-89F9-23352A48ABF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BDEC-EAC0-4079-8582-FF38E20667E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5C65-E5D8-4C75-B5A1-7DFC84DA1CC6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дзаголовок 2"/>
          <p:cNvSpPr/>
          <p:nvPr/>
        </p:nvSpPr>
        <p:spPr>
          <a:xfrm>
            <a:off x="0" y="177336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Constantia"/>
              </a:rPr>
              <a:t>Первая медицинская помощь при остановке сердц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539640" y="2276640"/>
            <a:ext cx="424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ачале делают 4 вдоха, зат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оживляет ОДИН, 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аждые 15 надавливаний на грудину нужно делать 2 нагнетания воздуха в легк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оживляют ДВОЕ, то один делает массаж сердца, а другой – искусственное дыхание: чередуют 5 надавливаний на грудину и одно вдувание в легк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Последовательность действий при проведении непрямого массажа сердца"/>
          <p:cNvPicPr/>
          <p:nvPr/>
        </p:nvPicPr>
        <p:blipFill>
          <a:blip r:embed="rId1"/>
          <a:stretch/>
        </p:blipFill>
        <p:spPr>
          <a:xfrm>
            <a:off x="4788000" y="1916280"/>
            <a:ext cx="4074840" cy="45036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0" y="189000"/>
            <a:ext cx="9144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Сочетание про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го массажа сердца и искусственной вентиляции легк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3"/>
          <p:cNvSpPr/>
          <p:nvPr/>
        </p:nvSpPr>
        <p:spPr>
          <a:xfrm>
            <a:off x="468360" y="170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e104"/>
                </a:solidFill>
                <a:latin typeface="Arial"/>
              </a:rPr>
              <a:t>Реанимаци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это восстановление или временное замещение резко нарушенных или утраченных жизненно важных функций организ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341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становке сердца обогащённая кислородом кровь больше не попадает в жизненно важные органы и возникает риск необратимого повреждения мозга, которое может наступить уже через 5-7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короткий период, когда процессы, происходящие в организме, еще обратимы, и человеку ещё можно помочь, называется </a:t>
            </a: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клинической смерть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Клиническая смер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пограничное состояние перехода от гаснущей жизни к биологической смерти, которое возникает непосредственно после прекращения кровообращения и дых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95280" y="1341360"/>
            <a:ext cx="8209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Arial"/>
              </a:rPr>
              <a:t>Признаки клинической смерт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теря созн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дых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реакции зрачков на св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пульса на сонной арте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е главное при клинической смерти - добиться, чтобы появился пульс (восстановилось сердцебиение и дыхание) и только потом если нужно останавливать кровотечение, накладывать повязки и ш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При клинической смерти необходимы немедленный массаж сердца и искусственная вентиляция легких (искусственное дыхани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324000" y="981000"/>
            <a:ext cx="3311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кардиальным ударом можно заставить сердце заработать так же синхронно, как и прежд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удара как можно сильнее сотрясти грудную клетку, что станет толчком к запуску остановившегося сердц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удар нанесен в течение первой минуты после остановки сердца, то вероятность оживления превышает 50%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fac9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efac9"/>
                </a:solidFill>
                <a:latin typeface="Arial"/>
              </a:rPr>
              <a:t>При нанесении удара в случае наличия пульса на сонной артерии, есть риск спровоцировать остановку сердц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826920" y="333360"/>
            <a:ext cx="748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Прекардиальный уд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1" descr="image_112"/>
          <p:cNvPicPr/>
          <p:nvPr/>
        </p:nvPicPr>
        <p:blipFill>
          <a:blip r:embed="rId1"/>
          <a:stretch/>
        </p:blipFill>
        <p:spPr>
          <a:xfrm>
            <a:off x="3564000" y="1125360"/>
            <a:ext cx="5208480" cy="532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2"/>
          <p:cNvSpPr/>
          <p:nvPr/>
        </p:nvSpPr>
        <p:spPr>
          <a:xfrm>
            <a:off x="5940360" y="1197000"/>
            <a:ext cx="259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6f6f"/>
                </a:solidFill>
                <a:latin typeface="Arial"/>
              </a:rPr>
              <a:t>Прекардиальный удар наносят ребром сжатой в кулак ладони</a:t>
            </a:r>
            <a:r>
              <a:rPr b="0" lang="en-US" sz="1600" spc="-1" strike="noStrike">
                <a:solidFill>
                  <a:srgbClr val="7f6f6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7f6f6f"/>
                </a:solidFill>
                <a:latin typeface="Arial"/>
              </a:rPr>
              <a:t>в точку, расположенную на грудине на 2-3 см выше мечевидного отрост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8"/>
          <p:cNvPicPr/>
          <p:nvPr/>
        </p:nvPicPr>
        <p:blipFill>
          <a:blip r:embed="rId1"/>
          <a:stretch/>
        </p:blipFill>
        <p:spPr>
          <a:xfrm>
            <a:off x="3995640" y="2852640"/>
            <a:ext cx="4762440" cy="2676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Непрямой массаж сердца 2"/>
          <p:cNvPicPr/>
          <p:nvPr/>
        </p:nvPicPr>
        <p:blipFill>
          <a:blip r:embed="rId2"/>
          <a:stretch/>
        </p:blipFill>
        <p:spPr>
          <a:xfrm>
            <a:off x="468360" y="2852640"/>
            <a:ext cx="3311640" cy="2649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4"/>
          <p:cNvSpPr/>
          <p:nvPr/>
        </p:nvSpPr>
        <p:spPr>
          <a:xfrm>
            <a:off x="430200" y="1197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выполнении непрямого массажа сердца следует положить ладонь одной руки в точку проекции сердца на грудине, а сверху на нее другую ладонь, пальцы держать приподнятыми, большие пальцы должны смотреть в разные сторо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468360" y="112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и не следует отнимать от груди после каждого надавливания, но перед каждым новым надавливанием необходимо дать грудной клетке подняться в исходное положение, с тем чтобы не препятствовать наполнению полостей сердца кров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Положение рук при проведении непрямого массажа сердца"/>
          <p:cNvPicPr/>
          <p:nvPr/>
        </p:nvPicPr>
        <p:blipFill>
          <a:blip r:embed="rId1"/>
          <a:srcRect l="6470" t="1710" r="6899" b="5206"/>
          <a:stretch/>
        </p:blipFill>
        <p:spPr>
          <a:xfrm>
            <a:off x="2195640" y="2421000"/>
            <a:ext cx="4824360" cy="388764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724360" y="1197000"/>
            <a:ext cx="3024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итм надавливаний на грудную клетку должен соответствовать частоте сердечных сокращений  в состоянии покоя, примерно 1 раз в секун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мальное время проведения непрямого массажа сердца даже при отсутствии его эффективности не менее 15-20 мин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5" descr="Как следует проводить непрямой массаж сердца"/>
          <p:cNvPicPr/>
          <p:nvPr/>
        </p:nvPicPr>
        <p:blipFill>
          <a:blip r:embed="rId1"/>
          <a:stretch/>
        </p:blipFill>
        <p:spPr>
          <a:xfrm>
            <a:off x="755640" y="1197000"/>
            <a:ext cx="4641840" cy="5184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84360" y="11253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искусственной вентиляции лёгких необходимо обеспечить проходимость дыхательных путей: зажать нос пострадавшего, запрокинуть голову, делать выдох в лёгк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Искусственная вентиляция легк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3" descr="Последовательность действий при выполнении искусственной вентиляции лёгких"/>
          <p:cNvPicPr/>
          <p:nvPr/>
        </p:nvPicPr>
        <p:blipFill>
          <a:blip r:embed="rId1"/>
          <a:srcRect l="0" t="13833" r="0" b="0"/>
          <a:stretch/>
        </p:blipFill>
        <p:spPr>
          <a:xfrm>
            <a:off x="468360" y="2781360"/>
            <a:ext cx="5538600" cy="3579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4"/>
          <p:cNvPicPr/>
          <p:nvPr/>
        </p:nvPicPr>
        <p:blipFill>
          <a:blip r:embed="rId2"/>
          <a:stretch/>
        </p:blipFill>
        <p:spPr>
          <a:xfrm>
            <a:off x="6443640" y="5013360"/>
            <a:ext cx="2087640" cy="1305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6372360" y="263700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Arial"/>
              </a:rPr>
              <a:t>Способ «изо рта в рот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6372360" y="472428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Arial"/>
              </a:rPr>
              <a:t>Способ «изо рта в нос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20" descr="RotvRot150"/>
          <p:cNvPicPr/>
          <p:nvPr/>
        </p:nvPicPr>
        <p:blipFill>
          <a:blip r:embed="rId3"/>
          <a:stretch/>
        </p:blipFill>
        <p:spPr>
          <a:xfrm>
            <a:off x="6443640" y="2997360"/>
            <a:ext cx="2016000" cy="13446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2:13:54Z</dcterms:created>
  <dc:creator>Разумов В.Н.</dc:creator>
  <dc:description/>
  <dc:language>en-US</dc:language>
  <cp:lastModifiedBy>LEGION</cp:lastModifiedBy>
  <dcterms:modified xsi:type="dcterms:W3CDTF">2014-11-06T12:49:12Z</dcterms:modified>
  <cp:revision>58</cp:revision>
  <dc:subject/>
  <dc:title>Остановка сердца</dc:title>
</cp:coreProperties>
</file>