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6DD8-4405-4214-84C2-E7E2B898713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-консульт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9FA0-3E0F-4CEA-945F-56DC849BC63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f497d"/>
                </a:solidFill>
                <a:latin typeface="Calibri"/>
              </a:rPr>
              <a:t>Проблемы межличностных отношений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ждый из нас - не остров. Мы живем среди людей и вступаем в различного рода отношения. Эти отношения отличаются различной степенью близости и глубины. Не всегда удается построить их гармонич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исгармония в отношениях причиняет боль, может вызывать депрессивные состояния и даже боле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обраться в причинах  неудач и научиться строить более удовлетворительные и гармоничные отношения и призван помочь психолог как консульт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2ED4-6F69-4208-BDE2-D50B3EDE721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зрастно-психологический под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я родителей, учителей и лиц, участвующих в воспитании, в возрастных и индивидуальных особенностях психического развития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выявление детей с различными отклонениями и нарушениями психического развития и направление их в ПМПС –консультации, психологические цент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 вторичных психологических осложнений у детей с ослабленным соматическим и нервно-психическим здоровьем, рекомендации по психогигиене и психопрофилакт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рекомендаций для учителей, родителей и других лиц по психолого-педагогической коррекции трудностей в школьном обуч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рекомендация по воспитанию детей в сем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кционная работа индивидуально или в группах при консультации с детьми и род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просвещение населения с помощью лекционной и других форм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2C36-7770-48F9-9C22-E780F89C454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нсультирование родит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осуществляться как в групповой, так и в индивидуальной формах. Встреча школьного психолога с родителями ученика происходит по инициативе семьи или по инициативе педагогов, администрации или психолога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11EF-049B-4A8F-BA69-B68D1E42C3E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воды для проведени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й 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BCBE-6B33-465A-B81A-4ABE8743F5F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Консультативная з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EE35-66DD-4C59-8B81-8766260DFEB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актический психолог всегда стремится реализовать авторскую позицию в своей профе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этому и работу свою, в том числе и консультативную, будет провод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-сво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уализация психологических технологий  в практической работе, как бы «примерка» их на себя, - единственно успешный пу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а в проф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спеха Вам, дорогие коллег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1235-8DE4-4E6F-BA8F-AB7267A1459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щее описание модел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Психолог-Консультан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ссовых школах имеющих в штатном расписании одну ставку педагога-психолога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ятельность психолога организуется по запросу и на основании плана, утвержденного администрацией школ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нтральным направлением является работа с детьми, имеющими психологические трудности в обучении и развитии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сихолог занят профилактической работой и  ориентирован на работу с теми, кому трудно удержаться в рамках общих школьных требований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Частично психолог  самостоятельно оказывает помощь (в рамках своих возможностей и компетенции), частично — организует работу с ребенком и его семьей тех специалистов, которые могут оказать квалифицированную и специализированную помощь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испетчерская деятельность становится очень важным направлением работы психолога-консультант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60B5-66A4-4EBA-A80D-B3FDE5FCCC2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ль деятельности психолога-консульта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ровождение процесса психологического развития учащихся посредством создания определенных условий в образовательной среде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A5F5-1144-4E1F-A061-8C389CD5CF8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 деятель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леживание результатов психологического развития учащихся на различных этапах обуч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условий для оказания психологической помощи учащимся в решении проблем развит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психологического анализа внутришкольных образовательных программ и технологий с точки зрения их соответствия индивидуальным и возрастным особенностям учащихся данной школ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тивная и информационная психологическая поддержка процессов обучения, воспитания и развития детей в образовательной среде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A926-5C73-4340-8AA1-F42B52B43DA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новные направления дея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 С УЧАЩИМИСЯ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 С  РОДИ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ТРУДНИЧЕСТВО  С ПЕДАГОГАМИ-ПРЕДМЕТНИКАМ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 КЛАССНЫМИ РУКОВОДИТЕЛЯМИ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EB19-4158-4B00-83B5-44FE32470FC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е консуль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пециально организованная беседа психолога с клиентом (представителем администрации, учителем, родителем, учащимся) для разъяснения отдельного вопроса, анализа проблемы и выработки советов или рекомендация  по их решению или регулиров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4940-0BDA-445B-BBE6-B3E628C839D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Типич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ч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бращений  к школьному  психоло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60B0-A371-44DC-A620-C50E948CE7E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Детско-родительские отнош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спитание - сложный процесс. Быть родителем непросто. Дети не слушаются, грубят, не хотят учиться, проявляют свой характер. У детей могут возникать непонятные страхи, могут не складываться отношения в школе, со сверстниками, с учителями. "Негативизм" подростков - очень распространенная тема обращ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1592-4AA4-4DCF-825D-4E82F785DB4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Личностные проблем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корость современной жизни не всегда позволяет нам найти время для того, чтобы задуматься о своей жизненной ситуации, подумать о своих потребностях, позаботиться о себе. Тем не менее, каждый из нас в течение жизни сталкивается с множеством психологических проблем. Это могут быть проблемы, связанные с поиском себя и своего места в жизни, ведь вопросы "кто я такой?", "куда я иду?", "что для меня в жизни важно?" актуальны в любом возрасте. Это может быть переживание стресса, кризисной ситуации, травмирующего события или поте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асто бывает важно разобраться с негативными эмоциями, которые препятствуют нормальному течению жизни: переживаниями беспокойства или тревоги, страхами, ощущением подавленности или беспомощ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E33A-5DA5-4D17-831F-DEBA3647309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0D0B-0016-4A4D-9B7C-A30FBE82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8EC2-08F5-40CE-9575-0E9E3B4E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B9BC-052F-4DC6-9E35-A4DD9017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E251-B685-4417-BDEB-DBFF94EB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CF0F-FB67-4DA4-9C54-569EF241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C2E9-FA60-495E-B1C8-4E420A3C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97FF-EC79-475C-926D-F9749706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F391-33F0-4F7F-B77A-F6EC84F2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F6D5-8437-4EC4-93CE-8AE784BC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79C0-47AA-40E3-8626-0C3A24EC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FFC9-67F1-440C-BB5F-68458F98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4036-68A5-4099-B304-261C9906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3A1D-0FA3-4FEF-8666-A5EB2FA0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F083-7E66-4313-9D99-577B7294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D0A3-4251-41AB-ADC5-8AEDF4F4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4BAD-8BC2-46D0-BA6C-C4D03076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D7AD-C505-4C71-868C-F25A7D7B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C0BA-005E-4B09-92E9-CA5477D7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C394-F38D-48FA-8BDF-4265494D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09CF-DF9F-46E4-91F7-9CA46E46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383A-8533-44D2-BF2D-38728147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A684-956D-4929-9357-DD56DCFE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DB54-1367-4499-81C6-999CF9C9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1EC-A01B-448D-AADF-B396A0C6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AA54-1312-4ADD-89DE-CBE53A5183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65F7-4BC0-489C-BE62-AF60ABF497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Психолог-консультант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Рисунок 11" descr="Главная"/>
          <p:cNvPicPr/>
          <p:nvPr/>
        </p:nvPicPr>
        <p:blipFill>
          <a:blip r:embed="rId1"/>
          <a:stretch/>
        </p:blipFill>
        <p:spPr>
          <a:xfrm>
            <a:off x="684360" y="3716280"/>
            <a:ext cx="1255680" cy="13683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1" descr="Главная"/>
          <p:cNvPicPr/>
          <p:nvPr/>
        </p:nvPicPr>
        <p:blipFill>
          <a:blip r:embed="rId2"/>
          <a:stretch/>
        </p:blipFill>
        <p:spPr>
          <a:xfrm>
            <a:off x="7648560" y="189000"/>
            <a:ext cx="1189080" cy="12952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Проблемы межличностных отношен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Каждый из нас - не остров. Мы живем среди людей и вступаем в различного рода отношения. Эти отношения отличаются различной степенью близости и глубины. Не всегда удается построить их гармонич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Дисгармония в отношениях причиняет боль, может вызывать депрессивные состояния и даже болез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Разобраться в причинах  неудач и научиться строить более удовлетворительные и гармоничные отношения и призван помочь психолог как консультан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1349280" cy="17002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1" descr="Главная"/>
          <p:cNvPicPr/>
          <p:nvPr/>
        </p:nvPicPr>
        <p:blipFill>
          <a:blip r:embed="rId2"/>
          <a:stretch/>
        </p:blipFill>
        <p:spPr>
          <a:xfrm>
            <a:off x="7164360" y="5273640"/>
            <a:ext cx="1452600" cy="15843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042920" y="476280"/>
            <a:ext cx="73389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18900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1" descr="Главная"/>
          <p:cNvPicPr/>
          <p:nvPr/>
        </p:nvPicPr>
        <p:blipFill>
          <a:blip r:embed="rId2"/>
          <a:stretch/>
        </p:blipFill>
        <p:spPr>
          <a:xfrm>
            <a:off x="6659640" y="4653000"/>
            <a:ext cx="1717560" cy="187308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2" descr="скачать Практический психолог в школе: лекции, консультирование, тренинги бесплатно"/>
          <p:cNvPicPr/>
          <p:nvPr/>
        </p:nvPicPr>
        <p:blipFill>
          <a:blip r:embed="rId3"/>
          <a:stretch/>
        </p:blipFill>
        <p:spPr>
          <a:xfrm>
            <a:off x="1116000" y="1052640"/>
            <a:ext cx="2976480" cy="4464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6"/>
          <p:cNvSpPr/>
          <p:nvPr/>
        </p:nvSpPr>
        <p:spPr>
          <a:xfrm>
            <a:off x="4290840" y="1032840"/>
            <a:ext cx="44578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нига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Практический психолог в школе: лекции, консультирование, тренинг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р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Самоукина 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здательство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НТОР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раниц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19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3920" y="152280"/>
            <a:ext cx="6342120" cy="10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озрастно-психологический подхо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213920"/>
            <a:ext cx="80247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риентация родителей, учителей и лиц, участвующих в воспитании, в возрастных и индивидуальных особенностях психического развития ребенк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воевременное выявление детей с различными отклонениями и нарушениями психического развития и направление их в ПМПС –консультации, психологические центр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упреждение вторичных психологических осложнений у детей с ослабленным соматическим и нервно-психическим здоровьем, рекомендации по психогигиене и психопрофилактик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ставление рекомендаций для учителей, родителей и других лиц по психолого-педагогической коррекции трудностей в школьном обучени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ставление рекомендация по воспитанию детей в семь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оррекционная работа индивидуально или в группах при консультации с детьми и родителям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сихологическое просвещение населения с помощью лекционной и других форм работ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928800" cy="117000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1" descr="Главная"/>
          <p:cNvPicPr/>
          <p:nvPr/>
        </p:nvPicPr>
        <p:blipFill>
          <a:blip r:embed="rId2"/>
          <a:stretch/>
        </p:blipFill>
        <p:spPr>
          <a:xfrm>
            <a:off x="7215120" y="5429160"/>
            <a:ext cx="1214640" cy="132408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224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онсультирование родител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85880" y="1828440"/>
            <a:ext cx="7596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жет осуществляться как в групповой, так и в индивидуальной формах. Встреча школьного психолога с родителями ученика происходит по инициативе семьи или по инициативе педагогов, администрации или психолога школ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468360" y="333360"/>
            <a:ext cx="1200240" cy="151128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1" descr="Главная"/>
          <p:cNvPicPr/>
          <p:nvPr/>
        </p:nvPicPr>
        <p:blipFill>
          <a:blip r:embed="rId2"/>
          <a:stretch/>
        </p:blipFill>
        <p:spPr>
          <a:xfrm>
            <a:off x="7143840" y="5286240"/>
            <a:ext cx="1285920" cy="140184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00000" y="151920"/>
            <a:ext cx="691200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воды для проведе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сихологической консульт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961920" cy="12114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3276720" y="1627920"/>
            <a:ext cx="410364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27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ициатор встреч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11280" y="1989000"/>
          <a:ext cx="7993080" cy="4100760"/>
        </p:xfrm>
        <a:graphic>
          <a:graphicData uri="http://schemas.openxmlformats.org/drawingml/2006/table">
            <a:tbl>
              <a:tblPr/>
              <a:tblGrid>
                <a:gridCol w="2274840"/>
                <a:gridCol w="2811240"/>
                <a:gridCol w="2907000"/>
              </a:tblGrid>
              <a:tr h="95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Характеристик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овод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ля обра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  <a:ea typeface="Times New Roman"/>
                        </a:rPr>
                        <a:t>Школ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(психолог, педагог, администрац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  <a:ea typeface="Times New Roman"/>
                        </a:rPr>
                        <a:t>Сем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лановая встре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нформация о возрастных закономерностях развития, о психологических особенностях данного эта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нформация об индивидуальных особенностях развития ребенка на данном этапе, соотношение с возрастными норм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страя ситу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акие-либо аспекты в поведении или учебных успехах ребенка вызывают тревогу или недоволь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Родители не справляются с какой-либо воспитательной задачей, нуждаются в информации, поддержке,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050920" y="5589360"/>
            <a:ext cx="5329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Консультативная зо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IMG_1514"/>
          <p:cNvPicPr/>
          <p:nvPr/>
        </p:nvPicPr>
        <p:blipFill>
          <a:blip r:embed="rId2"/>
          <a:stretch/>
        </p:blipFill>
        <p:spPr>
          <a:xfrm>
            <a:off x="1258920" y="620640"/>
            <a:ext cx="6481800" cy="48592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1" descr="Главная"/>
          <p:cNvPicPr/>
          <p:nvPr/>
        </p:nvPicPr>
        <p:blipFill>
          <a:blip r:embed="rId3"/>
          <a:stretch/>
        </p:blipFill>
        <p:spPr>
          <a:xfrm>
            <a:off x="7572240" y="5643720"/>
            <a:ext cx="1000440" cy="109044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99680" y="356760"/>
            <a:ext cx="7839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рактический психолог всегда стремится реализовать авторскую позицию в своей професси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оэтому и работу свою, в том числе и консультативную, будет проводи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о-своем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Индивидуализация психологических технологий  в практической работе, как бы «примерка» их на себя, - единственно успешный пу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сихолога в професс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Успеха Вам, дорогие коллеги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961920" cy="12114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11" descr="Главная"/>
          <p:cNvPicPr/>
          <p:nvPr/>
        </p:nvPicPr>
        <p:blipFill>
          <a:blip r:embed="rId2"/>
          <a:stretch/>
        </p:blipFill>
        <p:spPr>
          <a:xfrm>
            <a:off x="7786800" y="6000840"/>
            <a:ext cx="785880" cy="8571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1912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бщее описание модел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Психолог-Консультант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499760"/>
            <a:ext cx="792144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массовых школах имеющих в штатном расписании одну ставку педагога-психолог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Деятельность психолога организуется по запросу и на основании плана, утвержденного администрацией школы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Центральным направлением является работа с детьми, имеющими психологические трудности в обучении и развити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сихолог занят профилактической работой и  ориентирован на работу с теми, кому трудно удержаться в рамках общих школьных требований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Частично психолог  самостоятельно оказывает помощь (в рамках своих возможностей и компетенции), частично — организует работу с ребенком и его семьей тех специалистов, которые могут оказать квалифицированную и специализированную помощь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Диспетчерская деятельность становится очень важным направлением работы психолога-консультанта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" descr="На главную"/>
          <p:cNvPicPr/>
          <p:nvPr/>
        </p:nvPicPr>
        <p:blipFill>
          <a:blip r:embed="rId2"/>
          <a:stretch/>
        </p:blipFill>
        <p:spPr>
          <a:xfrm>
            <a:off x="0" y="0"/>
            <a:ext cx="1285920" cy="161928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52280"/>
            <a:ext cx="6224400" cy="20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Цель деятельности психолога-консультан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349360"/>
            <a:ext cx="76960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провождение процесса психологического развития учащихся посредством создания определенных условий в образовательной среде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Рисунок 11" descr="Главная"/>
          <p:cNvPicPr/>
          <p:nvPr/>
        </p:nvPicPr>
        <p:blipFill>
          <a:blip r:embed="rId1"/>
          <a:stretch/>
        </p:blipFill>
        <p:spPr>
          <a:xfrm>
            <a:off x="6929280" y="5072040"/>
            <a:ext cx="1386000" cy="151128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" descr="На главную"/>
          <p:cNvPicPr/>
          <p:nvPr/>
        </p:nvPicPr>
        <p:blipFill>
          <a:blip r:embed="rId2"/>
          <a:stretch/>
        </p:blipFill>
        <p:spPr>
          <a:xfrm>
            <a:off x="216000" y="21600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1" descr="Главная"/>
          <p:cNvPicPr/>
          <p:nvPr/>
        </p:nvPicPr>
        <p:blipFill>
          <a:blip r:embed="rId3"/>
          <a:stretch/>
        </p:blipFill>
        <p:spPr>
          <a:xfrm>
            <a:off x="7081920" y="5224320"/>
            <a:ext cx="1385640" cy="151128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643896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Задачи деятельно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12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тслеживание результатов психологического развития учащихся на различных этапах обуче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здание условий для оказания психологической помощи учащимся в решении проблем развит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существление психологического анализа внутришкольных образовательных программ и технологий с точки зрения их соответствия индивидуальным и возрастным особенностям учащихся данной школ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нсультативная и информационная психологическая поддержка процессов обучения, воспитания и развития детей в образовательной среде школ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5" descr="Главная"/>
          <p:cNvPicPr/>
          <p:nvPr/>
        </p:nvPicPr>
        <p:blipFill>
          <a:blip r:embed="rId2"/>
          <a:stretch/>
        </p:blipFill>
        <p:spPr>
          <a:xfrm>
            <a:off x="7000920" y="5214960"/>
            <a:ext cx="1285920" cy="140184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03280" y="151920"/>
            <a:ext cx="6153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Основные направления деятельност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928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РАБОТА С УЧАЩИМИСЯ ШКОЛ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РАБОТА С  РОДИТЕЛЯМ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ОТРУДНИЧЕСТВО  С ПЕДАГОГАМИ-ПРЕДМЕТНИКАМ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И  КЛАССНЫМИ РУКОВОДИТЕЛЯМ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18900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1" descr="Главная"/>
          <p:cNvPicPr/>
          <p:nvPr/>
        </p:nvPicPr>
        <p:blipFill>
          <a:blip r:embed="rId2"/>
          <a:stretch/>
        </p:blipFill>
        <p:spPr>
          <a:xfrm>
            <a:off x="6786720" y="4714920"/>
            <a:ext cx="1717560" cy="18730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32000" y="151920"/>
            <a:ext cx="6224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сихологическое консультировани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49780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специально организованная беседа психолога с клиентом (представителем администрации, учителем, родителем, учащимся) для разъяснения отдельного вопроса, анализа проблемы и выработки советов или рекомендация  по их решению или регулировани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324000" y="189000"/>
            <a:ext cx="1285560" cy="16192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1" descr="Главная"/>
          <p:cNvPicPr/>
          <p:nvPr/>
        </p:nvPicPr>
        <p:blipFill>
          <a:blip r:embed="rId2"/>
          <a:stretch/>
        </p:blipFill>
        <p:spPr>
          <a:xfrm>
            <a:off x="7164360" y="5273640"/>
            <a:ext cx="1452600" cy="15843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1341000"/>
            <a:ext cx="7696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dff"/>
                </a:solidFill>
                <a:latin typeface="Comic Sans MS"/>
              </a:rPr>
              <a:t>Типичные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dff"/>
                </a:solidFill>
                <a:latin typeface="Comic Sans MS"/>
              </a:rPr>
              <a:t>причины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dff"/>
                </a:solidFill>
                <a:latin typeface="Comic Sans MS"/>
              </a:rPr>
              <a:t>обращений  к школьному  психолог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395280" y="0"/>
            <a:ext cx="1200240" cy="15112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11" descr="Главная"/>
          <p:cNvPicPr/>
          <p:nvPr/>
        </p:nvPicPr>
        <p:blipFill>
          <a:blip r:embed="rId2"/>
          <a:stretch/>
        </p:blipFill>
        <p:spPr>
          <a:xfrm>
            <a:off x="7375680" y="5661000"/>
            <a:ext cx="1096920" cy="11970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03280" y="151920"/>
            <a:ext cx="6153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Детско-родительские отнош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Воспитание - сложный процесс. Быть родителем непросто. Дети не слушаются, грубят, не хотят учиться, проявляют свой характер. У детей могут возникать непонятные страхи, могут не складываться отношения в школе, со сверстниками, с учителями. "Негативизм" подростков - очень распространенная тема обраще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189000"/>
            <a:ext cx="1314360" cy="16556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11" descr="Главная"/>
          <p:cNvPicPr/>
          <p:nvPr/>
        </p:nvPicPr>
        <p:blipFill>
          <a:blip r:embed="rId2"/>
          <a:stretch/>
        </p:blipFill>
        <p:spPr>
          <a:xfrm>
            <a:off x="7254720" y="5300640"/>
            <a:ext cx="1122480" cy="122544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03280" y="152280"/>
            <a:ext cx="615312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Личностные пробл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корость современной жизни не всегда позволяет нам найти время для того, чтобы задуматься о своей жизненной ситуации, подумать о своих потребностях, позаботиться о себе. Тем не менее, каждый из нас в течение жизни сталкивается с множеством психологических проблем. Это могут быть проблемы, связанные с поиском себя и своего места в жизни, ведь вопросы "кто я такой?", "куда я иду?", "что для меня в жизни важно?" актуальны в любом возрасте. Это может быть переживание стресса, кризисной ситуации, травмирующего события или потер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Часто бывает важно разобраться с негативными эмоциями, которые препятствуют нормальному течению жизни: переживаниями беспокойства или тревоги, страхами, ощущением подавленности или беспомощ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Рисунок 11" descr="Главная"/>
          <p:cNvPicPr/>
          <p:nvPr/>
        </p:nvPicPr>
        <p:blipFill>
          <a:blip r:embed="rId1"/>
          <a:stretch/>
        </p:blipFill>
        <p:spPr>
          <a:xfrm>
            <a:off x="7054920" y="5084640"/>
            <a:ext cx="1322280" cy="144144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11" descr="Главная"/>
          <p:cNvPicPr/>
          <p:nvPr/>
        </p:nvPicPr>
        <p:blipFill>
          <a:blip r:embed="rId2"/>
          <a:stretch/>
        </p:blipFill>
        <p:spPr>
          <a:xfrm>
            <a:off x="4500720" y="4984920"/>
            <a:ext cx="1717560" cy="18730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11" descr="Главная"/>
          <p:cNvPicPr/>
          <p:nvPr/>
        </p:nvPicPr>
        <p:blipFill>
          <a:blip r:embed="rId3"/>
          <a:stretch/>
        </p:blipFill>
        <p:spPr>
          <a:xfrm>
            <a:off x="2195640" y="4984920"/>
            <a:ext cx="1717560" cy="187308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1" descr="На главную"/>
          <p:cNvPicPr/>
          <p:nvPr/>
        </p:nvPicPr>
        <p:blipFill>
          <a:blip r:embed="rId4"/>
          <a:stretch/>
        </p:blipFill>
        <p:spPr>
          <a:xfrm>
            <a:off x="0" y="0"/>
            <a:ext cx="893880" cy="112536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38:25Z</dcterms:created>
  <dc:creator>Admin</dc:creator>
  <dc:description/>
  <dc:language>en-US</dc:language>
  <cp:lastModifiedBy>LEGION</cp:lastModifiedBy>
  <dcterms:modified xsi:type="dcterms:W3CDTF">2014-11-12T09:44:36Z</dcterms:modified>
  <cp:revision>18</cp:revision>
  <dc:subject/>
  <dc:title>Психолог-консультант</dc:title>
</cp:coreProperties>
</file>