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C776-E047-4E5D-B39A-95FFF076621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-консульта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C8A7E-1566-4848-8A17-41B607190E39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1f497d"/>
                </a:solidFill>
                <a:latin typeface="Calibri"/>
              </a:rPr>
              <a:t>Проблемы межличностных отношений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аждый из нас - не остров. Мы живем среди людей и вступаем в различного рода отношения. Эти отношения отличаются различной степенью близости и глубины. Не всегда удается построить их гармонич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исгармония в отношениях причиняет боль, может вызывать депрессивные состояния и даже боле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зобраться в причинах  неудач и научиться строить более удовлетворительные и гармоничные отношения и призван помочь психолог как консульта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08DDC-3DB4-4929-AEC1-1372BC80BD3C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озрастно-психологический подх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иентация родителей, учителей и лиц, участвующих в воспитании, в возрастных и индивидуальных особенностях психического развития ребе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евременное выявление детей с различными отклонениями и нарушениями психического развития и направление их в ПМПС –консультации, психологические цент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упреждение вторичных психологических осложнений у детей с ослабленным соматическим и нервно-психическим здоровьем, рекомендации по психогигиене и психопрофилакт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рекомендаций для учителей, родителей и других лиц по психолого-педагогической коррекции трудностей в школьном обуч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рекомендация по воспитанию детей в сем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рекционная работа индивидуально или в группах при консультации с детьми и родител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ое просвещение населения с помощью лекционной и других форм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86E7C-02A1-4C41-9DDB-D8B0443E0FED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онсультирование родителе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т осуществляться как в групповой, так и в индивидуальной формах. Встреча школьного психолога с родителями ученика происходит по инициативе семьи или по инициативе педагогов, администрации или психолога шко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C27EC-2591-414A-A1D2-7BF8190BCB65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воды для проведения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ческой консуль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63554-DBA4-4757-9A1D-45584F371BE4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80"/>
                </a:solidFill>
                <a:latin typeface="Calibri"/>
              </a:rPr>
              <a:t>Консультативная з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21B46-FE5E-4822-B4DF-982EF5791F98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актический психолог всегда стремится реализовать авторскую позицию в своей професс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этому и работу свою, в том числе и консультативную, будет проводи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-свое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дивидуализация психологических технологий  в практической работе, как бы «примерка» их на себя, - единственно успешный пу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сихолога в профе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Успеха Вам, дорогие коллег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DA4D9-C731-4FE6-8993-15536B09FB87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щее описание модел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Психолог-Консультант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ассовых школах имеющих в штатном расписании одну ставку педагога-психолога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еятельность психолога организуется по запросу и на основании плана, утвержденного администрацией школы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Центральным направлением является работа с детьми, имеющими психологические трудности в обучении и развитии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сихолог занят профилактической работой и  ориентирован на работу с теми, кому трудно удержаться в рамках общих школьных требований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Частично психолог  самостоятельно оказывает помощь (в рамках своих возможностей и компетенции), частично — организует работу с ребенком и его семьей тех специалистов, которые могут оказать квалифицированную и специализированную помощь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испетчерская деятельность становится очень важным направлением работы психолога-консультант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B53EF-D615-4A42-984C-B662F7DE0101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Цель деятельности психолога-консультан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провождение процесса психологического развития учащихся посредством создания определенных условий в образовательной среде шко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6409C-8476-43CF-BC49-1EBA05A3D07B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дачи деятельност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леживание результатов психологического развития учащихся на различных этапах обучен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условий для оказания психологической помощи учащимся в решении проблем развит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ение психологического анализа внутришкольных образовательных программ и технологий с точки зрения их соответствия индивидуальным и возрастным особенностям учащихся данной школ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ультативная и информационная психологическая поддержка процессов обучения, воспитания и развития детей в образовательной среде шко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6898A-C2C7-4188-BCDC-0CC595A30034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сновные направления деятельност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БОТА С УЧАЩИМИСЯ ШКО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БОТА С  РОДИТЕЛ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ТРУДНИЧЕСТВО  С ПЕДАГОГАМИ-ПРЕДМЕТНИКАМИ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 КЛАССНЫМИ РУКОВОДИТЕЛЯМИ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3D232-88D7-45A3-BD23-2792F846EBBC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ческое консульт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пециально организованная беседа психолога с клиентом (представителем администрации, учителем, родителем, учащимся) для разъяснения отдельного вопроса, анализа проблемы и выработки советов или рекомендация  по их решению или регулирова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349F5-6438-4F7C-BC21-E13A44ED08E0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Типич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причи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обращений  к школьному  психолог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7AF24-96AC-4FF1-9B5C-FCD12264740A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Calibri"/>
              </a:rPr>
              <a:t>Детско-родительские отнош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оспитание - сложный процесс. Быть родителем непросто. Дети не слушаются, грубят, не хотят учиться, проявляют свой характер. У детей могут возникать непонятные страхи, могут не складываться отношения в школе, со сверстниками, с учителями. "Негативизм" подростков - очень распространенная тема обращ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E5B23-CD67-41CD-B717-CAC81A92D966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Calibri"/>
              </a:rPr>
              <a:t>Личностные проблемы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корость современной жизни не всегда позволяет нам найти время для того, чтобы задуматься о своей жизненной ситуации, подумать о своих потребностях, позаботиться о себе. Тем не менее, каждый из нас в течение жизни сталкивается с множеством психологических проблем. Это могут быть проблемы, связанные с поиском себя и своего места в жизни, ведь вопросы "кто я такой?", "куда я иду?", "что для меня в жизни важно?" актуальны в любом возрасте. Это может быть переживание стресса, кризисной ситуации, травмирующего события или потер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Часто бывает важно разобраться с негативными эмоциями, которые препятствуют нормальному течению жизни: переживаниями беспокойства или тревоги, страхами, ощущением подавленности или беспомощ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70ECF-232C-4FE5-8596-3F5B2409DCA3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9678-B3BF-46DB-BBF1-004C4B3C0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3290-AB56-4A37-99DE-DAD15DA43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F6E7-E33D-4397-A915-DD9D54A96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B7ED-3749-4381-9B72-B5393F831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05281-ACD3-46AD-8739-09646CF24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9DDB0-FCEF-4271-9952-0C21E78B3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1ED9D-41DD-42FF-ACE5-E4CEDF8D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D980F-4F7D-4B27-8475-5A23AC149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B1046-890C-4AAA-8746-A3A5FBF9B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E2865-DFEE-4396-89A7-4D0A0E782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F0B6A-F3D9-4207-92A5-B0421700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6518-F7F8-4332-88B3-462A43D4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DAB9C-6B91-476F-A1A0-203FA7B5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D06A2-DF7C-4DF7-9E80-83310C3B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B9EF4-F140-4941-9192-E2D7CEAA2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8DEDD-5B78-4C63-A3A7-E44D94B58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C3F45-C02D-4A14-91CD-5D66A063C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C2C5-91E9-4526-8B8B-6D95AB4D1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7A7D-30AD-4681-BD2A-AD5E54379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34DF-B607-4292-9B4C-767B815EC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B087-8637-4A27-AD8B-5B3F6A2D3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A688-21AD-45BC-B189-C97A33F2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A917-DC6A-426E-B103-7C9434FE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3376-969D-4B7A-A55E-B69CF4E4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CF6A-1C25-433E-9AEA-6DBCE64902B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9760" y="-84960"/>
            <a:ext cx="2431080" cy="2251800"/>
            <a:chOff x="7169760" y="-84960"/>
            <a:chExt cx="2431080" cy="22518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9760" y="-84960"/>
              <a:ext cx="2431080" cy="2251800"/>
              <a:chOff x="7169760" y="-84960"/>
              <a:chExt cx="2431080" cy="22518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9760" y="-84960"/>
                <a:ext cx="2431080" cy="2251800"/>
                <a:chOff x="7169760" y="-84960"/>
                <a:chExt cx="2431080" cy="22518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040"/>
                  <a:ext cx="24408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1160" y="521640"/>
                  <a:ext cx="4294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8760" y="284400"/>
                  <a:ext cx="8056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0320" y="-25560"/>
                  <a:ext cx="120960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716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680" y="1276560"/>
                  <a:ext cx="2890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4800"/>
                  <a:ext cx="28872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1680" y="217440"/>
                  <a:ext cx="2854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4753D-3385-4FDB-8661-4348DC05FB6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mic Sans MS"/>
              </a:rPr>
              <a:t>Психолог-консультант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Рисунок 11" descr="Главная"/>
          <p:cNvPicPr/>
          <p:nvPr/>
        </p:nvPicPr>
        <p:blipFill>
          <a:blip r:embed="rId1"/>
          <a:stretch/>
        </p:blipFill>
        <p:spPr>
          <a:xfrm>
            <a:off x="684360" y="3716280"/>
            <a:ext cx="1255680" cy="136836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11" descr="Главная"/>
          <p:cNvPicPr/>
          <p:nvPr/>
        </p:nvPicPr>
        <p:blipFill>
          <a:blip r:embed="rId2"/>
          <a:stretch/>
        </p:blipFill>
        <p:spPr>
          <a:xfrm>
            <a:off x="7648560" y="189000"/>
            <a:ext cx="1189080" cy="129528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Проблемы межличностных отношений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Каждый из нас - не остров. Мы живем среди людей и вступаем в различного рода отношения. Эти отношения отличаются различной степенью близости и глубины. Не всегда удается построить их гармоничн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Дисгармония в отношениях причиняет боль, может вызывать депрессивные состояния и даже болезн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Разобраться в причинах  неудач и научиться строить более удовлетворительные и гармоничные отношения и призван помочь психолог как консультан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0" y="0"/>
            <a:ext cx="1349280" cy="170028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11" descr="Главная"/>
          <p:cNvPicPr/>
          <p:nvPr/>
        </p:nvPicPr>
        <p:blipFill>
          <a:blip r:embed="rId2"/>
          <a:stretch/>
        </p:blipFill>
        <p:spPr>
          <a:xfrm>
            <a:off x="7164360" y="5273640"/>
            <a:ext cx="1452600" cy="158436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1042920" y="476280"/>
            <a:ext cx="73389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0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0" y="189000"/>
            <a:ext cx="1285920" cy="161928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11" descr="Главная"/>
          <p:cNvPicPr/>
          <p:nvPr/>
        </p:nvPicPr>
        <p:blipFill>
          <a:blip r:embed="rId2"/>
          <a:stretch/>
        </p:blipFill>
        <p:spPr>
          <a:xfrm>
            <a:off x="6659640" y="4653000"/>
            <a:ext cx="1717560" cy="1873080"/>
          </a:xfrm>
          <a:prstGeom prst="rect">
            <a:avLst/>
          </a:prstGeom>
          <a:ln w="0">
            <a:noFill/>
          </a:ln>
        </p:spPr>
      </p:pic>
      <p:pic>
        <p:nvPicPr>
          <p:cNvPr id="212" name="Рисунок 2" descr="скачать Практический психолог в школе: лекции, консультирование, тренинги бесплатно"/>
          <p:cNvPicPr/>
          <p:nvPr/>
        </p:nvPicPr>
        <p:blipFill>
          <a:blip r:embed="rId3"/>
          <a:stretch/>
        </p:blipFill>
        <p:spPr>
          <a:xfrm>
            <a:off x="1116000" y="1052640"/>
            <a:ext cx="2976480" cy="446400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6"/>
          <p:cNvSpPr/>
          <p:nvPr/>
        </p:nvSpPr>
        <p:spPr>
          <a:xfrm>
            <a:off x="4290840" y="1032840"/>
            <a:ext cx="445788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нига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Практический психолог в школе: лекции, консультирование, тренинги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втор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Самоукина Н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здательство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ИНТОР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траниц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192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13920" y="152280"/>
            <a:ext cx="6342120" cy="106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озрастно-психологический подход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56760" y="1213920"/>
            <a:ext cx="80247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риентация родителей, учителей и лиц, участвующих в воспитании, в возрастных и индивидуальных особенностях психического развития ребенка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04000" indent="-504000"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воевременное выявление детей с различными отклонениями и нарушениями психического развития и направление их в ПМПС –консультации, психологические центры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04000" indent="-504000"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едупреждение вторичных психологических осложнений у детей с ослабленным соматическим и нервно-психическим здоровьем, рекомендации по психогигиене и психопрофилактике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04000" indent="-504000"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оставление рекомендаций для учителей, родителей и других лиц по психолого-педагогической коррекции трудностей в школьном обучении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04000" indent="-504000"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оставление рекомендация по воспитанию детей в семье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04000" indent="-504000"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Коррекционная работа индивидуально или в группах при консультации с детьми и родителями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04000" indent="-504000"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сихологическое просвещение населения с помощью лекционной и других форм работы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04000" indent="-504000"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04000" indent="-504000"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7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0" y="0"/>
            <a:ext cx="928800" cy="117000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11" descr="Главная"/>
          <p:cNvPicPr/>
          <p:nvPr/>
        </p:nvPicPr>
        <p:blipFill>
          <a:blip r:embed="rId2"/>
          <a:stretch/>
        </p:blipFill>
        <p:spPr>
          <a:xfrm>
            <a:off x="7215120" y="5429160"/>
            <a:ext cx="1214640" cy="1324080"/>
          </a:xfrm>
          <a:prstGeom prst="rect">
            <a:avLst/>
          </a:prstGeom>
          <a:ln w="0">
            <a:noFill/>
          </a:ln>
        </p:spPr>
      </p:pic>
      <p:sp>
        <p:nvSpPr>
          <p:cNvPr id="21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6224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консультирование родителе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85880" y="1828440"/>
            <a:ext cx="75960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ожет осуществляться как в групповой, так и в индивидуальной формах. Встреча школьного психолога с родителями ученика происходит по инициативе семьи или по инициативе педагогов, администрации или психолога школ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2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468360" y="333360"/>
            <a:ext cx="1200240" cy="151128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11" descr="Главная"/>
          <p:cNvPicPr/>
          <p:nvPr/>
        </p:nvPicPr>
        <p:blipFill>
          <a:blip r:embed="rId2"/>
          <a:stretch/>
        </p:blipFill>
        <p:spPr>
          <a:xfrm>
            <a:off x="7143840" y="5286240"/>
            <a:ext cx="1285920" cy="140184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00000" y="151920"/>
            <a:ext cx="6912000" cy="140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оводы для проведени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сихологической консультаци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6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0" y="0"/>
            <a:ext cx="961920" cy="121140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4"/>
          <p:cNvSpPr/>
          <p:nvPr/>
        </p:nvSpPr>
        <p:spPr>
          <a:xfrm>
            <a:off x="3276720" y="1627920"/>
            <a:ext cx="4103640" cy="4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2708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ициатор встреч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611280" y="1989000"/>
          <a:ext cx="7993080" cy="4100760"/>
        </p:xfrm>
        <a:graphic>
          <a:graphicData uri="http://schemas.openxmlformats.org/drawingml/2006/table">
            <a:tbl>
              <a:tblPr/>
              <a:tblGrid>
                <a:gridCol w="2274840"/>
                <a:gridCol w="2811240"/>
                <a:gridCol w="2907000"/>
              </a:tblGrid>
              <a:tr h="952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Характеристика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повода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для обращ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Arial CYR"/>
                          <a:ea typeface="Times New Roman"/>
                        </a:rPr>
                        <a:t>Школа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(психолог, педагог, администрац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Arial CYR"/>
                          <a:ea typeface="Times New Roman"/>
                        </a:rPr>
                        <a:t>Семь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Плановая встреч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Информация о возрастных закономерностях развития, о психологических особенностях данного эта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Информация об индивидуальных особенностях развития ребенка на данном этапе, соотношение с возрастными норм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Острая ситу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Какие-либо аспекты в поведении или учебных успехах ребенка вызывают тревогу или недоволь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Родители не справляются с какой-либо воспитательной задачей, нуждаются в информации, поддержке, помощ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2050920" y="5589360"/>
            <a:ext cx="532944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dff"/>
                </a:solidFill>
                <a:latin typeface="Comic Sans MS"/>
              </a:rPr>
              <a:t>Консультативная зон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1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0" y="0"/>
            <a:ext cx="1285920" cy="16192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IMG_1514"/>
          <p:cNvPicPr/>
          <p:nvPr/>
        </p:nvPicPr>
        <p:blipFill>
          <a:blip r:embed="rId2"/>
          <a:stretch/>
        </p:blipFill>
        <p:spPr>
          <a:xfrm>
            <a:off x="1258920" y="620640"/>
            <a:ext cx="6481800" cy="485928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11" descr="Главная"/>
          <p:cNvPicPr/>
          <p:nvPr/>
        </p:nvPicPr>
        <p:blipFill>
          <a:blip r:embed="rId3"/>
          <a:stretch/>
        </p:blipFill>
        <p:spPr>
          <a:xfrm>
            <a:off x="7572240" y="5643720"/>
            <a:ext cx="1000440" cy="1090440"/>
          </a:xfrm>
          <a:prstGeom prst="rect">
            <a:avLst/>
          </a:prstGeom>
          <a:ln w="0">
            <a:noFill/>
          </a:ln>
        </p:spPr>
      </p:pic>
      <p:sp>
        <p:nvSpPr>
          <p:cNvPr id="23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99680" y="356760"/>
            <a:ext cx="7839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Практический психолог всегда стремится реализовать авторскую позицию в своей профессии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Поэтому и работу свою, в том числе и консультативную, будет проводить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по-своем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Индивидуализация психологических технологий  в практической работе, как бы «примерка» их на себя, - единственно успешный путь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психолога в професси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Успеха Вам, дорогие коллеги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6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0" y="0"/>
            <a:ext cx="961920" cy="121140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11" descr="Главная"/>
          <p:cNvPicPr/>
          <p:nvPr/>
        </p:nvPicPr>
        <p:blipFill>
          <a:blip r:embed="rId2"/>
          <a:stretch/>
        </p:blipFill>
        <p:spPr>
          <a:xfrm>
            <a:off x="7786800" y="6000840"/>
            <a:ext cx="785880" cy="85716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76360" y="188640"/>
            <a:ext cx="619128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бщее описание модел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«Психолог-Консультант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1280" y="1499760"/>
            <a:ext cx="7921440" cy="48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В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массовых школах имеющих в штатном расписании одну ставку педагога-психолога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Деятельность психолога организуется по запросу и на основании плана, утвержденного администрацией школы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Центральным направлением является работа с детьми, имеющими психологические трудности в обучении и развитии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Психолог занят профилактической работой и  ориентирован на работу с теми, кому трудно удержаться в рамках общих школьных требований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Частично психолог  самостоятельно оказывает помощь (в рамках своих возможностей и компетенции), частично — организует работу с ребенком и его семьей тех специалистов, которые могут оказать квалифицированную и специализированную помощь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Диспетчерская деятельность становится очень важным направлением работы психолога-консультанта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0" y="0"/>
            <a:ext cx="1285920" cy="161928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1" descr="На главную"/>
          <p:cNvPicPr/>
          <p:nvPr/>
        </p:nvPicPr>
        <p:blipFill>
          <a:blip r:embed="rId2"/>
          <a:stretch/>
        </p:blipFill>
        <p:spPr>
          <a:xfrm>
            <a:off x="0" y="0"/>
            <a:ext cx="1285920" cy="161928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152280"/>
            <a:ext cx="6224400" cy="20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Цель деятельности психолога-консультант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349360"/>
            <a:ext cx="7696080" cy="31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опровождение процесса психологического развития учащихся посредством создания определенных условий в образовательной среде школ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Рисунок 11" descr="Главная"/>
          <p:cNvPicPr/>
          <p:nvPr/>
        </p:nvPicPr>
        <p:blipFill>
          <a:blip r:embed="rId1"/>
          <a:stretch/>
        </p:blipFill>
        <p:spPr>
          <a:xfrm>
            <a:off x="6929280" y="5072040"/>
            <a:ext cx="1386000" cy="151128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1" descr="На главную"/>
          <p:cNvPicPr/>
          <p:nvPr/>
        </p:nvPicPr>
        <p:blipFill>
          <a:blip r:embed="rId2"/>
          <a:stretch/>
        </p:blipFill>
        <p:spPr>
          <a:xfrm>
            <a:off x="216000" y="216000"/>
            <a:ext cx="1285920" cy="161928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11" descr="Главная"/>
          <p:cNvPicPr/>
          <p:nvPr/>
        </p:nvPicPr>
        <p:blipFill>
          <a:blip r:embed="rId3"/>
          <a:stretch/>
        </p:blipFill>
        <p:spPr>
          <a:xfrm>
            <a:off x="7081920" y="5224320"/>
            <a:ext cx="1385640" cy="151128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16000" y="333360"/>
            <a:ext cx="6438960" cy="13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Задачи деятельност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16000" y="1628640"/>
            <a:ext cx="7128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тслеживание результатов психологического развития учащихся на различных этапах обучени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оздание условий для оказания психологической помощи учащимся в решении проблем развити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существление психологического анализа внутришкольных образовательных программ и технологий с точки зрения их соответствия индивидуальным и возрастным особенностям учащихся данной школы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онсультативная и информационная психологическая поддержка процессов обучения, воспитания и развития детей в образовательной среде школы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0" y="0"/>
            <a:ext cx="1285920" cy="161928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5" descr="Главная"/>
          <p:cNvPicPr/>
          <p:nvPr/>
        </p:nvPicPr>
        <p:blipFill>
          <a:blip r:embed="rId2"/>
          <a:stretch/>
        </p:blipFill>
        <p:spPr>
          <a:xfrm>
            <a:off x="7000920" y="5214960"/>
            <a:ext cx="1285920" cy="140184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03280" y="151920"/>
            <a:ext cx="61531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Основные направления деятельности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9280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РАБОТА С УЧАЩИМИСЯ ШКОЛЫ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-8128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РАБОТА С  РОДИТЕЛЯМ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-81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СОТРУДНИЧЕСТВО  С ПЕДАГОГАМИ-ПРЕДМЕТНИКАМИ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И  КЛАССНЫМИ РУКОВОДИТЕЛЯМИ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0" y="189000"/>
            <a:ext cx="1285920" cy="161928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11" descr="Главная"/>
          <p:cNvPicPr/>
          <p:nvPr/>
        </p:nvPicPr>
        <p:blipFill>
          <a:blip r:embed="rId2"/>
          <a:stretch/>
        </p:blipFill>
        <p:spPr>
          <a:xfrm>
            <a:off x="6786720" y="4714920"/>
            <a:ext cx="1717560" cy="187308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32000" y="151920"/>
            <a:ext cx="6224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Психологическое консультирование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497800" cy="42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это специально организованная беседа психолога с клиентом (представителем администрации, учителем, родителем, учащимся) для разъяснения отдельного вопроса, анализа проблемы и выработки советов или рекомендация  по их решению или регулированию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324000" y="189000"/>
            <a:ext cx="1285560" cy="161928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11" descr="Главная"/>
          <p:cNvPicPr/>
          <p:nvPr/>
        </p:nvPicPr>
        <p:blipFill>
          <a:blip r:embed="rId2"/>
          <a:stretch/>
        </p:blipFill>
        <p:spPr>
          <a:xfrm>
            <a:off x="7164360" y="5273640"/>
            <a:ext cx="1452600" cy="158436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685800" y="1341000"/>
            <a:ext cx="7696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dff"/>
                </a:solidFill>
                <a:latin typeface="Comic Sans MS"/>
              </a:rPr>
              <a:t>Типичные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dff"/>
                </a:solidFill>
                <a:latin typeface="Comic Sans MS"/>
              </a:rPr>
              <a:t>причины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dff"/>
                </a:solidFill>
                <a:latin typeface="Comic Sans MS"/>
              </a:rPr>
              <a:t>обращений  к школьному  психологу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395280" y="0"/>
            <a:ext cx="1200240" cy="151128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11" descr="Главная"/>
          <p:cNvPicPr/>
          <p:nvPr/>
        </p:nvPicPr>
        <p:blipFill>
          <a:blip r:embed="rId2"/>
          <a:stretch/>
        </p:blipFill>
        <p:spPr>
          <a:xfrm>
            <a:off x="7375680" y="5661000"/>
            <a:ext cx="1096920" cy="119700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03280" y="151920"/>
            <a:ext cx="61531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mic Sans MS"/>
              </a:rPr>
              <a:t>Детско-родительские отношени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Воспитание - сложный процесс. Быть родителем непросто. Дети не слушаются, грубят, не хотят учиться, проявляют свой характер. У детей могут возникать непонятные страхи, могут не складываться отношения в школе, со сверстниками, с учителями. "Негативизм" подростков - очень распространенная тема обращени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0" y="189000"/>
            <a:ext cx="1314360" cy="165564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11" descr="Главная"/>
          <p:cNvPicPr/>
          <p:nvPr/>
        </p:nvPicPr>
        <p:blipFill>
          <a:blip r:embed="rId2"/>
          <a:stretch/>
        </p:blipFill>
        <p:spPr>
          <a:xfrm>
            <a:off x="7254720" y="5300640"/>
            <a:ext cx="1122480" cy="122544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03280" y="152280"/>
            <a:ext cx="615312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mic Sans MS"/>
              </a:rPr>
              <a:t>Личностные проблем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69608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Скорость современной жизни не всегда позволяет нам найти время для того, чтобы задуматься о своей жизненной ситуации, подумать о своих потребностях, позаботиться о себе. Тем не менее, каждый из нас в течение жизни сталкивается с множеством психологических проблем. Это могут быть проблемы, связанные с поиском себя и своего места в жизни, ведь вопросы "кто я такой?", "куда я иду?", "что для меня в жизни важно?" актуальны в любом возрасте. Это может быть переживание стресса, кризисной ситуации, травмирующего события или потер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Часто бывает важно разобраться с негативными эмоциями, которые препятствуют нормальному течению жизни: переживаниями беспокойства или тревоги, страхами, ощущением подавленности или беспомощно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Рисунок 11" descr="Главная"/>
          <p:cNvPicPr/>
          <p:nvPr/>
        </p:nvPicPr>
        <p:blipFill>
          <a:blip r:embed="rId1"/>
          <a:stretch/>
        </p:blipFill>
        <p:spPr>
          <a:xfrm>
            <a:off x="7054920" y="5084640"/>
            <a:ext cx="1322280" cy="144144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11" descr="Главная"/>
          <p:cNvPicPr/>
          <p:nvPr/>
        </p:nvPicPr>
        <p:blipFill>
          <a:blip r:embed="rId2"/>
          <a:stretch/>
        </p:blipFill>
        <p:spPr>
          <a:xfrm>
            <a:off x="4500720" y="4984920"/>
            <a:ext cx="1717560" cy="187308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11" descr="Главная"/>
          <p:cNvPicPr/>
          <p:nvPr/>
        </p:nvPicPr>
        <p:blipFill>
          <a:blip r:embed="rId3"/>
          <a:stretch/>
        </p:blipFill>
        <p:spPr>
          <a:xfrm>
            <a:off x="2195640" y="4984920"/>
            <a:ext cx="1717560" cy="187308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1" descr="На главную"/>
          <p:cNvPicPr/>
          <p:nvPr/>
        </p:nvPicPr>
        <p:blipFill>
          <a:blip r:embed="rId4"/>
          <a:stretch/>
        </p:blipFill>
        <p:spPr>
          <a:xfrm>
            <a:off x="0" y="0"/>
            <a:ext cx="893880" cy="1125360"/>
          </a:xfrm>
          <a:prstGeom prst="rect">
            <a:avLst/>
          </a:prstGeom>
          <a:ln w="0">
            <a:noFill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21:38:25Z</dcterms:created>
  <dc:creator>Admin</dc:creator>
  <dc:description/>
  <dc:language>en-US</dc:language>
  <cp:lastModifiedBy>LEGION</cp:lastModifiedBy>
  <dcterms:modified xsi:type="dcterms:W3CDTF">2014-11-12T09:44:36Z</dcterms:modified>
  <cp:revision>18</cp:revision>
  <dc:subject/>
  <dc:title>Психолог-консультант</dc:title>
</cp:coreProperties>
</file>