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B9A1-23FB-445F-AA14-867D495211E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-консуль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3A4A-AE49-4570-82ED-BBEC1385A3A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f497d"/>
                </a:solidFill>
                <a:latin typeface="Calibri"/>
              </a:rPr>
              <a:t>Проблемы межличностных отношени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ждый из нас - не остров. Мы живем среди людей и вступаем в различного рода отношения. Эти отношения отличаются различной степенью близости и глубины. Не всегда удается построить их гармон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исгармония в отношениях причиняет боль, может вызывать депрессивные состояния и даже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обраться в причинах  неудач и научиться строить более удовлетворительные и гармоничные отношения и призван помочь психолог как консуль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91DF-FFE0-49DD-8A1E-2579263E7C5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зрастно-психологический под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я родителей, учителей и лиц, участвующих в воспитании, в возрастных и индивидуальных особенностях психическ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выявление детей с различными отклонениями и нарушениями психического развития и направление их в ПМПС –консультации, психологические цент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вторичных психологических осложнений у детей с ослабленным соматическим и нервно-психическим здоровьем, рекомендации по психогигиене и психопрофилак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екомендаций для учителей, родителей и других лиц по психолого-педагогической коррекции трудностей в школьном обуч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екомендация по воспитанию детей в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ционная работа индивидуально или в группах при консультации с детьми и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просвещение населения с помощью лекционной и других форм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0359-53B1-4958-AD73-297B4BFB729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нсультирование 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осуществляться как в групповой, так и в индивидуальной формах. Встреча школьного психолога с родителями ученика происходит по инициативе семьи или по инициативе педагогов, администрации или психолога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51B1-2B94-4068-AE26-A86450E52E7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оды для проведени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й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C6CA-AE97-44A5-8A21-E4B701C555A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онсультативная 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C767-74E2-48D0-8F73-F1DBE5D62AC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ктический психолог всегда стремится реализовать авторскую позицию в своей профе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этому и работу свою, в том числе и консультативную, будет провод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-сво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изация психологических технологий  в практической работе, как бы «примерка» их на себя, - единственно успешный пу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а в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спеха Вам, дорогие коллег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72DB-A637-4FE1-8641-BDA67EFBAA9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ее описание моде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сихолог-Консультан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ссовых школах имеющих в штатном расписании одну ставку педагога-психолога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ятельность психолога организуется по запросу и на основании плана, утвержденного администрацией школ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нтральным направлением является работа с детьми, имеющими психологические трудности в обучении и развити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сихолог занят профилактической работой и  ориентирован на работу с теми, кому трудно удержаться в рамках общих школьных требований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астично психолог  самостоятельно оказывает помощь (в рамках своих возможностей и компетенции), частично — организует работу с ребенком и его семьей тех специалистов, которые могут оказать квалифицированную и специализированную помощь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спетчерская деятельность становится очень важным направлением работы психолога-консультан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73FA-401D-4F81-A545-5D4CB1DE251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 деятельности психолога-консульта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вождение процесса психологического развития учащихся посредством создания определенных условий в образовательной среде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070D-BA83-4106-B587-F93991451B1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деятель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леживание результатов психологического развития учащихся на различных этапах обуч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словий для оказания психологической помощи учащимся в решении проблем развит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психологического анализа внутришкольных образовательных программ и технологий с точки зрения их соответствия индивидуальным и возрастным особенностям учащихся данной школ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и информационная психологическая поддержка процессов обучения, воспитания и развития детей в образовательной среде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B93A-90E3-4D80-810C-2D37297BA08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С 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ТРУДНИЧЕСТВО  С ПЕДАГОГАМИ-ПРЕДМЕТНИКА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 КЛАССНЫМИ РУКОВОДИТЕЛЯМИ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45EB-AC2A-4B90-8FD2-6F8E774BB17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е консуль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пециально организованная беседа психолога с клиентом (представителем администрации, учителем, родителем, учащимся) для разъяснения отдельного вопроса, анализа проблемы и выработки советов или рекомендация  по их решению или регулир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C480-92D2-4B47-978E-3C1AF3FB056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ипич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бращений  к школьному 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4DED-650B-47A1-A5F8-9CCDB071D5B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Детско-родительские отно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питание - сложный процесс. Быть родителем непросто. Дети не слушаются, грубят, не хотят учиться, проявляют свой характер. У детей могут возникать непонятные страхи, могут не складываться отношения в школе, со сверстниками, с учителями. "Негативизм" подростков - очень распространенная тема обращ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3B38-9851-4E45-8132-223ED38E522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Личностные пробле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корость современной жизни не всегда позволяет нам найти время для того, чтобы задуматься о своей жизненной ситуации, подумать о своих потребностях, позаботиться о себе. Тем не менее, каждый из нас в течение жизни сталкивается с множеством психологических проблем. Это могут быть проблемы, связанные с поиском себя и своего места в жизни, ведь вопросы "кто я такой?", "куда я иду?", "что для меня в жизни важно?" актуальны в любом возрасте. Это может быть переживание стресса, кризисной ситуации, травмирующего события или поте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асто бывает важно разобраться с негативными эмоциями, которые препятствуют нормальному течению жизни: переживаниями беспокойства или тревоги, страхами, ощущением подавленности или беспо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0192-437D-479E-A4D9-8869FAD6653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FAE-0437-44DC-B864-EF41C9F7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0E84-8C5C-4399-AC5B-4CF5DF12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AC8-64FD-4140-8815-4731F1F9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496-D837-4BD7-95B8-C04CA20D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0231-24CE-4543-9791-EEE03E5B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ECEA-2D8C-43A1-AA7D-7BDAB13B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A084-191F-4B76-9773-7A268D9D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E8D2-918C-4F6E-B754-A4F2BCF4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3D9A-89DC-441A-8E51-998C4D22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C106-D28B-4994-9589-D8D2BDE6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78A1-B034-4552-80C7-ACAE4650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B0F-8923-4230-A1D5-5D5ECA96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745C-CFAA-4FB8-ACCD-C828D2C8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5CF4-E782-4827-9E4C-798F292B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E814-6FD8-4291-98BA-C70215B6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6125-76B1-45A1-A199-452051D1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D7E3-1340-4948-AD0F-311F6ADA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B48-DA2C-4989-A487-9491C23F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27D6-2538-4BE3-9EFA-81023DCA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8B38-2ADF-42BA-82F5-5F786A04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862-B09A-4B47-8DF0-EDF5D130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249D-56B3-4A61-B0DE-70941F16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256-40E2-4E4B-83BF-8F469674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C59-F569-4471-B555-CD8D8C0A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1E26-060D-41AC-B41F-74B1E7AD76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5158-80CB-4054-B5A8-8DD4B4E560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сихолог-консультан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Рисунок 11" descr="Главная"/>
          <p:cNvPicPr/>
          <p:nvPr/>
        </p:nvPicPr>
        <p:blipFill>
          <a:blip r:embed="rId1"/>
          <a:stretch/>
        </p:blipFill>
        <p:spPr>
          <a:xfrm>
            <a:off x="684360" y="3716280"/>
            <a:ext cx="1255680" cy="13683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1" descr="Главная"/>
          <p:cNvPicPr/>
          <p:nvPr/>
        </p:nvPicPr>
        <p:blipFill>
          <a:blip r:embed="rId2"/>
          <a:stretch/>
        </p:blipFill>
        <p:spPr>
          <a:xfrm>
            <a:off x="7648560" y="189000"/>
            <a:ext cx="1189080" cy="12952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Проблемы межличностных отношен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Каждый из нас - не остров. Мы живем среди людей и вступаем в различного рода отношения. Эти отношения отличаются различной степенью близости и глубины. Не всегда удается построить их гармонич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исгармония в отношениях причиняет боль, может вызывать депрессивные состояния и даже боле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Разобраться в причинах  неудач и научиться строить более удовлетворительные и гармоничные отношения и призван помочь психолог как консульт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349280" cy="17002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1" descr="Главная"/>
          <p:cNvPicPr/>
          <p:nvPr/>
        </p:nvPicPr>
        <p:blipFill>
          <a:blip r:embed="rId2"/>
          <a:stretch/>
        </p:blipFill>
        <p:spPr>
          <a:xfrm>
            <a:off x="7164360" y="5273640"/>
            <a:ext cx="1452600" cy="15843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042920" y="476280"/>
            <a:ext cx="7338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1" descr="Главная"/>
          <p:cNvPicPr/>
          <p:nvPr/>
        </p:nvPicPr>
        <p:blipFill>
          <a:blip r:embed="rId2"/>
          <a:stretch/>
        </p:blipFill>
        <p:spPr>
          <a:xfrm>
            <a:off x="6659640" y="465300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2" descr="скачать Практический психолог в школе: лекции, консультирование, тренинги бесплатно"/>
          <p:cNvPicPr/>
          <p:nvPr/>
        </p:nvPicPr>
        <p:blipFill>
          <a:blip r:embed="rId3"/>
          <a:stretch/>
        </p:blipFill>
        <p:spPr>
          <a:xfrm>
            <a:off x="1116000" y="1052640"/>
            <a:ext cx="2976480" cy="4464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4290840" y="1032840"/>
            <a:ext cx="44578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нига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рактический психолог в школе: лекции, консультирование, тренинг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р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амоукина 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дательство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НТОР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раниц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19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3920" y="152280"/>
            <a:ext cx="634212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озрастно-психологический подх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213920"/>
            <a:ext cx="80247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риентация родителей, учителей и лиц, участвующих в воспитании, в возрастных и индивидуальных особенностях психического развития ребенк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воевременное выявление детей с различными отклонениями и нарушениями психического развития и направление их в ПМПС –консультации, психологические центр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упреждение вторичных психологических осложнений у детей с ослабленным соматическим и нервно-психическим здоровьем, рекомендации по психогигиене и психопрофилактик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ставление рекомендаций для учителей, родителей и других лиц по психолого-педагогической коррекции трудностей в школьном обучени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ставление рекомендация по воспитанию детей в семь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ррекционная работа индивидуально или в группах при консультации с детьми и родителя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сихологическое просвещение населения с помощью лекционной и других форм работ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28800" cy="11700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1" descr="Главная"/>
          <p:cNvPicPr/>
          <p:nvPr/>
        </p:nvPicPr>
        <p:blipFill>
          <a:blip r:embed="rId2"/>
          <a:stretch/>
        </p:blipFill>
        <p:spPr>
          <a:xfrm>
            <a:off x="7215120" y="5429160"/>
            <a:ext cx="1214640" cy="132408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224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онсультирование родител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85880" y="1828440"/>
            <a:ext cx="7596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жет осуществляться как в групповой, так и в индивидуальной формах. Встреча школьного психолога с родителями ученика происходит по инициативе семьи или по инициативе педагогов, администрации или психолога школ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468360" y="333360"/>
            <a:ext cx="1200240" cy="15112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1" descr="Главная"/>
          <p:cNvPicPr/>
          <p:nvPr/>
        </p:nvPicPr>
        <p:blipFill>
          <a:blip r:embed="rId2"/>
          <a:stretch/>
        </p:blipFill>
        <p:spPr>
          <a:xfrm>
            <a:off x="7143840" y="5286240"/>
            <a:ext cx="1285920" cy="14018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00000" y="151920"/>
            <a:ext cx="69120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воды для проведе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сихологической консульт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61920" cy="12114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3276720" y="1627920"/>
            <a:ext cx="410364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27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ициатор встреч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11280" y="1989000"/>
          <a:ext cx="7993080" cy="4100760"/>
        </p:xfrm>
        <a:graphic>
          <a:graphicData uri="http://schemas.openxmlformats.org/drawingml/2006/table">
            <a:tbl>
              <a:tblPr/>
              <a:tblGrid>
                <a:gridCol w="2274840"/>
                <a:gridCol w="2811240"/>
                <a:gridCol w="2907000"/>
              </a:tblGrid>
              <a:tr h="95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Характеристик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овод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ля обра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Школ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(психолог, педагог, администр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Сем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лановая встре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нформация о возрастных закономерностях развития, о психологических особенностях данного эт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нформация об индивидуальных особенностях развития ребенка на данном этапе, соотношение с возрастными норм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страя ситу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акие-либо аспекты в поведении или учебных успехах ребенка вызывают тревогу или недоволь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одители не справляются с какой-либо воспитательной задачей, нуждаются в информации, поддержке,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050920" y="5589360"/>
            <a:ext cx="5329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Консультативная зо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IMG_1514"/>
          <p:cNvPicPr/>
          <p:nvPr/>
        </p:nvPicPr>
        <p:blipFill>
          <a:blip r:embed="rId2"/>
          <a:stretch/>
        </p:blipFill>
        <p:spPr>
          <a:xfrm>
            <a:off x="1258920" y="620640"/>
            <a:ext cx="6481800" cy="48592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1" descr="Главная"/>
          <p:cNvPicPr/>
          <p:nvPr/>
        </p:nvPicPr>
        <p:blipFill>
          <a:blip r:embed="rId3"/>
          <a:stretch/>
        </p:blipFill>
        <p:spPr>
          <a:xfrm>
            <a:off x="7572240" y="5643720"/>
            <a:ext cx="1000440" cy="109044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99680" y="356760"/>
            <a:ext cx="7839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рактический психолог всегда стремится реализовать авторскую позицию в своей професси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оэтому и работу свою, в том числе и консультативную, будет проводи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о-свое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Индивидуализация психологических технологий  в практической работе, как бы «примерка» их на себя, - единственно успешный пу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сихолога в професс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Успеха Вам, дорогие коллеги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61920" cy="12114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1" descr="Главная"/>
          <p:cNvPicPr/>
          <p:nvPr/>
        </p:nvPicPr>
        <p:blipFill>
          <a:blip r:embed="rId2"/>
          <a:stretch/>
        </p:blipFill>
        <p:spPr>
          <a:xfrm>
            <a:off x="7786800" y="6000840"/>
            <a:ext cx="785880" cy="8571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912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бщее описание моде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Психолог-Консультант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99760"/>
            <a:ext cx="792144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массовых школах имеющих в штатном расписании одну ставку педагога-психолог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Деятельность психолога организуется по запросу и на основании плана, утвержденного администрацией школы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Центральным направлением является работа с детьми, имеющими психологические трудности в обучении и развити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сихолог занят профилактической работой и  ориентирован на работу с теми, кому трудно удержаться в рамках общих школьных требований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Частично психолог  самостоятельно оказывает помощь (в рамках своих возможностей и компетенции), частично — организует работу с ребенком и его семьей тех специалистов, которые могут оказать квалифицированную и специализированную помощ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Диспетчерская деятельность становится очень важным направлением работы психолога-консультанта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" descr="На главную"/>
          <p:cNvPicPr/>
          <p:nvPr/>
        </p:nvPicPr>
        <p:blipFill>
          <a:blip r:embed="rId2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52280"/>
            <a:ext cx="6224400" cy="20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Цель деятельности психолога-консультан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6960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провождение процесса психологического развития учащихся посредством создания определенных условий в образовательной среде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Рисунок 11" descr="Главная"/>
          <p:cNvPicPr/>
          <p:nvPr/>
        </p:nvPicPr>
        <p:blipFill>
          <a:blip r:embed="rId1"/>
          <a:stretch/>
        </p:blipFill>
        <p:spPr>
          <a:xfrm>
            <a:off x="6929280" y="5072040"/>
            <a:ext cx="1386000" cy="15112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" descr="На главную"/>
          <p:cNvPicPr/>
          <p:nvPr/>
        </p:nvPicPr>
        <p:blipFill>
          <a:blip r:embed="rId2"/>
          <a:stretch/>
        </p:blipFill>
        <p:spPr>
          <a:xfrm>
            <a:off x="216000" y="216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1" descr="Главная"/>
          <p:cNvPicPr/>
          <p:nvPr/>
        </p:nvPicPr>
        <p:blipFill>
          <a:blip r:embed="rId3"/>
          <a:stretch/>
        </p:blipFill>
        <p:spPr>
          <a:xfrm>
            <a:off x="7081920" y="5224320"/>
            <a:ext cx="1385640" cy="151128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643896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дачи деятель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12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слеживание результатов психологического развития учащихся на различных этапах обуч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здание условий для оказания психологической помощи учащимся в решении проблем развит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уществление психологического анализа внутришкольных образовательных программ и технологий с точки зрения их соответствия индивидуальным и возрастным особенностям учащихся данной школ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нсультативная и информационная психологическая поддержка процессов обучения, воспитания и развития детей в образовательной среде школ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5" descr="Главная"/>
          <p:cNvPicPr/>
          <p:nvPr/>
        </p:nvPicPr>
        <p:blipFill>
          <a:blip r:embed="rId2"/>
          <a:stretch/>
        </p:blipFill>
        <p:spPr>
          <a:xfrm>
            <a:off x="7000920" y="5214960"/>
            <a:ext cx="1285920" cy="140184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03280" y="151920"/>
            <a:ext cx="6153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сновные направления деятельност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928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БОТА С УЧАЩИМИСЯ ШКОЛ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БОТА С  РОДИТЕЛЯМ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ОТРУДНИЧЕСТВО  С ПЕДАГОГАМИ-ПРЕДМЕТНИКАМ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  КЛАССНЫМИ РУКОВОДИТЕЛЯМ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1" descr="Главная"/>
          <p:cNvPicPr/>
          <p:nvPr/>
        </p:nvPicPr>
        <p:blipFill>
          <a:blip r:embed="rId2"/>
          <a:stretch/>
        </p:blipFill>
        <p:spPr>
          <a:xfrm>
            <a:off x="6786720" y="4714920"/>
            <a:ext cx="1717560" cy="18730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151920"/>
            <a:ext cx="6224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сихологическое консультировани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49780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специально организованная беседа психолога с клиентом (представителем администрации, учителем, родителем, учащимся) для разъяснения отдельного вопроса, анализа проблемы и выработки советов или рекомендация  по их решению или регулирова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324000" y="189000"/>
            <a:ext cx="1285560" cy="16192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1" descr="Главная"/>
          <p:cNvPicPr/>
          <p:nvPr/>
        </p:nvPicPr>
        <p:blipFill>
          <a:blip r:embed="rId2"/>
          <a:stretch/>
        </p:blipFill>
        <p:spPr>
          <a:xfrm>
            <a:off x="7164360" y="5273640"/>
            <a:ext cx="1452600" cy="15843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Типичные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причины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обращений  к школьному  психолог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395280" y="0"/>
            <a:ext cx="1200240" cy="1511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1" descr="Главная"/>
          <p:cNvPicPr/>
          <p:nvPr/>
        </p:nvPicPr>
        <p:blipFill>
          <a:blip r:embed="rId2"/>
          <a:stretch/>
        </p:blipFill>
        <p:spPr>
          <a:xfrm>
            <a:off x="7375680" y="5661000"/>
            <a:ext cx="1096920" cy="11970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3280" y="151920"/>
            <a:ext cx="6153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Детско-родительские отнош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Воспитание - сложный процесс. Быть родителем непросто. Дети не слушаются, грубят, не хотят учиться, проявляют свой характер. У детей могут возникать непонятные страхи, могут не складываться отношения в школе, со сверстниками, с учителями. "Негативизм" подростков - очень распространенная тема обращ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314360" cy="16556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1" descr="Главная"/>
          <p:cNvPicPr/>
          <p:nvPr/>
        </p:nvPicPr>
        <p:blipFill>
          <a:blip r:embed="rId2"/>
          <a:stretch/>
        </p:blipFill>
        <p:spPr>
          <a:xfrm>
            <a:off x="7254720" y="5300640"/>
            <a:ext cx="1122480" cy="12254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3280" y="152280"/>
            <a:ext cx="615312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Личностные пробл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корость современной жизни не всегда позволяет нам найти время для того, чтобы задуматься о своей жизненной ситуации, подумать о своих потребностях, позаботиться о себе. Тем не менее, каждый из нас в течение жизни сталкивается с множеством психологических проблем. Это могут быть проблемы, связанные с поиском себя и своего места в жизни, ведь вопросы "кто я такой?", "куда я иду?", "что для меня в жизни важно?" актуальны в любом возрасте. Это может быть переживание стресса, кризисной ситуации, травмирующего события или потер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Часто бывает важно разобраться с негативными эмоциями, которые препятствуют нормальному течению жизни: переживаниями беспокойства или тревоги, страхами, ощущением подавленности или беспомощ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Рисунок 11" descr="Главная"/>
          <p:cNvPicPr/>
          <p:nvPr/>
        </p:nvPicPr>
        <p:blipFill>
          <a:blip r:embed="rId1"/>
          <a:stretch/>
        </p:blipFill>
        <p:spPr>
          <a:xfrm>
            <a:off x="7054920" y="5084640"/>
            <a:ext cx="1322280" cy="14414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11" descr="Главная"/>
          <p:cNvPicPr/>
          <p:nvPr/>
        </p:nvPicPr>
        <p:blipFill>
          <a:blip r:embed="rId2"/>
          <a:stretch/>
        </p:blipFill>
        <p:spPr>
          <a:xfrm>
            <a:off x="4500720" y="498492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1" descr="Главная"/>
          <p:cNvPicPr/>
          <p:nvPr/>
        </p:nvPicPr>
        <p:blipFill>
          <a:blip r:embed="rId3"/>
          <a:stretch/>
        </p:blipFill>
        <p:spPr>
          <a:xfrm>
            <a:off x="2195640" y="498492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" descr="На главную"/>
          <p:cNvPicPr/>
          <p:nvPr/>
        </p:nvPicPr>
        <p:blipFill>
          <a:blip r:embed="rId4"/>
          <a:stretch/>
        </p:blipFill>
        <p:spPr>
          <a:xfrm>
            <a:off x="0" y="0"/>
            <a:ext cx="893880" cy="112536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38:25Z</dcterms:created>
  <dc:creator>Admin</dc:creator>
  <dc:description/>
  <dc:language>en-US</dc:language>
  <cp:lastModifiedBy>LEGION</cp:lastModifiedBy>
  <dcterms:modified xsi:type="dcterms:W3CDTF">2014-11-12T09:44:36Z</dcterms:modified>
  <cp:revision>18</cp:revision>
  <dc:subject/>
  <dc:title>Психолог-консультант</dc:title>
</cp:coreProperties>
</file>