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5E4F-0867-46F9-BE3A-CA9379B1A437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бинет педагога -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3830-E022-4644-B262-8C3549118BC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Зона релаксации и снятия эмоционального напря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зона предполагает мягкое ворсистое покрытие на полу, естественная зелень комнатных растений, негромкое звучание спокойной музы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D9C5-B46B-450A-88F8-351FB006EE7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ff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ff00"/>
                </a:solidFill>
                <a:latin typeface="Calibri"/>
              </a:rPr>
              <a:t>Личная зона психоло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 для подготовки к работе: занятиям, консультациям, хранению документации, пособий, методической лите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541E-31DC-4729-9A13-F47549D9F14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Calibri"/>
              </a:rPr>
              <a:t>Информационные ресурсы кабин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о-информационная лите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писные издания «Школьный психоло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ые и диагностические компьютерные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ообмен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документация, документация педагога-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6656-3EAB-45CA-9FD8-AEACBDAFDCE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Кадровый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-психо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ция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педаг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текар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B0E0-6A88-4FC7-BD9B-4F7C8FBE4F0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ТС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аппа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ый це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1808-95C7-4343-BBFC-74F9E117FB4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Материальный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ой матери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аточный матери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(столы, стулья, стеллаж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11EA-33CB-4D7E-A4D6-B7281DE17FF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Calibri"/>
              </a:rPr>
              <a:t>Эффективность использования ресурсов кабин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ff00"/>
                </a:solidFill>
                <a:latin typeface="Calibri"/>
              </a:rPr>
              <a:t>Кадровы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уменьшение числа неуспевающих и учащихся «группы риска»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успешная адаптация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эффективность в профессиональном выборе учащихся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ff00"/>
                </a:solidFill>
                <a:latin typeface="Calibri"/>
              </a:rPr>
              <a:t>ТСО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Сканирование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Компьютерное тестирование учащихся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Создание презентаций 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Материальны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ведение практических занятий с использованием игрового и раздаточн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обильность имеющейся мебели для проведения разных форм 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Информационны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иск нов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азработки планов и коррекционно-развивающих 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47A4-6BE8-4040-BE16-6FC74621F0D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Виды консультативной помощи  педагога-психолога  для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сихологической помощи педагог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классным руководителям в подготовке к родительским собраниям, классным часам, внеклассным мероприят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 и оказание помощи учителей в методической(психологической),справочной литера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ые  и индивидуальные беседы, сеансы релакс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FFD9-24EF-4510-8347-156C400F55C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Совместная работа педагога-психолога и социального педаг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сопровождение воспитатель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ое сопровождение адап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ое сопровождение классных руков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о-педагогическое сопровождение учащихся с проблемами в обуч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реабилитация условно осужденных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567F-E50D-4009-9E21-340F91C11DE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СПАСИБ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CB1A-332A-4618-8744-18B1C3F1EFF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00"/>
                </a:solidFill>
                <a:latin typeface="Calibri"/>
              </a:rPr>
              <a:t>КАБИНЕТ ПЕДАГОГА-ПСИХОЛО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Е МЕСТО СПЕЦИАЛИСТА,ВЫПОЛНЯЮЩЕЕ СЛОЖНУЮ И РАЗНОСТОРОННЮЮ ДЕЯТЕЛЬНОСТЬ,ОТВЕЧАЮЩУЮ ОПРЕДЕЛЕННЫМ ЦЕЛЯМ И ЗАДАЧ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, В КОТОРОМ РАБОТАЕТ ПСИХОЛОГ, ОРГАНИЗОВАНО И ОСНАЩЕНО  ТАКИМ ОБРАЗОМ ,ЧТОБЫ ОБЕСПЕЧИТЬ ЭФФЕКТИВНОЕ ИСПОЛНЕНИЕ ПРОФЕССИОНАЛЬНОЙ ДЕЯТЕЛЬНОСТИ И СОХРАНИТЬ ПСИХОЛОГИЧЕСКОЕ ЗДОРОВЬЕ УЧАЩИХСЯ И ПЕДАГО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БИНЕТ ПРЕДПОЛАГАЕТ СОЗДАНИЕ ДОВЕРИТЕЛЬНОЙ И СВОБОДНОЙ ОБСТАНОВКИ, ПОМОГАЮЩЕЙ СПОКОЙНО ОБСУДИТЬ 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ЛЕГКО ОБНАРУЖИТЬ, И ОН СЛУЖИТ МЕСТОМ ЭМОЦИОНАЛЬНОЙ РАЗГРУЗКИ И СНЯТИЯ НАПРЯЖЕНИЯ, КАК ДЛЯ ВЗРОСЛЫХ, ТАК  И  ДЛЯ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АБОТЫ КАБИНЕТ  ПЕДАГОГА-ПСИХОЛОГА МОДИФИЦИРУЕТСЯ В СООТВЕТСВИИ СО СПЕЦИФИКОЙ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EF75-0767-41D8-BB85-13A3ACB3338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ff00"/>
                </a:solidFill>
                <a:latin typeface="Calibri"/>
              </a:rPr>
              <a:t>ПЕДАГОГ-ПСИХОЛОГ</a:t>
            </a:r>
            <a:br>
              <a:rPr sz="1000"/>
            </a:br>
            <a:r>
              <a:rPr b="0" i="1" lang="ru-RU" sz="1000" spc="-1" strike="noStrike">
                <a:solidFill>
                  <a:srgbClr val="00ff00"/>
                </a:solidFill>
                <a:latin typeface="Calibri"/>
              </a:rPr>
              <a:t>ВЫПОЛНЯЕТ СЛЕДУЮЩИЕ ФУНКЦИИ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психологического здоровья учащихся 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учащимся в выборе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детям в адаптационный пери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неуспевающими учащимися и их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B7F6-7260-4F00-B03D-CEB4D4C5572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00"/>
                </a:solidFill>
                <a:latin typeface="Calibri"/>
              </a:rPr>
              <a:t>Основные направления работ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комфортной психологическо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образовательному процесс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сихологического здоровья учащихся 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0D91-E2BF-4FA7-9ABC-D99BC064498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Calibri"/>
              </a:rPr>
              <a:t>Формы работы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Коррекционно-развивающ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Диагностическ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Психологическое сопровождение учащихся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Профориентац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*Отслеживание психологического состояния учащихся,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AA76-463D-483E-8C37-B2E24C5F365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Структура кабинета педагога-психол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бинет разделен на несколько рабочих з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Диагностическ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2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оррекционно-развивающе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3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онсультативн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4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Релаксации и снятие эмоционального напря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5 -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Личная зона 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9D77-739C-4180-9FD9-B6EC7723A78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Calibri"/>
              </a:rPr>
              <a:t>Зона диагностической рабо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на  предназначена для проведения обследований (в групповой и индивидуальной форме). Диагностический материал систематизиров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F6E8-F6B8-43A4-ACF8-72BAF0BD6D2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Calibri"/>
              </a:rPr>
              <a:t>Зона коррекционно-развивающей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занятий с детьми здесь расставлены: стол-парта, доска. Для проведения игровых занятий предполагается свободное размещение на полу, а также разнообразный игровой материал (мягкие игрушки, куклы-марионетки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DDD1-3CC7-4D0B-8A07-7C963946E8B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Calibri"/>
              </a:rPr>
              <a:t>Зона  консультативной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доверительной и свободной обстановки включает в себя такие элементы интерьера как: картины,  удобная мягкая мебель, аквариум. Цветовая гамма выдержана в мягких то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0CDF-40FA-4B25-AB0B-77A337C02C1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FCB0-6FE3-4B32-8327-F9F9E861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C0098-7868-488F-BFD7-7861B158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3A18E-3DE1-4D52-862A-8D225000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63C64-A207-49EE-A352-70F72B69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D777-E7B9-4027-9783-52922548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EFEE-6623-44F0-987D-9B05BBED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A827-FB55-495D-8544-5A2450AA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7E79-DC19-4DBD-8472-0BE32AD2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ED10-7361-4FE5-8F9F-9D0B4CB9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A1D2-AFED-4C49-9584-E6419D14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9815-ED1E-41A5-BEDF-63145067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37386-DE81-4FA0-94F8-8F327544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6A16-24ED-45EA-957B-7A1EF2BB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71BF-EC70-46CB-839B-A7E31162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DB5F-94F8-4E51-9E41-E32EA7A8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9B57-BBA4-4B61-A77E-420B7E18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BCAD-33F2-45A1-A85B-069C8C01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B6BFF-3490-4215-A4CA-FA554E5A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F07D3-577F-4937-94F0-3E508FE1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15E55-7405-461F-99DD-79647886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46BDA-E352-4955-BB56-6660A4DC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1AD34-EB6A-4A9A-BAA3-0BA21CBA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3DB80-B4B1-4E08-B763-653827BB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5EC32-7C9E-4D42-8326-675D5E50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2BC8-B474-4D18-8990-34F5F770A0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C795-32AA-4FD6-86A1-A1E83934F8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784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429840"/>
            <a:ext cx="822960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Кабинет педагога -психол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286000" y="1792440"/>
            <a:ext cx="4734000" cy="31557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Зона релаксации и снятия эмоционального напряжения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а зона предполагает мягкое ворсистое покрытие на полу, естественная зелень комнатных растений, негромкое звучание спокойной музы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4" descr="DSC01420"/>
          <p:cNvPicPr/>
          <p:nvPr/>
        </p:nvPicPr>
        <p:blipFill>
          <a:blip r:embed="rId1"/>
          <a:stretch/>
        </p:blipFill>
        <p:spPr>
          <a:xfrm>
            <a:off x="762120" y="297180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DSC01410"/>
          <p:cNvPicPr/>
          <p:nvPr/>
        </p:nvPicPr>
        <p:blipFill>
          <a:blip r:embed="rId2"/>
          <a:stretch/>
        </p:blipFill>
        <p:spPr>
          <a:xfrm>
            <a:off x="4572000" y="2743200"/>
            <a:ext cx="3962520" cy="35812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     </a:t>
            </a: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Личная зона психол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обходима для подготовки к работе: занятиям, консультациям, хранению документации, пособий, методической литератур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Garamond"/>
              </a:rPr>
              <a:t>Информационные ресурсы кабинет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правочно-информационная литерату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писные издания «Школьный психолог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гровые и диагностические компьютерные программ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ерне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айлообменн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ормативно-правовая документация, документация педагога-психолог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Кадровый ресур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дагог-психоло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дминистрация школ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циальный педаго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дагог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иблиотекар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ТС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пьют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нт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ан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тоаппарату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узыкальный цент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Garamond"/>
              </a:rPr>
              <a:t>Материальный ресур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гровой матери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даточный матери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орудование(столы, стулья, стеллажи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Эффективность использования ресурсов кабинет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00ff00"/>
                </a:solidFill>
                <a:latin typeface="Garamond"/>
              </a:rPr>
              <a:t>Кадровый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уменьшение числа неуспевающих и учащихся «группы риска»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успешная адаптация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эффективность в профессиональном выборе учащихся 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00ff00"/>
                </a:solidFill>
                <a:latin typeface="Garamond"/>
              </a:rPr>
              <a:t>ТСО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Сканирование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Компьютерное тестирование учащихся 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Создание презентаций 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00ff00"/>
                </a:solidFill>
                <a:latin typeface="Garamond"/>
              </a:rPr>
              <a:t>Материальны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Проведение практических занятий с использованием игрового и раздаточного материал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Мобильность имеющейся мебели для проведения разных форм заняти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Garamond"/>
              </a:rPr>
              <a:t>Информационны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Поиск новой информаци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Разработки планов и коррекционно-развивающих заняти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Виды консультативной помощи  педагога-психолога  для педагог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казание психологической помощи педагога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казание помощи классным руководителям в подготовке к родительским собраниям, классным часам, внеклассным мероприятия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нформирование  и оказание помощи учителей в методической(психологической),справочной литератур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упповые  и индивидуальные беседы, сеансы релакс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Совместная работа педагога-психолога и социального педаг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циальное сопровождение воспитательной систе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циально-психологическое сопровождение адапт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етодическое сопровождение классных руководител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сихолого-педагогическое сопровождение учащихся с проблемами в обучен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дагогическая реабилитация условно осужденных учащихс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Garamond"/>
              </a:rPr>
              <a:t>СПАСИБО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Garamond"/>
              </a:rPr>
              <a:t>ЗА ВНИМАНИЕ!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Garamond"/>
              </a:rPr>
              <a:t>КАБИНЕТ ПЕДАГОГА-ПСИХОЛ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БОЧЕЕ МЕСТО СПЕЦИАЛИСТА,ВЫПОЛНЯЮЩЕЕ СЛОЖНУЮ И РАЗНОСТОРОННЮЮ ДЕЯТЕЛЬНОСТЬ,ОТВЕЧАЮЩУЮ ОПРЕДЕЛЕННЫМ ЦЕЛЯМ И ЗАДАЧА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МЕЩЕНИЕ, В КОТОРОМ РАБОТАЕТ ПСИХОЛОГ, ОРГАНИЗОВАНО И ОСНАЩЕНО  ТАКИМ ОБРАЗОМ ,ЧТОБЫ ОБЕСПЕЧИТЬ ЭФФЕКТИВНОЕ ИСПОЛНЕНИЕ ПРОФЕССИОНАЛЬНОЙ ДЕЯТЕЛЬНОСТИ И СОХРАНИТЬ ПСИХОЛОГИЧЕСКОЕ ЗДОРОВЬЕ УЧАЩИХСЯ И ПЕДАГОГОВ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БИНЕТ ПРЕДПОЛАГАЕТ СОЗДАНИЕ ДОВЕРИТЕЛЬНОЙ И СВОБОДНОЙ ОБСТАНОВКИ, ПОМОГАЮЩЕЙ СПОКОЙНО ОБСУДИТЬ  ПРОБЛЕМЫ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ГО ЛЕГКО ОБНАРУЖИТЬ, И ОН СЛУЖИТ МЕСТОМ ЭМОЦИОНАЛЬНОЙ РАЗГРУЗКИ И СНЯТИЯ НАПРЯЖЕНИЯ, КАК ДЛЯ ВЗРОСЛЫХ, ТАК  И  ДЛЯ ДЕТЕ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 ВРЕМЯ РАБОТЫ КАБИНЕТ  ПЕДАГОГА-ПСИХОЛОГА МОДИФИЦИРУЕТСЯ В СООТВЕТСВИИ СО СПЕЦИФИКОЙ ПРОФЕССИОНАЛЬНОЙ ДЕЯТЕЛЬ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Garamond"/>
              </a:rPr>
              <a:t>ПЕДАГОГ-ПСИХОЛОГ</a:t>
            </a:r>
            <a:br>
              <a:rPr sz="2800"/>
            </a:br>
            <a:r>
              <a:rPr b="1" i="1" lang="ru-RU" sz="2800" spc="-1" strike="noStrike">
                <a:solidFill>
                  <a:srgbClr val="00ff00"/>
                </a:solidFill>
                <a:latin typeface="Garamond"/>
              </a:rPr>
              <a:t>ВЫПОЛНЯЕТ СЛЕДУЮЩИЕ ФУНКЦИИ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охранение психологического здоровья учащихся и педагого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мощь учащимся в выборе професси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мощь детям в адаптационный период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Работа с неуспевающими учащимися и их родителям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Основные направления работы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Формирование комфортной психологической среды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одействие образовательному процессу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Обеспечение психологического здоровья учащихся и педагого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Формы работы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Коррекционно-развивающая рабо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Диагностическая рабо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Психологическое сопровождение учащихся школ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Профориентация учащих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*Отслеживание психологического состояния учащихся, педагог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Структура кабинета педагога-психолог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бинет разделен на несколько рабочих зон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1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Диагностической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2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Коррекционно-развивающей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3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Консультативной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4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Релаксации и снятие эмоционального напряж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5 - 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Личная зона психолог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Зона диагностической работы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она  предназначена для проведения обследований (в групповой и индивидуальной форме). Диагностический материал систематизирова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7" descr="DSC01415"/>
          <p:cNvPicPr/>
          <p:nvPr/>
        </p:nvPicPr>
        <p:blipFill>
          <a:blip r:embed="rId1"/>
          <a:stretch/>
        </p:blipFill>
        <p:spPr>
          <a:xfrm>
            <a:off x="152280" y="2590920"/>
            <a:ext cx="3810240" cy="35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SC01418"/>
          <p:cNvPicPr/>
          <p:nvPr/>
        </p:nvPicPr>
        <p:blipFill>
          <a:blip r:embed="rId2"/>
          <a:stretch/>
        </p:blipFill>
        <p:spPr>
          <a:xfrm>
            <a:off x="3809880" y="2666880"/>
            <a:ext cx="5029200" cy="38862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Garamond"/>
              </a:rPr>
              <a:t>Зона коррекционно-развивающей работ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ля занятий с детьми здесь расставлены: стол-парта, доска. Для проведения игровых занятий предполагается свободное размещение на полу, а также разнообразный игровой материал (мягкие игрушки, куклы-марионетки и т.д.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DSC01409"/>
          <p:cNvPicPr/>
          <p:nvPr/>
        </p:nvPicPr>
        <p:blipFill>
          <a:blip r:embed="rId1"/>
          <a:stretch/>
        </p:blipFill>
        <p:spPr>
          <a:xfrm>
            <a:off x="4419720" y="3505320"/>
            <a:ext cx="4495680" cy="3108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DSC01417"/>
          <p:cNvPicPr/>
          <p:nvPr/>
        </p:nvPicPr>
        <p:blipFill>
          <a:blip r:embed="rId2"/>
          <a:stretch/>
        </p:blipFill>
        <p:spPr>
          <a:xfrm>
            <a:off x="304920" y="2895480"/>
            <a:ext cx="3809880" cy="35816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Зона  консультативной работы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здание доверительной и свободной обстановки включает в себя такие элементы интерьера как: картины,  удобная мягкая мебель, аквариум. Цветовая гамма выдержана в мягких тона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4" descr="DSC01410"/>
          <p:cNvPicPr/>
          <p:nvPr/>
        </p:nvPicPr>
        <p:blipFill>
          <a:blip r:embed="rId1"/>
          <a:stretch/>
        </p:blipFill>
        <p:spPr>
          <a:xfrm>
            <a:off x="304920" y="2438280"/>
            <a:ext cx="4572000" cy="2895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DSC01413"/>
          <p:cNvPicPr/>
          <p:nvPr/>
        </p:nvPicPr>
        <p:blipFill>
          <a:blip r:embed="rId2"/>
          <a:stretch/>
        </p:blipFill>
        <p:spPr>
          <a:xfrm>
            <a:off x="2590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DSC01419"/>
          <p:cNvPicPr/>
          <p:nvPr/>
        </p:nvPicPr>
        <p:blipFill>
          <a:blip r:embed="rId3"/>
          <a:stretch/>
        </p:blipFill>
        <p:spPr>
          <a:xfrm>
            <a:off x="5638680" y="2286000"/>
            <a:ext cx="3353040" cy="29718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10:11:5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