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97D9-42E3-42A6-8278-96F071A47A03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бинет педагога -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9150-A695-424E-B136-D2FD125C79C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Зона релаксации и снятия эмоционального напря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5281-2111-4453-9691-E64E9D69CDF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Личная зона психо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CCB-D13E-4664-81A6-C618C002B33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Calibri"/>
              </a:rPr>
              <a:t>Информационные ресурсы кабин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о-информационная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ные издания «Школьный психоло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и диагностические компьютер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ообмен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документация, документация педагога-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130A-AD26-41A9-838E-56E222E8922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Кадров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520-B397-43F1-A845-FF428156828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Т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ый це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E6EB-E7D4-4032-9D1C-FF03961F5BC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аточ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(столы, стулья, стеллаж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7548-CD1C-488C-B62F-ACBC7E4C136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Эффективность использования ресурсов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Кадровы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меньшение числа неуспевающих и учащихся «группы риска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спешная адаптац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эффективность в профессиональном выбор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ff00"/>
                </a:solidFill>
                <a:latin typeface="Calibri"/>
              </a:rPr>
              <a:t>ТСО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кан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Компьютерное тестировани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оздание презентаций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обильность имеющейся мебели для проведения разных форм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Информацион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иск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зработки планов и коррекционно-развивающих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EB11-4B28-4548-87B4-DE364288857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Виды консультативной помощи  педагога-психолога  для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сихологической помощи педаг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 и индивидуальные беседы, сеансы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8409-48D1-4E6F-992D-A457BCB8C2E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овместная работа педагога-психолога и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сопровождение воспит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сопровождение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сопровождение классных руко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учащихся с проблемами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реабилитация условно осужденных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5E41-6884-421A-B6FA-E772E4A2581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СПАСИБ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F810-D050-4715-98CF-3C5D39E903B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Calibri"/>
              </a:rPr>
              <a:t>КАБИНЕТ ПЕДАГОГА-ПСИХО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A6C3-A646-44A1-AEC7-1F6BA0329F9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ПЕДАГОГ-ПСИХОЛОГ</a:t>
            </a:r>
            <a:br>
              <a:rPr sz="1000"/>
            </a:b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ВЫПОЛНЯЕТ СЛЕДУЮЩИЕ ФУНКЦИ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учащимся в выборе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детям в адаптационны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неуспевающими учащимися и их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280A-9C36-44EA-814A-D408EA55BBF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Основные направления рабо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омфортной психологическо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7933-12D5-4193-AE43-FD6DA283076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Формы работы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Коррекционно-развивающ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Диагнос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сихологическое сопровождение учащихс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рофориентац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Отслеживание психологического состояния учащихся,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4CDF-FF82-4885-BED2-208F10294B5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труктура кабинета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разделен на несколько рабочих 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Диагностическ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ррекционно-развивающ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3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сультатив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4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елаксации и снятие эмоционального напря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5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Личная зона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F05F-D09C-43B5-8715-0FD7A282C32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Зона диагностическ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27D-98A4-4ED2-BEC2-89E41DC11AA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коррекционно-развивающ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AC12-375F-4B0F-9052-688984136FD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 консультатив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3ABB-958A-4503-BBB2-C33812F5AA1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9D9E-0A7C-4AE9-B049-E4081B08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03AF-568A-479D-9492-8E899F0F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A5CE-C28F-45E6-BE95-FC44E026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882E-EE4C-4B58-BDBE-1ABE81F8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5810-13BD-4B1B-A783-379B5B50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F198-0F63-4E1B-8EE0-53D57325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2031-9C9A-4461-B174-E0DA2B56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5997-7175-4782-A645-C38DC204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114D-DF5A-4409-BFC5-2DEE6A10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1DA5-9484-4658-99D9-4F72B681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26C8-7580-408A-B816-64E55C9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E87E-52A9-48BB-905E-FDF785CD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4BF7-6D1B-46A8-9DA6-7E37198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38A4-EA66-452B-AC6C-EDD2069A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8FEA-5EC9-4398-A1A1-E533051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BEC0-CFB5-4C08-A9D0-4E1FDE52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5A97-243A-4AEE-9E9C-F9A769C3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A7E0-781D-4E90-A04B-6D16588E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7758-4161-41A1-9043-F0A21553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3984-FE75-4AB8-816D-7E644CAE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BE80-8652-4D11-8A10-65BEBC26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22EF-0606-4FE4-88ED-F68AD93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F6EB-C357-4109-9EF9-611365A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5A37-1700-4E6E-B570-F42DB347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EC1F-A0BA-46DF-B0CF-9FBB4C85C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C7B6-7197-4CD3-83DB-6B17B1E73B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784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298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абинет педагога -психол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86000" y="1792440"/>
            <a:ext cx="4734000" cy="31557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релаксации и снятия эмоционального напряже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DSC01420"/>
          <p:cNvPicPr/>
          <p:nvPr/>
        </p:nvPicPr>
        <p:blipFill>
          <a:blip r:embed="rId1"/>
          <a:stretch/>
        </p:blipFill>
        <p:spPr>
          <a:xfrm>
            <a:off x="762120" y="2971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SC01410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Личная зона 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Информационные ресурсы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равочно-информационная лит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ные издания «Школьный психолог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и диагностические компьютерные программ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йлообмен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рмативно-правовая документация, документация педагога-психоло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Кадров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-психол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ый педаг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ТС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аппа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ыкальный цент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Материальн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о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(столы, стулья, стеллаж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Эффективность использования ресурсов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ff00"/>
                </a:solidFill>
                <a:latin typeface="Garamond"/>
              </a:rPr>
              <a:t>Кадровы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меньшение числа неуспевающих и учащихся «группы риска»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спешная адаптац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эффективность в профессиональном выбор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ff00"/>
                </a:solidFill>
                <a:latin typeface="Garamond"/>
              </a:rPr>
              <a:t>ТСО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канирова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Компьютерное тестировани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оздание презентаций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Материаль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Мобильность имеющейся мебели для проведения разных форм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Информацион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оиск новой информа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Разработки планов и коррекционно-развивающих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иды консультативной помощи  педагога-психолога  для педагог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сихологической помощи педагог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овые  и индивидуальные беседы, сеансы релакс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овместная работа педагога-психолога и социального педаг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е сопровождение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-психологическое сопровождение адап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одическое сопровождение классных руковод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учащихся с проблемами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дагогическая реабилитация условно осужденных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СПАСИБО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КАБИНЕТ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ПЕДАГОГ-ПСИХОЛОГ</a:t>
            </a:r>
            <a:br>
              <a:rPr sz="2800"/>
            </a:b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ВЫПОЛНЯЕТ СЛЕДУЮЩИЕ ФУНКЦИ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хран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учащимся в выборе професс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детям в адаптационный пери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бота с неуспевающими учащимися и их родителя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Основные направления работ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ирование комфортной психологической сре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действие образовательному процесс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Формы работы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Коррекционно-развивающ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Диагностическ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сихологическое сопровождение учащихс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рофориентация учащих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Отслеживание психологического состояния учащихся,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труктура кабинета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бинет разделен на несколько рабочих зон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Диагностическ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ррекционно-развивающе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нсультатив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4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Релаксации и снят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5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Личная зона психоло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диагностическ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DSC01415"/>
          <p:cNvPicPr/>
          <p:nvPr/>
        </p:nvPicPr>
        <p:blipFill>
          <a:blip r:embed="rId1"/>
          <a:stretch/>
        </p:blipFill>
        <p:spPr>
          <a:xfrm>
            <a:off x="152280" y="2590920"/>
            <a:ext cx="3810240" cy="35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SC01418"/>
          <p:cNvPicPr/>
          <p:nvPr/>
        </p:nvPicPr>
        <p:blipFill>
          <a:blip r:embed="rId2"/>
          <a:stretch/>
        </p:blipFill>
        <p:spPr>
          <a:xfrm>
            <a:off x="3809880" y="26668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Зона коррекционно-развивающей раб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DSC01409"/>
          <p:cNvPicPr/>
          <p:nvPr/>
        </p:nvPicPr>
        <p:blipFill>
          <a:blip r:embed="rId1"/>
          <a:stretch/>
        </p:blipFill>
        <p:spPr>
          <a:xfrm>
            <a:off x="4419720" y="3505320"/>
            <a:ext cx="449568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01417"/>
          <p:cNvPicPr/>
          <p:nvPr/>
        </p:nvPicPr>
        <p:blipFill>
          <a:blip r:embed="rId2"/>
          <a:stretch/>
        </p:blipFill>
        <p:spPr>
          <a:xfrm>
            <a:off x="304920" y="289548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 консультативн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SC01410"/>
          <p:cNvPicPr/>
          <p:nvPr/>
        </p:nvPicPr>
        <p:blipFill>
          <a:blip r:embed="rId1"/>
          <a:stretch/>
        </p:blipFill>
        <p:spPr>
          <a:xfrm>
            <a:off x="304920" y="24382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DSC01413"/>
          <p:cNvPicPr/>
          <p:nvPr/>
        </p:nvPicPr>
        <p:blipFill>
          <a:blip r:embed="rId2"/>
          <a:stretch/>
        </p:blipFill>
        <p:spPr>
          <a:xfrm>
            <a:off x="2590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DSC01419"/>
          <p:cNvPicPr/>
          <p:nvPr/>
        </p:nvPicPr>
        <p:blipFill>
          <a:blip r:embed="rId3"/>
          <a:stretch/>
        </p:blipFill>
        <p:spPr>
          <a:xfrm>
            <a:off x="5638680" y="228600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0:1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