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E478-64D4-451E-AE3A-7C0931285269}" type="slidenum">
              <a:rPr b="0" lang="uk-U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бинет педагога -психол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BF00-8FDA-4FA9-90B9-DE06F96D3B1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Calibri"/>
              </a:rPr>
              <a:t>Зона релаксации и снятия эмоционального напря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зона предполагает мягкое ворсистое покрытие на полу, естественная зелень комнатных растений, негромкое звучание спокойной музы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9658-3C52-459B-9A6F-4A1A2C0CF4A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ff00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00ff00"/>
                </a:solidFill>
                <a:latin typeface="Calibri"/>
              </a:rPr>
              <a:t>Личная зона психоло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а для подготовки к работе: занятиям, консультациям, хранению документации, пособий, методической литера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FF3A-FFF0-4A97-ABE7-E3275EBE22E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Calibri"/>
              </a:rPr>
              <a:t>Информационные ресурсы кабин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очно-информационная литера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писные издания «Школьный психолог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ые и диагностические компьютерные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йлообмен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ая документация, документация педагога-психол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FC8B-C252-4355-BD40-123DEAA725B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Кадровый рес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-психол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ция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педаг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блиотекар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C7B2-847D-4381-B602-CA3C44E868B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ТС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н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аппара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ый цент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7BD8-4066-4275-A442-D04B321A7F6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Материальный рес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ой матери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аточный матери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удование(столы, стулья, стеллаж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687C-5A9A-412F-8AE0-DE355500D80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Calibri"/>
              </a:rPr>
              <a:t>Эффективность использования ресурсов кабин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00ff00"/>
                </a:solidFill>
                <a:latin typeface="Calibri"/>
              </a:rPr>
              <a:t>Кадровы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уменьшение числа неуспевающих и учащихся «группы риска»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успешная адаптация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эффективность в профессиональном выборе учащихся 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100" spc="-1" strike="noStrike">
                <a:solidFill>
                  <a:srgbClr val="00ff00"/>
                </a:solidFill>
                <a:latin typeface="Calibri"/>
              </a:rPr>
              <a:t>ТСО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Сканирование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Компьютерное тестирование учащихся 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Создание презентаций 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Материальны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оведение практических занятий с использованием игрового и раздаточного матер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Мобильность имеющейся мебели для проведения разных форм заня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Информационны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иск нов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азработки планов и коррекционно-развивающих заня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4FA4-284F-40F1-AFF8-90CAF5060BE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Calibri"/>
              </a:rPr>
              <a:t>Виды консультативной помощи  педагога-психолога  для педаго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сихологической помощи педагог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омощи классным руководителям в подготовке к родительским собраниям, классным часам, внеклассным мероприят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ие  и оказание помощи учителей в методической(психологической),справочной литерату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ые  и индивидуальные беседы, сеансы релакс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86E2-D605-4B62-A73F-7C639331505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Calibri"/>
              </a:rPr>
              <a:t>Совместная работа педагога-психолога и социального педаго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сопровождение воспитатель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ое сопровождение адап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ое сопровождение классных руковод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о-педагогическое сопровождение учащихся с проблемами в обуч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ая реабилитация условно осужденных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58C3-1481-4578-871B-86987791407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СПАСИБ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971D-6A43-4171-8259-2941EF30505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ff00"/>
                </a:solidFill>
                <a:latin typeface="Calibri"/>
              </a:rPr>
              <a:t>КАБИНЕТ ПЕДАГОГА-ПСИХОЛО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ЕЕ МЕСТО СПЕЦИАЛИСТА,ВЫПОЛНЯЮЩЕЕ СЛОЖНУЮ И РАЗНОСТОРОННЮЮ ДЕЯТЕЛЬНОСТЬ,ОТВЕЧАЮЩУЮ ОПРЕДЕЛЕННЫМ ЦЕЛЯМ И ЗАДАЧ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ЩЕНИЕ, В КОТОРОМ РАБОТАЕТ ПСИХОЛОГ, ОРГАНИЗОВАНО И ОСНАЩЕНО  ТАКИМ ОБРАЗОМ ,ЧТОБЫ ОБЕСПЕЧИТЬ ЭФФЕКТИВНОЕ ИСПОЛНЕНИЕ ПРОФЕССИОНАЛЬНОЙ ДЕЯТЕЛЬНОСТИ И СОХРАНИТЬ ПСИХОЛОГИЧЕСКОЕ ЗДОРОВЬЕ УЧАЩИХСЯ И ПЕДАГОГ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БИНЕТ ПРЕДПОЛАГАЕТ СОЗДАНИЕ ДОВЕРИТЕЛЬНОЙ И СВОБОДНОЙ ОБСТАНОВКИ, ПОМОГАЮЩЕЙ СПОКОЙНО ОБСУДИТЬ  ПРОБЛ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ЛЕГКО ОБНАРУЖИТЬ, И ОН СЛУЖИТ МЕСТОМ ЭМОЦИОНАЛЬНОЙ РАЗГРУЗКИ И СНЯТИЯ НАПРЯЖЕНИЯ, КАК ДЛЯ ВЗРОСЛЫХ, ТАК  И  ДЛЯ ДЕ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РАБОТЫ КАБИНЕТ  ПЕДАГОГА-ПСИХОЛОГА МОДИФИЦИРУЕТСЯ В СООТВЕТСВИИ СО СПЕЦИФИКОЙ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883E-22FB-436F-81B9-5BB979461D1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ff00"/>
                </a:solidFill>
                <a:latin typeface="Calibri"/>
              </a:rPr>
              <a:t>ПЕДАГОГ-ПСИХОЛОГ</a:t>
            </a:r>
            <a:br>
              <a:rPr sz="1000"/>
            </a:br>
            <a:r>
              <a:rPr b="0" i="1" lang="ru-RU" sz="1000" spc="-1" strike="noStrike">
                <a:solidFill>
                  <a:srgbClr val="00ff00"/>
                </a:solidFill>
                <a:latin typeface="Calibri"/>
              </a:rPr>
              <a:t>ВЫПОЛНЯЕТ СЛЕДУЮЩИЕ ФУНКЦИИ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психологического здоровья учащихся и педаг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учащимся в выборе проф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детям в адаптационный пери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неуспевающими учащимися и их роди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FC8B-F34F-4041-B811-86B5ECCAF01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ff00"/>
                </a:solidFill>
                <a:latin typeface="Calibri"/>
              </a:rPr>
              <a:t>Основные направления работ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комфортной психологическо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 образовательному процесс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сихологического здоровья учащихся и педаг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18AD-600D-4850-8222-51820319EDE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Calibri"/>
              </a:rPr>
              <a:t>Формы работы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*Коррекционно-развивающ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*Диагностическ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*Психологическое сопровождение учащихся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*Профориентация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*Отслеживание психологического состояния учащихся, педаг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4A72-7355-40F0-92C4-80D61A6211C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Calibri"/>
              </a:rPr>
              <a:t>Структура кабинета педагога-психоло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бинет разделен на несколько рабочих зо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1 -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Диагностическ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2 -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Коррекционно-развивающе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3 -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Консультативн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4 -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Релаксации и снятие эмоционального напря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5 -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Личная зона психол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4FB8-D156-42BF-9C73-3E40CBF7882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Calibri"/>
              </a:rPr>
              <a:t>Зона диагностической рабо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на  предназначена для проведения обследований (в групповой и индивидуальной форме). Диагностический материал систематизиров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C616-7378-4818-8871-1B1B7C0FA31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Calibri"/>
              </a:rPr>
              <a:t>Зона коррекционно-развивающей рабо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занятий с детьми здесь расставлены: стол-парта, доска. Для проведения игровых занятий предполагается свободное размещение на полу, а также разнообразный игровой материал (мягкие игрушки, куклы-марионетки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2029-C177-4C98-85FF-22B1A0CA96E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Calibri"/>
              </a:rPr>
              <a:t>Зона  консультативной рабо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доверительной и свободной обстановки включает в себя такие элементы интерьера как: картины,  удобная мягкая мебель, аквариум. Цветовая гамма выдержана в мягких то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F22B-395A-4561-8C12-EEAA6F848AC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2BAFF-9DCC-482F-869C-73BB6545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39C6F-4D53-4C2F-9932-A5EFB09F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0D4D6-567D-4135-B7CF-00780973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EBA7E-87FC-47A5-AC1A-C7E7E21E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7DAD-5919-47BA-A9C8-F34460F4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4C70-3CAF-4999-88FC-16290FB6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8586-D249-418A-9E4B-71226C4A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F7F8-0B39-4718-8F37-29E4496E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8E49-4CEF-4BBC-84E0-808B9A17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284C-8CBB-42BB-A693-4D811712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6FA7-7A38-4FC5-B028-782D24B5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4B46B-BEC2-49DB-924F-DF6B8EC0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CD42-44F6-46C2-BA48-340455EF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43B5-C2FA-4460-8E0E-C7225125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5C31-E965-4754-A655-7B4CAC1B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5FF2-640B-4F85-AC73-137865F2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0F44-CA3F-4315-838C-E5345CCEE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F40FC-B8A4-43C8-A5F7-307C986A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15856-6D7C-4D49-8985-C1B19FF9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DB398-E3E0-4231-9D33-406ABE3C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0133B-E63E-43CD-9175-5507E516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3B4BE-6515-4703-BAB5-A2BF059A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026FA-68BF-4B48-8EE3-CE8B40B3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95C8B-DB4D-4599-9D4A-E7924A3E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FB82-0025-492A-BA81-FDF9B7D7A4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A1FD-0651-4D85-828A-BF5A5A673C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78400"/>
            <a:ext cx="82296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429840"/>
            <a:ext cx="8229600" cy="4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Кабинет педагога -психолог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2286000" y="1792440"/>
            <a:ext cx="4734000" cy="315576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Зона релаксации и снятия эмоционального напряжения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та зона предполагает мягкое ворсистое покрытие на полу, естественная зелень комнатных растений, негромкое звучание спокойной музык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4" descr="DSC01420"/>
          <p:cNvPicPr/>
          <p:nvPr/>
        </p:nvPicPr>
        <p:blipFill>
          <a:blip r:embed="rId1"/>
          <a:stretch/>
        </p:blipFill>
        <p:spPr>
          <a:xfrm>
            <a:off x="762120" y="297180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DSC01410"/>
          <p:cNvPicPr/>
          <p:nvPr/>
        </p:nvPicPr>
        <p:blipFill>
          <a:blip r:embed="rId2"/>
          <a:stretch/>
        </p:blipFill>
        <p:spPr>
          <a:xfrm>
            <a:off x="4572000" y="2743200"/>
            <a:ext cx="3962520" cy="358128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     </a:t>
            </a: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Личная зона психолог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еобходима для подготовки к работе: занятиям, консультациям, хранению документации, пособий, методической литератур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ff00"/>
                </a:solidFill>
                <a:latin typeface="Garamond"/>
              </a:rPr>
              <a:t>Информационные ресурсы кабинет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правочно-информационная литератур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писные издания «Школьный психолог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гровые и диагностические компьютерные программ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тернет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айлообменни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ормативно-правовая документация, документация педагога-психолог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Garamond"/>
              </a:rPr>
              <a:t>Кадровый ресур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дагог-психоло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дминистрация школ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циальный педаго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дагог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иблиотекар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Garamond"/>
              </a:rPr>
              <a:t>ТС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мпьюте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нте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кане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тоаппаратур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узыкальный цент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Garamond"/>
              </a:rPr>
              <a:t>Материальный ресур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гровой материа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даточный материа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орудование(столы, стулья, стеллажи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Эффективность использования ресурсов кабинет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000" spc="-1" strike="noStrike">
                <a:solidFill>
                  <a:srgbClr val="00ff00"/>
                </a:solidFill>
                <a:latin typeface="Garamond"/>
              </a:rPr>
              <a:t>Кадровый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уменьшение числа неуспевающих и учащихся «группы риска»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успешная адаптация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эффективность в профессиональном выборе учащихся 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00ff00"/>
                </a:solidFill>
                <a:latin typeface="Garamond"/>
              </a:rPr>
              <a:t>ТСО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Сканирование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Компьютерное тестирование учащихся 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Создание презентаций 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00ff00"/>
                </a:solidFill>
                <a:latin typeface="Garamond"/>
              </a:rPr>
              <a:t>Материальный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Проведение практических занятий с использованием игрового и раздаточного материал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Мобильность имеющейся мебели для проведения разных форм занятий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Garamond"/>
              </a:rPr>
              <a:t>Информационный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Поиск новой информации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Разработки планов и коррекционно-развивающих занятий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Виды консультативной помощи  педагога-психолога  для педагог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казание психологической помощи педагога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казание помощи классным руководителям в подготовке к родительским собраниям, классным часам, внеклассным мероприятия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нформирование  и оказание помощи учителей в методической(психологической),справочной литератур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рупповые  и индивидуальные беседы, сеансы релакса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Совместная работа педагога-психолога и социального педагог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циальное сопровождение воспитательной систем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циально-психологическое сопровождение адапта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етодическое сопровождение классных руководител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сихолого-педагогическое сопровождение учащихся с проблемами в обучен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едагогическая реабилитация условно осужденных учащихс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f00"/>
                </a:solidFill>
                <a:latin typeface="Garamond"/>
              </a:rPr>
              <a:t>СПАСИБО</a:t>
            </a:r>
            <a:br>
              <a:rPr sz="6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29528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f00"/>
                </a:solidFill>
                <a:latin typeface="Garamond"/>
              </a:rPr>
              <a:t>ЗА ВНИМАНИЕ!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ff00"/>
                </a:solidFill>
                <a:latin typeface="Garamond"/>
              </a:rPr>
              <a:t>КАБИНЕТ ПЕДАГОГА-ПСИХОЛОГ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БОЧЕЕ МЕСТО СПЕЦИАЛИСТА,ВЫПОЛНЯЮЩЕЕ СЛОЖНУЮ И РАЗНОСТОРОННЮЮ ДЕЯТЕЛЬНОСТЬ,ОТВЕЧАЮЩУЮ ОПРЕДЕЛЕННЫМ ЦЕЛЯМ И ЗАДАЧАМ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МЕЩЕНИЕ, В КОТОРОМ РАБОТАЕТ ПСИХОЛОГ, ОРГАНИЗОВАНО И ОСНАЩЕНО  ТАКИМ ОБРАЗОМ ,ЧТОБЫ ОБЕСПЕЧИТЬ ЭФФЕКТИВНОЕ ИСПОЛНЕНИЕ ПРОФЕССИОНАЛЬНОЙ ДЕЯТЕЛЬНОСТИ И СОХРАНИТЬ ПСИХОЛОГИЧЕСКОЕ ЗДОРОВЬЕ УЧАЩИХСЯ И ПЕДАГОГОВ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АБИНЕТ ПРЕДПОЛАГАЕТ СОЗДАНИЕ ДОВЕРИТЕЛЬНОЙ И СВОБОДНОЙ ОБСТАНОВКИ, ПОМОГАЮЩЕЙ СПОКОЙНО ОБСУДИТЬ  ПРОБЛЕМЫ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ЕГО ЛЕГКО ОБНАРУЖИТЬ, И ОН СЛУЖИТ МЕСТОМ ЭМОЦИОНАЛЬНОЙ РАЗГРУЗКИ И СНЯТИЯ НАПРЯЖЕНИЯ, КАК ДЛЯ ВЗРОСЛЫХ, ТАК  И  ДЛЯ ДЕТЕЙ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О ВРЕМЯ РАБОТЫ КАБИНЕТ  ПЕДАГОГА-ПСИХОЛОГА МОДИФИЦИРУЕТСЯ В СООТВЕТСВИИ СО СПЕЦИФИКОЙ ПРОФЕССИОНАЛЬНОЙ ДЕЯТЕЛЬНОСТ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00"/>
                </a:solidFill>
                <a:latin typeface="Garamond"/>
              </a:rPr>
              <a:t>ПЕДАГОГ-ПСИХОЛОГ</a:t>
            </a:r>
            <a:br>
              <a:rPr sz="2800"/>
            </a:br>
            <a:r>
              <a:rPr b="1" i="1" lang="ru-RU" sz="2800" spc="-1" strike="noStrike">
                <a:solidFill>
                  <a:srgbClr val="00ff00"/>
                </a:solidFill>
                <a:latin typeface="Garamond"/>
              </a:rPr>
              <a:t>ВЫПОЛНЯЕТ СЛЕДУЮЩИЕ ФУНКЦИИ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охранение психологического здоровья учащихся и педагогов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омощь учащимся в выборе професси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омощь детям в адаптационный период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Работа с неуспевающими учащимися и их родителям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Основные направления работы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Формирование комфортной психологической среды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одействие образовательному процессу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Обеспечение психологического здоровья учащихся и педагогов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Формы работы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*Коррекционно-развивающая рабо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*Диагностическая рабо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*Психологическое сопровождение учащихся школ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*Профориентация учащихс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*Отслеживание психологического состояния учащихся, педагог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Структура кабинета педагога-психолог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бинет разделен на несколько рабочих зон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1 - </a:t>
            </a:r>
            <a:r>
              <a:rPr b="0" lang="ru-RU" sz="2800" spc="-1" strike="noStrike">
                <a:solidFill>
                  <a:srgbClr val="000514"/>
                </a:solidFill>
                <a:latin typeface="Garamond"/>
              </a:rPr>
              <a:t>Диагностической рабо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2 - </a:t>
            </a:r>
            <a:r>
              <a:rPr b="0" lang="ru-RU" sz="2800" spc="-1" strike="noStrike">
                <a:solidFill>
                  <a:srgbClr val="000514"/>
                </a:solidFill>
                <a:latin typeface="Garamond"/>
              </a:rPr>
              <a:t>Коррекционно-развивающей рабо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3 - </a:t>
            </a:r>
            <a:r>
              <a:rPr b="0" lang="ru-RU" sz="2800" spc="-1" strike="noStrike">
                <a:solidFill>
                  <a:srgbClr val="000514"/>
                </a:solidFill>
                <a:latin typeface="Garamond"/>
              </a:rPr>
              <a:t>Консультативной рабо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4 - </a:t>
            </a:r>
            <a:r>
              <a:rPr b="0" lang="ru-RU" sz="2800" spc="-1" strike="noStrike">
                <a:solidFill>
                  <a:srgbClr val="000514"/>
                </a:solidFill>
                <a:latin typeface="Garamond"/>
              </a:rPr>
              <a:t>Релаксации и снятие эмоционального напряж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5 - </a:t>
            </a:r>
            <a:r>
              <a:rPr b="0" lang="ru-RU" sz="2800" spc="-1" strike="noStrike">
                <a:solidFill>
                  <a:srgbClr val="000514"/>
                </a:solidFill>
                <a:latin typeface="Garamond"/>
              </a:rPr>
              <a:t>Личная зона психолог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Зона диагностической работы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она  предназначена для проведения обследований (в групповой и индивидуальной форме). Диагностический материал систематизирован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7" descr="DSC01415"/>
          <p:cNvPicPr/>
          <p:nvPr/>
        </p:nvPicPr>
        <p:blipFill>
          <a:blip r:embed="rId1"/>
          <a:stretch/>
        </p:blipFill>
        <p:spPr>
          <a:xfrm>
            <a:off x="152280" y="2590920"/>
            <a:ext cx="3810240" cy="3504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DSC01418"/>
          <p:cNvPicPr/>
          <p:nvPr/>
        </p:nvPicPr>
        <p:blipFill>
          <a:blip r:embed="rId2"/>
          <a:stretch/>
        </p:blipFill>
        <p:spPr>
          <a:xfrm>
            <a:off x="3809880" y="2666880"/>
            <a:ext cx="5029200" cy="38862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Зона коррекционно-развивающей работ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ля занятий с детьми здесь расставлены: стол-парта, доска. Для проведения игровых занятий предполагается свободное размещение на полу, а также разнообразный игровой материал (мягкие игрушки, куклы-марионетки и т.д.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4" descr="DSC01409"/>
          <p:cNvPicPr/>
          <p:nvPr/>
        </p:nvPicPr>
        <p:blipFill>
          <a:blip r:embed="rId1"/>
          <a:stretch/>
        </p:blipFill>
        <p:spPr>
          <a:xfrm>
            <a:off x="4419720" y="3505320"/>
            <a:ext cx="4495680" cy="3108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DSC01417"/>
          <p:cNvPicPr/>
          <p:nvPr/>
        </p:nvPicPr>
        <p:blipFill>
          <a:blip r:embed="rId2"/>
          <a:stretch/>
        </p:blipFill>
        <p:spPr>
          <a:xfrm>
            <a:off x="304920" y="2895480"/>
            <a:ext cx="3809880" cy="35816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Зона  консультативной работы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оздание доверительной и свободной обстановки включает в себя такие элементы интерьера как: картины,  удобная мягкая мебель, аквариум. Цветовая гамма выдержана в мягких тонах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4" descr="DSC01410"/>
          <p:cNvPicPr/>
          <p:nvPr/>
        </p:nvPicPr>
        <p:blipFill>
          <a:blip r:embed="rId1"/>
          <a:stretch/>
        </p:blipFill>
        <p:spPr>
          <a:xfrm>
            <a:off x="304920" y="2438280"/>
            <a:ext cx="4572000" cy="2895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DSC01413"/>
          <p:cNvPicPr/>
          <p:nvPr/>
        </p:nvPicPr>
        <p:blipFill>
          <a:blip r:embed="rId2"/>
          <a:stretch/>
        </p:blipFill>
        <p:spPr>
          <a:xfrm>
            <a:off x="2590920" y="3962520"/>
            <a:ext cx="3581280" cy="2057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DSC01419"/>
          <p:cNvPicPr/>
          <p:nvPr/>
        </p:nvPicPr>
        <p:blipFill>
          <a:blip r:embed="rId3"/>
          <a:stretch/>
        </p:blipFill>
        <p:spPr>
          <a:xfrm>
            <a:off x="5638680" y="2286000"/>
            <a:ext cx="3353040" cy="297180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2T10:11:5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