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istr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9C22-AEF0-4FB5-A432-C7701FA3D5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ути оптимизации взаимодействия психолога с педагогическим коллективом и администр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A21D-660C-4F57-BD1B-425CA1AA3A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Чем похожи педагогическая </a:t>
            </a: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оддержка и психологическая помощ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лучения устойчивого результата требуется время и регуля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достичь результата без сотрудничества с родителями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4D92-4E5E-4EBE-9817-EADDAF9267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Calibri"/>
              </a:rPr>
              <a:t>Психологи, как врачи, могут иметь различный функционал в зависимости от места работы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ый психоло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в психолого-медико-педагогической коми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в психологическом цент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терапе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1554-488C-48B4-8107-D2865EDEC2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Школьный психолог похож на школьную медсестр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Школьная медсест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лечит хронических заболев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неотлож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т профилактику и делает приви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Школьный психол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занимается длительной глубокой психологической работ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срочную психологическую помощ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психопрофилактику  и психодиагност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7001-3008-4145-96A7-4D3E32D26F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Что делают другие психо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МПК – помогают определить оптимальный образовательный маршр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сихологических центрах – ведут длительную углубленную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терапевты – помогают взрослым людям справиться с психологическими трудност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CB81-A841-4F17-8A1D-7D61017200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Чем может помочь школьный психолог учителю в работе с трудным ребенко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же понять причины поведения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новые приемы взаимодействия с 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ать, в помощи какого специалиста ребенок нужд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A2CC-FEF4-485B-8D53-D55D957B5C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Школьный психол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жет сделать так, чтобы дети перестали ругаться матом … но может  подсказать, как на это реагиро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евратит злостного хулигана в отличника … но поможет лучше понять мотивы его поведения и найти новые способы общения с 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владеет методикой преподавания предмета .. но знает, как справиться со стресс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3A3A-E234-49BF-8032-BEFF9F4090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Вместе мы можем больш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D78B-7610-4B5D-B503-8655629721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Что препятствует взаимодействию</a:t>
            </a:r>
            <a:r>
              <a:rPr b="0" lang="ru-RU" sz="1600" spc="-1" strike="noStrike">
                <a:solidFill>
                  <a:srgbClr val="000099"/>
                </a:solidFill>
                <a:latin typeface="Calibri"/>
              </a:rPr>
              <a:t>?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еалистические ожидания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нимания специфики профессиональной деятельности психолога вообще и школьного психолога  в час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779B-568F-4B00-8406-A7E09D88FC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школьного психолога – повышать осведомленность педагогов и администрации в области психологическ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8FDC-17C5-49BC-9DB6-64B3C31D06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едагогам – о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рассказ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специфика психологическ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ые возможности психоло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содержания деятельности школьного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ем умолч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работы с конкретным ребен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и принципы использования  психодиагностических метод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A7D7-92CE-43CB-88EC-6523F2F4C9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Уважаемые коллеги! </a:t>
            </a:r>
            <a:br>
              <a:rPr sz="1200"/>
            </a:b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Мы, психологи, хотим рассказать вам о том, чем мы можем быть вам полезны. А также о том, чего мы, к сожалению, не умеем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F76F-7E8A-412E-8A2D-14CB63A906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Педагоги и психологи помогает ребенку, но делают это по-раз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B31D-AFA9-48AA-BC22-96B9246640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дагогическая поддерж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это превентивная и оперативная помощь в развитии ребёнка, которая направлена на решение его индивидуальных проблем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реальной жизненной ситу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(О.С.Газм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а для решения воспитательных и образовательных зада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1C48-B4EC-4388-9010-162966852B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ихологическая помощ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выражение ребенком эмоций и чувств и формирование необходимых психологических умений (коммуникативных, эмоционально-волевых, поведенческих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искусственно созда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преодолению эмоциональных затруднений, внутренних конфликтов и позволяет освоить новые формы поведе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1472-680A-4E34-8064-6C081A1168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мощь ребенку – это не объяснение ребенку норм поведения, а специальные игры и упражнения (в том числе рис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поддержка – это беседа, совет, при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5B1E-7913-4E2E-BA2F-B06D65D53C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F2F0-7011-4FCE-98B3-03B35AA5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5B4-7F7D-4ACF-B5D1-A2C42A8B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17BC-EF3E-47FD-8B4B-65018844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86F2-3BA9-4F5A-9756-BB5089D7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9DA4-48D3-4DE4-BA4D-48ED243B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826-56F4-4AE7-A945-16784C84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B86-265D-4120-AC10-3A2C9017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FDB-FB7C-4E94-842A-9760AE20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6426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D0BC-D6FF-438E-8FFB-13DED732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0358-1F5A-4028-B76C-B6DB7A2B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75D-6353-4352-885F-3DEC64A1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795-617C-4F16-AAEF-DC3FE610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istr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4F84-9F6E-4DBD-A30D-EDEDEDE6326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365C-CE9F-4937-86EF-AA7ED17050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130120"/>
            <a:ext cx="7958160" cy="22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Mistral"/>
              </a:rPr>
              <a:t>Пути оптимизации взаимодействия психолога с педагогическим коллективом и администрацией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onstantia"/>
            </a:endParaRPr>
          </a:p>
        </p:txBody>
      </p:sp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57280" y="549000"/>
            <a:ext cx="6462720" cy="18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Mistr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Mistral"/>
              </a:rPr>
              <a:t>       </a:t>
            </a: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Чем похожи педагогическая </a:t>
            </a:r>
            <a:r>
              <a:rPr b="0" lang="en-US" sz="4000" spc="-1" strike="noStrike">
                <a:solidFill>
                  <a:srgbClr val="0000cc"/>
                </a:solidFill>
                <a:latin typeface="Mistral"/>
              </a:rPr>
              <a:t>            </a:t>
            </a: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поддержка и психологическая помощь? 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3240" y="2500200"/>
            <a:ext cx="446112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ля получения устойчивого результата требуется время и регуляр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возможно достичь результата без сотрудничества с родителями ребен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179280" y="2604960"/>
            <a:ext cx="3888000" cy="2913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87640" y="907560"/>
            <a:ext cx="56707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cc"/>
                </a:solidFill>
                <a:latin typeface="Mistral"/>
              </a:rPr>
              <a:t>       </a:t>
            </a:r>
            <a:r>
              <a:rPr b="0" lang="ru-RU" sz="3600" spc="-1" strike="noStrike">
                <a:solidFill>
                  <a:srgbClr val="0000cc"/>
                </a:solidFill>
                <a:latin typeface="Mistral"/>
              </a:rPr>
              <a:t>Психологи, как врачи, могут иметь различный функционал в зависимости от места работы   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9680" y="2428920"/>
            <a:ext cx="81867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Школьный психолог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лог в психолого-медико-педагогической комиссии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лог в психологическом центре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терапев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43160" y="571320"/>
            <a:ext cx="55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Школьный психолог похож на школьную медсестру: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403848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Школьная медсестра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лечит хронических заболевани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казывает неотложную помощ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едет профилактику и делает прививк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14880" y="2285640"/>
            <a:ext cx="49291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Школьный психолог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занимается длительной глубокой психологической работо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казывает срочную психологическую помощ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оводит психопрофилактику  и психодиагностик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2073240" y="1073160"/>
            <a:ext cx="6583320" cy="1309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85840" y="2356920"/>
            <a:ext cx="84009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ПМПК – помогают определить оптимальный образовательный маршру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психологических центрах – ведут длительную углубленную работ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терапевты – помогают взрослым людям справиться с психологическими трудностям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14440" y="928440"/>
            <a:ext cx="54435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Mistral"/>
              </a:rPr>
              <a:t>Чем может помочь школьный психолог учителю в работе с трудным ребенком?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2565000"/>
            <a:ext cx="414036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56000" y="2205000"/>
            <a:ext cx="4330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лубже понять причины поведения ребен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йти новые приемы взаимодействия с ни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дсказать, в помощи какого специалиста ребенок нуждаетс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250920" y="2685960"/>
            <a:ext cx="3816360" cy="25354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4" descr=""/>
          <p:cNvPicPr/>
          <p:nvPr/>
        </p:nvPicPr>
        <p:blipFill>
          <a:blip r:embed="rId1"/>
          <a:stretch/>
        </p:blipFill>
        <p:spPr>
          <a:xfrm>
            <a:off x="1712880" y="774720"/>
            <a:ext cx="6943680" cy="1176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может сделать так, чтобы дети перестали ругаться матом … но может  подсказать, как на это реагироват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превратит злостного хулигана в отличника … но поможет лучше понять мотивы его поведения и найти новые способы общения с ни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владеет методикой преподавания предмета .. но знает, как справиться со стрессом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7320" y="642600"/>
            <a:ext cx="58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Mistral"/>
              </a:rPr>
              <a:t>Вместе мы можем больше!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403280" y="2135160"/>
            <a:ext cx="6769080" cy="35100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096320" cy="19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            </a:t>
            </a:r>
            <a:r>
              <a:rPr b="0" lang="ru-RU" sz="4400" spc="-1" strike="noStrike">
                <a:solidFill>
                  <a:srgbClr val="000099"/>
                </a:solidFill>
                <a:latin typeface="Mistral"/>
              </a:rPr>
              <a:t>Что препятствует взаимодействию</a:t>
            </a:r>
            <a:r>
              <a:rPr b="0" lang="ru-RU" sz="4000" spc="-1" strike="noStrike">
                <a:solidFill>
                  <a:srgbClr val="000099"/>
                </a:solidFill>
                <a:latin typeface="Mistral"/>
              </a:rPr>
              <a:t>?</a:t>
            </a:r>
            <a:r>
              <a:rPr b="0" lang="ru-RU" sz="4000" spc="-1" strike="noStrike">
                <a:solidFill>
                  <a:srgbClr val="ffff00"/>
                </a:solidFill>
                <a:latin typeface="Mistr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1844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ереалистические ожидания педагого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тсутствие понимания специфики профессиональной деятельности психолога вообще и школьного психолога  в частно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63640" y="620280"/>
            <a:ext cx="509436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str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384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дача школьного психолога – повышать осведомленность педагогов и администрации в области психологической помощ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4673520" y="2205000"/>
            <a:ext cx="3227400" cy="34527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2146320" y="847800"/>
            <a:ext cx="6510240" cy="1176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то рассказыва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щая специфика психологической помощ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фессиональные возможности психолог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обенности содержания деятельности школьного психолог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 чем умолча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держание работы с конкретным ребенком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держание и принципы использования  психодиагностических методик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0920" y="2130120"/>
            <a:ext cx="784692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Mistral"/>
              </a:rPr>
              <a:t>Уважаемые коллеги! </a:t>
            </a:r>
            <a:br>
              <a:rPr sz="4800"/>
            </a:br>
            <a:r>
              <a:rPr b="0" lang="ru-RU" sz="4800" spc="-1" strike="noStrike">
                <a:solidFill>
                  <a:srgbClr val="0000cc"/>
                </a:solidFill>
                <a:latin typeface="Mistral"/>
              </a:rPr>
              <a:t>Мы, психологи, хотим рассказать вам о том, чем мы можем быть вам полезны. А также о том, чего мы, к сожалению, не умеем</a:t>
            </a:r>
            <a:br>
              <a:rPr sz="3600"/>
            </a:br>
            <a:endParaRPr b="0" lang="en-US" sz="48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Педагоги и психологи помогает ребенку, но делают это по-разном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5099040" y="1600200"/>
            <a:ext cx="313704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620640"/>
            <a:ext cx="657216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   </a:t>
            </a: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едагогическая поддержка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- это превентивная и оперативная помощь в развитии ребёнка, которая направлена на решение его индивидуальных пробл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в реальной жизненной ситуации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(О.С.Газман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еобходима для решения воспитательных и образовательных задач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0200" y="620640"/>
            <a:ext cx="615816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     </a:t>
            </a: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-291600" algn="just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nstantia"/>
              </a:rPr>
              <a:t>Психологическая помощь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– это выражение ребенком эмоций и чувств и формирование необходимых психологических умений (коммуникативных, эмоционально-волевых, поведенческих)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onstantia"/>
              </a:rPr>
              <a:t>в искусственно созданных условиях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-291600" algn="just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Способствует преодолению эмоциональных затруднений, внутренних конфликтов и позволяет освоить новые формы поведения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42760" y="620640"/>
            <a:ext cx="6015240" cy="22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istral"/>
              </a:rPr>
              <a:t>  </a:t>
            </a:r>
            <a:r>
              <a:rPr b="1" lang="ru-RU" sz="40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9680" y="2356920"/>
            <a:ext cx="81867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nstantia"/>
              </a:rPr>
              <a:t>Психологическая помощь ребенку – это не объяснение ребенку норм поведения, а специальные игры и упражнения (в том числе рисование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nstantia"/>
              </a:rPr>
              <a:t>Педагогическая поддержка – это беседа, совет, пример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9:19:31Z</dcterms:created>
  <dc:creator>User</dc:creator>
  <dc:description>Корпорация Майкрософт</dc:description>
  <cp:keywords>Корпорация Майкрософт</cp:keywords>
  <dc:language>en-US</dc:language>
  <cp:lastModifiedBy>LEGION</cp:lastModifiedBy>
  <dcterms:modified xsi:type="dcterms:W3CDTF">2014-11-12T10:12:24Z</dcterms:modified>
  <cp:revision>16</cp:revision>
  <dc:subject>Шаблон оформления</dc:subject>
  <dc:title>ПУТИ ОПТИМИЗ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31791049</vt:lpwstr>
  </property>
</Properties>
</file>