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3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3572-9EB9-452F-8703-7C42C32E826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A7C8-9A15-4515-B79D-4C6883FB12E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ем похожи педагогическая </a:t>
            </a: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           </a:t>
            </a: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оддержка и психологическая помощь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получения устойчивого результата требуется время и регуля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возможно достичь результата без сотрудничества с родителями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24453-C36C-4158-B374-B9BDD035A02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cc"/>
                </a:solidFill>
                <a:latin typeface="Calibri"/>
              </a:rPr>
              <a:t>Психологи, как врачи, могут иметь различный функционал в зависимости от места работы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ьный психолог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о-медико-педагогической комисс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 в психологическом центр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A4B2A-67C6-4C44-BAF1-C52AA83E87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Школьный психолог похож на школьную медсестру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ая медсестр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лечит хронических заболев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неотлож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т профилактику и делает привив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нимается длительной глубокой психологической работ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ет срочную психологическую помощ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дит психопрофилактику  и психодиагност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73BB0-9DA8-41DE-A943-65DC448409B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Что делают другие психолог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МПК – помогают определить оптимальный образовательный маршру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психологических центрах – ведут длительную углубленную работ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терапевты – помогают взрослым людям справиться с психологическими трудностя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19C1-FCEA-4ED9-9B98-F6947CFE8A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Calibri"/>
              </a:rPr>
              <a:t>Чем может помочь школьный психолог учителю в работе с трудным ребенком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убже понять причины поведения ребе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новые приемы взаимодейств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сказать, в помощи какого специалиста ребенок нуждает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5559-8ED1-4D93-8A30-7EC115E4D7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Школьный психол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ладеет методикой преподавания предмета .. но знает, как справиться со стрес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A5C98-5496-4F5D-A24C-857B4641FC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Вместе мы можем больш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E62D1-B5F3-4FA1-AAC5-FC8BB6CC1C1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99"/>
                </a:solidFill>
                <a:latin typeface="Calibri"/>
              </a:rPr>
              <a:t>Что препятствует взаимодействию</a:t>
            </a:r>
            <a:r>
              <a:rPr b="0" lang="ru-RU" sz="1600" spc="-1" strike="noStrike">
                <a:solidFill>
                  <a:srgbClr val="000099"/>
                </a:solidFill>
                <a:latin typeface="Calibri"/>
              </a:rPr>
              <a:t>?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алистические ожидания педаг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A2B9A-0867-474F-9420-140991C616C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9903-B3B5-4F6D-A17E-43B78E8779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Педагогам – о псих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рассказы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щая специфика психологическ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фессиональные возможности психолог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содержания деятельности школьного психоло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умол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работы с конкретным ребенк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и принципы использования  психодиагностических методи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0453C-2F17-4933-AA15-CD9B6186DE3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Уважаемые коллеги! </a:t>
            </a:r>
            <a:br>
              <a:rPr sz="1200"/>
            </a:br>
            <a:r>
              <a:rPr b="0" lang="ru-RU" sz="1200" spc="-1" strike="noStrike">
                <a:solidFill>
                  <a:srgbClr val="0000cc"/>
                </a:solidFill>
                <a:latin typeface="Calibri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10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6FF6-7496-4197-822B-D027C337636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4085B-1528-4404-80E0-EF182B0D8F1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едагогическая поддержка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реальной жизненной ситуации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(О.С.Газма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бходима для решения воспитательных и образовательных задач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1BAC-279F-4E88-AC35-A8B88EEB55B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Психологическая помощ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в искусственно созданных условия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68ABB-264C-4795-9AAF-AAF9ABB8FA4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0000cc"/>
                </a:solidFill>
                <a:latin typeface="Calibri"/>
              </a:rPr>
              <a:t>Сопоставление психологической помощи и педагогической поддержк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поддержка – это беседа, совет, приме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3CB93-60AB-4F20-B80A-199FFAFD6E0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5180-8678-4385-9984-945EA63E7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17B1-A72E-4ECD-9E1B-3586C8E74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2253-8F0A-4DD0-932C-E967061AF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85724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87080"/>
            <a:ext cx="264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0089-132C-42E0-A381-C00A1280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7C50-631A-4E1F-A4D0-1CD40299A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794-C6B5-434D-B13C-8A8C8E0A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6D4E-5F3E-4063-81CB-556FF63A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136-2D49-4784-9E99-FF710951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8760" y="6426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E935-D3B9-4264-B5E0-4D8E6D0D6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48CE-645D-4BB5-AEBA-E66E8A21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8708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A80B-1201-4F98-BA36-1222B1BB4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857240"/>
            <a:ext cx="40158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87080"/>
            <a:ext cx="8229600" cy="20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8135-EB8C-42CA-BAAB-D9731E9F0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Mistr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E8C6-76BB-472D-A928-33585C3B428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A04E-B2A7-4A71-9079-4245629AE1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0040" y="2130120"/>
            <a:ext cx="7958160" cy="229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Пути оптимизации взаимодействия психолога с педагогическим коллективом и администрацией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onstantia"/>
            </a:endParaRPr>
          </a:p>
        </p:txBody>
      </p:sp>
      <p:sp>
        <p:nvSpPr>
          <p:cNvPr id="50" name="Місце для нижнього колонтитула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57280" y="549000"/>
            <a:ext cx="6462720" cy="18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Mistr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Mistral"/>
              </a:rPr>
              <a:t>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Чем похожи педагогическая </a:t>
            </a:r>
            <a:r>
              <a:rPr b="0" lang="en-US" sz="4000" spc="-1" strike="noStrike">
                <a:solidFill>
                  <a:srgbClr val="0000cc"/>
                </a:solidFill>
                <a:latin typeface="Mistral"/>
              </a:rPr>
              <a:t>            </a:t>
            </a: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поддержка и психологическая помощь?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3240" y="2500200"/>
            <a:ext cx="4461120" cy="375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ля получения устойчивого результата требуется время и регулярност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-32904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возможно достичь результата без сотрудничества с родителями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3"/>
          <a:stretch/>
        </p:blipFill>
        <p:spPr>
          <a:xfrm>
            <a:off x="179280" y="2604960"/>
            <a:ext cx="3888000" cy="2913120"/>
          </a:xfrm>
          <a:prstGeom prst="rect">
            <a:avLst/>
          </a:prstGeom>
          <a:ln w="0">
            <a:noFill/>
          </a:ln>
        </p:spPr>
      </p:pic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87640" y="907560"/>
            <a:ext cx="5670720" cy="878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cc"/>
                </a:solidFill>
                <a:latin typeface="Mistral"/>
              </a:rPr>
              <a:t>       </a:t>
            </a: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Психологи, как врачи, могут иметь различный функционал в зависимости от места работы   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99680" y="2428920"/>
            <a:ext cx="818676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Школьный психолог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о-медико-педагогической комиссии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лог в психологическом центре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143160" y="571320"/>
            <a:ext cx="55152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cc"/>
                </a:solidFill>
                <a:latin typeface="Mistral"/>
              </a:rPr>
              <a:t>Школьный психолог похож на школьную медсестру: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4038480" cy="42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ая медсестра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лечит хронических заболевани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неотложную помощь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Ведет профилактику и делает прививк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214880" y="2285640"/>
            <a:ext cx="4929120" cy="41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Constantia"/>
              </a:rPr>
              <a:t>Школьный психолог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занимается длительной глубокой психологической работой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Оказывает срочную психологическую помощ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роводит психопрофилактику  и психодиагностик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Заголовок 1" descr=""/>
          <p:cNvPicPr/>
          <p:nvPr/>
        </p:nvPicPr>
        <p:blipFill>
          <a:blip r:embed="rId1"/>
          <a:stretch/>
        </p:blipFill>
        <p:spPr>
          <a:xfrm>
            <a:off x="2073240" y="1073160"/>
            <a:ext cx="6583320" cy="1309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285840" y="2356920"/>
            <a:ext cx="84009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МПК – помогают определить оптимальный образовательный маршрут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В психологических центрах – ведут длительную углубленную работ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Психотерапевты – помогают взрослым людям справиться с психологическими трудностям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08520" indent="-30852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14440" y="928440"/>
            <a:ext cx="54435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Mistral"/>
              </a:rPr>
              <a:t>Чем может помочь школьный психолог учителю в работе с трудным ребенком?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2565000"/>
            <a:ext cx="414036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356000" y="2205000"/>
            <a:ext cx="43308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Глубже понять причины поведения ребенк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айти новые приемы взаимодейств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2120" indent="-31212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дсказать, в помощи какого специалиста ребенок нуждаетс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6" descr=""/>
          <p:cNvPicPr/>
          <p:nvPr/>
        </p:nvPicPr>
        <p:blipFill>
          <a:blip r:embed="rId4"/>
          <a:stretch/>
        </p:blipFill>
        <p:spPr>
          <a:xfrm>
            <a:off x="250920" y="2685960"/>
            <a:ext cx="3816360" cy="253548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Заголовок 4" descr=""/>
          <p:cNvPicPr/>
          <p:nvPr/>
        </p:nvPicPr>
        <p:blipFill>
          <a:blip r:embed="rId1"/>
          <a:stretch/>
        </p:blipFill>
        <p:spPr>
          <a:xfrm>
            <a:off x="1712880" y="774720"/>
            <a:ext cx="6943680" cy="11764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может сделать так, чтобы дети перестали ругаться матом … но может  подсказать, как на это реагировать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превратит злостного хулигана в отличника … но поможет лучше понять мотивы его поведения и найти новые способы общения с ним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Не владеет методикой преподавания предмета .. но знает, как справиться со стрессом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22200" indent="-32220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857320" y="642600"/>
            <a:ext cx="58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Mistral"/>
              </a:rPr>
              <a:t>Вместе мы можем больше!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1403280" y="2135160"/>
            <a:ext cx="6769080" cy="351000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76360" y="549000"/>
            <a:ext cx="7096320" cy="19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Mistral"/>
              </a:rPr>
              <a:t>            </a:t>
            </a:r>
            <a:r>
              <a:rPr b="0" lang="ru-RU" sz="4400" spc="-1" strike="noStrike">
                <a:solidFill>
                  <a:srgbClr val="000099"/>
                </a:solidFill>
                <a:latin typeface="Mistral"/>
              </a:rPr>
              <a:t>Что препятствует взаимодействию</a:t>
            </a:r>
            <a:r>
              <a:rPr b="0" lang="ru-RU" sz="4000" spc="-1" strike="noStrike">
                <a:solidFill>
                  <a:srgbClr val="000099"/>
                </a:solidFill>
                <a:latin typeface="Mistral"/>
              </a:rPr>
              <a:t>?</a:t>
            </a:r>
            <a:r>
              <a:rPr b="0" lang="ru-RU" sz="40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000" y="2349000"/>
            <a:ext cx="821844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Нереалистические ожидания педагогов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nstantia"/>
              </a:rPr>
              <a:t>Отсутствие понимания специфики профессиональной деятельности психолога вообще и школьного психолога  в частност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563640" y="620280"/>
            <a:ext cx="5094360" cy="116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Mistral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403848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Задача школьного психолога – повышать осведомленность педагогов и администрации в области психологической помощи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4673520" y="2205000"/>
            <a:ext cx="3227400" cy="345276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головок 1" descr=""/>
          <p:cNvPicPr/>
          <p:nvPr/>
        </p:nvPicPr>
        <p:blipFill>
          <a:blip r:embed="rId1"/>
          <a:stretch/>
        </p:blipFill>
        <p:spPr>
          <a:xfrm>
            <a:off x="2146320" y="847800"/>
            <a:ext cx="6510240" cy="117612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Что рассказыв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бщая специфика психологической помощи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фессиональные возможности психолога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Особенности содержания деятельности школьного психолога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 чем умолчать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работы с конкретным ребенком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Содержание и принципы использования  психодиагностических методик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0920" y="2130120"/>
            <a:ext cx="7846920" cy="23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Уважаемые коллеги! </a:t>
            </a:r>
            <a:br>
              <a:rPr sz="4800"/>
            </a:br>
            <a:r>
              <a:rPr b="0" lang="ru-RU" sz="4800" spc="-1" strike="noStrike">
                <a:solidFill>
                  <a:srgbClr val="0000cc"/>
                </a:solidFill>
                <a:latin typeface="Mistral"/>
              </a:rPr>
              <a:t>Мы, психологи, хотим рассказать вам о том, чем мы можем быть вам полезны. А также о том, чего мы, к сожалению, не умеем</a:t>
            </a:r>
            <a:br>
              <a:rPr sz="3600"/>
            </a:br>
            <a:endParaRPr b="0" lang="en-US" sz="48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28760" y="642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Mistral"/>
              </a:rPr>
              <a:t>Педагоги и психологи помогает ребенку, но делают это по-разном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3"/>
          <a:stretch/>
        </p:blipFill>
        <p:spPr>
          <a:xfrm>
            <a:off x="5099040" y="1600200"/>
            <a:ext cx="3137040" cy="452592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71840" y="620640"/>
            <a:ext cx="6572160" cy="137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Педагогическая поддержка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- это превентивная и оперативная помощь в развитии ребёнка, которая направлена на решение его индивидуальных проблем 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Constantia"/>
              </a:rPr>
              <a:t>в реальной жизненной ситуации</a:t>
            </a: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  (О.С.Газман)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-318960" algn="just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Необходима для решения воспитательных и образовательных задач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0200" y="620640"/>
            <a:ext cx="615816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     </a:t>
            </a:r>
            <a:r>
              <a:rPr b="1" lang="ru-RU" sz="36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36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57240"/>
            <a:ext cx="8229600" cy="426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Психологическая помощь </a:t>
            </a: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– это выражение ребенком эмоций и чувств и формирование необходимых психологических умений (коммуникативных, эмоционально-волевых, поведенческих) </a:t>
            </a:r>
            <a:r>
              <a:rPr b="0" lang="ru-RU" sz="3000" spc="-1" strike="noStrike" u="sng">
                <a:solidFill>
                  <a:srgbClr val="000000"/>
                </a:solidFill>
                <a:uFillTx/>
                <a:latin typeface="Constantia"/>
              </a:rPr>
              <a:t>в искусственно созданных условиях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-291600" algn="just">
              <a:lnSpc>
                <a:spcPct val="90000"/>
              </a:lnSpc>
              <a:spcBef>
                <a:spcPts val="751"/>
              </a:spcBef>
              <a:buSzPct val="10977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Способствует преодолению эмоциональных затруднений, внутренних конфликтов и позволяет освоить новые формы поведения  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91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642760" y="620640"/>
            <a:ext cx="6015240" cy="223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  </a:t>
            </a:r>
            <a:r>
              <a:rPr b="1" lang="ru-RU" sz="4000" spc="-1" strike="noStrike">
                <a:solidFill>
                  <a:srgbClr val="0000cc"/>
                </a:solidFill>
                <a:latin typeface="Mistral"/>
              </a:rPr>
              <a:t>Сопоставление психологической помощи и педагогической поддержки</a:t>
            </a:r>
            <a:endParaRPr b="0" lang="en-US" sz="4000" spc="-1" strike="noStrike">
              <a:solidFill>
                <a:srgbClr val="ffff00"/>
              </a:solidFill>
              <a:latin typeface="Mistr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99680" y="2356920"/>
            <a:ext cx="81867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сихологическая помощь ребенку – это не объяснение ребенку норм поведения, а специальные игры и упражнения (в том числе рисование)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-315360" algn="just">
              <a:spcBef>
                <a:spcPts val="85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Constantia"/>
              </a:rPr>
              <a:t>Педагогическая поддержка – это беседа, совет, пример </a:t>
            </a: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cc"/>
              </a:solidFill>
              <a:latin typeface="Mistr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19:19:31Z</dcterms:created>
  <dc:creator>User</dc:creator>
  <dc:description>Корпорация Майкрософт</dc:description>
  <cp:keywords>Корпорация Майкрософт</cp:keywords>
  <dc:language>en-US</dc:language>
  <cp:lastModifiedBy>LEGION</cp:lastModifiedBy>
  <dcterms:modified xsi:type="dcterms:W3CDTF">2014-11-12T10:12:24Z</dcterms:modified>
  <cp:revision>16</cp:revision>
  <dc:subject>Шаблон оформления</dc:subject>
  <dc:title>ПУТИ ОПТИМИЗАЦИ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31791049</vt:lpwstr>
  </property>
</Properties>
</file>