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C1B5-60EB-41EF-B5A4-C6B03A0E35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66DF-8A01-4E7F-AA50-5846E8D961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ем похожи педагогическая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держка и психологическая помощ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устойчивого результата требуется время и регуля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достичь результата без сотрудничества с родителям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2D27-DC01-43B5-A201-6D8D5B593D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сихологи, как врачи, могут иметь различный функционал в зависимости от места работы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о-медико-педагогической коми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ическом цент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C8B4-61AB-4BBE-9CA3-F6A6280129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Школьный психолог похож на школьную медсестр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ая медсест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лечит хрон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неотлож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т профилактику и делает приви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нимается длительной глубокой психологической работ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срочную психологическую помощ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психопрофилактику  и психодиагнос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7962-C66F-48BB-A20A-76308330C3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то делают другие психо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МПК – помогают определить оптимальный образовательный маршр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сихологических центрах – ведут длительную углублен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ы – помогают взрослым людям справиться с психологическими труд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21F3-E5C4-479D-8221-43FA624788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Чем может помочь школьный психолог учителю в работе с трудным ребенко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же понять причины поведен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новые приемы взаимодейств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ать, в помощи какого специалиста ребенок нужд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1B4E-0E69-4D69-99B2-DC6E46D3AE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ладеет методикой преподавания предмета .. но знает, как справиться со стрес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13BB-07E1-408E-874C-A1E0DE3901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Вместе мы можем больш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DBD6-B432-4C61-8E94-DF16663F54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препятствует взаимодействию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алистические ожид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CF7D-AFC8-4E3B-974A-A582FE1CD4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0298-E779-4266-BB6A-096054CE75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едагогам – о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рассказ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специфика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возможности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одержания деятельности школьного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умол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боты с конкретным ребен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и принципы использования  психодиагностических метод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49F3-13CC-45CB-B228-4D193FFE61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важаемые коллеги! </a:t>
            </a:r>
            <a:br>
              <a:rPr sz="1200"/>
            </a:b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27B0-8AC5-426B-9B6F-EE1DFD22AF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CDFD-7249-48E6-A028-DE83C5FDBB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дагогическая поддерж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реальной жизненной ситу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(О.С.Газм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для решения воспитательных и образовательных зада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9531-7EC0-4C97-9C26-C0412CA3F6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ая помощ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искусственно соз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D556-AC75-41E6-8201-D8007839A0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ддержка – это беседа, совет, при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2DA9-30A4-4811-BD38-E876CEB4A0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311-B98A-41FC-9C1C-1A9FE7B9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43F-EE89-4332-A4DE-24F5FC17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F78-4ECB-4D77-9CF5-67BD6847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7B5-7BB3-4AC0-BAE0-E2457AA5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92D-2F4D-4D22-A14D-D554614C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3F6-4847-44DD-86A0-817BD7AD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16D-E3A6-4E7E-905A-64E095EF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9EE-255C-417B-B4B2-CB060575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642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C7B-0910-47DC-AD15-94E72C94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D19-F294-4659-8704-D9F8ED3D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62E-4E1A-4A67-8880-4CBF3DC2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94C-A772-427E-82EC-D92FF243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1005-7A46-42B6-8C54-74ECF754E83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C4BF-E32E-408F-A68B-F08F08C189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95816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57280" y="549000"/>
            <a:ext cx="646272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istr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stral"/>
              </a:rPr>
              <a:t>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Чем похожи педагогическая </a:t>
            </a:r>
            <a:r>
              <a:rPr b="0" lang="en-US" sz="4000" spc="-1" strike="noStrike">
                <a:solidFill>
                  <a:srgbClr val="0000cc"/>
                </a:solidFill>
                <a:latin typeface="Mistral"/>
              </a:rPr>
              <a:t>     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поддержка и психологическая помощь?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3240" y="2500200"/>
            <a:ext cx="44611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получения устойчивого результата требуется время и регуляр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возможно достичь результата без сотрудничества с родителями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2604960"/>
            <a:ext cx="3888000" cy="2913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87640" y="907560"/>
            <a:ext cx="56707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Mistral"/>
              </a:rPr>
              <a:t>       </a:t>
            </a: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Психологи, как врачи, могут иметь различный функционал в зависимости от места работы   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2428920"/>
            <a:ext cx="8186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Школьный психол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о-медико-педагогической комисси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ическом центр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43160" y="571320"/>
            <a:ext cx="55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Школьный психолог похож на школьную медсестру: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403848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ая медсестр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лечит хронических заболеван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неотложную помощ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дет профилактику и делает привив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14880" y="2285640"/>
            <a:ext cx="49291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ый психолог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занимается длительной глубокой психологической работо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срочную психологическую помощ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водит психопрофилактику  и психодиагности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073240" y="1073160"/>
            <a:ext cx="6583320" cy="130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840" y="2356920"/>
            <a:ext cx="84009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МПК – помогают определить оптимальный образовательный маршру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сихологических центрах – ведут длительную углубленную работ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ы – помогают взрослым людям справиться с психологическими трудностя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14440" y="928440"/>
            <a:ext cx="5443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Чем может помочь школьный психолог учителю в работе с трудным ребенком?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414036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56000" y="2205000"/>
            <a:ext cx="4330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лубже понять причины поведения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йти новые приемы взаимодейств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сказать, в помощи какого специалиста ребенок нуждаетс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250920" y="2685960"/>
            <a:ext cx="3816360" cy="253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4" descr=""/>
          <p:cNvPicPr/>
          <p:nvPr/>
        </p:nvPicPr>
        <p:blipFill>
          <a:blip r:embed="rId1"/>
          <a:stretch/>
        </p:blipFill>
        <p:spPr>
          <a:xfrm>
            <a:off x="1712880" y="774720"/>
            <a:ext cx="6943680" cy="1176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владеет методикой преподавания предмета .. но знает, как справиться со стрессо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7320" y="642600"/>
            <a:ext cx="58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Вместе мы можем больше!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403280" y="2135160"/>
            <a:ext cx="6769080" cy="3510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096320" cy="19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Mistral"/>
              </a:rPr>
              <a:t>Что препятствует взаимодействию</a:t>
            </a:r>
            <a:r>
              <a:rPr b="0" lang="ru-RU" sz="4000" spc="-1" strike="noStrike">
                <a:solidFill>
                  <a:srgbClr val="000099"/>
                </a:solidFill>
                <a:latin typeface="Mistral"/>
              </a:rPr>
              <a:t>?</a:t>
            </a:r>
            <a:r>
              <a:rPr b="0" lang="ru-RU" sz="40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18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реалистические ожидания педагог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3640" y="620280"/>
            <a:ext cx="509436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673520" y="2205000"/>
            <a:ext cx="322740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2146320" y="847800"/>
            <a:ext cx="6510240" cy="117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 рассказыв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ая специфика психологической помощ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ессиональные возможности психолог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сти содержания деятельности школьного психоло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 чем умолч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работы с конкретным ребенко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и принципы использования  психодиагностических методи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130120"/>
            <a:ext cx="784692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Уважаемые коллеги! </a:t>
            </a:r>
            <a:br>
              <a:rPr sz="4800"/>
            </a:b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3600"/>
            </a:br>
            <a:endParaRPr b="0" lang="en-US" sz="48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313704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620640"/>
            <a:ext cx="657216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ческая поддержка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в реальной жизненной ситуаци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(О.С.Газман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обходима для решения воспитательных и образовательных задач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0200" y="620640"/>
            <a:ext cx="61581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Психологическая помощь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в искусственно созданных условия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42760" y="620640"/>
            <a:ext cx="6015240" cy="22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9680" y="2356920"/>
            <a:ext cx="81867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едагогическая поддержка – это беседа, совет, пример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9:19:31Z</dcterms:created>
  <dc:creator>User</dc:creator>
  <dc:description>Корпорация Майкрософт</dc:description>
  <cp:keywords>Корпорация Майкрософт</cp:keywords>
  <dc:language>en-US</dc:language>
  <cp:lastModifiedBy>LEGION</cp:lastModifiedBy>
  <dcterms:modified xsi:type="dcterms:W3CDTF">2014-11-12T10:12:24Z</dcterms:modified>
  <cp:revision>16</cp:revision>
  <dc:subject>Шаблон оформления</dc:subject>
  <dc:title>ПУТИ ОПТИМИЗ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791049</vt:lpwstr>
  </property>
</Properties>
</file>