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2.png" ContentType="image/png"/>
  <Override PartName="/ppt/media/image4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10.gif" ContentType="image/gif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5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gif" ContentType="image/gif"/>
  <Override PartName="/ppt/media/image16.png" ContentType="image/png"/>
  <Override PartName="/ppt/media/image18.png" ContentType="image/png"/>
  <Override PartName="/ppt/media/image20.jpeg" ContentType="image/jpeg"/>
  <Override PartName="/ppt/media/image6.gif" ContentType="image/gif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F987-7203-4817-A2C4-4EB8A2C4E9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Человек – личность</a:t>
            </a:r>
            <a:br>
              <a:rPr sz="4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бществознания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У СОШ № 4 с.Малые Яг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менко Анжелик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0BC6-9D70-4524-98AF-A52A52DF92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 материала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45A6-3101-410D-AA6D-0025EB0837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с.24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7BCA-ABF2-4BF0-9737-7D1D2918B7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ая личность должна быть нравственной и иметь положительные  ч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уважать себя, но к своим поступкам относиться критическ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это хорошо! Человек должен иметь собственные черты  и отличаться от других, это делает его интересны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DAC2-259C-4F63-AEAC-5E982A8C6E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§ 2. Человек — личность, ответить на вопросы к § 2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ить на вопросы 1-5, задание на карто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A453-D752-429F-88F0-8B0B162786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формированию у школьников представлений о человеке как социальном суще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ать, что человек принадлежит обществу, живет и развивается в не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7319-D6FC-4EAD-A94F-881A470283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прос домашенего материала:</a:t>
            </a: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Зачем человек рожд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Человеческий ребенок в момент рождения не человек, а только кандидат 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А.Пьеро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3B82-D047-49C0-9091-2D3F0930E3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ужно ребенку для того, чтобы он развивался как челов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человек отличается от живот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еп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Человек обладает мышлением и членораздельной реч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Преобразует окружающую действительность, создает необходимые ему материальные и духовные блага и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Человек воспроизводит не только свою биологическую, но и социальную сущность и поэтому должен удовлетворять не только свои материальные, но и духов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Способен изготавливать орудия труда и использовать их как средство производства материальн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E831-0633-46CD-A711-A77086D1D5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наследствен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ожно ли влиять на наследственность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бесцельно прожитая жизнь не приносит человеку счаст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DFE3-3BBD-4E34-8047-2EB8CE6A10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Лич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ая систем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 значимых черт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ющих человека, как члена того или ин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субъек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знате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7D70-8E3E-4655-853E-6E5150AE3F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«Картинная галере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ABC0-10E5-4D7A-9859-FB8A5599A6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Индивидуальность – плох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повторим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образ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личительны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нутренние и внешние)от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EE9F-46D6-4231-B89D-204D7B5557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фильма «Приключения Электроника» мальчик Сережа Сыроежкин и робот Электроник внешне были по­хожи друг на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ужно знать про героев, чтобы определить, чем различаются их лич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FAF4-E4BF-492C-AD0C-102FD74F76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F5D-043B-4E9E-B655-CF6990ED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409-A755-419C-B21A-0AE507D1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435-B714-4CEF-B02E-86BB3882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99E-61B1-4B6E-A820-7FCA7151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4392-2E7D-470B-B738-EE6FC4A0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25E2-D307-4846-9D74-E4054119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5FE2-28B5-4490-A9C6-AB90807A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5280-6130-4DC1-8458-763B9FDF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535E-8C83-402A-B856-C2A227AB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D89B-6553-477D-856F-8DCB2130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2409-E004-47AE-963D-6F5D24E0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19D-1A49-4A25-9C36-733B04EA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CE44-536A-4F53-9CEE-2776A784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5BAE-9C2B-4D91-8D58-7C8E18C0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A4F0-CA96-420C-B453-80AE6EAE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1D0F-1898-4705-820A-3819D64C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5D7C-BA3E-4E2D-B3CD-6A5BFA2F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9D86-E441-459A-AE59-13B74EEF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DAD12-027C-45AF-B400-84497BF8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963ED-9780-44C7-87FA-4859CD62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42831-CE63-414B-96FB-9A994930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C4FB4-BC81-4F99-A7CC-CDBD9B8C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6AB8-F090-40AF-BCEE-EFEAD817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49AC-FCDA-49F0-BDFB-2AC24BD7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0C9E8-3863-4F0B-A2E8-DB49D11F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7C2B-411D-41B6-816B-960D4006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87118-D002-444D-8C14-6D3F668F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D943D-E868-4200-9B78-22847A1E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94B5-37D1-41E4-AC1F-8CBE1DFE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FAC61-9F47-4256-B6F8-8522765F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7DD86-6877-4DA2-83F9-979C26CF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A4DC6-37F0-4405-8D70-A9197CBD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0A01D-9F94-4880-841C-3E2E7F81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C86-17A6-402C-8DBA-725F51ED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AA700-2342-448C-9174-B02CA9BE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83ED6-002F-4B08-ACB2-032D0165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DD754-A633-4540-9E06-D85BB111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E7E74-C289-4420-8760-BA0B8667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5FDA2-93D3-4C08-9295-A6DF50B8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7A2FD-72AF-4726-88AE-F059B219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71EC1-F56A-4D73-B0C7-981F8E53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0C8FE-50DC-4DB1-A387-29B041E1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A42FB-DF15-4045-AFC2-7C3E380B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3560A-7F4D-4185-8C21-5050F8E9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9C1-157F-4BF7-A995-BB664E68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61770-0FBC-44B1-871F-EA613177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5176D-5B15-4C13-AEBA-29706E64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BC392-81BD-434B-94EC-1CA1D23A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EA3FA-1ADA-4076-B257-FDBADC3B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11E26-0D6F-4608-8475-F2BE02AD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A4568-1A45-452A-95DB-3C9585D0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92B0C-3E42-4BB4-A4F4-095CA468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19C58-106D-4873-AC92-9FFD1669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742B5-BE31-4EA3-8C7C-781AE26E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E9857-6741-4CE3-BD6B-86818B19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B0F-A137-478F-A274-82CAD2BF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6F4B2-E7BD-4FE0-BEDF-467B6244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962-6410-40E1-9FA3-7C8CD403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37F-2E70-4B3A-B12D-435BE110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261-8C15-455E-B9B0-A6ED5779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0B5F-65F3-4EF4-9AE9-CBD6F0AF399A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957D-25BB-4BA9-8CBE-1AD2CDFBA50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C7B4-1961-4AB4-BC2E-AEE0A607DA0A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448F-1216-4C2C-A83C-956A7D50F02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280F-47A8-4ED3-B745-98FEB44DFF27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A015-E620-43D9-8C80-D85CF56A46D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55AE-8493-407F-9A21-E32AFBA29774}" type="datetime"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0C98-7388-40A0-B7DE-5A282D28AD13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BA27-8127-4AD4-BFE3-5D5520CB3901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95A0-480E-4220-B43F-FABB76C1C98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-1427040" y="706320"/>
            <a:ext cx="8235720" cy="2908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-1357200" y="5000400"/>
            <a:ext cx="10501200" cy="1857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Урок обществознания в 6 классе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Подготовила учитель обществознани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МОУ СОШ № 4 с.Малые Ягур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Фоменко Анжелика Анатольев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13"/>
          <p:cNvPicPr/>
          <p:nvPr/>
        </p:nvPicPr>
        <p:blipFill>
          <a:blip r:embed="rId2"/>
          <a:stretch/>
        </p:blipFill>
        <p:spPr>
          <a:xfrm>
            <a:off x="5715000" y="192888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2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7" descr="image_tmp.jpg"/>
          <p:cNvPicPr/>
          <p:nvPr/>
        </p:nvPicPr>
        <p:blipFill>
          <a:blip r:embed="rId1"/>
          <a:srcRect l="0" t="0" r="129" b="0"/>
          <a:stretch/>
        </p:blipFill>
        <p:spPr>
          <a:xfrm>
            <a:off x="0" y="3898800"/>
            <a:ext cx="2101680" cy="2959200"/>
          </a:xfrm>
          <a:prstGeom prst="rect">
            <a:avLst/>
          </a:prstGeom>
          <a:ln w="0">
            <a:noFill/>
          </a:ln>
        </p:spPr>
      </p:pic>
      <p:pic>
        <p:nvPicPr>
          <p:cNvPr id="268" name="Заголовок 3" descr=""/>
          <p:cNvPicPr/>
          <p:nvPr/>
        </p:nvPicPr>
        <p:blipFill>
          <a:blip r:embed="rId2"/>
          <a:stretch/>
        </p:blipFill>
        <p:spPr>
          <a:xfrm>
            <a:off x="360360" y="-109440"/>
            <a:ext cx="8143920" cy="18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428760" y="2071800"/>
          <a:ext cx="7238880" cy="166212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7149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остоин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ро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9471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6357960" y="3998880"/>
            <a:ext cx="1944720" cy="26463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6" descr="1214322368_00.jpg"/>
          <p:cNvPicPr/>
          <p:nvPr/>
        </p:nvPicPr>
        <p:blipFill>
          <a:blip r:embed="rId4"/>
          <a:stretch/>
        </p:blipFill>
        <p:spPr>
          <a:xfrm>
            <a:off x="3143160" y="4460760"/>
            <a:ext cx="2062080" cy="2397240"/>
          </a:xfrm>
          <a:prstGeom prst="rect">
            <a:avLst/>
          </a:prstGeom>
          <a:ln w="0">
            <a:noFill/>
          </a:ln>
        </p:spPr>
      </p:pic>
      <p:pic>
        <p:nvPicPr>
          <p:cNvPr id="272" name="Заголовок 3" descr=""/>
          <p:cNvPicPr/>
          <p:nvPr/>
        </p:nvPicPr>
        <p:blipFill>
          <a:blip r:embed="rId5"/>
          <a:stretch/>
        </p:blipFill>
        <p:spPr>
          <a:xfrm>
            <a:off x="-291960" y="0"/>
            <a:ext cx="9009000" cy="202392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Documents and Settings\Admin\Мои документы\Мои рисунки\картинки Леры\8.jpeg"/>
          <p:cNvPicPr/>
          <p:nvPr/>
        </p:nvPicPr>
        <p:blipFill>
          <a:blip r:embed="rId2"/>
          <a:stretch/>
        </p:blipFill>
        <p:spPr>
          <a:xfrm>
            <a:off x="2571840" y="2857680"/>
            <a:ext cx="3948120" cy="33796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C:\Documents and Settings\Admin\Мои документы\Мои рисунки\Картинки ЛЕТО\солнце.gif"/>
          <p:cNvPicPr/>
          <p:nvPr/>
        </p:nvPicPr>
        <p:blipFill>
          <a:blip r:embed="rId1"/>
          <a:stretch/>
        </p:blipFill>
        <p:spPr>
          <a:xfrm>
            <a:off x="0" y="0"/>
            <a:ext cx="4762440" cy="3895560"/>
          </a:xfrm>
          <a:prstGeom prst="rect">
            <a:avLst/>
          </a:prstGeom>
          <a:ln w="0">
            <a:noFill/>
          </a:ln>
        </p:spPr>
      </p:pic>
      <p:pic>
        <p:nvPicPr>
          <p:cNvPr id="278" name="Заголовок 3" descr=""/>
          <p:cNvPicPr/>
          <p:nvPr/>
        </p:nvPicPr>
        <p:blipFill>
          <a:blip r:embed="rId2"/>
          <a:stretch/>
        </p:blipFill>
        <p:spPr>
          <a:xfrm>
            <a:off x="4468680" y="324000"/>
            <a:ext cx="3230640" cy="1431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3000240"/>
            <a:ext cx="72388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ильная личность должна быть нравственной и иметь положительные  черт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ужно уважать себя, но к своим поступкам относиться критически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дивидуальность это хорошо! Человек должен иметь собственные черты  и отличаться от других, это делает его интересным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2000160"/>
            <a:ext cx="7238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учить § 2. Человек — личность, ответить на вопросы к § 2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исьменно в тетрад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ветить на вопросы 1-5, задание на карточк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2" descr=""/>
          <p:cNvPicPr/>
          <p:nvPr/>
        </p:nvPicPr>
        <p:blipFill>
          <a:blip r:embed="rId1"/>
          <a:stretch/>
        </p:blipFill>
        <p:spPr>
          <a:xfrm>
            <a:off x="285840" y="3645000"/>
            <a:ext cx="8229600" cy="143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000080"/>
            <a:ext cx="80438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пособствовать формированию у школьников представлений о человеке как социальном существе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ссказать, что человек принадлежит обществу, живет и развивается в н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Содержимое 1"/>
          <p:cNvSpPr/>
          <p:nvPr/>
        </p:nvSpPr>
        <p:spPr>
          <a:xfrm>
            <a:off x="214200" y="5000760"/>
            <a:ext cx="83584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расширить знания учащихся о влиянии социальной среды на челове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Заголовок 2" descr=""/>
          <p:cNvPicPr/>
          <p:nvPr/>
        </p:nvPicPr>
        <p:blipFill>
          <a:blip r:embed="rId2"/>
          <a:stretch/>
        </p:blipFill>
        <p:spPr>
          <a:xfrm>
            <a:off x="639720" y="-493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ловеческий ребенок в момент рождения не человек, а только кандидат в челове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А.Пьерон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3" descr="C:\Documents and Settings\Спиридонова Наталья\Мои документы\Мои рисунки\Ангел.gif"/>
          <p:cNvPicPr/>
          <p:nvPr/>
        </p:nvPicPr>
        <p:blipFill>
          <a:blip r:embed="rId2"/>
          <a:stretch/>
        </p:blipFill>
        <p:spPr>
          <a:xfrm>
            <a:off x="3000240" y="3500280"/>
            <a:ext cx="2872080" cy="298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2985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42920" y="1213920"/>
            <a:ext cx="82152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Что нужно ребенку для того, чтобы он развивался как человек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Чем человек отличается от животных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Закрепим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73624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Человек обладает мышлением и членораздельной речь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Преобразует окружающую действительность, создает необходимые ему материальные и духовные блага и цен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Человек воспроизводит не только свою биологическую, но и социальную сущность и поэтому должен удовлетворять не только свои материальные, но и духовные потреб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Способен изготавливать орудия труда и использовать их как средство производства материальных бла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298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142920" y="1928880"/>
            <a:ext cx="82152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Что такое наследственность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Можно ли влиять на наследственность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очему бесцельно прожитая жизнь не приносит человеку счастья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Documents and Settings\Admin\Мои документы\Мои рисунки\Картинки ЛЕТО\54d3bf71906a.gif"/>
          <p:cNvPicPr/>
          <p:nvPr/>
        </p:nvPicPr>
        <p:blipFill>
          <a:blip r:embed="rId2"/>
          <a:stretch/>
        </p:blipFill>
        <p:spPr>
          <a:xfrm>
            <a:off x="5692680" y="3357720"/>
            <a:ext cx="2743200" cy="321444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3" descr=""/>
          <p:cNvPicPr/>
          <p:nvPr/>
        </p:nvPicPr>
        <p:blipFill>
          <a:blip r:embed="rId1"/>
          <a:stretch/>
        </p:blipFill>
        <p:spPr>
          <a:xfrm>
            <a:off x="-291960" y="139680"/>
            <a:ext cx="9435960" cy="1268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214200" y="2071800"/>
            <a:ext cx="81439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Лич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ая систем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 значимых черт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ющих человека, как члена того или иного обществ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субъек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знательной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214200" y="178596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ознакомьтесь с текстом «Что такое лич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C:\Documents and Settings\Admin\Мои документы\Мои рисунки\Картинки ЛЕТО\022.gif"/>
          <p:cNvPicPr/>
          <p:nvPr/>
        </p:nvPicPr>
        <p:blipFill>
          <a:blip r:embed="rId2"/>
          <a:stretch/>
        </p:blipFill>
        <p:spPr>
          <a:xfrm>
            <a:off x="5357880" y="3214800"/>
            <a:ext cx="2452680" cy="3429000"/>
          </a:xfrm>
          <a:prstGeom prst="rect">
            <a:avLst/>
          </a:prstGeom>
          <a:ln w="0">
            <a:noFill/>
          </a:ln>
        </p:spPr>
      </p:pic>
      <p:pic>
        <p:nvPicPr>
          <p:cNvPr id="251" name="Заголовок 3" descr=""/>
          <p:cNvPicPr/>
          <p:nvPr/>
        </p:nvPicPr>
        <p:blipFill>
          <a:blip r:embed="rId3"/>
          <a:stretch/>
        </p:blipFill>
        <p:spPr>
          <a:xfrm>
            <a:off x="-371520" y="0"/>
            <a:ext cx="9515520" cy="16336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3" descr=""/>
          <p:cNvPicPr/>
          <p:nvPr/>
        </p:nvPicPr>
        <p:blipFill>
          <a:blip r:embed="rId1"/>
          <a:stretch/>
        </p:blipFill>
        <p:spPr>
          <a:xfrm>
            <a:off x="128520" y="-208080"/>
            <a:ext cx="7570800" cy="2049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"/>
          <p:cNvSpPr/>
          <p:nvPr/>
        </p:nvSpPr>
        <p:spPr>
          <a:xfrm>
            <a:off x="500040" y="2571840"/>
            <a:ext cx="392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оставьте словесный портрет девушек, изображенных на полотнах В.А.Серова и З.Е.Серебряк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Работа с учебн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.18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357120" y="1428840"/>
            <a:ext cx="42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34b73"/>
                </a:solidFill>
                <a:latin typeface="Trebuchet MS"/>
              </a:rPr>
              <a:t>РАЗВИВАЕМ ПСИХОЛОГИЧЕСКУЮ ЗОРКОСТЬ И СЛОВАРНЫЙ ЗАП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6" descr="C:\Documents and Settings\Admin\Мои документы\Мои рисунки\Лица\13432.jpg"/>
          <p:cNvPicPr/>
          <p:nvPr/>
        </p:nvPicPr>
        <p:blipFill>
          <a:blip r:embed="rId2"/>
          <a:stretch/>
        </p:blipFill>
        <p:spPr>
          <a:xfrm>
            <a:off x="4572000" y="1285920"/>
            <a:ext cx="4416480" cy="407196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3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8143920" cy="1438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4810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повторимо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образ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личительны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нутренние и внешние)от других люде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929200" y="3214800"/>
            <a:ext cx="2327400" cy="164304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Tegos_glam_13.jpg"/>
          <p:cNvPicPr/>
          <p:nvPr/>
        </p:nvPicPr>
        <p:blipFill>
          <a:blip r:embed="rId3"/>
          <a:stretch/>
        </p:blipFill>
        <p:spPr>
          <a:xfrm>
            <a:off x="857160" y="3286080"/>
            <a:ext cx="2605320" cy="15001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6" descr="Ангел30(1).jpg"/>
          <p:cNvPicPr/>
          <p:nvPr/>
        </p:nvPicPr>
        <p:blipFill>
          <a:blip r:embed="rId4"/>
          <a:stretch/>
        </p:blipFill>
        <p:spPr>
          <a:xfrm>
            <a:off x="3357720" y="3857760"/>
            <a:ext cx="2523960" cy="23302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ерои фильма «Приключения Электроника» мальчик Сережа Сыроежкин и робот Электроник внешне были по­хожи друг на друг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нужно знать про героев, чтобы определить, чем различаются их личност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20:07:22Z</dcterms:created>
  <dc:creator>Спиридонова Наталья Николаевна</dc:creator>
  <dc:description/>
  <dc:language>en-US</dc:language>
  <cp:lastModifiedBy>LEGION</cp:lastModifiedBy>
  <dcterms:modified xsi:type="dcterms:W3CDTF">2014-11-12T11:19:29Z</dcterms:modified>
  <cp:revision>23</cp:revision>
  <dc:subject/>
  <dc:title>Человек – личн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18233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