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png" ContentType="image/png"/>
  <Override PartName="/ppt/media/image4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0.gif" ContentType="image/gif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5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6.png" ContentType="image/png"/>
  <Override PartName="/ppt/media/image18.png" ContentType="image/png"/>
  <Override PartName="/ppt/media/image20.jpeg" ContentType="image/jpeg"/>
  <Override PartName="/ppt/media/image6.gif" ContentType="image/gif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6E9D-8987-4447-AF27-E74520FAED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Человек – личность</a:t>
            </a:r>
            <a:br>
              <a:rPr sz="4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СОШ № 4 с.Малые Я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менко Анжелик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0B1F-1F2E-41FC-A967-84688A81E4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D9F0-7EBF-40E1-A74E-BD3210ED81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с.24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42A0-DD79-4103-BF1C-4F28AF4A8A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личность должна быть нравственной и иметь положительные 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уважать себя, но к своим поступкам относиться критичес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DF4E-58D0-4B86-A702-ED63761296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2. Человек — личность, ответить на вопросы к §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1-5, задание на кар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F9B-BE8E-44B6-8A52-6BE2AEC55E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ать, что человек принадлежит обществу, живет и развивается в не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AA91-669A-4BC9-A0F0-B4A2AE1298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прос домашенего материала:</a:t>
            </a: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чем человек ро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0E19-AECE-4EB9-84EF-8BFDE2BC9C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ужно ребенку для того, чтобы он развивался как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человек отличается от живот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EA5F-FC3F-4268-8D3B-4343E158BE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наследствен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но ли влиять на наследственность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бесцельно прожитая жизнь не приносит человеку счас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BB48-D6E4-4DA5-A060-57C6ACD193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B78A-A3BB-473E-AEF1-65F57C71F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«Картинная галере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FEF6-ED92-4509-A68A-3C32638AE6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ндивидуальность – плох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32C6-7386-47C2-B2FB-4939939015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ужно знать про героев, чтобы определить, чем различаются их лич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BFF7-024F-41D2-9E93-8357476802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7CA-4327-4AC7-B5C3-A6DEC22E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6B2-8003-4E4D-A65E-000E0650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D0E-2A2F-48FC-B71C-F00CB209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988-FA94-408F-ABCE-C2342D96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6A94-B032-4C14-83FB-A1324270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6777-AEF3-44E0-8DBD-C1F7BC6E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7F07-7BDD-4D70-8C31-203114DD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DD5B-8B97-4197-9D5F-3250E1F0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AFDF-07C6-471B-A98D-371F7460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D477-6438-486A-8CDE-9C6291B3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578B-4648-4AA6-A241-A5265657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F9A-1416-48A8-B789-F84DBA12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B347-77B3-4C3F-946D-A6B8F2E6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DD3-D65E-42E6-B118-8241B27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33B0-773E-4412-9955-CF6EB9F0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F9D6-02E6-4CBC-A37F-47FC9163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8A6E-0D11-404E-A5E5-CC20757A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D831-5154-485A-B41A-D8F510D9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F591-298C-46A9-9D7F-B8317627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D74D-4794-4229-9367-9071F03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2236-6AC8-4E58-9C23-08948AFC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A1D6-CD2C-4E10-9A98-9C1BEC9C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3F8-3957-42D1-808D-A27B5BE7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3CDA-18D0-4015-9309-FC4D11A6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6C09-801D-4D4E-A001-C410C54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0BB4-66BB-4D12-AF15-D1D87076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46C5-58AE-4301-8A88-8E253360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E594-C5C2-4B89-B3E4-337C2903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8588-1665-4DF0-A3B4-ECC5DCB3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5F89-E858-46E8-9733-94F3191C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3E6F-90D6-42B3-B2AD-6ABFE041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0052-7B51-4FFF-88B8-BD141932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C02ED-4220-41AD-90BC-3C8DE951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0C0-9E9C-4948-8957-D6DA4CC0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B882-3167-496C-8C3C-A370F22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FDB87-9FBD-489F-8DC5-4EBA37F3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6088C-EF33-417A-91F2-3417DDBE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673F-5D4A-428C-A6D9-1D58DB36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C1316-8142-47D1-86F9-F0632D1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D1DF5-F9AB-4413-8C62-027A9FFF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7EC2B-2EF8-4D78-941E-D2F13F9E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1BE2-C554-467D-B3DF-5D59CCBA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A96F-388E-4A57-B8B7-7B740CE5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E8F1A-95F2-416A-A19F-7930E1A3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A3A-8FEC-4337-B7F5-1D779796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CC6BD-9424-4275-962D-790C7A2F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7DDD-C25D-40FB-9854-9E3BDE0D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BFFBC-843C-4137-B23F-895728C0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3E702-CBCC-4F24-9F00-D6E4A2F5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6B9E-C326-438D-B3C5-63F91422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A0897-73F5-48C4-9876-D2DA2A4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4CA6C-4E45-40A3-A3A1-3B0C9B75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E6324-E336-47E3-A846-F3CEBE5B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EDA9B-E637-4202-AFBE-3BC5DF20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978A-DCD5-4CE0-B31E-82CA8D74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6CC-2A2D-4812-A15D-1EE6D2D7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F3059-3B63-4D13-9515-A65CA074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78E-0070-4CB2-981D-EFB827F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3F4-1C38-4BBB-96C6-A229911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5F0-7AEF-4420-92D0-3D72DC99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EF20-4F01-4C86-8126-DE55904C5BFF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6612-0B69-4F89-9240-9CD33A70430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6C29-3783-4F97-80A2-657CF611E43F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4D13-E279-4219-AB21-BA747E59E9B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1053-2E6A-4DED-BAB6-AD8329066939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949E-D3FD-436A-AF85-510A235F1CF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DFAF-C5D7-4340-83B9-E5FEE505CAD0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875-3875-44A7-AD92-D6DD18D9499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38B6-ED87-4E53-B52D-C0517A7002F8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5D38-B968-49E1-9026-F5A06805735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1427040" y="706320"/>
            <a:ext cx="823572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1357200" y="5000400"/>
            <a:ext cx="10501200" cy="18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Урок обществознания в 6 класс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Подготовила учитель обществозн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4 с.Малые Ягур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Фоменко Анжелика Анатолье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13"/>
          <p:cNvPicPr/>
          <p:nvPr/>
        </p:nvPicPr>
        <p:blipFill>
          <a:blip r:embed="rId2"/>
          <a:stretch/>
        </p:blipFill>
        <p:spPr>
          <a:xfrm>
            <a:off x="5715000" y="192888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7" descr="image_tmp.jpg"/>
          <p:cNvPicPr/>
          <p:nvPr/>
        </p:nvPicPr>
        <p:blipFill>
          <a:blip r:embed="rId1"/>
          <a:srcRect l="0" t="0" r="129" b="0"/>
          <a:stretch/>
        </p:blipFill>
        <p:spPr>
          <a:xfrm>
            <a:off x="0" y="3898800"/>
            <a:ext cx="2101680" cy="2959200"/>
          </a:xfrm>
          <a:prstGeom prst="rect">
            <a:avLst/>
          </a:prstGeom>
          <a:ln w="0">
            <a:noFill/>
          </a:ln>
        </p:spPr>
      </p:pic>
      <p:pic>
        <p:nvPicPr>
          <p:cNvPr id="268" name="Заголовок 3" descr=""/>
          <p:cNvPicPr/>
          <p:nvPr/>
        </p:nvPicPr>
        <p:blipFill>
          <a:blip r:embed="rId2"/>
          <a:stretch/>
        </p:blipFill>
        <p:spPr>
          <a:xfrm>
            <a:off x="360360" y="-109440"/>
            <a:ext cx="814392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28760" y="2071800"/>
          <a:ext cx="7238880" cy="1662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149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471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357960" y="3998880"/>
            <a:ext cx="1944720" cy="26463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214322368_00.jpg"/>
          <p:cNvPicPr/>
          <p:nvPr/>
        </p:nvPicPr>
        <p:blipFill>
          <a:blip r:embed="rId4"/>
          <a:stretch/>
        </p:blipFill>
        <p:spPr>
          <a:xfrm>
            <a:off x="3143160" y="4460760"/>
            <a:ext cx="2062080" cy="2397240"/>
          </a:xfrm>
          <a:prstGeom prst="rect">
            <a:avLst/>
          </a:prstGeom>
          <a:ln w="0">
            <a:noFill/>
          </a:ln>
        </p:spPr>
      </p:pic>
      <p:pic>
        <p:nvPicPr>
          <p:cNvPr id="272" name="Заголовок 3" descr=""/>
          <p:cNvPicPr/>
          <p:nvPr/>
        </p:nvPicPr>
        <p:blipFill>
          <a:blip r:embed="rId5"/>
          <a:stretch/>
        </p:blipFill>
        <p:spPr>
          <a:xfrm>
            <a:off x="-291960" y="0"/>
            <a:ext cx="9009000" cy="202392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Admin\Мои документы\Мои рисунки\картинки Леры\8.jpeg"/>
          <p:cNvPicPr/>
          <p:nvPr/>
        </p:nvPicPr>
        <p:blipFill>
          <a:blip r:embed="rId2"/>
          <a:stretch/>
        </p:blipFill>
        <p:spPr>
          <a:xfrm>
            <a:off x="2571840" y="2857680"/>
            <a:ext cx="3948120" cy="33796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C:\Documents and Settings\Admin\Мои документы\Мои рисунки\Картинки ЛЕТО\солнце.gif"/>
          <p:cNvPicPr/>
          <p:nvPr/>
        </p:nvPicPr>
        <p:blipFill>
          <a:blip r:embed="rId1"/>
          <a:stretch/>
        </p:blipFill>
        <p:spPr>
          <a:xfrm>
            <a:off x="0" y="0"/>
            <a:ext cx="4762440" cy="3895560"/>
          </a:xfrm>
          <a:prstGeom prst="rect">
            <a:avLst/>
          </a:prstGeom>
          <a:ln w="0">
            <a:noFill/>
          </a:ln>
        </p:spPr>
      </p:pic>
      <p:pic>
        <p:nvPicPr>
          <p:cNvPr id="278" name="Заголовок 3" descr=""/>
          <p:cNvPicPr/>
          <p:nvPr/>
        </p:nvPicPr>
        <p:blipFill>
          <a:blip r:embed="rId2"/>
          <a:stretch/>
        </p:blipFill>
        <p:spPr>
          <a:xfrm>
            <a:off x="4468680" y="324000"/>
            <a:ext cx="3230640" cy="1431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3000240"/>
            <a:ext cx="7238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льная личность должна быть нравственной и иметь положительные  чер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ужно уважать себя, но к своим поступкам относиться критическ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учить § 2. Человек — личность, ответить на вопросы к § 2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сьменно в тетрад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ить на вопросы 1-5, задание на карточк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2" descr=""/>
          <p:cNvPicPr/>
          <p:nvPr/>
        </p:nvPicPr>
        <p:blipFill>
          <a:blip r:embed="rId1"/>
          <a:stretch/>
        </p:blipFill>
        <p:spPr>
          <a:xfrm>
            <a:off x="285840" y="3645000"/>
            <a:ext cx="822960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000080"/>
            <a:ext cx="8043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ссказать, что человек принадлежит обществу, живет и развивается в н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Содержимое 1"/>
          <p:cNvSpPr/>
          <p:nvPr/>
        </p:nvSpPr>
        <p:spPr>
          <a:xfrm>
            <a:off x="214200" y="5000760"/>
            <a:ext cx="8358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расширить знания учащихся о влиянии социальной среды на челове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Заголовок 2" descr=""/>
          <p:cNvPicPr/>
          <p:nvPr/>
        </p:nvPicPr>
        <p:blipFill>
          <a:blip r:embed="rId2"/>
          <a:stretch/>
        </p:blipFill>
        <p:spPr>
          <a:xfrm>
            <a:off x="639720" y="-493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3" descr="C:\Documents and Settings\Спиридонова Наталья\Мои документы\Мои рисунки\Ангел.gif"/>
          <p:cNvPicPr/>
          <p:nvPr/>
        </p:nvPicPr>
        <p:blipFill>
          <a:blip r:embed="rId2"/>
          <a:stretch/>
        </p:blipFill>
        <p:spPr>
          <a:xfrm>
            <a:off x="3000240" y="3500280"/>
            <a:ext cx="2872080" cy="298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42920" y="1213920"/>
            <a:ext cx="82152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то нужно ребенку для того, чтобы он развивался как челове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ем человек отличается от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крепи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73624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42920" y="1928880"/>
            <a:ext cx="82152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то такое наследственност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ожно ли влиять на наследственнос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чему бесцельно прожитая жизнь не приносит человеку счасть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Documents and Settings\Admin\Мои документы\Мои рисунки\Картинки ЛЕТО\54d3bf71906a.gif"/>
          <p:cNvPicPr/>
          <p:nvPr/>
        </p:nvPicPr>
        <p:blipFill>
          <a:blip r:embed="rId2"/>
          <a:stretch/>
        </p:blipFill>
        <p:spPr>
          <a:xfrm>
            <a:off x="5692680" y="3357720"/>
            <a:ext cx="2743200" cy="321444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3" descr=""/>
          <p:cNvPicPr/>
          <p:nvPr/>
        </p:nvPicPr>
        <p:blipFill>
          <a:blip r:embed="rId1"/>
          <a:stretch/>
        </p:blipFill>
        <p:spPr>
          <a:xfrm>
            <a:off x="-291960" y="139680"/>
            <a:ext cx="9435960" cy="1268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14200" y="2071800"/>
            <a:ext cx="81439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4200" y="17859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ознакомьтесь с текстом «Что такое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C:\Documents and Settings\Admin\Мои документы\Мои рисунки\Картинки ЛЕТО\022.gif"/>
          <p:cNvPicPr/>
          <p:nvPr/>
        </p:nvPicPr>
        <p:blipFill>
          <a:blip r:embed="rId2"/>
          <a:stretch/>
        </p:blipFill>
        <p:spPr>
          <a:xfrm>
            <a:off x="5357880" y="3214800"/>
            <a:ext cx="245268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Заголовок 3" descr=""/>
          <p:cNvPicPr/>
          <p:nvPr/>
        </p:nvPicPr>
        <p:blipFill>
          <a:blip r:embed="rId3"/>
          <a:stretch/>
        </p:blipFill>
        <p:spPr>
          <a:xfrm>
            <a:off x="-371520" y="0"/>
            <a:ext cx="9515520" cy="1633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3" descr=""/>
          <p:cNvPicPr/>
          <p:nvPr/>
        </p:nvPicPr>
        <p:blipFill>
          <a:blip r:embed="rId1"/>
          <a:stretch/>
        </p:blipFill>
        <p:spPr>
          <a:xfrm>
            <a:off x="128520" y="-208080"/>
            <a:ext cx="7570800" cy="2049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500040" y="2571840"/>
            <a:ext cx="392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оставьте словесный портрет девушек, изображенных на полотнах В.А.Серова и З.Е.Серебря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бота с учебн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.18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357120" y="142884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34b73"/>
                </a:solidFill>
                <a:latin typeface="Trebuchet MS"/>
              </a:rPr>
              <a:t>РАЗВИВАЕМ ПСИХОЛОГИЧЕСКУЮ ЗОРКОСТЬ И СЛОВАРНЫЙ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C:\Documents and Settings\Admin\Мои документы\Мои рисунки\Лица\13432.jpg"/>
          <p:cNvPicPr/>
          <p:nvPr/>
        </p:nvPicPr>
        <p:blipFill>
          <a:blip r:embed="rId2"/>
          <a:stretch/>
        </p:blipFill>
        <p:spPr>
          <a:xfrm>
            <a:off x="4572000" y="1285920"/>
            <a:ext cx="4416480" cy="40719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3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4810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29200" y="3214800"/>
            <a:ext cx="2327400" cy="1643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Tegos_glam_13.jpg"/>
          <p:cNvPicPr/>
          <p:nvPr/>
        </p:nvPicPr>
        <p:blipFill>
          <a:blip r:embed="rId3"/>
          <a:stretch/>
        </p:blipFill>
        <p:spPr>
          <a:xfrm>
            <a:off x="857160" y="3286080"/>
            <a:ext cx="260532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Ангел30(1).jpg"/>
          <p:cNvPicPr/>
          <p:nvPr/>
        </p:nvPicPr>
        <p:blipFill>
          <a:blip r:embed="rId4"/>
          <a:stretch/>
        </p:blipFill>
        <p:spPr>
          <a:xfrm>
            <a:off x="3357720" y="3857760"/>
            <a:ext cx="2523960" cy="23302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ужно знать про героев, чтобы определить, чем различаются их личност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0:07:22Z</dcterms:created>
  <dc:creator>Спиридонова Наталья Николаевна</dc:creator>
  <dc:description/>
  <dc:language>en-US</dc:language>
  <cp:lastModifiedBy>LEGION</cp:lastModifiedBy>
  <dcterms:modified xsi:type="dcterms:W3CDTF">2014-11-12T11:19:29Z</dcterms:modified>
  <cp:revision>23</cp:revision>
  <dc:subject/>
  <dc:title>Человек – лич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1823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