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2.png" ContentType="image/png"/>
  <Override PartName="/ppt/media/image4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7.png" ContentType="image/png"/>
  <Override PartName="/ppt/media/image32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10.gif" ContentType="image/gif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5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gif" ContentType="image/gif"/>
  <Override PartName="/ppt/media/image16.png" ContentType="image/png"/>
  <Override PartName="/ppt/media/image18.png" ContentType="image/png"/>
  <Override PartName="/ppt/media/image20.jpeg" ContentType="image/jpeg"/>
  <Override PartName="/ppt/media/image6.gif" ContentType="image/gif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ED51-15C0-47D8-95CF-F432622131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Человек – личность</a:t>
            </a:r>
            <a:br>
              <a:rPr sz="4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бществознания в 6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У СОШ № 4 с.Малые Яг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менко Анжелика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352D-5764-4DE7-AF0C-ABB67DD44E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 материала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6F8A-2DE8-4D30-8714-28C77F5E6A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с.24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11E5-24D2-4ACD-AF06-9AB6AC97FF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ая личность должна быть нравственной и иметь положительные  ч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уважать себя, но к своим поступкам относиться критическ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это хорошо! Человек должен иметь собственные черты  и отличаться от других, это делает его интересны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0C97-CB74-4614-9429-B466018284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§ 2. Человек — личность, ответить на вопросы к § 2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енно в тет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ить на вопросы 1-5, задание на карточ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63E1-8063-46B6-BC06-B8C4B49BEA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ть формированию у школьников представлений о человеке как социальном суще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ать, что человек принадлежит обществу, живет и развивается в не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BC86-0EB5-4BC4-A272-55819C4873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прос домашенего материала:</a:t>
            </a:r>
            <a:br>
              <a:rPr sz="1200"/>
            </a:b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Зачем человек рожд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Человеческий ребенок в момент рождения не человек, а только кандидат 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А.Пьеро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E5B0-FF43-4A40-8A32-E93DFED688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нужно ребенку для того, чтобы он развивался как челов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м человек отличается от живот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еп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Человек обладает мышлением и членораздельной реч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Преобразует окружающую действительность, создает необходимые ему материальные и духовные блага и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Человек воспроизводит не только свою биологическую, но и социальную сущность и поэтому должен удовлетворять не только свои материальные, но и духов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Способен изготавливать орудия труда и использовать их как средство производства материальн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EE03-458C-441D-B1D1-39696959B4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такое наследствен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ожно ли влиять на наследственность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бесцельно прожитая жизнь не приносит человеку счаст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62B7-3172-405E-9052-246128E61D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ение нового матери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Лич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ая систем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о значимых черт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ющих человека, как члена того или ин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субъек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знатель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0E77-472E-42C5-8ED3-94C29C8B3A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«Картинная галере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E0D6-98E0-4F78-9105-2D3F0C08CF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Индивидуальность – плох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повторим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еобраз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личительны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нутренние и внешние)от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E929-263D-4DEC-95B7-75A827386A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 фильма «Приключения Электроника» мальчик Сережа Сыроежкин и робот Электроник внешне были по­хожи друг на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ужно знать про героев, чтобы определить, чем различаются их лич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539C-82FE-4154-9923-27485C9D9F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EDF-AEA9-40E8-B4DB-39E0A3FA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8F2A-5196-4F0F-9558-66A7433A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F2E8-B1F4-4EC5-9895-F5362D24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AE9-A773-4914-BEE7-53B42564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8A68-5DE5-409A-B1EC-11AF50E4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90D1-E04D-4C53-9CEB-5B973FDE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9245-0ABA-4347-BDBB-2A40665C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D62B-82EC-49DA-BE85-DB5F60A1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B8E2-134D-4827-BC5B-C3D1FCC0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9203-B305-467C-889A-8D15BFBE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E943-5187-4D62-911F-BD22DC65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8A15-3392-4114-B1E5-FE4BC066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A216-B150-45BB-8F29-F0CC85D8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6B14-A76C-4063-9A2A-AF91B42A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AA92-BAA1-48BB-83D8-947C2D6D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4C5D-8055-4722-9EAB-CAAE9F1E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30DF-117F-4C3B-A066-ECB2A000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5A8B2-F996-4A71-9B02-1EA17DD2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0E1C2-F787-4B2A-8117-06CEFFFA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4991E-83EF-409D-8AD6-F61213BC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A8A7E-AC04-480C-91AF-7A8FA8C7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90980-0A01-4EA9-AF01-659A0856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F4B3-2AAC-4522-8BAA-BFB2A9A1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1DEF0-1BC2-43B9-B2FF-685E6C05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614A8-F95B-4B16-9558-00C8E102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ED528-D314-49BF-9F6F-C044BFE5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4A1DA-B54C-40A2-BB77-83BC988B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D62EE-07A2-4C10-8D51-B01B2E66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A1574-7057-4BA0-988D-834BF1B9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9C712-C6CA-4224-9884-AF048E52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CE122-B068-4EF8-AF70-D1003A1E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184AA-09D8-45BF-A97D-37DB74ED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85D8E-ED17-4D31-A70A-E9354AA7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1DC2-7B1B-45F6-9D09-D31DCF9D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29589-5623-417C-8C3C-7CB39AC7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FA24C-47D5-4889-B078-40F81043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13674-BD28-4903-AA1C-1286BBD7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CE755-A0BC-4776-80B7-A006C65C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4BD4E-4D9C-4EE9-A3D4-E95920E1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1F397-3ED8-407C-9137-487173A2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8994E-7BD1-457C-9B0E-3A44C465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07B57-48A6-4312-8154-9716D92F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A2425-D18E-4B15-94C3-5CDAA4FB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D0288-AD43-4752-B3B8-20D5CE60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A7A-7E8D-4396-9C59-27B9D68E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B27D4-3748-42A4-89A0-19D5EB42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144B2-773A-4A93-87B7-23EA9B6D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EC519-5871-415C-9653-34AF0879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79EA3-64AB-473F-865A-8BF4F4D3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0208A-1D1F-4349-846E-26088021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1ADBD-FC86-477C-9D19-81222C1A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1B54F-AB2A-416F-B109-4A5A41CA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C1709-0869-46A0-9CCB-A64F0DD4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6FA85-0ED2-4658-8F63-09A730A1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EBE73-0EDB-4667-BE21-B840DAC2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F863-1747-4CD6-8D62-FBB66A77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37A92-2747-420F-A15C-0A8574EF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7E0-F9A2-4CCC-AA4A-1126E9C3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F658-2ADE-4B67-B887-7DA2B4D1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23CE-F679-4778-855E-C971F02A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14CB-149E-431D-BD84-0A78C95FD4D0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6E60-564C-42E8-BDB3-576345F66FE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4A0B-A3FA-4B80-A68F-510ED0E06B30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4481-0649-4A59-9AE1-04460E18BD7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B684-9AED-4633-9EAC-D3FE005641B6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5794-6A96-4025-B4F9-33AE3A230CE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85FF-4F29-4328-9D8D-CEC660469ED8}" type="datetime"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3EF4-4F3E-4B11-B7F9-8EDD3B5DA6A8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CE56-7BD4-4711-B6E3-0E93B96B7C1C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186C-7811-4CDE-A5A0-06B9C0BB4E8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-1427040" y="706320"/>
            <a:ext cx="8235720" cy="29084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-1357200" y="5000400"/>
            <a:ext cx="10501200" cy="1857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      </a:t>
            </a: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Урок обществознания в 6 классе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Подготовила учитель обществознания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МОУ СОШ № 4 с.Малые Ягуры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Фоменко Анжелика Анатольевн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4" descr="13"/>
          <p:cNvPicPr/>
          <p:nvPr/>
        </p:nvPicPr>
        <p:blipFill>
          <a:blip r:embed="rId2"/>
          <a:stretch/>
        </p:blipFill>
        <p:spPr>
          <a:xfrm>
            <a:off x="5715000" y="1928880"/>
            <a:ext cx="2928960" cy="29289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2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Рисунок 7" descr="image_tmp.jpg"/>
          <p:cNvPicPr/>
          <p:nvPr/>
        </p:nvPicPr>
        <p:blipFill>
          <a:blip r:embed="rId1"/>
          <a:srcRect l="0" t="0" r="129" b="0"/>
          <a:stretch/>
        </p:blipFill>
        <p:spPr>
          <a:xfrm>
            <a:off x="0" y="3898800"/>
            <a:ext cx="2101680" cy="2959200"/>
          </a:xfrm>
          <a:prstGeom prst="rect">
            <a:avLst/>
          </a:prstGeom>
          <a:ln w="0">
            <a:noFill/>
          </a:ln>
        </p:spPr>
      </p:pic>
      <p:pic>
        <p:nvPicPr>
          <p:cNvPr id="268" name="Заголовок 3" descr=""/>
          <p:cNvPicPr/>
          <p:nvPr/>
        </p:nvPicPr>
        <p:blipFill>
          <a:blip r:embed="rId2"/>
          <a:stretch/>
        </p:blipFill>
        <p:spPr>
          <a:xfrm>
            <a:off x="360360" y="-109440"/>
            <a:ext cx="8143920" cy="18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428760" y="2071800"/>
          <a:ext cx="7238880" cy="166212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714960"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остоин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ро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947160"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270" name="Picture 2" descr=""/>
          <p:cNvPicPr/>
          <p:nvPr/>
        </p:nvPicPr>
        <p:blipFill>
          <a:blip r:embed="rId3"/>
          <a:stretch/>
        </p:blipFill>
        <p:spPr>
          <a:xfrm>
            <a:off x="6357960" y="3998880"/>
            <a:ext cx="1944720" cy="264636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6" descr="1214322368_00.jpg"/>
          <p:cNvPicPr/>
          <p:nvPr/>
        </p:nvPicPr>
        <p:blipFill>
          <a:blip r:embed="rId4"/>
          <a:stretch/>
        </p:blipFill>
        <p:spPr>
          <a:xfrm>
            <a:off x="3143160" y="4460760"/>
            <a:ext cx="2062080" cy="2397240"/>
          </a:xfrm>
          <a:prstGeom prst="rect">
            <a:avLst/>
          </a:prstGeom>
          <a:ln w="0">
            <a:noFill/>
          </a:ln>
        </p:spPr>
      </p:pic>
      <p:pic>
        <p:nvPicPr>
          <p:cNvPr id="272" name="Заголовок 3" descr=""/>
          <p:cNvPicPr/>
          <p:nvPr/>
        </p:nvPicPr>
        <p:blipFill>
          <a:blip r:embed="rId5"/>
          <a:stretch/>
        </p:blipFill>
        <p:spPr>
          <a:xfrm>
            <a:off x="-291960" y="0"/>
            <a:ext cx="9009000" cy="202392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C:\Documents and Settings\Admin\Мои документы\Мои рисунки\картинки Леры\8.jpeg"/>
          <p:cNvPicPr/>
          <p:nvPr/>
        </p:nvPicPr>
        <p:blipFill>
          <a:blip r:embed="rId2"/>
          <a:stretch/>
        </p:blipFill>
        <p:spPr>
          <a:xfrm>
            <a:off x="2571840" y="2857680"/>
            <a:ext cx="3948120" cy="337968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C:\Documents and Settings\Admin\Мои документы\Мои рисунки\Картинки ЛЕТО\солнце.gif"/>
          <p:cNvPicPr/>
          <p:nvPr/>
        </p:nvPicPr>
        <p:blipFill>
          <a:blip r:embed="rId1"/>
          <a:stretch/>
        </p:blipFill>
        <p:spPr>
          <a:xfrm>
            <a:off x="0" y="0"/>
            <a:ext cx="4762440" cy="3895560"/>
          </a:xfrm>
          <a:prstGeom prst="rect">
            <a:avLst/>
          </a:prstGeom>
          <a:ln w="0">
            <a:noFill/>
          </a:ln>
        </p:spPr>
      </p:pic>
      <p:pic>
        <p:nvPicPr>
          <p:cNvPr id="278" name="Заголовок 3" descr=""/>
          <p:cNvPicPr/>
          <p:nvPr/>
        </p:nvPicPr>
        <p:blipFill>
          <a:blip r:embed="rId2"/>
          <a:stretch/>
        </p:blipFill>
        <p:spPr>
          <a:xfrm>
            <a:off x="4468680" y="324000"/>
            <a:ext cx="3230640" cy="1431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3000240"/>
            <a:ext cx="72388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ильная личность должна быть нравственной и иметь положительные  черт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ужно уважать себя, но к своим поступкам относиться критически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ндивидуальность это хорошо! Человек должен иметь собственные черты  и отличаться от других, это делает его интересным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2000160"/>
            <a:ext cx="7238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ыучить § 2. Человек — личность, ответить на вопросы к § 2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исьменно в тетрад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ветить на вопросы 1-5, задание на карточк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2" descr=""/>
          <p:cNvPicPr/>
          <p:nvPr/>
        </p:nvPicPr>
        <p:blipFill>
          <a:blip r:embed="rId1"/>
          <a:stretch/>
        </p:blipFill>
        <p:spPr>
          <a:xfrm>
            <a:off x="285840" y="3645000"/>
            <a:ext cx="8229600" cy="1439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000080"/>
            <a:ext cx="804384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пособствовать формированию у школьников представлений о человеке как социальном существе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ссказать, что человек принадлежит обществу, живет и развивается в не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Содержимое 1"/>
          <p:cNvSpPr/>
          <p:nvPr/>
        </p:nvSpPr>
        <p:spPr>
          <a:xfrm>
            <a:off x="214200" y="5000760"/>
            <a:ext cx="83584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расширить знания учащихся о влиянии социальной среды на человек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Заголовок 2" descr=""/>
          <p:cNvPicPr/>
          <p:nvPr/>
        </p:nvPicPr>
        <p:blipFill>
          <a:blip r:embed="rId2"/>
          <a:stretch/>
        </p:blipFill>
        <p:spPr>
          <a:xfrm>
            <a:off x="639720" y="-493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ловеческий ребенок в момент рождения не человек, а только кандидат в человек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А.Пьерон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3" descr="C:\Documents and Settings\Спиридонова Наталья\Мои документы\Мои рисунки\Ангел.gif"/>
          <p:cNvPicPr/>
          <p:nvPr/>
        </p:nvPicPr>
        <p:blipFill>
          <a:blip r:embed="rId2"/>
          <a:stretch/>
        </p:blipFill>
        <p:spPr>
          <a:xfrm>
            <a:off x="3000240" y="3500280"/>
            <a:ext cx="2872080" cy="298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7486560" cy="12985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42920" y="1213920"/>
            <a:ext cx="82152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Что нужно ребенку для того, чтобы он развивался как человек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Чем человек отличается от животных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Закрепим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873624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Человек обладает мышлением и членораздельной речь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Преобразует окружающую действительность, создает необходимые ему материальные и духовные блага и цен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Человек воспроизводит не только свою биологическую, но и социальную сущность и поэтому должен удовлетворять не только свои материальные, но и духовные потреб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Способен изготавливать орудия труда и использовать их как средство производства материальных благ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7486560" cy="1298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142920" y="1928880"/>
            <a:ext cx="82152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Что такое наследственность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Можно ли влиять на наследственность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Почему бесцельно прожитая жизнь не приносит человеку счастья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2" descr="C:\Documents and Settings\Admin\Мои документы\Мои рисунки\Картинки ЛЕТО\54d3bf71906a.gif"/>
          <p:cNvPicPr/>
          <p:nvPr/>
        </p:nvPicPr>
        <p:blipFill>
          <a:blip r:embed="rId2"/>
          <a:stretch/>
        </p:blipFill>
        <p:spPr>
          <a:xfrm>
            <a:off x="5692680" y="3357720"/>
            <a:ext cx="2743200" cy="321444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3" descr=""/>
          <p:cNvPicPr/>
          <p:nvPr/>
        </p:nvPicPr>
        <p:blipFill>
          <a:blip r:embed="rId1"/>
          <a:stretch/>
        </p:blipFill>
        <p:spPr>
          <a:xfrm>
            <a:off x="-291960" y="139680"/>
            <a:ext cx="9435960" cy="1268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214200" y="2071800"/>
            <a:ext cx="81439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Лич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ая систем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о значимых черт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ющих человека, как члена того или иного обществ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субъек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знательной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ятельност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214200" y="178596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ознакомьтесь с текстом «Что такое лич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C:\Documents and Settings\Admin\Мои документы\Мои рисунки\Картинки ЛЕТО\022.gif"/>
          <p:cNvPicPr/>
          <p:nvPr/>
        </p:nvPicPr>
        <p:blipFill>
          <a:blip r:embed="rId2"/>
          <a:stretch/>
        </p:blipFill>
        <p:spPr>
          <a:xfrm>
            <a:off x="5357880" y="3214800"/>
            <a:ext cx="2452680" cy="3429000"/>
          </a:xfrm>
          <a:prstGeom prst="rect">
            <a:avLst/>
          </a:prstGeom>
          <a:ln w="0">
            <a:noFill/>
          </a:ln>
        </p:spPr>
      </p:pic>
      <p:pic>
        <p:nvPicPr>
          <p:cNvPr id="251" name="Заголовок 3" descr=""/>
          <p:cNvPicPr/>
          <p:nvPr/>
        </p:nvPicPr>
        <p:blipFill>
          <a:blip r:embed="rId3"/>
          <a:stretch/>
        </p:blipFill>
        <p:spPr>
          <a:xfrm>
            <a:off x="-371520" y="0"/>
            <a:ext cx="9515520" cy="16336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3" descr=""/>
          <p:cNvPicPr/>
          <p:nvPr/>
        </p:nvPicPr>
        <p:blipFill>
          <a:blip r:embed="rId1"/>
          <a:stretch/>
        </p:blipFill>
        <p:spPr>
          <a:xfrm>
            <a:off x="128520" y="-208080"/>
            <a:ext cx="7570800" cy="2049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5"/>
          <p:cNvSpPr/>
          <p:nvPr/>
        </p:nvSpPr>
        <p:spPr>
          <a:xfrm>
            <a:off x="500040" y="2571840"/>
            <a:ext cx="3929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Составьте словесный портрет девушек, изображенных на полотнах В.А.Серова и З.Е.Серебряк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Работа с учебник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С.18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357120" y="1428840"/>
            <a:ext cx="4214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34b73"/>
                </a:solidFill>
                <a:latin typeface="Trebuchet MS"/>
              </a:rPr>
              <a:t>РАЗВИВАЕМ ПСИХОЛОГИЧЕСКУЮ ЗОРКОСТЬ И СЛОВАРНЫЙ ЗАП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6" descr="C:\Documents and Settings\Admin\Мои документы\Мои рисунки\Лица\13432.jpg"/>
          <p:cNvPicPr/>
          <p:nvPr/>
        </p:nvPicPr>
        <p:blipFill>
          <a:blip r:embed="rId2"/>
          <a:stretch/>
        </p:blipFill>
        <p:spPr>
          <a:xfrm>
            <a:off x="4572000" y="1285920"/>
            <a:ext cx="4416480" cy="407196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3" descr=""/>
          <p:cNvPicPr/>
          <p:nvPr/>
        </p:nvPicPr>
        <p:blipFill>
          <a:blip r:embed="rId1"/>
          <a:stretch/>
        </p:blipFill>
        <p:spPr>
          <a:xfrm>
            <a:off x="542880" y="274680"/>
            <a:ext cx="8143920" cy="14382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48104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повторимо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еобраз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личительны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нутренние и внешние)от других люде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929200" y="3214800"/>
            <a:ext cx="2327400" cy="164304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5" descr="Tegos_glam_13.jpg"/>
          <p:cNvPicPr/>
          <p:nvPr/>
        </p:nvPicPr>
        <p:blipFill>
          <a:blip r:embed="rId3"/>
          <a:stretch/>
        </p:blipFill>
        <p:spPr>
          <a:xfrm>
            <a:off x="857160" y="3286080"/>
            <a:ext cx="2605320" cy="15001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6" descr="Ангел30(1).jpg"/>
          <p:cNvPicPr/>
          <p:nvPr/>
        </p:nvPicPr>
        <p:blipFill>
          <a:blip r:embed="rId4"/>
          <a:stretch/>
        </p:blipFill>
        <p:spPr>
          <a:xfrm>
            <a:off x="3357720" y="3857760"/>
            <a:ext cx="2523960" cy="23302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ерои фильма «Приключения Электроника» мальчик Сережа Сыроежкин и робот Электроник внешне были по­хожи друг на друг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нужно знать про героев, чтобы определить, чем различаются их личности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20:07:22Z</dcterms:created>
  <dc:creator>Спиридонова Наталья Николаевна</dc:creator>
  <dc:description/>
  <dc:language>en-US</dc:language>
  <cp:lastModifiedBy>LEGION</cp:lastModifiedBy>
  <dcterms:modified xsi:type="dcterms:W3CDTF">2014-11-12T11:19:29Z</dcterms:modified>
  <cp:revision>23</cp:revision>
  <dc:subject/>
  <dc:title>Человек – лично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18233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