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2.png" ContentType="image/png"/>
  <Override PartName="/ppt/media/image4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0.gif" ContentType="image/gif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5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gif" ContentType="image/gif"/>
  <Override PartName="/ppt/media/image16.png" ContentType="image/png"/>
  <Override PartName="/ppt/media/image18.png" ContentType="image/png"/>
  <Override PartName="/ppt/media/image20.jpeg" ContentType="image/jpeg"/>
  <Override PartName="/ppt/media/image6.gif" ContentType="image/gif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7755-8914-442C-9822-E0E4928B6D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Человек – личность</a:t>
            </a:r>
            <a:br>
              <a:rPr sz="4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СОШ № 4 с.Малые Я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менко Анжелик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C35A-F64C-45D3-A066-32F8485D53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 материала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1DAF-6F98-492F-853A-3D9265FE48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с.24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69C1-A8CE-40A6-965C-702513D168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личность должна быть нравственной и иметь положительные 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уважать себя, но к своим поступкам относиться критичес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FAE4-225A-4324-A6D1-C5FD525D4E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2. Человек — личность, ответить на вопросы к §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1-5, задание на кар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6F20-78A4-495C-A31E-06332A620E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ать, что человек принадлежит обществу, живет и развивается в не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7D68-52C8-4247-ADC4-478BC4CF7F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прос домашенего материала:</a:t>
            </a: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Зачем человек ро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D227-B93F-449D-898F-DE83587109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ужно ребенку для того, чтобы он развивался как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человек отличается от живот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EC2F-A7C3-4DDF-8F99-D8BA4BAF5C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наследствен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но ли влиять на наследственность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бесцельно прожитая жизнь не приносит человеку счас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903C-A4D2-43D3-B92E-4F1E17B066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BF36-3C8E-40F4-9268-A89AE1891C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«Картинная галере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0CEA-7FFA-41F0-B01D-2C24FAC7EA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ндивидуальность – плох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7666-724F-4BEC-8718-D1E4DC3FF5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ужно знать про героев, чтобы определить, чем различаются их лич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0DDC-5787-45A5-91BD-97C550C120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3AD-382F-4304-BB04-68157F8A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47E-9E5F-40C7-A85C-CC87648B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593-33AD-4110-9664-CD8235C7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0F9-05F4-4F66-916F-78C36038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6AE0-DCC8-4A26-A8A2-2669AF76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C244-69BF-47FA-802F-26AFD2E5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C904-3393-45C5-9C95-333F779C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3CC8-98B3-4AE3-9545-11DD44C2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09C5-0CA3-48A5-AA95-827A4FBE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EEF5-B4A3-4939-9F4B-CA8E133F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BBE7-ED1B-4025-BCDD-52927901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D37-10CB-4E27-B03A-A73FE4F3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EA66-15D1-4BD4-B878-F3319F2E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C116-219F-4875-9F22-DE2BDCFE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BCDA-EB48-4BDB-9DC3-98E9969D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251F-F64A-4801-B954-30294DEC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66B8-6447-4A9B-B0B6-79A12AEF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39CF-C3AF-46A6-92DE-75B33D2D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56A9-EF15-4BA2-9771-B367E52C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6A42-5187-482F-BB64-06599FB1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4539-727A-4D4C-830C-315FB5B3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B5D5-7B30-4D04-9F58-515013D2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918-11B5-40DB-AD2C-64B71CBF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D594-9FB4-48DB-A918-160CD0FD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5A40-9899-4B82-BE53-38D3CCE4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0524-54E0-44A9-AAF3-9809C6B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EC8B-8573-421B-84DD-5B7A86FA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9A50E-2D42-4D2C-A545-9699CEEE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6346-A620-4768-B9DD-340B36C6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6A680-6BBC-41B5-95F6-D8FFDBB3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D4794-3B60-4994-A748-0E53914D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249EE-A4A2-4E63-BCB8-42F8875F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D1C9A-AF02-4D3F-9D3A-A38A028D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A52-8E24-4473-809C-DB3EB18B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D0F0E-9F0C-4FEF-8E91-308D26EC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26E82-3C5F-4BE7-AC20-6D31E495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9BCF-FE23-4F1B-89B6-2B00E11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AA2F-6631-4B3A-8AD7-0134A19B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4817-F486-4A0B-8788-5CEFA523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5C4A1-88DE-4448-9C47-A40B9CE9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272D-76F0-49D8-ACC6-8E183839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47F75-9D88-47CE-AA81-D1A7A22E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4D612-9208-4965-B945-27992938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6DFD8-6B6D-4AB9-A9A5-A952047E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ADE-0C14-4FA0-B616-976D0A3B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D57AF-1538-4816-88C6-5B0D936A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04749-D3E4-4799-8C6F-3E52164F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28BDE-BB60-47D6-AF41-A9C5961F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6C60-6E6A-45F3-8A62-5620CB0A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20C2-0238-4BCF-BBF6-B4809C9D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62657-EAB3-4B22-A556-ED3483DB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442AC-9428-4011-B687-CCFB90C9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5DEA2-A52B-4943-9A97-23A94DBE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5231B-BBFE-496C-B3E1-206D2B9D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B3DA8-B6F6-45FB-BED0-EB25E416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A38-1654-457D-BF54-466EF8E1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A759E-20CF-4474-8455-DAF7BA9C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E62-DB71-4877-BE89-99F66B5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DAA-7A28-4AA0-9C77-AAF8687D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687-AD9E-4E49-B358-4628E300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0275-9026-4385-9E8B-795CF3CAD8B9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A50D-5806-4A6F-96C8-1BC6FA04527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3526-F959-42B4-BC55-AAD7C77D64B6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D448-84FA-43F7-9F64-02509A5FA15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9DE6-EC35-440F-B204-0A5129080A5E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DA54-C389-43BF-90CD-E2313B2A0CA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F7FF-DF07-41A7-896B-BA737FB29003}" type="datetime"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431D-5ACC-4BB8-A4DF-730A8FA935F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4C88-E99A-4B08-BD6B-56A3CDD07446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B099-08C8-432D-A63F-8FD50B98FE4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1427040" y="706320"/>
            <a:ext cx="8235720" cy="2908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-1357200" y="5000400"/>
            <a:ext cx="10501200" cy="18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Урок обществознания в 6 классе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Подготовила учитель обществозн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ОУ СОШ № 4 с.Малые Ягур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Фоменко Анжелика Анатолье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13"/>
          <p:cNvPicPr/>
          <p:nvPr/>
        </p:nvPicPr>
        <p:blipFill>
          <a:blip r:embed="rId2"/>
          <a:stretch/>
        </p:blipFill>
        <p:spPr>
          <a:xfrm>
            <a:off x="5715000" y="192888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7" descr="image_tmp.jpg"/>
          <p:cNvPicPr/>
          <p:nvPr/>
        </p:nvPicPr>
        <p:blipFill>
          <a:blip r:embed="rId1"/>
          <a:srcRect l="0" t="0" r="129" b="0"/>
          <a:stretch/>
        </p:blipFill>
        <p:spPr>
          <a:xfrm>
            <a:off x="0" y="3898800"/>
            <a:ext cx="2101680" cy="2959200"/>
          </a:xfrm>
          <a:prstGeom prst="rect">
            <a:avLst/>
          </a:prstGeom>
          <a:ln w="0">
            <a:noFill/>
          </a:ln>
        </p:spPr>
      </p:pic>
      <p:pic>
        <p:nvPicPr>
          <p:cNvPr id="268" name="Заголовок 3" descr=""/>
          <p:cNvPicPr/>
          <p:nvPr/>
        </p:nvPicPr>
        <p:blipFill>
          <a:blip r:embed="rId2"/>
          <a:stretch/>
        </p:blipFill>
        <p:spPr>
          <a:xfrm>
            <a:off x="360360" y="-109440"/>
            <a:ext cx="8143920" cy="18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428760" y="2071800"/>
          <a:ext cx="7238880" cy="1662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7149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стоин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471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6357960" y="3998880"/>
            <a:ext cx="1944720" cy="26463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214322368_00.jpg"/>
          <p:cNvPicPr/>
          <p:nvPr/>
        </p:nvPicPr>
        <p:blipFill>
          <a:blip r:embed="rId4"/>
          <a:stretch/>
        </p:blipFill>
        <p:spPr>
          <a:xfrm>
            <a:off x="3143160" y="4460760"/>
            <a:ext cx="2062080" cy="2397240"/>
          </a:xfrm>
          <a:prstGeom prst="rect">
            <a:avLst/>
          </a:prstGeom>
          <a:ln w="0">
            <a:noFill/>
          </a:ln>
        </p:spPr>
      </p:pic>
      <p:pic>
        <p:nvPicPr>
          <p:cNvPr id="272" name="Заголовок 3" descr=""/>
          <p:cNvPicPr/>
          <p:nvPr/>
        </p:nvPicPr>
        <p:blipFill>
          <a:blip r:embed="rId5"/>
          <a:stretch/>
        </p:blipFill>
        <p:spPr>
          <a:xfrm>
            <a:off x="-291960" y="0"/>
            <a:ext cx="9009000" cy="202392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Admin\Мои документы\Мои рисунки\картинки Леры\8.jpeg"/>
          <p:cNvPicPr/>
          <p:nvPr/>
        </p:nvPicPr>
        <p:blipFill>
          <a:blip r:embed="rId2"/>
          <a:stretch/>
        </p:blipFill>
        <p:spPr>
          <a:xfrm>
            <a:off x="2571840" y="2857680"/>
            <a:ext cx="3948120" cy="33796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C:\Documents and Settings\Admin\Мои документы\Мои рисунки\Картинки ЛЕТО\солнце.gif"/>
          <p:cNvPicPr/>
          <p:nvPr/>
        </p:nvPicPr>
        <p:blipFill>
          <a:blip r:embed="rId1"/>
          <a:stretch/>
        </p:blipFill>
        <p:spPr>
          <a:xfrm>
            <a:off x="0" y="0"/>
            <a:ext cx="4762440" cy="3895560"/>
          </a:xfrm>
          <a:prstGeom prst="rect">
            <a:avLst/>
          </a:prstGeom>
          <a:ln w="0">
            <a:noFill/>
          </a:ln>
        </p:spPr>
      </p:pic>
      <p:pic>
        <p:nvPicPr>
          <p:cNvPr id="278" name="Заголовок 3" descr=""/>
          <p:cNvPicPr/>
          <p:nvPr/>
        </p:nvPicPr>
        <p:blipFill>
          <a:blip r:embed="rId2"/>
          <a:stretch/>
        </p:blipFill>
        <p:spPr>
          <a:xfrm>
            <a:off x="4468680" y="324000"/>
            <a:ext cx="3230640" cy="1431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3000240"/>
            <a:ext cx="7238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льная личность должна быть нравственной и иметь положительные  чер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ужно уважать себя, но к своим поступкам относиться критическ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учить § 2. Человек — личность, ответить на вопросы к § 2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сьменно в тетрад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ить на вопросы 1-5, задание на карточк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2" descr=""/>
          <p:cNvPicPr/>
          <p:nvPr/>
        </p:nvPicPr>
        <p:blipFill>
          <a:blip r:embed="rId1"/>
          <a:stretch/>
        </p:blipFill>
        <p:spPr>
          <a:xfrm>
            <a:off x="285840" y="3645000"/>
            <a:ext cx="822960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000080"/>
            <a:ext cx="80438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ссказать, что человек принадлежит обществу, живет и развивается в н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Содержимое 1"/>
          <p:cNvSpPr/>
          <p:nvPr/>
        </p:nvSpPr>
        <p:spPr>
          <a:xfrm>
            <a:off x="214200" y="5000760"/>
            <a:ext cx="8358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расширить знания учащихся о влиянии социальной среды на челове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Заголовок 2" descr=""/>
          <p:cNvPicPr/>
          <p:nvPr/>
        </p:nvPicPr>
        <p:blipFill>
          <a:blip r:embed="rId2"/>
          <a:stretch/>
        </p:blipFill>
        <p:spPr>
          <a:xfrm>
            <a:off x="639720" y="-493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3" descr="C:\Documents and Settings\Спиридонова Наталья\Мои документы\Мои рисунки\Ангел.gif"/>
          <p:cNvPicPr/>
          <p:nvPr/>
        </p:nvPicPr>
        <p:blipFill>
          <a:blip r:embed="rId2"/>
          <a:stretch/>
        </p:blipFill>
        <p:spPr>
          <a:xfrm>
            <a:off x="3000240" y="3500280"/>
            <a:ext cx="2872080" cy="298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42920" y="1213920"/>
            <a:ext cx="82152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то нужно ребенку для того, чтобы он развивался как челове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ем человек отличается от животны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крепи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73624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42920" y="1928880"/>
            <a:ext cx="82152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Что такое наследственност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ожно ли влиять на наследственност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чему бесцельно прожитая жизнь не приносит человеку счасть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Documents and Settings\Admin\Мои документы\Мои рисунки\Картинки ЛЕТО\54d3bf71906a.gif"/>
          <p:cNvPicPr/>
          <p:nvPr/>
        </p:nvPicPr>
        <p:blipFill>
          <a:blip r:embed="rId2"/>
          <a:stretch/>
        </p:blipFill>
        <p:spPr>
          <a:xfrm>
            <a:off x="5692680" y="3357720"/>
            <a:ext cx="2743200" cy="321444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3" descr=""/>
          <p:cNvPicPr/>
          <p:nvPr/>
        </p:nvPicPr>
        <p:blipFill>
          <a:blip r:embed="rId1"/>
          <a:stretch/>
        </p:blipFill>
        <p:spPr>
          <a:xfrm>
            <a:off x="-291960" y="139680"/>
            <a:ext cx="9435960" cy="1268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14200" y="2071800"/>
            <a:ext cx="81439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14200" y="178596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ознакомьтесь с текстом «Что такое лич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C:\Documents and Settings\Admin\Мои документы\Мои рисунки\Картинки ЛЕТО\022.gif"/>
          <p:cNvPicPr/>
          <p:nvPr/>
        </p:nvPicPr>
        <p:blipFill>
          <a:blip r:embed="rId2"/>
          <a:stretch/>
        </p:blipFill>
        <p:spPr>
          <a:xfrm>
            <a:off x="5357880" y="3214800"/>
            <a:ext cx="2452680" cy="3429000"/>
          </a:xfrm>
          <a:prstGeom prst="rect">
            <a:avLst/>
          </a:prstGeom>
          <a:ln w="0">
            <a:noFill/>
          </a:ln>
        </p:spPr>
      </p:pic>
      <p:pic>
        <p:nvPicPr>
          <p:cNvPr id="251" name="Заголовок 3" descr=""/>
          <p:cNvPicPr/>
          <p:nvPr/>
        </p:nvPicPr>
        <p:blipFill>
          <a:blip r:embed="rId3"/>
          <a:stretch/>
        </p:blipFill>
        <p:spPr>
          <a:xfrm>
            <a:off x="-371520" y="0"/>
            <a:ext cx="9515520" cy="1633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3" descr=""/>
          <p:cNvPicPr/>
          <p:nvPr/>
        </p:nvPicPr>
        <p:blipFill>
          <a:blip r:embed="rId1"/>
          <a:stretch/>
        </p:blipFill>
        <p:spPr>
          <a:xfrm>
            <a:off x="128520" y="-208080"/>
            <a:ext cx="7570800" cy="2049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500040" y="2571840"/>
            <a:ext cx="392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оставьте словесный портрет девушек, изображенных на полотнах В.А.Серова и З.Е.Серебряк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абота с учебн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.18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357120" y="142884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34b73"/>
                </a:solidFill>
                <a:latin typeface="Trebuchet MS"/>
              </a:rPr>
              <a:t>РАЗВИВАЕМ ПСИХОЛОГИЧЕСКУЮ ЗОРКОСТЬ И СЛОВАРНЫЙ ЗА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C:\Documents and Settings\Admin\Мои документы\Мои рисунки\Лица\13432.jpg"/>
          <p:cNvPicPr/>
          <p:nvPr/>
        </p:nvPicPr>
        <p:blipFill>
          <a:blip r:embed="rId2"/>
          <a:stretch/>
        </p:blipFill>
        <p:spPr>
          <a:xfrm>
            <a:off x="4572000" y="1285920"/>
            <a:ext cx="4416480" cy="40719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3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1438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4810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29200" y="3214800"/>
            <a:ext cx="2327400" cy="16430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Tegos_glam_13.jpg"/>
          <p:cNvPicPr/>
          <p:nvPr/>
        </p:nvPicPr>
        <p:blipFill>
          <a:blip r:embed="rId3"/>
          <a:stretch/>
        </p:blipFill>
        <p:spPr>
          <a:xfrm>
            <a:off x="857160" y="3286080"/>
            <a:ext cx="260532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Ангел30(1).jpg"/>
          <p:cNvPicPr/>
          <p:nvPr/>
        </p:nvPicPr>
        <p:blipFill>
          <a:blip r:embed="rId4"/>
          <a:stretch/>
        </p:blipFill>
        <p:spPr>
          <a:xfrm>
            <a:off x="3357720" y="3857760"/>
            <a:ext cx="2523960" cy="23302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ужно знать про героев, чтобы определить, чем различаются их личност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20:07:22Z</dcterms:created>
  <dc:creator>Спиридонова Наталья Николаевна</dc:creator>
  <dc:description/>
  <dc:language>en-US</dc:language>
  <cp:lastModifiedBy>LEGION</cp:lastModifiedBy>
  <dcterms:modified xsi:type="dcterms:W3CDTF">2014-11-12T11:19:29Z</dcterms:modified>
  <cp:revision>23</cp:revision>
  <dc:subject/>
  <dc:title>Человек – лич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18233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