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43FE-42E0-4505-9C31-EB04D12E4B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Понятия «личность» и «индивидуальность»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дивидуальные свойства личности – это не одно и тоже, что личностные свойства индивида, то есть свойства, характеризующие его как лич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Рубиншт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7663-BC1B-481B-8E48-0A3D6E0233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авления исследования самоактуализац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клиническое К. Роджер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мотивационное А. Масл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развитие личности – врожденные тенденции к самоакту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«самоактуализирующая тенден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«организмический отслеживающий процес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АЛЬНОЕ Я                  РЕАЛЬНОЕ 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развития личност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ефицитарные» потребности и «ростовые»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ирамида Масло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зиологически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надле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амооц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амоактуа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Группы самоактуализирующихся люд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весьма определенные случа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весьма вероятные случа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возможные случа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27C2-C126-4227-9A3B-266655151F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инквейн (это особая краткая запись основных обсуждаемых проблем с учетом ряда требова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понятию «самоактуализа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агательные (2 сло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голы (3 слов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за (предложение, смысловой характ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E896-5ED2-4DB3-AACF-5679741180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В «Кратком психологическом словаре» (1985, под ред. А. В. Петровского и М. Г. Ярошевского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«системное качество, приобретаемо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о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метной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ни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ющее его со стороны включенности в общественные отнош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арактеризу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тремление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бъекта расширить сферу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действовать за границами требований;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правленностью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й доминирующей систем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тив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интересов, убеждений и т. д., глубинными смысловыми образованиями... формирующими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овместной деятельност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 и коллектив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о для индивида личность выступает как его Я («образ Я», «Я-концепция»). Личность обнаруживается в самооценке, самоуважении. «Развитие личности осуществляется в деятельности в условия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циализ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а и целенаправленного воспита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«Большом психологическом словаре» (2003, под ред. Б. Г. Мещерякова и В. П. Зинченко) указывается, что «в общественных науках Личность рассматривается как особо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честв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обретаемо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 в социокультурной среде в процессе совместн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и и общения»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уманистических и психологических концепциях Личность - это ценность, ради которой осуществляется развитие обществ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47BD-8999-43E2-B43E-0C4150745C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личность» - «индивидуаль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психосоматическая организация личности, делающая ее представителем человеческого 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воеобразное сочетание особенностей, отличающих одного человека от другого (это индивидуально неповторимые особенности организма, и те, которые следует отнести к уникальным свойствам лич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истемное качество, которое приобретает индивид во  взаимодействии с социальным окружением. Это взаимодействие протекает в трех ведущих формах: общении, познании и совместной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EBD5-24B4-477C-B0AE-007E397F2F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формация индивиду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всех сфер в интерес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2BFE-FF91-4ED5-BBC1-2AA7A56BCC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питание» - «развит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ллектуальная, мотивационная, эмоциональная, волевая, предметно-практическая, экзистенциальная. саморегу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5197-66FE-40B0-BBE0-74071ED641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дание: проработать содержание текста, внести дополнения, измене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кст «Личность и индивидуальность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личности и индивидуальност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 совпад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о имеют общую область — индивидуальность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особенности человека до известного времени никак не проявляются, пока они не станут необходимыми в системе межличностных отношений, субъектом которых выступит данный человек как личность. Поэтому, индивидуальность — лишь одна из сторон личности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4436-9249-483D-9077-3591BA6620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Научные концепции самоактуализации личност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2D15-29B3-40CB-B5DD-0910DB87A5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дель выпуск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дметная грамот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особность принимать решения (ключевые компетентност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пешность во взаимодействии с окружающими (социальный опы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 самостоятельная, самореализующаяся, самоопределяющаяся, самоактуализирующая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FDFC-74C9-40D8-B2A2-1BCFFA1AC3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арактеристика (по Маслоу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ее эффективное восприятие реа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ятие себя, других и приро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посредственность, простота и естеств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центрированность на проблем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зависимость, потребность в уедин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тономия: независимость от культуры и окруж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вежесть восприят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ршинные или мистические пережи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ественный интерес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лубинные межличностные отнош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мократический характ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граничение средств и ц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лософское чувство юмо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еатив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противление окультуриванию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D532-CAD9-443D-A6AD-19094686B0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C72-9427-4CD6-9F5E-2286D782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32E-EA5E-41D9-A16B-CB8D45F8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1C6-9D17-4BA9-A6E1-98344B19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6143-6C28-4B77-A239-18D632CF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78C3-2D7E-4BB9-A647-50E3EBD5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F2A-977F-4260-8C44-FD1DC2D8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8DE-F576-41D2-A8B9-603B274F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EB3-3FEA-424D-BE7C-D561A9D9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F503-72CF-4660-9CE0-A581D152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C5C-6E6C-417B-A560-ED75439A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DD4-71D4-4A88-8344-277F26E4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E86-D530-49FB-B171-282ACB76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7802-EA93-4D45-80A1-1B54940E19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Понятия «личность» и «индивидуальность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дивидуальные свойства личности – это не одно и тоже, что личностные свойства индивида, то есть свойства, характеризующие его как лично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Л. Рубинште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ления исследования самоактуализац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линическое К. Роджерс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мотивационное А. Масл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 развитие личности – врожденные тенденции к самоакту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«самоактуализирующая тенден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«организмический отслеживающий процес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АЛЬНОЕ Я                  РЕАЛЬНОЕ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 развития личност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ефицитарные» потребности и «ростовые» потре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физиологические потре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инадл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амо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амоакту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руппы самоактуализирующихся люд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есьма определенные случа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есьма вероятные случа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озможные случа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2362320" y="2209680"/>
            <a:ext cx="11430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143000" y="3505320"/>
            <a:ext cx="2286000" cy="1523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чност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1981080" y="5486400"/>
            <a:ext cx="762120" cy="76320"/>
          </a:xfrm>
          <a:prstGeom prst="leftRightArrow">
            <a:avLst>
              <a:gd name="adj1" fmla="val 50000"/>
              <a:gd name="adj2" fmla="val 1987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4724280" y="4038480"/>
            <a:ext cx="419112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ние человека стать тем, к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может с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синквейн (это особая краткая запись основных обсуждаемых проблем с учетом ряда требов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понятию «самоактуализац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агательные (2 сл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голы (3 слов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за (предложение, смысловой характ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В «Кратком психологическом словаре» (1985, под ред. А. В. Петровского и М. Г. Ярошевского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«системное качество, приобретаемо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дивидом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едметной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бщени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арактеризующее его со стороны включенности в общественные отношения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характеризу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ктивностью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стремлени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убъекта расширить сферу своей де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действовать за границами требований;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аправленностью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ойчивой доминирующей системой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мотивов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интересов, убеждений и т. д., глубинными смысловыми образованиями... формирующими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 совместной деятельност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 и коллективов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бъективно для индивида личность выступает как его Я («образ Я», «Я-концепция»). Личность обнаруживается в самооценке, самоуважении. «Развитие личности осуществляется в деятельности в условиях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оциализаци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вида и целенаправленного воспитания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«Большом психологическом словаре» (2003, под ред. Б. Г. Мещерякова и В. П. Зинченко) указывается, что «в общественных науках Личность рассматривается как особо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ачество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ловека,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обретаемое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 в социокультурной среде в процессе совместной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деятельности и общения»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гуманистических и психологических концепциях Личность - это ценность, ради которой осуществляется развитие обществ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личность» - «индивидуаль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сихосоматическая организация личности, делающая ее представителем человеческого 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воеобразное сочетание особенностей, отличающих одного человека от другого (это индивидуально неповторимые особенности организма, и те, которые следует отнести к уникальным свойствам лич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истемное качество, которое приобретает индивид во  взаимодействии с социальным окружением. Это взаимодействие протекает в трех ведущих формах: общении, познании и совместн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ормация индивиду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всех сфер в интере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990720" y="2133720"/>
            <a:ext cx="3886200" cy="609480"/>
          </a:xfrm>
          <a:prstGeom prst="rightArrow">
            <a:avLst>
              <a:gd name="adj1" fmla="val 50000"/>
              <a:gd name="adj2" fmla="val 159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990720" y="2819520"/>
            <a:ext cx="3886200" cy="609480"/>
          </a:xfrm>
          <a:prstGeom prst="rightArrow">
            <a:avLst>
              <a:gd name="adj1" fmla="val 50000"/>
              <a:gd name="adj2" fmla="val 159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а и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066680" y="3962520"/>
            <a:ext cx="3886200" cy="609480"/>
          </a:xfrm>
          <a:prstGeom prst="rightArrow">
            <a:avLst>
              <a:gd name="adj1" fmla="val 50000"/>
              <a:gd name="adj2" fmla="val 159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общества, но не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1066680" y="4724280"/>
            <a:ext cx="3886200" cy="609840"/>
          </a:xfrm>
          <a:prstGeom prst="rightArrow">
            <a:avLst>
              <a:gd name="adj1" fmla="val 50000"/>
              <a:gd name="adj2" fmla="val 1593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ных гру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5029200" y="213372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5410080" y="2133720"/>
            <a:ext cx="2971800" cy="5331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ает задачи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5410080" y="2971800"/>
            <a:ext cx="2971800" cy="6094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спитание» - «развит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ллектуальная, мотивационная, эмоциональная, волевая, предметно-практическая, экзистенциальная. саморегу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514600" y="914400"/>
            <a:ext cx="403848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фер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идеи гум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ь современной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дать каждому ребенку общее образовани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ить условия для гармоничного развития и совершенствования вс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рон индивиду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ализац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процессе воспитания на основе форм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х кач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6019920" y="2971800"/>
            <a:ext cx="2666880" cy="19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Экзистенциаль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рмония чув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оступков, слова и дел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 и общен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ражаю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зненной пози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3048120" y="2819520"/>
            <a:ext cx="2666880" cy="2133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дметно-прак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ности, поступ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я в различ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ах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бщ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>
            <a:off x="228600" y="2971800"/>
            <a:ext cx="2666880" cy="1981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аморегу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бода выбора ц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крити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бропорядо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веде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ест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: проработать содержание текста, внести дополнения, измен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 «Личность и индивидуаль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личности и индивидуальност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совпада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 имеют общую область — индивидуальность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ые особенности человека до известного времени никак не проявляются, пока они не станут необходимыми в системе межличностных отношений, субъектом которых выступит данный человек как личность. Поэтому, индивидуальность — лишь одна из сторон личности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95280" y="1523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Научные концепции самоактуализации личност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дель выпуск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редметная грамот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пособность принимать решения (ключевые компетентно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пешность во взаимодействии с окружающими (социальный опы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ь самостоятельная, самореализующаяся, самоопределяющаяся, самоактуализиру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685800" y="3505320"/>
            <a:ext cx="800100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нательный акт выявления и утверждения собственной поз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блем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ективистское и профессион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685800" y="5029200"/>
            <a:ext cx="800100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ре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алансированное и гармоничное раскрытие всех аспектов л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генетических и личностных возможностей, осущест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ей развития «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4"/>
          <p:cNvSpPr/>
          <p:nvPr/>
        </p:nvSpPr>
        <p:spPr>
          <a:xfrm>
            <a:off x="533520" y="380880"/>
            <a:ext cx="769608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актуализ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тремление человека к возможно бо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му выявлению и развитию своих личностных возмож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арактеристика (по Маслоу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лее эффективное восприятие реа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нятие себя, других и приро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посредственность, простота и естествен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нтрированность на проблем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зависимость, потребность в уединен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номия: независимость от культуры и окруж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вежесть восприят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ршинные или мистические пережи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щественный интере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лубинные межличностные отнош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мократический характер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граничение средств и цел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лософское чувство юмор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еат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противление окультуривани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1:21:5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