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4B4C-885B-430E-9BCB-5EABC138FD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</a:rPr>
              <a:t>Понятия «личность» и «индивидуальность»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F4E8-4B9D-4056-BBC7-D792DBC5DA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авления исследования самоактуализаци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клиническое К. Роджерс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мотивационное А. Масло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е личности – врожденные тенденции к самоакту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самоактуализирующая тенден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«организмический отслеживающий процесс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ОЕ Я                  РЕАЛЬНОЕ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 развития личност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ефицитарные» потребности и «ростовые»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зиологически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надлеж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оц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амоакту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Группы самоактуализирующихся люд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определен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есьма вероят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возможные случаи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DC85-97A7-43E9-8195-A2D3A0CDC7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понятию «самоактуализ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ые (2 сло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ы (3 сло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 (предложение, смысловой характ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BD7-C0D6-4275-9417-E2C67B484F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«системное качество, приобретаем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о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едметно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ни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ее его со стороны включенности в общественные отнош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характеризу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ремление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бъекта расширить сферу свое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действовать за границами требований;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ю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й доминирующей систем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тив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овместной деятельност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 и коллектив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циализ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а и целенаправленного воспита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честв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обретаемо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 в социокультурной среде в процессе совместн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ятельности и общения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D832-EA48-49B5-AA57-1627B90A91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личность» - «индивидуаль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398C-0DDA-4894-B923-A30CCB69FB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формация индивиду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всех сфер в интере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BBD0-6D2E-44C9-B9B9-D57486216C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спитание» - «развит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D8E7-400F-4E66-BE99-6B6F3342C3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ние: проработать содержание текста, внести дополнения, измене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«Личность и индивидуальность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чности и индивидуаль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 совпа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имеют общую область — индивидуальность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DD4B-EC6C-4C6A-8DC3-846DE03535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Научные концепции самоактуализации личност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524-244D-467C-8798-F8C79459DB3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метная грамо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особность принимать решения (ключевые компетентност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пешность во взаимодействии с окружающими (социальный опы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4BBC-7A45-4E1F-80A1-E24056A0AD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истика (по Масло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е восприятие реа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нятие себя, других и приро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, простота и есте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центрированность на пробле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зависимость, потребность в уедин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тономия: независимость от культуры и окруж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вежесть вос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шинные или мистические пережи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ственный интерес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лубинные межличностные отнош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мократический характе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аничение средств и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лософское чувство юмо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еатив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противление окультури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CBBD-AF23-4E9C-B85A-A34D03A46E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207-D220-4C20-9583-0446CBC4E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D16-37D3-4D84-9DAA-033FCB5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7AA2-AE8D-42E2-A0DA-0004AECC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1CB-1275-48D3-B44B-E76A781A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D0A-1BD5-48AD-933E-94B74879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E36-3B35-49D3-9FF1-A10FAC7D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9FF-E9AC-4455-B9E1-72DA8AEA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AA64-06A6-4241-A26E-21637AD6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AC7-007C-4691-9AA4-2F506D63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8D9-39EA-4C47-A05D-DAC338E5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57F-9871-4351-8AE3-8CD5916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B6F9-786D-4260-A73F-37A584C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71EF-ADB1-4267-9F0F-472F8F69E4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Понятия «личность» и «индивидуальность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дивидуальные свойства личности – это не одно и тоже, что личностные свойства индивида, то есть свойства, характеризующие его как личн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.Л. Рубинштей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авления исследования самоактуализац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линическое К. Роджерс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мотивационное А. Масл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е личности – врожденные тенденции к самоакту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самоактуализирующая тенден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«организмический отслеживающий процес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ЕАЛЬНОЕ Я                  РЕАЛЬНОЕ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 развития личности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фицитарные» потребности и «ростовые»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изиологические потре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з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ринадл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оц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амоакту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руппы самоактуализирующихся люд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определен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есьма вероят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озможные случа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362320" y="2209680"/>
            <a:ext cx="11430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1143000" y="3505320"/>
            <a:ext cx="2286000" cy="152388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об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чност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1981080" y="5486400"/>
            <a:ext cx="762120" cy="76320"/>
          </a:xfrm>
          <a:prstGeom prst="leftRightArrow">
            <a:avLst>
              <a:gd name="adj1" fmla="val 50000"/>
              <a:gd name="adj2" fmla="val 1987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4724280" y="4038480"/>
            <a:ext cx="419112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ние человека стать тем, к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может с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синквейн (это особая краткая запись основных обсуждаемых проблем с учетом ряда требова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понятию «самоактуализац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агательные (2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голы (3 сло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за (предложение, смысловой харак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 В «Кратком психологическом словаре» (1985, под ред. А. В. Петровского и М. Г. Ярошевского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«системное качество, приобретаем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индивидом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едметно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щени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ющее его со стороны включенности в общественные отноше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характеризуетс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ктивностью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стремлением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убъекта расширить сферу свое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действовать за границами требований;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правленностью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ойчивой доминирующей систем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мотивов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— интересов, убеждений и т. д., глубинными смысловыми образованиями... формирующимис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в совместной деятельности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 и коллективов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ъективно для индивида личность выступает как его Я («образ Я», «Я-концепция»). Личность обнаруживается в самооценке, самоуважении. «Развитие личности осуществляется в деятельности в условиях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оциализации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вида и целенаправленного воспитания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 «Большом психологическом словаре» (2003, под ред. Б. Г. Мещерякова и В. П. Зинченко) указывается, что «в общественных науках Личность рассматривается как особое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чество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а,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приобретаемое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 в социокультурной среде в процессе совместной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деятельности и общения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гуманистических и психологических концепциях Личность - это ценность, ради которой осуществляется развитие обществ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ичность» - «индивидуально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психосоматическая организация личности, делающая ее представителем человеческого 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воеобразное сочетание особенностей, отличающих одного человека от другого (это индивидуально неповторимые особенности организма, и те, которые следует отнести к уникальным свойствам лич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истемное качество, которое приобретает индивид во  взаимодействии с социальным окружением. Это взаимодействие протекает в трех ведущих формах: общении, познании и совместн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ормация индивиду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всех сфер в интер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990720" y="21337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990720" y="2819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 и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1066680" y="3962520"/>
            <a:ext cx="3886200" cy="609480"/>
          </a:xfrm>
          <a:prstGeom prst="rightArrow">
            <a:avLst>
              <a:gd name="adj1" fmla="val 50000"/>
              <a:gd name="adj2" fmla="val 1594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общества, но н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1066680" y="4724280"/>
            <a:ext cx="3886200" cy="609840"/>
          </a:xfrm>
          <a:prstGeom prst="rightArrow">
            <a:avLst>
              <a:gd name="adj1" fmla="val 50000"/>
              <a:gd name="adj2" fmla="val 1593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ых груп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5029200" y="213372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410080" y="2133720"/>
            <a:ext cx="2971800" cy="5331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ает задачи 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5410080" y="29718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оспитание» - «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, мотивационная, эмоциональная, волевая, предметно-практическая, экзистенциальная. саморегу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514600" y="914400"/>
            <a:ext cx="40384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фер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идеи гум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ль современной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дать каждому ребенку общее образовани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ить условия для гармоничного развития и совершенствования все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рон индивиду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ализац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процессе воспитания на основе формир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х кач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6019920" y="2971800"/>
            <a:ext cx="2666880" cy="1981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кзистенциаль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армония 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оступков, слова и де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и общ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ража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изненной пози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3048120" y="2819520"/>
            <a:ext cx="2666880" cy="2133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метно-прак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собности, поступк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ния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ах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щ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228600" y="2971800"/>
            <a:ext cx="2666880" cy="19810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регу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бода выбора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кри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бропоряд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ведение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стлив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: проработать содержание текста, внести дополнения, изменени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ст «Личность и индивидуаль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личности и индивидуаль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 совпадаю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имеют общую область — индивидуальность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видуальные особенности человека до известного времени никак не проявляются, пока они не станут необходимыми в системе межличностных отношений, субъектом которых выступит данный человек как личность. Поэтому, индивидуальность — лишь одна из сторон личности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Научные концепции самоактуализации личност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предметная грамот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пособность принимать решения (ключевые компетент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успешность во взаимодействии с окружающими (социальный опы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ость самостоятельная, самореализующаяся, самоопределяющаяся, самоактуализиру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85800" y="3505320"/>
            <a:ext cx="8001000" cy="129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нательный акт выявления и утверждения собственной 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блемных ситуа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ор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лективистское и профессион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85800" y="5029200"/>
            <a:ext cx="800100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амо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алансированное и гармоничное раскрытие всех аспектов лич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енетических и личностных возможностей, осущест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ей развития «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4"/>
          <p:cNvSpPr/>
          <p:nvPr/>
        </p:nvSpPr>
        <p:spPr>
          <a:xfrm>
            <a:off x="533520" y="380880"/>
            <a:ext cx="76960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актуал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ремление человека к возможно бо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му выявлению и развитию своих личностных возможност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арактеристика (по Маслоу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эффективное восприятие реа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нятие себя, других и природ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посредственность, простота и естествен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ентрированность на пробле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зависимость, потребность в уединен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тономия: независимость от культуры и окру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вежесть воспри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ершинные или мистические пережи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бщественный интере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лубинные межличностные отнош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атический характер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зграничение средств и цел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ское чувство юмо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реат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противление окультуривани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11:21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