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D942-C716-4E24-B388-F9E1760BF4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36845"/>
                </a:solidFill>
                <a:latin typeface="Times New Roman"/>
                <a:ea typeface="Times New Roman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7FC0-71BC-4FEB-A469-B42571E6EF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F8B7-DF24-485E-9245-24BFA7055E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B43C-C083-4563-BF02-CADFD0D7DB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 и 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ED51-9E24-40D0-B64B-A46B9C7748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B24C-9213-4D0F-B78E-29F0D7FC94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36DC-8B3F-4BB8-B166-EF4B62A919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и презента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на П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снутдинова Ал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нева 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ова Ма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злякова Нас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а М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6190-EA98-4704-8A2E-6AE0F25C1A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ЧЕЛОВЕК С ТОЧКИ ЗР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3CC3-29AD-4E85-9A1D-EECF89614F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0C9F-079B-4259-A18A-B44DBA165E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32FD-7747-4D28-8A12-EB1C85900D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C150-A3CC-41C4-B040-0C28DC5941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0C3B-CB3D-4D4A-811B-BD89F736C1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F4CB-022C-4EEE-A751-1C6B6C95F0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ED3-1C4C-4C9D-B323-957AE1EAA9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D9F-B465-4843-BE6F-6F67D172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7C1-C901-4DCD-9430-D02A79C9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870-6FF0-4A90-B414-8279B0A2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A04-B525-4BDF-804E-D1B9DAAA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303A-FB80-41DD-BC8D-3331FEC4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E629-F1A1-48AF-872D-54486F3D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AD0-08EF-48B6-B06E-BE8AF07F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73A0-12E3-4AB0-9C54-ED1EF64B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8B5E-0E68-4E31-B6E0-5ADBEE7C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5DBF-632F-4401-AF01-36725B27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805A-FBAF-4C2E-813E-ED215DE3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EB8-0776-4981-A5E2-6ED7E11C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D089-1C81-4443-B089-96F189CF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8041-3979-4A50-9684-E7EDB74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048D-4ECB-4743-842B-6FC38B67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07FF-34FE-4F5F-A844-AA4A6FEC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0DEC-B82E-4409-9F6E-DD13916D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54E-3EE9-4204-A3F2-DF3FF91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370-6305-4312-A838-99A3EE7E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F93-867D-400F-B920-68332F2B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C19-EC27-4283-9CDF-946CC11A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7C9-ACBE-43F7-893F-3270E38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D61-3E27-4796-B4BC-20B5A4E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6A1-97A6-4B53-A2A1-27085B3A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3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4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8EB3-5E44-4024-A036-C24E3636746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30EE-1890-4A71-B7B0-C9E19737A8D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5341680"/>
            <a:ext cx="77216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050920" y="2478240"/>
            <a:ext cx="5113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8368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8368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4" name="Object 3" descr=""/>
          <p:cNvPicPr/>
          <p:nvPr/>
        </p:nvPicPr>
        <p:blipFill>
          <a:blip r:embed="rId1"/>
          <a:stretch/>
        </p:blipFill>
        <p:spPr>
          <a:xfrm>
            <a:off x="1143000" y="22082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" descr=""/>
          <p:cNvPicPr/>
          <p:nvPr/>
        </p:nvPicPr>
        <p:blipFill>
          <a:blip r:embed="rId2"/>
          <a:stretch/>
        </p:blipFill>
        <p:spPr>
          <a:xfrm>
            <a:off x="7878600" y="23828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720" y="1413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Е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73480" y="2470320"/>
            <a:ext cx="33685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тно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собств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место в соц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но-классо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13372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679608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2763360" y="14130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3480" y="2743200"/>
            <a:ext cx="33685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вторимое свое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213372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 flipH="1">
            <a:off x="6796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9400" y="5181480"/>
            <a:ext cx="77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повторимое своеобразие какого-либо явления, включая природные и обще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 и 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1" name="Object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8302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4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32200" cy="3581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3668760" y="112068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78720" y="5527800"/>
            <a:ext cx="47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НГАЧУК-БОЛЬШОЙ ЗМ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59600" y="5562720"/>
            <a:ext cx="380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РДЖ ВАШИНГ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21304"/>
                </a:solidFill>
                <a:uFillTx/>
                <a:latin typeface="Times New Roman"/>
              </a:rPr>
              <a:t>ЛИЧ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257480" y="124920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3276720" y="914400"/>
            <a:ext cx="5140440" cy="1191240"/>
            <a:chOff x="3276720" y="914400"/>
            <a:chExt cx="5140440" cy="1191240"/>
          </a:xfrm>
        </p:grpSpPr>
        <p:sp>
          <p:nvSpPr>
            <p:cNvPr id="241" name="Text Box 4"/>
            <p:cNvSpPr/>
            <p:nvPr/>
          </p:nvSpPr>
          <p:spPr>
            <a:xfrm>
              <a:off x="4365360" y="914400"/>
              <a:ext cx="4051800" cy="1191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кий индивид,ка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 отношений и созн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н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276720" y="1295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1184400" y="1919160"/>
            <a:ext cx="4642920" cy="2609640"/>
            <a:chOff x="1184400" y="1919160"/>
            <a:chExt cx="4642920" cy="2609640"/>
          </a:xfrm>
        </p:grpSpPr>
        <p:sp>
          <p:nvSpPr>
            <p:cNvPr id="244" name="AutoShape 7"/>
            <p:cNvSpPr/>
            <p:nvPr/>
          </p:nvSpPr>
          <p:spPr>
            <a:xfrm>
              <a:off x="1952640" y="1919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1184400" y="2971800"/>
              <a:ext cx="4642920" cy="1557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ойчивая система социальн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чимых черт,характеризую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их индивида, как члена т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ли иного обществ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Object 9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424080" cy="155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320040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05240" y="4854600"/>
            <a:ext cx="32958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229280" y="190512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одходы к изучении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14400" y="76212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6400800" y="1066680"/>
            <a:ext cx="2314440" cy="1716120"/>
            <a:chOff x="6400800" y="1066680"/>
            <a:chExt cx="2314440" cy="1716120"/>
          </a:xfrm>
        </p:grpSpPr>
        <p:pic>
          <p:nvPicPr>
            <p:cNvPr id="254" name="Object 6" descr=""/>
            <p:cNvPicPr/>
            <p:nvPr/>
          </p:nvPicPr>
          <p:blipFill>
            <a:blip r:embed="rId1"/>
            <a:stretch/>
          </p:blipFill>
          <p:spPr>
            <a:xfrm>
              <a:off x="6934320" y="106668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7"/>
            <p:cNvSpPr/>
            <p:nvPr/>
          </p:nvSpPr>
          <p:spPr>
            <a:xfrm>
              <a:off x="640080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828800" y="1066680"/>
            <a:ext cx="2133720" cy="2057400"/>
            <a:chOff x="1828800" y="1066680"/>
            <a:chExt cx="2133720" cy="2057400"/>
          </a:xfrm>
        </p:grpSpPr>
        <p:pic>
          <p:nvPicPr>
            <p:cNvPr id="257" name="Object 9" descr=""/>
            <p:cNvPicPr/>
            <p:nvPr/>
          </p:nvPicPr>
          <p:blipFill>
            <a:blip r:embed="rId2"/>
            <a:stretch/>
          </p:blipFill>
          <p:spPr>
            <a:xfrm>
              <a:off x="1828800" y="106668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AutoShape 10"/>
            <p:cNvSpPr/>
            <p:nvPr/>
          </p:nvSpPr>
          <p:spPr>
            <a:xfrm flipH="1">
              <a:off x="350532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1"/>
          <p:cNvGrpSpPr/>
          <p:nvPr/>
        </p:nvGrpSpPr>
        <p:grpSpPr>
          <a:xfrm>
            <a:off x="4495680" y="2666880"/>
            <a:ext cx="1765440" cy="2286000"/>
            <a:chOff x="4495680" y="2666880"/>
            <a:chExt cx="1765440" cy="2286000"/>
          </a:xfrm>
        </p:grpSpPr>
        <p:pic>
          <p:nvPicPr>
            <p:cNvPr id="260" name="Object 12" descr=""/>
            <p:cNvPicPr/>
            <p:nvPr/>
          </p:nvPicPr>
          <p:blipFill>
            <a:blip r:embed="rId3"/>
            <a:stretch/>
          </p:blipFill>
          <p:spPr>
            <a:xfrm>
              <a:off x="4495680" y="3173400"/>
              <a:ext cx="17654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 rot="5400000">
              <a:off x="4991040" y="27050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6486840" y="2650680"/>
            <a:ext cx="2314440" cy="2286360"/>
            <a:chOff x="6486840" y="2650680"/>
            <a:chExt cx="2314440" cy="2286360"/>
          </a:xfrm>
        </p:grpSpPr>
        <p:pic>
          <p:nvPicPr>
            <p:cNvPr id="263" name="Object 15" descr=""/>
            <p:cNvPicPr/>
            <p:nvPr/>
          </p:nvPicPr>
          <p:blipFill>
            <a:blip r:embed="rId4"/>
            <a:stretch/>
          </p:blipFill>
          <p:spPr>
            <a:xfrm>
              <a:off x="7238880" y="2895480"/>
              <a:ext cx="1562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16"/>
            <p:cNvSpPr/>
            <p:nvPr/>
          </p:nvSpPr>
          <p:spPr>
            <a:xfrm rot="1928400">
              <a:off x="6553080" y="27428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1219320" y="2716560"/>
            <a:ext cx="2964240" cy="2231640"/>
            <a:chOff x="1219320" y="2716560"/>
            <a:chExt cx="2964240" cy="2231640"/>
          </a:xfrm>
        </p:grpSpPr>
        <p:pic>
          <p:nvPicPr>
            <p:cNvPr id="266" name="Object 18" descr=""/>
            <p:cNvPicPr/>
            <p:nvPr/>
          </p:nvPicPr>
          <p:blipFill>
            <a:blip r:embed="rId5"/>
            <a:stretch/>
          </p:blipFill>
          <p:spPr>
            <a:xfrm>
              <a:off x="1219320" y="3200400"/>
              <a:ext cx="24429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19"/>
            <p:cNvSpPr/>
            <p:nvPr/>
          </p:nvSpPr>
          <p:spPr>
            <a:xfrm rot="8380200">
              <a:off x="3657240" y="28191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20"/>
          <p:cNvSpPr/>
          <p:nvPr/>
        </p:nvSpPr>
        <p:spPr>
          <a:xfrm>
            <a:off x="1082160" y="5054760"/>
            <a:ext cx="77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ь проявляется  через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ущност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наи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мы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арактерист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оценивается относ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ьно принятых в обществе н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6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презент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ина Пол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снутдинова Ал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нева А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ова Ма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злякова Наст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ва М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046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371600" y="24382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5"/>
          <p:cNvSpPr/>
          <p:nvPr/>
        </p:nvSpPr>
        <p:spPr>
          <a:xfrm>
            <a:off x="4114800" y="294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025"/>
          <p:cNvGraphicFramePr/>
          <p:nvPr/>
        </p:nvGraphicFramePr>
        <p:xfrm>
          <a:off x="6019920" y="2209680"/>
          <a:ext cx="2743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09680"/>
                    <a:ext cx="2743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"/>
          <p:cNvSpPr/>
          <p:nvPr/>
        </p:nvSpPr>
        <p:spPr>
          <a:xfrm>
            <a:off x="1284120" y="404640"/>
            <a:ext cx="733608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71600" y="1219320"/>
            <a:ext cx="7035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 из специфических свойств человек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самого себ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93440" y="4292640"/>
            <a:ext cx="232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очему?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025800" cy="3252600"/>
          </a:xfrm>
          <a:prstGeom prst="rect">
            <a:avLst/>
          </a:prstGeom>
          <a:ln w="9360">
            <a:solidFill>
              <a:srgbClr val="221304"/>
            </a:solidFill>
            <a:miter/>
          </a:ln>
        </p:spPr>
      </p:pic>
      <p:sp>
        <p:nvSpPr>
          <p:cNvPr id="136" name="Text Box 3"/>
          <p:cNvSpPr/>
          <p:nvPr/>
        </p:nvSpPr>
        <p:spPr>
          <a:xfrm>
            <a:off x="1984320" y="3276720"/>
            <a:ext cx="1662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КАК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914400" cy="106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253880" y="414360"/>
            <a:ext cx="733608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1911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83052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59436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043400" y="1590840"/>
            <a:ext cx="169092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5400000">
            <a:off x="2490480" y="4929120"/>
            <a:ext cx="1219320" cy="961920"/>
          </a:xfrm>
          <a:custGeom>
            <a:avLst/>
            <a:gdLst>
              <a:gd name="textAreaLeft" fmla="*/ 0 w 1219320"/>
              <a:gd name="textAreaRight" fmla="*/ 1045080 w 1219320"/>
              <a:gd name="textAreaTop" fmla="*/ 641520 h 961920"/>
              <a:gd name="textAreaBottom" fmla="*/ 962280 h 961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585480" y="5092560"/>
            <a:ext cx="214524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54100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1713600">
            <a:off x="4510080" y="301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7696080" y="3505320"/>
            <a:ext cx="914400" cy="914400"/>
          </a:xfrm>
          <a:prstGeom prst="plus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468040" y="3505320"/>
            <a:ext cx="204444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Идеа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76201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8077320" y="2666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23" descr=""/>
          <p:cNvPicPr/>
          <p:nvPr/>
        </p:nvPicPr>
        <p:blipFill>
          <a:blip r:embed="rId4"/>
          <a:stretch/>
        </p:blipFill>
        <p:spPr>
          <a:xfrm>
            <a:off x="3886200" y="4648320"/>
            <a:ext cx="1219320" cy="17874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24200" cy="2587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30360" y="1257480"/>
            <a:ext cx="25840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ревнегре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26960" y="1295280"/>
            <a:ext cx="1284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ты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52480" y="1905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7238880" y="1981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11240" y="2666880"/>
            <a:ext cx="185544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А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22160" y="2666880"/>
            <a:ext cx="26892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Object 10" descr=""/>
          <p:cNvPicPr/>
          <p:nvPr/>
        </p:nvPicPr>
        <p:blipFill>
          <a:blip r:embed="rId2"/>
          <a:stretch/>
        </p:blipFill>
        <p:spPr>
          <a:xfrm>
            <a:off x="4051440" y="3809880"/>
            <a:ext cx="1206360" cy="179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029840" y="5299200"/>
            <a:ext cx="1401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053000" y="369900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имая осн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023880" y="367344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-о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 rot="5400000">
            <a:off x="2210040" y="472356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416640" y="470844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4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631800" cy="14511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6000" y="27432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3"/>
          <a:stretch/>
        </p:blipFill>
        <p:spPr>
          <a:xfrm>
            <a:off x="4724280" y="1403280"/>
            <a:ext cx="604800" cy="10112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4"/>
          <a:stretch/>
        </p:blipFill>
        <p:spPr>
          <a:xfrm>
            <a:off x="56386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528480" cy="1042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6"/>
          <a:stretch/>
        </p:blipFill>
        <p:spPr>
          <a:xfrm>
            <a:off x="7010280" y="1454040"/>
            <a:ext cx="519120" cy="96048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7"/>
          <a:stretch/>
        </p:blipFill>
        <p:spPr>
          <a:xfrm>
            <a:off x="8077320" y="1355760"/>
            <a:ext cx="519120" cy="10587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 rot="20412000">
            <a:off x="5257800" y="2666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0451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713736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147800">
            <a:off x="79243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634400" y="548640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я термина 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через взаимоотношения человека и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0659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2617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частного к общ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8" name="Object 3" descr=""/>
          <p:cNvPicPr/>
          <p:nvPr/>
        </p:nvPicPr>
        <p:blipFill>
          <a:blip r:embed="rId1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039920" y="1401840"/>
            <a:ext cx="173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отлич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90480" y="2484360"/>
            <a:ext cx="312660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неш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сихологичес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духов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Object 8" descr=""/>
          <p:cNvPicPr/>
          <p:nvPr/>
        </p:nvPicPr>
        <p:blipFill>
          <a:blip r:embed="rId2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89480" y="1413000"/>
            <a:ext cx="47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НЕШ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444120" y="2484360"/>
            <a:ext cx="2995560" cy="253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цвет ко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антроп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группа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еские черты, присущие определенной особ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му в силу сочетани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следственных и прио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тен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355120" y="1413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469680" y="2013120"/>
            <a:ext cx="28933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темпер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нтелле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интере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остная характеристика определенного человека через его темперамент, характер,интересы, интеллект, потребности и спосо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01:00:02Z</dcterms:created>
  <dc:creator>Чернов Алексей</dc:creator>
  <dc:description/>
  <dc:language>en-US</dc:language>
  <cp:lastModifiedBy>LEGION</cp:lastModifiedBy>
  <dcterms:modified xsi:type="dcterms:W3CDTF">2014-11-12T10:38:37Z</dcterms:modified>
  <cp:revision>21</cp:revision>
  <dc:subject/>
  <dc:title>Человек, индивид, личность.</dc:title>
</cp:coreProperties>
</file>