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3.jpeg" ContentType="image/jpe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FAA0-488C-4523-8359-ECCDA20ED54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36845"/>
                </a:solidFill>
                <a:latin typeface="Times New Roman"/>
                <a:ea typeface="Times New Roman"/>
              </a:rPr>
              <a:t>чело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5923-D804-4384-BA95-66F0A287885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20DE-04E4-4377-B6A1-EA870D9104E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9ECC-66A2-425A-A5A6-1AA19B578A3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 и Индивид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CF14-5477-4885-B53E-91E4761F445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Л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5627-523F-4788-B21C-2AB2CD22FDC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Л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0A59-3CB5-45B6-8496-A8A6601BE83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ли презентацию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шина По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снутдинова Ал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нева А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това Мар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злякова Наст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ова Ма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248B-8925-4493-9778-642BBF124AE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ЧЕЛОВЕК С ТОЧКИ ЗРЕНИ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05D9-8158-4B6A-9D3F-A7A4B6C93A3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ИВИД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D57F-DEEF-4458-8F9F-9146249BE57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9E1D-84B7-411F-BF8C-1586AF03A00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A5AA-A596-49DA-AEE6-E72CA98A70E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5D68-35D1-4B4F-A84E-48C12E2DD09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AF30-DD2F-43D6-8BCA-E21D97AA1C8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5843-F2C3-43D8-9D07-24C06F08CA9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2479-1995-4D09-9CDF-865172A27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2001-870B-4B07-8BF1-5AEC50D3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3696-70B1-4FDA-81E5-B7D7E9D11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2FDC-C19F-4DDA-B754-46F09616C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5713-3F32-493A-A23F-FF4FBC85A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0273-78F3-469F-8CBA-17C0184F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10AB-98C8-425A-8766-3EEB0E08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C039-AEB4-4E6D-A5EF-8DFBDA69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89700-E404-4690-AB76-3F18586D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FB58-0C0F-42A2-9D68-E5F828D3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5B0E-D5AE-4986-8F04-4D9671FE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F0BB-E7F7-466D-96D2-9926BD1B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DD7B-E084-4245-8296-67B1145C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7480-B02D-41A3-ACCF-2F7E5960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3CF6-955F-42B0-B9EC-9FF843BC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0C0F7-DD30-4E4B-B32B-BC9EBC6EB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F453-9F8A-4624-8F5B-31B1F31FB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9165-4550-4089-AB9D-7C0CEEF6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2176-92F6-4AE0-8CCF-6A2BFCF7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293F-9EF6-444E-8F4E-643CA2B9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A4C3-FCEF-4657-BFF1-037892E7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3DB0-438D-4888-B3D6-3EB81042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189F-43D4-4F69-B36D-6FEAA6B1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83A6-05F6-41C7-B1DF-4966FBC1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3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31000"/>
                <a:ext cx="10411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4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1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7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0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6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58C9-66DB-43E3-996F-72C11046D379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4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6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8632-854B-4573-907B-2BDD67CDC7A3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1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280" y="5341680"/>
            <a:ext cx="772164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WordArt 4"/>
          <p:cNvSpPr txBox="1"/>
          <p:nvPr/>
        </p:nvSpPr>
        <p:spPr>
          <a:xfrm>
            <a:off x="2050920" y="2478240"/>
            <a:ext cx="5113440" cy="15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836845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ловек</a:t>
            </a:r>
            <a:endParaRPr b="0" lang="en-US" sz="2400" spc="1" strike="noStrike">
              <a:ln w="3240">
                <a:solidFill>
                  <a:srgbClr val="000000"/>
                </a:solidFill>
                <a:miter/>
              </a:ln>
              <a:solidFill>
                <a:srgbClr val="836845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556080" y="611496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ндивидуаль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14" name="Object 3" descr=""/>
          <p:cNvPicPr/>
          <p:nvPr/>
        </p:nvPicPr>
        <p:blipFill>
          <a:blip r:embed="rId1"/>
          <a:stretch/>
        </p:blipFill>
        <p:spPr>
          <a:xfrm>
            <a:off x="1143000" y="2208240"/>
            <a:ext cx="873000" cy="3049560"/>
          </a:xfrm>
          <a:prstGeom prst="rect">
            <a:avLst/>
          </a:prstGeom>
          <a:ln w="0">
            <a:noFill/>
          </a:ln>
        </p:spPr>
      </p:pic>
      <p:pic>
        <p:nvPicPr>
          <p:cNvPr id="215" name="Object 4" descr=""/>
          <p:cNvPicPr/>
          <p:nvPr/>
        </p:nvPicPr>
        <p:blipFill>
          <a:blip r:embed="rId2"/>
          <a:stretch/>
        </p:blipFill>
        <p:spPr>
          <a:xfrm>
            <a:off x="7878600" y="2382840"/>
            <a:ext cx="884520" cy="287496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5"/>
          <p:cNvSpPr/>
          <p:nvPr/>
        </p:nvSpPr>
        <p:spPr>
          <a:xfrm>
            <a:off x="2916720" y="1413000"/>
            <a:ext cx="40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ЦИАЛЬНЫЕОТЛИЧ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3273480" y="2470320"/>
            <a:ext cx="3368520" cy="30186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отнош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 собствен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место в соци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льно-классов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руктур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д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2133720" y="33256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8"/>
          <p:cNvSpPr/>
          <p:nvPr/>
        </p:nvSpPr>
        <p:spPr>
          <a:xfrm flipH="1">
            <a:off x="6796080" y="33256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ндивидуаль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22" name="Object 3" descr=""/>
          <p:cNvPicPr/>
          <p:nvPr/>
        </p:nvPicPr>
        <p:blipFill>
          <a:blip r:embed="rId1"/>
          <a:stretch/>
        </p:blipFill>
        <p:spPr>
          <a:xfrm>
            <a:off x="1143000" y="1751040"/>
            <a:ext cx="873000" cy="3049560"/>
          </a:xfrm>
          <a:prstGeom prst="rect">
            <a:avLst/>
          </a:prstGeom>
          <a:ln w="0">
            <a:noFill/>
          </a:ln>
        </p:spPr>
      </p:pic>
      <p:pic>
        <p:nvPicPr>
          <p:cNvPr id="223" name="Object 4" descr=""/>
          <p:cNvPicPr/>
          <p:nvPr/>
        </p:nvPicPr>
        <p:blipFill>
          <a:blip r:embed="rId2"/>
          <a:stretch/>
        </p:blipFill>
        <p:spPr>
          <a:xfrm>
            <a:off x="7878600" y="1925640"/>
            <a:ext cx="884520" cy="28749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5"/>
          <p:cNvSpPr/>
          <p:nvPr/>
        </p:nvSpPr>
        <p:spPr>
          <a:xfrm>
            <a:off x="2763360" y="1413000"/>
            <a:ext cx="44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ЛОСОФСКИЕ ОТЛИЧ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3273480" y="2743200"/>
            <a:ext cx="3368520" cy="10688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повторимое своеобраз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2133720" y="28684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8"/>
          <p:cNvSpPr/>
          <p:nvPr/>
        </p:nvSpPr>
        <p:spPr>
          <a:xfrm flipH="1">
            <a:off x="6796080" y="28684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049400" y="5181480"/>
            <a:ext cx="776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еповторимое своеобразие какого-либо явления, включая природные и обществе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ндивид и Индивидуаль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31" name="Object 3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1830240" cy="3733920"/>
          </a:xfrm>
          <a:prstGeom prst="rect">
            <a:avLst/>
          </a:prstGeom>
          <a:ln w="0">
            <a:noFill/>
          </a:ln>
        </p:spPr>
      </p:pic>
      <p:pic>
        <p:nvPicPr>
          <p:cNvPr id="232" name="Object 4" descr=""/>
          <p:cNvPicPr/>
          <p:nvPr/>
        </p:nvPicPr>
        <p:blipFill>
          <a:blip r:embed="rId2"/>
          <a:stretch/>
        </p:blipFill>
        <p:spPr>
          <a:xfrm>
            <a:off x="5410080" y="1828800"/>
            <a:ext cx="2932200" cy="35812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5"/>
          <p:cNvSpPr/>
          <p:nvPr/>
        </p:nvSpPr>
        <p:spPr>
          <a:xfrm>
            <a:off x="3668760" y="1120680"/>
            <a:ext cx="246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66"/>
                </a:solidFill>
                <a:uFillTx/>
                <a:latin typeface="Times New Roman"/>
              </a:rPr>
              <a:t>СРАВНИТ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378720" y="5527800"/>
            <a:ext cx="4708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ИНГАЧУК-БОЛЬШОЙ ЗМ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5259600" y="5562720"/>
            <a:ext cx="3809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ЖОРДЖ ВАШИНГТ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040" y="24379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221304"/>
                </a:solidFill>
                <a:uFillTx/>
                <a:latin typeface="Times New Roman"/>
              </a:rPr>
              <a:t>ЛИЧ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556080" y="611496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1257480" y="1249200"/>
            <a:ext cx="190908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лич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3"/>
          <p:cNvGrpSpPr/>
          <p:nvPr/>
        </p:nvGrpSpPr>
        <p:grpSpPr>
          <a:xfrm>
            <a:off x="3276720" y="914400"/>
            <a:ext cx="5140440" cy="1191240"/>
            <a:chOff x="3276720" y="914400"/>
            <a:chExt cx="5140440" cy="1191240"/>
          </a:xfrm>
        </p:grpSpPr>
        <p:sp>
          <p:nvSpPr>
            <p:cNvPr id="241" name="Text Box 4"/>
            <p:cNvSpPr/>
            <p:nvPr/>
          </p:nvSpPr>
          <p:spPr>
            <a:xfrm>
              <a:off x="4365360" y="914400"/>
              <a:ext cx="4051800" cy="11912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Человеческий индивид,ка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убъект отношений и созна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ельной деятельност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AutoShape 5"/>
            <p:cNvSpPr/>
            <p:nvPr/>
          </p:nvSpPr>
          <p:spPr>
            <a:xfrm>
              <a:off x="3276720" y="129528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Group 6"/>
          <p:cNvGrpSpPr/>
          <p:nvPr/>
        </p:nvGrpSpPr>
        <p:grpSpPr>
          <a:xfrm>
            <a:off x="1184400" y="1919160"/>
            <a:ext cx="4642920" cy="2609640"/>
            <a:chOff x="1184400" y="1919160"/>
            <a:chExt cx="4642920" cy="2609640"/>
          </a:xfrm>
        </p:grpSpPr>
        <p:sp>
          <p:nvSpPr>
            <p:cNvPr id="244" name="AutoShape 7"/>
            <p:cNvSpPr/>
            <p:nvPr/>
          </p:nvSpPr>
          <p:spPr>
            <a:xfrm>
              <a:off x="1952640" y="1919160"/>
              <a:ext cx="485640" cy="976320"/>
            </a:xfrm>
            <a:prstGeom prst="downArrow">
              <a:avLst>
                <a:gd name="adj1" fmla="val 50000"/>
                <a:gd name="adj2" fmla="val 50259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8"/>
            <p:cNvSpPr/>
            <p:nvPr/>
          </p:nvSpPr>
          <p:spPr>
            <a:xfrm>
              <a:off x="1184400" y="2971800"/>
              <a:ext cx="4642920" cy="15570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Устойчивая система социально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начимых черт,характеризую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щих индивида, как члена того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ли иного общества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6" name="Object 9" descr=""/>
          <p:cNvPicPr/>
          <p:nvPr/>
        </p:nvPicPr>
        <p:blipFill>
          <a:blip r:embed="rId1"/>
          <a:stretch/>
        </p:blipFill>
        <p:spPr>
          <a:xfrm>
            <a:off x="1981080" y="4800600"/>
            <a:ext cx="424080" cy="155592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10"/>
          <p:cNvSpPr/>
          <p:nvPr/>
        </p:nvSpPr>
        <p:spPr>
          <a:xfrm>
            <a:off x="3200400" y="518148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ffff00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5205240" y="4854600"/>
            <a:ext cx="3295800" cy="916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imes New Roman"/>
              </a:rPr>
              <a:t>Обществ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Місце для нижнього колонтитула 3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4229280" y="1905120"/>
            <a:ext cx="190908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лич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Подходы к изучении личност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914400" y="762120"/>
            <a:ext cx="79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Group 5"/>
          <p:cNvGrpSpPr/>
          <p:nvPr/>
        </p:nvGrpSpPr>
        <p:grpSpPr>
          <a:xfrm>
            <a:off x="6400800" y="1066680"/>
            <a:ext cx="2314440" cy="1716120"/>
            <a:chOff x="6400800" y="1066680"/>
            <a:chExt cx="2314440" cy="1716120"/>
          </a:xfrm>
        </p:grpSpPr>
        <p:pic>
          <p:nvPicPr>
            <p:cNvPr id="254" name="Object 6" descr=""/>
            <p:cNvPicPr/>
            <p:nvPr/>
          </p:nvPicPr>
          <p:blipFill>
            <a:blip r:embed="rId1"/>
            <a:stretch/>
          </p:blipFill>
          <p:spPr>
            <a:xfrm>
              <a:off x="6934320" y="1066680"/>
              <a:ext cx="1780920" cy="17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AutoShape 7"/>
            <p:cNvSpPr/>
            <p:nvPr/>
          </p:nvSpPr>
          <p:spPr>
            <a:xfrm>
              <a:off x="6400800" y="205740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8"/>
          <p:cNvGrpSpPr/>
          <p:nvPr/>
        </p:nvGrpSpPr>
        <p:grpSpPr>
          <a:xfrm>
            <a:off x="1828800" y="1066680"/>
            <a:ext cx="2133720" cy="2057400"/>
            <a:chOff x="1828800" y="1066680"/>
            <a:chExt cx="2133720" cy="2057400"/>
          </a:xfrm>
        </p:grpSpPr>
        <p:pic>
          <p:nvPicPr>
            <p:cNvPr id="257" name="Object 9" descr=""/>
            <p:cNvPicPr/>
            <p:nvPr/>
          </p:nvPicPr>
          <p:blipFill>
            <a:blip r:embed="rId2"/>
            <a:stretch/>
          </p:blipFill>
          <p:spPr>
            <a:xfrm>
              <a:off x="1828800" y="1066680"/>
              <a:ext cx="14400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AutoShape 10"/>
            <p:cNvSpPr/>
            <p:nvPr/>
          </p:nvSpPr>
          <p:spPr>
            <a:xfrm flipH="1">
              <a:off x="3505320" y="205740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Group 11"/>
          <p:cNvGrpSpPr/>
          <p:nvPr/>
        </p:nvGrpSpPr>
        <p:grpSpPr>
          <a:xfrm>
            <a:off x="4495680" y="2666880"/>
            <a:ext cx="1765440" cy="2286000"/>
            <a:chOff x="4495680" y="2666880"/>
            <a:chExt cx="1765440" cy="2286000"/>
          </a:xfrm>
        </p:grpSpPr>
        <p:pic>
          <p:nvPicPr>
            <p:cNvPr id="260" name="Object 12" descr=""/>
            <p:cNvPicPr/>
            <p:nvPr/>
          </p:nvPicPr>
          <p:blipFill>
            <a:blip r:embed="rId3"/>
            <a:stretch/>
          </p:blipFill>
          <p:spPr>
            <a:xfrm>
              <a:off x="4495680" y="3173400"/>
              <a:ext cx="1765440" cy="17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AutoShape 13"/>
            <p:cNvSpPr/>
            <p:nvPr/>
          </p:nvSpPr>
          <p:spPr>
            <a:xfrm rot="5400000">
              <a:off x="4991040" y="270504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Group 14"/>
          <p:cNvGrpSpPr/>
          <p:nvPr/>
        </p:nvGrpSpPr>
        <p:grpSpPr>
          <a:xfrm>
            <a:off x="6486840" y="2650680"/>
            <a:ext cx="2314440" cy="2286360"/>
            <a:chOff x="6486840" y="2650680"/>
            <a:chExt cx="2314440" cy="2286360"/>
          </a:xfrm>
        </p:grpSpPr>
        <p:pic>
          <p:nvPicPr>
            <p:cNvPr id="263" name="Object 15" descr=""/>
            <p:cNvPicPr/>
            <p:nvPr/>
          </p:nvPicPr>
          <p:blipFill>
            <a:blip r:embed="rId4"/>
            <a:stretch/>
          </p:blipFill>
          <p:spPr>
            <a:xfrm>
              <a:off x="7238880" y="2895480"/>
              <a:ext cx="1562400" cy="20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AutoShape 16"/>
            <p:cNvSpPr/>
            <p:nvPr/>
          </p:nvSpPr>
          <p:spPr>
            <a:xfrm rot="1928400">
              <a:off x="6553080" y="274284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17"/>
          <p:cNvGrpSpPr/>
          <p:nvPr/>
        </p:nvGrpSpPr>
        <p:grpSpPr>
          <a:xfrm>
            <a:off x="1219320" y="2716560"/>
            <a:ext cx="2964240" cy="2231640"/>
            <a:chOff x="1219320" y="2716560"/>
            <a:chExt cx="2964240" cy="2231640"/>
          </a:xfrm>
        </p:grpSpPr>
        <p:pic>
          <p:nvPicPr>
            <p:cNvPr id="266" name="Object 18" descr=""/>
            <p:cNvPicPr/>
            <p:nvPr/>
          </p:nvPicPr>
          <p:blipFill>
            <a:blip r:embed="rId5"/>
            <a:stretch/>
          </p:blipFill>
          <p:spPr>
            <a:xfrm>
              <a:off x="1219320" y="3200400"/>
              <a:ext cx="2442960" cy="17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AutoShape 19"/>
            <p:cNvSpPr/>
            <p:nvPr/>
          </p:nvSpPr>
          <p:spPr>
            <a:xfrm rot="8380200">
              <a:off x="3657240" y="281916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Text Box 20"/>
          <p:cNvSpPr/>
          <p:nvPr/>
        </p:nvSpPr>
        <p:spPr>
          <a:xfrm>
            <a:off x="1082160" y="5054760"/>
            <a:ext cx="770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чность проявляется  через 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сущностны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наиболе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чимые 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характеристик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 оценивается относи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льно принятых в обществе нор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Місце для нижнього колонтитула 6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680" y="1628280"/>
            <a:ext cx="777240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готовили презентацию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шина Поли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уснутдинова Алс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днева Ан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това Мари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рзлякова Наст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трова Маш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5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5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5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5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5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5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5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5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5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5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50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50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50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50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0804680" y="362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Object 1024"/>
          <p:cNvGraphicFramePr/>
          <p:nvPr/>
        </p:nvGraphicFramePr>
        <p:xfrm>
          <a:off x="1371600" y="2438280"/>
          <a:ext cx="1857240" cy="39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38280"/>
                    <a:ext cx="1857240" cy="39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AutoShape 5"/>
          <p:cNvSpPr/>
          <p:nvPr/>
        </p:nvSpPr>
        <p:spPr>
          <a:xfrm>
            <a:off x="4114800" y="2943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1025"/>
          <p:cNvGraphicFramePr/>
          <p:nvPr/>
        </p:nvGraphicFramePr>
        <p:xfrm>
          <a:off x="6019920" y="2209680"/>
          <a:ext cx="2743200" cy="434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2209680"/>
                    <a:ext cx="27432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Text Box 7"/>
          <p:cNvSpPr/>
          <p:nvPr/>
        </p:nvSpPr>
        <p:spPr>
          <a:xfrm>
            <a:off x="1284120" y="404640"/>
            <a:ext cx="7336080" cy="5205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ЧЕЛОВЕК С ТОЧКИ ЗРЕНИЯ ЧЕЛО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371600" y="1219320"/>
            <a:ext cx="70358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дно из специфических свойств человека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нализ самого себ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3493440" y="4292640"/>
            <a:ext cx="23234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Почему?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ject 4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3025800" cy="3252600"/>
          </a:xfrm>
          <a:prstGeom prst="rect">
            <a:avLst/>
          </a:prstGeom>
          <a:ln w="9360">
            <a:solidFill>
              <a:srgbClr val="221304"/>
            </a:solidFill>
            <a:miter/>
          </a:ln>
        </p:spPr>
      </p:pic>
      <p:sp>
        <p:nvSpPr>
          <p:cNvPr id="136" name="Text Box 3"/>
          <p:cNvSpPr/>
          <p:nvPr/>
        </p:nvSpPr>
        <p:spPr>
          <a:xfrm>
            <a:off x="1984320" y="3276720"/>
            <a:ext cx="1662120" cy="70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КАК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Object 5" descr=""/>
          <p:cNvPicPr/>
          <p:nvPr/>
        </p:nvPicPr>
        <p:blipFill>
          <a:blip r:embed="rId2"/>
          <a:stretch/>
        </p:blipFill>
        <p:spPr>
          <a:xfrm>
            <a:off x="3657600" y="2590920"/>
            <a:ext cx="914400" cy="10634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"/>
          <p:cNvSpPr/>
          <p:nvPr/>
        </p:nvSpPr>
        <p:spPr>
          <a:xfrm>
            <a:off x="1253880" y="414360"/>
            <a:ext cx="7336080" cy="52056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ЧЕЛОВЕК С ТОЧКИ ЗРЕНИЯ ЧЕЛО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4191120" y="18288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Object 7" descr=""/>
          <p:cNvPicPr/>
          <p:nvPr/>
        </p:nvPicPr>
        <p:blipFill>
          <a:blip r:embed="rId3"/>
          <a:stretch/>
        </p:blipFill>
        <p:spPr>
          <a:xfrm>
            <a:off x="5181480" y="1752480"/>
            <a:ext cx="830520" cy="114300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8"/>
          <p:cNvSpPr/>
          <p:nvPr/>
        </p:nvSpPr>
        <p:spPr>
          <a:xfrm>
            <a:off x="5943600" y="18288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7043400" y="1590840"/>
            <a:ext cx="1690920" cy="947160"/>
          </a:xfrm>
          <a:prstGeom prst="rect">
            <a:avLst/>
          </a:prstGeom>
          <a:solidFill>
            <a:srgbClr val="ccffcc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Внеш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анали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10"/>
          <p:cNvSpPr/>
          <p:nvPr/>
        </p:nvSpPr>
        <p:spPr>
          <a:xfrm rot="5400000">
            <a:off x="2490480" y="4929120"/>
            <a:ext cx="1219320" cy="961920"/>
          </a:xfrm>
          <a:custGeom>
            <a:avLst/>
            <a:gdLst>
              <a:gd name="textAreaLeft" fmla="*/ 0 w 1219320"/>
              <a:gd name="textAreaRight" fmla="*/ 1045080 w 1219320"/>
              <a:gd name="textAreaTop" fmla="*/ 641520 h 961920"/>
              <a:gd name="textAreaBottom" fmla="*/ 962280 h 9619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6585480" y="5092560"/>
            <a:ext cx="2145240" cy="947160"/>
          </a:xfrm>
          <a:prstGeom prst="rect">
            <a:avLst/>
          </a:prstGeom>
          <a:solidFill>
            <a:srgbClr val="ccffcc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Внутрен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анали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6"/>
          <p:cNvSpPr/>
          <p:nvPr/>
        </p:nvSpPr>
        <p:spPr>
          <a:xfrm>
            <a:off x="5410080" y="54100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7"/>
          <p:cNvSpPr/>
          <p:nvPr/>
        </p:nvSpPr>
        <p:spPr>
          <a:xfrm rot="1713600">
            <a:off x="4510080" y="30193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ff00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8"/>
          <p:cNvSpPr/>
          <p:nvPr/>
        </p:nvSpPr>
        <p:spPr>
          <a:xfrm>
            <a:off x="7696080" y="3505320"/>
            <a:ext cx="914400" cy="914400"/>
          </a:xfrm>
          <a:prstGeom prst="plus">
            <a:avLst>
              <a:gd name="adj" fmla="val 25000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5468040" y="3505320"/>
            <a:ext cx="2044440" cy="947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66"/>
                </a:solidFill>
                <a:uFillTx/>
                <a:latin typeface="Times New Roman"/>
              </a:rPr>
              <a:t>Идеальн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66"/>
                </a:solidFill>
                <a:uFillTx/>
                <a:latin typeface="Times New Roman"/>
              </a:rPr>
              <a:t>вариан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21"/>
          <p:cNvSpPr/>
          <p:nvPr/>
        </p:nvSpPr>
        <p:spPr>
          <a:xfrm flipV="1">
            <a:off x="7620120" y="44956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22"/>
          <p:cNvSpPr/>
          <p:nvPr/>
        </p:nvSpPr>
        <p:spPr>
          <a:xfrm>
            <a:off x="8077320" y="2666880"/>
            <a:ext cx="759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Object 23" descr=""/>
          <p:cNvPicPr/>
          <p:nvPr/>
        </p:nvPicPr>
        <p:blipFill>
          <a:blip r:embed="rId4"/>
          <a:stretch/>
        </p:blipFill>
        <p:spPr>
          <a:xfrm>
            <a:off x="3886200" y="4648320"/>
            <a:ext cx="1219320" cy="178740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26665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ИНДИВИД </a:t>
            </a:r>
            <a:br>
              <a:rPr sz="4400"/>
            </a:b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И </a:t>
            </a:r>
            <a:br>
              <a:rPr sz="4400"/>
            </a:b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ИНДИВИДУАЛЬ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556080" y="611496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ндивид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6" name="Object 3" descr=""/>
          <p:cNvPicPr/>
          <p:nvPr/>
        </p:nvPicPr>
        <p:blipFill>
          <a:blip r:embed="rId1"/>
          <a:stretch/>
        </p:blipFill>
        <p:spPr>
          <a:xfrm>
            <a:off x="3276720" y="1219320"/>
            <a:ext cx="2824200" cy="25876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630360" y="1257480"/>
            <a:ext cx="2584080" cy="4597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Древнегреческ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6726960" y="1295280"/>
            <a:ext cx="1284120" cy="4597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Латы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1752480" y="190512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ffff00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7"/>
          <p:cNvSpPr/>
          <p:nvPr/>
        </p:nvSpPr>
        <p:spPr>
          <a:xfrm>
            <a:off x="7238880" y="198108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ffff00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1011240" y="2666880"/>
            <a:ext cx="1855440" cy="5814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«АТОМ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6122160" y="2666880"/>
            <a:ext cx="2689200" cy="5814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«ИНДИВИД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Object 10" descr=""/>
          <p:cNvPicPr/>
          <p:nvPr/>
        </p:nvPicPr>
        <p:blipFill>
          <a:blip r:embed="rId2"/>
          <a:stretch/>
        </p:blipFill>
        <p:spPr>
          <a:xfrm>
            <a:off x="4051440" y="3809880"/>
            <a:ext cx="1206360" cy="17989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1"/>
          <p:cNvSpPr/>
          <p:nvPr/>
        </p:nvSpPr>
        <p:spPr>
          <a:xfrm>
            <a:off x="4029840" y="5299200"/>
            <a:ext cx="1401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Цицер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1053000" y="3699000"/>
            <a:ext cx="279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делимая осно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6023880" y="3673440"/>
            <a:ext cx="209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ловек-од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 люд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4"/>
          <p:cNvSpPr/>
          <p:nvPr/>
        </p:nvSpPr>
        <p:spPr>
          <a:xfrm rot="5400000">
            <a:off x="2210040" y="4723560"/>
            <a:ext cx="852480" cy="733320"/>
          </a:xfrm>
          <a:custGeom>
            <a:avLst/>
            <a:gdLst>
              <a:gd name="textAreaLeft" fmla="*/ 0 w 852480"/>
              <a:gd name="textAreaRight" fmla="*/ 730800 w 852480"/>
              <a:gd name="textAreaTop" fmla="*/ 488880 h 733320"/>
              <a:gd name="textAreaBottom" fmla="*/ 733680 h 7333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15"/>
          <p:cNvSpPr/>
          <p:nvPr/>
        </p:nvSpPr>
        <p:spPr>
          <a:xfrm>
            <a:off x="6416640" y="4708440"/>
            <a:ext cx="852480" cy="733680"/>
          </a:xfrm>
          <a:custGeom>
            <a:avLst/>
            <a:gdLst>
              <a:gd name="textAreaLeft" fmla="*/ 0 w 852480"/>
              <a:gd name="textAreaRight" fmla="*/ 730800 w 852480"/>
              <a:gd name="textAreaTop" fmla="*/ 489240 h 733680"/>
              <a:gd name="textAreaBottom" fmla="*/ 734040 h 7336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ндивид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71" name="Object 3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1981080" cy="1523880"/>
          </a:xfrm>
          <a:prstGeom prst="rect">
            <a:avLst/>
          </a:prstGeom>
          <a:ln w="0">
            <a:noFill/>
          </a:ln>
        </p:spPr>
      </p:pic>
      <p:pic>
        <p:nvPicPr>
          <p:cNvPr id="172" name="Object 4" descr=""/>
          <p:cNvPicPr/>
          <p:nvPr/>
        </p:nvPicPr>
        <p:blipFill>
          <a:blip r:embed="rId2"/>
          <a:stretch/>
        </p:blipFill>
        <p:spPr>
          <a:xfrm>
            <a:off x="2057400" y="3352680"/>
            <a:ext cx="631800" cy="145116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5"/>
          <p:cNvSpPr/>
          <p:nvPr/>
        </p:nvSpPr>
        <p:spPr>
          <a:xfrm>
            <a:off x="2286000" y="274320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ff00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Object 6" descr=""/>
          <p:cNvPicPr/>
          <p:nvPr/>
        </p:nvPicPr>
        <p:blipFill>
          <a:blip r:embed="rId3"/>
          <a:stretch/>
        </p:blipFill>
        <p:spPr>
          <a:xfrm>
            <a:off x="4724280" y="1403280"/>
            <a:ext cx="604800" cy="1011240"/>
          </a:xfrm>
          <a:prstGeom prst="rect">
            <a:avLst/>
          </a:prstGeom>
          <a:ln w="0">
            <a:noFill/>
          </a:ln>
        </p:spPr>
      </p:pic>
      <p:pic>
        <p:nvPicPr>
          <p:cNvPr id="175" name="Object 7" descr=""/>
          <p:cNvPicPr/>
          <p:nvPr/>
        </p:nvPicPr>
        <p:blipFill>
          <a:blip r:embed="rId4"/>
          <a:stretch/>
        </p:blipFill>
        <p:spPr>
          <a:xfrm>
            <a:off x="5638680" y="3352680"/>
            <a:ext cx="1981440" cy="1524240"/>
          </a:xfrm>
          <a:prstGeom prst="rect">
            <a:avLst/>
          </a:prstGeom>
          <a:ln w="0">
            <a:noFill/>
          </a:ln>
        </p:spPr>
      </p:pic>
      <p:pic>
        <p:nvPicPr>
          <p:cNvPr id="176" name="Object 8" descr=""/>
          <p:cNvPicPr/>
          <p:nvPr/>
        </p:nvPicPr>
        <p:blipFill>
          <a:blip r:embed="rId5"/>
          <a:stretch/>
        </p:blipFill>
        <p:spPr>
          <a:xfrm>
            <a:off x="5943600" y="1371600"/>
            <a:ext cx="528480" cy="1042920"/>
          </a:xfrm>
          <a:prstGeom prst="rect">
            <a:avLst/>
          </a:prstGeom>
          <a:ln w="0">
            <a:noFill/>
          </a:ln>
        </p:spPr>
      </p:pic>
      <p:pic>
        <p:nvPicPr>
          <p:cNvPr id="177" name="Object 9" descr=""/>
          <p:cNvPicPr/>
          <p:nvPr/>
        </p:nvPicPr>
        <p:blipFill>
          <a:blip r:embed="rId6"/>
          <a:stretch/>
        </p:blipFill>
        <p:spPr>
          <a:xfrm>
            <a:off x="7010280" y="1454040"/>
            <a:ext cx="519120" cy="960480"/>
          </a:xfrm>
          <a:prstGeom prst="rect">
            <a:avLst/>
          </a:prstGeom>
          <a:ln w="0">
            <a:noFill/>
          </a:ln>
        </p:spPr>
      </p:pic>
      <p:pic>
        <p:nvPicPr>
          <p:cNvPr id="178" name="Object 10" descr=""/>
          <p:cNvPicPr/>
          <p:nvPr/>
        </p:nvPicPr>
        <p:blipFill>
          <a:blip r:embed="rId7"/>
          <a:stretch/>
        </p:blipFill>
        <p:spPr>
          <a:xfrm>
            <a:off x="8077320" y="1355760"/>
            <a:ext cx="519120" cy="105876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11"/>
          <p:cNvSpPr/>
          <p:nvPr/>
        </p:nvSpPr>
        <p:spPr>
          <a:xfrm rot="20412000">
            <a:off x="5257800" y="266652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ff00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12"/>
          <p:cNvSpPr/>
          <p:nvPr/>
        </p:nvSpPr>
        <p:spPr>
          <a:xfrm>
            <a:off x="6045120" y="26668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ff00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13"/>
          <p:cNvSpPr/>
          <p:nvPr/>
        </p:nvSpPr>
        <p:spPr>
          <a:xfrm>
            <a:off x="7137360" y="26668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ff00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14"/>
          <p:cNvSpPr/>
          <p:nvPr/>
        </p:nvSpPr>
        <p:spPr>
          <a:xfrm rot="1147800">
            <a:off x="7924320" y="26668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ff00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5"/>
          <p:cNvSpPr/>
          <p:nvPr/>
        </p:nvSpPr>
        <p:spPr>
          <a:xfrm>
            <a:off x="1634400" y="5486400"/>
            <a:ext cx="667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Значения термина «ИНДИВИД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через взаимоотношения человека и обществ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1065960" y="4952880"/>
            <a:ext cx="32576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 общего к частном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7"/>
          <p:cNvSpPr/>
          <p:nvPr/>
        </p:nvSpPr>
        <p:spPr>
          <a:xfrm>
            <a:off x="5261760" y="4952880"/>
            <a:ext cx="32576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 частного к общем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ндивидуаль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88" name="Object 3" descr=""/>
          <p:cNvPicPr/>
          <p:nvPr/>
        </p:nvPicPr>
        <p:blipFill>
          <a:blip r:embed="rId1"/>
          <a:stretch/>
        </p:blipFill>
        <p:spPr>
          <a:xfrm>
            <a:off x="7878600" y="1925640"/>
            <a:ext cx="884520" cy="28749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4"/>
          <p:cNvSpPr/>
          <p:nvPr/>
        </p:nvSpPr>
        <p:spPr>
          <a:xfrm>
            <a:off x="4039920" y="1401840"/>
            <a:ext cx="1732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221304"/>
                </a:solidFill>
                <a:uFillTx/>
                <a:latin typeface="Times New Roman"/>
              </a:rPr>
              <a:t>отлич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3390480" y="2484360"/>
            <a:ext cx="3126600" cy="30186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внеш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психологичес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социаль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.духовно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ультур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2224080" y="28684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7"/>
          <p:cNvSpPr/>
          <p:nvPr/>
        </p:nvSpPr>
        <p:spPr>
          <a:xfrm flipH="1">
            <a:off x="6643800" y="28684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Object 8" descr=""/>
          <p:cNvPicPr/>
          <p:nvPr/>
        </p:nvPicPr>
        <p:blipFill>
          <a:blip r:embed="rId2"/>
          <a:stretch/>
        </p:blipFill>
        <p:spPr>
          <a:xfrm>
            <a:off x="1143000" y="1751040"/>
            <a:ext cx="873000" cy="304956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ндивидуаль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96" name="Object 3" descr=""/>
          <p:cNvPicPr/>
          <p:nvPr/>
        </p:nvPicPr>
        <p:blipFill>
          <a:blip r:embed="rId1"/>
          <a:stretch/>
        </p:blipFill>
        <p:spPr>
          <a:xfrm>
            <a:off x="1143000" y="1751040"/>
            <a:ext cx="873000" cy="3049560"/>
          </a:xfrm>
          <a:prstGeom prst="rect">
            <a:avLst/>
          </a:prstGeom>
          <a:ln w="0">
            <a:noFill/>
          </a:ln>
        </p:spPr>
      </p:pic>
      <p:pic>
        <p:nvPicPr>
          <p:cNvPr id="197" name="Object 4" descr=""/>
          <p:cNvPicPr/>
          <p:nvPr/>
        </p:nvPicPr>
        <p:blipFill>
          <a:blip r:embed="rId2"/>
          <a:stretch/>
        </p:blipFill>
        <p:spPr>
          <a:xfrm>
            <a:off x="7878600" y="1925640"/>
            <a:ext cx="884520" cy="28749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589480" y="1413000"/>
            <a:ext cx="472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ЛОГИЧЕСКИЕ ОТЛИЧ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ВНЕШНИ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3444120" y="2484360"/>
            <a:ext cx="2995560" cy="25311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цвет кож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антропо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тр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группа кров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д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7"/>
          <p:cNvSpPr/>
          <p:nvPr/>
        </p:nvSpPr>
        <p:spPr>
          <a:xfrm>
            <a:off x="2224080" y="28684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8"/>
          <p:cNvSpPr/>
          <p:nvPr/>
        </p:nvSpPr>
        <p:spPr>
          <a:xfrm flipH="1">
            <a:off x="6643800" y="28684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049400" y="5181480"/>
            <a:ext cx="77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пецифические черты, присущие определенной особ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рганизму в силу сочетания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аследственных и приоб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етенных свойст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ндивидуаль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05" name="Object 3" descr=""/>
          <p:cNvPicPr/>
          <p:nvPr/>
        </p:nvPicPr>
        <p:blipFill>
          <a:blip r:embed="rId1"/>
          <a:stretch/>
        </p:blipFill>
        <p:spPr>
          <a:xfrm>
            <a:off x="1143000" y="1751040"/>
            <a:ext cx="873000" cy="3049560"/>
          </a:xfrm>
          <a:prstGeom prst="rect">
            <a:avLst/>
          </a:prstGeom>
          <a:ln w="0">
            <a:noFill/>
          </a:ln>
        </p:spPr>
      </p:pic>
      <p:pic>
        <p:nvPicPr>
          <p:cNvPr id="206" name="Object 4" descr=""/>
          <p:cNvPicPr/>
          <p:nvPr/>
        </p:nvPicPr>
        <p:blipFill>
          <a:blip r:embed="rId2"/>
          <a:stretch/>
        </p:blipFill>
        <p:spPr>
          <a:xfrm>
            <a:off x="7878600" y="1925640"/>
            <a:ext cx="884520" cy="287496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5"/>
          <p:cNvSpPr/>
          <p:nvPr/>
        </p:nvSpPr>
        <p:spPr>
          <a:xfrm>
            <a:off x="2355120" y="1413000"/>
            <a:ext cx="519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ИХОЛОГИЧЕСКИЕ ОТЛИЧ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3469680" y="2013120"/>
            <a:ext cx="2893320" cy="30186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темперамен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характе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интеллек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.потребност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.способ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.интерес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7"/>
          <p:cNvSpPr/>
          <p:nvPr/>
        </p:nvSpPr>
        <p:spPr>
          <a:xfrm>
            <a:off x="2224080" y="28684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8"/>
          <p:cNvSpPr/>
          <p:nvPr/>
        </p:nvSpPr>
        <p:spPr>
          <a:xfrm flipH="1">
            <a:off x="6643800" y="28684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1049400" y="5181480"/>
            <a:ext cx="77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Целостная характеристика определенного человека через его темперамент, характер,интересы, интеллект, потребности и способ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5T01:00:02Z</dcterms:created>
  <dc:creator>Чернов Алексей</dc:creator>
  <dc:description/>
  <dc:language>en-US</dc:language>
  <cp:lastModifiedBy>LEGION</cp:lastModifiedBy>
  <dcterms:modified xsi:type="dcterms:W3CDTF">2014-11-12T10:38:37Z</dcterms:modified>
  <cp:revision>21</cp:revision>
  <dc:subject/>
  <dc:title>Человек, индивид, личность.</dc:title>
</cp:coreProperties>
</file>