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52E34-C442-4D55-B54C-D5DCC6944064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сихологический портр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Методология создания психологического портрета лич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c99"/>
                </a:solidFill>
                <a:latin typeface="Calibri"/>
              </a:rPr>
              <a:t>Психологический портрет можно создать по ..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Рассылки практической мудр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FAA1A-7ADA-48C9-840A-1CF063FCAE61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ассылки практической мудрост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Отказаться от риска - значит отказаться от творчества. </a:t>
            </a:r>
            <a:r>
              <a:rPr b="1" i="1" lang="ru-RU" sz="1200" spc="-1" strike="noStrike">
                <a:solidFill>
                  <a:srgbClr val="0000ff"/>
                </a:solidFill>
                <a:latin typeface="Calibri"/>
              </a:rPr>
              <a:t>А. С. Макаренк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cc99"/>
                </a:solidFill>
                <a:latin typeface="Calibri"/>
              </a:rPr>
              <a:t>Смотрят все, а видят немноги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cc99"/>
                </a:solidFill>
                <a:latin typeface="Calibri"/>
              </a:rPr>
              <a:t>   </a:t>
            </a:r>
            <a:r>
              <a:rPr b="1" i="1" lang="ru-RU" sz="1200" spc="-1" strike="noStrike">
                <a:solidFill>
                  <a:srgbClr val="ffcc99"/>
                </a:solidFill>
                <a:latin typeface="Calibri"/>
              </a:rPr>
              <a:t>Карел Чапек, писате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Не меняются только самые мудрые, и самые глупые. </a:t>
            </a:r>
            <a:r>
              <a:rPr b="1" i="1" lang="ru-RU" sz="1200" spc="-1" strike="noStrike">
                <a:solidFill>
                  <a:srgbClr val="800080"/>
                </a:solidFill>
                <a:latin typeface="Calibri"/>
              </a:rPr>
              <a:t>Конфуц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Середина есть точка, ближайшая к мудрости; не дойти до нее - то же самое, что ее перейти. </a:t>
            </a:r>
            <a:r>
              <a:rPr b="1" i="1" lang="ru-RU" sz="1200" spc="-1" strike="noStrike">
                <a:solidFill>
                  <a:srgbClr val="0000ff"/>
                </a:solidFill>
                <a:latin typeface="Calibri"/>
              </a:rPr>
              <a:t>Конфуц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cc99"/>
                </a:solidFill>
                <a:latin typeface="Calibri"/>
              </a:rPr>
              <a:t>Жалеть о сказанном мне приходилось, о несказанном никогд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cc99"/>
                </a:solidFill>
                <a:latin typeface="Calibri"/>
              </a:rPr>
              <a:t>   </a:t>
            </a:r>
            <a:r>
              <a:rPr b="1" i="1" lang="ru-RU" sz="1200" spc="-1" strike="noStrike">
                <a:solidFill>
                  <a:srgbClr val="ffcc99"/>
                </a:solidFill>
                <a:latin typeface="Calibri"/>
              </a:rPr>
              <a:t>Ксенокра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794BC-6AF3-4229-8AF8-529750D846E1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етодология создания психологического портрета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личност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buClr>
                <a:srgbClr val="0000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Важно принять во внимание все известные существенные и, на первый взгляд, малосущественные факты жизни человека, и на этой основе воссоздать его психологический облик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buClr>
                <a:srgbClr val="ffcc9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cc99"/>
                </a:solidFill>
                <a:latin typeface="Calibri"/>
              </a:rPr>
              <a:t>Систематизацию черт личности лучше проводить исходя из модели успешной личности. Необходимо иметь реальную, экспериментальную, лучше психодиагностическую модель успешной личности в тех условиях, в которых действует или предстоит действовать человеку, на которого составляется психологический портре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buClr>
                <a:srgbClr val="80008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Необходимо психологический портрет анализируемой личности  сопоставить с той моделью личности, которая наиболее эффективна для предстоящего вида деятельности, для большинства ситуаций, которые чаще всего будут возникать в процессе деятельности данного индивид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0CB1C-0099-4942-8901-C0FC80836139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кажи мне свой автомобиль,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 я скажу: кто ты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00080"/>
                </a:solidFill>
                <a:latin typeface="Calibri"/>
              </a:rPr>
              <a:t>Размер и цвет.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4f81bd"/>
                </a:solidFill>
                <a:latin typeface="Calibri"/>
              </a:rPr>
              <a:t>Красный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вет указывает на инстинктивность натуры, желание двигаться, заявить о себ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ff"/>
                </a:solidFill>
                <a:latin typeface="Calibri"/>
              </a:rPr>
              <a:t>Оранжевый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вет - цвет сексуальной энергии и стремления к н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00"/>
                </a:solidFill>
                <a:latin typeface="Calibri"/>
              </a:rPr>
              <a:t>Желтый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цвет солнца. Владелец желтого авто - человек солнечны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cc33"/>
                </a:solidFill>
                <a:latin typeface="Calibri"/>
              </a:rPr>
              <a:t>Зеленый</a:t>
            </a:r>
            <a:r>
              <a:rPr b="1" lang="ru-RU" sz="1200" spc="-1" strike="noStrike">
                <a:solidFill>
                  <a:srgbClr val="33cc33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вет - цвет сердечности, теплоты, спокойств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ccff"/>
                </a:solidFill>
                <a:latin typeface="Calibri"/>
              </a:rPr>
              <a:t>Голубой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аще всего выбирают люди любящие или желающие поговорить и пообщатьс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99ff"/>
                </a:solidFill>
                <a:latin typeface="Calibri"/>
              </a:rPr>
              <a:t>Синий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читается цветом ума. То есть автомобили подобной расцветки могут выбрать люди, которые воспринимают мир через голов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990099"/>
                </a:solidFill>
                <a:latin typeface="Calibri"/>
              </a:rPr>
              <a:t>Фиолетовый</a:t>
            </a:r>
            <a:r>
              <a:rPr b="1" lang="ru-RU" sz="1200" spc="-1" strike="noStrike">
                <a:solidFill>
                  <a:srgbClr val="990099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очитают люди творческие, достаточно утонченны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Белый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цвет объединяющий. Людям, его выбирающим, присущи в равной мере все качества и пристраст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80808"/>
                </a:solidFill>
                <a:latin typeface="Calibri"/>
              </a:rPr>
              <a:t>Черный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1" i="1" lang="ru-RU" sz="1200" spc="-1" strike="noStrike">
                <a:solidFill>
                  <a:srgbClr val="b2b2b2"/>
                </a:solidFill>
                <a:latin typeface="Calibri"/>
              </a:rPr>
              <a:t>серый</a:t>
            </a:r>
            <a:r>
              <a:rPr b="1" lang="ru-RU" sz="1200" spc="-1" strike="noStrike">
                <a:solidFill>
                  <a:srgbClr val="b2b2b2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вета выбирают водители, которые не любят высовываться, предпочитают незаметность. При этом они стремятся к управлению ситуацией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3FCD5-485B-422B-A718-F3011477D10F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кажи, какой кофе ты предпочитаешь, и я скажу какой твой характер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Молотый кофе без сахара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У тебя сильный характер, ты не боишься ответственности и не стесняешься своих ошибо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Молотый кофе с сахаром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Ты очень долго принимаешь решения, нуждаешься в поддержке. Очень часто, ты готов пожертвовать своими интересами ради других, однако потом долго жалеешь об эт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Кофе с пенкой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У тебя над разумом преобладают чувства, ты имеешь доброе сердце и открытую душу, а также ценишь в людях честн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Растворимый кофе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Ты предпочитаешь кратчайший путь ко всему и в жизни и считаешь себя преуспевающи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Кофе с добавлением молока и сахара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У тебя сложный характер. Ты легко психически возбудим, отличаешься частыми перепадами настроения и "двойной бухгалтерией" в принятии сужд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Кофе без кофеина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У тебя уравновешенный характер. Ты много чем интересуешься, однако знания твои чаще всего поверхностны. Также ты отличаешься отсутствием стремления к "завоеванию" новых вершин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E9E6F-A620-4A6D-BDE9-EA0AE6EAB360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ак Вы спите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- </a:t>
            </a:r>
            <a:r>
              <a:rPr b="1" i="1" lang="ru-RU" sz="1200" spc="-1" strike="noStrike">
                <a:solidFill>
                  <a:srgbClr val="0000ff"/>
                </a:solidFill>
                <a:latin typeface="Calibri"/>
              </a:rPr>
              <a:t>спящие на животе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недовольны, как правило, своей профессией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- </a:t>
            </a:r>
            <a:r>
              <a:rPr b="1" i="1" lang="ru-RU" sz="1200" spc="-1" strike="noStrike">
                <a:solidFill>
                  <a:srgbClr val="0000ff"/>
                </a:solidFill>
                <a:latin typeface="Calibri"/>
              </a:rPr>
              <a:t>спящие на спине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- сильные личности и вдобавок вполне удовлетворены своим образом жизн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- тот, кто спит</a:t>
            </a:r>
            <a:r>
              <a:rPr b="1" i="1" lang="ru-RU" sz="1200" spc="-1" strike="noStrike">
                <a:solidFill>
                  <a:srgbClr val="0000ff"/>
                </a:solidFill>
                <a:latin typeface="Calibri"/>
              </a:rPr>
              <a:t>, согнувшись или прижав к себе подушку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, склонен к тоскливым настроениям и нуждается в нежност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- мрачные пессимисты чаще других </a:t>
            </a:r>
            <a:r>
              <a:rPr b="1" i="1" lang="ru-RU" sz="1200" spc="-1" strike="noStrike">
                <a:solidFill>
                  <a:srgbClr val="0000ff"/>
                </a:solidFill>
                <a:latin typeface="Calibri"/>
              </a:rPr>
              <a:t>укрываются одеялом с головой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F5FED-485A-4F83-A12D-F90A925DB1B4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сихологический портрет можно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оздать по ... конфете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        </a:t>
            </a: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Немецкие психологи утверждают, что по тому, какие шоколадные конфеты вы выбираете из коробки ассорти, можно сделать некоторые выводы о вашем характер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Романтики предпочитают клубничную начинк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Люди решительные и резкие выбирают конфеты с вишней внутр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Застенчивые любят конфеты с фундуко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Если вы предпочитаете начинку из кокосовой стружки, в вас есть творческая жилк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Кофейная начинка нравится активным, вечно занятым деловым людям, которые в то же время любят сюрпризы и неожиданн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Любители марципана и миндаля склонны себя баловать и ежедневно устраивать маленькие праздник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Выбор конфеты с мятной начинкой означает, что ваше воображение чрезвычайно богат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55713-8BDC-45BD-928B-869FB075E7D7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кажи, где у тебя родинка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Убийца- родинк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расположенная возле глаза. Она обычно бывает у роковых женщин и как бы сигнализирует:"Берегись, в любви я опасна!"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Величественная- родинк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расположенная в центральной области лба. Она свидетельствует о целеустремленности ее хозяина, стремлении достичь власти."Вы недооцениваете меня, я еще покажу, на что способна!"- говорит он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Изменчива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родинка, расположенная на виске. Ее обладателю свойственны непостоянство, частые смены настроения, изменчивость во взгляда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Практичная</a:t>
            </a: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-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динка посередине шеи. Ее хозяйка или хозяин хорошо разбираются в любовных делах, часто меняют партнеров, оставаясь с последними в дружеских отношения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7D988-F054-4825-9061-746B53D311CE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то можно узнать о человеке по его улыбке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При смехе вы обычно касаетесь мизинцем своих губ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значит, что у вас имеются свои представления о хорошем тоне, грации и женственности и что вы твердо следуете этим представлениям всегда и везде. Вам нравится быть в центре вним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Прикрываете при смехе рот рукой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 несколько робки и не слишком уверены в себе. Часто смущаетесь, предпочитаете оставаться в тени и, как говорят, "не раскрываться". Наш совет: не перегибайте палку с самоанализом и чрезмерной самокритик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Часто при смехе запрокидываете голову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, очевидно, доверчивы и легковерны, но в то же время у вас широкая натура. Иногда совершаете неожиданные поступки, согласуясь лишь со своими чувствами. А стоит, пожалуй, полагаться на разу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Смеетесь громко, с раскрытым ртом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 принадлежите к людям темпераментным, подвижным. Немного сдержанности, умеренности приобрести бы вам не помешало! Вы умеете говорить, но умейте и послушать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Держитесь при смехе за подбородок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ой бы ни был ваш возраст, совершенно очевидно, что в своем характере вы сохранили черты юн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A3DA8-41C8-45E1-850A-13738666C4F0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Рассылки практической мудрост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Профессиональная непригодность - отсутствие чуткости и бестактн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cc99"/>
                </a:solidFill>
                <a:latin typeface="Calibri"/>
              </a:rPr>
              <a:t>Визитная карточка руководителя - умение расположить к себ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В работе, ориентированной на людей, есть только один ключ к успеху - ДОВЕР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Когда невозможно уже работать напряженнее, начни работать умне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cc99"/>
                </a:solidFill>
                <a:latin typeface="Calibri"/>
              </a:rPr>
              <a:t>Мы все чувствительны к комплимента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cc99"/>
                </a:solidFill>
                <a:latin typeface="Calibri"/>
              </a:rPr>
              <a:t>   </a:t>
            </a:r>
            <a:r>
              <a:rPr b="1" i="1" lang="ru-RU" sz="1200" spc="-1" strike="noStrike">
                <a:solidFill>
                  <a:srgbClr val="ffcc99"/>
                </a:solidFill>
                <a:latin typeface="Calibri"/>
              </a:rPr>
              <a:t>А. Линколь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На день надо смотреть, как на маленькую жизнь. </a:t>
            </a:r>
            <a:r>
              <a:rPr b="1" i="1" lang="ru-RU" sz="1200" spc="-1" strike="noStrike">
                <a:solidFill>
                  <a:srgbClr val="800080"/>
                </a:solidFill>
                <a:latin typeface="Calibri"/>
              </a:rPr>
              <a:t>А. М. Горь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ED762-0E34-4160-A9E6-223A7AA03C78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57407-8F0B-4C70-A63E-C50C93918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4D984-CF3D-47E2-ADBF-B6EEEA2CB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5AE4D-4123-4E33-A424-2FB961706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3E4AF-DB2D-4D06-931F-D229A4B30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EA27D-CF6C-4457-AC45-D5A9356BA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05D63-1A9C-4C75-9C56-25FA769E5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BBF05-38D1-42C4-85CD-12AEEBB5B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5BA70-F772-42D1-8417-B1C2BE979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0C515-285D-48B9-81BA-B9CBD9DE9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F7278-4339-4DB6-974E-188C9F9EB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175DC-5F65-4011-ABC2-EE249269C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08C24-8400-4A9D-A4D2-56C8AD7FF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EBB7C-F72B-46F1-B420-C3895ECDD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FF50E-0A52-4D67-A468-62FA91516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0E033-CA30-4A43-A182-2E4390E2E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56BD2-A772-4598-B618-32A37FBA4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DA19C-8875-4232-A738-9DFA6EEE6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3A9BE-581B-4CE1-A2A9-6E9ACEEEF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B876D-3BC0-4A96-9550-18898AC38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DB69E-A56A-4026-B416-B22F62D19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7C5E9-BB07-4FEB-9E46-C12718F67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E5C45-117F-4C57-BFD3-E32D79B0C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479BF-A040-44BE-B81B-0D31231F6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00AAE-8C30-499A-8773-8FEB8AE7C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C79F7-ABEA-49F5-8533-8BE2B1E17CB4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4C1BC-0B2F-4A4B-8E28-F3C805A95EBA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Психологический портрет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95280" y="1699920"/>
            <a:ext cx="496872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66"/>
                </a:solidFill>
                <a:latin typeface="Tahoma"/>
              </a:rPr>
              <a:t>Методология создания психологического портрета личност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99"/>
                </a:solidFill>
                <a:latin typeface="Tahoma"/>
              </a:rPr>
              <a:t>Психологический портрет можно создать по ..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00"/>
                </a:solidFill>
                <a:latin typeface="Tahoma"/>
              </a:rPr>
              <a:t>Рассылки практической мудрост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Picture 46" descr="28"/>
          <p:cNvPicPr/>
          <p:nvPr/>
        </p:nvPicPr>
        <p:blipFill>
          <a:blip r:embed="rId1"/>
          <a:stretch/>
        </p:blipFill>
        <p:spPr>
          <a:xfrm>
            <a:off x="5076720" y="2262240"/>
            <a:ext cx="3849840" cy="2994120"/>
          </a:xfrm>
          <a:prstGeom prst="rect">
            <a:avLst/>
          </a:prstGeom>
          <a:ln w="0">
            <a:noFill/>
          </a:ln>
        </p:spPr>
      </p:pic>
      <p:sp>
        <p:nvSpPr>
          <p:cNvPr id="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Рассылки практической мудрости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51228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66"/>
                </a:solidFill>
                <a:latin typeface="Tahoma"/>
              </a:rPr>
              <a:t>Отказаться от риска - значит отказаться от творчества. </a:t>
            </a:r>
            <a:r>
              <a:rPr b="1" i="1" lang="ru-RU" sz="2000" spc="-1" strike="noStrike">
                <a:solidFill>
                  <a:srgbClr val="ffcc66"/>
                </a:solidFill>
                <a:latin typeface="Tahoma"/>
              </a:rPr>
              <a:t>А. С. Макаренко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99"/>
                </a:solidFill>
                <a:latin typeface="Tahoma"/>
              </a:rPr>
              <a:t>Смотрят все, а видят немногие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cc99"/>
                </a:solidFill>
                <a:latin typeface="Tahoma"/>
              </a:rPr>
              <a:t>   </a:t>
            </a:r>
            <a:r>
              <a:rPr b="1" i="1" lang="ru-RU" sz="2000" spc="-1" strike="noStrike">
                <a:solidFill>
                  <a:srgbClr val="ffcc99"/>
                </a:solidFill>
                <a:latin typeface="Tahoma"/>
              </a:rPr>
              <a:t>Карел Чапек, писатель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00"/>
                </a:solidFill>
                <a:latin typeface="Tahoma"/>
              </a:rPr>
              <a:t>Не меняются только самые мудрые, и самые глупые. </a:t>
            </a:r>
            <a:r>
              <a:rPr b="1" i="1" lang="ru-RU" sz="2000" spc="-1" strike="noStrike">
                <a:solidFill>
                  <a:srgbClr val="ff9900"/>
                </a:solidFill>
                <a:latin typeface="Tahoma"/>
              </a:rPr>
              <a:t>Конфуци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66"/>
                </a:solidFill>
                <a:latin typeface="Tahoma"/>
              </a:rPr>
              <a:t>Середина есть точка, ближайшая к мудрости; не дойти до нее - то же самое, что ее перейти. </a:t>
            </a:r>
            <a:r>
              <a:rPr b="1" i="1" lang="ru-RU" sz="2000" spc="-1" strike="noStrike">
                <a:solidFill>
                  <a:srgbClr val="ffcc66"/>
                </a:solidFill>
                <a:latin typeface="Tahoma"/>
              </a:rPr>
              <a:t>Конфуци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99"/>
                </a:solidFill>
                <a:latin typeface="Tahoma"/>
              </a:rPr>
              <a:t>Жалеть о сказанном мне приходилось, о несказанном никогда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cc99"/>
                </a:solidFill>
                <a:latin typeface="Tahoma"/>
              </a:rPr>
              <a:t>   </a:t>
            </a:r>
            <a:r>
              <a:rPr b="1" i="1" lang="ru-RU" sz="2000" spc="-1" strike="noStrike">
                <a:solidFill>
                  <a:srgbClr val="ffcc99"/>
                </a:solidFill>
                <a:latin typeface="Tahoma"/>
              </a:rPr>
              <a:t>Ксенокра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6" name="Picture 8" descr="273"/>
          <p:cNvPicPr/>
          <p:nvPr/>
        </p:nvPicPr>
        <p:blipFill>
          <a:blip r:embed="rId1"/>
          <a:stretch/>
        </p:blipFill>
        <p:spPr>
          <a:xfrm>
            <a:off x="5757840" y="1989000"/>
            <a:ext cx="2568600" cy="2592360"/>
          </a:xfrm>
          <a:prstGeom prst="rect">
            <a:avLst/>
          </a:prstGeom>
          <a:ln w="0">
            <a:noFill/>
          </a:ln>
        </p:spPr>
      </p:pic>
      <p:sp>
        <p:nvSpPr>
          <p:cNvPr id="1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Методология создания психологического портрета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личности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46320" indent="-346320">
              <a:lnSpc>
                <a:spcPct val="11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66"/>
                </a:solidFill>
                <a:latin typeface="Tahoma"/>
              </a:rPr>
              <a:t>Важно принять во внимание все известные существенные и, на первый взгляд, малосущественные факты жизни человека, и на этой основе воссоздать его психологический облик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6320" indent="-346320">
              <a:lnSpc>
                <a:spcPct val="11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99"/>
                </a:solidFill>
                <a:latin typeface="Tahoma"/>
              </a:rPr>
              <a:t>Систематизацию черт личности лучше проводить исходя из модели успешной личности. Необходимо иметь реальную, экспериментальную, лучше психодиагностическую модель успешной личности в тех условиях, в которых действует или предстоит действовать человеку, на которого составляется психологический портрет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6320" indent="-346320">
              <a:lnSpc>
                <a:spcPct val="11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00"/>
                </a:solidFill>
                <a:latin typeface="Tahoma"/>
              </a:rPr>
              <a:t>Необходимо психологический портрет анализируемой личности  сопоставить с той моделью личности, которая наиболее эффективна для предстоящего вида деятельности, для большинства ситуаций, которые чаще всего будут возникать в процессе деятельности данного индивида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Покажи мне свой автомобиль, </a:t>
            </a:r>
            <a:br>
              <a:rPr sz="3200"/>
            </a:b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и я скажу: кто ты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9144000" cy="544500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1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00"/>
                </a:solidFill>
                <a:latin typeface="Tahoma"/>
              </a:rPr>
              <a:t>Размер и цвет.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1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3300"/>
                </a:solidFill>
                <a:latin typeface="Tahoma"/>
              </a:rPr>
              <a:t>Красный</a:t>
            </a: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цвет указывает на инстинктивность натуры, желание двигаться, заявить о себе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1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cc66"/>
                </a:solidFill>
                <a:latin typeface="Tahoma"/>
              </a:rPr>
              <a:t>Оранжевый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цвет - цвет сексуальной энергии и стремления к ней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1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00"/>
                </a:solidFill>
                <a:latin typeface="Tahoma"/>
              </a:rPr>
              <a:t>Желтый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- цвет солнца. Владелец желтого авто - человек солнечный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1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cc33"/>
                </a:solidFill>
                <a:latin typeface="Tahoma"/>
              </a:rPr>
              <a:t>Зеленый</a:t>
            </a:r>
            <a:r>
              <a:rPr b="1" lang="ru-RU" sz="1800" spc="-1" strike="noStrike">
                <a:solidFill>
                  <a:srgbClr val="33cc33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цвет - цвет сердечности, теплоты, спокойствия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1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ccff"/>
                </a:solidFill>
                <a:latin typeface="Tahoma"/>
              </a:rPr>
              <a:t>Голубой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чаще всего выбирают люди любящие или желающие поговорить и пообщаться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1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99ff"/>
                </a:solidFill>
                <a:latin typeface="Tahoma"/>
              </a:rPr>
              <a:t>Синий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читается цветом ума. То есть автомобили подобной расцветки могут выбрать люди, которые воспринимают мир через голову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1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90099"/>
                </a:solidFill>
                <a:latin typeface="Tahoma"/>
              </a:rPr>
              <a:t>Фиолетовый</a:t>
            </a:r>
            <a:r>
              <a:rPr b="1" lang="ru-RU" sz="1800" spc="-1" strike="noStrike">
                <a:solidFill>
                  <a:srgbClr val="990099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редпочитают люди творческие, достаточно утонченные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1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Белый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- цвет объединяющий. Людям, его выбирающим, присущи в равной мере все качества и пристрастия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10000"/>
              </a:lnSpc>
              <a:spcBef>
                <a:spcPts val="3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80808"/>
                </a:solidFill>
                <a:latin typeface="Tahoma"/>
              </a:rPr>
              <a:t>Черный </a:t>
            </a: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и </a:t>
            </a:r>
            <a:r>
              <a:rPr b="1" i="1" lang="ru-RU" sz="1800" spc="-1" strike="noStrike">
                <a:solidFill>
                  <a:srgbClr val="b2b2b2"/>
                </a:solidFill>
                <a:latin typeface="Tahoma"/>
              </a:rPr>
              <a:t>серый</a:t>
            </a:r>
            <a:r>
              <a:rPr b="1" lang="ru-RU" sz="1800" spc="-1" strike="noStrike">
                <a:solidFill>
                  <a:srgbClr val="b2b2b2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цвета выбирают водители, которые не любят высовываться, предпочитают незаметность. При этом они стремятся к управлению ситуацией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Скажи, какой кофе ты предпочитаешь, и я скажу какой твой характер.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9900"/>
                </a:solidFill>
                <a:latin typeface="Tahoma"/>
              </a:rPr>
              <a:t>Молотый кофе без сахара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У тебя сильный характер, ты не боишься ответственности и не стесняешься своих ошибок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9900"/>
                </a:solidFill>
                <a:latin typeface="Tahoma"/>
              </a:rPr>
              <a:t>Молотый кофе с сахаром.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Ты очень долго принимаешь решения, нуждаешься в поддержке. Очень часто, ты готов пожертвовать своими интересами ради других, однако потом долго жалеешь об этом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9900"/>
                </a:solidFill>
                <a:latin typeface="Tahoma"/>
              </a:rPr>
              <a:t>Кофе с пенкой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У тебя над разумом преобладают чувства, ты имеешь доброе сердце и открытую душу, а также ценишь в людях честность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9900"/>
                </a:solidFill>
                <a:latin typeface="Tahoma"/>
              </a:rPr>
              <a:t>Растворимый кофе.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Ты предпочитаешь кратчайший путь ко всему и в жизни и считаешь себя преуспевающим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9900"/>
                </a:solidFill>
                <a:latin typeface="Tahoma"/>
              </a:rPr>
              <a:t>Кофе с добавлением молока и сахара.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У тебя сложный характер. Ты легко психически возбудим, отличаешься частыми перепадами настроения и "двойной бухгалтерией" в принятии суждений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9900"/>
                </a:solidFill>
                <a:latin typeface="Tahoma"/>
              </a:rPr>
              <a:t>Кофе без кофеина.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У тебя уравновешенный характер. Ты много чем интересуешься, однако знания твои чаще всего поверхностны. Также ты отличаешься отсутствием стремления к "завоеванию" новых вершин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Как Вы спите?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66"/>
                </a:solidFill>
                <a:latin typeface="Tahoma"/>
              </a:rPr>
              <a:t>- </a:t>
            </a:r>
            <a:r>
              <a:rPr b="1" i="1" lang="ru-RU" sz="1800" spc="-1" strike="noStrike">
                <a:solidFill>
                  <a:srgbClr val="ffcc66"/>
                </a:solidFill>
                <a:latin typeface="Tahoma"/>
              </a:rPr>
              <a:t>спящие на животе </a:t>
            </a:r>
            <a:r>
              <a:rPr b="0" lang="ru-RU" sz="1800" spc="-1" strike="noStrike">
                <a:solidFill>
                  <a:srgbClr val="ffcc66"/>
                </a:solidFill>
                <a:latin typeface="Tahoma"/>
              </a:rPr>
              <a:t>недовольны, как правило, своей профессией;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66"/>
                </a:solidFill>
                <a:latin typeface="Tahoma"/>
              </a:rPr>
              <a:t>- </a:t>
            </a:r>
            <a:r>
              <a:rPr b="1" i="1" lang="ru-RU" sz="1800" spc="-1" strike="noStrike">
                <a:solidFill>
                  <a:srgbClr val="ffcc66"/>
                </a:solidFill>
                <a:latin typeface="Tahoma"/>
              </a:rPr>
              <a:t>спящие на спине </a:t>
            </a:r>
            <a:r>
              <a:rPr b="0" lang="ru-RU" sz="1800" spc="-1" strike="noStrike">
                <a:solidFill>
                  <a:srgbClr val="ffcc66"/>
                </a:solidFill>
                <a:latin typeface="Tahoma"/>
              </a:rPr>
              <a:t>- сильные личности и вдобавок вполне удовлетворены своим образом жизни;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66"/>
                </a:solidFill>
                <a:latin typeface="Tahoma"/>
              </a:rPr>
              <a:t>- тот, кто спит</a:t>
            </a:r>
            <a:r>
              <a:rPr b="1" i="1" lang="ru-RU" sz="1800" spc="-1" strike="noStrike">
                <a:solidFill>
                  <a:srgbClr val="ffcc66"/>
                </a:solidFill>
                <a:latin typeface="Tahoma"/>
              </a:rPr>
              <a:t>, согнувшись или прижав к себе подушку</a:t>
            </a:r>
            <a:r>
              <a:rPr b="0" lang="ru-RU" sz="1800" spc="-1" strike="noStrike">
                <a:solidFill>
                  <a:srgbClr val="ffcc66"/>
                </a:solidFill>
                <a:latin typeface="Tahoma"/>
              </a:rPr>
              <a:t>, склонен к тоскливым настроениям и нуждается в нежности;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66"/>
                </a:solidFill>
                <a:latin typeface="Tahoma"/>
              </a:rPr>
              <a:t>- мрачные пессимисты чаще других </a:t>
            </a:r>
            <a:r>
              <a:rPr b="1" i="1" lang="ru-RU" sz="1800" spc="-1" strike="noStrike">
                <a:solidFill>
                  <a:srgbClr val="ffcc66"/>
                </a:solidFill>
                <a:latin typeface="Tahoma"/>
              </a:rPr>
              <a:t>укрываются одеялом с головой</a:t>
            </a:r>
            <a:r>
              <a:rPr b="0" lang="ru-RU" sz="1800" spc="-1" strike="noStrike">
                <a:solidFill>
                  <a:srgbClr val="ffcc66"/>
                </a:solidFill>
                <a:latin typeface="Tahoma"/>
              </a:rPr>
              <a:t>.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0" name="Picture 10" descr="Как Вы спите?"/>
          <p:cNvPicPr/>
          <p:nvPr/>
        </p:nvPicPr>
        <p:blipFill>
          <a:blip r:embed="rId1"/>
          <a:stretch/>
        </p:blipFill>
        <p:spPr>
          <a:xfrm>
            <a:off x="5148360" y="2324160"/>
            <a:ext cx="3384360" cy="2765520"/>
          </a:xfrm>
          <a:prstGeom prst="rect">
            <a:avLst/>
          </a:prstGeom>
          <a:ln w="0">
            <a:noFill/>
          </a:ln>
        </p:spPr>
      </p:pic>
      <p:sp>
        <p:nvSpPr>
          <p:cNvPr id="1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Психологический портрет можно </a:t>
            </a:r>
            <a:br>
              <a:rPr sz="3200"/>
            </a:b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создать по ... конфете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00"/>
                </a:solidFill>
                <a:latin typeface="Tahoma"/>
              </a:rPr>
              <a:t>        </a:t>
            </a:r>
            <a:r>
              <a:rPr b="0" lang="ru-RU" sz="2000" spc="-1" strike="noStrike">
                <a:solidFill>
                  <a:srgbClr val="ff9900"/>
                </a:solidFill>
                <a:latin typeface="Tahoma"/>
              </a:rPr>
              <a:t>Немецкие психологи утверждают, что по тому, какие шоколадные конфеты вы выбираете из коробки ассорти, можно сделать некоторые выводы о вашем характере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00"/>
                </a:solidFill>
                <a:latin typeface="Tahoma"/>
              </a:rPr>
              <a:t>Романтики предпочитают клубничную начинку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00"/>
                </a:solidFill>
                <a:latin typeface="Tahoma"/>
              </a:rPr>
              <a:t>Люди решительные и резкие выбирают конфеты с вишней внутр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00"/>
                </a:solidFill>
                <a:latin typeface="Tahoma"/>
              </a:rPr>
              <a:t>Застенчивые любят конфеты с фундуком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00"/>
                </a:solidFill>
                <a:latin typeface="Tahoma"/>
              </a:rPr>
              <a:t>Если вы предпочитаете начинку из кокосовой стружки, в вас есть творческая жилка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00"/>
                </a:solidFill>
                <a:latin typeface="Tahoma"/>
              </a:rPr>
              <a:t>Кофейная начинка нравится активным, вечно занятым деловым людям, которые в то же время любят сюрпризы и неожиданности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00"/>
                </a:solidFill>
                <a:latin typeface="Tahoma"/>
              </a:rPr>
              <a:t>Любители марципана и миндаля склонны себя баловать и ежедневно устраивать маленькие праздники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00"/>
                </a:solidFill>
                <a:latin typeface="Tahoma"/>
              </a:rPr>
              <a:t>Выбор конфеты с мятной начинкой означает, что ваше воображение чрезвычайно богато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Скажи, где у тебя родинка...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9900"/>
                </a:solidFill>
                <a:latin typeface="Tahoma"/>
              </a:rPr>
              <a:t>Убийца- родинка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, расположенная возле глаза. Она обычно бывает у роковых женщин и как бы сигнализирует:"Берегись, в любви я опасна!"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9900"/>
                </a:solidFill>
                <a:latin typeface="Tahoma"/>
              </a:rPr>
              <a:t>Величественная- родинка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, расположенная в центральной области лба. Она свидетельствует о целеустремленности ее хозяина, стремлении достичь власти."Вы недооцениваете меня, я еще покажу, на что способна!"- говорит она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9900"/>
                </a:solidFill>
                <a:latin typeface="Tahoma"/>
              </a:rPr>
              <a:t>Изменчивая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- родинка, расположенная на виске. Ее обладателю свойственны непостоянство, частые смены настроения, изменчивость во взглядах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9900"/>
                </a:solidFill>
                <a:latin typeface="Tahoma"/>
              </a:rPr>
              <a:t>Практичная</a:t>
            </a:r>
            <a:r>
              <a:rPr b="0" lang="ru-RU" sz="1800" spc="-1" strike="noStrike">
                <a:solidFill>
                  <a:srgbClr val="ff9900"/>
                </a:solidFill>
                <a:latin typeface="Tahoma"/>
              </a:rPr>
              <a:t>-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родинка посередине шеи. Ее хозяйка или хозяин хорошо разбираются в любовных делах, часто меняют партнеров, оставаясь с последними в дружеских отношениях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Что можно узнать о человеке по его улыбке?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91440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1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9900"/>
                </a:solidFill>
                <a:latin typeface="Tahoma"/>
              </a:rPr>
              <a:t>При смехе вы обычно касаетесь мизинцем своих губ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.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Это значит, что у вас имеются свои представления о хорошем тоне, грации и женственности и что вы твердо следуете этим представлениям всегда и везде. Вам нравится быть в центре внимания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1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9900"/>
                </a:solidFill>
                <a:latin typeface="Tahoma"/>
              </a:rPr>
              <a:t>Прикрываете при смехе рот рукой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.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ы несколько робки и не слишком уверены в себе. Часто смущаетесь, предпочитаете оставаться в тени и, как говорят, "не раскрываться". Наш совет: не перегибайте палку с самоанализом и чрезмерной самокритикой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1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9900"/>
                </a:solidFill>
                <a:latin typeface="Tahoma"/>
              </a:rPr>
              <a:t>Часто при смехе запрокидываете голову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.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ы, очевидно, доверчивы и легковерны, но в то же время у вас широкая натура. Иногда совершаете неожиданные поступки, согласуясь лишь со своими чувствами. А стоит, пожалуй, полагаться на разум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1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9900"/>
                </a:solidFill>
                <a:latin typeface="Tahoma"/>
              </a:rPr>
              <a:t>Смеетесь громко, с раскрытым ртом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.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ы принадлежите к людям темпераментным, подвижным. Немного сдержанности, умеренности приобрести бы вам не помешало! Вы умеете говорить, но умейте и послушать!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1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9900"/>
                </a:solidFill>
                <a:latin typeface="Tahoma"/>
              </a:rPr>
              <a:t>Держитесь при смехе за подбородок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.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акой бы ни был ваш возраст, совершенно очевидно, что в своем характере вы сохранили черты юности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Рассылки практической мудрости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66"/>
                </a:solidFill>
                <a:latin typeface="Tahoma"/>
              </a:rPr>
              <a:t>Профессиональная непригодность - отсутствие чуткости и бестактность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99"/>
                </a:solidFill>
                <a:latin typeface="Tahoma"/>
              </a:rPr>
              <a:t>Визитная карточка руководителя - умение расположить к себ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9900"/>
                </a:solidFill>
                <a:latin typeface="Tahoma"/>
              </a:rPr>
              <a:t>В работе, ориентированной на людей, есть только один ключ к успеху - ДОВЕРИ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66"/>
                </a:solidFill>
                <a:latin typeface="Tahoma"/>
              </a:rPr>
              <a:t>Когда невозможно уже работать напряженнее, начни работать умне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99"/>
                </a:solidFill>
                <a:latin typeface="Tahoma"/>
              </a:rPr>
              <a:t>Мы все чувствительны к комплиментам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cc99"/>
                </a:solidFill>
                <a:latin typeface="Tahoma"/>
              </a:rPr>
              <a:t>   </a:t>
            </a:r>
            <a:r>
              <a:rPr b="1" i="1" lang="ru-RU" sz="2400" spc="-1" strike="noStrike">
                <a:solidFill>
                  <a:srgbClr val="ffcc99"/>
                </a:solidFill>
                <a:latin typeface="Tahoma"/>
              </a:rPr>
              <a:t>А. Линкольн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9900"/>
                </a:solidFill>
                <a:latin typeface="Tahoma"/>
              </a:rPr>
              <a:t>На день надо смотреть, как на маленькую жизнь. </a:t>
            </a:r>
            <a:r>
              <a:rPr b="1" i="1" lang="ru-RU" sz="2400" spc="-1" strike="noStrike">
                <a:solidFill>
                  <a:srgbClr val="ff9900"/>
                </a:solidFill>
                <a:latin typeface="Tahoma"/>
              </a:rPr>
              <a:t>А. М. Горьки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0T19:13:07Z</dcterms:created>
  <dc:creator>OEM</dc:creator>
  <dc:description/>
  <dc:language>en-US</dc:language>
  <cp:lastModifiedBy>LEGION</cp:lastModifiedBy>
  <dcterms:modified xsi:type="dcterms:W3CDTF">2014-11-12T11:31:35Z</dcterms:modified>
  <cp:revision>7</cp:revision>
  <dc:subject/>
  <dc:title>Покажи мне свой автомобиль, и я скажу: кто ты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7</vt:r8>
  </property>
</Properties>
</file>