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631C-D708-4DD8-9439-715AC43A27E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ий портр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етодология создания психологического портрета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Психологический портрет можно создать по 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ассылки практической мудр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9B92-A769-41E5-9F3A-D2C6FCB51AC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сылки практической мудр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казаться от риска - значит отказаться от творчества.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А. С. Макар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Смотрят все, а видят немног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Карел Чапек, п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 меняются только самые мудрые, и самые глупые. 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Конфу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ередина есть точка, ближайшая к мудрости; не дойти до нее - то же самое, что ее перейти.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Конфу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Жалеть о сказанном мне приходилось, о несказанном никог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Ксенок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AE8A-296F-46D3-B62B-E903F5C8612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ология создания психологического портре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ч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ажно принять во внимание все известные существенные и, на первый взгляд, малосущественные факты жизни человека, и на этой основе воссоздать его психологический обл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cc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Систематизацию черт личности лучше проводить исходя из модели успешной личности. Необходимо иметь реальную, экспериментальную, лучше психодиагностическую модель успешной личности в тех условиях, в которых действует или предстоит действовать человеку, на которого составляется психологический портр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обходимо психологический портрет анализируемой личности  сопоставить с той моделью личности, которая наиболее эффективна для предстоящего вида деятельности, для большинства ситуаций, которые чаще всего будут возникать в процессе деятельности данного индиви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B590-B324-4670-8EBA-90E54AB0C72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кажи мне свой автомобиль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я скажу: кто т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libri"/>
              </a:rPr>
              <a:t>Размер и цвет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f81bd"/>
                </a:solidFill>
                <a:latin typeface="Calibri"/>
              </a:rPr>
              <a:t>Красный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указывает на инстинктивность натуры, желание двигаться, заявить о себ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ранжев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- цвет сексуальной энергии и стремления к 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Желт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цвет солнца. Владелец желтого авто - человек солнеч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cc33"/>
                </a:solidFill>
                <a:latin typeface="Calibri"/>
              </a:rPr>
              <a:t>Зеленый</a:t>
            </a: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- цвет сердечности, теплоты, споко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ccff"/>
                </a:solidFill>
                <a:latin typeface="Calibri"/>
              </a:rPr>
              <a:t>Голуб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выбирают люди любящие или желающие поговорить и пообща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99ff"/>
                </a:solidFill>
                <a:latin typeface="Calibri"/>
              </a:rPr>
              <a:t>Син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ется цветом ума. То есть автомобили подобной расцветки могут выбрать люди, которые воспринимают мир через голо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99"/>
                </a:solidFill>
                <a:latin typeface="Calibri"/>
              </a:rPr>
              <a:t>Фиолетовый</a:t>
            </a: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итают люди творческие, достаточно утонч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ел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цвет объединяющий. Людям, его выбирающим, присущи в равной мере все качества и пристрас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80808"/>
                </a:solidFill>
                <a:latin typeface="Calibri"/>
              </a:rPr>
              <a:t>Черный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1200" spc="-1" strike="noStrike">
                <a:solidFill>
                  <a:srgbClr val="b2b2b2"/>
                </a:solidFill>
                <a:latin typeface="Calibri"/>
              </a:rPr>
              <a:t>серый</a:t>
            </a:r>
            <a:r>
              <a:rPr b="1" lang="ru-RU" sz="1200" spc="-1" strike="noStrike">
                <a:solidFill>
                  <a:srgbClr val="b2b2b2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а выбирают водители, которые не любят высовываться, предпочитают незаметность. При этом они стремятся к управлению ситуацие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CA56-CD1B-407E-8680-AE8DF018628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жи, какой кофе ты предпочитаешь, и я скажу какой твой характе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Молотый кофе без саха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сильный характер, ты не боишься ответственности и не стесняешься своих ошиб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Молотый кофе с сахаро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 очень долго принимаешь решения, нуждаешься в поддержке. Очень часто, ты готов пожертвовать своими интересами ради других, однако потом долго жалеешь об э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офе с пенк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над разумом преобладают чувства, ты имеешь доброе сердце и открытую душу, а также ценишь в людях чес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астворимый коф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 предпочитаешь кратчайший путь ко всему и в жизни и считаешь себя преуспевающ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офе с добавлением молока и саха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сложный характер. Ты легко психически возбудим, отличаешься частыми перепадами настроения и "двойной бухгалтерией" в принятии су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офе без кофеин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уравновешенный характер. Ты много чем интересуешься, однако знания твои чаще всего поверхностны. Также ты отличаешься отсутствием стремления к "завоеванию" новых верш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954C-5F10-4B92-9B9D-62E284E9182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Вы спит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пящие на животе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едовольны, как правило, своей професси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пящие на спине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сильные личности и вдобавок вполне удовлетворены своим образом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тот, кто спит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, согнувшись или прижав к себе подушку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склонен к тоскливым настроениям и нуждается в неж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мрачные пессимисты чаще других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укрываются одеялом с голово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9226-49E4-4AEF-BDCE-4F0EE6812AA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ический портрет можн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ть по ... конфет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мецкие психологи утверждают, что по тому, какие шоколадные конфеты вы выбираете из коробки ассорти, можно сделать некоторые выводы о вашем харак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Романтики предпочитают клубничную начин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юди решительные и резкие выбирают конфеты с вишней внут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Застенчивые любят конфеты с фунду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Если вы предпочитаете начинку из кокосовой стружки, в вас есть творческая жил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офейная начинка нравится активным, вечно занятым деловым людям, которые в то же время любят сюрпризы и неожида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юбители марципана и миндаля склонны себя баловать и ежедневно устраивать маленькие празд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ыбор конфеты с мятной начинкой означает, что ваше воображение чрезвычайно богат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7246-A921-4472-B2ED-3822907496C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жи, где у тебя родинка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Убийца- роди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сположенная возле глаза. Она обычно бывает у роковых женщин и как бы сигнализирует:"Берегись, в любви я опасна!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еличественная- роди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сположенная в центральной области лба. Она свидетельствует о целеустремленности ее хозяина, стремлении достичь власти."Вы недооцениваете меня, я еще покажу, на что способна!"- говорит о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зменчив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одинка, расположенная на виске. Ее обладателю свойственны непостоянство, частые смены настроения, изменчивость во взгляд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актичная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нка посередине шеи. Ее хозяйка или хозяин хорошо разбираются в любовных делах, часто меняют партнеров, оставаясь с последними в дружеских отношен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1146-4D9D-4F3B-BE61-A135761427E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можно узнать о человеке по его улыбк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 смехе вы обычно касаетесь мизинцем своих губ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начит, что у вас имеются свои представления о хорошем тоне, грации и женственности и что вы твердо следуете этим представлениям всегда и везде. Вам нравится быть в центре вним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крываете при смехе рот рук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несколько робки и не слишком уверены в себе. Часто смущаетесь, предпочитаете оставаться в тени и, как говорят, "не раскрываться". Наш совет: не перегибайте палку с самоанализом и чрезмерной самокри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Часто при смехе запрокидываете голов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, очевидно, доверчивы и легковерны, но в то же время у вас широкая натура. Иногда совершаете неожиданные поступки, согласуясь лишь со своими чувствами. А стоит, пожалуй, полагаться на разу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меетесь громко, с раскрытым рт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принадлежите к людям темпераментным, подвижным. Немного сдержанности, умеренности приобрести бы вам не помешало! Вы умеете говорить, но умейте и послуша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Держитесь при смехе за подбородо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бы ни был ваш возраст, совершенно очевидно, что в своем характере вы сохранили черты ю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AEF0-9C35-4E4C-9D1B-FA418127809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сылки практической мудр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ессиональная непригодность - отсутствие чуткости и бестак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Визитная карточка руководителя - умение расположить к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 работе, ориентированной на людей, есть только один ключ к успеху - ДОВЕР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огда невозможно уже работать напряженнее, начни работать ум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Мы все чувствительны к комплимен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А. Линколь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а день надо смотреть, как на маленькую жизнь. 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А. М. Горь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F594-C87A-4DF7-9460-7BB91656967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71C0-A1FB-4E53-9E85-6EDEA85BB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561F-1765-4398-962A-5AF77E90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C8A5-4540-4E10-AE9E-77620C50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108F-E56C-47ED-9998-69C976B2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1B9F-1D20-4A93-82A1-6BAA6422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0E92-A0BC-4C69-81D2-2B88627C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1501-61B1-4027-95A0-03597E44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A5A3-FD12-49B3-9F40-751D3D05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8EB7-678D-4ED4-855B-AA51DFB9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8008-5942-4E43-A396-9BF4C501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1D0F-68C1-41AD-818D-E6916031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1BAF-FD2D-406D-981B-C7DCE0EA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0FE8-E501-45F7-9F9A-489FCD03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BA86-81B8-4143-B1A6-362D7B94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F224-7FEA-478C-B0CF-57C12EE8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1A16-70F4-43B1-9048-2F39F9BD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DAD6-0587-4224-80E8-1A5BC14A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B8F-B6A3-4584-8F62-DC0AEEA0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8E47-2DF4-4D3D-9DD1-CD54B44E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3F74-3D6A-44CE-A154-1C079F5F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9FC4-135C-43DD-831E-85A0DC28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09FA-B2A2-4F8D-B154-548A6DDF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B46C-2FAD-4384-B584-ED76CEC6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E363-6B56-4977-8CB9-0586CF19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0E85-7005-4B1E-A16C-307691F214D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0AFD-CEC6-47B6-B926-25B3E62CD2E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сихологический портре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496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Методология создания психологического портрета лич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Tahoma"/>
              </a:rPr>
              <a:t>Психологический портрет можно создать по .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Рассылки практической мудр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6" descr="28"/>
          <p:cNvPicPr/>
          <p:nvPr/>
        </p:nvPicPr>
        <p:blipFill>
          <a:blip r:embed="rId1"/>
          <a:stretch/>
        </p:blipFill>
        <p:spPr>
          <a:xfrm>
            <a:off x="5076720" y="2262240"/>
            <a:ext cx="3849840" cy="29941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ассылки практической мудр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5122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Отказаться от риска - значит отказаться от творчества. </a:t>
            </a:r>
            <a:r>
              <a:rPr b="1" i="1" lang="ru-RU" sz="2000" spc="-1" strike="noStrike">
                <a:solidFill>
                  <a:srgbClr val="ffcc66"/>
                </a:solidFill>
                <a:latin typeface="Tahoma"/>
              </a:rPr>
              <a:t>А. С. Макаренк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Tahoma"/>
              </a:rPr>
              <a:t>Смотрят все, а видят немноги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Карел Чапек, писат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Не меняются только самые мудрые, и самые глупые. </a:t>
            </a:r>
            <a:r>
              <a:rPr b="1" i="1" lang="ru-RU" sz="2000" spc="-1" strike="noStrike">
                <a:solidFill>
                  <a:srgbClr val="ff9900"/>
                </a:solidFill>
                <a:latin typeface="Tahoma"/>
              </a:rPr>
              <a:t>Конфуц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Середина есть точка, ближайшая к мудрости; не дойти до нее - то же самое, что ее перейти. </a:t>
            </a:r>
            <a:r>
              <a:rPr b="1" i="1" lang="ru-RU" sz="2000" spc="-1" strike="noStrike">
                <a:solidFill>
                  <a:srgbClr val="ffcc66"/>
                </a:solidFill>
                <a:latin typeface="Tahoma"/>
              </a:rPr>
              <a:t>Конфуц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Tahoma"/>
              </a:rPr>
              <a:t>Жалеть о сказанном мне приходилось, о несказанном никог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Ксенокра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8" descr="273"/>
          <p:cNvPicPr/>
          <p:nvPr/>
        </p:nvPicPr>
        <p:blipFill>
          <a:blip r:embed="rId1"/>
          <a:stretch/>
        </p:blipFill>
        <p:spPr>
          <a:xfrm>
            <a:off x="5757840" y="1989000"/>
            <a:ext cx="2568600" cy="25923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етодология создания психологического портрет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личн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46320" indent="-34632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Важно принять во внимание все известные существенные и, на первый взгляд, малосущественные факты жизни человека, и на этой основе воссоздать его психологический обли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6320" indent="-34632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Tahoma"/>
              </a:rPr>
              <a:t>Систематизацию черт личности лучше проводить исходя из модели успешной личности. Необходимо иметь реальную, экспериментальную, лучше психодиагностическую модель успешной личности в тех условиях, в которых действует или предстоит действовать человеку, на которого составляется психологический портре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6320" indent="-34632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Необходимо психологический портрет анализируемой личности  сопоставить с той моделью личности, которая наиболее эффективна для предстоящего вида деятельности, для большинства ситуаций, которые чаще всего будут возникать в процессе деятельности данного индиви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окажи мне свой автомобиль,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 я скажу: кто ты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Размер и цвет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Tahoma"/>
              </a:rPr>
              <a:t>Красный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указывает на инстинктивность натуры, желание двигаться, заявить о себ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Оранжевы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- цвет сексуальной энергии и стремления к не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ahoma"/>
              </a:rPr>
              <a:t>Желты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цвет солнца. Владелец желтого авто - человек солнечны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cc33"/>
                </a:solidFill>
                <a:latin typeface="Tahoma"/>
              </a:rPr>
              <a:t>Зеленый</a:t>
            </a:r>
            <a:r>
              <a:rPr b="1" lang="ru-RU" sz="18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- цвет сердечности, теплоты, спокойств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ff"/>
                </a:solidFill>
                <a:latin typeface="Tahoma"/>
              </a:rPr>
              <a:t>Голуб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ще всего выбирают люди любящие или желающие поговорить и пообщатьс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ff"/>
                </a:solidFill>
                <a:latin typeface="Tahoma"/>
              </a:rPr>
              <a:t>Сини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читается цветом ума. То есть автомобили подобной расцветки могут выбрать люди, которые воспринимают мир через голов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99"/>
                </a:solidFill>
                <a:latin typeface="Tahoma"/>
              </a:rPr>
              <a:t>Фиолетовый</a:t>
            </a:r>
            <a:r>
              <a:rPr b="1" lang="ru-RU" sz="1800" spc="-1" strike="noStrike">
                <a:solidFill>
                  <a:srgbClr val="9900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почитают люди творческие, достаточно утонченны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Белы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цвет объединяющий. Людям, его выбирающим, присущи в равной мере все качества и пристраст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0808"/>
                </a:solidFill>
                <a:latin typeface="Tahoma"/>
              </a:rPr>
              <a:t>Черный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1" i="1" lang="ru-RU" sz="1800" spc="-1" strike="noStrike">
                <a:solidFill>
                  <a:srgbClr val="b2b2b2"/>
                </a:solidFill>
                <a:latin typeface="Tahoma"/>
              </a:rPr>
              <a:t>серый</a:t>
            </a:r>
            <a:r>
              <a:rPr b="1" lang="ru-RU" sz="1800" spc="-1" strike="noStrike">
                <a:solidFill>
                  <a:srgbClr val="b2b2b2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а выбирают водители, которые не любят высовываться, предпочитают незаметность. При этом они стремятся к управлению ситуацией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кажи, какой кофе ты предпочитаешь, и я скажу какой твой характер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Молотый кофе без сахара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сильный характер, ты не боишься ответственности и не стесняешься своих ошибо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Молотый кофе с сахаром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ы очень долго принимаешь решения, нуждаешься в поддержке. Очень часто, ты готов пожертвовать своими интересами ради других, однако потом долго жалеешь об эт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Кофе с пенк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над разумом преобладают чувства, ты имеешь доброе сердце и открытую душу, а также ценишь в людях чест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Растворимый кофе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ы предпочитаешь кратчайший путь ко всему и в жизни и считаешь себя преуспевающи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Кофе с добавлением молока и сахар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сложный характер. Ты легко психически возбудим, отличаешься частыми перепадами настроения и "двойной бухгалтерией" в принятии сужд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Кофе без кофеин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уравновешенный характер. Ты много чем интересуешься, однако знания твои чаще всего поверхностны. Также ты отличаешься отсутствием стремления к "завоеванию" новых верши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Как Вы спите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спящие на животе 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недовольны, как правило, своей профессией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спящие на спине 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сильные личности и вдобавок вполне удовлетворены своим образом жизни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тот, кто спит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, согнувшись или прижав к себе подушку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, склонен к тоскливым настроениям и нуждается в нежности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мрачные пессимисты чаще других 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укрываются одеялом с головой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10" descr="Как Вы спите?"/>
          <p:cNvPicPr/>
          <p:nvPr/>
        </p:nvPicPr>
        <p:blipFill>
          <a:blip r:embed="rId1"/>
          <a:stretch/>
        </p:blipFill>
        <p:spPr>
          <a:xfrm>
            <a:off x="5148360" y="2324160"/>
            <a:ext cx="3384360" cy="27655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сихологический портрет можно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оздать по ... конфет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Немецкие психологи утверждают, что по тому, какие шоколадные конфеты вы выбираете из коробки ассорти, можно сделать некоторые выводы о вашем характер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Романтики предпочитают клубничную начинк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Люди решительные и резкие выбирают конфеты с вишней внут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Застенчивые любят конфеты с фундуко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Если вы предпочитаете начинку из кокосовой стружки, в вас есть творческая жил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Кофейная начинка нравится активным, вечно занятым деловым людям, которые в то же время любят сюрпризы и неожидан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Любители марципана и миндаля склонны себя баловать и ежедневно устраивать маленькие праздник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Выбор конфеты с мятной начинкой означает, что ваше воображение чрезвычайно богат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кажи, где у тебя родинка..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Убийца- родин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расположенная возле глаза. Она обычно бывает у роковых женщин и как бы сигнализирует:"Берегись, в любви я опасна!"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Величественная- родин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расположенная в центральной области лба. Она свидетельствует о целеустремленности ее хозяина, стремлении достичь власти."Вы недооцениваете меня, я еще покажу, на что способна!"- говорит он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Изменчив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родинка, расположенная на виске. Ее обладателю свойственны непостоянство, частые смены настроения, изменчивость во взгляда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Практичная</a:t>
            </a:r>
            <a:r>
              <a:rPr b="0" lang="ru-RU" sz="1800" spc="-1" strike="noStrike">
                <a:solidFill>
                  <a:srgbClr val="ff9900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динка посередине шеи. Ее хозяйка или хозяин хорошо разбираются в любовных делах, часто меняют партнеров, оставаясь с последними в дружеских отношения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Что можно узнать о человеке по его улыбке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При смехе вы обычно касаетесь мизинцем своих губ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 значит, что у вас имеются свои представления о хорошем тоне, грации и женственности и что вы твердо следуете этим представлениям всегда и везде. Вам нравится быть в центре вним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Прикрываете при смехе рот рук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 несколько робки и не слишком уверены в себе. Часто смущаетесь, предпочитаете оставаться в тени и, как говорят, "не раскрываться". Наш совет: не перегибайте палку с самоанализом и чрезмерной самокритик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Часто при смехе запрокидываете голову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, очевидно, доверчивы и легковерны, но в то же время у вас широкая натура. Иногда совершаете неожиданные поступки, согласуясь лишь со своими чувствами. А стоит, пожалуй, полагаться на разу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Смеетесь громко, с раскрытым ртом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 принадлежите к людям темпераментным, подвижным. Немного сдержанности, умеренности приобрести бы вам не помешало! Вы умеете говорить, но умейте и послушать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Держитесь при смехе за подбородок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ой бы ни был ваш возраст, совершенно очевидно, что в своем характере вы сохранили черты юнос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ассылки практической мудр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Профессиональная непригодность - отсутствие чуткости и бестакт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99"/>
                </a:solidFill>
                <a:latin typeface="Tahoma"/>
              </a:rPr>
              <a:t>Визитная карточка руководителя - умение расположить к себ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В работе, ориентированной на людей, есть только один ключ к успеху - ДОВЕР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Когда невозможно уже работать напряженнее, начни работать умне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99"/>
                </a:solidFill>
                <a:latin typeface="Tahoma"/>
              </a:rPr>
              <a:t>Мы все чувствительны к комплимента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99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cc99"/>
                </a:solidFill>
                <a:latin typeface="Tahoma"/>
              </a:rPr>
              <a:t>А. Линколь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На день надо смотреть, как на маленькую жизнь. </a:t>
            </a:r>
            <a:r>
              <a:rPr b="1" i="1" lang="ru-RU" sz="2400" spc="-1" strike="noStrike">
                <a:solidFill>
                  <a:srgbClr val="ff9900"/>
                </a:solidFill>
                <a:latin typeface="Tahoma"/>
              </a:rPr>
              <a:t>А. М. Горь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9:13:07Z</dcterms:created>
  <dc:creator>OEM</dc:creator>
  <dc:description/>
  <dc:language>en-US</dc:language>
  <cp:lastModifiedBy>LEGION</cp:lastModifiedBy>
  <dcterms:modified xsi:type="dcterms:W3CDTF">2014-11-12T11:31:35Z</dcterms:modified>
  <cp:revision>7</cp:revision>
  <dc:subject/>
  <dc:title>Покажи мне свой автомобиль, и я скажу: кто 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