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40.wmf" ContentType="image/x-wmf"/>
  <Override PartName="/ppt/media/image31.jpeg" ContentType="image/jpeg"/>
  <Override PartName="/ppt/media/image25.jpeg" ContentType="image/jpeg"/>
  <Override PartName="/ppt/media/image36.jpeg" ContentType="image/jpeg"/>
  <Override PartName="/ppt/media/image38.png" ContentType="image/png"/>
  <Override PartName="/ppt/media/image37.jpeg" ContentType="image/jpeg"/>
  <Override PartName="/ppt/media/image4.jpeg" ContentType="image/jpeg"/>
  <Override PartName="/ppt/media/image8.wmf" ContentType="image/x-wmf"/>
  <Override PartName="/ppt/media/image33.jpeg" ContentType="image/jpeg"/>
  <Override PartName="/ppt/media/image10.jpeg" ContentType="image/jpeg"/>
  <Override PartName="/ppt/media/image3.wmf" ContentType="image/x-wmf"/>
  <Override PartName="/ppt/media/image29.jpeg" ContentType="image/jpeg"/>
  <Override PartName="/ppt/media/image43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4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41.gif" ContentType="image/gif"/>
  <Override PartName="/ppt/media/image5.gif" ContentType="image/gif"/>
  <Override PartName="/ppt/media/image16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707E-99A0-4B06-95A2-B1AE41381F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1893-B50C-43A2-B806-CAE75AD7CA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вершинный уровень развития челове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его глубинное измерение» (А.Г.Асмо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учайно говорят (А.Г.Асмолов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ом рожда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ю станов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род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социаль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духов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интегр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т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A597-C901-4C3C-AAB0-7A465CDC96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924D-4F6B-41DA-8D6E-AF9B4E661F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один из наиболее сложных объектов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BD19-7057-4B04-8F1C-CDE47E9C9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руктура личности и подходы к вопросу о сочетании биологического и соци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.И. Енике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пределяет структуру личности как систему психических качеств лич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9AAB-6419-4B6C-B3DA-0586994D40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 Фрей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Юн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Олпор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К. Платон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.C. Мерлин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510A-4474-49F4-9685-1F1C868C7B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12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.Л. Рубинштейна и В.Н. Мясищ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A45F-D165-464A-AD83-1559FB2AB4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0202-3A94-43C5-9938-4D4B2C5335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а социаль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черкивая, что при изучении лич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 биологические и конституционально -индивид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личности динамикой нервнопсихической ре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F962-0B48-4C1F-8F43-AB0B15F1F6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D17-CA68-4EA7-8900-C59D656FF9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ытки структуировать личность предприним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ё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Н.Леонтье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D1D0-CFF4-406C-9B0D-901208B7AF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язываются в соответств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тверждал А.Г.Ковалёв, с требованиями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ев выделяет следующие компоненты структуры ли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стема потребностей, интересов, идеал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самбль интеллектуальных, волевых и эмоциональных свой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нтез отношений и способов поведения), темперамент (система природных свойст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214E-10B2-4489-8D28-2B138DCAA4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Мер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исы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группы индивидуальных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ключает две 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качественные особенности псих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уальност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имеет три подструктуры: мотивы и отношения; характер; 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A38C-A6D6-4984-AA04-5F65C2806F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.Г. Анан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человека как индивида включ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о-половые свой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-тип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физиологические фун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CCE7-3C5C-4D51-B156-046AE6C244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53B9-A447-46D0-A497-708E4E51F8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вестнике психолог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ГУ № 4 1996  Д.А. Леонтьев пишет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91F3-1600-4F11-9B2F-C7E0008B52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личности 3. Фре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бессознательное и его комплек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бессознательное и его архетипы, персона, анима, анимус и т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онструкци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чности, созданной Фрейдом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се эти компоненты в основном подчиняются биологическим зако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A5D5-9897-4828-AE6D-0F7AE17EDF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ученики Фрейд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фрейд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азывают значимость не только биологических, но и социаль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формировании человеческого сам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A70B-4FF4-4F99-8645-4564932B21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020D-4318-475B-B495-83BC863180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группа зарубежных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труктурных единиц личности рассматривает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обозначает некую общую тенденцию поведения и ожид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пример, «Я впечатлительный» означает устойчивую характеристик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является количественным измер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может иметь иерархическую орган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DEE2-2EF6-43CD-88E0-F2F8C92FDC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3A4E-8C9F-4371-AB52-0A4F9E919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первых в этом направлении рабо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. Олпо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еория которого так и называетс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ория че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ыделил следующие виды че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ы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 в себя люб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сущие какому-то количеству людей в пределах данно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ые дис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648B-6B8B-4A83-9BCE-70C9A3E914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87F1-7669-4682-AC3B-6A5EAABA3A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Е (экстраверсия — интроверс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N (нейротицизм — эмоциональная стабиль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 (психопатия или эмоциональная независим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B225-9D5B-4F36-81B0-8358172349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ституционально-антропометрическая стратегия изучения строения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2807-EC58-455B-811D-ED6B0242FB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Факторная» стратегия изучения черт лич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CEB-5E11-48AC-AE3F-E58218BD91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очная» стратегия изучения струк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CE38-E56A-4CA3-9A7D-3A635B7457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. Мотивационно-динамическая стратегия изучения организации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Асмолов отмечает, ч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ватыв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акую ре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у структуры личности, как ее динам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рав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A676-B347-4667-9820-C28E0E6556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Поведенческо-интеракционистская стратегия изучения организации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6FD7-80C9-424C-8719-2F456B5DF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D296-A18F-41E6-8FF7-61618F8EFE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колько неопознанного таится в этом необыкновенном су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2418-73F1-43D6-889D-D06F81A1E9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 биологическую организацию человека в понятие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690D-68C5-40CA-A2A6-330BD59746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иологическое и социальное в структуре личн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анализировать специфику соотношения биологического и социального в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личность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теор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16FB-EDDC-468E-8896-CC49920E62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оретическое значени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изн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1FCC-5C10-474A-9F61-E3D24CEC90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ая знач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8102-2296-4DDC-B6F2-36C843DA27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Б.Г. Анан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(1907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биологического и социального в челове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еспечивается посредством единства таких его макрохарактеристик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0587-0697-4E78-8CF6-697D87AF5A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иосоциальный феномен имеет два вектора разви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ий и социальный 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84D4-CFAC-4A56-B484-45DFB029F1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F39-15F5-474F-979C-7B6ACD34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C5B-3D83-475E-B1B5-2AA45735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4EE-505E-4057-829C-8CCEEF94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FAB-63E4-4C5C-8371-14B49043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C67E-31E2-499D-95F7-E0F229ED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6902-BF22-4A48-99BA-348A91B1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021E-2FCD-4BDF-8D06-6231E81E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C5A4-1139-407E-B9EE-C5334AD7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2A86-F19A-48FF-843D-F4E53206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1AB4-C87E-4C81-8F89-E9C44EFD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8F5-2741-4FF0-B033-7830808D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79A-FB90-459E-A207-B173432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F3E2-2D82-442D-B724-40FCA66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C5AD-AB02-4E3D-BCE2-A7FEB10D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5F34-6BD1-4EB3-9D84-C513E1C4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CD1D-5D75-4003-B8A5-1B8562CB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8219-25C8-4A63-8395-78D2F47F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393-7573-418F-963E-B005EE35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D60-6867-4D73-97D1-CAD4786D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EF3-8DC0-4A54-AAD4-3F17B4A9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F1D-6145-4020-B851-0226D47E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09A-7110-47D6-89F6-CE19AA05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E42-803C-4E9E-9398-6E525954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6B2-E6CF-4660-B64B-1E727CB9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D3A-DA9D-4B18-B502-67376E65CA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B8C2-AC00-4D07-B0E2-69ED726EC0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50x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2558880"/>
            <a:ext cx="6858000" cy="39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75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вершинный уровень развития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го глубинное измерение» (А.Г.Асм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учайно говорят (А.Г.Асмолов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ом рожд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ю станов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социаль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духов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интегральн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аи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113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4-2"/>
          <p:cNvPicPr/>
          <p:nvPr/>
        </p:nvPicPr>
        <p:blipFill>
          <a:blip r:embed="rId1"/>
          <a:stretch/>
        </p:blipFill>
        <p:spPr>
          <a:xfrm>
            <a:off x="5940360" y="184464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3573000"/>
            <a:ext cx="4255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человек может рассматри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едставитель живой природы, биологический объе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убъект созн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циальное с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072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человек - это биосоциальное существо, наделенное сознанием и способностью к деятельности. Объединение этих трех уровней в одно целое формирует интегральную характеристику человека - его 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186002"/>
          <p:cNvPicPr/>
          <p:nvPr/>
        </p:nvPicPr>
        <p:blipFill>
          <a:blip r:embed="rId1"/>
          <a:stretch/>
        </p:blipFill>
        <p:spPr>
          <a:xfrm>
            <a:off x="4643280" y="479736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4-1"/>
          <p:cNvPicPr/>
          <p:nvPr/>
        </p:nvPicPr>
        <p:blipFill>
          <a:blip r:embed="rId2"/>
          <a:stretch/>
        </p:blipFill>
        <p:spPr>
          <a:xfrm>
            <a:off x="68436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s00554_"/>
          <p:cNvPicPr/>
          <p:nvPr/>
        </p:nvPicPr>
        <p:blipFill>
          <a:blip r:embed="rId3"/>
          <a:stretch/>
        </p:blipFill>
        <p:spPr>
          <a:xfrm>
            <a:off x="6877080" y="4941720"/>
            <a:ext cx="1828800" cy="15973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7834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один из наиболее сложных объектов реаль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Z45TLCABAH5Y9CAH9M9KTCAPPENCSCA2R7U3ECAKEAAXPCAAALXJHCAE31P2ECAEUSK2LCA75UCC0CALZTHCOCA98HSIUCAOGC08XC~1"/>
          <p:cNvPicPr/>
          <p:nvPr/>
        </p:nvPicPr>
        <p:blipFill>
          <a:blip r:embed="rId1"/>
          <a:stretch/>
        </p:blipFill>
        <p:spPr>
          <a:xfrm>
            <a:off x="684360" y="4005360"/>
            <a:ext cx="287964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ICT0098"/>
          <p:cNvPicPr/>
          <p:nvPr/>
        </p:nvPicPr>
        <p:blipFill>
          <a:blip r:embed="rId2"/>
          <a:stretch/>
        </p:blipFill>
        <p:spPr>
          <a:xfrm>
            <a:off x="5292720" y="4005360"/>
            <a:ext cx="37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4C94OCAVDQT42CAVJT9X5CAMALD08CAF3Z6CCCAVP08TCCANGV2RVCAI1YUTGCAYIREEFCA7ZH339CA5JABTOCAJ28ZIQCAE47WPLC~1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труктура личности и подходы к вопросу о сочетании биологического и социальн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Еник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пределяет структуру личности как систему психических качеств лич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42-2"/>
          <p:cNvPicPr/>
          <p:nvPr/>
        </p:nvPicPr>
        <p:blipFill>
          <a:blip r:embed="rId1"/>
          <a:stretch/>
        </p:blipFill>
        <p:spPr>
          <a:xfrm>
            <a:off x="1258920" y="1628640"/>
            <a:ext cx="2801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. Фрей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Ю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лпор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К. Плат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C. Мерлин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ttp://yanko.lib.ru/books/psycho/jdan=ist_pscihologii=ann.files/image041.jpg"/>
          <p:cNvPicPr/>
          <p:nvPr/>
        </p:nvPicPr>
        <p:blipFill>
          <a:blip r:embed="rId1"/>
          <a:stretch/>
        </p:blipFill>
        <p:spPr>
          <a:xfrm>
            <a:off x="826920" y="69228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614160" y="26028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Г. Юнг (1875-1961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917080" y="19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Фре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Sigmund_Freud"/>
          <p:cNvPicPr/>
          <p:nvPr/>
        </p:nvPicPr>
        <p:blipFill>
          <a:blip r:embed="rId2"/>
          <a:stretch/>
        </p:blipFill>
        <p:spPr>
          <a:xfrm>
            <a:off x="2268360" y="242100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олпорт"/>
          <p:cNvPicPr/>
          <p:nvPr/>
        </p:nvPicPr>
        <p:blipFill>
          <a:blip r:embed="rId3"/>
          <a:stretch/>
        </p:blipFill>
        <p:spPr>
          <a:xfrm>
            <a:off x="684360" y="3789360"/>
            <a:ext cx="180000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9"/>
          <p:cNvSpPr/>
          <p:nvPr/>
        </p:nvSpPr>
        <p:spPr>
          <a:xfrm>
            <a:off x="61128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2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.Л. Рубинштейна и В.Н. Мясище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338472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мясищев в"/>
          <p:cNvPicPr/>
          <p:nvPr/>
        </p:nvPicPr>
        <p:blipFill>
          <a:blip r:embed="rId3"/>
          <a:stretch/>
        </p:blipFill>
        <p:spPr>
          <a:xfrm>
            <a:off x="5003640" y="1844640"/>
            <a:ext cx="360072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55640" y="260280"/>
            <a:ext cx="4319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социаль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черкивая, что при изучении лич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 биологические и конституционально -индивид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о личности динамикой нервнопсихической ре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мясищев в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08472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105264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0BYJ0CAQCTAU8CAAJO210CAJI84MACA7UOJH5CAL0GE1ICAXED839CAR93X6MCA0CP560CAO90FYXCAN22UL3CAHMTD1UCAGYCBCIC~1"/>
          <p:cNvPicPr/>
          <p:nvPr/>
        </p:nvPicPr>
        <p:blipFill>
          <a:blip r:embed="rId1"/>
          <a:stretch/>
        </p:blipFill>
        <p:spPr>
          <a:xfrm>
            <a:off x="4788000" y="3645000"/>
            <a:ext cx="410364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v-625_0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920" y="404640"/>
            <a:ext cx="401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и структуировать личность предприним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ё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Леонтье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А.Н. Леонтьев. Фото 192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ананьев б г"/>
          <p:cNvPicPr/>
          <p:nvPr/>
        </p:nvPicPr>
        <p:blipFill>
          <a:blip r:embed="rId3"/>
          <a:stretch/>
        </p:blipFill>
        <p:spPr>
          <a:xfrm>
            <a:off x="2050920" y="3384720"/>
            <a:ext cx="259236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700360" y="6165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68000" y="3860280"/>
            <a:ext cx="38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связываются в соответст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верждал А.Г.Ковалёв, с требованиями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11640" y="33336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ев выделяет следующие компоненты структуры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а потребностей, интересов, идеа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самбль интеллектуальных, волевых и эмоциональных св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нтез отношений и способов поведения), темперамент (система природных свой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4005000"/>
            <a:ext cx="8002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р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исы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группы индивидуальных особен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ключает две 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ачественные особен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уальност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меет три подструктуры: мотивы и отношения; характер;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мерлин"/>
          <p:cNvPicPr/>
          <p:nvPr/>
        </p:nvPicPr>
        <p:blipFill>
          <a:blip r:embed="rId1"/>
          <a:stretch/>
        </p:blipFill>
        <p:spPr>
          <a:xfrm>
            <a:off x="2411280" y="33336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360" y="259920"/>
            <a:ext cx="472428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876560" y="404640"/>
            <a:ext cx="3809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уктуру человека как индивида включ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-половые свой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-тип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физиологические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ананьев в г"/>
          <p:cNvPicPr/>
          <p:nvPr/>
        </p:nvPicPr>
        <p:blipFill>
          <a:blip r:embed="rId1"/>
          <a:stretch/>
        </p:blipFill>
        <p:spPr>
          <a:xfrm>
            <a:off x="2340000" y="2852640"/>
            <a:ext cx="2768400" cy="37688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ананьев"/>
          <p:cNvPicPr/>
          <p:nvPr/>
        </p:nvPicPr>
        <p:blipFill>
          <a:blip r:embed="rId1"/>
          <a:stretch/>
        </p:blipFill>
        <p:spPr>
          <a:xfrm>
            <a:off x="5435640" y="177336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6228720" y="6164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400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стнике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ГУ № 4 1996  Д.А. Леонтьев пиш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А.Н. Леонтьев. Фото 195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2509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А. Лео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teplov"/>
          <p:cNvPicPr/>
          <p:nvPr/>
        </p:nvPicPr>
        <p:blipFill>
          <a:blip r:embed="rId3"/>
          <a:stretch/>
        </p:blipFill>
        <p:spPr>
          <a:xfrm>
            <a:off x="2556000" y="3429000"/>
            <a:ext cx="216036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00360" y="6400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.Теп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личности 3. Фрей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бессознательное и его комплек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бессознательное и его архетипы, персона, анима, анимус и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55640" y="1599840"/>
            <a:ext cx="4537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конструк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и, созданной Фрейдо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се эти компоненты в основном подчиняются биологическим зако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Sigmund_Freud"/>
          <p:cNvPicPr/>
          <p:nvPr/>
        </p:nvPicPr>
        <p:blipFill>
          <a:blip r:embed="rId1"/>
          <a:stretch/>
        </p:blipFill>
        <p:spPr>
          <a:xfrm>
            <a:off x="6227640" y="3933720"/>
            <a:ext cx="2219400" cy="2739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788000" y="6067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Фре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329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ученики Фрейда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фрейди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ывают значимость не только биологических, но и социаль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формировании человеческого само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6560" y="3428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адлер"/>
          <p:cNvPicPr/>
          <p:nvPr/>
        </p:nvPicPr>
        <p:blipFill>
          <a:blip r:embed="rId1"/>
          <a:stretch/>
        </p:blipFill>
        <p:spPr>
          <a:xfrm>
            <a:off x="5508720" y="404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6372360" y="29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Ад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10-1"/>
          <p:cNvPicPr/>
          <p:nvPr/>
        </p:nvPicPr>
        <p:blipFill>
          <a:blip r:embed="rId2"/>
          <a:stretch/>
        </p:blipFill>
        <p:spPr>
          <a:xfrm>
            <a:off x="179280" y="3716280"/>
            <a:ext cx="2678400" cy="230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11-1"/>
          <p:cNvPicPr/>
          <p:nvPr/>
        </p:nvPicPr>
        <p:blipFill>
          <a:blip r:embed="rId3"/>
          <a:stretch/>
        </p:blipFill>
        <p:spPr>
          <a:xfrm>
            <a:off x="2627280" y="4005360"/>
            <a:ext cx="2571840" cy="2638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9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3-1"/>
          <p:cNvPicPr/>
          <p:nvPr/>
        </p:nvPicPr>
        <p:blipFill>
          <a:blip r:embed="rId1"/>
          <a:stretch/>
        </p:blipFill>
        <p:spPr>
          <a:xfrm>
            <a:off x="4932360" y="476280"/>
            <a:ext cx="3887640" cy="58323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8281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группа зарубежны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структурных единиц личности рассматривает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обозначает некую общую тенденцию поведения и ожи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, «Я впечатлительный» означает устойчивую характеристик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является количественным изме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может иметь иерархическую организ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4897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00840"/>
          <p:cNvPicPr/>
          <p:nvPr/>
        </p:nvPicPr>
        <p:blipFill>
          <a:blip r:embed="rId1"/>
          <a:stretch/>
        </p:blipFill>
        <p:spPr>
          <a:xfrm>
            <a:off x="5148360" y="1700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30-1"/>
          <p:cNvPicPr/>
          <p:nvPr/>
        </p:nvPicPr>
        <p:blipFill>
          <a:blip r:embed="rId2"/>
          <a:stretch/>
        </p:blipFill>
        <p:spPr>
          <a:xfrm>
            <a:off x="4788000" y="4724280"/>
            <a:ext cx="364788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4535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первых в этом направлении рабо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ория которого так и называется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ория ч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ыделил следующие виды че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ы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ют в себя любые характер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сущие какому-то количеству людей в пределах дан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диспоз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олпорт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6659640" y="98100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40399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Raymond_Cattell"/>
          <p:cNvPicPr/>
          <p:nvPr/>
        </p:nvPicPr>
        <p:blipFill>
          <a:blip r:embed="rId1"/>
          <a:stretch/>
        </p:blipFill>
        <p:spPr>
          <a:xfrm>
            <a:off x="5364000" y="1628640"/>
            <a:ext cx="3456000" cy="4896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79600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. Кэт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255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Е (экстраверсия — интроверс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N (нейротицизм — эмоциональная стаби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Р (психопатия или эмоциональная независимо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ans_Eysenk"/>
          <p:cNvPicPr/>
          <p:nvPr/>
        </p:nvPicPr>
        <p:blipFill>
          <a:blip r:embed="rId1"/>
          <a:stretch/>
        </p:blipFill>
        <p:spPr>
          <a:xfrm>
            <a:off x="5508720" y="476280"/>
            <a:ext cx="3240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594036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Айзе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-антропометрическая стратегия изучения строения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2. 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Факторная» стратегия изучения черт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3" descr="j0195534"/>
          <p:cNvPicPr/>
          <p:nvPr/>
        </p:nvPicPr>
        <p:blipFill>
          <a:blip r:embed="rId1"/>
          <a:stretch/>
        </p:blipFill>
        <p:spPr>
          <a:xfrm>
            <a:off x="611280" y="1773360"/>
            <a:ext cx="3636720" cy="4608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3.  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«Блочная» стратегия изучения структуры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8" name="Diagram 6"/>
          <p:cNvGrpSpPr/>
          <p:nvPr/>
        </p:nvGrpSpPr>
        <p:grpSpPr>
          <a:xfrm>
            <a:off x="3131640" y="2204280"/>
            <a:ext cx="1553400" cy="3583800"/>
            <a:chOff x="3131640" y="2204280"/>
            <a:chExt cx="1553400" cy="3583800"/>
          </a:xfrm>
        </p:grpSpPr>
        <p:sp>
          <p:nvSpPr>
            <p:cNvPr id="249" name="AutoShape 19"/>
            <p:cNvSpPr/>
            <p:nvPr/>
          </p:nvSpPr>
          <p:spPr>
            <a:xfrm>
              <a:off x="3131640" y="2204280"/>
              <a:ext cx="977400" cy="486720"/>
            </a:xfrm>
            <a:prstGeom prst="rightArrow">
              <a:avLst>
                <a:gd name="adj1" fmla="val 50000"/>
                <a:gd name="adj2" fmla="val 5020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07640" y="5299920"/>
              <a:ext cx="977400" cy="48816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0"/>
            <p:cNvSpPr/>
            <p:nvPr/>
          </p:nvSpPr>
          <p:spPr>
            <a:xfrm>
              <a:off x="3564000" y="4364640"/>
              <a:ext cx="975960" cy="484920"/>
            </a:xfrm>
            <a:prstGeom prst="rightArrow">
              <a:avLst>
                <a:gd name="adj1" fmla="val 50000"/>
                <a:gd name="adj2" fmla="val 5031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4"/>
          <p:cNvSpPr/>
          <p:nvPr/>
        </p:nvSpPr>
        <p:spPr>
          <a:xfrm>
            <a:off x="3995640" y="2060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11640" y="27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шлого опы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включающий память, навыки, знания, которые приобретены в ход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572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ических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хватывающих индивидуальные особенности восприятия, мышления и т.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859280" y="5373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темперамент, половозрастные особен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3203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 rot="17641200">
            <a:off x="7560" y="27370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4. Мотивационно-динамиче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Асмолов отмечае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ваты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ую ре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у структуры личности, как ее динам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прав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5. Поведенческо-интеракционист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j0234687"/>
          <p:cNvPicPr/>
          <p:nvPr/>
        </p:nvPicPr>
        <p:blipFill>
          <a:blip r:embed="rId1"/>
          <a:stretch/>
        </p:blipFill>
        <p:spPr>
          <a:xfrm>
            <a:off x="3059280" y="443700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неопознанного таится в этом необыкновенном су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titled-8"/>
          <p:cNvPicPr/>
          <p:nvPr/>
        </p:nvPicPr>
        <p:blipFill>
          <a:blip r:embed="rId2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040" y="333360"/>
            <a:ext cx="3809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259920"/>
            <a:ext cx="4016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ют биологическую организацию человека в понятие личн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F:\урок\Требования к современному уроку.files\160.gif"/>
          <p:cNvPicPr/>
          <p:nvPr/>
        </p:nvPicPr>
        <p:blipFill>
          <a:blip r:embed="rId1"/>
          <a:stretch/>
        </p:blipFill>
        <p:spPr>
          <a:xfrm>
            <a:off x="5076720" y="5013360"/>
            <a:ext cx="2286000" cy="16858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Биологическое и социальное в структуре личности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анализировать специфику соотношения биологического и социального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ч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ор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Теоретическое значение и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новизна исслед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4581360"/>
            <a:ext cx="2958840" cy="198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217698"/>
          <p:cNvPicPr/>
          <p:nvPr/>
        </p:nvPicPr>
        <p:blipFill>
          <a:blip r:embed="rId2"/>
          <a:stretch/>
        </p:blipFill>
        <p:spPr>
          <a:xfrm>
            <a:off x="5435640" y="4357800"/>
            <a:ext cx="32400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404640"/>
            <a:ext cx="40399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j0293844"/>
          <p:cNvPicPr/>
          <p:nvPr/>
        </p:nvPicPr>
        <p:blipFill>
          <a:blip r:embed="rId1"/>
          <a:stretch/>
        </p:blipFill>
        <p:spPr>
          <a:xfrm>
            <a:off x="2050920" y="479736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olorpsy"/>
          <p:cNvPicPr/>
          <p:nvPr/>
        </p:nvPicPr>
        <p:blipFill>
          <a:blip r:embed="rId2"/>
          <a:stretch/>
        </p:blipFill>
        <p:spPr>
          <a:xfrm>
            <a:off x="4859280" y="1413000"/>
            <a:ext cx="403380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040" y="475920"/>
            <a:ext cx="3809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1907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ство биологического и социального в челов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вается посредством единства таких его макрохарактеристи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yanko.lib.ru/books/psycho/jdan=ist_pscihologii=ann.files/image049.jpg"/>
          <p:cNvPicPr/>
          <p:nvPr/>
        </p:nvPicPr>
        <p:blipFill>
          <a:blip r:embed="rId1"/>
          <a:stretch/>
        </p:blipFill>
        <p:spPr>
          <a:xfrm>
            <a:off x="900000" y="1773360"/>
            <a:ext cx="360072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85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иосоциальный феномен имеет два вектора разви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й и социальный 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Untitled-10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ntitled-9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17:59Z</dcterms:created>
  <dc:creator>Любовь</dc:creator>
  <dc:description/>
  <dc:language>en-US</dc:language>
  <cp:lastModifiedBy>LEGION</cp:lastModifiedBy>
  <dcterms:modified xsi:type="dcterms:W3CDTF">2014-11-12T10:44:57Z</dcterms:modified>
  <cp:revision>94</cp:revision>
  <dc:subject/>
  <dc:title>«Биологическое и социальное в структуре личности»</dc:title>
</cp:coreProperties>
</file>