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1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2.jpeg" ContentType="image/jpeg"/>
  <Override PartName="/ppt/media/image34.jpeg" ContentType="image/jpeg"/>
  <Override PartName="/ppt/media/image40.wmf" ContentType="image/x-wmf"/>
  <Override PartName="/ppt/media/image31.jpeg" ContentType="image/jpeg"/>
  <Override PartName="/ppt/media/image25.jpeg" ContentType="image/jpeg"/>
  <Override PartName="/ppt/media/image36.jpeg" ContentType="image/jpeg"/>
  <Override PartName="/ppt/media/image38.png" ContentType="image/png"/>
  <Override PartName="/ppt/media/image37.jpeg" ContentType="image/jpeg"/>
  <Override PartName="/ppt/media/image4.jpeg" ContentType="image/jpeg"/>
  <Override PartName="/ppt/media/image8.wmf" ContentType="image/x-wmf"/>
  <Override PartName="/ppt/media/image33.jpeg" ContentType="image/jpeg"/>
  <Override PartName="/ppt/media/image10.jpeg" ContentType="image/jpeg"/>
  <Override PartName="/ppt/media/image3.wmf" ContentType="image/x-wmf"/>
  <Override PartName="/ppt/media/image29.jpeg" ContentType="image/jpeg"/>
  <Override PartName="/ppt/media/image43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4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41.gif" ContentType="image/gif"/>
  <Override PartName="/ppt/media/image5.gif" ContentType="image/gif"/>
  <Override PartName="/ppt/media/image16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FB6F-589B-40DE-B030-7990553C87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CC50-3B74-481E-B7A4-576361FC99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вершинный уровень развития челове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его глубинное измерение» (А.Г.Асмо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учайно говорят (А.Г.Асмолов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ом рожда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ю станов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род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социаль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духов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интегр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т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6EA1-F574-4F64-AE93-1F93FC586F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BB7F-D91B-43D4-9D6D-B91EDC9FE3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один из наиболее сложных объектов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D16-D578-480C-9E74-49DED06AC0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руктура личности и подходы к вопросу о сочетании биологического и соци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.И. Енике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пределяет структуру личности как систему психических качеств лич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20DB-6AD1-4B34-8725-14B23FA695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 Фрей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Юн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Олпор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К. Платон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.C. Мерлин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0D5C-993A-42B0-9F3C-C441C660FA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12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.Л. Рубинштейна и В.Н. Мясищ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6514-B852-49B4-A057-0B45F16740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6F42-282E-403E-AA11-C6AABA2A9D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истема социаль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черкивая, что при изучении лич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 биологические и конституционально -индивид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личности динамикой нервнопсихической ре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3685-D044-46BC-8D5B-EC2375DC8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D674-8C4D-4588-B513-E4391C2D56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ытки структуировать личность предприним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ё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Н.Леонтье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63DA-4783-440E-B404-AF1DED6A4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язываются в соответств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тверждал А.Г.Ковалёв, с требованиями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ев выделяет следующие компоненты структуры ли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стема потребностей, интересов, идеал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самбль интеллектуальных, волевых и эмоциональных свой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нтез отношений и способов поведения), темперамент (система природных свойст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FE74-D3BF-424F-A8C6-8831BE83F2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Мер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исы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е группы индивидуальных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ключает две 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качественные особенности псих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уальност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имеет три подструктуры: мотивы и отношения; характер; 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0709-1C56-4F77-9345-D900B583EA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.Г. Анан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человека как индивида включ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о-половые свой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-тип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физиологические фун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AB6-42E8-484A-931A-CA222297DC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2ABA-D38F-4A2C-9DC7-CA11A4020C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вестнике психолог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ГУ № 4 1996  Д.А. Леонтьев пишет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DE8B-5F27-4264-BF66-ACC7824EE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личности 3. Фре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бессознательное и его комплек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бессознательное и его архетипы, персона, анима, анимус и т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онструкци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чности, созданной Фрейдом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се эти компоненты в основном подчиняются биологическим зако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37C1-9E34-4222-8E23-7CFC56C6B9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ученики Фрейд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фрейд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азывают значимость не только биологических, но и социаль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формировании человеческого сам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7E19-655E-4C17-9A67-51411FB0DC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033E-D8C2-4BBE-814F-B0D9C6D5E4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группа зарубежных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труктурных единиц личности рассматривает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обозначает некую общую тенденцию поведения и ожид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пример, «Я впечатлительный» означает устойчивую характеристик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является количественным измер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может иметь иерархическую орган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8271-DC09-4118-A490-445C0F6CAF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F312-1450-47BE-AC0C-E68A12DE8D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первых в этом направлении рабо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. Олпо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еория которого так и называетс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ория че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ыделил следующие виды че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ы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 в себя люб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сущие какому-то количеству людей в пределах данно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ые дис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1D98-14A2-45C7-A203-3D7C706E7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BA91-1AAD-4F07-BBF7-BEC40B1E5F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Е (экстраверсия — интроверс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N (нейротицизм — эмоциональная стабиль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 (психопатия или эмоциональная независим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3EE0-2E87-4310-B378-7AAEA428D8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ституционально-антропометрическая стратегия изучения строения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AF70-C23A-425F-9B61-9E5776B095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Факторная» стратегия изучения черт лич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52F6-5BE0-4B8D-BCEA-F45DD6EA7E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очная» стратегия изучения струк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80AB-4D8F-4FBA-9BE7-C9BBC267A3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. Мотивационно-динамическая стратегия изучения организации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Асмолов отмечает, ч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ватыв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акую ре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у структуры личности, как ее динам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рав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479F-788E-4800-A2E7-EBCEFE0D61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Поведенческо-интеракционистская стратегия изучения организации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72EA-EE85-4933-B85B-85DD82541F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EE4C-DED3-4610-A7B9-6DD9C3DCEF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колько неопознанного таится в этом необыкновенном су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2426-001A-4640-B537-45F0862F2F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 биологическую организацию человека в понятие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B3F5-D910-4D87-9DC9-64ADCB314A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иологическое и социальное в структуре личност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анализировать специфику соотношения биологического и социального в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личность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теор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5414-B7BD-416E-AC53-401B9A1473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оретическое значени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изн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D107-1661-49C7-AF48-31C9DCCD0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ая знач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910F-D913-422E-981D-2048DACA15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Б.Г. Анан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(1907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биологического и социального в челове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еспечивается посредством единства таких его макрохарактеристик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3239-271A-4069-AF62-BA58D4DEB8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иосоциальный феномен имеет два вектора разви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ий и социальный 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030B-BBF3-4373-AF69-C0AC9EF3AC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40A-6152-439A-8ACF-667616B5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19F-197A-4AA7-AA88-3817D21C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2F0-6A15-47ED-90FD-165EA718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2AA-563E-4895-9D80-03A260D8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043A-7E03-4598-8CD4-1A0F404A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BE1B-D762-40E6-A831-87D9ACAD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3D5F-A285-43CA-BD95-BD7B7482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1AF0-A433-4651-A446-2B165F8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FC53-E957-4599-B67E-09F53536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C909-8209-4785-9729-EC88379B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1272-C143-4B0A-840D-3044C55E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A86-7B6C-404F-A5AD-25D11314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EA5D-250D-4740-8D5D-9B1C537C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0839-8C7C-408F-B3FB-51E30F56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5E03-1C55-46AD-805A-B1F973BB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E68D-B56E-4999-BABF-00975899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93D3-3EF7-45D7-8CEE-E2486D93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618-3D11-4283-B52B-382CB56A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F5E-8911-4580-869C-C8B536B2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A24-6ED1-49C8-8B87-7E41A4F6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18F-6481-4F2C-A05F-88B21A68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DAE-320B-4BFF-9C89-752DB794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B0C-4FD6-4229-A388-3E4AC149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CFE-AF44-42F8-8C1B-181EACA4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5739-0D0F-4601-9B80-5A42C93B37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92BB-67AB-498C-ABAF-F4A3676988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50x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2558880"/>
            <a:ext cx="6858000" cy="39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75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вершинный уровень развития человек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го глубинное измерение» (А.Г.Асм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лучайно говорят (А.Г.Асмолов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ом рожд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ю станов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социаль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духов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интегральн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таи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5113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4-2"/>
          <p:cNvPicPr/>
          <p:nvPr/>
        </p:nvPicPr>
        <p:blipFill>
          <a:blip r:embed="rId1"/>
          <a:stretch/>
        </p:blipFill>
        <p:spPr>
          <a:xfrm>
            <a:off x="5940360" y="1844640"/>
            <a:ext cx="295272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3573000"/>
            <a:ext cx="4255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человек может рассматрива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едставитель живой природы, биологический объе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убъект созн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циальное с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0720" y="260280"/>
            <a:ext cx="4186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человек - это биосоциальное существо, наделенное сознанием и способностью к деятельности. Объединение этих трех уровней в одно целое формирует интегральную характеристику человека - его 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186002"/>
          <p:cNvPicPr/>
          <p:nvPr/>
        </p:nvPicPr>
        <p:blipFill>
          <a:blip r:embed="rId1"/>
          <a:stretch/>
        </p:blipFill>
        <p:spPr>
          <a:xfrm>
            <a:off x="4643280" y="479736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4-1"/>
          <p:cNvPicPr/>
          <p:nvPr/>
        </p:nvPicPr>
        <p:blipFill>
          <a:blip r:embed="rId2"/>
          <a:stretch/>
        </p:blipFill>
        <p:spPr>
          <a:xfrm>
            <a:off x="68436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s00554_"/>
          <p:cNvPicPr/>
          <p:nvPr/>
        </p:nvPicPr>
        <p:blipFill>
          <a:blip r:embed="rId3"/>
          <a:stretch/>
        </p:blipFill>
        <p:spPr>
          <a:xfrm>
            <a:off x="6877080" y="4941720"/>
            <a:ext cx="1828800" cy="15973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7834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один из наиболее сложных объектов реаль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Z45TLCABAH5Y9CAH9M9KTCAPPENCSCA2R7U3ECAKEAAXPCAAALXJHCAE31P2ECAEUSK2LCA75UCC0CALZTHCOCA98HSIUCAOGC08XC~1"/>
          <p:cNvPicPr/>
          <p:nvPr/>
        </p:nvPicPr>
        <p:blipFill>
          <a:blip r:embed="rId1"/>
          <a:stretch/>
        </p:blipFill>
        <p:spPr>
          <a:xfrm>
            <a:off x="684360" y="4005360"/>
            <a:ext cx="287964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ICT0098"/>
          <p:cNvPicPr/>
          <p:nvPr/>
        </p:nvPicPr>
        <p:blipFill>
          <a:blip r:embed="rId2"/>
          <a:stretch/>
        </p:blipFill>
        <p:spPr>
          <a:xfrm>
            <a:off x="5292720" y="4005360"/>
            <a:ext cx="37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4C94OCAVDQT42CAVJT9X5CAMALD08CAF3Z6CCCAVP08TCCANGV2RVCAI1YUTGCAYIREEFCA7ZH339CA5JABTOCAJ28ZIQCAE47WPLC~1"/>
          <p:cNvPicPr/>
          <p:nvPr/>
        </p:nvPicPr>
        <p:blipFill>
          <a:blip r:embed="rId3"/>
          <a:stretch/>
        </p:blipFill>
        <p:spPr>
          <a:xfrm>
            <a:off x="3132000" y="3068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труктура личности и подходы к вопросу о сочетании биологического и социальног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И. Енике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пределяет структуру личности как систему психических качеств лич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42-2"/>
          <p:cNvPicPr/>
          <p:nvPr/>
        </p:nvPicPr>
        <p:blipFill>
          <a:blip r:embed="rId1"/>
          <a:stretch/>
        </p:blipFill>
        <p:spPr>
          <a:xfrm>
            <a:off x="1258920" y="1628640"/>
            <a:ext cx="2801880" cy="4680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8764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. Фрей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Юн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лпор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К. Плат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C. Мерлин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http://yanko.lib.ru/books/psycho/jdan=ist_pscihologii=ann.files/image041.jpg"/>
          <p:cNvPicPr/>
          <p:nvPr/>
        </p:nvPicPr>
        <p:blipFill>
          <a:blip r:embed="rId1"/>
          <a:stretch/>
        </p:blipFill>
        <p:spPr>
          <a:xfrm>
            <a:off x="826920" y="69228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614160" y="26028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Г. Юнг (1875-1961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917080" y="1916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Фре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Sigmund_Freud"/>
          <p:cNvPicPr/>
          <p:nvPr/>
        </p:nvPicPr>
        <p:blipFill>
          <a:blip r:embed="rId2"/>
          <a:stretch/>
        </p:blipFill>
        <p:spPr>
          <a:xfrm>
            <a:off x="2268360" y="242100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олпорт"/>
          <p:cNvPicPr/>
          <p:nvPr/>
        </p:nvPicPr>
        <p:blipFill>
          <a:blip r:embed="rId3"/>
          <a:stretch/>
        </p:blipFill>
        <p:spPr>
          <a:xfrm>
            <a:off x="684360" y="3789360"/>
            <a:ext cx="1800000" cy="2735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9"/>
          <p:cNvSpPr/>
          <p:nvPr/>
        </p:nvSpPr>
        <p:spPr>
          <a:xfrm>
            <a:off x="61128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2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.Л. Рубинштейна и В.Н. Мясище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338472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мясищев в"/>
          <p:cNvPicPr/>
          <p:nvPr/>
        </p:nvPicPr>
        <p:blipFill>
          <a:blip r:embed="rId3"/>
          <a:stretch/>
        </p:blipFill>
        <p:spPr>
          <a:xfrm>
            <a:off x="5003640" y="1844640"/>
            <a:ext cx="360072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2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55640" y="260280"/>
            <a:ext cx="4319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социаль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черкивая, что при изучении лич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 биологические и конституционально -индивидн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зуе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о личности динамикой нервнопсихической ре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мясищев в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608472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105264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0BYJ0CAQCTAU8CAAJO210CAJI84MACA7UOJH5CAL0GE1ICAXED839CAR93X6MCA0CP560CAO90FYXCAN22UL3CAHMTD1UCAGYCBCIC~1"/>
          <p:cNvPicPr/>
          <p:nvPr/>
        </p:nvPicPr>
        <p:blipFill>
          <a:blip r:embed="rId1"/>
          <a:stretch/>
        </p:blipFill>
        <p:spPr>
          <a:xfrm>
            <a:off x="4788000" y="3645000"/>
            <a:ext cx="4103640" cy="292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av-625_0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876920" y="404640"/>
            <a:ext cx="401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и структуировать личность предприним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ё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Леонтье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А.Н. Леонтьев. Фото 192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ананьев б г"/>
          <p:cNvPicPr/>
          <p:nvPr/>
        </p:nvPicPr>
        <p:blipFill>
          <a:blip r:embed="rId3"/>
          <a:stretch/>
        </p:blipFill>
        <p:spPr>
          <a:xfrm>
            <a:off x="2050920" y="3384720"/>
            <a:ext cx="259236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700360" y="61657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Ана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68000" y="3860280"/>
            <a:ext cx="38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связываются в соответст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тверждал А.Г.Ковалёв, с требованиями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11640" y="333360"/>
            <a:ext cx="4681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ев выделяет следующие компоненты структуры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стема потребностей, интересов, идеа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самбль интеллектуальных, волевых и эмоциональных свой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нтез отношений и способов поведения), темперамент (система природных свойст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4005000"/>
            <a:ext cx="8002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р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исы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группы индивидуальных особен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ключает две 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ачественные особен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уальност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меет три подструктуры: мотивы и отношения; характер;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мерлин"/>
          <p:cNvPicPr/>
          <p:nvPr/>
        </p:nvPicPr>
        <p:blipFill>
          <a:blip r:embed="rId1"/>
          <a:stretch/>
        </p:blipFill>
        <p:spPr>
          <a:xfrm>
            <a:off x="2411280" y="33336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360" y="259920"/>
            <a:ext cx="472428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876560" y="404640"/>
            <a:ext cx="3809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уктуру человека как индивида включ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-половые свой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-тип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физиологические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ананьев в г"/>
          <p:cNvPicPr/>
          <p:nvPr/>
        </p:nvPicPr>
        <p:blipFill>
          <a:blip r:embed="rId1"/>
          <a:stretch/>
        </p:blipFill>
        <p:spPr>
          <a:xfrm>
            <a:off x="2340000" y="2852640"/>
            <a:ext cx="2768400" cy="37688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ананьев"/>
          <p:cNvPicPr/>
          <p:nvPr/>
        </p:nvPicPr>
        <p:blipFill>
          <a:blip r:embed="rId1"/>
          <a:stretch/>
        </p:blipFill>
        <p:spPr>
          <a:xfrm>
            <a:off x="5435640" y="177336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6228720" y="6164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400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стнике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ГУ № 4 1996  Д.А. Леонтьев пиш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6000" y="404640"/>
            <a:ext cx="46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А.Н. Леонтьев. Фото 195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2305080" cy="338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250920" y="59500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А. Леон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teplov"/>
          <p:cNvPicPr/>
          <p:nvPr/>
        </p:nvPicPr>
        <p:blipFill>
          <a:blip r:embed="rId3"/>
          <a:stretch/>
        </p:blipFill>
        <p:spPr>
          <a:xfrm>
            <a:off x="2556000" y="3429000"/>
            <a:ext cx="2160360" cy="2952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00360" y="6400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М.Теп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личности 3. Фрей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бессознательное и его комплек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ое бессознательное и его архетипы, персона, анима, анимус и т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55640" y="1599840"/>
            <a:ext cx="45370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конструк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и, созданной Фрейдо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се эти компоненты в основном подчиняются биологическим зако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Sigmund_Freud"/>
          <p:cNvPicPr/>
          <p:nvPr/>
        </p:nvPicPr>
        <p:blipFill>
          <a:blip r:embed="rId1"/>
          <a:stretch/>
        </p:blipFill>
        <p:spPr>
          <a:xfrm>
            <a:off x="6227640" y="3933720"/>
            <a:ext cx="2219400" cy="2739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4788000" y="6067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3. Фре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329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ученики Фрейда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фрейди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ывают значимость не только биологических, но и социаль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формировании человеческого само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76560" y="3428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адлер"/>
          <p:cNvPicPr/>
          <p:nvPr/>
        </p:nvPicPr>
        <p:blipFill>
          <a:blip r:embed="rId1"/>
          <a:stretch/>
        </p:blipFill>
        <p:spPr>
          <a:xfrm>
            <a:off x="5508720" y="404640"/>
            <a:ext cx="2087640" cy="2664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6372360" y="29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Ад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10-1"/>
          <p:cNvPicPr/>
          <p:nvPr/>
        </p:nvPicPr>
        <p:blipFill>
          <a:blip r:embed="rId2"/>
          <a:stretch/>
        </p:blipFill>
        <p:spPr>
          <a:xfrm>
            <a:off x="179280" y="3716280"/>
            <a:ext cx="2678400" cy="230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11-1"/>
          <p:cNvPicPr/>
          <p:nvPr/>
        </p:nvPicPr>
        <p:blipFill>
          <a:blip r:embed="rId3"/>
          <a:stretch/>
        </p:blipFill>
        <p:spPr>
          <a:xfrm>
            <a:off x="2627280" y="4005360"/>
            <a:ext cx="2571840" cy="2638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9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3-1"/>
          <p:cNvPicPr/>
          <p:nvPr/>
        </p:nvPicPr>
        <p:blipFill>
          <a:blip r:embed="rId1"/>
          <a:stretch/>
        </p:blipFill>
        <p:spPr>
          <a:xfrm>
            <a:off x="4932360" y="476280"/>
            <a:ext cx="3887640" cy="58323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8281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группа зарубежны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структурных единиц личности рассматривает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обозначает некую общую тенденцию поведения и ожид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, «Я впечатлительный» означает устойчивую характеристик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является количественным измер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может иметь иерархическую организ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404640"/>
            <a:ext cx="4897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00840"/>
          <p:cNvPicPr/>
          <p:nvPr/>
        </p:nvPicPr>
        <p:blipFill>
          <a:blip r:embed="rId1"/>
          <a:stretch/>
        </p:blipFill>
        <p:spPr>
          <a:xfrm>
            <a:off x="5148360" y="170028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30-1"/>
          <p:cNvPicPr/>
          <p:nvPr/>
        </p:nvPicPr>
        <p:blipFill>
          <a:blip r:embed="rId2"/>
          <a:stretch/>
        </p:blipFill>
        <p:spPr>
          <a:xfrm>
            <a:off x="4788000" y="4724280"/>
            <a:ext cx="364788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4535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первых в этом направлении рабо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еория которого так и называется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еория ч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ыделил следующие виды че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ы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ют в себя любые характерис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сущие какому-то количеству людей в пределах дан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диспози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олпорт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6659640" y="98100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40399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Raymond_Cattell"/>
          <p:cNvPicPr/>
          <p:nvPr/>
        </p:nvPicPr>
        <p:blipFill>
          <a:blip r:embed="rId1"/>
          <a:stretch/>
        </p:blipFill>
        <p:spPr>
          <a:xfrm>
            <a:off x="5364000" y="1628640"/>
            <a:ext cx="3456000" cy="4896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579600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. Кэт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255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Е (экстраверсия — интроверс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N (нейротицизм — эмоциональная стаби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Р (психопатия или эмоциональная независимо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ans_Eysenk"/>
          <p:cNvPicPr/>
          <p:nvPr/>
        </p:nvPicPr>
        <p:blipFill>
          <a:blip r:embed="rId1"/>
          <a:stretch/>
        </p:blipFill>
        <p:spPr>
          <a:xfrm>
            <a:off x="5508720" y="476280"/>
            <a:ext cx="3240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594036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Айзе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-антропометрическая стратегия изучения строения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2. 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Факторная» стратегия изучения черт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3" descr="j0195534"/>
          <p:cNvPicPr/>
          <p:nvPr/>
        </p:nvPicPr>
        <p:blipFill>
          <a:blip r:embed="rId1"/>
          <a:stretch/>
        </p:blipFill>
        <p:spPr>
          <a:xfrm>
            <a:off x="611280" y="1773360"/>
            <a:ext cx="3636720" cy="4608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3.  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«Блочная» стратегия изучения структуры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48" name="Diagram 6"/>
          <p:cNvGrpSpPr/>
          <p:nvPr/>
        </p:nvGrpSpPr>
        <p:grpSpPr>
          <a:xfrm>
            <a:off x="3131640" y="2204280"/>
            <a:ext cx="1553400" cy="3583800"/>
            <a:chOff x="3131640" y="2204280"/>
            <a:chExt cx="1553400" cy="3583800"/>
          </a:xfrm>
        </p:grpSpPr>
        <p:sp>
          <p:nvSpPr>
            <p:cNvPr id="249" name="AutoShape 19"/>
            <p:cNvSpPr/>
            <p:nvPr/>
          </p:nvSpPr>
          <p:spPr>
            <a:xfrm>
              <a:off x="3131640" y="2204280"/>
              <a:ext cx="977400" cy="486720"/>
            </a:xfrm>
            <a:prstGeom prst="rightArrow">
              <a:avLst>
                <a:gd name="adj1" fmla="val 50000"/>
                <a:gd name="adj2" fmla="val 5020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3707640" y="5299920"/>
              <a:ext cx="977400" cy="48816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0"/>
            <p:cNvSpPr/>
            <p:nvPr/>
          </p:nvSpPr>
          <p:spPr>
            <a:xfrm>
              <a:off x="3564000" y="4364640"/>
              <a:ext cx="975960" cy="484920"/>
            </a:xfrm>
            <a:prstGeom prst="rightArrow">
              <a:avLst>
                <a:gd name="adj1" fmla="val 50000"/>
                <a:gd name="adj2" fmla="val 5031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4"/>
          <p:cNvSpPr/>
          <p:nvPr/>
        </p:nvSpPr>
        <p:spPr>
          <a:xfrm>
            <a:off x="3995640" y="2060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11640" y="27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шлого опы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включающий память, навыки, знания, которые приобретены в ход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572000" y="400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ических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хватывающих индивидуальные особенности восприятия, мышления и т.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859280" y="53737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ные свойст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темперамент, половозрастные особен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3203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 rot="17641200">
            <a:off x="7560" y="27370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4. Мотивационно-динамиче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Асмолов отмечает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ватыв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ую ре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у структуры личности, как ее динам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прав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5. Поведенческо-интеракционист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j0234687"/>
          <p:cNvPicPr/>
          <p:nvPr/>
        </p:nvPicPr>
        <p:blipFill>
          <a:blip r:embed="rId1"/>
          <a:stretch/>
        </p:blipFill>
        <p:spPr>
          <a:xfrm>
            <a:off x="3059280" y="443700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неопознанного таится в этом необыкновенном су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Untitled-8"/>
          <p:cNvPicPr/>
          <p:nvPr/>
        </p:nvPicPr>
        <p:blipFill>
          <a:blip r:embed="rId2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040" y="333360"/>
            <a:ext cx="3809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259920"/>
            <a:ext cx="40161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ют биологическую организацию человека в понятие личност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F:\урок\Требования к современному уроку.files\160.gif"/>
          <p:cNvPicPr/>
          <p:nvPr/>
        </p:nvPicPr>
        <p:blipFill>
          <a:blip r:embed="rId1"/>
          <a:stretch/>
        </p:blipFill>
        <p:spPr>
          <a:xfrm>
            <a:off x="5076720" y="5013360"/>
            <a:ext cx="2286000" cy="16858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Биологическое и социальное в структуре личности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анализировать специфику соотношения биологического и социального в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ичнос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ор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Теоретическое значение и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новизна исслед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92360" y="4581360"/>
            <a:ext cx="2958840" cy="198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217698"/>
          <p:cNvPicPr/>
          <p:nvPr/>
        </p:nvPicPr>
        <p:blipFill>
          <a:blip r:embed="rId2"/>
          <a:stretch/>
        </p:blipFill>
        <p:spPr>
          <a:xfrm>
            <a:off x="5435640" y="4357800"/>
            <a:ext cx="32400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404640"/>
            <a:ext cx="40399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j0293844"/>
          <p:cNvPicPr/>
          <p:nvPr/>
        </p:nvPicPr>
        <p:blipFill>
          <a:blip r:embed="rId1"/>
          <a:stretch/>
        </p:blipFill>
        <p:spPr>
          <a:xfrm>
            <a:off x="2050920" y="479736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olorpsy"/>
          <p:cNvPicPr/>
          <p:nvPr/>
        </p:nvPicPr>
        <p:blipFill>
          <a:blip r:embed="rId2"/>
          <a:stretch/>
        </p:blipFill>
        <p:spPr>
          <a:xfrm>
            <a:off x="4859280" y="1413000"/>
            <a:ext cx="403380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040" y="475920"/>
            <a:ext cx="38098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(1907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3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ство биологического и социального в челов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еспечивается посредством единства таких его макрохарактеристик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yanko.lib.ru/books/psycho/jdan=ist_pscihologii=ann.files/image049.jpg"/>
          <p:cNvPicPr/>
          <p:nvPr/>
        </p:nvPicPr>
        <p:blipFill>
          <a:blip r:embed="rId1"/>
          <a:stretch/>
        </p:blipFill>
        <p:spPr>
          <a:xfrm>
            <a:off x="900000" y="1773360"/>
            <a:ext cx="360072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85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иосоциальный феномен имеет два вектора разви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й и социальный 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Untitled-10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Untitled-9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17:59Z</dcterms:created>
  <dc:creator>Любовь</dc:creator>
  <dc:description/>
  <dc:language>en-US</dc:language>
  <cp:lastModifiedBy>LEGION</cp:lastModifiedBy>
  <dcterms:modified xsi:type="dcterms:W3CDTF">2014-11-12T10:44:57Z</dcterms:modified>
  <cp:revision>94</cp:revision>
  <dc:subject/>
  <dc:title>«Биологическое и социальное в структуре личности»</dc:title>
</cp:coreProperties>
</file>