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1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2.jpeg" ContentType="image/jpeg"/>
  <Override PartName="/ppt/media/image34.jpeg" ContentType="image/jpeg"/>
  <Override PartName="/ppt/media/image40.wmf" ContentType="image/x-wmf"/>
  <Override PartName="/ppt/media/image31.jpeg" ContentType="image/jpeg"/>
  <Override PartName="/ppt/media/image25.jpeg" ContentType="image/jpeg"/>
  <Override PartName="/ppt/media/image36.jpeg" ContentType="image/jpeg"/>
  <Override PartName="/ppt/media/image38.png" ContentType="image/png"/>
  <Override PartName="/ppt/media/image37.jpeg" ContentType="image/jpeg"/>
  <Override PartName="/ppt/media/image4.jpeg" ContentType="image/jpeg"/>
  <Override PartName="/ppt/media/image8.wmf" ContentType="image/x-wmf"/>
  <Override PartName="/ppt/media/image33.jpeg" ContentType="image/jpeg"/>
  <Override PartName="/ppt/media/image10.jpeg" ContentType="image/jpeg"/>
  <Override PartName="/ppt/media/image3.wmf" ContentType="image/x-wmf"/>
  <Override PartName="/ppt/media/image29.jpeg" ContentType="image/jpeg"/>
  <Override PartName="/ppt/media/image43.jpeg" ContentType="image/jpeg"/>
  <Override PartName="/ppt/media/image6.wmf" ContentType="image/x-wmf"/>
  <Override PartName="/ppt/media/image2.gif" ContentType="image/gif"/>
  <Override PartName="/ppt/media/image19.jpeg" ContentType="image/jpeg"/>
  <Override PartName="/ppt/media/image42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41.gif" ContentType="image/gif"/>
  <Override PartName="/ppt/media/image5.gif" ContentType="image/gif"/>
  <Override PartName="/ppt/media/image16.wmf" ContentType="image/x-wmf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F2ED-A66F-446E-B92E-CA03046CF8D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042-3CC0-4BB6-8843-192BEE087A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вершинный уровень развития челове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его глубинное измерение» (А.Г.Асмо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учайно говорят (А.Г.Асмолов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ом рожда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ю станов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род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социаль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духов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интегр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т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1BD8-45F4-4B1B-A722-11381E1DC4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46C7-C039-4BF8-B81F-45A2B71380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один из наиболее сложных объектов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A30F-173F-4AC9-8BB0-07339ACD63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труктура личности и подходы к вопросу о сочетании биологического и соци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.И. Енике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пределяет структуру личности как систему психических качеств лич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674A-E06A-4DA1-B075-D1BEEB29F2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 Фрей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Юн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Олпор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К. Платон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.C. Мерлин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D1FA-8BF7-42FF-A878-3E964AFAFD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12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.Л. Рубинштейна и В.Н. Мясищ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BD6E-4041-48C7-B8A9-6038FD54A1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0A9A-5BD9-4D1A-A24E-3003F9F796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истема социаль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черкивая, что при изучении лич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 биологические и конституционально -индивид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личности динамикой нервнопсихической ре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EF48-0F4D-4527-BEC3-D68F9AB54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E690-00E0-4478-8CC3-39DDAD0AFF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ытки структуировать личность предприним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ё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Н.Леонтье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2EFA-1701-4654-A194-599B85456C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язываются в соответств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тверждал А.Г.Ковалёв, с требованиями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ев выделяет следующие компоненты структуры ли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стема потребностей, интересов, идеал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самбль интеллектуальных, волевых и эмоциональных свой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нтез отношений и способов поведения), темперамент (система природных свойст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41BB-2631-42AF-97E7-F71C8490CA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Мер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исы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е группы индивидуальных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ключает две 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качественные особенности псих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уальност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имеет три подструктуры: мотивы и отношения; характер; 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EF81-30B5-4988-92D7-E558B68CEA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.Г. Анань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человека как индивида включ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о-половые свой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-тип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физиологические фун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F433-C4A2-4BA3-85D0-B176B39115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0AD0-8B90-4B2C-BA03-210D60579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вестнике психологи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ГУ № 4 1996  Д.А. Леонтьев пишет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948-CB4D-4699-BE4D-093B5A297E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личности 3. Фре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бессознательное и его комплек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бессознательное и его архетипы, персона, анима, анимус и т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онструкци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чности, созданной Фрейдом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все эти компоненты в основном подчиняются биологическим зако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7B24-7C91-41DA-A5F6-56CEB5809E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ученики Фрейд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фрейд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азывают значимость не только биологических, но и социаль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формировании человеческого сам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A788-7873-4A72-ACC4-1A58A3835F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3338-4340-473A-B8C5-0144F8F900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группа зарубежных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труктурных единиц личности рассматривает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обозначает некую общую тенденцию поведения и ожид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пример, «Я впечатлительный» означает устойчивую характеристик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является количественным измер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может иметь иерархическую орган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DFC8-C134-45C5-91A2-3C3099558E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7A36-CC8C-4251-8E5C-DCADAB90CC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первых в этом направлении рабо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. Олпо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еория которого так и называетс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ория че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ыделил следующие виды че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ы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 в себя люб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сущие какому-то количеству людей в пределах данно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ые дис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C4CD-A1E3-4414-AA3F-9388BC2519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9B8B-2B5A-4524-952D-AEE471BBE0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Е (экстраверсия — интроверс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N (нейротицизм — эмоциональная стабиль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 (психопатия или эмоциональная независим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4F5A-1BB4-47FA-9C8C-0F3FF9ABC8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ституционально-антропометрическая стратегия изучения строения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A765-E84D-413A-A096-33E3C4EAA3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Факторная» стратегия изучения черт лич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F315-DFC8-43F9-A0E4-4191CA643B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очная» стратегия изучения струк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4509-52C8-4D69-B917-1813F4B743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4. Мотивационно-динамическая стратегия изучения организации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Асмолов отмечает, ч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ватыв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акую ре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у структуры личности, как ее динам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рав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70E3-9554-467F-A7AA-4A4F26DD7E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Поведенческо-интеракционистская стратегия изучения организации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9CAD-E290-4A19-8EDC-F1A89368CC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674A-222A-48EA-9C47-04BBF1B075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колько неопознанного таится в этом необыкновенном су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192E-8B1D-4CC2-A608-E47055EA1D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 биологическую организацию человека в понятие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4EA9-34D1-4B18-93A4-AFB03BCC13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иологическое и социальное в структуре личност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анализировать специфику соотношения биологического и социального в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личность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теор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C23D-CF21-4B0F-8CC5-89F4DD6F6B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оретическое значени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изн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B4E4-47FA-4B6E-A906-6A0DA83739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ая знач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6D0C-BA7B-489D-A443-AA120E25CF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Б.Г. Анан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(1907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биологического и социального в челове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еспечивается посредством единства таких его макрохарактеристик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47B4-4C20-44FF-93E6-993C15631B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иосоциальный феномен имеет два вектора разви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ий и социальный 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DB0A-67CB-434B-875F-1AD822F3AE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FCA-1B8B-41B5-937F-E9E2513E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2F7-B956-4690-88EE-56761E57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DD80-AC96-4621-9387-87CE5006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C71-F847-4F50-9177-CA1E82BD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95E0-E203-4330-8CE1-BA76CAB1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13D4-5EB2-424A-A46D-97AD0578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F181-9867-4E20-83E3-9FC8A316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831F-6E09-4B67-AEEE-6C5198B1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DF69-C249-4538-AC42-59C3B9C7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CAA5-2ACC-4310-A957-839E0294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DF01-814D-4821-900A-B41B4F52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E42-9EC0-40CC-B9FA-7200809F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8E1A-6EB3-45E7-95F3-8BFBCF7B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7E09-1F21-40C5-A014-7A5C55EB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F77E-DFC1-4C43-9F86-60C2F4BC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9F4C-F2D8-415D-9806-0F65F757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B3A3-DF05-4EA4-8F8E-F70FA651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7DB-6A8F-4672-9460-7DA9856E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C2E-72E0-44F1-A3A2-40CF31D8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6F8-446D-41A9-AB17-6154F5A4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2D4-D8D2-4710-9B6B-0D83A290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2E7-FA25-4B4E-AE73-5C58D22A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F95D-B364-4BFD-8B83-AACEE75B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794-A75B-46C7-A98A-23D9DE2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3A39-D9E7-4E22-A100-AF5C9B7E30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2B64-C3AF-427B-9C28-DC472DE0CA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50x.jpg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2558880"/>
            <a:ext cx="6858000" cy="39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075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ть вершинный уровень развития человек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его глубинное измерение» (А.Г.Асмо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лучайно говорят (А.Г.Асмолов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ом рожд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ю станов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социаль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духов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интегральн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таи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5113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4-2"/>
          <p:cNvPicPr/>
          <p:nvPr/>
        </p:nvPicPr>
        <p:blipFill>
          <a:blip r:embed="rId1"/>
          <a:stretch/>
        </p:blipFill>
        <p:spPr>
          <a:xfrm>
            <a:off x="5940360" y="1844640"/>
            <a:ext cx="295272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3573000"/>
            <a:ext cx="4255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человек может рассматрива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едставитель живой природы, биологический объе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убъект созн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циальное с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00720" y="260280"/>
            <a:ext cx="4186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человек - это биосоциальное существо, наделенное сознанием и способностью к деятельности. Объединение этих трех уровней в одно целое формирует интегральную характеристику человека - его индивид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186002"/>
          <p:cNvPicPr/>
          <p:nvPr/>
        </p:nvPicPr>
        <p:blipFill>
          <a:blip r:embed="rId1"/>
          <a:stretch/>
        </p:blipFill>
        <p:spPr>
          <a:xfrm>
            <a:off x="4643280" y="479736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4-1"/>
          <p:cNvPicPr/>
          <p:nvPr/>
        </p:nvPicPr>
        <p:blipFill>
          <a:blip r:embed="rId2"/>
          <a:stretch/>
        </p:blipFill>
        <p:spPr>
          <a:xfrm>
            <a:off x="684360" y="18900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s00554_"/>
          <p:cNvPicPr/>
          <p:nvPr/>
        </p:nvPicPr>
        <p:blipFill>
          <a:blip r:embed="rId3"/>
          <a:stretch/>
        </p:blipFill>
        <p:spPr>
          <a:xfrm>
            <a:off x="6877080" y="4941720"/>
            <a:ext cx="1828800" cy="15973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78343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один из наиболее сложных объектов реаль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Z45TLCABAH5Y9CAH9M9KTCAPPENCSCA2R7U3ECAKEAAXPCAAALXJHCAE31P2ECAEUSK2LCA75UCC0CALZTHCOCA98HSIUCAOGC08XC~1"/>
          <p:cNvPicPr/>
          <p:nvPr/>
        </p:nvPicPr>
        <p:blipFill>
          <a:blip r:embed="rId1"/>
          <a:stretch/>
        </p:blipFill>
        <p:spPr>
          <a:xfrm>
            <a:off x="684360" y="4005360"/>
            <a:ext cx="2879640" cy="26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ICT0098"/>
          <p:cNvPicPr/>
          <p:nvPr/>
        </p:nvPicPr>
        <p:blipFill>
          <a:blip r:embed="rId2"/>
          <a:stretch/>
        </p:blipFill>
        <p:spPr>
          <a:xfrm>
            <a:off x="5292720" y="4005360"/>
            <a:ext cx="3703680" cy="2616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4C94OCAVDQT42CAVJT9X5CAMALD08CAF3Z6CCCAVP08TCCANGV2RVCAI1YUTGCAYIREEFCA7ZH339CA5JABTOCAJ28ZIQCAE47WPLC~1"/>
          <p:cNvPicPr/>
          <p:nvPr/>
        </p:nvPicPr>
        <p:blipFill>
          <a:blip r:embed="rId3"/>
          <a:stretch/>
        </p:blipFill>
        <p:spPr>
          <a:xfrm>
            <a:off x="3132000" y="3068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труктура личности и подходы к вопросу о сочетании биологического и социального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И. Енике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пределяет структуру личности как систему психических качеств лич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42-2"/>
          <p:cNvPicPr/>
          <p:nvPr/>
        </p:nvPicPr>
        <p:blipFill>
          <a:blip r:embed="rId1"/>
          <a:stretch/>
        </p:blipFill>
        <p:spPr>
          <a:xfrm>
            <a:off x="1258920" y="1628640"/>
            <a:ext cx="2801880" cy="4680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8764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. Фрей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Юн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лпор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К. Плат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C. Мерлин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http://yanko.lib.ru/books/psycho/jdan=ist_pscihologii=ann.files/image041.jpg"/>
          <p:cNvPicPr/>
          <p:nvPr/>
        </p:nvPicPr>
        <p:blipFill>
          <a:blip r:embed="rId1"/>
          <a:stretch/>
        </p:blipFill>
        <p:spPr>
          <a:xfrm>
            <a:off x="826920" y="692280"/>
            <a:ext cx="1944720" cy="2016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614160" y="260280"/>
            <a:ext cx="24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Г. Юнг (1875-1961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917080" y="1916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 Фрей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Sigmund_Freud"/>
          <p:cNvPicPr/>
          <p:nvPr/>
        </p:nvPicPr>
        <p:blipFill>
          <a:blip r:embed="rId2"/>
          <a:stretch/>
        </p:blipFill>
        <p:spPr>
          <a:xfrm>
            <a:off x="2268360" y="2421000"/>
            <a:ext cx="20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олпорт"/>
          <p:cNvPicPr/>
          <p:nvPr/>
        </p:nvPicPr>
        <p:blipFill>
          <a:blip r:embed="rId3"/>
          <a:stretch/>
        </p:blipFill>
        <p:spPr>
          <a:xfrm>
            <a:off x="684360" y="3789360"/>
            <a:ext cx="1800000" cy="2735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9"/>
          <p:cNvSpPr/>
          <p:nvPr/>
        </p:nvSpPr>
        <p:spPr>
          <a:xfrm>
            <a:off x="61128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2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.Л. Рубинштейна и В.Н. Мясище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162864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3384720" cy="468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мясищев в"/>
          <p:cNvPicPr/>
          <p:nvPr/>
        </p:nvPicPr>
        <p:blipFill>
          <a:blip r:embed="rId3"/>
          <a:stretch/>
        </p:blipFill>
        <p:spPr>
          <a:xfrm>
            <a:off x="5003640" y="1844640"/>
            <a:ext cx="3600720" cy="4680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2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55640" y="260280"/>
            <a:ext cx="4319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230508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511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социальны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черкивая, что при изучении лич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 биологические и конституционально -индивидн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зуе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инство личности динамикой нервнопсихической ре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мясищев в"/>
          <p:cNvPicPr/>
          <p:nvPr/>
        </p:nvPicPr>
        <p:blipFill>
          <a:blip r:embed="rId1"/>
          <a:stretch/>
        </p:blipFill>
        <p:spPr>
          <a:xfrm>
            <a:off x="5724360" y="1773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608472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11280" y="1052640"/>
            <a:ext cx="374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0BYJ0CAQCTAU8CAAJO210CAJI84MACA7UOJH5CAL0GE1ICAXED839CAR93X6MCA0CP560CAO90FYXCAN22UL3CAHMTD1UCAGYCBCIC~1"/>
          <p:cNvPicPr/>
          <p:nvPr/>
        </p:nvPicPr>
        <p:blipFill>
          <a:blip r:embed="rId1"/>
          <a:stretch/>
        </p:blipFill>
        <p:spPr>
          <a:xfrm>
            <a:off x="4788000" y="3645000"/>
            <a:ext cx="4103640" cy="292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av-625_02"/>
          <p:cNvPicPr/>
          <p:nvPr/>
        </p:nvPicPr>
        <p:blipFill>
          <a:blip r:embed="rId2"/>
          <a:stretch/>
        </p:blipFill>
        <p:spPr>
          <a:xfrm>
            <a:off x="5435640" y="333360"/>
            <a:ext cx="2808360" cy="30243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876920" y="404640"/>
            <a:ext cx="401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и структуировать личность предприним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ё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Н.Леонтье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А.Н. Леонтьев. Фото 192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ананьев б г"/>
          <p:cNvPicPr/>
          <p:nvPr/>
        </p:nvPicPr>
        <p:blipFill>
          <a:blip r:embed="rId3"/>
          <a:stretch/>
        </p:blipFill>
        <p:spPr>
          <a:xfrm>
            <a:off x="2050920" y="3384720"/>
            <a:ext cx="259236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2700360" y="61657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Ана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68000" y="3860280"/>
            <a:ext cx="38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связываются в соответств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тверждал А.Г.Ковалёв, с требованиями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11640" y="333360"/>
            <a:ext cx="4681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ев выделяет следующие компоненты структуры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стема потребностей, интересов, идеа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особ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самбль интеллектуальных, волевых и эмоциональных свой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нтез отношений и способов поведения), темперамент (система природных свойст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4005000"/>
            <a:ext cx="8002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ер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исыв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группы индивидуальных особен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ключает две 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ачественные особен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уальност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имеет три подструктуры: мотивы и отношения; характер;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мерлин"/>
          <p:cNvPicPr/>
          <p:nvPr/>
        </p:nvPicPr>
        <p:blipFill>
          <a:blip r:embed="rId1"/>
          <a:stretch/>
        </p:blipFill>
        <p:spPr>
          <a:xfrm>
            <a:off x="2411280" y="33336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-360" y="259920"/>
            <a:ext cx="4724280" cy="60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876560" y="404640"/>
            <a:ext cx="38098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уктуру человека как индивида включ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о-половые свой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-тип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физиологические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ананьев в г"/>
          <p:cNvPicPr/>
          <p:nvPr/>
        </p:nvPicPr>
        <p:blipFill>
          <a:blip r:embed="rId1"/>
          <a:stretch/>
        </p:blipFill>
        <p:spPr>
          <a:xfrm>
            <a:off x="2340000" y="2852640"/>
            <a:ext cx="2768400" cy="37688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ананьев"/>
          <p:cNvPicPr/>
          <p:nvPr/>
        </p:nvPicPr>
        <p:blipFill>
          <a:blip r:embed="rId1"/>
          <a:stretch/>
        </p:blipFill>
        <p:spPr>
          <a:xfrm>
            <a:off x="5435640" y="177336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6228720" y="6164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400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стнике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ГУ № 4 1996  Д.А. Леонтьев пиш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6000" y="404640"/>
            <a:ext cx="460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А.Н. Леонтьев. Фото 195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565360"/>
            <a:ext cx="2305080" cy="338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250920" y="59500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А. Леон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teplov"/>
          <p:cNvPicPr/>
          <p:nvPr/>
        </p:nvPicPr>
        <p:blipFill>
          <a:blip r:embed="rId3"/>
          <a:stretch/>
        </p:blipFill>
        <p:spPr>
          <a:xfrm>
            <a:off x="2556000" y="3429000"/>
            <a:ext cx="2160360" cy="2952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2700360" y="6400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М.Теп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личности 3. Фрей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бессознательное и его комплек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ное бессознательное и его архетипы, персона, анима, анимус и т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55640" y="1599840"/>
            <a:ext cx="45370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конструкц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и, созданной Фрейдо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се эти компоненты в основном подчиняются биологическим зако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Sigmund_Freud"/>
          <p:cNvPicPr/>
          <p:nvPr/>
        </p:nvPicPr>
        <p:blipFill>
          <a:blip r:embed="rId1"/>
          <a:stretch/>
        </p:blipFill>
        <p:spPr>
          <a:xfrm>
            <a:off x="6227640" y="3933720"/>
            <a:ext cx="2219400" cy="2739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4788000" y="60674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3. Фре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4329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ученики Фрейда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фрейди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ывают значимость не только биологических, но и социаль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формировании человеческого само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76560" y="3428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адлер"/>
          <p:cNvPicPr/>
          <p:nvPr/>
        </p:nvPicPr>
        <p:blipFill>
          <a:blip r:embed="rId1"/>
          <a:stretch/>
        </p:blipFill>
        <p:spPr>
          <a:xfrm>
            <a:off x="5508720" y="404640"/>
            <a:ext cx="2087640" cy="2664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6372360" y="29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Ад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10-1"/>
          <p:cNvPicPr/>
          <p:nvPr/>
        </p:nvPicPr>
        <p:blipFill>
          <a:blip r:embed="rId2"/>
          <a:stretch/>
        </p:blipFill>
        <p:spPr>
          <a:xfrm>
            <a:off x="179280" y="3716280"/>
            <a:ext cx="2678400" cy="230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11-1"/>
          <p:cNvPicPr/>
          <p:nvPr/>
        </p:nvPicPr>
        <p:blipFill>
          <a:blip r:embed="rId3"/>
          <a:stretch/>
        </p:blipFill>
        <p:spPr>
          <a:xfrm>
            <a:off x="2627280" y="4005360"/>
            <a:ext cx="2571840" cy="2638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329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3-1"/>
          <p:cNvPicPr/>
          <p:nvPr/>
        </p:nvPicPr>
        <p:blipFill>
          <a:blip r:embed="rId1"/>
          <a:stretch/>
        </p:blipFill>
        <p:spPr>
          <a:xfrm>
            <a:off x="4932360" y="476280"/>
            <a:ext cx="3887640" cy="58323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8281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группа зарубежных исследовате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структурных единиц личности рассматривает 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обозначает некую общую тенденцию поведения и ожид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пример, «Я впечатлительный» означает устойчивую характеристик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является количественным измер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может иметь иерархическую организа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404640"/>
            <a:ext cx="4897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j0300840"/>
          <p:cNvPicPr/>
          <p:nvPr/>
        </p:nvPicPr>
        <p:blipFill>
          <a:blip r:embed="rId1"/>
          <a:stretch/>
        </p:blipFill>
        <p:spPr>
          <a:xfrm>
            <a:off x="5148360" y="170028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30-1"/>
          <p:cNvPicPr/>
          <p:nvPr/>
        </p:nvPicPr>
        <p:blipFill>
          <a:blip r:embed="rId2"/>
          <a:stretch/>
        </p:blipFill>
        <p:spPr>
          <a:xfrm>
            <a:off x="4788000" y="4724280"/>
            <a:ext cx="364788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4535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первых в этом направлении рабо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еория которого так и называется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еория ч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выделил следующие виды че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ты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ют в себя любые характерис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сущие какому-то количеству людей в пределах данн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ые диспози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олпорт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6659640" y="98100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40399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Raymond_Cattell"/>
          <p:cNvPicPr/>
          <p:nvPr/>
        </p:nvPicPr>
        <p:blipFill>
          <a:blip r:embed="rId1"/>
          <a:stretch/>
        </p:blipFill>
        <p:spPr>
          <a:xfrm>
            <a:off x="5364000" y="1628640"/>
            <a:ext cx="3456000" cy="4896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5796000" y="90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. Кэт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4255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Е (экстраверсия — интроверс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N (нейротицизм — эмоциональная стаби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Р (психопатия или эмоциональная независимо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Hans_Eysenk"/>
          <p:cNvPicPr/>
          <p:nvPr/>
        </p:nvPicPr>
        <p:blipFill>
          <a:blip r:embed="rId1"/>
          <a:stretch/>
        </p:blipFill>
        <p:spPr>
          <a:xfrm>
            <a:off x="5508720" y="476280"/>
            <a:ext cx="3240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5940360" y="551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Айзе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-антропометрическая стратегия изучения строения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2.  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«Факторная» стратегия изучения черт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3" descr="j0195534"/>
          <p:cNvPicPr/>
          <p:nvPr/>
        </p:nvPicPr>
        <p:blipFill>
          <a:blip r:embed="rId1"/>
          <a:stretch/>
        </p:blipFill>
        <p:spPr>
          <a:xfrm>
            <a:off x="611280" y="1773360"/>
            <a:ext cx="3636720" cy="4608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3.  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«Блочная» стратегия изучения структуры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48" name="Diagram 6"/>
          <p:cNvGrpSpPr/>
          <p:nvPr/>
        </p:nvGrpSpPr>
        <p:grpSpPr>
          <a:xfrm>
            <a:off x="3131640" y="2204280"/>
            <a:ext cx="1553400" cy="3583800"/>
            <a:chOff x="3131640" y="2204280"/>
            <a:chExt cx="1553400" cy="3583800"/>
          </a:xfrm>
        </p:grpSpPr>
        <p:sp>
          <p:nvSpPr>
            <p:cNvPr id="249" name="AutoShape 19"/>
            <p:cNvSpPr/>
            <p:nvPr/>
          </p:nvSpPr>
          <p:spPr>
            <a:xfrm>
              <a:off x="3131640" y="2204280"/>
              <a:ext cx="977400" cy="486720"/>
            </a:xfrm>
            <a:prstGeom prst="rightArrow">
              <a:avLst>
                <a:gd name="adj1" fmla="val 50000"/>
                <a:gd name="adj2" fmla="val 5020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3707640" y="5299920"/>
              <a:ext cx="977400" cy="48816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0"/>
            <p:cNvSpPr/>
            <p:nvPr/>
          </p:nvSpPr>
          <p:spPr>
            <a:xfrm>
              <a:off x="3564000" y="4364640"/>
              <a:ext cx="975960" cy="484920"/>
            </a:xfrm>
            <a:prstGeom prst="rightArrow">
              <a:avLst>
                <a:gd name="adj1" fmla="val 50000"/>
                <a:gd name="adj2" fmla="val 5031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4"/>
          <p:cNvSpPr/>
          <p:nvPr/>
        </p:nvSpPr>
        <p:spPr>
          <a:xfrm>
            <a:off x="3995640" y="2060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211640" y="27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шлого опы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включающий память, навыки, знания, которые приобретены в ход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572000" y="400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ических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охватывающих индивидуальные особенности восприятия, мышления и т.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859280" y="537372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ные свойст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темперамент, половозрастные особен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3203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 rot="17641200">
            <a:off x="7560" y="27370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4. Мотивационно-динамиче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Асмолов отмечает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хватыв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ую реальн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у структуры личности, как ее динам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прав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5. Поведенческо-интеракционист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j0234687"/>
          <p:cNvPicPr/>
          <p:nvPr/>
        </p:nvPicPr>
        <p:blipFill>
          <a:blip r:embed="rId1"/>
          <a:stretch/>
        </p:blipFill>
        <p:spPr>
          <a:xfrm>
            <a:off x="3059280" y="4437000"/>
            <a:ext cx="345744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неопознанного таится в этом необыкновенном су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Untitled-8"/>
          <p:cNvPicPr/>
          <p:nvPr/>
        </p:nvPicPr>
        <p:blipFill>
          <a:blip r:embed="rId2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14040" y="333360"/>
            <a:ext cx="3809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920" y="259920"/>
            <a:ext cx="401616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ют биологическую организацию человека в понятие личност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F:\урок\Требования к современному уроку.files\160.gif"/>
          <p:cNvPicPr/>
          <p:nvPr/>
        </p:nvPicPr>
        <p:blipFill>
          <a:blip r:embed="rId1"/>
          <a:stretch/>
        </p:blipFill>
        <p:spPr>
          <a:xfrm>
            <a:off x="5076720" y="5013360"/>
            <a:ext cx="2286000" cy="16858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Биологическое и социальное в структуре личности»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анализировать специфику соотношения биологического и социального в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ичнос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ор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Теоретическое значение и 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новизна исслед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92360" y="4581360"/>
            <a:ext cx="2958840" cy="198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217698"/>
          <p:cNvPicPr/>
          <p:nvPr/>
        </p:nvPicPr>
        <p:blipFill>
          <a:blip r:embed="rId2"/>
          <a:stretch/>
        </p:blipFill>
        <p:spPr>
          <a:xfrm>
            <a:off x="5435640" y="4357800"/>
            <a:ext cx="324000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404640"/>
            <a:ext cx="40399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j0293844"/>
          <p:cNvPicPr/>
          <p:nvPr/>
        </p:nvPicPr>
        <p:blipFill>
          <a:blip r:embed="rId1"/>
          <a:stretch/>
        </p:blipFill>
        <p:spPr>
          <a:xfrm>
            <a:off x="2050920" y="4797360"/>
            <a:ext cx="1738440" cy="182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olorpsy"/>
          <p:cNvPicPr/>
          <p:nvPr/>
        </p:nvPicPr>
        <p:blipFill>
          <a:blip r:embed="rId2"/>
          <a:stretch/>
        </p:blipFill>
        <p:spPr>
          <a:xfrm>
            <a:off x="4859280" y="1413000"/>
            <a:ext cx="4033800" cy="431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040" y="475920"/>
            <a:ext cx="38098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(1907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3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ство биологического и социального в челов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еспечивается посредством единства таких его макрохарактеристик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ъек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http://yanko.lib.ru/books/psycho/jdan=ist_pscihologii=ann.files/image049.jpg"/>
          <p:cNvPicPr/>
          <p:nvPr/>
        </p:nvPicPr>
        <p:blipFill>
          <a:blip r:embed="rId1"/>
          <a:stretch/>
        </p:blipFill>
        <p:spPr>
          <a:xfrm>
            <a:off x="900000" y="1773360"/>
            <a:ext cx="360072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85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иосоциальный феномен имеет два вектора разви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й и социальный 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Untitled-10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Untitled-9"/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5:17:59Z</dcterms:created>
  <dc:creator>Любовь</dc:creator>
  <dc:description/>
  <dc:language>en-US</dc:language>
  <cp:lastModifiedBy>LEGION</cp:lastModifiedBy>
  <dcterms:modified xsi:type="dcterms:W3CDTF">2014-11-12T10:44:57Z</dcterms:modified>
  <cp:revision>94</cp:revision>
  <dc:subject/>
  <dc:title>«Биологическое и социальное в структуре личности»</dc:title>
</cp:coreProperties>
</file>