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29.jpeg" ContentType="image/jpeg"/>
  <Override PartName="/ppt/media/image35.jpeg" ContentType="image/jpeg"/>
  <Override PartName="/ppt/media/image11.png" ContentType="image/png"/>
  <Override PartName="/ppt/media/image30.jpeg" ContentType="image/jpeg"/>
  <Override PartName="/ppt/media/image32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8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39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856C-A852-4861-8AA6-8407A52C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slide" Target="../slides/slide26.xml"/><Relationship Id="rId6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9E3D-C214-4A47-969F-A24AC8B20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63E9-8217-40CF-9733-1BA541AAE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C3D0-1430-4A7E-B1BE-0CB0FE20D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4468-D1D4-4C5D-BBC5-436B8E89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D441-BBDB-4CD7-80EE-A3794B91B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40A0-D9DA-4DA5-A426-9E83B047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множество интернациональных программ и инициатив направлены на борьбу с такими проблемами, как малярия, СПИД, туберкулез и т.д., основной угрозой после эпидемиологического перехода становятся хронические заболе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Лекция Суперкурса об эпидемиологическом переход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918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98EC-EB22-4D14-A9F3-F16C3FF92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хотелось бы поспорить, что кроме прочего одним из самых больших достижений глобального здоровья стала доступност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делиться информацией в области исследований, используя современные цифровые технолог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линической практике, и в области профилактики большое значение имеет информация. Если в этой области произойдет революция, и информация станет доступна повсеместно, выиграют пациенты всего ми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0DB5-9FE1-4D9D-AAA6-531142990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C465-A7DF-4D95-BFA1-00B88D8F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E733-8700-4143-A5DB-C73D5FB68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62BB-F44B-495F-8AFE-946D2161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вающихся странах очень низкий доступ к современной литературе. Суперкурс служит для доставки новой научной информации в развивающиеся страны, и по всей видимости станет основным источником информации.  Распространение и обмен лекциями поможет опытным учителям и молодым педагогам как из развитых, так и из развивающихся стран, а также студентам медицинских специальностей и студентам, изучающим общественное здоров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знаниями, информационные и коммуникативные технологии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48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C4DB-F966-4BD7-B035-043CCDAE9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3AE-CF96-4F9F-85BC-30F431B7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научные исследования, охватывающие  как развитые, так и развивающиеся страны, в значительной степени отличны от работ, ведущихся внутри отдельных стран.  Исследователи часто заинтересованы в интернациональных программах, хотя не осознают, что правила и медицинские системы разных стран отличаются. Эти недопонимания способны тормозить и даже остановить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мало смысла, ведь наша нынешняя система приводит к тому, что новые интернациональные исследования начинаются с чистого листа, не принимая во внимание прежние ошибки. Интернациональные исследования необходимо поставить «на плечи прежних исследователей», чтобы помочь идущим за нами не повторять наших ошибок. Нам необходимо перейти от интернациональных к глобальным исследованиям. И здесь мы снова упираемся в вопрос связи. Медицинские студенты могут стать важными проводниками в обмене знаниями, полученными в результате исследований в области глобального здоровья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C1FE-EEB0-4DDC-9FF1-7059CEAA1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EB62-FD47-4ACE-B94F-CFAD925DD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требуется 5-6 лет, чтобы научная информация от ученых достигла учебного класса. Если же переводить данные в слайд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лет ожидания, информация будет доступна через несколько дней и по интернет может достичь каждого студента. Концепция превентивной телемедицины является для нас фундаментальной. Ее рождение произошло несколько лет назад и за короткий срок она породила огромный интерес специалистов. Статья журна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BMJ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еркивается важность превентивной телемедицины. Она имеет огромный потенциал в улучшении глобального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важные медицинские открытия не достигают медицинских студентов просто потому, что проходит  5-10 лет прежде чем информация попадет в медицинские учебн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спользованием Суперкурса  стало возможным быстрое распространение информации и обучение студентов новым зна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C0A0-9F5D-4DB2-9A4B-966B2B506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5779-06E8-41DF-9E8E-03503922E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е студенты всего мира должны быть лучше связаны по интернету для взаимодействия в области решения задач глобального здоровья 21 века. Используя компьютерную сеть, объединяющую клиницистов и профессионалов общественного здоровья, команда Суперкурса смогла создать и опубликовать своевременные лекции(JIT) спустя несколько дней после таких чрезвычайных событий как землетрясение в Бэме, ураган Катрина, вспышки САРС и т.д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8578-ED33-4CA2-A904-3F136BE1E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2873-114C-4DCB-A853-C19399F5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UN High Commissioner for Refugees, the UN Foundation, the Bill and Melinda Gates Foundation, CARE International, the Global Health Counci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многопрофильных организаций, объединений, неправительственных структур, глобально занимающихся проблемами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49B2-8A67-49BB-96FF-4E79AD297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курс создан увлеченной командой специалистов разных национальностей, интерес которых направлен на развитие превентивной телемедицины. Если вы хотите стать членом нашей команды, пишите по адрес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per1@pitt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ю разработа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ina Linkov, Ronald LaPorte, Eugene Shubnikov, Mita Lovalek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стальные члены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308F-C5AF-436B-B64B-3C3C34ED1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http://www.pitt.edu/~super1/lecture/lec692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216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756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961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603B-DD5D-4DAE-9C1D-421DDDE26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FB74-BA79-4B4C-941D-FF517F8D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AD7-9EBF-4835-9705-600E2C21A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BA8A-E854-4F38-93F5-C8D1960AB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6304-930C-45AA-AF37-B7666FC32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E2BE-DE18-41AA-A004-61614B3A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D35D-45C8-4E4B-ABC6-49DCBF1D6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проекты в области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я даже интернациональные программы здоровья, направлены на проблемы одного или нескольких регионов мира. Мы хотели бы изменить философ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ого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делив важность решения проблем здоровья в мировом масштаб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лучше обозначить  общественное здоровье как дисциплину. Новая философия должна отражать важность передачи друг другу информации. Мир – огромен, и проблемы здоровья различны в разных его частях. Исследования в области проблем здоровья важны для решения их как в развитом, так и в развивающемся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79B-7898-43F7-800F-DE4C7D6A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5E7-85C9-486A-AF8B-69F85ABE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50D-7F63-4806-9040-60C314DA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C2C-283D-4C9A-BF53-63415DB3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856-97E5-4E26-80C7-F54B2A5B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D45-9F15-4A5B-94EF-2AFCF578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EC9-4DEE-46F1-949C-B357327E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6A6-B85B-4F67-8284-CB170ADB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4BC-7CDD-459F-A466-50C8FE7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425-391D-4D3D-BB0B-1F9F3E17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F4B-485F-432A-9219-9DB06CE5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F19-2132-483D-9007-21C1927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0525-3F64-4570-873A-5700295A6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4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photojournal.jpl.nasa.gov/jpegMod/PIA01462_modes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pitt.edu/~super1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hyperlink" Target="http://www.globalhealth.gov/bumper.shtml?http://www.unhcr.ch" TargetMode="External"/><Relationship Id="rId6" Type="http://schemas.openxmlformats.org/officeDocument/2006/relationships/hyperlink" Target="http://www.globalhealth.gov/bumper.shtml?http://www.unfoundation.org" TargetMode="External"/><Relationship Id="rId7" Type="http://schemas.openxmlformats.org/officeDocument/2006/relationships/hyperlink" Target="http://www.globalhealth.gov/bumper.shtml?http://www.gatesfoundation.org" TargetMode="External"/><Relationship Id="rId8" Type="http://schemas.openxmlformats.org/officeDocument/2006/relationships/hyperlink" Target="http://www.care.org/" TargetMode="External"/><Relationship Id="rId9" Type="http://schemas.openxmlformats.org/officeDocument/2006/relationships/hyperlink" Target="http://www.globalhealth.gov/bumper.shtml?http://www.globalhealth.or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itt.edu/~super1/lecture/lec6921/index.htm" TargetMode="External"/><Relationship Id="rId2" Type="http://schemas.openxmlformats.org/officeDocument/2006/relationships/hyperlink" Target="http://www.pitt.edu/~super1/lecture/lec21601/index.htm" TargetMode="External"/><Relationship Id="rId3" Type="http://schemas.openxmlformats.org/officeDocument/2006/relationships/hyperlink" Target="http://www.pitt.edu/~super1/lecture/lec17561/index.htm" TargetMode="External"/><Relationship Id="rId4" Type="http://schemas.openxmlformats.org/officeDocument/2006/relationships/hyperlink" Target="http://www.pitt.edu/~super1/lecture/lec9611/index.htm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image" Target="../media/image41.png"/><Relationship Id="rId7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8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363600"/>
            <a:ext cx="88390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4501800"/>
            <a:ext cx="56386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ront"/>
          <p:cNvPicPr/>
          <p:nvPr/>
        </p:nvPicPr>
        <p:blipFill>
          <a:blip r:embed="rId1"/>
          <a:stretch/>
        </p:blipFill>
        <p:spPr>
          <a:xfrm>
            <a:off x="762120" y="3013200"/>
            <a:ext cx="3584520" cy="1125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58000" y="363060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00800" y="3994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638680" y="2946240"/>
            <a:ext cx="2165400" cy="155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>
            <a:hlinkClick r:id="rId3"/>
          </p:cNvPr>
          <p:cNvSpPr/>
          <p:nvPr/>
        </p:nvSpPr>
        <p:spPr>
          <a:xfrm>
            <a:off x="131760" y="5794200"/>
            <a:ext cx="88599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жалуйста, переправьте эту лекцию студентам,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реподавателям                           и профессионалам здравоохранения в  ваше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4648320" y="3429000"/>
            <a:ext cx="533376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оразви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оход на д.н. выше 920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о-, среднераз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рика, Суб-Сах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276720" y="3505320"/>
            <a:ext cx="13716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-76320" y="0"/>
            <a:ext cx="160020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3520" y="2647800"/>
            <a:ext cx="2781360" cy="421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152880" cy="38768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971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6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27"/>
          <p:cNvSpPr/>
          <p:nvPr/>
        </p:nvSpPr>
        <p:spPr>
          <a:xfrm>
            <a:off x="838080" y="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685800" y="152280"/>
            <a:ext cx="784872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ричины смертности (США, 1900-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29"/>
          <p:cNvSpPr/>
          <p:nvPr/>
        </p:nvSpPr>
        <p:spPr>
          <a:xfrm>
            <a:off x="380880" y="1905120"/>
            <a:ext cx="609840" cy="358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30"/>
          <p:cNvSpPr/>
          <p:nvPr/>
        </p:nvSpPr>
        <p:spPr>
          <a:xfrm flipH="1" flipV="1" rot="5400000">
            <a:off x="46080" y="3319200"/>
            <a:ext cx="1582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мер-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31"/>
          <p:cNvSpPr/>
          <p:nvPr/>
        </p:nvSpPr>
        <p:spPr>
          <a:xfrm>
            <a:off x="7315200" y="1828800"/>
            <a:ext cx="1523880" cy="3505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С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bridge"/>
          <p:cNvPicPr/>
          <p:nvPr/>
        </p:nvPicPr>
        <p:blipFill>
          <a:blip r:embed="rId1"/>
          <a:stretch/>
        </p:blipFill>
        <p:spPr>
          <a:xfrm>
            <a:off x="4648320" y="2666880"/>
            <a:ext cx="4038480" cy="361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7"/>
          <p:cNvSpPr/>
          <p:nvPr/>
        </p:nvSpPr>
        <p:spPr>
          <a:xfrm>
            <a:off x="380880" y="228600"/>
            <a:ext cx="67820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ение мира по степени доступности современных цифровых технологий: разрыв между доступностью и отсутств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са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х дости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го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а доступ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19360" cy="10764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andela00"/>
          <p:cNvPicPr/>
          <p:nvPr/>
        </p:nvPicPr>
        <p:blipFill>
          <a:blip r:embed="rId1"/>
          <a:stretch/>
        </p:blipFill>
        <p:spPr>
          <a:xfrm>
            <a:off x="533520" y="990720"/>
            <a:ext cx="333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962520" y="2017800"/>
            <a:ext cx="50292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  <a:ea typeface="Arial"/>
              </a:rPr>
              <a:t>Education is the most powerful weapon which you can use to change the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886200" y="1905120"/>
            <a:ext cx="5257800" cy="3047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20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0" y="304920"/>
            <a:ext cx="5555520" cy="3785760"/>
            <a:chOff x="0" y="304920"/>
            <a:chExt cx="5555520" cy="3785760"/>
          </a:xfrm>
        </p:grpSpPr>
        <p:grpSp>
          <p:nvGrpSpPr>
            <p:cNvPr id="130" name="Group 4"/>
            <p:cNvGrpSpPr/>
            <p:nvPr/>
          </p:nvGrpSpPr>
          <p:grpSpPr>
            <a:xfrm>
              <a:off x="0" y="304920"/>
              <a:ext cx="5555520" cy="2909520"/>
              <a:chOff x="0" y="304920"/>
              <a:chExt cx="5555520" cy="2909520"/>
            </a:xfrm>
          </p:grpSpPr>
          <p:grpSp>
            <p:nvGrpSpPr>
              <p:cNvPr id="131" name="Group 5"/>
              <p:cNvGrpSpPr/>
              <p:nvPr/>
            </p:nvGrpSpPr>
            <p:grpSpPr>
              <a:xfrm>
                <a:off x="13320" y="318240"/>
                <a:ext cx="5528520" cy="2882520"/>
                <a:chOff x="13320" y="318240"/>
                <a:chExt cx="5528520" cy="2882520"/>
              </a:xfrm>
            </p:grpSpPr>
            <p:sp>
              <p:nvSpPr>
                <p:cNvPr id="132" name="Rectangle 6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7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Rectangle 8"/>
              <p:cNvSpPr/>
              <p:nvPr/>
            </p:nvSpPr>
            <p:spPr>
              <a:xfrm>
                <a:off x="0" y="304920"/>
                <a:ext cx="5555520" cy="2909520"/>
              </a:xfrm>
              <a:prstGeom prst="rect">
                <a:avLst/>
              </a:prstGeom>
              <a:noFill/>
              <a:ln w="270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" name="Picture 9" descr="University of Khartoum Campus Photograph"/>
            <p:cNvPicPr/>
            <p:nvPr/>
          </p:nvPicPr>
          <p:blipFill>
            <a:blip r:embed="rId1"/>
            <a:stretch/>
          </p:blipFill>
          <p:spPr>
            <a:xfrm>
              <a:off x="191520" y="367200"/>
              <a:ext cx="4727520" cy="29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0"/>
            <p:cNvSpPr/>
            <p:nvPr/>
          </p:nvSpPr>
          <p:spPr>
            <a:xfrm>
              <a:off x="1487880" y="3386880"/>
              <a:ext cx="379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ниверситет Хартума, Суд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11" descr="Image22"/>
          <p:cNvPicPr/>
          <p:nvPr/>
        </p:nvPicPr>
        <p:blipFill>
          <a:blip r:embed="rId2"/>
          <a:stretch/>
        </p:blipFill>
        <p:spPr>
          <a:xfrm>
            <a:off x="5334120" y="1066680"/>
            <a:ext cx="3382920" cy="4708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5481360" y="5916600"/>
            <a:ext cx="34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ниверситет Каттингт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б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48440" y="4210200"/>
            <a:ext cx="34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медиц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урнал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 199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MCBD06663_0000[1]"/>
          <p:cNvPicPr/>
          <p:nvPr/>
        </p:nvPicPr>
        <p:blipFill>
          <a:blip r:embed="rId1"/>
          <a:stretch/>
        </p:blipFill>
        <p:spPr>
          <a:xfrm>
            <a:off x="3657600" y="2438280"/>
            <a:ext cx="3124080" cy="271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[Catalog Image of PIA01462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5252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4" descr=""/>
          <p:cNvPicPr/>
          <p:nvPr/>
        </p:nvPicPr>
        <p:blipFill>
          <a:blip r:embed="rId4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vint"/>
          <p:cNvPicPr/>
          <p:nvPr/>
        </p:nvPicPr>
        <p:blipFill>
          <a:blip r:embed="rId1"/>
          <a:stretch/>
        </p:blipFill>
        <p:spPr>
          <a:xfrm>
            <a:off x="4191120" y="41911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057400" y="8380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itt.edu/~sup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50" name="Picture 11"/>
          <p:cNvSpPr/>
          <p:nvPr/>
        </p:nvSpPr>
        <p:spPr>
          <a:xfrm>
            <a:off x="5715000" y="1523880"/>
            <a:ext cx="3048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801800" y="1447920"/>
            <a:ext cx="6450120" cy="4495320"/>
            <a:chOff x="1801800" y="1447920"/>
            <a:chExt cx="6450120" cy="4495320"/>
          </a:xfrm>
        </p:grpSpPr>
        <p:sp>
          <p:nvSpPr>
            <p:cNvPr id="153" name="AutoShape 3"/>
            <p:cNvSpPr/>
            <p:nvPr/>
          </p:nvSpPr>
          <p:spPr>
            <a:xfrm rot="16200000">
              <a:off x="4032360" y="-31176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 rot="5400000">
              <a:off x="3621600" y="256824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1801800" y="325836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iomed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5046120" y="3220560"/>
              <a:ext cx="32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ducation in Medic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d Public Heal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WordArt 7"/>
          <p:cNvSpPr txBox="1"/>
          <p:nvPr/>
        </p:nvSpPr>
        <p:spPr>
          <a:xfrm>
            <a:off x="152280" y="304920"/>
            <a:ext cx="5029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ircle of Learning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3962520" y="2057400"/>
            <a:ext cx="1390680" cy="3306600"/>
            <a:chOff x="3962520" y="2057400"/>
            <a:chExt cx="1390680" cy="3306600"/>
          </a:xfrm>
        </p:grpSpPr>
        <p:pic>
          <p:nvPicPr>
            <p:cNvPr id="159" name="Picture 9" descr="front"/>
            <p:cNvPicPr/>
            <p:nvPr/>
          </p:nvPicPr>
          <p:blipFill>
            <a:blip r:embed="rId1"/>
            <a:stretch/>
          </p:blipFill>
          <p:spPr>
            <a:xfrm>
              <a:off x="4038480" y="4952880"/>
              <a:ext cx="13147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front"/>
            <p:cNvPicPr/>
            <p:nvPr/>
          </p:nvPicPr>
          <p:blipFill>
            <a:blip r:embed="rId2"/>
            <a:stretch/>
          </p:blipFill>
          <p:spPr>
            <a:xfrm>
              <a:off x="3962520" y="2057400"/>
              <a:ext cx="131436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11"/>
          <p:cNvSpPr/>
          <p:nvPr/>
        </p:nvSpPr>
        <p:spPr>
          <a:xfrm>
            <a:off x="152280" y="304920"/>
            <a:ext cx="52578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28600" y="3276720"/>
            <a:ext cx="426708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медицин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495680" y="3124080"/>
            <a:ext cx="426744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 в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D"/>
          <p:cNvPicPr/>
          <p:nvPr/>
        </p:nvPicPr>
        <p:blipFill>
          <a:blip r:embed="rId1"/>
          <a:stretch/>
        </p:blipFill>
        <p:spPr>
          <a:xfrm>
            <a:off x="3367080" y="2467080"/>
            <a:ext cx="2409840" cy="279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609480" y="5486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ки были посланы более ч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,00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истам по вс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971800" cy="196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2133360" cy="16257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N High Commissioner for Refuge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N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ill and Melinda Gates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ARE Internation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lobal Health Counc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4419720" y="6705720"/>
            <a:ext cx="3808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4267080" y="1752480"/>
            <a:ext cx="4572000" cy="3047760"/>
            <a:chOff x="4267080" y="1752480"/>
            <a:chExt cx="4572000" cy="3047760"/>
          </a:xfrm>
        </p:grpSpPr>
        <p:pic>
          <p:nvPicPr>
            <p:cNvPr id="182" name="Picture 4" descr="world-map-sm"/>
            <p:cNvPicPr/>
            <p:nvPr/>
          </p:nvPicPr>
          <p:blipFill>
            <a:blip r:embed="rId1"/>
            <a:stretch/>
          </p:blipFill>
          <p:spPr>
            <a:xfrm>
              <a:off x="4267080" y="1752480"/>
              <a:ext cx="457200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AutoShape 5"/>
            <p:cNvSpPr/>
            <p:nvPr/>
          </p:nvSpPr>
          <p:spPr>
            <a:xfrm>
              <a:off x="6665400" y="307728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>
              <a:off x="516636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7189920" y="23925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674028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7864560" y="290628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8014680" y="282060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7939440" y="264924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7189920" y="31629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3"/>
            <p:cNvSpPr/>
            <p:nvPr/>
          </p:nvSpPr>
          <p:spPr>
            <a:xfrm>
              <a:off x="7040160" y="29919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6815160" y="23925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WordArt 15"/>
          <p:cNvSpPr txBox="1"/>
          <p:nvPr/>
        </p:nvSpPr>
        <p:spPr>
          <a:xfrm>
            <a:off x="609480" y="533520"/>
            <a:ext cx="4029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Supercourse Core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212040" y="1676520"/>
            <a:ext cx="3798000" cy="4781520"/>
            <a:chOff x="212040" y="1676520"/>
            <a:chExt cx="3798000" cy="4781520"/>
          </a:xfrm>
        </p:grpSpPr>
        <p:sp>
          <p:nvSpPr>
            <p:cNvPr id="195" name="Line 17"/>
            <p:cNvSpPr/>
            <p:nvPr/>
          </p:nvSpPr>
          <p:spPr>
            <a:xfrm flipH="1">
              <a:off x="509400" y="2359080"/>
              <a:ext cx="5634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 flipV="1">
              <a:off x="1212840" y="2085480"/>
              <a:ext cx="985680" cy="27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 flipH="1">
              <a:off x="1634760" y="2154240"/>
              <a:ext cx="56340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>
              <a:off x="1072800" y="3519360"/>
              <a:ext cx="49212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>
              <a:off x="509760" y="3519360"/>
              <a:ext cx="63324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2270160" y="2154240"/>
              <a:ext cx="119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2550960" y="2222640"/>
              <a:ext cx="91440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>
              <a:off x="2762280" y="3451320"/>
              <a:ext cx="84456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H="1">
              <a:off x="2973240" y="3587760"/>
              <a:ext cx="6336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6"/>
            <p:cNvSpPr/>
            <p:nvPr/>
          </p:nvSpPr>
          <p:spPr>
            <a:xfrm flipH="1" flipV="1">
              <a:off x="2128680" y="4543200"/>
              <a:ext cx="84456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1706040" y="4611600"/>
              <a:ext cx="42228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8"/>
            <p:cNvSpPr/>
            <p:nvPr/>
          </p:nvSpPr>
          <p:spPr>
            <a:xfrm>
              <a:off x="1212840" y="4475160"/>
              <a:ext cx="49356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1284120" y="44751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 flipH="1">
              <a:off x="2128320" y="3519360"/>
              <a:ext cx="42228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1635120" y="3519360"/>
              <a:ext cx="84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650880" y="3451320"/>
              <a:ext cx="77328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2198520" y="2154240"/>
              <a:ext cx="352440" cy="116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34" descr="abed"/>
            <p:cNvPicPr/>
            <p:nvPr/>
          </p:nvPicPr>
          <p:blipFill>
            <a:blip r:embed="rId4"/>
            <a:stretch/>
          </p:blipFill>
          <p:spPr>
            <a:xfrm>
              <a:off x="1847880" y="4133880"/>
              <a:ext cx="652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35" descr="eun"/>
            <p:cNvPicPr/>
            <p:nvPr/>
          </p:nvPicPr>
          <p:blipFill>
            <a:blip r:embed="rId5"/>
            <a:stretch/>
          </p:blipFill>
          <p:spPr>
            <a:xfrm>
              <a:off x="2340000" y="3041640"/>
              <a:ext cx="66528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6" descr="akira"/>
            <p:cNvPicPr/>
            <p:nvPr/>
          </p:nvPicPr>
          <p:blipFill>
            <a:blip r:embed="rId6"/>
            <a:stretch/>
          </p:blipFill>
          <p:spPr>
            <a:xfrm>
              <a:off x="3254400" y="3110040"/>
              <a:ext cx="7556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7" descr="ron"/>
            <p:cNvPicPr/>
            <p:nvPr/>
          </p:nvPicPr>
          <p:blipFill>
            <a:blip r:embed="rId7"/>
            <a:stretch/>
          </p:blipFill>
          <p:spPr>
            <a:xfrm>
              <a:off x="720720" y="1881360"/>
              <a:ext cx="73008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8" descr="faina"/>
            <p:cNvPicPr/>
            <p:nvPr/>
          </p:nvPicPr>
          <p:blipFill>
            <a:blip r:embed="rId8"/>
            <a:stretch/>
          </p:blipFill>
          <p:spPr>
            <a:xfrm>
              <a:off x="1847880" y="1676520"/>
              <a:ext cx="617400" cy="842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7" name="Object 1"/>
            <p:cNvGraphicFramePr/>
            <p:nvPr/>
          </p:nvGraphicFramePr>
          <p:xfrm>
            <a:off x="228600" y="3041640"/>
            <a:ext cx="623880" cy="84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041640"/>
                      <a:ext cx="6238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40"/>
            <p:cNvSpPr/>
            <p:nvPr/>
          </p:nvSpPr>
          <p:spPr>
            <a:xfrm>
              <a:off x="854640" y="283680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1906920" y="256212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Fa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3241440" y="2700360"/>
              <a:ext cx="49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M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212040" y="392904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g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3312360" y="40654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ki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1488240" y="618156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>
              <a:off x="2241360" y="385920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nryo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7"/>
            <p:cNvSpPr/>
            <p:nvPr/>
          </p:nvSpPr>
          <p:spPr>
            <a:xfrm>
              <a:off x="2672640" y="522756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zzeld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8"/>
            <p:cNvSpPr/>
            <p:nvPr/>
          </p:nvSpPr>
          <p:spPr>
            <a:xfrm>
              <a:off x="1904400" y="508968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b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9"/>
            <p:cNvSpPr/>
            <p:nvPr/>
          </p:nvSpPr>
          <p:spPr>
            <a:xfrm>
              <a:off x="1343880" y="3929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S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50" descr="mita"/>
            <p:cNvPicPr/>
            <p:nvPr/>
          </p:nvPicPr>
          <p:blipFill>
            <a:blip r:embed="rId11"/>
            <a:stretch/>
          </p:blipFill>
          <p:spPr>
            <a:xfrm>
              <a:off x="3184560" y="1812960"/>
              <a:ext cx="64116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51"/>
            <p:cNvSpPr/>
            <p:nvPr/>
          </p:nvSpPr>
          <p:spPr>
            <a:xfrm>
              <a:off x="555480" y="4729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52" descr="Rania"/>
            <p:cNvPicPr/>
            <p:nvPr/>
          </p:nvPicPr>
          <p:blipFill>
            <a:blip r:embed="rId12"/>
            <a:stretch/>
          </p:blipFill>
          <p:spPr>
            <a:xfrm>
              <a:off x="1425600" y="5362560"/>
              <a:ext cx="65556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3" descr="soni"/>
            <p:cNvPicPr/>
            <p:nvPr/>
          </p:nvPicPr>
          <p:blipFill>
            <a:blip r:embed="rId13"/>
            <a:stretch/>
          </p:blipFill>
          <p:spPr>
            <a:xfrm>
              <a:off x="1284120" y="2973240"/>
              <a:ext cx="694080" cy="9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4" descr="scan0008"/>
            <p:cNvPicPr/>
            <p:nvPr/>
          </p:nvPicPr>
          <p:blipFill>
            <a:blip r:embed="rId14"/>
            <a:stretch/>
          </p:blipFill>
          <p:spPr>
            <a:xfrm>
              <a:off x="2762280" y="4270320"/>
              <a:ext cx="62856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5" descr=""/>
            <p:cNvPicPr/>
            <p:nvPr/>
          </p:nvPicPr>
          <p:blipFill>
            <a:blip r:embed="rId15"/>
            <a:stretch/>
          </p:blipFill>
          <p:spPr>
            <a:xfrm>
              <a:off x="792000" y="4270320"/>
              <a:ext cx="6080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6"/>
            <p:cNvSpPr/>
            <p:nvPr/>
          </p:nvSpPr>
          <p:spPr>
            <a:xfrm>
              <a:off x="692280" y="515772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  <a:ea typeface="Arial"/>
                </a:rPr>
                <a:t>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Object 0" descr=""/>
          <p:cNvPicPr/>
          <p:nvPr/>
        </p:nvPicPr>
        <p:blipFill>
          <a:blip r:embed="rId16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8"/>
          <p:cNvSpPr/>
          <p:nvPr/>
        </p:nvSpPr>
        <p:spPr>
          <a:xfrm>
            <a:off x="609480" y="533520"/>
            <a:ext cx="441972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52640" y="3348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tt.edu/~super1/lecture/lec692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itt.edu/~super1/lecture/lec2160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itt.edu/~super1/lecture/lec1756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itt.edu/~super1/lecture/lec961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457200"/>
            <a:ext cx="3657600" cy="1011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>
            <a:hlinkClick r:id="rId7"/>
          </p:cNvPr>
          <p:cNvSpPr/>
          <p:nvPr/>
        </p:nvSpPr>
        <p:spPr>
          <a:xfrm>
            <a:off x="5410080" y="685800"/>
            <a:ext cx="3429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ошлите эту лекцию дру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6292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88440" y="2206800"/>
            <a:ext cx="705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42892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248520" y="1752120"/>
            <a:ext cx="16063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3662280" y="4495680"/>
            <a:ext cx="2205000" cy="2187720"/>
          </a:xfrm>
          <a:prstGeom prst="rect">
            <a:avLst/>
          </a:prstGeom>
          <a:ln w="0">
            <a:noFill/>
          </a:ln>
        </p:spPr>
      </p:pic>
      <p:sp>
        <p:nvSpPr>
          <p:cNvPr id="69" name="Line 15"/>
          <p:cNvSpPr/>
          <p:nvPr/>
        </p:nvSpPr>
        <p:spPr>
          <a:xfrm flipV="1">
            <a:off x="3809880" y="16765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 flipH="1" flipV="1">
            <a:off x="1447560" y="48769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globus2"/>
          <p:cNvPicPr/>
          <p:nvPr/>
        </p:nvPicPr>
        <p:blipFill>
          <a:blip r:embed="rId3"/>
          <a:stretch/>
        </p:blipFill>
        <p:spPr>
          <a:xfrm>
            <a:off x="3733920" y="2666880"/>
            <a:ext cx="1533240" cy="1514520"/>
          </a:xfrm>
          <a:prstGeom prst="rect">
            <a:avLst/>
          </a:prstGeom>
          <a:ln w="0">
            <a:noFill/>
          </a:ln>
        </p:spPr>
      </p:pic>
      <p:sp>
        <p:nvSpPr>
          <p:cNvPr id="72" name="Line 20"/>
          <p:cNvSpPr/>
          <p:nvPr/>
        </p:nvSpPr>
        <p:spPr>
          <a:xfrm flipH="1">
            <a:off x="6629400" y="4495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476760" cy="559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255744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58480"/>
            <a:ext cx="79250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8" descr=""/>
          <p:cNvPicPr/>
          <p:nvPr/>
        </p:nvPicPr>
        <p:blipFill>
          <a:blip r:embed="rId1"/>
          <a:stretch/>
        </p:blipFill>
        <p:spPr>
          <a:xfrm>
            <a:off x="8086680" y="152280"/>
            <a:ext cx="981000" cy="10764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8" descr=""/>
          <p:cNvPicPr/>
          <p:nvPr/>
        </p:nvPicPr>
        <p:blipFill>
          <a:blip r:embed="rId1"/>
          <a:stretch/>
        </p:blipFill>
        <p:spPr>
          <a:xfrm>
            <a:off x="8163000" y="304920"/>
            <a:ext cx="981000" cy="1076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228600" y="1447920"/>
            <a:ext cx="36576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ст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-национ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095880" y="2590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globus2"/>
          <p:cNvPicPr/>
          <p:nvPr/>
        </p:nvPicPr>
        <p:blipFill>
          <a:blip r:embed="rId1"/>
          <a:stretch/>
        </p:blipFill>
        <p:spPr>
          <a:xfrm>
            <a:off x="3276720" y="1905120"/>
            <a:ext cx="2438280" cy="240660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3962520" y="1371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03848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5:08:28Z</dcterms:created>
  <dc:creator>Faina Linkov for Supercourse</dc:creator>
  <dc:description/>
  <dc:language>en-US</dc:language>
  <cp:lastModifiedBy>LEGION</cp:lastModifiedBy>
  <dcterms:modified xsi:type="dcterms:W3CDTF">2014-11-06T13:04:22Z</dcterms:modified>
  <cp:revision>302</cp:revision>
  <dc:subject/>
  <dc:title>Global Health in Russian\Всемирная  охрана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0</vt:r8>
  </property>
  <property fmtid="{D5CDD505-2E9C-101B-9397-08002B2CF9AE}" pid="3" name="ButtonType">
    <vt:r8>1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0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 and Settings\Eugene\My Documents\Alectures\29011-30001\lec2934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0</vt:r8>
  </property>
</Properties>
</file>