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29.jpeg" ContentType="image/jpeg"/>
  <Override PartName="/ppt/media/image35.jpeg" ContentType="image/jpeg"/>
  <Override PartName="/ppt/media/image11.png" ContentType="image/png"/>
  <Override PartName="/ppt/media/image30.jpeg" ContentType="image/jpeg"/>
  <Override PartName="/ppt/media/image32.jpeg" ContentType="image/jpeg"/>
  <Override PartName="/ppt/media/image36.jpeg" ContentType="image/jpeg"/>
  <Override PartName="/ppt/media/image4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8.png" ContentType="image/png"/>
  <Override PartName="/ppt/media/image8.png" ContentType="image/png"/>
  <Override PartName="/ppt/media/image28.png" ContentType="image/png"/>
  <Override PartName="/ppt/media/image5.gif" ContentType="image/gif"/>
  <Override PartName="/ppt/media/image39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9D2A-65FC-4BF5-8DE6-FC18901A5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hyperlink" Target="http://www.globalhealth.gov/bumper.shtml?http://www.who.int" TargetMode="External"/><Relationship Id="rId2" Type="http://schemas.openxmlformats.org/officeDocument/2006/relationships/hyperlink" Target="http://www.globalhealth.gov/bumper.shtml?http://www.paho.org" TargetMode="External"/><Relationship Id="rId3" Type="http://schemas.openxmlformats.org/officeDocument/2006/relationships/hyperlink" Target="http://www.globalhealth.gov/bumper.shtml?http://www.worldbank.org" TargetMode="External"/><Relationship Id="rId4" Type="http://schemas.openxmlformats.org/officeDocument/2006/relationships/hyperlink" Target="http://www.globalhealth.gov/bumper.shtml?http://www.unicef.org" TargetMode="External"/><Relationship Id="rId5" Type="http://schemas.openxmlformats.org/officeDocument/2006/relationships/slide" Target="../slides/slide26.xml"/><Relationship Id="rId6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6B35-95D2-48FC-8242-F14E6BD0E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мирная  охрана Здоровь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1000" spc="-1" strike="noStrike">
                <a:solidFill>
                  <a:srgbClr val="000000"/>
                </a:solidFill>
                <a:latin typeface="Bookman Old Style"/>
              </a:rPr>
              <a:t>Глобальная Сеть в Здравоохранении Проект Суперкурс</a:t>
            </a: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1" lang="ru-RU" sz="1000" spc="-1" strike="noStrike">
                <a:solidFill>
                  <a:srgbClr val="000000"/>
                </a:solidFill>
                <a:latin typeface="Bookman Old Style"/>
              </a:rPr>
              <a:t>Питтсбургский Университет, СШ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Построение Всемирной Профилактической Сети для обмена знаниями и идеям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2967-79E7-42B1-9260-DB2592A89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F733-5A6E-4F6D-AC45-04CF72AAF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акцинация против оспы: уничтожение болезни – это пример глобального решения пробле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6571-E8E5-4AF3-8806-83CECF376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Самые важные проблемы глобального здоровья сегод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нфекционные болезни, болезни матери, перинатальные болезни, нарушения, связанные с питани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инфекционные болезн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рав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4CC3-AE42-4C32-A933-F1B96B10D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ществует множество проблем в области глобального здоровья; профессионалы в различных областях особо выделяют определенные заболевания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снизить ущерб здоровью, наносимый как инфекционными, так и неинфекционными болезнями, необходим интердисциплинарный подход к решению этих проблем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48EF-CF9C-4F9D-868D-2311D181E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я множество интернациональных программ и инициатив направлены на борьбу с такими проблемами, как малярия, СПИД, туберкулез и т.д., основной угрозой после эпидемиологического перехода становятся хронические заболе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Лекция Суперкурса об эпидемиологическом переходе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1918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FE25-044A-4572-9212-83B78F0F0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хотелось бы поспорить, что кроме прочего одним из самых больших достижений глобального здоровья стала доступность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необходимо делиться информацией в области исследований, используя современные цифровые технологи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линической практике, и в области профилактики большое значение имеет информация. Если в этой области произойдет революция, и информация станет доступна повсеместно, выиграют пациенты всего мир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5D23-A634-44F2-A9B4-90DE0019B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облем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едоставление друг другу (обмен) информации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жная задача охраны мирового здоровья 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2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м век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тенциальное решение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 W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D462-E4DE-4BEC-90F8-1C5713F3F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ажность знаний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бучения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нноваций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 информационных технологий (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ый фундаментальный ресурс современной экономики –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зн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и, соответственно, самое важное для нее –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роцесс обучения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undvall, Bengt-Åke (1992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tional Systems of Innovation. Towards a Theory of Innovation and Interactive Learn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Pinter, London and New York, pp. 3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2CF7-24E4-4095-9796-B8ABDDA95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разование явля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иболее мощным орудие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 помощью котор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жно изменить м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Нельсон Манде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F435-7263-4AD0-8713-8C2600A41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вивающихся странах очень низкий доступ к современной литературе. Суперкурс служит для доставки новой научной информации в развивающиеся страны, и по всей видимости станет основным источником информации.  Распространение и обмен лекциями поможет опытным учителям и молодым педагогам как из развитых, так и из развивающихся стран, а также студентам медицинских специальностей и студентам, изучающим общественное здоровь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правление знаниями, информационные и коммуникативные технологии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1480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1521-DBA8-4D03-9E52-FE7A977F9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иссия этой 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знакомить с проблемами мирового здоровья каждого студента, изучающего медицину, общественное здоровье, а также тех, кто учится профессии медсест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здать всемирную сеть студентов в области мирового здоровья для решения как локальных так и глобальных проблем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1CEE-359F-4A68-A85A-29DEDA811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ациональные научные исследования, охватывающие  как развитые, так и развивающиеся страны, в значительной степени отличны от работ, ведущихся внутри отдельных стран.  Исследователи часто заинтересованы в интернациональных программах, хотя не осознают, что правила и медицинские системы разных стран отличаются. Эти недопонимания способны тормозить и даже остановить исследования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мало смысла, ведь наша нынешняя система приводит к тому, что новые интернациональные исследования начинаются с чистого листа, не принимая во внимание прежние ошибки. Интернациональные исследования необходимо поставить «на плечи прежних исследователей», чтобы помочь идущим за нами не повторять наших ошибок. Нам необходимо перейти от интернациональных к глобальным исследованиям. И здесь мы снова упираемся в вопрос связи. Медицинские студенты могут стать важными проводниками в обмене знаниями, полученными в результате исследований в области глобального здоровья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BB08-B363-4D04-B9A6-644BD51B3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акое Суперкур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Суперкурс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глобальная библиотека лекций по профилактике и общественному здоровью, предоставляемых безвозмездно лучшими специалистами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9CC1-F682-4F7E-AB2E-79B8940DE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икл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требуется 5-6 лет, чтобы научная информация от ученых достигла учебного класса. Если же переводить данные в слайд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, т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о лет ожидания, информация будет доступна через несколько дней и по интернет может достичь каждого студента. Концепция превентивной телемедицины является для нас фундаментальной. Ее рождение произошло несколько лет назад и за короткий срок она породила огромный интерес специалистов. Статья журнал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BMJ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черкивается важность превентивной телемедицины. Она имеет огромный потенциал в улучшении глобального здоров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важные медицинские открытия не достигают медицинских студентов просто потому, что проходит  5-10 лет прежде чем информация попадет в медицинские учебни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использованием Суперкурса  стало возможным быстрое распространение информации и обучение студентов новым знани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78D8-60B1-4606-806A-1EB3660F1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мен информацией по глобальному здоровью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D/DVD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упер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727D-E1E1-4BDD-B151-61167D5CF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ие 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е студенты всего мира должны быть лучше связаны по интернету для взаимодействия в области решения задач глобального здоровья 21 века. Используя компьютерную сеть, объединяющую клиницистов и профессионалов общественного здоровья, команда Суперкурса смогла создать и опубликовать своевременные лекции(JIT) спустя несколько дней после таких чрезвычайных событий как землетрясение в Бэме, ураган Катрина, вспышки САРС и т.д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D764-7636-465B-B288-129D278B2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обальное здоровье – предмет большой важности, т.к. одни и те же болезни и проблемы здоровья преследуют как жителей развивающихся, так и развитых стр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должительность жизни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м веке была увеличена благодаря успехам в области охраны мирового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уденты медицинских сециальностей должны больше знать об исследованиях в области  глобального здоровья и включаться в интернет сеть для обмена важной и своевременной информацией по проблемам здоровья в ми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9DF9-0E78-4D47-A997-6FFE54935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и, работающие в области глобального здоров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orld Health Organiz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n American Health Organiz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orld Bank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NICEF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UN High Commissioner for Refugees, the UN Foundation, the Bill and Melinda Gates Foundation, CARE International, the Global Health Counci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многие друг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множество многопрофильных организаций, объединений, неправительственных структур, глобально занимающихся проблемами здоров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3236-6166-4A24-BDA5-68A9FF080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Команда Супер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перкурс создан увлеченной командой специалистов разных национальностей, интерес которых направлен на развитие превентивной телемедицины. Если вы хотите стать членом нашей команды, пишите по адрес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per1@pitt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ю разработал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aina Linkov, Ronald LaPorte, Eugene Shubnikov, Mita Lovaleka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стальные члены Супер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C649-C61F-4CC2-AEA6-5F21E9130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ая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Открытый источник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http://www.pitt.edu/~super1/lecture/lec692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уперкурс и обучение управления катастроф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2160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циальные эпидемиологические методы в исследованиях здоровья и интернациональных популяций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1756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инципы синтеза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961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CE9C-18D6-45CF-883E-C26230509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семирная декларация прав человека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ждый человек имеет право на такой уровень жизни, который способствует здоровью и процветанию всем членам своей семьи, включающий питание, одежду, достойное жилище и надлежащее медицинское обслуживани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мирная декларация прав человек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, 19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F55A-8D44-4BB5-BBC7-363E0F886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ациональное здоров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ациональное здоровь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условлено взаимосвязанн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оянием здоровья людей по вс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ру и зависимо от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улучшению здоровья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х людей и в каждой стра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аст, Фо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7B45-DA85-436F-BC3A-F38ABC580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ественное здоровье, медицина и медсестринский ухо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венья одной моза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9374-0CEC-433D-936F-8BA521D9F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обальное здоровье – это важный новый термин, а также новая концепция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Институт медицины»(США) определяет глобальное здоровье как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 задачи и подходы в области здоровья, которые преступают пределы национальных границ, испытывают влияние условий и опыта других стран, и которые могут быть эффективнее осуществлены совместными действиями и  решениям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92E3-9FFE-4387-828D-ABC9D146D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очему студенты медицинских специальностей должны изучать глобальное 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годня в расписании медицинских школ совсем немного лекций по глобальному здоровью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ье становится глобальной проблемой, причем хронические болезни выходят на первое место во всем мире по уровню смертност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щательнее изучая исследования в области глобального здоровья, студенты медицинского направления станут более подготовленными к решению новых проблем, которого потребует  их уникальная професс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D346-6FDC-4718-947E-0D224D779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то студентам медицинских специальностей необходимо знать о глобальном 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ть, чем отличаются глобальные исследования в области здоровья от исследований интернациональ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авливать ключевые задачи глобального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имать важность и необходимость делиться информацией в области здоров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знавать важность профилактических мер в улучшении глобального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имать необходимость всемирной интернет сети для улучшения глобального здоровья на местах и в мировом масшта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8A9A-6AB6-4735-A771-11CB007A8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проекты в области здоровь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я даже интернациональные программы здоровья, направлены на проблемы одного или нескольких регионов мира. Мы хотели бы изменить философ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ого здоровь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ыделив важность решения проблем здоровья в мировом масштаб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необходимо лучше обозначить  общественное здоровье как дисциплину. Новая философия должна отражать важность передачи друг другу информации. Мир – огромен, и проблемы здоровья различны в разных его частях. Исследования в области проблем здоровья важны для решения их как в развитом, так и в развивающемся ми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4494-63CF-4F2E-87CD-B227A933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6E92-4CC7-4A9F-9DCC-188FE416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8AC2-035B-40B6-86F5-8737E964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FBAA-199B-4471-8C6A-56483CBC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9A79-EBA6-4CB3-8E0B-F24D39A1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E500-747E-454C-A462-0EE39152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F570-705A-4B52-A4B3-EDFBCE9D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A6EF-845A-413A-BAAD-2CD9DFC7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C2F8-2E47-41E9-8EA1-D69FDEFE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90A7-5145-42C7-979C-0DC5B1D8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10E9-33FA-4388-8002-3DA09522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6E3D-0E61-45D2-83CF-C006C6A7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E1F4-7883-4E65-BD94-0204E2B97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4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5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6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photojournal.jpl.nasa.gov/jpegMod/PIA01462_modest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pitt.edu/~super1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lobalhealth.gov/bumper.shtml?http://www.who.int" TargetMode="External"/><Relationship Id="rId2" Type="http://schemas.openxmlformats.org/officeDocument/2006/relationships/hyperlink" Target="http://www.globalhealth.gov/bumper.shtml?http://www.paho.org" TargetMode="External"/><Relationship Id="rId3" Type="http://schemas.openxmlformats.org/officeDocument/2006/relationships/hyperlink" Target="http://www.globalhealth.gov/bumper.shtml?http://www.worldbank.org" TargetMode="External"/><Relationship Id="rId4" Type="http://schemas.openxmlformats.org/officeDocument/2006/relationships/hyperlink" Target="http://www.globalhealth.gov/bumper.shtml?http://www.unicef.org" TargetMode="External"/><Relationship Id="rId5" Type="http://schemas.openxmlformats.org/officeDocument/2006/relationships/hyperlink" Target="http://www.globalhealth.gov/bumper.shtml?http://www.unhcr.ch" TargetMode="External"/><Relationship Id="rId6" Type="http://schemas.openxmlformats.org/officeDocument/2006/relationships/hyperlink" Target="http://www.globalhealth.gov/bumper.shtml?http://www.unfoundation.org" TargetMode="External"/><Relationship Id="rId7" Type="http://schemas.openxmlformats.org/officeDocument/2006/relationships/hyperlink" Target="http://www.globalhealth.gov/bumper.shtml?http://www.gatesfoundation.org" TargetMode="External"/><Relationship Id="rId8" Type="http://schemas.openxmlformats.org/officeDocument/2006/relationships/hyperlink" Target="http://www.care.org/" TargetMode="External"/><Relationship Id="rId9" Type="http://schemas.openxmlformats.org/officeDocument/2006/relationships/hyperlink" Target="http://www.globalhealth.gov/bumper.shtml?http://www.globalhealth.org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4.png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pitt.edu/~super1/lecture/lec6921/index.htm" TargetMode="External"/><Relationship Id="rId2" Type="http://schemas.openxmlformats.org/officeDocument/2006/relationships/hyperlink" Target="http://www.pitt.edu/~super1/lecture/lec21601/index.htm" TargetMode="External"/><Relationship Id="rId3" Type="http://schemas.openxmlformats.org/officeDocument/2006/relationships/hyperlink" Target="http://www.pitt.edu/~super1/lecture/lec17561/index.htm" TargetMode="External"/><Relationship Id="rId4" Type="http://schemas.openxmlformats.org/officeDocument/2006/relationships/hyperlink" Target="http://www.pitt.edu/~super1/lecture/lec9611/index.htm" TargetMode="External"/><Relationship Id="rId5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6" Type="http://schemas.openxmlformats.org/officeDocument/2006/relationships/image" Target="../media/image41.png"/><Relationship Id="rId7" Type="http://schemas.openxmlformats.org/officeDocument/2006/relationships/hyperlink" Target="mailto:?cc=super1@pitt.edu&amp;body=%3CType%20your%20message%20here%3E%20%20http://www.pitt.edu/~super1/lecture/lec29341/index.htm&amp;subject=Golden%20lecture" TargetMode="External"/><Relationship Id="rId8" Type="http://schemas.openxmlformats.org/officeDocument/2006/relationships/hyperlink" Target="mailto:?cc=super1@pitt.edu&amp;body=%3CType%20your%20message%20here%3E%20%20http://www.pitt.edu/~super1/lecture/lec29341/index.htm&amp;subject=Golden%20lecture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363600"/>
            <a:ext cx="883908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семирная  охрана Здоровья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7200"/>
            </a:b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Глобальная Сеть в Здравоохранении Проект Суперкурс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иттсбургский Университет,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99840" y="4501800"/>
            <a:ext cx="563868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роение Всемирной Профилактической Сети для обмена знаниями и иде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front"/>
          <p:cNvPicPr/>
          <p:nvPr/>
        </p:nvPicPr>
        <p:blipFill>
          <a:blip r:embed="rId1"/>
          <a:stretch/>
        </p:blipFill>
        <p:spPr>
          <a:xfrm>
            <a:off x="762120" y="3013200"/>
            <a:ext cx="3584520" cy="1125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6858000" y="3630600"/>
            <a:ext cx="1905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400800" y="3994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5638680" y="2946240"/>
            <a:ext cx="2165400" cy="155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>
            <a:hlinkClick r:id="rId3"/>
          </p:cNvPr>
          <p:cNvSpPr/>
          <p:nvPr/>
        </p:nvSpPr>
        <p:spPr>
          <a:xfrm>
            <a:off x="131760" y="5794200"/>
            <a:ext cx="88599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ожалуйста, переправьте эту лекцию студентам,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преподавателям                           и профессионалам здравоохранения в  вашей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0"/>
          <p:cNvSpPr/>
          <p:nvPr/>
        </p:nvSpPr>
        <p:spPr>
          <a:xfrm>
            <a:off x="4648320" y="3429000"/>
            <a:ext cx="533376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оразвит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доход на д.н. выше 9206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зко-, среднеразви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фрика, Суб-Сах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276720" y="3505320"/>
            <a:ext cx="137160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-76320" y="0"/>
            <a:ext cx="160020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кцинация против оспы: уничтожение болезни – это пример глобального решения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33520" y="2647800"/>
            <a:ext cx="2781360" cy="421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3152880" cy="38768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Самые важные проблемы глобального здоровья сегод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фекционные болезни, болезни матери, перинатальные болезни, нарушения, связанные с пит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инфекционные боле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ав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390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ествует множество проблем в области глобального здоровья; профессионалы в различных областях особо выделяют определенные заболевания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ы снизить ущерб здоровью, наносимый как инфекционными, так и неинфекционными болезнями, необходим интердисциплинарный подход к решению этих проблем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971800" y="5057640"/>
            <a:ext cx="2362320" cy="18003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026" descr=""/>
          <p:cNvPicPr/>
          <p:nvPr/>
        </p:nvPicPr>
        <p:blipFill>
          <a:blip r:embed="rId1"/>
          <a:stretch/>
        </p:blipFill>
        <p:spPr>
          <a:xfrm>
            <a:off x="-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027"/>
          <p:cNvSpPr/>
          <p:nvPr/>
        </p:nvSpPr>
        <p:spPr>
          <a:xfrm>
            <a:off x="838080" y="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685800" y="152280"/>
            <a:ext cx="7848720" cy="838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ричины смертности (США, 1900-19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29"/>
          <p:cNvSpPr/>
          <p:nvPr/>
        </p:nvSpPr>
        <p:spPr>
          <a:xfrm>
            <a:off x="380880" y="1905120"/>
            <a:ext cx="609840" cy="3581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30"/>
          <p:cNvSpPr/>
          <p:nvPr/>
        </p:nvSpPr>
        <p:spPr>
          <a:xfrm flipH="1" flipV="1" rot="5400000">
            <a:off x="46080" y="3319200"/>
            <a:ext cx="15825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х смер-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31"/>
          <p:cNvSpPr/>
          <p:nvPr/>
        </p:nvSpPr>
        <p:spPr>
          <a:xfrm>
            <a:off x="7315200" y="1828800"/>
            <a:ext cx="1523880" cy="3505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сил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Ра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ССЗ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Инфек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26" descr="bridge"/>
          <p:cNvPicPr/>
          <p:nvPr/>
        </p:nvPicPr>
        <p:blipFill>
          <a:blip r:embed="rId1"/>
          <a:stretch/>
        </p:blipFill>
        <p:spPr>
          <a:xfrm>
            <a:off x="4648320" y="2666880"/>
            <a:ext cx="4038480" cy="361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27"/>
          <p:cNvSpPr/>
          <p:nvPr/>
        </p:nvSpPr>
        <p:spPr>
          <a:xfrm>
            <a:off x="380880" y="228600"/>
            <a:ext cx="678204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зделение мира по степени доступности современных цифровых технологий: разрыв между доступностью и отсутств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им из сам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их достиж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бального здоровь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ла доступ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блема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едоставление друг другу (обмен) информации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8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жная задача охраны мирового здоровья 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2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 век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тенциальное решение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 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ажность знаний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обучения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нноваций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  информационных технологий (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I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мый фундаментальный ресурс современной экономики –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знан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 и, соответственно, самое важное для нее –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процесс обучения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Lundvall, Bengt-Åke (1992)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ational Systems of Innovation. Towards a Theory of Innovation and Interactive Learning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Pinter, London and New York, pp. 34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19360" cy="10764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mandela00"/>
          <p:cNvPicPr/>
          <p:nvPr/>
        </p:nvPicPr>
        <p:blipFill>
          <a:blip r:embed="rId1"/>
          <a:stretch/>
        </p:blipFill>
        <p:spPr>
          <a:xfrm>
            <a:off x="533520" y="990720"/>
            <a:ext cx="3333600" cy="4952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3962520" y="2017800"/>
            <a:ext cx="50292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  <a:ea typeface="Arial"/>
              </a:rPr>
              <a:t>Education is the most powerful weapon which you can use to change the wor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Nelson Mand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ject 4" descr=""/>
          <p:cNvPicPr/>
          <p:nvPr/>
        </p:nvPicPr>
        <p:blipFill>
          <a:blip r:embed="rId2"/>
          <a:stretch/>
        </p:blipFill>
        <p:spPr>
          <a:xfrm>
            <a:off x="4680" y="468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3886200" y="1905120"/>
            <a:ext cx="5257800" cy="3047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разование яв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иболее мощным оруди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помощью котор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жно изменить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льсон Манд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20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0" y="304920"/>
            <a:ext cx="5555520" cy="3785760"/>
            <a:chOff x="0" y="304920"/>
            <a:chExt cx="5555520" cy="3785760"/>
          </a:xfrm>
        </p:grpSpPr>
        <p:grpSp>
          <p:nvGrpSpPr>
            <p:cNvPr id="130" name="Group 4"/>
            <p:cNvGrpSpPr/>
            <p:nvPr/>
          </p:nvGrpSpPr>
          <p:grpSpPr>
            <a:xfrm>
              <a:off x="0" y="304920"/>
              <a:ext cx="5555520" cy="2909520"/>
              <a:chOff x="0" y="304920"/>
              <a:chExt cx="5555520" cy="2909520"/>
            </a:xfrm>
          </p:grpSpPr>
          <p:grpSp>
            <p:nvGrpSpPr>
              <p:cNvPr id="131" name="Group 5"/>
              <p:cNvGrpSpPr/>
              <p:nvPr/>
            </p:nvGrpSpPr>
            <p:grpSpPr>
              <a:xfrm>
                <a:off x="13320" y="318240"/>
                <a:ext cx="5528520" cy="2882520"/>
                <a:chOff x="13320" y="318240"/>
                <a:chExt cx="5528520" cy="2882520"/>
              </a:xfrm>
            </p:grpSpPr>
            <p:sp>
              <p:nvSpPr>
                <p:cNvPr id="132" name="Rectangle 6"/>
                <p:cNvSpPr/>
                <p:nvPr/>
              </p:nvSpPr>
              <p:spPr>
                <a:xfrm>
                  <a:off x="13320" y="318240"/>
                  <a:ext cx="5528520" cy="288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7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7"/>
                <p:cNvSpPr/>
                <p:nvPr/>
              </p:nvSpPr>
              <p:spPr>
                <a:xfrm>
                  <a:off x="13320" y="318240"/>
                  <a:ext cx="5528520" cy="288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Rectangle 8"/>
              <p:cNvSpPr/>
              <p:nvPr/>
            </p:nvSpPr>
            <p:spPr>
              <a:xfrm>
                <a:off x="0" y="304920"/>
                <a:ext cx="5555520" cy="2909520"/>
              </a:xfrm>
              <a:prstGeom prst="rect">
                <a:avLst/>
              </a:prstGeom>
              <a:noFill/>
              <a:ln w="270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5" name="Picture 9" descr="University of Khartoum Campus Photograph"/>
            <p:cNvPicPr/>
            <p:nvPr/>
          </p:nvPicPr>
          <p:blipFill>
            <a:blip r:embed="rId1"/>
            <a:stretch/>
          </p:blipFill>
          <p:spPr>
            <a:xfrm>
              <a:off x="191520" y="367200"/>
              <a:ext cx="4727520" cy="29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10"/>
            <p:cNvSpPr/>
            <p:nvPr/>
          </p:nvSpPr>
          <p:spPr>
            <a:xfrm>
              <a:off x="1487880" y="3386880"/>
              <a:ext cx="3790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ниверситет Хартума, Суда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11" descr="Image22"/>
          <p:cNvPicPr/>
          <p:nvPr/>
        </p:nvPicPr>
        <p:blipFill>
          <a:blip r:embed="rId2"/>
          <a:stretch/>
        </p:blipFill>
        <p:spPr>
          <a:xfrm>
            <a:off x="5334120" y="1066680"/>
            <a:ext cx="3382920" cy="4708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5481360" y="5916600"/>
            <a:ext cx="347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ниверситет Каттингт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б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748440" y="4210200"/>
            <a:ext cx="3414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иомедицин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урнал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 1990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Миссия этой лек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722600"/>
            <a:ext cx="86868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знакомить с проблемами мирового здоровья каждого студента, изучающего медицину, общественное здоровье, а также тех, кто учится профессии медсест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здать всемирную сеть студентов в области мирового здоровья для решения как локальных так и глобальных проблем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MCBD06663_0000[1]"/>
          <p:cNvPicPr/>
          <p:nvPr/>
        </p:nvPicPr>
        <p:blipFill>
          <a:blip r:embed="rId1"/>
          <a:stretch/>
        </p:blipFill>
        <p:spPr>
          <a:xfrm>
            <a:off x="3657600" y="2438280"/>
            <a:ext cx="3124080" cy="2710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[Catalog Image of PIA01462]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252520" cy="236232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4" descr=""/>
          <p:cNvPicPr/>
          <p:nvPr/>
        </p:nvPicPr>
        <p:blipFill>
          <a:blip r:embed="rId4"/>
          <a:stretch/>
        </p:blipFill>
        <p:spPr>
          <a:xfrm>
            <a:off x="4680" y="468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такое Суперкур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5715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уперкурс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лобальная библиотека лекций по профилактике и общественному здоровью, предоставляемых безвозмездно лучшими специалистами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vint"/>
          <p:cNvPicPr/>
          <p:nvPr/>
        </p:nvPicPr>
        <p:blipFill>
          <a:blip r:embed="rId1"/>
          <a:stretch/>
        </p:blipFill>
        <p:spPr>
          <a:xfrm>
            <a:off x="4191120" y="4191120"/>
            <a:ext cx="3124080" cy="2342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2057400" y="83808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pitt.edu/~supe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3"/>
          <a:stretch/>
        </p:blipFill>
        <p:spPr>
          <a:xfrm>
            <a:off x="838080" y="434340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150" name="Picture 11"/>
          <p:cNvSpPr/>
          <p:nvPr/>
        </p:nvSpPr>
        <p:spPr>
          <a:xfrm>
            <a:off x="5715000" y="1523880"/>
            <a:ext cx="3048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1801800" y="1447920"/>
            <a:ext cx="6450120" cy="4495320"/>
            <a:chOff x="1801800" y="1447920"/>
            <a:chExt cx="6450120" cy="4495320"/>
          </a:xfrm>
        </p:grpSpPr>
        <p:sp>
          <p:nvSpPr>
            <p:cNvPr id="153" name="AutoShape 3"/>
            <p:cNvSpPr/>
            <p:nvPr/>
          </p:nvSpPr>
          <p:spPr>
            <a:xfrm rot="16200000">
              <a:off x="4032360" y="-311760"/>
              <a:ext cx="1614960" cy="5134320"/>
            </a:xfrm>
            <a:custGeom>
              <a:avLst/>
              <a:gdLst>
                <a:gd name="textAreaLeft" fmla="*/ 216360 w 1614960"/>
                <a:gd name="textAreaRight" fmla="*/ 1398600 w 1614960"/>
                <a:gd name="textAreaTop" fmla="*/ 898560 h 5134320"/>
                <a:gd name="textAreaBottom" fmla="*/ 3722400 h 513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"/>
            <p:cNvSpPr/>
            <p:nvPr/>
          </p:nvSpPr>
          <p:spPr>
            <a:xfrm rot="5400000">
              <a:off x="3621600" y="2568240"/>
              <a:ext cx="1614960" cy="5134320"/>
            </a:xfrm>
            <a:custGeom>
              <a:avLst/>
              <a:gdLst>
                <a:gd name="textAreaLeft" fmla="*/ 216360 w 1614960"/>
                <a:gd name="textAreaRight" fmla="*/ 1398600 w 1614960"/>
                <a:gd name="textAreaTop" fmla="*/ 898560 h 5134320"/>
                <a:gd name="textAreaBottom" fmla="*/ 3722400 h 513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"/>
            <p:cNvSpPr/>
            <p:nvPr/>
          </p:nvSpPr>
          <p:spPr>
            <a:xfrm>
              <a:off x="1801800" y="3258360"/>
              <a:ext cx="16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iomedic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esear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5046120" y="3220560"/>
              <a:ext cx="320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ducation in Medic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nd Public Heal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WordArt 7"/>
          <p:cNvSpPr txBox="1"/>
          <p:nvPr/>
        </p:nvSpPr>
        <p:spPr>
          <a:xfrm>
            <a:off x="152280" y="304920"/>
            <a:ext cx="50292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ircle of Learning</a:t>
            </a:r>
            <a:endParaRPr b="0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58" name="Group 8"/>
          <p:cNvGrpSpPr/>
          <p:nvPr/>
        </p:nvGrpSpPr>
        <p:grpSpPr>
          <a:xfrm>
            <a:off x="3962520" y="2057400"/>
            <a:ext cx="1390680" cy="3306600"/>
            <a:chOff x="3962520" y="2057400"/>
            <a:chExt cx="1390680" cy="3306600"/>
          </a:xfrm>
        </p:grpSpPr>
        <p:pic>
          <p:nvPicPr>
            <p:cNvPr id="159" name="Picture 9" descr="front"/>
            <p:cNvPicPr/>
            <p:nvPr/>
          </p:nvPicPr>
          <p:blipFill>
            <a:blip r:embed="rId1"/>
            <a:stretch/>
          </p:blipFill>
          <p:spPr>
            <a:xfrm>
              <a:off x="4038480" y="4952880"/>
              <a:ext cx="131472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0" descr="front"/>
            <p:cNvPicPr/>
            <p:nvPr/>
          </p:nvPicPr>
          <p:blipFill>
            <a:blip r:embed="rId2"/>
            <a:stretch/>
          </p:blipFill>
          <p:spPr>
            <a:xfrm>
              <a:off x="3962520" y="2057400"/>
              <a:ext cx="131436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Rectangle 11"/>
          <p:cNvSpPr/>
          <p:nvPr/>
        </p:nvSpPr>
        <p:spPr>
          <a:xfrm>
            <a:off x="152280" y="304920"/>
            <a:ext cx="525780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кл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228600" y="3276720"/>
            <a:ext cx="426708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медицин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4495680" y="3124080"/>
            <a:ext cx="4267440" cy="838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ние в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ицины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ственного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мен информацией по глобальному здоровь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D/DVD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уперку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D"/>
          <p:cNvPicPr/>
          <p:nvPr/>
        </p:nvPicPr>
        <p:blipFill>
          <a:blip r:embed="rId1"/>
          <a:stretch/>
        </p:blipFill>
        <p:spPr>
          <a:xfrm>
            <a:off x="3367080" y="2467080"/>
            <a:ext cx="2409840" cy="2790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609480" y="5486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ски были посланы более че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0,00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ециалистам по всему ми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здание се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971800" cy="1969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"/>
          <p:cNvPicPr/>
          <p:nvPr/>
        </p:nvPicPr>
        <p:blipFill>
          <a:blip r:embed="rId3"/>
          <a:stretch/>
        </p:blipFill>
        <p:spPr>
          <a:xfrm>
            <a:off x="4648320" y="2895480"/>
            <a:ext cx="2133360" cy="16257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бальное здоровье – предмет большой важности, т.к. одни и те же болезни и проблемы здоровья преследуют как жителей развивающихся, так и развитых стр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тельность жизни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 веке была увеличена благодаря успехам в области охраны мирового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уденты медицинских сециальностей должны больше знать об исследованиях в области  глобального здоровья и включаться в интернет сеть для обмена важной и своевременной информацией по проблемам здоровья 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и, работающие в области глобального здоро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orld Health Organ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n American Health Organ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orld Ban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NICE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UN High Commissioner for Refuge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UN Found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Bill and Melinda Gates Found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CARE Internation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Global Health Counci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многие друг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4419720" y="6705720"/>
            <a:ext cx="3808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4267080" y="1752480"/>
            <a:ext cx="4572000" cy="3047760"/>
            <a:chOff x="4267080" y="1752480"/>
            <a:chExt cx="4572000" cy="3047760"/>
          </a:xfrm>
        </p:grpSpPr>
        <p:pic>
          <p:nvPicPr>
            <p:cNvPr id="182" name="Picture 4" descr="world-map-sm"/>
            <p:cNvPicPr/>
            <p:nvPr/>
          </p:nvPicPr>
          <p:blipFill>
            <a:blip r:embed="rId1"/>
            <a:stretch/>
          </p:blipFill>
          <p:spPr>
            <a:xfrm>
              <a:off x="4267080" y="1752480"/>
              <a:ext cx="457200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AutoShape 5"/>
            <p:cNvSpPr/>
            <p:nvPr/>
          </p:nvSpPr>
          <p:spPr>
            <a:xfrm>
              <a:off x="6665400" y="3077280"/>
              <a:ext cx="374400" cy="42804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6"/>
            <p:cNvSpPr/>
            <p:nvPr/>
          </p:nvSpPr>
          <p:spPr>
            <a:xfrm>
              <a:off x="5166360" y="2820600"/>
              <a:ext cx="374760" cy="42804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7"/>
            <p:cNvSpPr/>
            <p:nvPr/>
          </p:nvSpPr>
          <p:spPr>
            <a:xfrm>
              <a:off x="7189920" y="2392560"/>
              <a:ext cx="374760" cy="42768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6740280" y="2820600"/>
              <a:ext cx="374760" cy="42804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9"/>
            <p:cNvSpPr/>
            <p:nvPr/>
          </p:nvSpPr>
          <p:spPr>
            <a:xfrm>
              <a:off x="7864560" y="2906280"/>
              <a:ext cx="374760" cy="42768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0"/>
            <p:cNvSpPr/>
            <p:nvPr/>
          </p:nvSpPr>
          <p:spPr>
            <a:xfrm>
              <a:off x="8014680" y="2820600"/>
              <a:ext cx="374400" cy="42804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7939440" y="2649240"/>
              <a:ext cx="374400" cy="42768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2"/>
            <p:cNvSpPr/>
            <p:nvPr/>
          </p:nvSpPr>
          <p:spPr>
            <a:xfrm>
              <a:off x="7189920" y="3162960"/>
              <a:ext cx="374760" cy="42768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3"/>
            <p:cNvSpPr/>
            <p:nvPr/>
          </p:nvSpPr>
          <p:spPr>
            <a:xfrm>
              <a:off x="7040160" y="2991960"/>
              <a:ext cx="374400" cy="42768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4"/>
            <p:cNvSpPr/>
            <p:nvPr/>
          </p:nvSpPr>
          <p:spPr>
            <a:xfrm>
              <a:off x="6815160" y="2392560"/>
              <a:ext cx="374400" cy="42768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WordArt 15"/>
          <p:cNvSpPr txBox="1"/>
          <p:nvPr/>
        </p:nvSpPr>
        <p:spPr>
          <a:xfrm>
            <a:off x="609480" y="533520"/>
            <a:ext cx="40291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Supercourse Core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grpSp>
        <p:nvGrpSpPr>
          <p:cNvPr id="194" name="Group 16"/>
          <p:cNvGrpSpPr/>
          <p:nvPr/>
        </p:nvGrpSpPr>
        <p:grpSpPr>
          <a:xfrm>
            <a:off x="212040" y="1676520"/>
            <a:ext cx="3798000" cy="4781520"/>
            <a:chOff x="212040" y="1676520"/>
            <a:chExt cx="3798000" cy="4781520"/>
          </a:xfrm>
        </p:grpSpPr>
        <p:sp>
          <p:nvSpPr>
            <p:cNvPr id="195" name="Line 17"/>
            <p:cNvSpPr/>
            <p:nvPr/>
          </p:nvSpPr>
          <p:spPr>
            <a:xfrm flipH="1">
              <a:off x="509400" y="2359080"/>
              <a:ext cx="563400" cy="10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 flipV="1">
              <a:off x="1212840" y="2085480"/>
              <a:ext cx="985680" cy="27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9"/>
            <p:cNvSpPr/>
            <p:nvPr/>
          </p:nvSpPr>
          <p:spPr>
            <a:xfrm flipH="1">
              <a:off x="1634760" y="2154240"/>
              <a:ext cx="563400" cy="129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0"/>
            <p:cNvSpPr/>
            <p:nvPr/>
          </p:nvSpPr>
          <p:spPr>
            <a:xfrm flipH="1">
              <a:off x="1072800" y="3519360"/>
              <a:ext cx="492120" cy="9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>
              <a:off x="509760" y="3519360"/>
              <a:ext cx="633240" cy="9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>
              <a:off x="2270160" y="2154240"/>
              <a:ext cx="119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3"/>
            <p:cNvSpPr/>
            <p:nvPr/>
          </p:nvSpPr>
          <p:spPr>
            <a:xfrm flipH="1">
              <a:off x="2550960" y="2222640"/>
              <a:ext cx="914400" cy="12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>
              <a:off x="2762280" y="3451320"/>
              <a:ext cx="844560" cy="6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H="1">
              <a:off x="2973240" y="3587760"/>
              <a:ext cx="633600" cy="10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6"/>
            <p:cNvSpPr/>
            <p:nvPr/>
          </p:nvSpPr>
          <p:spPr>
            <a:xfrm flipH="1" flipV="1">
              <a:off x="2128680" y="4543200"/>
              <a:ext cx="84456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1706040" y="4611600"/>
              <a:ext cx="422280" cy="12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8"/>
            <p:cNvSpPr/>
            <p:nvPr/>
          </p:nvSpPr>
          <p:spPr>
            <a:xfrm>
              <a:off x="1212840" y="4475160"/>
              <a:ext cx="493560" cy="129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9"/>
            <p:cNvSpPr/>
            <p:nvPr/>
          </p:nvSpPr>
          <p:spPr>
            <a:xfrm>
              <a:off x="1284120" y="447516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0"/>
            <p:cNvSpPr/>
            <p:nvPr/>
          </p:nvSpPr>
          <p:spPr>
            <a:xfrm flipH="1">
              <a:off x="2128320" y="3519360"/>
              <a:ext cx="422280" cy="9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1"/>
            <p:cNvSpPr/>
            <p:nvPr/>
          </p:nvSpPr>
          <p:spPr>
            <a:xfrm>
              <a:off x="1635120" y="3519360"/>
              <a:ext cx="84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2"/>
            <p:cNvSpPr/>
            <p:nvPr/>
          </p:nvSpPr>
          <p:spPr>
            <a:xfrm>
              <a:off x="650880" y="3451320"/>
              <a:ext cx="773280" cy="6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3"/>
            <p:cNvSpPr/>
            <p:nvPr/>
          </p:nvSpPr>
          <p:spPr>
            <a:xfrm>
              <a:off x="2198520" y="2154240"/>
              <a:ext cx="352440" cy="1160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Picture 34" descr="abed"/>
            <p:cNvPicPr/>
            <p:nvPr/>
          </p:nvPicPr>
          <p:blipFill>
            <a:blip r:embed="rId4"/>
            <a:stretch/>
          </p:blipFill>
          <p:spPr>
            <a:xfrm>
              <a:off x="1847880" y="4133880"/>
              <a:ext cx="65232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35" descr="eun"/>
            <p:cNvPicPr/>
            <p:nvPr/>
          </p:nvPicPr>
          <p:blipFill>
            <a:blip r:embed="rId5"/>
            <a:stretch/>
          </p:blipFill>
          <p:spPr>
            <a:xfrm>
              <a:off x="2340000" y="3041640"/>
              <a:ext cx="66528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36" descr="akira"/>
            <p:cNvPicPr/>
            <p:nvPr/>
          </p:nvPicPr>
          <p:blipFill>
            <a:blip r:embed="rId6"/>
            <a:stretch/>
          </p:blipFill>
          <p:spPr>
            <a:xfrm>
              <a:off x="3254400" y="3110040"/>
              <a:ext cx="755640" cy="90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7" descr="ron"/>
            <p:cNvPicPr/>
            <p:nvPr/>
          </p:nvPicPr>
          <p:blipFill>
            <a:blip r:embed="rId7"/>
            <a:stretch/>
          </p:blipFill>
          <p:spPr>
            <a:xfrm>
              <a:off x="720720" y="1881360"/>
              <a:ext cx="730080" cy="9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38" descr="faina"/>
            <p:cNvPicPr/>
            <p:nvPr/>
          </p:nvPicPr>
          <p:blipFill>
            <a:blip r:embed="rId8"/>
            <a:stretch/>
          </p:blipFill>
          <p:spPr>
            <a:xfrm>
              <a:off x="1847880" y="1676520"/>
              <a:ext cx="617400" cy="8427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7" name="Object 1"/>
            <p:cNvGraphicFramePr/>
            <p:nvPr/>
          </p:nvGraphicFramePr>
          <p:xfrm>
            <a:off x="228600" y="3041640"/>
            <a:ext cx="623880" cy="844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8" name="Object 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600" y="3041640"/>
                      <a:ext cx="623880" cy="8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" name="Text Box 40"/>
            <p:cNvSpPr/>
            <p:nvPr/>
          </p:nvSpPr>
          <p:spPr>
            <a:xfrm>
              <a:off x="854640" y="283680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41"/>
            <p:cNvSpPr/>
            <p:nvPr/>
          </p:nvSpPr>
          <p:spPr>
            <a:xfrm>
              <a:off x="1906920" y="256212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Fa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42"/>
            <p:cNvSpPr/>
            <p:nvPr/>
          </p:nvSpPr>
          <p:spPr>
            <a:xfrm>
              <a:off x="3241440" y="2700360"/>
              <a:ext cx="49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Mi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43"/>
            <p:cNvSpPr/>
            <p:nvPr/>
          </p:nvSpPr>
          <p:spPr>
            <a:xfrm>
              <a:off x="212040" y="3929040"/>
              <a:ext cx="72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Euge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44"/>
            <p:cNvSpPr/>
            <p:nvPr/>
          </p:nvSpPr>
          <p:spPr>
            <a:xfrm>
              <a:off x="3312360" y="40654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Aki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45"/>
            <p:cNvSpPr/>
            <p:nvPr/>
          </p:nvSpPr>
          <p:spPr>
            <a:xfrm>
              <a:off x="1488240" y="618156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Ra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46"/>
            <p:cNvSpPr/>
            <p:nvPr/>
          </p:nvSpPr>
          <p:spPr>
            <a:xfrm>
              <a:off x="2241360" y="3859200"/>
              <a:ext cx="97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Eunryo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47"/>
            <p:cNvSpPr/>
            <p:nvPr/>
          </p:nvSpPr>
          <p:spPr>
            <a:xfrm>
              <a:off x="2672640" y="5227560"/>
              <a:ext cx="89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Ezzelde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48"/>
            <p:cNvSpPr/>
            <p:nvPr/>
          </p:nvSpPr>
          <p:spPr>
            <a:xfrm>
              <a:off x="1904400" y="508968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Ab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9"/>
            <p:cNvSpPr/>
            <p:nvPr/>
          </p:nvSpPr>
          <p:spPr>
            <a:xfrm>
              <a:off x="1343880" y="3929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So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50" descr="mita"/>
            <p:cNvPicPr/>
            <p:nvPr/>
          </p:nvPicPr>
          <p:blipFill>
            <a:blip r:embed="rId11"/>
            <a:stretch/>
          </p:blipFill>
          <p:spPr>
            <a:xfrm>
              <a:off x="3184560" y="1812960"/>
              <a:ext cx="64116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51"/>
            <p:cNvSpPr/>
            <p:nvPr/>
          </p:nvSpPr>
          <p:spPr>
            <a:xfrm>
              <a:off x="555480" y="47293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52" descr="Rania"/>
            <p:cNvPicPr/>
            <p:nvPr/>
          </p:nvPicPr>
          <p:blipFill>
            <a:blip r:embed="rId12"/>
            <a:stretch/>
          </p:blipFill>
          <p:spPr>
            <a:xfrm>
              <a:off x="1425600" y="5362560"/>
              <a:ext cx="655560" cy="76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3" descr="soni"/>
            <p:cNvPicPr/>
            <p:nvPr/>
          </p:nvPicPr>
          <p:blipFill>
            <a:blip r:embed="rId13"/>
            <a:stretch/>
          </p:blipFill>
          <p:spPr>
            <a:xfrm>
              <a:off x="1284120" y="2973240"/>
              <a:ext cx="694080" cy="9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54" descr="scan0008"/>
            <p:cNvPicPr/>
            <p:nvPr/>
          </p:nvPicPr>
          <p:blipFill>
            <a:blip r:embed="rId14"/>
            <a:stretch/>
          </p:blipFill>
          <p:spPr>
            <a:xfrm>
              <a:off x="2762280" y="4270320"/>
              <a:ext cx="62856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5" descr=""/>
            <p:cNvPicPr/>
            <p:nvPr/>
          </p:nvPicPr>
          <p:blipFill>
            <a:blip r:embed="rId15"/>
            <a:stretch/>
          </p:blipFill>
          <p:spPr>
            <a:xfrm>
              <a:off x="792000" y="4270320"/>
              <a:ext cx="6080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56"/>
            <p:cNvSpPr/>
            <p:nvPr/>
          </p:nvSpPr>
          <p:spPr>
            <a:xfrm>
              <a:off x="692280" y="515772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ahoma"/>
                  <a:ea typeface="Arial"/>
                </a:rPr>
                <a:t>Mo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Object 0" descr=""/>
          <p:cNvPicPr/>
          <p:nvPr/>
        </p:nvPicPr>
        <p:blipFill>
          <a:blip r:embed="rId16"/>
          <a:stretch/>
        </p:blipFill>
        <p:spPr>
          <a:xfrm>
            <a:off x="4680" y="468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8"/>
          <p:cNvSpPr/>
          <p:nvPr/>
        </p:nvSpPr>
        <p:spPr>
          <a:xfrm>
            <a:off x="609480" y="533520"/>
            <a:ext cx="441972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Команда Супер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152640" y="3348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полнительная 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ткрытый источник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itt.edu/~super1/lecture/lec692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уперкурс и обучение управления катастроф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itt.edu/~super1/lecture/lec2160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циальные эпидемиологические методы в исследованиях здоровья и интернациональных популяций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itt.edu/~super1/lecture/lec1756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нципы синтеза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itt.edu/~super1/lecture/lec961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4120" y="457200"/>
            <a:ext cx="3657600" cy="10112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>
            <a:hlinkClick r:id="rId7"/>
          </p:cNvPr>
          <p:cNvSpPr/>
          <p:nvPr/>
        </p:nvSpPr>
        <p:spPr>
          <a:xfrm>
            <a:off x="5410080" y="685800"/>
            <a:ext cx="34290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Пошлите эту лекцию дру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16292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Всемирная декларация прав человека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3055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ждый человек имеет право на такой уровень жизни, который способствует здоровью и процветанию всем членам своей семьи, включающий питание, одежду, достойное жилище и надлежащее медицинское обслужива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мирная декларация прав челове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19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тернациональное здоров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288440" y="2206800"/>
            <a:ext cx="7050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национальное здоровь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словлено взаимосвязан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оянием здоровья людей по вс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у и зависимо от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улучшению здоровья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х людей и в каждой стр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ст, Фо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енное здоровье, медицина и медсестринский ухо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енья одной моза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2428920" cy="1600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6248520" y="1752120"/>
            <a:ext cx="160632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"/>
          <p:cNvPicPr/>
          <p:nvPr/>
        </p:nvPicPr>
        <p:blipFill>
          <a:blip r:embed="rId2"/>
          <a:stretch/>
        </p:blipFill>
        <p:spPr>
          <a:xfrm>
            <a:off x="3662280" y="4495680"/>
            <a:ext cx="2205000" cy="2187720"/>
          </a:xfrm>
          <a:prstGeom prst="rect">
            <a:avLst/>
          </a:prstGeom>
          <a:ln w="0">
            <a:noFill/>
          </a:ln>
        </p:spPr>
      </p:pic>
      <p:sp>
        <p:nvSpPr>
          <p:cNvPr id="69" name="Line 15"/>
          <p:cNvSpPr/>
          <p:nvPr/>
        </p:nvSpPr>
        <p:spPr>
          <a:xfrm flipV="1">
            <a:off x="3809880" y="1676520"/>
            <a:ext cx="1447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7"/>
          <p:cNvSpPr/>
          <p:nvPr/>
        </p:nvSpPr>
        <p:spPr>
          <a:xfrm flipH="1" flipV="1">
            <a:off x="1447560" y="48769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8" descr="globus2"/>
          <p:cNvPicPr/>
          <p:nvPr/>
        </p:nvPicPr>
        <p:blipFill>
          <a:blip r:embed="rId3"/>
          <a:stretch/>
        </p:blipFill>
        <p:spPr>
          <a:xfrm>
            <a:off x="3733920" y="2666880"/>
            <a:ext cx="1533240" cy="1514520"/>
          </a:xfrm>
          <a:prstGeom prst="rect">
            <a:avLst/>
          </a:prstGeom>
          <a:ln w="0">
            <a:noFill/>
          </a:ln>
        </p:spPr>
      </p:pic>
      <p:sp>
        <p:nvSpPr>
          <p:cNvPr id="72" name="Line 20"/>
          <p:cNvSpPr/>
          <p:nvPr/>
        </p:nvSpPr>
        <p:spPr>
          <a:xfrm flipH="1">
            <a:off x="6629400" y="449568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19160" y="609480"/>
            <a:ext cx="6476760" cy="559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бальное здоровье – это важный новый термин, а также новая концепция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Институт медицины»(США) определяет глобальное здоровье ка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 задачи и подходы в области здоровья, которые преступают пределы национальных границ, испытывают влияние условий и опыта других стран, и которые могут быть эффективнее осуществлены совместными действиями и  решения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255744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258480"/>
            <a:ext cx="792504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очему студенты медицинских специальностей должны изучать глобаль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годня в расписании медицинских школ совсем немного лекций по глобальному здоровью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оровье становится глобальной проблемой, причем хронические болезни выходят на первое место во всем мире по уровню смертнос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щательнее изучая исследования в области глобального здоровья, студенты медицинского направления станут более подготовленными к решению новых проблем, которого потребует  их уникальная професс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28" descr=""/>
          <p:cNvPicPr/>
          <p:nvPr/>
        </p:nvPicPr>
        <p:blipFill>
          <a:blip r:embed="rId1"/>
          <a:stretch/>
        </p:blipFill>
        <p:spPr>
          <a:xfrm>
            <a:off x="8086680" y="152280"/>
            <a:ext cx="981000" cy="10764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Что студентам медицинских специальностей необходимо знать о глобальном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ть, чем отличаются глобальные исследования в области здоровья от исследований интернацион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авливать ключевые задачи глобального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имать важность и необходимость делиться информацией в области здоров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знавать важность профилактических мер в улучшении глобального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имать необходимость всемирной интернет сети для улучшения глобального здоровья на местах и в мировом масшта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28" descr=""/>
          <p:cNvPicPr/>
          <p:nvPr/>
        </p:nvPicPr>
        <p:blipFill>
          <a:blip r:embed="rId1"/>
          <a:stretch/>
        </p:blipFill>
        <p:spPr>
          <a:xfrm>
            <a:off x="8163000" y="304920"/>
            <a:ext cx="981000" cy="10760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8"/>
          <p:cNvSpPr/>
          <p:nvPr/>
        </p:nvSpPr>
        <p:spPr>
          <a:xfrm>
            <a:off x="228600" y="1447920"/>
            <a:ext cx="36576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ст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-националь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6095880" y="25909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лобаль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globus2"/>
          <p:cNvPicPr/>
          <p:nvPr/>
        </p:nvPicPr>
        <p:blipFill>
          <a:blip r:embed="rId1"/>
          <a:stretch/>
        </p:blipFill>
        <p:spPr>
          <a:xfrm>
            <a:off x="3276720" y="1905120"/>
            <a:ext cx="2438280" cy="2406600"/>
          </a:xfrm>
          <a:prstGeom prst="rect">
            <a:avLst/>
          </a:prstGeom>
          <a:ln w="0">
            <a:noFill/>
          </a:ln>
        </p:spPr>
      </p:pic>
      <p:sp>
        <p:nvSpPr>
          <p:cNvPr id="88" name="Line 12"/>
          <p:cNvSpPr/>
          <p:nvPr/>
        </p:nvSpPr>
        <p:spPr>
          <a:xfrm>
            <a:off x="3962520" y="13716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4038480" y="5638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5:08:28Z</dcterms:created>
  <dc:creator>Faina Linkov for Supercourse</dc:creator>
  <dc:description/>
  <dc:language>en-US</dc:language>
  <cp:lastModifiedBy>LEGION</cp:lastModifiedBy>
  <dcterms:modified xsi:type="dcterms:W3CDTF">2014-11-06T13:04:22Z</dcterms:modified>
  <cp:revision>302</cp:revision>
  <dc:subject/>
  <dc:title>Global Health in Russian\Всемирная  охрана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0</vt:r8>
  </property>
  <property fmtid="{D5CDD505-2E9C-101B-9397-08002B2CF9AE}" pid="3" name="ButtonType">
    <vt:r8>1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0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 and Settings\Eugene\My Documents\Alectures\29011-30001\lec29341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0</vt:r8>
  </property>
</Properties>
</file>