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18.png" ContentType="image/png"/>
  <Override PartName="/ppt/media/image6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0.jpeg" ContentType="image/jpeg"/>
  <Override PartName="/ppt/media/image24.png" ContentType="image/png"/>
  <Override PartName="/ppt/media/image1.png" ContentType="image/png"/>
  <Override PartName="/ppt/media/image7.png" ContentType="image/png"/>
  <Override PartName="/ppt/media/image12.png" ContentType="image/png"/>
  <Override PartName="/ppt/media/image20.jpeg" ContentType="image/jpeg"/>
  <Override PartName="/ppt/media/image29.jpeg" ContentType="image/jpeg"/>
  <Override PartName="/ppt/media/image35.jpeg" ContentType="image/jpeg"/>
  <Override PartName="/ppt/media/image11.png" ContentType="image/png"/>
  <Override PartName="/ppt/media/image30.jpeg" ContentType="image/jpeg"/>
  <Override PartName="/ppt/media/image32.jpeg" ContentType="image/jpeg"/>
  <Override PartName="/ppt/media/image36.jpeg" ContentType="image/jpeg"/>
  <Override PartName="/ppt/media/image40.png" ContentType="image/png"/>
  <Override PartName="/ppt/media/image37.jpeg" ContentType="image/jpeg"/>
  <Override PartName="/ppt/media/image13.png" ContentType="image/png"/>
  <Override PartName="/ppt/media/image31.jpeg" ContentType="image/jpeg"/>
  <Override PartName="/ppt/media/image2.png" ContentType="image/png"/>
  <Override PartName="/ppt/media/image25.jpeg" ContentType="image/jpeg"/>
  <Override PartName="/ppt/media/image41.png" ContentType="image/png"/>
  <Override PartName="/ppt/media/image38.png" ContentType="image/png"/>
  <Override PartName="/ppt/media/image8.png" ContentType="image/png"/>
  <Override PartName="/ppt/media/image28.png" ContentType="image/png"/>
  <Override PartName="/ppt/media/image5.gif" ContentType="image/gif"/>
  <Override PartName="/ppt/media/image39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17.jpeg" ContentType="image/jpeg"/>
  <Override PartName="/ppt/media/image2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B8B36-EA99-427B-922E-BD97D04251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hyperlink" Target="http://www.globalhealth.gov/bumper.shtml?http://www.who.int" TargetMode="External"/><Relationship Id="rId2" Type="http://schemas.openxmlformats.org/officeDocument/2006/relationships/hyperlink" Target="http://www.globalhealth.gov/bumper.shtml?http://www.paho.org" TargetMode="External"/><Relationship Id="rId3" Type="http://schemas.openxmlformats.org/officeDocument/2006/relationships/hyperlink" Target="http://www.globalhealth.gov/bumper.shtml?http://www.worldbank.org" TargetMode="External"/><Relationship Id="rId4" Type="http://schemas.openxmlformats.org/officeDocument/2006/relationships/hyperlink" Target="http://www.globalhealth.gov/bumper.shtml?http://www.unicef.org" TargetMode="External"/><Relationship Id="rId5" Type="http://schemas.openxmlformats.org/officeDocument/2006/relationships/slide" Target="../slides/slide26.xml"/><Relationship Id="rId6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0E077-5A10-4E5C-984B-662D47C165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семирная  охрана Здоровь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ru-RU" sz="1000" spc="-1" strike="noStrike">
                <a:solidFill>
                  <a:srgbClr val="000000"/>
                </a:solidFill>
                <a:latin typeface="Bookman Old Style"/>
              </a:rPr>
              <a:t>Глобальная Сеть в Здравоохранении Проект Суперкурс</a:t>
            </a:r>
            <a:r>
              <a:rPr b="1" lang="en-US" sz="10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1" lang="ru-RU" sz="1000" spc="-1" strike="noStrike">
                <a:solidFill>
                  <a:srgbClr val="000000"/>
                </a:solidFill>
                <a:latin typeface="Bookman Old Style"/>
              </a:rPr>
              <a:t>Питтсбургский Университет, СШ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Построение Всемирной Профилактической Сети для обмена знаниями и идеям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A7878-E114-4B41-BCE4-4AB043F643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17D9F-CE8E-4253-BBEE-5C9ECDB699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Вакцинация против оспы: уничтожение болезни – это пример глобального решения проблем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97ECF-5244-4DA0-88EB-9EA4B81C82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ru-RU" sz="1000" spc="-1" strike="noStrike">
                <a:solidFill>
                  <a:srgbClr val="000066"/>
                </a:solidFill>
                <a:latin typeface="Arial"/>
              </a:rPr>
              <a:t>Самые важные проблемы глобального здоровья сегодн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Инфекционные болезни, болезни матери, перинатальные болезни, нарушения, связанные с питание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Неинфекционные болезн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Травм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B2786-C23B-4B55-9419-555B2529ED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уществует множество проблем в области глобального здоровья; профессионалы в различных областях особо выделяют определенные заболеваниям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тобы снизить ущерб здоровью, наносимый как инфекционными, так и неинфекционными болезнями, необходим интердисциплинарный подход к решению этих проблем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E8982-38F4-4E4B-8CED-E6C41F7B9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тя множество интернациональных программ и инициатив направлены на борьбу с такими проблемами, как малярия, СПИД, туберкулез и т.д., основной угрозой после эпидемиологического перехода становятся хронические заболев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Лекция Суперкурса об эпидемиологическом переходе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http://www.pitt.edu/~super1/lecture/lec19181/index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61C4F-A493-49E6-9A53-98147CC8A4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м хотелось бы поспорить, что кроме прочего одним из самых больших достижений глобального здоровья стала доступность информ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м необходимо делиться информацией в области исследований, используя современные цифровые технологии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клинической практике, и в области профилактики большое значение имеет информация. Если в этой области произойдет революция, и информация станет доступна повсеместно, выиграют пациенты всего мира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E1681-F759-417C-8BAF-E68EE16C84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Проблем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: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предоставление друг другу (обмен) информации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ажная задача охраны мирового здоровья в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21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м веке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Потенциальное решение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: WW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091B6-50DF-47F7-8271-93BC3ECFFC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ажность знаний</a:t>
            </a:r>
            <a:r>
              <a:rPr b="1" lang="pt-BR" sz="20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бучения</a:t>
            </a:r>
            <a:r>
              <a:rPr b="1" lang="pt-BR" sz="20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нноваций</a:t>
            </a:r>
            <a:r>
              <a:rPr b="1" lang="pt-BR" sz="20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  информационных технологий (</a:t>
            </a:r>
            <a:r>
              <a:rPr b="1" lang="pt-BR" sz="2000" spc="-1" strike="noStrike">
                <a:solidFill>
                  <a:srgbClr val="333399"/>
                </a:solidFill>
                <a:latin typeface="Arial"/>
              </a:rPr>
              <a:t>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амый фундаментальный ресурс современной экономики – 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знан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и, соответственно, самое важное для нее – 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процесс обучения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undvall, Bengt-Åke (1992)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ational Systems of Innovation. Towards a Theory of Innovation and Interactive Learn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Pinter, London and New York, pp. 3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21CEA-D078-475F-9D0F-36B93846C2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бразование являетс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аиболее мощным орудием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 помощью которо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ожно изменить ми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Нельсон Мандел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708F9-7F9F-428E-847A-0692D8AA0C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азвивающихся странах очень низкий доступ к современной литературе. Суперкурс служит для доставки новой научной информации в развивающиеся страны, и по всей видимости станет основным источником информации.  Распространение и обмен лекциями поможет опытным учителям и молодым педагогам как из развитых, так и из развивающихся стран, а также студентам медицинских специальностей и студентам, изучающим общественное здоровь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Управление знаниями, информационные и коммуникативные технологии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http://www.pitt.edu/~super1/lecture/lec14801/index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1B946-67DB-4A6E-AC20-FFCD056336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Миссия этой ле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Ознакомить с проблемами мирового здоровья каждого студента, изучающего медицину, общественное здоровье, а также тех, кто учится профессии медсестр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Создать всемирную сеть студентов в области мирового здоровья для решения как локальных так и глобальных проблем здоровь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CB626-95B9-44F5-BE2C-4D37BFC0AB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национальные научные исследования, охватывающие  как развитые, так и развивающиеся страны, в значительной степени отличны от работ, ведущихся внутри отдельных стран.  Исследователи часто заинтересованы в интернациональных программах, хотя не осознают, что правила и медицинские системы разных стран отличаются. Эти недопонимания способны тормозить и даже остановить исследования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этом мало смысла, ведь наша нынешняя система приводит к тому, что новые интернациональные исследования начинаются с чистого листа, не принимая во внимание прежние ошибки. Интернациональные исследования необходимо поставить «на плечи прежних исследователей», чтобы помочь идущим за нами не повторять наших ошибок. Нам необходимо перейти от интернациональных к глобальным исследованиям. И здесь мы снова упираемся в вопрос связи. Медицинские студенты могут стать важными проводниками в обмене знаниями, полученными в результате исследований в области глобального здоровья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AB731-BB4F-46E1-BF8F-3391D6171A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то такое Суперкурс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Суперкурс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глобальная библиотека лекций по профилактике и общественному здоровью, предоставляемых безвозмездно лучшими специалистами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3E201-EECF-46CA-A519-1EB20D5C2A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икл обуч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йчас требуется 5-6 лет, чтобы научная информация от ученых достигла учебного класса. Если же переводить данные в слайды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Point, то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место лет ожидания, информация будет доступна через несколько дней и по интернет может достичь каждого студента. Концепция превентивной телемедицины является для нас фундаментальной. Ее рождение произошло несколько лет назад и за короткий срок она породила огромный интерес специалистов. Статья журнал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BMJ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черкивается важность превентивной телемедицины. Она имеет огромный потенциал в улучшении глобального здоровь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ногие важные медицинские открытия не достигают медицинских студентов просто потому, что проходит  5-10 лет прежде чем информация попадет в медицинские учебник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использованием Суперкурса  стало возможным быстрое распространение информации и обучение студентов новым знания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BC4A9-CB67-477F-9622-F483AEFBDE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мен информацией по глобальному здоровью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D/DVD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Супер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C6D58-C41B-453E-800C-233DE8FACD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здание се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дицинские студенты всего мира должны быть лучше связаны по интернету для взаимодействия в области решения задач глобального здоровья 21 века. Используя компьютерную сеть, объединяющую клиницистов и профессионалов общественного здоровья, команда Суперкурса смогла создать и опубликовать своевременные лекции(JIT) спустя несколько дней после таких чрезвычайных событий как землетрясение в Бэме, ураган Катрина, вспышки САРС и т.д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70225-DBC7-4DD9-AC49-53AAFA3B18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лобальное здоровье – предмет большой важности, т.к. одни и те же болезни и проблемы здоровья преследуют как жителей развивающихся, так и развитых стран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должительность жизни в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м веке была увеличена благодаря успехам в области охраны мирового здоровь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уденты медицинских сециальностей должны больше знать об исследованиях в области  глобального здоровья и включаться в интернет сеть для обмена важной и своевременной информацией по проблемам здоровья в мир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99248-D4C2-4574-A690-26CEE5F749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рганизации, работающие в области глобального здоровь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orld Health Organiza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an American Health Organiza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orld Bank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UNICEF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UN High Commissioner for Refugees, the UN Foundation, the Bill and Melinda Gates Foundation, CARE International, the Global Health Council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 многие друг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ет множество многопрофильных организаций, объединений, неправительственных структур, глобально занимающихся проблемами здоровь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66673-0A67-45D7-9C40-0C1F6807BE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00"/>
                </a:solidFill>
                <a:latin typeface="Arial"/>
              </a:rPr>
              <a:t>Команда Супер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перкурс создан увлеченной командой специалистов разных национальностей, интерес которых направлен на развитие превентивной телемедицины. Если вы хотите стать членом нашей команды, пишите по адрес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uper1@pitt.ed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ю разработал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aina Linkov, Ronald LaPorte, Eugene Shubnikov, Mita Lovalekar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остальные члены Супер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6EFE0-1A88-4CDD-AE66-EFE8B28EC7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полнительная литера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Открытый источник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http://www.pitt.edu/~super1/lecture/lec6921/index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Суперкурс и обучение управления катастроф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http://www.pitt.edu/~super1/lecture/lec21601/index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Социальные эпидемиологические методы в исследованиях здоровья и интернациональных популяций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http://www.pitt.edu/~super1/lecture/lec17561/index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Принципы синтеза исследов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http://www.pitt.edu/~super1/lecture/lec9611/index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F014C-DF05-4658-83D3-36949187D6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Всемирная декларация прав человека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ждый человек имеет право на такой уровень жизни, который способствует здоровью и процветанию всем членам своей семьи, включающий питание, одежду, достойное жилище и надлежащее медицинское обслуживание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семирная декларация прав человека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, 19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FE73B-D58E-4122-8C1F-A2401676C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тернациональное здоровь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тернациональное здоровь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условлено взаимосвязанны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стоянием здоровья людей по всем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иру и зависимо от действ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 улучшению здоровья дл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сех людей и в каждой стран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аст, Фо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B98BE-1DFE-4F88-A28F-6C259CCCF9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щественное здоровье, медицина и медсестринский уход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венья одной моза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761C1-6147-4822-8949-54ED37A76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лобальное здоровье – это важный новый термин, а также новая концепция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Институт медицины»(США) определяет глобальное здоровье как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«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е задачи и подходы в области здоровья, которые преступают пределы национальных границ, испытывают влияние условий и опыта других стран, и которые могут быть эффективнее осуществлены совместными действиями и  решениям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60278-7522-47CE-AF08-E027FE9C88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Почему студенты медицинских специальностей должны изучать глобальное здоровь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егодня в расписании медицинских школ совсем немного лекций по глобальному здоровью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доровье становится глобальной проблемой, причем хронические болезни выходят на первое место во всем мире по уровню смертности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щательнее изучая исследования в области глобального здоровья, студенты медицинского направления станут более подготовленными к решению новых проблем, которого потребует  их уникальная профессия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F9E77-FF50-453F-9CB5-8F0114F357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Что студентам медицинских специальностей необходимо знать о глобальном здоровь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нать, чем отличаются глобальные исследования в области здоровья от исследований интернациональ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станавливать ключевые задачи глобального здоровь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нимать важность и необходимость делиться информацией в области здоровь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ознавать важность профилактических мер в улучшении глобального здоровь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нимать необходимость всемирной интернет сети для улучшения глобального здоровья на местах и в мировом масштаб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B9683-4549-4E56-8F4E-E18AB10C42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ногие проекты в области здоровь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ключая даже интернациональные программы здоровья, направлены на проблемы одного или нескольких регионов мира. Мы хотели бы изменить философию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обального здоровь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выделив важность решения проблем здоровья в мировом масштаб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м необходимо лучше обозначить  общественное здоровье как дисциплину. Новая философия должна отражать важность передачи друг другу информации. Мир – огромен, и проблемы здоровья различны в разных его частях. Исследования в области проблем здоровья важны для решения их как в развитом, так и в развивающемся мир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E593-4649-464C-9EEF-3F5B2E4B6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222B-2233-45F9-BFF6-9A8ABAD68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C8B5-C929-4F05-8C63-7DFB86B11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2543-71EC-41E2-88B9-F0453BE44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09B8-9B5E-4251-A632-9707F624F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0987-86D6-4B8B-B9D4-39F483815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A412-1043-4FF3-8DF7-E2C7145FF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A0AD-C215-4DA3-9D0A-79E6B83C8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415E-6B23-446E-A4E8-3712167E5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E36A-30F0-4864-90F9-EBD4B4047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7CAE-B923-475E-9819-B921D567C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984F-6E9F-465C-9AF4-716C5AD81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AE369-561B-4F5E-B57B-BF4AF12BDB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mailto:?cc=super1@pitt.edu&amp;body=%3CType%20your%20message%20here%3E%20%20http://www.pitt.edu/~super1/lecture/lec10511/index.htm&amp;subject=Golden%20lecture" TargetMode="External"/><Relationship Id="rId4" Type="http://schemas.openxmlformats.org/officeDocument/2006/relationships/hyperlink" Target="mailto:?cc=super1@pitt.edu&amp;body=%3CType%20your%20message%20here%3E%20%20http://www.pitt.edu/~super1/lecture/lec10511/index.htm&amp;subject=Golden%20lecture" TargetMode="External"/><Relationship Id="rId5" Type="http://schemas.openxmlformats.org/officeDocument/2006/relationships/hyperlink" Target="mailto:?cc=super1@pitt.edu&amp;body=%3CType%20your%20message%20here%3E%20%20http://www.pitt.edu/~super1/lecture/lec10511/index.htm&amp;subject=Golden%20lecture" TargetMode="External"/><Relationship Id="rId6" Type="http://schemas.openxmlformats.org/officeDocument/2006/relationships/hyperlink" Target="mailto:?cc=super1@pitt.edu&amp;body=%3CType%20your%20message%20here%3E%20%20http://www.pitt.edu/~super1/lecture/lec10511/index.htm&amp;subject=Golden%20lecture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hyperlink" Target="http://photojournal.jpl.nasa.gov/jpegMod/PIA01462_modest.jpg" TargetMode="External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http://www.pitt.edu/~super1" TargetMode="External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globalhealth.gov/bumper.shtml?http://www.who.int" TargetMode="External"/><Relationship Id="rId2" Type="http://schemas.openxmlformats.org/officeDocument/2006/relationships/hyperlink" Target="http://www.globalhealth.gov/bumper.shtml?http://www.paho.org" TargetMode="External"/><Relationship Id="rId3" Type="http://schemas.openxmlformats.org/officeDocument/2006/relationships/hyperlink" Target="http://www.globalhealth.gov/bumper.shtml?http://www.worldbank.org" TargetMode="External"/><Relationship Id="rId4" Type="http://schemas.openxmlformats.org/officeDocument/2006/relationships/hyperlink" Target="http://www.globalhealth.gov/bumper.shtml?http://www.unicef.org" TargetMode="External"/><Relationship Id="rId5" Type="http://schemas.openxmlformats.org/officeDocument/2006/relationships/hyperlink" Target="http://www.globalhealth.gov/bumper.shtml?http://www.unhcr.ch" TargetMode="External"/><Relationship Id="rId6" Type="http://schemas.openxmlformats.org/officeDocument/2006/relationships/hyperlink" Target="http://www.globalhealth.gov/bumper.shtml?http://www.unfoundation.org" TargetMode="External"/><Relationship Id="rId7" Type="http://schemas.openxmlformats.org/officeDocument/2006/relationships/hyperlink" Target="http://www.globalhealth.gov/bumper.shtml?http://www.gatesfoundation.org" TargetMode="External"/><Relationship Id="rId8" Type="http://schemas.openxmlformats.org/officeDocument/2006/relationships/hyperlink" Target="http://www.care.org/" TargetMode="External"/><Relationship Id="rId9" Type="http://schemas.openxmlformats.org/officeDocument/2006/relationships/hyperlink" Target="http://www.globalhealth.gov/bumper.shtml?http://www.globalhealth.org" TargetMode="Externa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image" Target="../media/image33.jpe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34.png"/><Relationship Id="rId11" Type="http://schemas.openxmlformats.org/officeDocument/2006/relationships/image" Target="../media/image35.jpeg"/><Relationship Id="rId12" Type="http://schemas.openxmlformats.org/officeDocument/2006/relationships/image" Target="../media/image36.jpeg"/><Relationship Id="rId13" Type="http://schemas.openxmlformats.org/officeDocument/2006/relationships/image" Target="../media/image37.jpeg"/><Relationship Id="rId14" Type="http://schemas.openxmlformats.org/officeDocument/2006/relationships/image" Target="../media/image38.png"/><Relationship Id="rId15" Type="http://schemas.openxmlformats.org/officeDocument/2006/relationships/image" Target="../media/image39.png"/><Relationship Id="rId16" Type="http://schemas.openxmlformats.org/officeDocument/2006/relationships/image" Target="../media/image40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pitt.edu/~super1/lecture/lec6921/index.htm" TargetMode="External"/><Relationship Id="rId2" Type="http://schemas.openxmlformats.org/officeDocument/2006/relationships/hyperlink" Target="http://www.pitt.edu/~super1/lecture/lec21601/index.htm" TargetMode="External"/><Relationship Id="rId3" Type="http://schemas.openxmlformats.org/officeDocument/2006/relationships/hyperlink" Target="http://www.pitt.edu/~super1/lecture/lec17561/index.htm" TargetMode="External"/><Relationship Id="rId4" Type="http://schemas.openxmlformats.org/officeDocument/2006/relationships/hyperlink" Target="http://www.pitt.edu/~super1/lecture/lec9611/index.htm" TargetMode="External"/><Relationship Id="rId5" Type="http://schemas.openxmlformats.org/officeDocument/2006/relationships/hyperlink" Target="mailto:?cc=super1@pitt.edu&amp;body=%3CType%20your%20message%20here%3E%20%20http://www.pitt.edu/~super1/lecture/lec10511/index.htm&amp;subject=Golden%20lecture" TargetMode="External"/><Relationship Id="rId6" Type="http://schemas.openxmlformats.org/officeDocument/2006/relationships/image" Target="../media/image41.png"/><Relationship Id="rId7" Type="http://schemas.openxmlformats.org/officeDocument/2006/relationships/hyperlink" Target="mailto:?cc=super1@pitt.edu&amp;body=%3CType%20your%20message%20here%3E%20%20http://www.pitt.edu/~super1/lecture/lec29341/index.htm&amp;subject=Golden%20lecture" TargetMode="External"/><Relationship Id="rId8" Type="http://schemas.openxmlformats.org/officeDocument/2006/relationships/hyperlink" Target="mailto:?cc=super1@pitt.edu&amp;body=%3CType%20your%20message%20here%3E%20%20http://www.pitt.edu/~super1/lecture/lec29341/index.htm&amp;subject=Golden%20lecture" TargetMode="Externa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960" y="363600"/>
            <a:ext cx="8839080" cy="19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Всемирная  охрана Здоровья</a:t>
            </a: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7200"/>
            </a:b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Глобальная Сеть в Здравоохранении Проект Суперкурс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Питтсбургский Университет, СШ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99840" y="4501800"/>
            <a:ext cx="5638680" cy="13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строение Всемирной Профилактической Сети для обмена знаниями и иде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front"/>
          <p:cNvPicPr/>
          <p:nvPr/>
        </p:nvPicPr>
        <p:blipFill>
          <a:blip r:embed="rId1"/>
          <a:stretch/>
        </p:blipFill>
        <p:spPr>
          <a:xfrm>
            <a:off x="762120" y="3013200"/>
            <a:ext cx="3584520" cy="11253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6858000" y="3630600"/>
            <a:ext cx="19051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6400800" y="39942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"/>
          <p:cNvPicPr/>
          <p:nvPr/>
        </p:nvPicPr>
        <p:blipFill>
          <a:blip r:embed="rId2"/>
          <a:stretch/>
        </p:blipFill>
        <p:spPr>
          <a:xfrm>
            <a:off x="5638680" y="2946240"/>
            <a:ext cx="2165400" cy="15559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9">
            <a:hlinkClick r:id="rId3"/>
          </p:cNvPr>
          <p:cNvSpPr/>
          <p:nvPr/>
        </p:nvSpPr>
        <p:spPr>
          <a:xfrm>
            <a:off x="131760" y="5794200"/>
            <a:ext cx="8859960" cy="703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Пожалуйста, переправьте эту лекцию студентам,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преподавателям                           и профессионалам здравоохранения в  вашей стр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9" descr="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0"/>
          <p:cNvSpPr/>
          <p:nvPr/>
        </p:nvSpPr>
        <p:spPr>
          <a:xfrm>
            <a:off x="4648320" y="3429000"/>
            <a:ext cx="5333760" cy="2666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сокоразвит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доход на д.н. выше 9206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200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изко-, среднеразвит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ита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фрика, Суб-Саха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3276720" y="3505320"/>
            <a:ext cx="1371600" cy="609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ра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-76320" y="0"/>
            <a:ext cx="1600200" cy="380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8188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акцинация против оспы: уничтожение болезни – это пример глобального решения пробле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533520" y="2647800"/>
            <a:ext cx="2781360" cy="4210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"/>
          <p:cNvPicPr/>
          <p:nvPr/>
        </p:nvPicPr>
        <p:blipFill>
          <a:blip r:embed="rId2"/>
          <a:stretch/>
        </p:blipFill>
        <p:spPr>
          <a:xfrm>
            <a:off x="4800600" y="2514600"/>
            <a:ext cx="3152880" cy="387684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Самые важные проблемы глобального здоровья сегод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нфекционные болезни, болезни матери, перинатальные болезни, нарушения, связанные с питани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еинфекционные болез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рав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883908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уществует множество проблем в области глобального здоровья; профессионалы в различных областях особо выделяют определенные заболеваниям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бы снизить ущерб здоровью, наносимый как инфекционными, так и неинфекционными болезнями, необходим интердисциплинарный подход к решению этих проблем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2971800" y="5057640"/>
            <a:ext cx="2362320" cy="180036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026" descr=""/>
          <p:cNvPicPr/>
          <p:nvPr/>
        </p:nvPicPr>
        <p:blipFill>
          <a:blip r:embed="rId1"/>
          <a:stretch/>
        </p:blipFill>
        <p:spPr>
          <a:xfrm>
            <a:off x="-763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1027"/>
          <p:cNvSpPr/>
          <p:nvPr/>
        </p:nvSpPr>
        <p:spPr>
          <a:xfrm>
            <a:off x="838080" y="0"/>
            <a:ext cx="7620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685800" y="152280"/>
            <a:ext cx="7848720" cy="838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ые причины смертности (США, 1900-197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029"/>
          <p:cNvSpPr/>
          <p:nvPr/>
        </p:nvSpPr>
        <p:spPr>
          <a:xfrm>
            <a:off x="380880" y="1905120"/>
            <a:ext cx="609840" cy="3581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30"/>
          <p:cNvSpPr/>
          <p:nvPr/>
        </p:nvSpPr>
        <p:spPr>
          <a:xfrm flipH="1" flipV="1" rot="5400000">
            <a:off x="46080" y="3319200"/>
            <a:ext cx="158256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%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ех смер-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031"/>
          <p:cNvSpPr/>
          <p:nvPr/>
        </p:nvSpPr>
        <p:spPr>
          <a:xfrm>
            <a:off x="7315200" y="1828800"/>
            <a:ext cx="1523880" cy="3505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Другие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Насилие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Рак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ССЗ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Инфекции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26" descr="bridge"/>
          <p:cNvPicPr/>
          <p:nvPr/>
        </p:nvPicPr>
        <p:blipFill>
          <a:blip r:embed="rId1"/>
          <a:stretch/>
        </p:blipFill>
        <p:spPr>
          <a:xfrm>
            <a:off x="4648320" y="2666880"/>
            <a:ext cx="4038480" cy="36180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1027"/>
          <p:cNvSpPr/>
          <p:nvPr/>
        </p:nvSpPr>
        <p:spPr>
          <a:xfrm>
            <a:off x="380880" y="228600"/>
            <a:ext cx="6782040" cy="56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Разделение мира по степени доступности современных цифровых технологий: разрыв между доступностью и отсутствие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дним из сам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ольших достижен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лобального здоровь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ала доступн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Проблема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: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предоставление друг другу (обмен) информации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484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ажная задача охраны мирового здоровья в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21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м век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отенциальное решение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: WW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Важность знаний</a:t>
            </a:r>
            <a:r>
              <a:rPr b="1" lang="pt-BR" sz="40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обучения</a:t>
            </a:r>
            <a:r>
              <a:rPr b="1" lang="pt-BR" sz="40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инноваций</a:t>
            </a:r>
            <a:r>
              <a:rPr b="1" lang="pt-BR" sz="40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и  информационных технологий (</a:t>
            </a:r>
            <a:r>
              <a:rPr b="1" lang="pt-BR" sz="4000" spc="-1" strike="noStrike">
                <a:solidFill>
                  <a:srgbClr val="333399"/>
                </a:solidFill>
                <a:latin typeface="Arial"/>
              </a:rPr>
              <a:t>I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амый фундаментальный ресурс современной экономики – 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знания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, и, соответственно, самое важное для нее – 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процесс обучения</a:t>
            </a: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Lundvall, Bengt-Åke (1992)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National Systems of Innovation. Towards a Theory of Innovation and Interactive Learning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 Pinter, London and New York, pp. 342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19360" cy="107640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mandela00"/>
          <p:cNvPicPr/>
          <p:nvPr/>
        </p:nvPicPr>
        <p:blipFill>
          <a:blip r:embed="rId1"/>
          <a:stretch/>
        </p:blipFill>
        <p:spPr>
          <a:xfrm>
            <a:off x="533520" y="990720"/>
            <a:ext cx="3333600" cy="49528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3"/>
          <p:cNvSpPr/>
          <p:nvPr/>
        </p:nvSpPr>
        <p:spPr>
          <a:xfrm>
            <a:off x="3962520" y="2017800"/>
            <a:ext cx="5029200" cy="39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  <a:ea typeface="Arial"/>
              </a:rPr>
              <a:t>Education is the most powerful weapon which you can use to change the worl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  <a:ea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  <a:ea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  <a:ea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Arial"/>
              </a:rPr>
              <a:t>Nelson Mande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Object 4" descr=""/>
          <p:cNvPicPr/>
          <p:nvPr/>
        </p:nvPicPr>
        <p:blipFill>
          <a:blip r:embed="rId2"/>
          <a:stretch/>
        </p:blipFill>
        <p:spPr>
          <a:xfrm>
            <a:off x="4680" y="4680"/>
            <a:ext cx="9136080" cy="685008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5"/>
          <p:cNvSpPr/>
          <p:nvPr/>
        </p:nvSpPr>
        <p:spPr>
          <a:xfrm>
            <a:off x="3886200" y="1905120"/>
            <a:ext cx="5257800" cy="30477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разование являе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иболее мощным орудием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 помощью которо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ожно изменить ми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льсон Манде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0" y="204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3"/>
          <p:cNvGrpSpPr/>
          <p:nvPr/>
        </p:nvGrpSpPr>
        <p:grpSpPr>
          <a:xfrm>
            <a:off x="0" y="304920"/>
            <a:ext cx="5555520" cy="3785760"/>
            <a:chOff x="0" y="304920"/>
            <a:chExt cx="5555520" cy="3785760"/>
          </a:xfrm>
        </p:grpSpPr>
        <p:grpSp>
          <p:nvGrpSpPr>
            <p:cNvPr id="130" name="Group 4"/>
            <p:cNvGrpSpPr/>
            <p:nvPr/>
          </p:nvGrpSpPr>
          <p:grpSpPr>
            <a:xfrm>
              <a:off x="0" y="304920"/>
              <a:ext cx="5555520" cy="2909520"/>
              <a:chOff x="0" y="304920"/>
              <a:chExt cx="5555520" cy="2909520"/>
            </a:xfrm>
          </p:grpSpPr>
          <p:grpSp>
            <p:nvGrpSpPr>
              <p:cNvPr id="131" name="Group 5"/>
              <p:cNvGrpSpPr/>
              <p:nvPr/>
            </p:nvGrpSpPr>
            <p:grpSpPr>
              <a:xfrm>
                <a:off x="13320" y="318240"/>
                <a:ext cx="5528520" cy="2882520"/>
                <a:chOff x="13320" y="318240"/>
                <a:chExt cx="5528520" cy="2882520"/>
              </a:xfrm>
            </p:grpSpPr>
            <p:sp>
              <p:nvSpPr>
                <p:cNvPr id="132" name="Rectangle 6"/>
                <p:cNvSpPr/>
                <p:nvPr/>
              </p:nvSpPr>
              <p:spPr>
                <a:xfrm>
                  <a:off x="13320" y="318240"/>
                  <a:ext cx="5528520" cy="288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US" sz="17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                                                         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Rectangle 7"/>
                <p:cNvSpPr/>
                <p:nvPr/>
              </p:nvSpPr>
              <p:spPr>
                <a:xfrm>
                  <a:off x="13320" y="318240"/>
                  <a:ext cx="5528520" cy="288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4" name="Rectangle 8"/>
              <p:cNvSpPr/>
              <p:nvPr/>
            </p:nvSpPr>
            <p:spPr>
              <a:xfrm>
                <a:off x="0" y="304920"/>
                <a:ext cx="5555520" cy="2909520"/>
              </a:xfrm>
              <a:prstGeom prst="rect">
                <a:avLst/>
              </a:prstGeom>
              <a:noFill/>
              <a:ln w="2700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5" name="Picture 9" descr="University of Khartoum Campus Photograph"/>
            <p:cNvPicPr/>
            <p:nvPr/>
          </p:nvPicPr>
          <p:blipFill>
            <a:blip r:embed="rId1"/>
            <a:stretch/>
          </p:blipFill>
          <p:spPr>
            <a:xfrm>
              <a:off x="191520" y="367200"/>
              <a:ext cx="4727520" cy="291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10"/>
            <p:cNvSpPr/>
            <p:nvPr/>
          </p:nvSpPr>
          <p:spPr>
            <a:xfrm>
              <a:off x="1487880" y="3386880"/>
              <a:ext cx="3790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Arial"/>
                </a:rPr>
                <a:t>Университет Хартума, Суда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7" name="Picture 11" descr="Image22"/>
          <p:cNvPicPr/>
          <p:nvPr/>
        </p:nvPicPr>
        <p:blipFill>
          <a:blip r:embed="rId2"/>
          <a:stretch/>
        </p:blipFill>
        <p:spPr>
          <a:xfrm>
            <a:off x="5334120" y="1066680"/>
            <a:ext cx="3382920" cy="47088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12"/>
          <p:cNvSpPr/>
          <p:nvPr/>
        </p:nvSpPr>
        <p:spPr>
          <a:xfrm>
            <a:off x="5481360" y="5916600"/>
            <a:ext cx="347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Университет Каттингто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Либе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3"/>
          <p:cNvSpPr/>
          <p:nvPr/>
        </p:nvSpPr>
        <p:spPr>
          <a:xfrm>
            <a:off x="748440" y="4210200"/>
            <a:ext cx="3414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следн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иомедицинск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журнал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 1990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66"/>
                </a:solidFill>
                <a:latin typeface="Arial"/>
              </a:rPr>
              <a:t>Миссия этой лекц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722600"/>
            <a:ext cx="86868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знакомить с проблемами мирового здоровья каждого студента, изучающего медицину, общественное здоровье, а также тех, кто учится профессии медсестр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оздать всемирную сеть студентов в области мирового здоровья для решения как локальных так и глобальных проблем здоров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MCBD06663_0000[1]"/>
          <p:cNvPicPr/>
          <p:nvPr/>
        </p:nvPicPr>
        <p:blipFill>
          <a:blip r:embed="rId1"/>
          <a:stretch/>
        </p:blipFill>
        <p:spPr>
          <a:xfrm>
            <a:off x="3657600" y="2438280"/>
            <a:ext cx="3124080" cy="2710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[Catalog Image of PIA01462]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2252520" cy="2362320"/>
          </a:xfrm>
          <a:prstGeom prst="rect">
            <a:avLst/>
          </a:prstGeom>
          <a:ln w="0">
            <a:noFill/>
          </a:ln>
        </p:spPr>
      </p:pic>
      <p:pic>
        <p:nvPicPr>
          <p:cNvPr id="143" name="Object 4" descr=""/>
          <p:cNvPicPr/>
          <p:nvPr/>
        </p:nvPicPr>
        <p:blipFill>
          <a:blip r:embed="rId4"/>
          <a:stretch/>
        </p:blipFill>
        <p:spPr>
          <a:xfrm>
            <a:off x="4680" y="4680"/>
            <a:ext cx="9136080" cy="685008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то такое Суперкурс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57150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Суперкурс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глобальная библиотека лекций по профилактике и общественному здоровью, предоставляемых безвозмездно лучшими специалистами ми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7" descr="vint"/>
          <p:cNvPicPr/>
          <p:nvPr/>
        </p:nvPicPr>
        <p:blipFill>
          <a:blip r:embed="rId1"/>
          <a:stretch/>
        </p:blipFill>
        <p:spPr>
          <a:xfrm>
            <a:off x="4191120" y="4191120"/>
            <a:ext cx="3124080" cy="234288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5"/>
          <p:cNvSpPr/>
          <p:nvPr/>
        </p:nvSpPr>
        <p:spPr>
          <a:xfrm>
            <a:off x="2057400" y="838080"/>
            <a:ext cx="3809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pitt.edu/~super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9" descr=""/>
          <p:cNvPicPr/>
          <p:nvPr/>
        </p:nvPicPr>
        <p:blipFill>
          <a:blip r:embed="rId3"/>
          <a:stretch/>
        </p:blipFill>
        <p:spPr>
          <a:xfrm>
            <a:off x="838080" y="4343400"/>
            <a:ext cx="2916360" cy="2187720"/>
          </a:xfrm>
          <a:prstGeom prst="rect">
            <a:avLst/>
          </a:prstGeom>
          <a:ln w="0">
            <a:noFill/>
          </a:ln>
        </p:spPr>
      </p:pic>
      <p:sp>
        <p:nvSpPr>
          <p:cNvPr id="150" name="Picture 11"/>
          <p:cNvSpPr/>
          <p:nvPr/>
        </p:nvSpPr>
        <p:spPr>
          <a:xfrm>
            <a:off x="5715000" y="1523880"/>
            <a:ext cx="30481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Group 2"/>
          <p:cNvGrpSpPr/>
          <p:nvPr/>
        </p:nvGrpSpPr>
        <p:grpSpPr>
          <a:xfrm>
            <a:off x="1801800" y="1447920"/>
            <a:ext cx="6450120" cy="4495320"/>
            <a:chOff x="1801800" y="1447920"/>
            <a:chExt cx="6450120" cy="4495320"/>
          </a:xfrm>
        </p:grpSpPr>
        <p:sp>
          <p:nvSpPr>
            <p:cNvPr id="153" name="AutoShape 3"/>
            <p:cNvSpPr/>
            <p:nvPr/>
          </p:nvSpPr>
          <p:spPr>
            <a:xfrm rot="16200000">
              <a:off x="4032360" y="-311760"/>
              <a:ext cx="1614960" cy="5134320"/>
            </a:xfrm>
            <a:custGeom>
              <a:avLst/>
              <a:gdLst>
                <a:gd name="textAreaLeft" fmla="*/ 216360 w 1614960"/>
                <a:gd name="textAreaRight" fmla="*/ 1398600 w 1614960"/>
                <a:gd name="textAreaTop" fmla="*/ 898560 h 5134320"/>
                <a:gd name="textAreaBottom" fmla="*/ 3722400 h 5134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AutoShape 4"/>
            <p:cNvSpPr/>
            <p:nvPr/>
          </p:nvSpPr>
          <p:spPr>
            <a:xfrm rot="5400000">
              <a:off x="3621600" y="2568240"/>
              <a:ext cx="1614960" cy="5134320"/>
            </a:xfrm>
            <a:custGeom>
              <a:avLst/>
              <a:gdLst>
                <a:gd name="textAreaLeft" fmla="*/ 216360 w 1614960"/>
                <a:gd name="textAreaRight" fmla="*/ 1398600 w 1614960"/>
                <a:gd name="textAreaTop" fmla="*/ 898560 h 5134320"/>
                <a:gd name="textAreaBottom" fmla="*/ 3722400 h 5134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bbe0e3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5"/>
            <p:cNvSpPr/>
            <p:nvPr/>
          </p:nvSpPr>
          <p:spPr>
            <a:xfrm>
              <a:off x="1801800" y="3258360"/>
              <a:ext cx="1639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Biomedic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Resear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6"/>
            <p:cNvSpPr/>
            <p:nvPr/>
          </p:nvSpPr>
          <p:spPr>
            <a:xfrm>
              <a:off x="5046120" y="3220560"/>
              <a:ext cx="3205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Education in Medicin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and Public Heal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WordArt 7"/>
          <p:cNvSpPr txBox="1"/>
          <p:nvPr/>
        </p:nvSpPr>
        <p:spPr>
          <a:xfrm>
            <a:off x="152280" y="304920"/>
            <a:ext cx="5029200" cy="7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Circle of Learning</a:t>
            </a:r>
            <a:endParaRPr b="0" lang="en-US" sz="5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58" name="Group 8"/>
          <p:cNvGrpSpPr/>
          <p:nvPr/>
        </p:nvGrpSpPr>
        <p:grpSpPr>
          <a:xfrm>
            <a:off x="3962520" y="2057400"/>
            <a:ext cx="1390680" cy="3306600"/>
            <a:chOff x="3962520" y="2057400"/>
            <a:chExt cx="1390680" cy="3306600"/>
          </a:xfrm>
        </p:grpSpPr>
        <p:pic>
          <p:nvPicPr>
            <p:cNvPr id="159" name="Picture 9" descr="front"/>
            <p:cNvPicPr/>
            <p:nvPr/>
          </p:nvPicPr>
          <p:blipFill>
            <a:blip r:embed="rId1"/>
            <a:stretch/>
          </p:blipFill>
          <p:spPr>
            <a:xfrm>
              <a:off x="4038480" y="4952880"/>
              <a:ext cx="1314720" cy="41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Picture 10" descr="front"/>
            <p:cNvPicPr/>
            <p:nvPr/>
          </p:nvPicPr>
          <p:blipFill>
            <a:blip r:embed="rId2"/>
            <a:stretch/>
          </p:blipFill>
          <p:spPr>
            <a:xfrm>
              <a:off x="3962520" y="2057400"/>
              <a:ext cx="1314360" cy="41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Rectangle 11"/>
          <p:cNvSpPr/>
          <p:nvPr/>
        </p:nvSpPr>
        <p:spPr>
          <a:xfrm>
            <a:off x="152280" y="304920"/>
            <a:ext cx="5257800" cy="838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Цикл обу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2"/>
          <p:cNvSpPr/>
          <p:nvPr/>
        </p:nvSpPr>
        <p:spPr>
          <a:xfrm>
            <a:off x="228600" y="3276720"/>
            <a:ext cx="4267080" cy="838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иомедицинск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след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3"/>
          <p:cNvSpPr/>
          <p:nvPr/>
        </p:nvSpPr>
        <p:spPr>
          <a:xfrm>
            <a:off x="4495680" y="3124080"/>
            <a:ext cx="4267440" cy="838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разование в обла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дицины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щественного здоров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бмен информацией по глобальному здоровью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D/DVD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Суперкур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8" descr="CD"/>
          <p:cNvPicPr/>
          <p:nvPr/>
        </p:nvPicPr>
        <p:blipFill>
          <a:blip r:embed="rId1"/>
          <a:stretch/>
        </p:blipFill>
        <p:spPr>
          <a:xfrm>
            <a:off x="3367080" y="2467080"/>
            <a:ext cx="2409840" cy="279072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10"/>
          <p:cNvSpPr/>
          <p:nvPr/>
        </p:nvSpPr>
        <p:spPr>
          <a:xfrm>
            <a:off x="609480" y="54864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иски были посланы более чем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10,000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пециалистам по всему мир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оздание се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8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2971800" cy="19699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0" descr=""/>
          <p:cNvPicPr/>
          <p:nvPr/>
        </p:nvPicPr>
        <p:blipFill>
          <a:blip r:embed="rId2"/>
          <a:stretch/>
        </p:blipFill>
        <p:spPr>
          <a:xfrm>
            <a:off x="685800" y="396252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2" descr=""/>
          <p:cNvPicPr/>
          <p:nvPr/>
        </p:nvPicPr>
        <p:blipFill>
          <a:blip r:embed="rId3"/>
          <a:stretch/>
        </p:blipFill>
        <p:spPr>
          <a:xfrm>
            <a:off x="4648320" y="2895480"/>
            <a:ext cx="2133360" cy="162576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лобальное здоровье – предмет большой важности, т.к. одни и те же болезни и проблемы здоровья преследуют как жителей развивающихся, так и развитых стра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должительность жизни в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м веке была увеличена благодаря успехам в области охраны мирового здоров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уденты медицинских сециальностей должны больше знать об исследованиях в области  глобального здоровья и включаться в интернет сеть для обмена важной и своевременной информацией по проблемам здоровья в ми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рганизации, работающие в области глобального здоровь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orld Health Organiza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an American Health Organiza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orld Bank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UNICEF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UN High Commissioner for Refuge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UN Founda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Bill and Melinda Gates Founda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CARE Internationa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Global Health Counci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 многие друг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2"/>
          <p:cNvSpPr/>
          <p:nvPr/>
        </p:nvSpPr>
        <p:spPr>
          <a:xfrm>
            <a:off x="4419720" y="6705720"/>
            <a:ext cx="380880" cy="38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lnTo>
                  <a:pt x="10800" y="10800"/>
                </a:lnTo>
                <a:lnTo>
                  <a:pt x="10800" y="0"/>
                </a:lnTo>
                <a:lnTo>
                  <a:pt x="10800" y="10800"/>
                </a:lnTo>
                <a:lnTo>
                  <a:pt x="21600" y="10800"/>
                </a:lnTo>
                <a:lnTo>
                  <a:pt x="10800" y="10800"/>
                </a:lnTo>
                <a:lnTo>
                  <a:pt x="10800" y="21600"/>
                </a:lnTo>
                <a:lnTo>
                  <a:pt x="10800" y="10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3"/>
          <p:cNvGrpSpPr/>
          <p:nvPr/>
        </p:nvGrpSpPr>
        <p:grpSpPr>
          <a:xfrm>
            <a:off x="4267080" y="1752480"/>
            <a:ext cx="4572000" cy="3047760"/>
            <a:chOff x="4267080" y="1752480"/>
            <a:chExt cx="4572000" cy="3047760"/>
          </a:xfrm>
        </p:grpSpPr>
        <p:pic>
          <p:nvPicPr>
            <p:cNvPr id="182" name="Picture 4" descr="world-map-sm"/>
            <p:cNvPicPr/>
            <p:nvPr/>
          </p:nvPicPr>
          <p:blipFill>
            <a:blip r:embed="rId1"/>
            <a:stretch/>
          </p:blipFill>
          <p:spPr>
            <a:xfrm>
              <a:off x="4267080" y="1752480"/>
              <a:ext cx="4572000" cy="30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AutoShape 5"/>
            <p:cNvSpPr/>
            <p:nvPr/>
          </p:nvSpPr>
          <p:spPr>
            <a:xfrm>
              <a:off x="6665400" y="3077280"/>
              <a:ext cx="374400" cy="428040"/>
            </a:xfrm>
            <a:custGeom>
              <a:avLst/>
              <a:gdLst>
                <a:gd name="textAreaLeft" fmla="*/ 154080 w 374400"/>
                <a:gd name="textAreaRight" fmla="*/ 220320 w 374400"/>
                <a:gd name="textAreaTop" fmla="*/ 176400 h 428040"/>
                <a:gd name="textAreaBottom" fmla="*/ 251640 h 42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6"/>
            <p:cNvSpPr/>
            <p:nvPr/>
          </p:nvSpPr>
          <p:spPr>
            <a:xfrm>
              <a:off x="5166360" y="2820600"/>
              <a:ext cx="374760" cy="428040"/>
            </a:xfrm>
            <a:custGeom>
              <a:avLst/>
              <a:gdLst>
                <a:gd name="textAreaLeft" fmla="*/ 154440 w 374760"/>
                <a:gd name="textAreaRight" fmla="*/ 220320 w 374760"/>
                <a:gd name="textAreaTop" fmla="*/ 176400 h 428040"/>
                <a:gd name="textAreaBottom" fmla="*/ 251640 h 42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7"/>
            <p:cNvSpPr/>
            <p:nvPr/>
          </p:nvSpPr>
          <p:spPr>
            <a:xfrm>
              <a:off x="7189920" y="2392560"/>
              <a:ext cx="374760" cy="427680"/>
            </a:xfrm>
            <a:custGeom>
              <a:avLst/>
              <a:gdLst>
                <a:gd name="textAreaLeft" fmla="*/ 154440 w 374760"/>
                <a:gd name="textAreaRight" fmla="*/ 220320 w 374760"/>
                <a:gd name="textAreaTop" fmla="*/ 176040 h 427680"/>
                <a:gd name="textAreaBottom" fmla="*/ 251640 h 42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8"/>
            <p:cNvSpPr/>
            <p:nvPr/>
          </p:nvSpPr>
          <p:spPr>
            <a:xfrm>
              <a:off x="6740280" y="2820600"/>
              <a:ext cx="374760" cy="428040"/>
            </a:xfrm>
            <a:custGeom>
              <a:avLst/>
              <a:gdLst>
                <a:gd name="textAreaLeft" fmla="*/ 154440 w 374760"/>
                <a:gd name="textAreaRight" fmla="*/ 220320 w 374760"/>
                <a:gd name="textAreaTop" fmla="*/ 176400 h 428040"/>
                <a:gd name="textAreaBottom" fmla="*/ 251640 h 42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9"/>
            <p:cNvSpPr/>
            <p:nvPr/>
          </p:nvSpPr>
          <p:spPr>
            <a:xfrm>
              <a:off x="7864560" y="2906280"/>
              <a:ext cx="374760" cy="427680"/>
            </a:xfrm>
            <a:custGeom>
              <a:avLst/>
              <a:gdLst>
                <a:gd name="textAreaLeft" fmla="*/ 154440 w 374760"/>
                <a:gd name="textAreaRight" fmla="*/ 220320 w 374760"/>
                <a:gd name="textAreaTop" fmla="*/ 176040 h 427680"/>
                <a:gd name="textAreaBottom" fmla="*/ 251640 h 42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10"/>
            <p:cNvSpPr/>
            <p:nvPr/>
          </p:nvSpPr>
          <p:spPr>
            <a:xfrm>
              <a:off x="8014680" y="2820600"/>
              <a:ext cx="374400" cy="428040"/>
            </a:xfrm>
            <a:custGeom>
              <a:avLst/>
              <a:gdLst>
                <a:gd name="textAreaLeft" fmla="*/ 154080 w 374400"/>
                <a:gd name="textAreaRight" fmla="*/ 220320 w 374400"/>
                <a:gd name="textAreaTop" fmla="*/ 176400 h 428040"/>
                <a:gd name="textAreaBottom" fmla="*/ 251640 h 42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AutoShape 11"/>
            <p:cNvSpPr/>
            <p:nvPr/>
          </p:nvSpPr>
          <p:spPr>
            <a:xfrm>
              <a:off x="7939440" y="2649240"/>
              <a:ext cx="374400" cy="427680"/>
            </a:xfrm>
            <a:custGeom>
              <a:avLst/>
              <a:gdLst>
                <a:gd name="textAreaLeft" fmla="*/ 154080 w 374400"/>
                <a:gd name="textAreaRight" fmla="*/ 220320 w 374400"/>
                <a:gd name="textAreaTop" fmla="*/ 176040 h 427680"/>
                <a:gd name="textAreaBottom" fmla="*/ 251640 h 42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AutoShape 12"/>
            <p:cNvSpPr/>
            <p:nvPr/>
          </p:nvSpPr>
          <p:spPr>
            <a:xfrm>
              <a:off x="7189920" y="3162960"/>
              <a:ext cx="374760" cy="427680"/>
            </a:xfrm>
            <a:custGeom>
              <a:avLst/>
              <a:gdLst>
                <a:gd name="textAreaLeft" fmla="*/ 154440 w 374760"/>
                <a:gd name="textAreaRight" fmla="*/ 220320 w 374760"/>
                <a:gd name="textAreaTop" fmla="*/ 176040 h 427680"/>
                <a:gd name="textAreaBottom" fmla="*/ 251640 h 42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AutoShape 13"/>
            <p:cNvSpPr/>
            <p:nvPr/>
          </p:nvSpPr>
          <p:spPr>
            <a:xfrm>
              <a:off x="7040160" y="2991960"/>
              <a:ext cx="374400" cy="427680"/>
            </a:xfrm>
            <a:custGeom>
              <a:avLst/>
              <a:gdLst>
                <a:gd name="textAreaLeft" fmla="*/ 154080 w 374400"/>
                <a:gd name="textAreaRight" fmla="*/ 220320 w 374400"/>
                <a:gd name="textAreaTop" fmla="*/ 176040 h 427680"/>
                <a:gd name="textAreaBottom" fmla="*/ 251640 h 42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AutoShape 14"/>
            <p:cNvSpPr/>
            <p:nvPr/>
          </p:nvSpPr>
          <p:spPr>
            <a:xfrm>
              <a:off x="6815160" y="2392560"/>
              <a:ext cx="374400" cy="427680"/>
            </a:xfrm>
            <a:custGeom>
              <a:avLst/>
              <a:gdLst>
                <a:gd name="textAreaLeft" fmla="*/ 154080 w 374400"/>
                <a:gd name="textAreaRight" fmla="*/ 220320 w 374400"/>
                <a:gd name="textAreaTop" fmla="*/ 176040 h 427680"/>
                <a:gd name="textAreaBottom" fmla="*/ 251640 h 42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WordArt 15"/>
          <p:cNvSpPr txBox="1"/>
          <p:nvPr/>
        </p:nvSpPr>
        <p:spPr>
          <a:xfrm>
            <a:off x="609480" y="533520"/>
            <a:ext cx="402912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Narrow"/>
              </a:rPr>
              <a:t>Supercourse Core</a:t>
            </a:r>
            <a:endParaRPr b="0" lang="en-US" sz="4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Narrow"/>
              <a:ea typeface="Arial Narrow"/>
            </a:endParaRPr>
          </a:p>
        </p:txBody>
      </p:sp>
      <p:grpSp>
        <p:nvGrpSpPr>
          <p:cNvPr id="194" name="Group 16"/>
          <p:cNvGrpSpPr/>
          <p:nvPr/>
        </p:nvGrpSpPr>
        <p:grpSpPr>
          <a:xfrm>
            <a:off x="212040" y="1676520"/>
            <a:ext cx="3798000" cy="4781520"/>
            <a:chOff x="212040" y="1676520"/>
            <a:chExt cx="3798000" cy="4781520"/>
          </a:xfrm>
        </p:grpSpPr>
        <p:sp>
          <p:nvSpPr>
            <p:cNvPr id="195" name="Line 17"/>
            <p:cNvSpPr/>
            <p:nvPr/>
          </p:nvSpPr>
          <p:spPr>
            <a:xfrm flipH="1">
              <a:off x="509400" y="2359080"/>
              <a:ext cx="563400" cy="1023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18"/>
            <p:cNvSpPr/>
            <p:nvPr/>
          </p:nvSpPr>
          <p:spPr>
            <a:xfrm flipV="1">
              <a:off x="1212840" y="2085480"/>
              <a:ext cx="985680" cy="27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19"/>
            <p:cNvSpPr/>
            <p:nvPr/>
          </p:nvSpPr>
          <p:spPr>
            <a:xfrm flipH="1">
              <a:off x="1634760" y="2154240"/>
              <a:ext cx="563400" cy="129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20"/>
            <p:cNvSpPr/>
            <p:nvPr/>
          </p:nvSpPr>
          <p:spPr>
            <a:xfrm flipH="1">
              <a:off x="1072800" y="3519360"/>
              <a:ext cx="492120" cy="95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21"/>
            <p:cNvSpPr/>
            <p:nvPr/>
          </p:nvSpPr>
          <p:spPr>
            <a:xfrm>
              <a:off x="509760" y="3519360"/>
              <a:ext cx="633240" cy="95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22"/>
            <p:cNvSpPr/>
            <p:nvPr/>
          </p:nvSpPr>
          <p:spPr>
            <a:xfrm>
              <a:off x="2270160" y="2154240"/>
              <a:ext cx="1195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23"/>
            <p:cNvSpPr/>
            <p:nvPr/>
          </p:nvSpPr>
          <p:spPr>
            <a:xfrm flipH="1">
              <a:off x="2550960" y="2222640"/>
              <a:ext cx="914400" cy="12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24"/>
            <p:cNvSpPr/>
            <p:nvPr/>
          </p:nvSpPr>
          <p:spPr>
            <a:xfrm>
              <a:off x="2762280" y="3451320"/>
              <a:ext cx="844560" cy="68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5"/>
            <p:cNvSpPr/>
            <p:nvPr/>
          </p:nvSpPr>
          <p:spPr>
            <a:xfrm flipH="1">
              <a:off x="2973240" y="3587760"/>
              <a:ext cx="633600" cy="1023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26"/>
            <p:cNvSpPr/>
            <p:nvPr/>
          </p:nvSpPr>
          <p:spPr>
            <a:xfrm flipH="1" flipV="1">
              <a:off x="2128680" y="4543200"/>
              <a:ext cx="844560" cy="136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7"/>
            <p:cNvSpPr/>
            <p:nvPr/>
          </p:nvSpPr>
          <p:spPr>
            <a:xfrm flipH="1">
              <a:off x="1706040" y="4611600"/>
              <a:ext cx="422280" cy="12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28"/>
            <p:cNvSpPr/>
            <p:nvPr/>
          </p:nvSpPr>
          <p:spPr>
            <a:xfrm>
              <a:off x="1212840" y="4475160"/>
              <a:ext cx="493560" cy="129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29"/>
            <p:cNvSpPr/>
            <p:nvPr/>
          </p:nvSpPr>
          <p:spPr>
            <a:xfrm>
              <a:off x="1284120" y="4475160"/>
              <a:ext cx="914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30"/>
            <p:cNvSpPr/>
            <p:nvPr/>
          </p:nvSpPr>
          <p:spPr>
            <a:xfrm flipH="1">
              <a:off x="2128320" y="3519360"/>
              <a:ext cx="422280" cy="95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31"/>
            <p:cNvSpPr/>
            <p:nvPr/>
          </p:nvSpPr>
          <p:spPr>
            <a:xfrm>
              <a:off x="1635120" y="3519360"/>
              <a:ext cx="846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32"/>
            <p:cNvSpPr/>
            <p:nvPr/>
          </p:nvSpPr>
          <p:spPr>
            <a:xfrm>
              <a:off x="650880" y="3451320"/>
              <a:ext cx="773280" cy="68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33"/>
            <p:cNvSpPr/>
            <p:nvPr/>
          </p:nvSpPr>
          <p:spPr>
            <a:xfrm>
              <a:off x="2198520" y="2154240"/>
              <a:ext cx="352440" cy="1160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2" name="Picture 34" descr="abed"/>
            <p:cNvPicPr/>
            <p:nvPr/>
          </p:nvPicPr>
          <p:blipFill>
            <a:blip r:embed="rId4"/>
            <a:stretch/>
          </p:blipFill>
          <p:spPr>
            <a:xfrm>
              <a:off x="1847880" y="4133880"/>
              <a:ext cx="652320" cy="82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Picture 35" descr="eun"/>
            <p:cNvPicPr/>
            <p:nvPr/>
          </p:nvPicPr>
          <p:blipFill>
            <a:blip r:embed="rId5"/>
            <a:stretch/>
          </p:blipFill>
          <p:spPr>
            <a:xfrm>
              <a:off x="2340000" y="3041640"/>
              <a:ext cx="665280" cy="84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Picture 36" descr="akira"/>
            <p:cNvPicPr/>
            <p:nvPr/>
          </p:nvPicPr>
          <p:blipFill>
            <a:blip r:embed="rId6"/>
            <a:stretch/>
          </p:blipFill>
          <p:spPr>
            <a:xfrm>
              <a:off x="3254400" y="3110040"/>
              <a:ext cx="755640" cy="90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Picture 37" descr="ron"/>
            <p:cNvPicPr/>
            <p:nvPr/>
          </p:nvPicPr>
          <p:blipFill>
            <a:blip r:embed="rId7"/>
            <a:stretch/>
          </p:blipFill>
          <p:spPr>
            <a:xfrm>
              <a:off x="720720" y="1881360"/>
              <a:ext cx="730080" cy="92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Picture 38" descr="faina"/>
            <p:cNvPicPr/>
            <p:nvPr/>
          </p:nvPicPr>
          <p:blipFill>
            <a:blip r:embed="rId8"/>
            <a:stretch/>
          </p:blipFill>
          <p:spPr>
            <a:xfrm>
              <a:off x="1847880" y="1676520"/>
              <a:ext cx="617400" cy="8427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217" name="Object 1"/>
            <p:cNvGraphicFramePr/>
            <p:nvPr/>
          </p:nvGraphicFramePr>
          <p:xfrm>
            <a:off x="228600" y="3041640"/>
            <a:ext cx="623880" cy="8445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18" name="Object 1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28600" y="3041640"/>
                      <a:ext cx="623880" cy="84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9" name="Text Box 40"/>
            <p:cNvSpPr/>
            <p:nvPr/>
          </p:nvSpPr>
          <p:spPr>
            <a:xfrm>
              <a:off x="854640" y="283680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cc00"/>
                  </a:solidFill>
                  <a:latin typeface="Tahoma"/>
                  <a:ea typeface="Arial"/>
                </a:rPr>
                <a:t>R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41"/>
            <p:cNvSpPr/>
            <p:nvPr/>
          </p:nvSpPr>
          <p:spPr>
            <a:xfrm>
              <a:off x="1906920" y="2562120"/>
              <a:ext cx="564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cc00"/>
                  </a:solidFill>
                  <a:latin typeface="Tahoma"/>
                  <a:ea typeface="Arial"/>
                </a:rPr>
                <a:t>Fai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42"/>
            <p:cNvSpPr/>
            <p:nvPr/>
          </p:nvSpPr>
          <p:spPr>
            <a:xfrm>
              <a:off x="3241440" y="2700360"/>
              <a:ext cx="49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cc00"/>
                  </a:solidFill>
                  <a:latin typeface="Tahoma"/>
                  <a:ea typeface="Arial"/>
                </a:rPr>
                <a:t>Mi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43"/>
            <p:cNvSpPr/>
            <p:nvPr/>
          </p:nvSpPr>
          <p:spPr>
            <a:xfrm>
              <a:off x="212040" y="3929040"/>
              <a:ext cx="72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cc00"/>
                  </a:solidFill>
                  <a:latin typeface="Tahoma"/>
                  <a:ea typeface="Arial"/>
                </a:rPr>
                <a:t>Euge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44"/>
            <p:cNvSpPr/>
            <p:nvPr/>
          </p:nvSpPr>
          <p:spPr>
            <a:xfrm>
              <a:off x="3312360" y="406548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cc00"/>
                  </a:solidFill>
                  <a:latin typeface="Tahoma"/>
                  <a:ea typeface="Arial"/>
                </a:rPr>
                <a:t>Aki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45"/>
            <p:cNvSpPr/>
            <p:nvPr/>
          </p:nvSpPr>
          <p:spPr>
            <a:xfrm>
              <a:off x="1488240" y="6181560"/>
              <a:ext cx="579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cc00"/>
                  </a:solidFill>
                  <a:latin typeface="Tahoma"/>
                  <a:ea typeface="Arial"/>
                </a:rPr>
                <a:t>Ran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46"/>
            <p:cNvSpPr/>
            <p:nvPr/>
          </p:nvSpPr>
          <p:spPr>
            <a:xfrm>
              <a:off x="2241360" y="3859200"/>
              <a:ext cx="97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cc00"/>
                  </a:solidFill>
                  <a:latin typeface="Tahoma"/>
                  <a:ea typeface="Arial"/>
                </a:rPr>
                <a:t>Eunryou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47"/>
            <p:cNvSpPr/>
            <p:nvPr/>
          </p:nvSpPr>
          <p:spPr>
            <a:xfrm>
              <a:off x="2672640" y="5227560"/>
              <a:ext cx="89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cc00"/>
                  </a:solidFill>
                  <a:latin typeface="Tahoma"/>
                  <a:ea typeface="Arial"/>
                </a:rPr>
                <a:t>Ezzelde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48"/>
            <p:cNvSpPr/>
            <p:nvPr/>
          </p:nvSpPr>
          <p:spPr>
            <a:xfrm>
              <a:off x="1904400" y="5089680"/>
              <a:ext cx="55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cc00"/>
                  </a:solidFill>
                  <a:latin typeface="Tahoma"/>
                  <a:ea typeface="Arial"/>
                </a:rPr>
                <a:t>Ab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49"/>
            <p:cNvSpPr/>
            <p:nvPr/>
          </p:nvSpPr>
          <p:spPr>
            <a:xfrm>
              <a:off x="1343880" y="3929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cc00"/>
                  </a:solidFill>
                  <a:latin typeface="Tahoma"/>
                  <a:ea typeface="Arial"/>
                </a:rPr>
                <a:t>Son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9" name="Picture 50" descr="mita"/>
            <p:cNvPicPr/>
            <p:nvPr/>
          </p:nvPicPr>
          <p:blipFill>
            <a:blip r:embed="rId11"/>
            <a:stretch/>
          </p:blipFill>
          <p:spPr>
            <a:xfrm>
              <a:off x="3184560" y="1812960"/>
              <a:ext cx="641160" cy="84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Text Box 51"/>
            <p:cNvSpPr/>
            <p:nvPr/>
          </p:nvSpPr>
          <p:spPr>
            <a:xfrm>
              <a:off x="555480" y="4729320"/>
              <a:ext cx="184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1" name="Picture 52" descr="Rania"/>
            <p:cNvPicPr/>
            <p:nvPr/>
          </p:nvPicPr>
          <p:blipFill>
            <a:blip r:embed="rId12"/>
            <a:stretch/>
          </p:blipFill>
          <p:spPr>
            <a:xfrm>
              <a:off x="1425600" y="5362560"/>
              <a:ext cx="655560" cy="76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53" descr="soni"/>
            <p:cNvPicPr/>
            <p:nvPr/>
          </p:nvPicPr>
          <p:blipFill>
            <a:blip r:embed="rId13"/>
            <a:stretch/>
          </p:blipFill>
          <p:spPr>
            <a:xfrm>
              <a:off x="1284120" y="2973240"/>
              <a:ext cx="694080" cy="93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Picture 54" descr="scan0008"/>
            <p:cNvPicPr/>
            <p:nvPr/>
          </p:nvPicPr>
          <p:blipFill>
            <a:blip r:embed="rId14"/>
            <a:stretch/>
          </p:blipFill>
          <p:spPr>
            <a:xfrm>
              <a:off x="2762280" y="4270320"/>
              <a:ext cx="628560" cy="88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55" descr=""/>
            <p:cNvPicPr/>
            <p:nvPr/>
          </p:nvPicPr>
          <p:blipFill>
            <a:blip r:embed="rId15"/>
            <a:stretch/>
          </p:blipFill>
          <p:spPr>
            <a:xfrm>
              <a:off x="792000" y="4270320"/>
              <a:ext cx="60804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Text Box 56"/>
            <p:cNvSpPr/>
            <p:nvPr/>
          </p:nvSpPr>
          <p:spPr>
            <a:xfrm>
              <a:off x="692280" y="5157720"/>
              <a:ext cx="704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00"/>
                  </a:solidFill>
                  <a:latin typeface="Tahoma"/>
                  <a:ea typeface="Arial"/>
                </a:rPr>
                <a:t>Mon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6" name="Object 0" descr=""/>
          <p:cNvPicPr/>
          <p:nvPr/>
        </p:nvPicPr>
        <p:blipFill>
          <a:blip r:embed="rId16"/>
          <a:stretch/>
        </p:blipFill>
        <p:spPr>
          <a:xfrm>
            <a:off x="4680" y="4680"/>
            <a:ext cx="9136080" cy="685008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58"/>
          <p:cNvSpPr/>
          <p:nvPr/>
        </p:nvSpPr>
        <p:spPr>
          <a:xfrm>
            <a:off x="609480" y="533520"/>
            <a:ext cx="4419720" cy="914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Команда Суперкур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-152640" y="334800"/>
            <a:ext cx="60958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ополнительная литерату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ткрытый источник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pitt.edu/~super1/lecture/lec6921/index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уперкурс и обучение управления катастроф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pitt.edu/~super1/lecture/lec21601/index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оциальные эпидемиологические методы в исследованиях здоровья и интернациональных популяций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pitt.edu/~super1/lecture/lec17561/index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инципы синтеза исследов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pitt.edu/~super1/lecture/lec9611/index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4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334120" y="457200"/>
            <a:ext cx="3657600" cy="101124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5">
            <a:hlinkClick r:id="rId7"/>
          </p:cNvPr>
          <p:cNvSpPr/>
          <p:nvPr/>
        </p:nvSpPr>
        <p:spPr>
          <a:xfrm>
            <a:off x="5410080" y="685800"/>
            <a:ext cx="3429000" cy="533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Пошлите эту лекцию друг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533520"/>
            <a:ext cx="7162920" cy="123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Всемирная декларация прав человека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830556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ждый человек имеет право на такой уровень жизни, который способствует здоровью и процветанию всем членам своей семьи, включающий питание, одежду, достойное жилище и надлежащее медицинское обслуживани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мирная декларация прав человек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, 19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нтернациональное здоровь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1288440" y="2206800"/>
            <a:ext cx="70509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тернациональное здоровь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условлено взаимосвязанны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стоянием здоровья людей по все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иру и зависимо от действ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улучшению здоровья дл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сех людей и в каждой стра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аст, Фоу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03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щественное здоровье, медицина и медсестринский ухо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венья одной моза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609480" y="2362320"/>
            <a:ext cx="2428920" cy="16002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6248520" y="1752120"/>
            <a:ext cx="1606320" cy="21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3" descr=""/>
          <p:cNvPicPr/>
          <p:nvPr/>
        </p:nvPicPr>
        <p:blipFill>
          <a:blip r:embed="rId2"/>
          <a:stretch/>
        </p:blipFill>
        <p:spPr>
          <a:xfrm>
            <a:off x="3662280" y="4495680"/>
            <a:ext cx="2205000" cy="2187720"/>
          </a:xfrm>
          <a:prstGeom prst="rect">
            <a:avLst/>
          </a:prstGeom>
          <a:ln w="0">
            <a:noFill/>
          </a:ln>
        </p:spPr>
      </p:pic>
      <p:sp>
        <p:nvSpPr>
          <p:cNvPr id="69" name="Line 15"/>
          <p:cNvSpPr/>
          <p:nvPr/>
        </p:nvSpPr>
        <p:spPr>
          <a:xfrm flipV="1">
            <a:off x="3809880" y="1676520"/>
            <a:ext cx="14479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7"/>
          <p:cNvSpPr/>
          <p:nvPr/>
        </p:nvSpPr>
        <p:spPr>
          <a:xfrm flipH="1" flipV="1">
            <a:off x="1447560" y="4876920"/>
            <a:ext cx="1600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8" descr="globus2"/>
          <p:cNvPicPr/>
          <p:nvPr/>
        </p:nvPicPr>
        <p:blipFill>
          <a:blip r:embed="rId3"/>
          <a:stretch/>
        </p:blipFill>
        <p:spPr>
          <a:xfrm>
            <a:off x="3733920" y="2666880"/>
            <a:ext cx="1533240" cy="1514520"/>
          </a:xfrm>
          <a:prstGeom prst="rect">
            <a:avLst/>
          </a:prstGeom>
          <a:ln w="0">
            <a:noFill/>
          </a:ln>
        </p:spPr>
      </p:pic>
      <p:sp>
        <p:nvSpPr>
          <p:cNvPr id="72" name="Line 20"/>
          <p:cNvSpPr/>
          <p:nvPr/>
        </p:nvSpPr>
        <p:spPr>
          <a:xfrm flipH="1">
            <a:off x="6629400" y="4495680"/>
            <a:ext cx="99072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819160" y="609480"/>
            <a:ext cx="6476760" cy="559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лобальное здоровье – это важный новый термин, а также новая концепция.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Институт медицины»(США) определяет глобальное здоровье ка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«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 задачи и подходы в области здоровья, которые преступают пределы национальных границ, испытывают влияние условий и опыта других стран, и которые могут быть эффективнее осуществлены совместными действиями и  решениям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0" y="990720"/>
            <a:ext cx="2557440" cy="411480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258480"/>
            <a:ext cx="792504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Почему студенты медицинских специальностей должны изучать глобальное здоровь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2280" y="182880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годня в расписании медицинских школ совсем немного лекций по глобальному здоровью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доровье становится глобальной проблемой, причем хронические болезни выходят на первое место во всем мире по уровню смертност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щательнее изучая исследования в области глобального здоровья, студенты медицинского направления станут более подготовленными к решению новых проблем, которого потребует  их уникальная профессия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028" descr=""/>
          <p:cNvPicPr/>
          <p:nvPr/>
        </p:nvPicPr>
        <p:blipFill>
          <a:blip r:embed="rId1"/>
          <a:stretch/>
        </p:blipFill>
        <p:spPr>
          <a:xfrm>
            <a:off x="8086680" y="152280"/>
            <a:ext cx="981000" cy="107640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Что студентам медицинских специальностей необходимо знать о глобальном здоровь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нать, чем отличаются глобальные исследования в области здоровья от исследований интернациональ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танавливать ключевые задачи глобального здоров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нимать важность и необходимость делиться информацией в области здоровь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ознавать важность профилактических мер в улучшении глобального здоров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нимать необходимость всемирной интернет сети для улучшения глобального здоровья на местах и в мировом масштаб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028" descr=""/>
          <p:cNvPicPr/>
          <p:nvPr/>
        </p:nvPicPr>
        <p:blipFill>
          <a:blip r:embed="rId1"/>
          <a:stretch/>
        </p:blipFill>
        <p:spPr>
          <a:xfrm>
            <a:off x="8163000" y="304920"/>
            <a:ext cx="981000" cy="107604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8"/>
          <p:cNvSpPr/>
          <p:nvPr/>
        </p:nvSpPr>
        <p:spPr>
          <a:xfrm>
            <a:off x="228600" y="1447920"/>
            <a:ext cx="365760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естное здоровь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нтер-национальное здоровь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6095880" y="259092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лобальное здоровь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0" descr="globus2"/>
          <p:cNvPicPr/>
          <p:nvPr/>
        </p:nvPicPr>
        <p:blipFill>
          <a:blip r:embed="rId1"/>
          <a:stretch/>
        </p:blipFill>
        <p:spPr>
          <a:xfrm>
            <a:off x="3276720" y="1905120"/>
            <a:ext cx="2438280" cy="2406600"/>
          </a:xfrm>
          <a:prstGeom prst="rect">
            <a:avLst/>
          </a:prstGeom>
          <a:ln w="0">
            <a:noFill/>
          </a:ln>
        </p:spPr>
      </p:pic>
      <p:sp>
        <p:nvSpPr>
          <p:cNvPr id="88" name="Line 12"/>
          <p:cNvSpPr/>
          <p:nvPr/>
        </p:nvSpPr>
        <p:spPr>
          <a:xfrm>
            <a:off x="3962520" y="137160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4"/>
          <p:cNvSpPr/>
          <p:nvPr/>
        </p:nvSpPr>
        <p:spPr>
          <a:xfrm>
            <a:off x="4038480" y="56386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8T15:08:28Z</dcterms:created>
  <dc:creator>Faina Linkov for Supercourse</dc:creator>
  <dc:description/>
  <dc:language>en-US</dc:language>
  <cp:lastModifiedBy>LEGION</cp:lastModifiedBy>
  <dcterms:modified xsi:type="dcterms:W3CDTF">2014-11-06T13:04:22Z</dcterms:modified>
  <cp:revision>302</cp:revision>
  <dc:subject/>
  <dc:title>Global Health in Russian\Всемирная  охрана Здоровь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0</vt:r8>
  </property>
  <property fmtid="{D5CDD505-2E9C-101B-9397-08002B2CF9AE}" pid="3" name="ButtonType">
    <vt:r8>1</vt:r8>
  </property>
  <property fmtid="{D5CDD505-2E9C-101B-9397-08002B2CF9AE}" pid="4" name="Compression">
    <vt:r8>5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0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Documents and Settings\Eugene\My Documents\Alectures\29011-30001\lec29341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0</vt:r8>
  </property>
</Properties>
</file>