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7214-F3E7-4931-B5D4-C2880CFE5C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 u="sng">
                <a:solidFill>
                  <a:srgbClr val="ff9999"/>
                </a:solidFill>
                <a:uFillTx/>
                <a:latin typeface="Calibri"/>
              </a:rPr>
              <a:t>Психология творческого саморазви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8911-5939-445D-A5C8-B24E49D3C6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Черты творческой личности </a:t>
            </a:r>
            <a:r>
              <a:rPr b="1" i="1" lang="ru-RU" sz="1100" spc="-1" strike="noStrike" u="sng">
                <a:solidFill>
                  <a:srgbClr val="ff3300"/>
                </a:solidFill>
                <a:uFillTx/>
                <a:latin typeface="Calibri"/>
              </a:rPr>
              <a:t>(по А.Н.Луку)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к рис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ульсивность, порывистость и независимость су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успехов в учебных предм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юмора и склонность к шу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бытность, но без оригинальнич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дотош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лость воображения и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4146-8329-4C8D-8DAB-B0452588ED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99"/>
                </a:solidFill>
                <a:uFillTx/>
                <a:latin typeface="Calibri"/>
              </a:rPr>
              <a:t>Кредо творческой личности</a:t>
            </a:r>
            <a:r>
              <a:rPr b="0" lang="ru-RU" sz="1200" spc="-1" strike="noStrike">
                <a:solidFill>
                  <a:srgbClr val="ff6699"/>
                </a:solidFill>
                <a:latin typeface="Calibri"/>
              </a:rPr>
              <a:t> 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ера в себ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и творческие 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ые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творческую иде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7BEF-0249-4EA7-886A-BE328E40D8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ff99"/>
                </a:solidFill>
                <a:latin typeface="Calibri"/>
              </a:rPr>
              <a:t>Творческая 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5B81-3B8B-4564-B1B9-1A123CFC76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ипы творческих лич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DA35-8AE7-4177-AA7F-22EF24A1B8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cc00"/>
                </a:solidFill>
                <a:uFillTx/>
                <a:latin typeface="Calibri"/>
              </a:rPr>
              <a:t>Конкурентоспособная творческая 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1200" spc="-1" strike="noStrike">
                <a:solidFill>
                  <a:srgbClr val="ffff99"/>
                </a:solidFill>
                <a:latin typeface="Calibri"/>
              </a:rPr>
              <a:t>обладает следующими кач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й верой в свои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принимать творческие ответственные, рискованные ре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стремящаяся к самосовершенствованию и развит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чаивающаяся в случае временных неудач и труднос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много и упорно трудить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начатое дело доводить до ко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604-29E9-436B-9101-712D7E0651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емь стадий саморазвития творческой ли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ерв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3A65-4CC4-41CC-B138-92F0BC5CEC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Втор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начального творческого само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тадия наиболее характерна для учащихся среднего и старшего школьн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D7C8-2B0A-4D3D-ACD3-1542B106CF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Треть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профессионально-творческого стано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D533-7832-41A6-9C8F-B6F314B9EB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Четвер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первых значительных творческих достижени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D512-153B-4422-B47D-D64EDF0408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я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высокой, устойчивой творческой продуктивностью лич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1C08-004F-443E-B026-7AFB471A7F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сихологические законы творческого сам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1. ЗАКОН НЕРАВНОМЕРНОСТИ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648-898B-4716-8615-859EBBC54E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Шес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расцвета тал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3B6-F6ED-40A8-A2E0-419624F260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Седьм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как гениальн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BFFF-1795-4AFE-BE65-2F2DA96D5B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2. ЗАКОН ЦЕЛОСТНОГО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2E15-0935-4CE1-93B4-3AD69FE2D6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3. ЗАКОН СВОБОДЫ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613E-DA63-4067-8F9C-2A52BD36A2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. ЗАКОН САМОУСЛОЖНЕНИЯ ТВОРЧЕСКИХ ЗАДАЧ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</a:t>
            </a: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7141-7241-4692-B9BF-E7B2020C6B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5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ПЕРИОДИЧЕСКОЙ МОБИЛИЗАЦИИ И РЕЛА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5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владевайте наиболее эффективными приемами периодической мобилизации и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93CC-2E56-4FF7-8624-3D40F5BA16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6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B732-C4AB-46A4-8628-E000D1E3FF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7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С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7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02EB-0985-4E05-BCBF-0C2DADF9FCB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ворческая ли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Творческая личность представляет собой прогрессивный элемент, дающий все ново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К.Энгель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A10C-FED8-4021-86E1-3479714CE1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025-0712-4970-8C82-05F0676B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186-496C-4BB3-81F4-B06D7307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45B-7436-4284-A536-FD8A6A44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562-33A2-4BFC-B037-8B2E3B7D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17C3-635D-476C-B0EC-52EC82DF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3A0C-78D6-4BEB-98EF-99E4907D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E05E-CF11-4DC4-AD7E-500A70B9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6ED9-FA85-4C82-BE44-5917984A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01AD-751B-40A3-A742-EC25A267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621F-4B30-4CC5-ACCA-7222637E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3024-D4B6-4EC3-8C18-3D48FF4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3C6-236F-4DFA-9A4E-03879CE3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27B4-55AC-451D-B47C-4E4F05F3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A331-EA2F-4B4A-BAD4-4E9A9C00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0214-1655-4603-91E1-B6D130A0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7349-F83B-47B7-9AE3-6431195B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A877-5BF5-4088-B23C-4940038D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413-5DD2-46CD-9630-0EBCCCA4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BCB-B58B-4179-9CEA-465175EF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61C-BDA9-4160-A35E-EB885C95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4A7-9462-4AFE-8C5F-61E49BB4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C2E2-B65B-4916-9C94-D1BE4DB7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3A3-8765-4DDE-B3C9-C1B74B0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2A4-B2FA-4482-8EE7-B705F0A6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187D-F685-4EA9-A6CB-2F5C9C7454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308F-0D98-4146-8D2F-26ED7BF7837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6000" spc="-1" strike="noStrike" u="sng">
                <a:solidFill>
                  <a:srgbClr val="ff9999"/>
                </a:solidFill>
                <a:uFillTx/>
                <a:latin typeface="Arial"/>
              </a:rPr>
              <a:t>Психология творческого саморазвития.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Черты творческой личност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(по А.Н.Луку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отовность к риску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пульсивность, порывистость и независимость суждений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равномерность успехов в учебных предметах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Чувство юмора и склонность к шутке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бытность, но без оригинальничания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знавательная дотошность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мелость воображения и мысл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99"/>
                </a:solidFill>
                <a:uFillTx/>
                <a:latin typeface="Arial"/>
              </a:rPr>
              <a:t>Кредо творческой личности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ера в себ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и творческие способ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идательные си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ю творческую ид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Творческая лич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ипы творческих личност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841320"/>
          <a:ext cx="9144000" cy="58784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35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 для классификаци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творческих ли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о соотношению развития интуиции (фантазии, воображения) и лог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туитивист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врист); художественный тип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лог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мыслительный тип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По соотношению развития способностей к решению теоретических или практически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теоретик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лоток-теоретик), теоретик-интуитивист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рак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кспериментатор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о соотношению развития способностей к коллективному решению творческих зада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организато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) инициат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о соотношению развития способностей в зависимости от способа перекодирования информации (идея этой классификации принадлежит А.Н.Лук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художн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скульптор (зрительно-пространственный способ перекодирования информац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исатель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урналист (словесно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атема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кибернетик (абстрактно-цифровая информация) г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узыкант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вуковая-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жене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изобретатель (конструктивно-техническая информация) е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едагог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организатор предприятия (социально- коммуникатив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Конкурентоспособная творческая лич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бладает следующими качест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убокой верой в свои си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принимать творческие ответственные, рискованные реш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оянно стремящаяся к самосовершенствованию и развит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чаивающаяся в случае временных неудач и трудност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много и упорно труди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начатое дело доводить до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емь стадий саморазвития творческой лич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Перв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Втор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начального творческого само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стадия наиболее характерна для учащихся среднего и старшего 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Треть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профессионально-творческого стано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Четвер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дия первых значительных творческих достижени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Пя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высокой, устойчивой творческой продуктивностью личност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99"/>
                </a:solidFill>
                <a:latin typeface="Arial"/>
              </a:rPr>
              <a:t>Психологические законы творческого само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 ЗАКОН НЕРАВНОМЕРНОСТИ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1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Шес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ccff"/>
                </a:solidFill>
                <a:latin typeface="Arial"/>
              </a:rPr>
              <a:t>стадия расцвета талан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Седьм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как гениальность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 ЗАКОН ЦЕЛОСТНОГО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2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3. ЗАКОН СВОБОДЫ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3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. ЗАКОН САМОУСЛОЖНЕНИЯ ТВОРЧЕСКИХ ЗАДАЧ И ПРОБ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ПЕРИОДИЧЕСКОЙ МОБИЛИЗАЦИИ И РЕЛАКС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5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Овладевайте наиболее эффективными приемами периодической мобилизации и релакс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6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СО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ворческая лич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"Творческая личность представляет собой прогрессивный элемент, дающий все новое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К.Энгель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64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65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71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72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2:02:34Z</dcterms:created>
  <dc:creator>Valerik</dc:creator>
  <dc:description/>
  <dc:language>en-US</dc:language>
  <cp:lastModifiedBy>LEGION</cp:lastModifiedBy>
  <dcterms:modified xsi:type="dcterms:W3CDTF">2014-11-12T10:47:21Z</dcterms:modified>
  <cp:revision>7</cp:revision>
  <dc:subject/>
  <dc:title>Психология творческого саморазвития Психологические законы творческого саморазвития</dc:title>
</cp:coreProperties>
</file>