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319D-AD3C-4914-A644-9288B6A407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 u="sng">
                <a:solidFill>
                  <a:srgbClr val="ff9999"/>
                </a:solidFill>
                <a:uFillTx/>
                <a:latin typeface="Calibri"/>
              </a:rPr>
              <a:t>Психология творческого саморазви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3D8D-5BD7-479F-B2CC-7EAF68431F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Черты творческой личности </a:t>
            </a:r>
            <a:r>
              <a:rPr b="1" i="1" lang="ru-RU" sz="1100" spc="-1" strike="noStrike" u="sng">
                <a:solidFill>
                  <a:srgbClr val="ff3300"/>
                </a:solidFill>
                <a:uFillTx/>
                <a:latin typeface="Calibri"/>
              </a:rPr>
              <a:t>(по А.Н.Луку)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к рис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ульсивность, порывистость и независимость су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успехов в учебных предм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юмора и склонность к шу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бытность, но без оригинальнич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 дотош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елание принять на веру критический взгляд на такие вещи, которые якобы должны стать свяще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лость воображения и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19F4-A254-44AF-A67E-A48F8A1DF4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99"/>
                </a:solidFill>
                <a:uFillTx/>
                <a:latin typeface="Calibri"/>
              </a:rPr>
              <a:t>Кредо творческой личности</a:t>
            </a:r>
            <a:r>
              <a:rPr b="0" lang="ru-RU" sz="1200" spc="-1" strike="noStrike">
                <a:solidFill>
                  <a:srgbClr val="ff6699"/>
                </a:solidFill>
                <a:latin typeface="Calibri"/>
              </a:rPr>
              <a:t> 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ера в себ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и творческие 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ые сил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творческую иде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3EB7-4EFD-4570-82E8-FF0B526DF8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ff99"/>
                </a:solidFill>
                <a:latin typeface="Calibri"/>
              </a:rPr>
              <a:t>Творческая 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это такой тип личности, для которой характерна устойчивая, высокого уровня направленность на творчество, мотивационно-творческая активность, которая проявляется в органическом единстве с высоким уровнем творческих способностей и которые позволяют ей достигнуть прогрессивных, социально и лично значимых творческих результатов в одном или нескольких видах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D7D3-FDEE-4A89-A413-5C883BAE19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ипы творческих личнос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08CF-8A54-4A98-AD27-BEA06863EA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cc00"/>
                </a:solidFill>
                <a:uFillTx/>
                <a:latin typeface="Calibri"/>
              </a:rPr>
              <a:t>Конкурентоспособная творческая 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ворческая личность, которая наряду с высоким уровнем развития творческого потенциала </a:t>
            </a:r>
            <a:r>
              <a:rPr b="1" lang="ru-RU" sz="1200" spc="-1" strike="noStrike">
                <a:solidFill>
                  <a:srgbClr val="ffff99"/>
                </a:solidFill>
                <a:latin typeface="Calibri"/>
              </a:rPr>
              <a:t>обладает следующими кач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окой верой в свои сил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принимать творческие ответственные, рискованные ре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стремящаяся к самосовершенствованию и развит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чаивающаяся в случае временных неудач и труднос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много и упорно трудить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к прогнозированию развития событий; способная сосредоточиться на решении главных приоритетных зада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начатое дело доводить до ко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EDE9-8DC1-480C-983C-B0A0979094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емь стадий саморазвития творческой лич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Перв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стойчиво проявляющимся интересом, ясно выраженной мотивационной направленностью личности на определенный вид творческой деятель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избирательной мотивационно - творческой направленности личности на определенный вид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стадии личность как бы интуитивно чувствует, в какой сфере творческой деятельности она может проявить себя наилучшим обр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E7F2-FE9E-4B74-9908-9D74537727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Втор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повышенной интеллектуальной чувствительностью личности к усмотрению противоречий и проблем в определенной сфере творческой деятель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начального творческого само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тадия наиболее характерна для учащихся среднего и старшего школьн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F76B-48DA-4B6D-8250-DE9C32FC4A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Треть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повышенной профессионально-творческой активностью личности в определенном виде деятель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профессионально-творческого стано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й стадии характерно интенсивное творческое овладение профессиональными приемами, методами, средствами соответствующего вида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AE94-3006-4492-974C-084894F637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Четвер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первых значительных творческих достижени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01BA-8128-4D6E-9A41-599F276DC9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Пя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высокой, устойчивой творческой продуктивностью лич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й стадии характерно формирование индивидуального творческого стиля деятельности и масте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0F1A-460D-4D2B-92C7-9AF644DA8B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сихологические законы творческого сам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1. ЗАКОН НЕРАВНОМЕРНОСТИ ТВОРЧЕСКОГО САМО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творческого саморазвития отдельных способностей и качеств личности порождает противоречия, разрешение которых и создает внутренние условия для становления творческ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Там, где это возможно, опирайтесь на ваши наиболее развитые творческие способности и другие личностные качества, но постоянно активизируйте развитие слаб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C73C-03F0-4046-AAD1-AB3177145F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Шес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расцвета тал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не просто имеет устойчивые творческие достижения, а далеко превосходит достижения современников в определенной сфере твор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340E-B515-4A7F-8020-8167E3FD8E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Седьм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как гениальн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иальность характеризует собой вершину развития творческих способносте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1713-53AD-4F55-A7D7-CDD68CE911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2. ЗАКОН ЦЕЛОСТНОГО ТВОРЧЕСКОГО САМО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вные изменения в одном из компонентов самости (самопознании, творческом самоопределении,  самоуправлении, творческой самореализации, самосовершенствовании) с неизбежностью ускоряет процесс творческого саморазвития личности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Каждый день хоть в чем-то, но стремитесь изменить себя к лучшему. Пройдет неделя, месяц, год и вы поймете, что вы в целом стали умнее, сильнее, доб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6487-FE9D-4E92-98B7-07AB3BAEB3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3. ЗАКОН СВОБОДЫ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й свободы добивается личность в творчестве, тем большей эффективности она достигает в этом виде деятельности и в творческом саморазви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Не давайте загнать себя в угол! Всякий раз отстаивайте свое право на творчество, право выбора в принятии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5C09-7F11-4EAD-956D-19A984B40F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4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. ЗАКОН САМОУСЛОЖНЕНИЯ ТВОРЧЕСКИХ ЗАДАЧ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ворческого саморазвития личности осуществляется тем эффективнее, чем более сложные, трудные и вместе с тем посильные для себя творческие задачи личность выбирает и реш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</a:t>
            </a: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Не ищите для себя слишком легких задач; постепенно усложняйте для себя творческие задачи проблемы, соизмеряя их со своими силами и способ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50A9-1F37-48E3-B6CF-00C615CD70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5. 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ЗАКОН ПЕРИОДИЧЕСКОЙ МОБИЛИЗАЦИИ И РЕЛА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ая мобилизация и релаксация создают благоприятные условия и для творческого саморазвит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5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владевайте наиболее эффективными приемами периодической мобилизации и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DBFD-FAD0-4EEC-ABAF-840BA37815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6. ЗАКОН УСКОРЕНИЯ ТВОРЧЕСКОГО САМОРАЗВИТИЯ В УСЛОВИЯХ КОНКУРЕНЦИИ И СТРЕМЛЕНИЯ К ЛИДЕР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ворческого саморазвития существенно ускоряется, если личность достаточно мотивирована к лидерству в конкурентной борьбе с сильным и достойным сопер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6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Стремясь к лидерству, не бойтесь конкурентно борьбы, но при этом ищите не только слабые места конкурента та, но и учитесь у него. Настоящий лидер побеждает своего конкурента дважды: вначале интеллектуально и морально, затем реаль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C649-A21F-4B06-A37A-B6530C7D26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7. 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ЗАКОН С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саморазвитие личности осуществляется тем эффективнее, чем большей продуктивности она достигает в процессе сотворчества и кооперации в решении творчески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7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щите себе Учителя — творческую личность! Ваше творческое саморазвитие и становление как творческой личности возможно не иначе, как через сотворчество с талантливой, творческой ли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0D5A-5467-4EEF-A709-A5BDDF8282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ворческая лич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Творческая личность представляет собой прогрессивный элемент, дающий все ново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К.Энгель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5442-F48A-41DB-BB85-54C34F6916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BA4-2659-4FC2-96D1-F1E51F32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5D8-1536-4507-8923-C696D532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3BE-6A49-4FD3-88FE-F0E8B6B7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98B-5B21-4C84-9867-D7F0C2A0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F45B-DAB9-4370-A911-ABAB1A5D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3318-BB18-4B82-A701-A99E3B2D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2B98-40F0-446E-8DA7-5E75308D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4A7D-EC84-4E46-8143-8B71AB35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B913-6EC1-483D-924E-56E0BB32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2D99-76B5-4EC4-8F17-C8CBD11B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3ED0-88B7-4A5A-B3AA-4400270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FEF-FD5B-420A-BBE5-4BC8B0A2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2E98-A417-4FFD-992D-2EE7781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6C06-BF90-497E-AA97-D0538389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0BAD-EC19-42E9-9146-2870F2B4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5070-382E-4896-AA5D-3F3348FC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B207-93A9-4723-9087-EB4B8D41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65F-8E0C-49BA-8B07-F25C7950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A70-6673-4A14-9461-CC9C53CB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6F8-85B1-45DD-8B4B-21F41DDC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A07-694C-4667-8566-186C5CA8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62A-0E47-4F04-A1A8-ED94A9AF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600-A855-4B51-9F1F-23BD56FF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B36-2DF8-4D30-90CC-5299675F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0D43-4296-40B9-80BF-7AB294B9D1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FFF9-F112-4387-8BBF-E6C2699B60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6000" spc="-1" strike="noStrike" u="sng">
                <a:solidFill>
                  <a:srgbClr val="ff9999"/>
                </a:solidFill>
                <a:uFillTx/>
                <a:latin typeface="Arial"/>
              </a:rPr>
              <a:t>Психология творческого саморазвития.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Черты творческой личности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(по А.Н.Луку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Готовность к риску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пульсивность, порывистость и независимость суждений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еравномерность успехов в учебных предметах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Чувство юмора и склонность к шутке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амобытность, но без оригинальничания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знавательная дотошность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ежелание принять на веру критический взгляд на такие вещи, которые якобы должны стать священными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мелость воображения и мысл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99"/>
                </a:solidFill>
                <a:uFillTx/>
                <a:latin typeface="Arial"/>
              </a:rPr>
              <a:t>Кредо творческой личности</a:t>
            </a: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 —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вера в себ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и творческие способ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идательные сил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ю творческую иде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99"/>
                </a:solidFill>
                <a:latin typeface="Arial"/>
              </a:rPr>
              <a:t>Творческая личнос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— это такой тип личности, для которой характерна устойчивая, высокого уровня направленность на творчество, мотивационно-творческая активность, которая проявляется в органическом единстве с высоким уровнем творческих способностей и которые позволяют ей достигнуть прогрессивных, социально и лично значимых творческих результатов в одном или нескольких видах деятельн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Типы творческих личност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841320"/>
          <a:ext cx="9144000" cy="587844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35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и для классификаци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творческих лич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о соотношению развития интуиции (фантазии, воображения) и логик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нтуитивист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эврист); художественный тип 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лог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мыслительный тип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По соотношению развития способностей к решению теоретических или практически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теоретик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лоток-теоретик), теоретик-интуитивист 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ракт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экспериментатор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По соотношению развития способностей к коллективному решению творческих зада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организатор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) инициато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сполн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По соотношению развития способностей в зависимости от способа перекодирования информации (идея этой классификации принадлежит А.Н.Луку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художн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скульптор (зрительно-пространственный способ перекодирования информаци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исатель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журналист (словеснообраз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математ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кибернетик (абстрактно-цифровая информация) г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музыкант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звуковая-образ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нженер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изобретатель (конструктивно-техническая информация) е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едагог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организатор предприятия (социально- коммуникатив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Конкурентоспособная творческая лич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это творческая личность, которая наряду с высоким уровнем развития творческого потенциала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бладает следующими качеств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убокой верой в свои сил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ю принимать творческие ответственные, рискованные реш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оянно стремящаяся к самосовершенствованию и развит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тчаивающаяся в случае временных неудач и трудност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много и упорно труди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к прогнозированию развития событий; способная сосредоточиться на решении главных приоритетных задач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начатое дело доводить до ко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емь стадий саморазвития творческой лич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Перва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устойчиво проявляющимся интересом, ясно выраженной мотивационной направленностью личности на определенный вид творческой деятель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избирательной мотивационно - творческой направленности личности на определенный вид деятельнос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этой стадии личность как бы интуитивно чувствует, в какой сфере творческой деятельности она может проявить себя наилучшим образ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Втора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повышенной интеллектуальной чувствительностью личности к усмотрению противоречий и проблем в определенной сфере творческой деятельност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начального творческого самоопред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стадия наиболее характерна для учащихся среднего и старшего 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Треть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повышенной профессионально-творческой активностью личности в определенном виде деятельност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профессионально-творческого стано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этой стадии характерно интенсивное творческое овладение профессиональными приемами, методами, средствами соответствующего вида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Четвер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дия первых значительных творческих достижений лич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Пя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арактеризуется высокой, устойчивой творческой продуктивностью личности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этой стадии характерно формирование индивидуального творческого стиля деятельности и мастер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99"/>
                </a:solidFill>
                <a:latin typeface="Arial"/>
              </a:rPr>
              <a:t>Психологические законы творческого само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1. ЗАКОН НЕРАВНОМЕРНОСТИ ТВОРЧЕСКОГО САМОРАЗВИТ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равномерность творческого саморазвития отдельных способностей и качеств личности порождает противоречия, разрешение которых и создает внутренние условия для становления творческой лич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1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Там, где это возможно, опирайтесь на ваши наиболее развитые творческие способности и другие личностные качества, но постоянно активизируйте развитие слабы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Шес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ffccff"/>
                </a:solidFill>
                <a:latin typeface="Arial"/>
              </a:rPr>
              <a:t>стадия расцвета талан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чность не просто имеет устойчивые творческие достижения, а далеко превосходит достижения современников в определенной сфере творческой деятель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Седьм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арактеризуется как гениальность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ниальность характеризует собой вершину развития творческих способностей лич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2. ЗАКОН ЦЕЛОСТНОГО ТВОРЧЕСКОГО САМОРАЗВИТ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грессивные изменения в одном из компонентов самости (самопознании, творческом самоопределении,  самоуправлении, творческой самореализации, самосовершенствовании) с неизбежностью ускоряет процесс творческого саморазвития личности в цело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2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Каждый день хоть в чем-то, но стремитесь изменить себя к лучшему. Пройдет неделя, месяц, год и вы поймете, что вы в целом стали умнее, сильнее, добре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3. ЗАКОН СВОБОДЫ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ем большей свободы добивается личность в творчестве, тем большей эффективности она достигает в этом виде деятельности и в творческом саморазвит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3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Не давайте загнать себя в угол! Всякий раз отстаивайте свое право на творчество, право выбора в принятии реш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. ЗАКОН САМОУСЛОЖНЕНИЯ ТВОРЧЕСКИХ ЗАДАЧ И ПРОБ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цесс творческого саморазвития личности осуществляется тем эффективнее, чем более сложные, трудные и вместе с тем посильные для себя творческие задачи личность выбирает и реш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</a:t>
            </a:r>
            <a:r>
              <a:rPr b="1" lang="ru-RU" sz="26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Не ищите для себя слишком легких задач; постепенно усложняйте для себя творческие задачи проблемы, соизмеряя их со своими силами и способностя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КОН ПЕРИОДИЧЕСКОЙ МОБИЛИЗАЦИИ И РЕЛАКС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ериодическая мобилизация и релаксация создают благоприятные условия и для творческого саморазвития лич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5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Овладевайте наиболее эффективными приемами периодической мобилизации и релакса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6. ЗАКОН УСКОРЕНИЯ ТВОРЧЕСКОГО САМОРАЗВИТИЯ В УСЛОВИЯХ КОНКУРЕНЦИИ И СТРЕМЛЕНИЯ К ЛИДЕР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цесс творческого саморазвития существенно ускоряется, если личность достаточно мотивирована к лидерству в конкурентной борьбе с сильным и достойным сопернико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6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Стремясь к лидерству, не бойтесь конкурентно борьбы, но при этом ищите не только слабые места конкурента та, но и учитесь у него. Настоящий лидер побеждает своего конкурента дважды: вначале интеллектуально и морально, затем реальн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КОН СО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ворческое саморазвитие личности осуществляется тем эффективнее, чем большей продуктивности она достигает в процессе сотворчества и кооперации в решении творческих задач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Ищите себе Учителя — творческую личность! Ваше творческое саморазвитие и становление как творческой личности возможно не иначе, как через сотворчество с талантливой, творческой личност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ворческая лич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"Творческая личность представляет собой прогрессивный элемент, дающий все новое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К.Энгель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64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65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8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71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72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5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2:02:34Z</dcterms:created>
  <dc:creator>Valerik</dc:creator>
  <dc:description/>
  <dc:language>en-US</dc:language>
  <cp:lastModifiedBy>LEGION</cp:lastModifiedBy>
  <dcterms:modified xsi:type="dcterms:W3CDTF">2014-11-12T10:47:21Z</dcterms:modified>
  <cp:revision>7</cp:revision>
  <dc:subject/>
  <dc:title>Психология творческого саморазвития Психологические законы творческого саморазвития</dc:title>
</cp:coreProperties>
</file>