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DF07-092B-4D12-9859-DFAA4D5E94B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внешний и внутрен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DA50-95CB-442A-8C8B-19E262A28FFB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р внешний, видимый называется материальным или физическ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есть ещё и невидимый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ухов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слова "дух"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н также может быть внешним по отно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еловеку (мир невидимых существ – духов, добрых или злых), но духовный мир человек имеет и внут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бя. Он связан с верой в Бога, получением знаний о Боге, служением Ему. Для верующ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ый мир составляет важную часть их жизни. Внутренний мир определяет мысли, убежд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ки, образ жизни, направляет стремле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и внешний, духовный и физический мир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льн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йствительно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ществую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единое целое – сложный, богатый мир, в котором мы живём и частью которого мы являем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65B5-D2D6-4111-832A-C64E6605A3A3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вайте повторим!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 внеш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кружающий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й, материаль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увидеть, потрог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утренний мир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идимый мир: мысли, чув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ия, настроения, жел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уховный ми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вязанный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ыми явлениями, с верой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а и служением 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ий и внутрен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ический и духов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ляют единое цел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мир,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ом живёт и частью котор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8E98-05DA-4DC5-973C-DC2212025E88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удесная песенка»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. Ирины Языковой, муз. Юрия Пастер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1. Каждый день дарит 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ысячи чуде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лнца луч из-за ту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ыглянул с неб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звенели вокруг птичьи голос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 цветы расцвели – чудес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пе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ого не видел глаз, не слышало ух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то приготовил Бог любящим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 приходило 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а сердце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то приготовил Бог любящим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то приготовил Бог любящим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445F-F0B5-4CD7-9BCA-8DD7E7096755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р, в котором мы живём, огромен, разнообразен и очень интересен. Устроен он чрезвычайно сложно, и вместе с тем во всём имеет строгий порядок, который управляется и поддерживае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ёнными закон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р, который нас окружает, - эт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ир внешний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кружающий мир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н велик и удивительно бога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A1E8-EC9E-469E-8A2F-26F90424AA91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не менее богат и интересен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утрен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р человека. Каждую минуту человек о чём-то думает, что-то чувствует, например, радуется и думает, как поделиться своей радостью с другом. Именно внутри человека рождается какой-нибудь замечательный замысел, и только потом этот человек воплощает его, создавая книгу, песню или картину. Так мысль и желание одного человека пополняют наш общий внешний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жите, какое время года изображается на фотограф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14DA-0A3D-4BED-A36D-4FB8CFF052C2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какое время года на этой фотограф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B192-7801-4333-A802-78421559CF59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как изобразил осень И.И. Левитан в картине «Золотая осе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яет солнце, воды блещу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ём улыбка, жизнь во всё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ья радостно трепещу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аясь в небе голуб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ют деревья, блещут 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ю воздух растворё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ир, цветущий мир природ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ытком жизни упоён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.И. Тютч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018C-4C27-4DC4-AB6F-696F51E8B15A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так велик, что мы можем вид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незначительную часть того, что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 происход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тому, что люди уме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вать свои знания, впечат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друг другу, распростран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 о внешнем и даже внутренн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е. Мы, например, живём в России, 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учебников, журналов, книг мо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е узнать о Франции, Амери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рике, даже можем знать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ло на земле тысячи лет наз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что такое узнать? Это значит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-то знания становятся на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оянием. Какую-то часть сведе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с важных, мы принимаем в н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мир, запоминаем и мо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и пользоваться, когда захотим. Т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внешний входит в наш внутрен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. И внешний и внутрен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 для человека, вместе 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его жизнь. Но внутрен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ся важнее, чем внешн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348B-9521-40B6-9B8A-464E2D9BCB96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нешний, и внутренний мир важны д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, вместе они составляют его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нутреннее оказывается важнее,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мир зависит от наш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его состояния, наш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й, чув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на картины Айвазовского «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ессы  в лунную ночь» и «Морской бер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щание» и опишите кар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 види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время суток изображено на карти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цвета неб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на небе солнышко или обла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н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ни делаю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ни передвигаю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звуки вы слышите в картин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чит ли здесь музы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это музы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мкая или тиха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ёлая или грустна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ют ли в ней птиц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одно или тепло на этой картин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ет ли в ней ветер или н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05C2-BA4E-4EFA-8835-CB47ABDEF5D2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мир невидим, но проявляется в поступках, творчестве человека, накладывает отпечаток не только на всю его жизнь, но и на внешний облик: отражается на ли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CA42-7B2A-4256-BA87-8F9523EC85F2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частный, з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разрушает всё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жает даже са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их и доро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, а добр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, излуча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и радость вок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бя, восстанавл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ное, утеш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дающих, помо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дающим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A483-E582-4D4A-9D41-899A40E0CF67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9924-2747-4C9B-AE32-D132777A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F3243-18A8-4CCB-98AA-415A0FCE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2AA9A-810E-417A-8488-82B67665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D6083-AC70-4877-87DA-07E155A0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45FF-336C-4143-B9ED-DFEE13F5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52DA-1FDE-421E-829F-F2A22E40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866B-D58D-4281-9006-209CE965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D100-ED08-4F06-8399-50D21F54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0233-9FD9-436B-B19D-F83C303F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C255-BACD-4A67-8435-F3789187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21D4-96DB-478E-BE25-67B219AB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92369-DC8F-4699-83C5-C54A585D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1B8D-5819-4910-8D02-D2E62FA2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7466-B381-4CCB-AF78-40685329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BDE7-5875-4DC8-9561-993A6CE5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0487-E980-4991-B0A3-6B0E8A68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65DE-3646-4F2D-8EDA-9820657C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4F6D5-7B41-42A6-B00B-8A966586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E1C7D-8750-4B37-81D8-7F44B693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8D651-62C5-4F39-B344-9B63DD81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9A840-4D8D-48AE-828B-AAE3665B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DA089-B8E9-4782-9C91-6D066C29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EA3A1-5EB1-4252-99F6-0C2AF592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398B3-ED5D-4D49-A9D1-FEDE903E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F6752-5274-4C71-A940-5D29FA1C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5286F-EFED-4906-AEB4-83A666BB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8C56B-9E62-4525-B662-3BE3AB8B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15ABA-44FD-4D74-9325-3FABC54E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374FB-A220-4A71-B41A-5678EF93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C7E30-9729-4A44-B35E-6171CB54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4CBE7B-F4B2-4D76-8A2F-3DE77230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426219-C298-4F95-B75D-3777452D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2EEDB-B5C9-423D-ACD4-30E39B3E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CA2DC-5FE9-4389-B925-753C87F2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31411F-F096-41A8-AA8C-4DBF1E72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D68E50-0F7A-4575-AC44-78840984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809B8D-BF87-4919-B724-08845E93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B2A550-88E1-4181-A633-3A365CF5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CC6048-00D7-4688-A875-C9986E7F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5407F7-4F6F-4B30-9CEE-054E237F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AFD680-64D1-43DF-8281-05A69F55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26AE51-A9C9-4BC6-90FB-ADC83F76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45BFB8-8BFA-43CB-BA51-229F56AB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CE97-5CAC-4A2C-84EA-2F3A8FE6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5A8AB-0FC2-4806-A691-CA227FD2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88FBE-6DDB-4D9F-8235-295BD150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E8FFA-64E4-413D-AB07-8630C5B8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8E5AD-85FC-4C9D-8BBA-9CFD51E8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9D30-2983-4BA9-95CD-2B33BC22F1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BA5E-6687-4B6F-942F-B7DA609DFC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69D4-7C53-4D10-96A3-896A82EC39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E95D-F35D-4ADF-9757-9B05B867426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ир внешний и внутрен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Гала Волшебное утро - Абель ф-но.mp3" descr=""/>
          <p:cNvPicPr/>
          <p:nvPr/>
        </p:nvPicPr>
        <p:blipFill>
          <a:blip r:embed="rId1"/>
          <a:stretch/>
        </p:blipFill>
        <p:spPr>
          <a:xfrm>
            <a:off x="-54144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advTm="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-0.00104 -0.00069 C 0.06788 -0.00069 0.12396 0.02774 0.12396 0.06311 C 0.12396 0.09848 0.06788 0.12714 -0.00104 0.12714 C -0.07014 0.12714 -0.12604 0.09848 -0.12604 0.06311 C -0.12604 0.02774 -0.07014 -0.00069 -0.00104 -0.00069 Z">
                                      <p:cBhvr>
                                        <p:cTn id="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Мир внешний, видимый называется материальным или физическим.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146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о есть ещё и невидимый,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духовный 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(от слова "дух")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мир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. Он также может быть внешним по отношению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 человеку (мир невидимых существ – духов, добрых или злых), но духовный мир человек имеет и внутри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себя. Он связан с верой в Бога, получением знаний о Боге, служением Ему. Для верующих людей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уховный мир составляет важную часть их жизни. Внутренний мир определяет мысли, убеждения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оступки, образ жизни, направляет стремления человека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утренний и внешний, духовный и физический миры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реально 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(действительно)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существуют 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составляют единое целое – сложный, богатый мир, в котором мы живём и частью которого мы являемся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27" name="Picture 10" descr="7"/>
          <p:cNvPicPr/>
          <p:nvPr/>
        </p:nvPicPr>
        <p:blipFill>
          <a:blip r:embed="rId1"/>
          <a:stretch/>
        </p:blipFill>
        <p:spPr>
          <a:xfrm>
            <a:off x="684360" y="2708280"/>
            <a:ext cx="2828880" cy="3745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8"/>
          <p:cNvPicPr/>
          <p:nvPr/>
        </p:nvPicPr>
        <p:blipFill>
          <a:blip r:embed="rId2"/>
          <a:stretch/>
        </p:blipFill>
        <p:spPr>
          <a:xfrm>
            <a:off x="5638680" y="2781360"/>
            <a:ext cx="2656080" cy="367200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60000"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69564"/>
                </a:solidFill>
                <a:latin typeface="Garamond"/>
              </a:rPr>
              <a:t>Давайте повторим!</a:t>
            </a:r>
            <a:br>
              <a:rPr sz="40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Мир внешний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– окружающий мир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Физический, материальный ми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можно увидеть, потрогать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Внутренний мир человека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-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невидимый мир: мысли, чувства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убеждения, настроения, желания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Духовный мир 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– связанный с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духовными явлениями, с верой в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Бога и служением Ему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Внешний и внутренний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физический и духовный ми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составляют единое целое 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– мир, в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котором живёт и частью которого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является человек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32" name="Picture 9" descr="9"/>
          <p:cNvPicPr/>
          <p:nvPr/>
        </p:nvPicPr>
        <p:blipFill>
          <a:blip r:embed="rId1"/>
          <a:stretch/>
        </p:blipFill>
        <p:spPr>
          <a:xfrm>
            <a:off x="4910040" y="1197000"/>
            <a:ext cx="3827520" cy="4929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30000"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«Чудесная песенка»</a:t>
            </a:r>
            <a:br>
              <a:rPr sz="2000"/>
            </a:br>
            <a:r>
              <a:rPr b="1" i="1" lang="ru-RU" sz="2000" spc="-1" strike="noStrike">
                <a:solidFill>
                  <a:srgbClr val="4b2500"/>
                </a:solidFill>
                <a:latin typeface="Garamond"/>
              </a:rPr>
              <a:t>сл. Ирины Языковой, муз. Юрия Пастернака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356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1. Каждый день дарит на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тысячи чудес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Солнца луч из-за туч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выглянул с небес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Зазвенели вокруг птичьи голоса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цветы расцвели – чудеса!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Припев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Того не видел глаз, не слышало ухо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Что приготовил Бог любящим его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Не приходило то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на сердце человеку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Что приготовил Бог любящим Его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Что приготовил Бог любящим Его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788000" y="1341360"/>
            <a:ext cx="410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2. Летом грозы гремят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снег идет зимой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Удивительный мир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такой большой!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Сколько разных чудес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загадок в нем!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приветствуя мир, мы поем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3. Бог, Создатель чудес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заповедал на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Мир беречь как наш до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прекрасный храм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Все мы - Церковь Его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мы одна семья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Все мы дети Его, ты и я!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37" name="SONG_001.MID" descr=""/>
          <p:cNvPicPr/>
          <p:nvPr/>
        </p:nvPicPr>
        <p:blipFill>
          <a:blip r:embed="rId1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0">
    <p:wedg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3770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Мир, в котором мы живём, огромен, разнообразен и очень интересен. Устроен он чрезвычайно сложно, и вместе с тем во всём имеет строгий порядок, который управляется и поддерживается</a:t>
            </a:r>
            <a:br>
              <a:rPr sz="2000"/>
            </a:b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определёнными законами.</a:t>
            </a:r>
            <a:br>
              <a:rPr sz="2000"/>
            </a:b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5516280"/>
            <a:ext cx="79311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Мир, который нас окружает, - это </a:t>
            </a: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мир внешний,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или </a:t>
            </a: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окружающий мир.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Он велик и удивительно богат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95" name="Picture 11" descr="1"/>
          <p:cNvPicPr/>
          <p:nvPr/>
        </p:nvPicPr>
        <p:blipFill>
          <a:blip r:embed="rId1"/>
          <a:stretch/>
        </p:blipFill>
        <p:spPr>
          <a:xfrm>
            <a:off x="1403280" y="1413000"/>
            <a:ext cx="6264360" cy="407808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30000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3106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Но не менее богат и интересен </a:t>
            </a:r>
            <a:r>
              <a:rPr b="1" lang="ru-RU" sz="1800" spc="-1" strike="noStrike">
                <a:solidFill>
                  <a:srgbClr val="4b2500"/>
                </a:solidFill>
                <a:latin typeface="Garamond"/>
              </a:rPr>
              <a:t>внутренний</a:t>
            </a: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 мир человека. Каждую минуту человек о чём-то думает, что-то чувствует, например, радуется и думает, как поделиться своей радостью с другом. Именно внутри человека рождается какой-нибудь замечательный замысел, и только потом этот человек воплощает его, создавая книгу, песню или картину. Так мысль и желание одного человека пополняют наш общий внешний мир.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Скажите, какое время года изображается на фотографии?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98" name="Picture 11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038480" cy="5688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30000"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9218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69564"/>
                </a:solidFill>
                <a:latin typeface="Garamond"/>
              </a:rPr>
              <a:t>А какое время года на этой фотографии?</a:t>
            </a:r>
            <a:endParaRPr b="1" lang="en-US" sz="2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201" name="Picture 7" descr="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26920" y="1052640"/>
            <a:ext cx="7715520" cy="55641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10000"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Посмотрите как изобразил осень И.И. Левитан в картине «Золотая осень»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Сияет солнце, воды блещут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На всём улыбка, жизнь во всём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Деревья радостно трепещут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Купаясь в небе голубом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Поют деревья, блещут воды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Любовью воздух растворён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И мир, цветущий мир природы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Избытком жизни упоён…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(Ф.И. Тютчев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05" name="Picture 9" descr="3"/>
          <p:cNvPicPr/>
          <p:nvPr/>
        </p:nvPicPr>
        <p:blipFill>
          <a:blip r:embed="rId1"/>
          <a:stretch/>
        </p:blipFill>
        <p:spPr>
          <a:xfrm>
            <a:off x="3924360" y="1916280"/>
            <a:ext cx="4762440" cy="316368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10000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14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14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14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314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614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914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214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14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814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3251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 так велик, что мы можем видеть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только незначительную часть того, что в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ем происходит.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Благодаря тому, что люди умеют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ередавать свои знания, впечатления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опыт друг другу, распространяются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знания о внешнем и даже внутренн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е. Мы, например, живём в России, н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з учебников, журналов, книг мож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ногое узнать о Франции, Америке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Африке, даже можем знать, чт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роисходило на земле тысячи лет назад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о что такое узнать? Это значит, чт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ие-то знания становятся наши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остоянием. Какую-то часть сведений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ля нас важных, мы принимаем в наш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утренний мир, запоминаем и мож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ми пользоваться, когда захотим. Так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 внешний входит в наш внутренний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. И внешний и внутренний мир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ажны для человека, вместе они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составляют его жизнь. Но внутреннее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оказывается важнее, чем внешнее.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08" name="Чайк.Вр.года.06.июнь.Баркар.Плетнев.mp3" descr=""/>
          <p:cNvPicPr/>
          <p:nvPr/>
        </p:nvPicPr>
        <p:blipFill>
          <a:blip r:embed="rId1"/>
          <a:stretch/>
        </p:blipFill>
        <p:spPr>
          <a:xfrm>
            <a:off x="4859280" y="7174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2"/>
          <a:stretch/>
        </p:blipFill>
        <p:spPr>
          <a:xfrm>
            <a:off x="5867280" y="4316400"/>
            <a:ext cx="2808360" cy="1854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"/>
          <p:cNvPicPr/>
          <p:nvPr/>
        </p:nvPicPr>
        <p:blipFill>
          <a:blip r:embed="rId3"/>
          <a:stretch/>
        </p:blipFill>
        <p:spPr>
          <a:xfrm>
            <a:off x="5867280" y="260280"/>
            <a:ext cx="2881440" cy="1901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"/>
          <p:cNvPicPr/>
          <p:nvPr/>
        </p:nvPicPr>
        <p:blipFill>
          <a:blip r:embed="rId4"/>
          <a:stretch/>
        </p:blipFill>
        <p:spPr>
          <a:xfrm>
            <a:off x="4140360" y="2349360"/>
            <a:ext cx="2735280" cy="180504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40000">
    <p:wedg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3467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 внешний, и внутренний мир важны для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человека, вместе они составляют его жизнь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о внутреннее оказывается важнее, ч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ешнее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ешний мир зависит от нашег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утреннего состояния, наших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редставлений, чувств.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осмотрите на картины Айвазовского «Вид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Одессы  в лунную ночь» и «Морской берег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рощание» и опишите картины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Что вы видите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ое время суток изображено на картине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ого цвета небо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Есть ли на небе солнышко или облака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ие они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Что они делают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 они передвигаются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ие звуки вы слышите в картинках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Звучит ли здесь музыка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ая это музыка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Громкая или тихая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есёлая или грустная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оют ли в ней птицы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Холодно или тепло на этой картинке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ует ли в ней ветер или нет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14" name="Picture 12" descr="4"/>
          <p:cNvPicPr/>
          <p:nvPr/>
        </p:nvPicPr>
        <p:blipFill>
          <a:blip r:embed="rId1"/>
          <a:stretch/>
        </p:blipFill>
        <p:spPr>
          <a:xfrm>
            <a:off x="4140360" y="404640"/>
            <a:ext cx="3228840" cy="2616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5"/>
          <p:cNvPicPr/>
          <p:nvPr/>
        </p:nvPicPr>
        <p:blipFill>
          <a:blip r:embed="rId2"/>
          <a:stretch/>
        </p:blipFill>
        <p:spPr>
          <a:xfrm>
            <a:off x="5148360" y="3068640"/>
            <a:ext cx="3558960" cy="30844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70000"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Внутренний мир невидим, но проявляется в поступках, творчестве человека, накладывает отпечаток не только на всю его жизнь, но и на внешний облик: отражается на лице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18" name="Picture 11" descr=""/>
          <p:cNvPicPr/>
          <p:nvPr/>
        </p:nvPicPr>
        <p:blipFill>
          <a:blip r:embed="rId1"/>
          <a:stretch/>
        </p:blipFill>
        <p:spPr>
          <a:xfrm>
            <a:off x="5292720" y="333360"/>
            <a:ext cx="1814400" cy="2519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"/>
          <p:cNvPicPr/>
          <p:nvPr/>
        </p:nvPicPr>
        <p:blipFill>
          <a:blip r:embed="rId2"/>
          <a:stretch/>
        </p:blipFill>
        <p:spPr>
          <a:xfrm>
            <a:off x="7308720" y="2349360"/>
            <a:ext cx="1644840" cy="2446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"/>
          <p:cNvPicPr/>
          <p:nvPr/>
        </p:nvPicPr>
        <p:blipFill>
          <a:blip r:embed="rId3"/>
          <a:stretch/>
        </p:blipFill>
        <p:spPr>
          <a:xfrm>
            <a:off x="4859280" y="3213000"/>
            <a:ext cx="1668600" cy="25923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40000"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3683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Несчастный, зло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человек разрушает всё,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обижает даже самых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близких и дорогих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людей, а добры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человек, излучающи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мир и радость вокруг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себя, восстанавливае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разрушенное, утешае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страдающих, помогае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нуждающимся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23" name="Picture 12" descr="6"/>
          <p:cNvPicPr/>
          <p:nvPr/>
        </p:nvPicPr>
        <p:blipFill>
          <a:blip r:embed="rId1"/>
          <a:stretch/>
        </p:blipFill>
        <p:spPr>
          <a:xfrm>
            <a:off x="4859280" y="404640"/>
            <a:ext cx="3994200" cy="57214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25000"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11:38:29Z</dcterms:modified>
  <cp:revision>18</cp:revision>
  <dc:subject/>
  <dc:title>PowerPoint Presentation</dc:title>
</cp:coreProperties>
</file>