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79A2-AC92-4D46-B667-6F05589890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и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9041-8219-4A15-AF49-FDA3A9E4F1EA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внешний, видимый называется материальным или физичес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есть ещё и невидимый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"дух"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 также может быть внешним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ки, образ жизни, направляет стремл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и внешний, духовный и физический ми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йствительно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ую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8269-B525-4BD1-B849-1CB96F5CF3D4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повторим!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внеш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кружающ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, материа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увидеть, потро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димый мир: мысли, чув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я, настроения, жел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ми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вязанны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ми явлениями, с веро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 и служением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й и внутрен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й и духов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ир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ом живёт и частью котор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5A9D-A287-4DC9-A8A9-C38C99EE00EF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удесная песенка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. Ирины Языковой, муз. Юрия Пастер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Каждый день дарит 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ысячи чуд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лнца луч из-за ту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ыглянул с неб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звенели вокруг птичьи голо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 цветы расцвели – чудес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пе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го не видел глаз, не слышало ух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 приходило 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 сердце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17FC-EC5E-4596-9C28-D912525E0DC6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ёнными закон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р внешни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н велик и удивительно бог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6CAF-F51C-42CD-864B-AEAF152F4574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не менее богат и интересе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жите, какое время года изображается на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3386-63D3-4242-A5F8-77E046CF8185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какое время года на этой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2865-DC84-4A80-BA25-3D3C03C1B878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как изобразил осень И.И. Левитан в картине «Золотая ос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яет солнце, воды бл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ём улыбка, жизнь во всё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 радостно треп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аясь в небе голуб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деревья, блещут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ю воздух растворё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ир, цветущий мир приро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ком жизни упоё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И. Тютч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FE63-EB83-4CA8-B897-18F2069AC914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так велик, что мы можем вид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незначительную часть того, что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 происход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тому, что люди уме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вать свои знания, впечат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друг другу, распростра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о внешнем и даже внутрен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е. Мы, например, живём в России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учебников, журналов, книг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е узнать о Франции, Амер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е, даже можем знать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ло на земле тысячи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что такое узнать? Это значит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-то знания становятся на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янием. Какую-то часть све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с важных, мы принимаем в н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, запоминаем и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пользоваться, когда захотим. Т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входит в наш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. И внешний и внутрен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для человека, вместе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го жизнь. Но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ся важнее, чем внеш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86F2-C34D-48CB-B0A5-C163A08B85E6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нешний, и внутренний мир важны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вместе они составляют его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нутреннее оказывается важнее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мир зависит от на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его состояния, наш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й, чув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картины Айвазовского «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ессы  в лунную ночь» и «Морской бер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щание» и опишите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время суток изображено на карти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цвета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на небе солнышко или обла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н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ни делаю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передвигаю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вуки вы слышите в карти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чит ли здесь музы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это музы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ая или тих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ёлая или грустн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ли в ней пти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дно или тепло на этой картин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ет ли в ней ветер или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1FAF-89B6-455E-856A-D30B64A5BC74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EC61-1ADC-4CB6-97D9-09C753C25D3D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ный, з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разрушает всё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жает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х и доро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, а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излуча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и радость вок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, восстанавл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ное, утеш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щих, помо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даю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2410-1F75-43C5-B261-224618BCF64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88A4-2B3F-4C26-B162-37D72D35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AEE9-9DEC-41D2-9438-A0123EE9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246E-76D2-48BC-86E3-D9B751AA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638E-15C0-4047-865C-593D710B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3CAD-0B5E-45C5-B770-450AC04E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3C38-55EF-42BE-9CAF-4471AA5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6517-69FB-44DD-BF22-C591C1CD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8EB6-6F9B-4C33-8D61-44094F2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3110-A5AF-466D-B6A2-81DD2C18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3E85-33C7-4454-B0F6-0E726118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C404-6DC5-47F5-AA81-931BF628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906B-EDBF-4F03-92FA-38E2F50F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F0C4-9FC5-4CF9-8565-EC339B1C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3223-2C65-4E87-A756-5C33FDB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18D8-E206-452F-98EC-FFCD4B3C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64ED-E5C5-4AA7-8F61-4E7CFF5B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7B3E-EE41-47EC-9045-18859ACC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9F23-4316-4515-8E99-9BBEAADA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8D9C-CA1D-4BCC-93E2-6A43FE11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77C3-B1D9-4C9C-A783-AE1A40B9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A74D-1452-4F8C-9AFE-EAB2DCC0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2083-5A62-4628-B82E-45A12492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F4C0-A737-4B4E-BE72-FAB19C13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491D-899A-4981-B12A-1EB7B215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0D84-C76D-4B13-BADA-5B8F21B0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84D6-DECB-4957-A6E1-2FD8B422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7D04-A341-47D1-ABB8-EE4F6DC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270E-BE17-4C4D-95E7-71DC433F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3C3F-7E27-4B23-9BDB-B6F346E3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43DD-9AFB-459D-A3C0-7C6CBEC8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3F480-8B9A-4955-9FD7-50D12E5D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DA947-6346-4C50-812B-2FA23DCB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14C50-E616-4DE9-8BD8-8426DCC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D1C4-8030-4261-B626-3F98D926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8D264-E76B-4609-BC06-9A88E97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E1D95-5CAD-4B12-BBAD-004F4650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18EF8-A10E-4E86-A924-CE8719C9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BEC2D-F206-412E-9D5C-5B10DC17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1EC01-D6E8-4C7D-BB39-F3DD5C80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5D5BB-F1D0-4F47-86DC-5288AE64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224668-EB92-4789-B3DA-EBFB335C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B5878-CE19-490F-B38A-05A0B3DA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0DE44-EF8A-4675-957D-E62E3B7A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218F-69DC-406D-A6FA-79C70778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708F-6734-4D6D-822B-FC536099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7B90-FC34-49B6-8443-E4952020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E15D-CFD3-413D-913E-B575DA5C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2316-4DFB-4ACB-A478-25B6760A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C789-856D-487C-BBB5-3C1705519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8F80-1C92-47F3-872A-7F183D385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FC16-2031-4793-894F-225206E99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2958-5FBC-462D-A1DA-C3AB083D7E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 внешний и внутрен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Гала Волшебное утро - Абель ф-но.mp3" descr=""/>
          <p:cNvPicPr/>
          <p:nvPr/>
        </p:nvPicPr>
        <p:blipFill>
          <a:blip r:embed="rId1"/>
          <a:stretch/>
        </p:blipFill>
        <p:spPr>
          <a:xfrm>
            <a:off x="-5414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104 -0.00069 C 0.06788 -0.00069 0.12396 0.02774 0.12396 0.06311 C 0.12396 0.09848 0.06788 0.12714 -0.00104 0.12714 C -0.07014 0.12714 -0.12604 0.09848 -0.12604 0.06311 C -0.12604 0.02774 -0.07014 -0.00069 -0.00104 -0.00069 Z">
                                      <p:cBhvr>
                                        <p:cTn id="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 внешний, видимый называется материальным или физическим.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46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есть ещё и невидимый,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духовный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от слова "дух"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мир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. Он также может быть внешним по отношению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тупки, образ жизни, направляет стремления человека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и внешний, духовный и физический миры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реально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действительно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существуют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7" name="Picture 10" descr="7"/>
          <p:cNvPicPr/>
          <p:nvPr/>
        </p:nvPicPr>
        <p:blipFill>
          <a:blip r:embed="rId1"/>
          <a:stretch/>
        </p:blipFill>
        <p:spPr>
          <a:xfrm>
            <a:off x="684360" y="2708280"/>
            <a:ext cx="2828880" cy="374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8"/>
          <p:cNvPicPr/>
          <p:nvPr/>
        </p:nvPicPr>
        <p:blipFill>
          <a:blip r:embed="rId2"/>
          <a:stretch/>
        </p:blipFill>
        <p:spPr>
          <a:xfrm>
            <a:off x="5638680" y="2781360"/>
            <a:ext cx="2656080" cy="3672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60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69564"/>
                </a:solidFill>
                <a:latin typeface="Garamond"/>
              </a:rPr>
              <a:t>Давайте повторим!</a:t>
            </a:r>
            <a:br>
              <a:rPr sz="40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– окружающий мир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Физический, материаль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ожно увидеть, потрогать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утренний мир человека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-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евидимый мир: мысли, чувств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убеждения, настроения, желания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уховный мир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связанный 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уховными явлениями, с верой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Бога и служением Ем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ешний и внутренний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физический и духов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составляют единое целое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мир,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отором живёт и частью которого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является человек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2" name="Picture 9" descr="9"/>
          <p:cNvPicPr/>
          <p:nvPr/>
        </p:nvPicPr>
        <p:blipFill>
          <a:blip r:embed="rId1"/>
          <a:stretch/>
        </p:blipFill>
        <p:spPr>
          <a:xfrm>
            <a:off x="4910040" y="1197000"/>
            <a:ext cx="3827520" cy="4929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«Чудесная песенка»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Garamond"/>
              </a:rPr>
              <a:t>сл. Ирины Языковой, муз. Юрия Пастернака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35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1. Каждый день дарит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ысячи чудес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олнца луч из-за туч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ыглянул с небес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звенели вокруг птичьи голос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цветы расцвели – чудеса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Припев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ого не видел глаз, не слышало ухо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е приходило то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а сердце человек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88000" y="1341360"/>
            <a:ext cx="41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2. Летом грозы гремят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нег идет зимой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Удивительный мир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такой большой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колько разных чудес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загадок в нем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иветствуя мир, мы поем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3. Бог, Создатель чудес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поведал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ир беречь как наш до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екрасный хра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- Церковь Его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ы одна семья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дети Его, ты и я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7" name="SONG_001.MID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0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3770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определёнными законами.</a:t>
            </a:r>
            <a:br>
              <a:rPr sz="2000"/>
            </a:b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5516280"/>
            <a:ext cx="793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,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окружающий мир.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Он велик и удивительно богат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5" name="Picture 11" descr="1"/>
          <p:cNvPicPr/>
          <p:nvPr/>
        </p:nvPicPr>
        <p:blipFill>
          <a:blip r:embed="rId1"/>
          <a:stretch/>
        </p:blipFill>
        <p:spPr>
          <a:xfrm>
            <a:off x="1403280" y="1413000"/>
            <a:ext cx="6264360" cy="40780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310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Но не менее богат и интересен </a:t>
            </a: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внутренний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Скажите, какое время года изображается на фотографии?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038480" cy="5688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1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А какое время года на этой фотографии?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01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052640"/>
            <a:ext cx="7715520" cy="5564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Посмотрите как изобразил осень И.И. Левитан в картине «Золотая осень»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Сияет солнце, воды бл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а всём улыбка, жизнь во всём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еревья радостно треп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упаясь в небе голубо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Поют деревья, блещут воды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Любовью воздух растворён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 мир, цветущий мир природы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збытком жизни упоён…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(Ф.И. Тютчев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5" name="Picture 9" descr="3"/>
          <p:cNvPicPr/>
          <p:nvPr/>
        </p:nvPicPr>
        <p:blipFill>
          <a:blip r:embed="rId1"/>
          <a:stretch/>
        </p:blipFill>
        <p:spPr>
          <a:xfrm>
            <a:off x="3924360" y="1916280"/>
            <a:ext cx="4762440" cy="31636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4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14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4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14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14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14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14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814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325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так велик, что мы можем видеть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только незначительную часть того, что в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ем происходит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Благодаря тому, что люди умеют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ередавать свои знания, впечатл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пыт друг другу, распространяютс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нания о внешнем и даже внутренн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е. Мы, например, живём в России, н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з учебников, журналов, книг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ногое узнать о Франции, Америке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Африке, даже можем знать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исходило на земле тысячи лет назад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что такое узнать? Это значит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-то знания становятся наши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остоянием. Какую-то часть сведений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ля нас важных, мы принимаем в наш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мир, запоминаем и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ми пользоваться, когда захотим. Так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внешний входит в наш внутренни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. И внешний и внутренний мир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ажны для человека, вместе он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го жизнь. Но внутреннее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казывается важнее, чем внешнее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8" name="Чайк.Вр.года.06.июнь.Баркар.Плетнев.mp3" descr=""/>
          <p:cNvPicPr/>
          <p:nvPr/>
        </p:nvPicPr>
        <p:blipFill>
          <a:blip r:embed="rId1"/>
          <a:stretch/>
        </p:blipFill>
        <p:spPr>
          <a:xfrm>
            <a:off x="48592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5867280" y="4316400"/>
            <a:ext cx="2808360" cy="185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881440" cy="190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2735280" cy="18050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467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 внешний, и внутренний мир важны дл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еловека, вместе они составляют его жизнь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внутреннее оказывается важнее, ч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ее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ий мир зависит от нашег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его состояния, наших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едставлений, чувств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мотрите на картины Айвазовского «Вид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дессы  в лунную ночь» и «Морской берег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щание» и опишите картины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вы видит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е время суток изображено на картин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го цвета небо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Есть ли на небе солнышко или обла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они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они делают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 они передвигаются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звуки вы слышите в картинках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вучит ли здесь музыка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ая это музы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Громкая или тих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есёлая или грустн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ют ли в ней птицы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Холодно или тепло на этой картинк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ет ли в ней ветер или нет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4" name="Picture 12" descr="4"/>
          <p:cNvPicPr/>
          <p:nvPr/>
        </p:nvPicPr>
        <p:blipFill>
          <a:blip r:embed="rId1"/>
          <a:stretch/>
        </p:blipFill>
        <p:spPr>
          <a:xfrm>
            <a:off x="4140360" y="404640"/>
            <a:ext cx="3228840" cy="261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5"/>
          <p:cNvPicPr/>
          <p:nvPr/>
        </p:nvPicPr>
        <p:blipFill>
          <a:blip r:embed="rId2"/>
          <a:stretch/>
        </p:blipFill>
        <p:spPr>
          <a:xfrm>
            <a:off x="5148360" y="3068640"/>
            <a:ext cx="3558960" cy="30844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70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1814400" cy="251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644840" cy="244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66860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есчастный, зло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 разрушает всё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бижает даже самы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лизких и дороги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юдей, а добры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, излучающ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мир и радость вокру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бя, восстанавлив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азрушенное, утеш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традающих, помог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уждающим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3" name="Picture 12" descr="6"/>
          <p:cNvPicPr/>
          <p:nvPr/>
        </p:nvPicPr>
        <p:blipFill>
          <a:blip r:embed="rId1"/>
          <a:stretch/>
        </p:blipFill>
        <p:spPr>
          <a:xfrm>
            <a:off x="4859280" y="404640"/>
            <a:ext cx="3994200" cy="572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25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38:29Z</dcterms:modified>
  <cp:revision>18</cp:revision>
  <dc:subject/>
  <dc:title>PowerPoint Presentation</dc:title>
</cp:coreProperties>
</file>