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8A95-3E90-4079-922F-9B2EF619D0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../slides/slide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тери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роение 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9EDF-9824-40D1-8E17-720E0EDBAE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реин,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149-D230-421F-9FCA-E714899540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340-3B45-4B03-AB12-6FE6344EEB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125-4CE3-4182-A5E9-AF13CC047C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щевая промыш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Acetobacter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3F93-6C01-45A8-B51C-2A34A977A7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D730-EA5A-459D-8A2E-695AEE0661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1A5A-6221-45D5-A029-639D7127C5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1977-DE16-4729-8AA0-7E0BB225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977C-617D-4EFC-AD3E-52CEBC69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6EED-4C22-4F9E-9940-BAE46544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CD4E-4B93-46A0-A030-DCFD4920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4E9D-76F3-4DD2-91F3-89BBB653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82C5-8940-41B2-9811-2CD21A63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0D37-700E-47E9-9367-1C92F3ED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DBE-3785-4B1A-8FD7-F7A078D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533-5303-4CA9-A21D-2633D95A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A996-E0BC-4AD7-AB80-4ADAF56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60E7-7709-4A55-BE91-466D207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E7BE-E6F6-46C5-A685-02EA51F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C62-DC0C-4F09-9F42-3AB5CCD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6706-C9E2-4CB8-81EB-49621A1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138E-0F48-4D8A-8F72-E851C2CE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8681-5EFD-4194-BA53-18286C5F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828-2500-41CD-816E-918E47A5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066F-408B-4C70-9682-7212B16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5A85-CF9A-4CD7-835B-99BE9BC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22F8-A42F-4934-A91A-AF7A33B3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D2B7-AA7B-4B82-8F74-9AAF71B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7F5A-A2BD-4986-A52D-AFF1FF4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410C-2503-410B-B8A8-3914C36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8F7C-D0C0-4D82-9DCE-15E6416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42b1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78B-04F0-4727-BDEA-F7D775D48A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62d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1C4B-27CB-4667-9E43-754336F41F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Бактерии в жизни челове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о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промыш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уреин,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saltwater1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Picture 7" descr="34"/>
          <p:cNvPicPr/>
          <p:nvPr/>
        </p:nvPicPr>
        <p:blipFill>
          <a:blip r:embed="rId1"/>
          <a:stretch/>
        </p:blipFill>
        <p:spPr>
          <a:xfrm>
            <a:off x="6095880" y="1143000"/>
            <a:ext cx="2776680" cy="2190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1" descr="38435_or"/>
          <p:cNvPicPr/>
          <p:nvPr/>
        </p:nvPicPr>
        <p:blipFill>
          <a:blip r:embed="rId3"/>
          <a:stretch/>
        </p:blipFill>
        <p:spPr>
          <a:xfrm>
            <a:off x="533520" y="1828800"/>
            <a:ext cx="2590560" cy="3181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kombuchabrew-main_full"/>
          <p:cNvPicPr/>
          <p:nvPr/>
        </p:nvPicPr>
        <p:blipFill>
          <a:blip r:embed="rId4"/>
          <a:stretch/>
        </p:blipFill>
        <p:spPr>
          <a:xfrm>
            <a:off x="3276720" y="3048120"/>
            <a:ext cx="2682720" cy="350496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6" name="Picture 11" descr="i (1)"/>
          <p:cNvPicPr/>
          <p:nvPr/>
        </p:nvPicPr>
        <p:blipFill>
          <a:blip r:embed="rId1"/>
          <a:stretch/>
        </p:blipFill>
        <p:spPr>
          <a:xfrm>
            <a:off x="457200" y="1523880"/>
            <a:ext cx="25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i"/>
          <p:cNvPicPr/>
          <p:nvPr/>
        </p:nvPicPr>
        <p:blipFill>
          <a:blip r:embed="rId2"/>
          <a:stretch/>
        </p:blipFill>
        <p:spPr>
          <a:xfrm>
            <a:off x="4724280" y="83808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i (2)"/>
          <p:cNvPicPr/>
          <p:nvPr/>
        </p:nvPicPr>
        <p:blipFill>
          <a:blip r:embed="rId3"/>
          <a:stretch/>
        </p:blipFill>
        <p:spPr>
          <a:xfrm>
            <a:off x="2209680" y="4648320"/>
            <a:ext cx="2648160" cy="1976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8" descr="ecoli"/>
          <p:cNvPicPr/>
          <p:nvPr/>
        </p:nvPicPr>
        <p:blipFill>
          <a:blip r:embed="rId4"/>
          <a:stretch/>
        </p:blipFill>
        <p:spPr>
          <a:xfrm>
            <a:off x="6988320" y="3962520"/>
            <a:ext cx="2155680" cy="2628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ищевая промышленност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400" spc="-1" strike="noStrike">
                <a:solidFill>
                  <a:srgbClr val="ffffff"/>
                </a:solidFill>
                <a:latin typeface="Comic Sans MS"/>
              </a:rPr>
              <a:t>Acetobacter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1" descr="qy722_L (55)"/>
          <p:cNvPicPr/>
          <p:nvPr/>
        </p:nvPicPr>
        <p:blipFill>
          <a:blip r:embed="rId1"/>
          <a:stretch/>
        </p:blipFill>
        <p:spPr>
          <a:xfrm>
            <a:off x="5410080" y="167652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tk_sob_large_630_22_11_10_04_55"/>
          <p:cNvPicPr/>
          <p:nvPr/>
        </p:nvPicPr>
        <p:blipFill>
          <a:blip r:embed="rId2"/>
          <a:stretch/>
        </p:blipFill>
        <p:spPr>
          <a:xfrm>
            <a:off x="4343400" y="39625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1"/>
          <p:cNvPicPr/>
          <p:nvPr/>
        </p:nvPicPr>
        <p:blipFill>
          <a:blip r:embed="rId3"/>
          <a:stretch/>
        </p:blipFill>
        <p:spPr>
          <a:xfrm>
            <a:off x="1981080" y="1066680"/>
            <a:ext cx="3353040" cy="25686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Comic Sans MS"/>
              </a:rPr>
              <a:t>Конец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24T12:15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