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0315-27FB-4DA4-9EEE-791F8654EB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../slides/slide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тери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роение 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2BC8-A7A2-459D-A2F1-970AB69720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реин,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26D8-461A-4037-B373-8A9DEF13D0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A1EA-7589-42D4-BAD3-0CA001E055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343-0934-45AC-9BFD-CAB9565F21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щевая промыш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Acetobacter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AAD-9110-4463-8540-ED7F27D6EE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A59D-B5C0-406A-9C34-B5C2600BB6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5FE-38DB-430E-89B0-5A0DA4E11E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0070-4F60-4FC8-93BB-A9E2666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BBDA-3743-494B-A177-65C3D178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386A-1A96-41EF-863E-F0A14E5A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B693-6ADD-4D0A-972C-0CAC78AD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1A40-5227-4EA9-A6D5-88E54338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92C-AC9C-4404-A920-E484116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921A-1502-4E16-8D60-A848934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29AB-FB22-46DA-9E90-282A752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C22-EC8E-4C0D-8B46-7595F547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6851-715B-4133-8B7D-6DA8C61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2805-D543-40B8-AE02-8168DCD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2FCA-69C5-44AC-B805-97C004E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56E-26EF-48FE-8ADC-F0C63CA2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83CC-12C9-4904-9E7E-8D3A300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8FD-2DC9-4BA2-B4A0-4C407D4F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0E3E-58A5-438F-919D-90508779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ED2A-18A7-4E2D-814E-3D9D3973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0918-1175-4CD6-BA95-A26E7B3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A44F-1E73-4D19-9C3C-6C293131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2A1E-E723-41EE-B7DC-7B7E9A3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32AB-8670-4E78-8B86-DB88F10A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6F5A-0DB0-42D8-8FA9-8A08D42E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C736-AECA-4116-A48D-5DF9CAEA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E614-F76C-4ECD-9906-FB453C5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42b1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3F1-14E5-4FCF-BBF1-8A825C5E5B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62d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6BC-AFF8-4737-8FDD-B96AC54D74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Бактерии в жизни челове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о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промыш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уреин,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saltwater1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Picture 7" descr="34"/>
          <p:cNvPicPr/>
          <p:nvPr/>
        </p:nvPicPr>
        <p:blipFill>
          <a:blip r:embed="rId1"/>
          <a:stretch/>
        </p:blipFill>
        <p:spPr>
          <a:xfrm>
            <a:off x="6095880" y="1143000"/>
            <a:ext cx="2776680" cy="2190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1" descr="38435_or"/>
          <p:cNvPicPr/>
          <p:nvPr/>
        </p:nvPicPr>
        <p:blipFill>
          <a:blip r:embed="rId3"/>
          <a:stretch/>
        </p:blipFill>
        <p:spPr>
          <a:xfrm>
            <a:off x="533520" y="1828800"/>
            <a:ext cx="2590560" cy="3181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kombuchabrew-main_full"/>
          <p:cNvPicPr/>
          <p:nvPr/>
        </p:nvPicPr>
        <p:blipFill>
          <a:blip r:embed="rId4"/>
          <a:stretch/>
        </p:blipFill>
        <p:spPr>
          <a:xfrm>
            <a:off x="3276720" y="3048120"/>
            <a:ext cx="2682720" cy="350496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6" name="Picture 11" descr="i (1)"/>
          <p:cNvPicPr/>
          <p:nvPr/>
        </p:nvPicPr>
        <p:blipFill>
          <a:blip r:embed="rId1"/>
          <a:stretch/>
        </p:blipFill>
        <p:spPr>
          <a:xfrm>
            <a:off x="457200" y="1523880"/>
            <a:ext cx="25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i"/>
          <p:cNvPicPr/>
          <p:nvPr/>
        </p:nvPicPr>
        <p:blipFill>
          <a:blip r:embed="rId2"/>
          <a:stretch/>
        </p:blipFill>
        <p:spPr>
          <a:xfrm>
            <a:off x="4724280" y="83808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i (2)"/>
          <p:cNvPicPr/>
          <p:nvPr/>
        </p:nvPicPr>
        <p:blipFill>
          <a:blip r:embed="rId3"/>
          <a:stretch/>
        </p:blipFill>
        <p:spPr>
          <a:xfrm>
            <a:off x="2209680" y="4648320"/>
            <a:ext cx="2648160" cy="1976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8" descr="ecoli"/>
          <p:cNvPicPr/>
          <p:nvPr/>
        </p:nvPicPr>
        <p:blipFill>
          <a:blip r:embed="rId4"/>
          <a:stretch/>
        </p:blipFill>
        <p:spPr>
          <a:xfrm>
            <a:off x="6988320" y="3962520"/>
            <a:ext cx="2155680" cy="2628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ищевая промышленност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400" spc="-1" strike="noStrike">
                <a:solidFill>
                  <a:srgbClr val="ffffff"/>
                </a:solidFill>
                <a:latin typeface="Comic Sans MS"/>
              </a:rPr>
              <a:t>Acetobacter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1" descr="qy722_L (55)"/>
          <p:cNvPicPr/>
          <p:nvPr/>
        </p:nvPicPr>
        <p:blipFill>
          <a:blip r:embed="rId1"/>
          <a:stretch/>
        </p:blipFill>
        <p:spPr>
          <a:xfrm>
            <a:off x="5410080" y="167652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tk_sob_large_630_22_11_10_04_55"/>
          <p:cNvPicPr/>
          <p:nvPr/>
        </p:nvPicPr>
        <p:blipFill>
          <a:blip r:embed="rId2"/>
          <a:stretch/>
        </p:blipFill>
        <p:spPr>
          <a:xfrm>
            <a:off x="4343400" y="39625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1"/>
          <p:cNvPicPr/>
          <p:nvPr/>
        </p:nvPicPr>
        <p:blipFill>
          <a:blip r:embed="rId3"/>
          <a:stretch/>
        </p:blipFill>
        <p:spPr>
          <a:xfrm>
            <a:off x="1981080" y="1066680"/>
            <a:ext cx="3353040" cy="25686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Comic Sans MS"/>
              </a:rPr>
              <a:t>Конец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24T12:15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