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64A4-EEA4-4FC3-B85A-CF29AAB1A8E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../slides/slide1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ктерии в жизни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троение бак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ктерии и 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ктерии и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пыт  (влияние бактерий на продукты питани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E863-94F9-4D7C-A26D-D288F9A7F8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о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и – это примитивные одноклеточные организмы, имеющие микроскопические разм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бактерий измеряется в микрометрах (мкм). (1 мкм. равен 10-6м.). Средние размеры бактериальной клетки от 0,1 до 28 мк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альная клетка окружена плотной оболочкой, благодаря которой она сохраняет постоянную форму. Прочность оболочке придает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уреин,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характерен только для бактерий и не встречается в растительных и животных клетках. В цитоплазме располагается ядерное вещество, так как оформленного ядра у бактерий 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бактерии подвижны, и эта подвижность обусловлена наличием у них одного или нескольких жгутиков. Жгутик может вращаться со скоростью 3000 об/мин. Скорость высокая, если сравнивать со скоростью передвижения человека. Человек, передвигаясь с такой скоростью проходил бы за час 20-30 км., а не 4-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4C59-A658-42E3-9154-52DFD94912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ктерии и промышл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итывая разнообразие катализируемых бактериями химических реакций, неудивительно, что они широко используются в производстве, в ряде случаев с глубокой древности. Славу таких микроскопических помощников человека прокариоты делят с грибами, в первую очередь – дрожжами, которые обеспечивают большую часть процессов спиртового брожения, например при изготовлении вина и пива. Сейчас, когда стало возможным вводить в бактерии полезные гены, заставляя их синтезировать ценные вещества, например инсулин, промышленное применение этих живых лабораторий получило новый мощный стим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4717-A8E6-4476-952F-193403AA99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ктерии являются возбудителями многих болезней. Такие бактерии называются патогенными. Бактерии могут вызывать заболевания растений, животных, человека. У человека бактерии вызывают такие заболевания как ангина, тиф, холера, дизентерия, столбняк, туберкулез и другие, всего около 2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372B-AC5C-4D42-99AA-719D655E90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ищевая промышл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настоящее время бактерии применяются этой отраслью в основном для производства сыров, других кисломолочных продуктов и уксуса. Главные химические реакции здесь – образование кислот. Так, при получении уксуса бактерии рода 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Acetobacter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 окисляют этиловый спирт, содержащийся в сидре или других жидкостях, до уксусной кислоты. Аналогичные процессы происходят при квашении капусты: анаэробные бактерии сбраживают содержащиеся в листьях этого растения сахара до молочной кислоты, а также уксусной кислоты и различных спир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3BF7-9592-464D-8A5A-2A6D546E25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пыт (Выявление влияний бактерий на продукты питания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ы взяли три банки. В 2 банки налили сырого молока, а в третью банку – кипяченое. Накрыли крышками одну банку с сырым молоком и одну с кипяченым. Наблюдение проводили в течение 3-х дней. Результаты получились следующими. Сырое молоко в банке, незакрытой крышкой, скисло. В двух других банках появился неприятный запах, который у некипяченого молока был более си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нализируя результаты опыта, мы пришли к выводу, что бактерии гниения испортили молоко, а бактерии молочно-кислого брожения превратили его в простоквашу, которую можно употреблять в пищ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9150-9619-4E99-A3FB-400EAD1C63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22ED-BE0F-4E77-9111-D8533EE8CA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609F-081E-4711-A588-418657A3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EFE2-19C8-4E34-8172-0C01C6CF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5CEB-194D-4BA3-AE6D-08374EC0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CF63-591F-47D5-B9F9-BF18F3F2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695B-5166-41E5-83FF-638B80CB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7C4B-4AB8-4DA9-A634-40A8FD92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F17B-E719-4D64-8FA2-702C7A22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A502-C8CE-462F-972F-1904AE9E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68B4-7ED2-4434-9D30-31E69D39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35AC-11A9-470F-8CE7-A737548F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8C59-8312-4080-B987-386D7C6B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5DE7-E187-4914-A6C0-2FBCE36E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C6D8-1D6F-4E5A-915F-3C01257A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58AD-11C6-4435-A5CB-356925CC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34BF-9768-41EC-A2A5-44D3BF6A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1C48-87B3-4FB9-A80D-753457FB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66CB-3913-4BE8-A440-9850706C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C2E0-1305-45DD-8BDB-01F1A65E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F4B0-9A62-4EBE-9DEC-37303D14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B1BE-49DA-4BDD-B8D0-803E5D6D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94B0-829F-4C9E-AB15-701BC617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8943-18EF-4327-8118-BDBB1B12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D2957-4FBD-453F-BF39-2B04F53D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F2DF-862A-49D2-80AC-69E08C12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242b1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42b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81c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2030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62d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62d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62e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62e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292C-4B3E-4716-809E-7E83DBC6483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262d1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42b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81c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2030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62d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62d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A622-DC09-4A82-AD28-ED8A7F65AAF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Бактерии в жизни человек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27432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троение бактер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актерии и промышлен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актерии и боле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пыт  (влияние бактерий на продукты питани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Comic Sans MS"/>
              </a:rPr>
              <a:t>Строе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800600" y="1371600"/>
            <a:ext cx="4038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ктерии – это примитивные одноклеточные организмы, имеющие микроскопические размер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личина бактерий измеряется в микрометрах (мкм). (1 мкм. равен 10-6м.). Средние размеры бактериальной клетки от 0,1 до 28 мк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ктериальная клетка окружена плотной оболочкой, благодаря которой она сохраняет постоянную форму. Прочность оболочке придает 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муреин, 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ый характерен только для бактерий и не встречается в растительных и животных клетках. В цитоплазме располагается ядерное вещество, так как оформленного ядра у бактерий н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ие бактерии подвижны, и эта подвижность обусловлена наличием у них одного или нескольких жгутиков. Жгутик может вращаться со скоростью 3000 об/мин. Скорость высокая, если сравнивать со скоростью передвижения человека. Человек, передвигаясь с такой скоростью проходил бы за час 20-30 км., а не 4-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8" descr="saltwater1"/>
          <p:cNvPicPr/>
          <p:nvPr/>
        </p:nvPicPr>
        <p:blipFill>
          <a:blip r:embed="rId1"/>
          <a:stretch/>
        </p:blipFill>
        <p:spPr>
          <a:xfrm>
            <a:off x="304920" y="144792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5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Comic Sans MS"/>
              </a:rPr>
              <a:t>Бактерии и промышленн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9" name="Picture 7" descr="34"/>
          <p:cNvPicPr/>
          <p:nvPr/>
        </p:nvPicPr>
        <p:blipFill>
          <a:blip r:embed="rId1"/>
          <a:stretch/>
        </p:blipFill>
        <p:spPr>
          <a:xfrm>
            <a:off x="6095880" y="1143000"/>
            <a:ext cx="2776680" cy="21906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4648320" y="3943080"/>
            <a:ext cx="40384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-360" y="3885840"/>
            <a:ext cx="35053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Учитывая разнообразие катализируемых бактериями химических реакций, неудивительно, что они широко используются в производстве, в ряде случаев с глубокой древности. Славу таких микроскопических помощников человека прокариоты делят с грибами, в первую очередь – дрожжами, которые обеспечивают большую часть процессов спиртового брожения, например при изготовлении вина и пива. Сейчас, когда стало возможным вводить в бактерии полезные гены, заставляя их синтезировать ценные вещества, например инсулин, промышленное применение этих живых лабораторий получило новый мощный стиму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11" descr="38435_or"/>
          <p:cNvPicPr/>
          <p:nvPr/>
        </p:nvPicPr>
        <p:blipFill>
          <a:blip r:embed="rId3"/>
          <a:stretch/>
        </p:blipFill>
        <p:spPr>
          <a:xfrm>
            <a:off x="533520" y="1828800"/>
            <a:ext cx="2590560" cy="3181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kombuchabrew-main_full"/>
          <p:cNvPicPr/>
          <p:nvPr/>
        </p:nvPicPr>
        <p:blipFill>
          <a:blip r:embed="rId4"/>
          <a:stretch/>
        </p:blipFill>
        <p:spPr>
          <a:xfrm>
            <a:off x="3276720" y="3048120"/>
            <a:ext cx="2682720" cy="3504960"/>
          </a:xfrm>
          <a:prstGeom prst="rect">
            <a:avLst/>
          </a:prstGeom>
          <a:ln w="0">
            <a:noFill/>
          </a:ln>
        </p:spPr>
      </p:pic>
      <p:sp>
        <p:nvSpPr>
          <p:cNvPr id="53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6" name="Picture 11" descr="i (1)"/>
          <p:cNvPicPr/>
          <p:nvPr/>
        </p:nvPicPr>
        <p:blipFill>
          <a:blip r:embed="rId1"/>
          <a:stretch/>
        </p:blipFill>
        <p:spPr>
          <a:xfrm>
            <a:off x="457200" y="1523880"/>
            <a:ext cx="2511360" cy="3429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2" descr="i"/>
          <p:cNvPicPr/>
          <p:nvPr/>
        </p:nvPicPr>
        <p:blipFill>
          <a:blip r:embed="rId2"/>
          <a:stretch/>
        </p:blipFill>
        <p:spPr>
          <a:xfrm>
            <a:off x="4724280" y="838080"/>
            <a:ext cx="2422800" cy="34290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3" descr="i (2)"/>
          <p:cNvPicPr/>
          <p:nvPr/>
        </p:nvPicPr>
        <p:blipFill>
          <a:blip r:embed="rId3"/>
          <a:stretch/>
        </p:blipFill>
        <p:spPr>
          <a:xfrm>
            <a:off x="2209680" y="4648320"/>
            <a:ext cx="2648160" cy="19764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-3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Бактерии являются возбудителями многих болезней. Такие бактерии называются патогенными. Бактерии могут вызывать заболевания растений, животных, человека. У человека бактерии вызывают такие заболевания как ангина, тиф, холера, дизентерия, столбняк, туберкулез и другие, всего около 200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18" descr="ecoli"/>
          <p:cNvPicPr/>
          <p:nvPr/>
        </p:nvPicPr>
        <p:blipFill>
          <a:blip r:embed="rId4"/>
          <a:stretch/>
        </p:blipFill>
        <p:spPr>
          <a:xfrm>
            <a:off x="6988320" y="3962520"/>
            <a:ext cx="2155680" cy="262872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Comic Sans MS"/>
              </a:rPr>
              <a:t>Пищевая промышленность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В настоящее время бактерии применяются этой отраслью в основном для производства сыров, других кисломолочных продуктов и уксуса. Главные химические реакции здесь – образование кислот. Так, при получении уксуса бактерии рода </a:t>
            </a:r>
            <a:r>
              <a:rPr b="0" i="1" lang="ru-RU" sz="1400" spc="-1" strike="noStrike">
                <a:solidFill>
                  <a:srgbClr val="ffffff"/>
                </a:solidFill>
                <a:latin typeface="Comic Sans MS"/>
              </a:rPr>
              <a:t>Acetobacter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 окисляют этиловый спирт, содержащийся в сидре или других жидкостях, до уксусной кислоты. Аналогичные процессы происходят при квашении капусты: анаэробные бактерии сбраживают содержащиеся в листьях этого растения сахара до молочной кислоты, а также уксусной кислоты и различных спир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11" descr="qy722_L (55)"/>
          <p:cNvPicPr/>
          <p:nvPr/>
        </p:nvPicPr>
        <p:blipFill>
          <a:blip r:embed="rId1"/>
          <a:stretch/>
        </p:blipFill>
        <p:spPr>
          <a:xfrm>
            <a:off x="5410080" y="1676520"/>
            <a:ext cx="3402000" cy="25527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2" descr="tk_sob_large_630_22_11_10_04_55"/>
          <p:cNvPicPr/>
          <p:nvPr/>
        </p:nvPicPr>
        <p:blipFill>
          <a:blip r:embed="rId2"/>
          <a:stretch/>
        </p:blipFill>
        <p:spPr>
          <a:xfrm>
            <a:off x="4343400" y="396252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1"/>
          <p:cNvPicPr/>
          <p:nvPr/>
        </p:nvPicPr>
        <p:blipFill>
          <a:blip r:embed="rId3"/>
          <a:stretch/>
        </p:blipFill>
        <p:spPr>
          <a:xfrm>
            <a:off x="1981080" y="1066680"/>
            <a:ext cx="3353040" cy="2568600"/>
          </a:xfrm>
          <a:prstGeom prst="rect">
            <a:avLst/>
          </a:prstGeom>
          <a:ln w="0">
            <a:noFill/>
          </a:ln>
        </p:spPr>
      </p:pic>
      <p:sp>
        <p:nvSpPr>
          <p:cNvPr id="5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5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5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Comic Sans MS"/>
              </a:rPr>
              <a:t>Опыт (Выявление влияний бактерий на продукты питания)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Мы взяли три банки. В 2 банки налили сырого молока, а в третью банку – кипяченое. Накрыли крышками одну банку с сырым молоком и одну с кипяченым. Наблюдение проводили в течение 3-х дней. Результаты получились следующими. Сырое молоко в банке, незакрытой крышкой, скисло. В двух других банках появился неприятный запах, который у некипяченого молока был более сильны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Анализируя результаты опыта, мы пришли к выводу, что бактерии гниения испортили молоко, а бактерии молочно-кислого брожения превратили его в простоквашу, которую можно употреблять в пищ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Comic Sans MS"/>
              </a:rPr>
              <a:t>Конец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24T12:15:4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