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A629-4189-4AE2-9F7E-2C9C3C6FDE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../slides/slide1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ктерии в жизн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роение 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и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FD1B-A6B1-4E52-A008-E6E9C3489C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реин,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EAEA-A30B-4E33-A184-D29008B4D6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C990-03D9-4321-9E59-061232A260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A71A-2E37-4D8C-AE7E-138D6C0A1C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ищевая промыш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Acetobacter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E8E2-F5DF-4B29-B946-7B429E2B2C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9EBD-18BA-42F4-B5E6-2DC7D71A8F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A904-F62A-4973-90FD-BC7A219782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1083-A79B-49BA-BA5C-B839BE02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6ABA-580A-4BD5-A4A2-0C36C20F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CAB4-F83A-4FE4-8C50-95465A82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4897-1BA9-400B-8ADF-FAE3A16C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7583-07DB-4E22-BAE4-45ED6AD1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1397-3E26-4B59-860F-FB4C2A73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1FE3-E3DC-43C3-A0F8-80DFDA52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488E-922C-4727-B8F8-E3A4B97A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C1DE-C5FE-4ADD-93F1-3FF68FBB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1914-BB4E-48A6-8E94-58720222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857D-A551-40B6-90AF-86305AB3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7997-03BA-456E-B8BE-AAD3BF75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698A-8EF1-4904-9163-887A3371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43F7-DFB0-4082-8B39-9B5C1D1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1E5A-2384-4FBD-AB33-988CDBAA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11DE-DA84-4130-A031-80F76681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C6BF-95B7-4099-9E96-497A93A1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DBBD-3EAA-441D-9068-5497570F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183A-6A3E-4CB4-B345-F7C12D55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7F3B-B8B2-469A-BF8D-0D3751D0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97E7-43F0-484B-85D6-D6FBFA68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AB38-3381-4D50-B7FC-4987CFE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1A75-5614-4C16-9498-D58F89D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85E6-B215-4B4A-BC5B-A6F95CF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42b1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62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242b1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1a1f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869E-D310-4E0C-AAC0-F7E5C31A7EE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262d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7552d"/>
                </a:gs>
                <a:gs pos="100000">
                  <a:srgbClr val="4e5d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42b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81c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203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23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62d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f39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b32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43e2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04c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5522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24f2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d49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62d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2830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6532b"/>
                </a:gs>
                <a:gs pos="100000">
                  <a:srgbClr val="3944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d361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2b331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641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3b46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755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1f24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2C54-7138-4BB0-9D1B-EC0B166047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Бактерии в жизни человек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троение бакте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промышлен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актерии и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пыт  (влияние бактерий на продукты питан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Строе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– это примитивные одноклеточные организмы, имеющие микроскопические размер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а бактерий измеряется в микрометрах (мкм). (1 мкм. равен 10-6м.). Средние размеры бактериальной клетки от 0,1 до 28 мк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альная клетка окружена плотной оболочкой, благодаря которой она сохраняет постоянную форму. Прочность оболочке придает 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муреин, 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й характерен только для бактерий и не встречается в растительных и животных клетках. В цитоплазме располагается ядерное вещество, так как оформленного ядра у бактерий н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ие бактерии подвижны, и эта подвижность обусловлена наличием у них одного или нескольких жгутиков. Жгутик может вращаться со скоростью 3000 об/мин. Скорость высокая, если сравнивать со скоростью передвижения человека. Человек, передвигаясь с такой скоростью проходил бы за час 20-30 км., а не 4-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8" descr="saltwater1"/>
          <p:cNvPicPr/>
          <p:nvPr/>
        </p:nvPicPr>
        <p:blipFill>
          <a:blip r:embed="rId1"/>
          <a:stretch/>
        </p:blipFill>
        <p:spPr>
          <a:xfrm>
            <a:off x="304920" y="144792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Comic Sans MS"/>
              </a:rPr>
              <a:t>Бактерии и промышлен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29" name="Picture 7" descr="34"/>
          <p:cNvPicPr/>
          <p:nvPr/>
        </p:nvPicPr>
        <p:blipFill>
          <a:blip r:embed="rId1"/>
          <a:stretch/>
        </p:blipFill>
        <p:spPr>
          <a:xfrm>
            <a:off x="6095880" y="1143000"/>
            <a:ext cx="2776680" cy="2190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4648320" y="394308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3885840"/>
            <a:ext cx="35053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Учитывая разнообразие катализируемых бактериями химических реакций, неудивительно, что они широко используются в производстве, в ряде случаев с глубокой древности. Славу таких микроскопических помощников человека прокариоты делят с грибами, в первую очередь – дрожжами, которые обеспечивают большую часть процессов спиртового брожения, например при изготовлении вина и пива. Сейчас, когда стало возможным вводить в бактерии полезные гены, заставляя их синтезировать ценные вещества, например инсулин, промышленное применение этих живых лабораторий получило новый мощный стиму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11" descr="38435_or"/>
          <p:cNvPicPr/>
          <p:nvPr/>
        </p:nvPicPr>
        <p:blipFill>
          <a:blip r:embed="rId3"/>
          <a:stretch/>
        </p:blipFill>
        <p:spPr>
          <a:xfrm>
            <a:off x="533520" y="1828800"/>
            <a:ext cx="2590560" cy="3181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kombuchabrew-main_full"/>
          <p:cNvPicPr/>
          <p:nvPr/>
        </p:nvPicPr>
        <p:blipFill>
          <a:blip r:embed="rId4"/>
          <a:stretch/>
        </p:blipFill>
        <p:spPr>
          <a:xfrm>
            <a:off x="3276720" y="3048120"/>
            <a:ext cx="2682720" cy="3504960"/>
          </a:xfrm>
          <a:prstGeom prst="rect">
            <a:avLst/>
          </a:prstGeom>
          <a:ln w="0">
            <a:noFill/>
          </a:ln>
        </p:spPr>
      </p:pic>
      <p:sp>
        <p:nvSpPr>
          <p:cNvPr id="53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6" name="Picture 11" descr="i (1)"/>
          <p:cNvPicPr/>
          <p:nvPr/>
        </p:nvPicPr>
        <p:blipFill>
          <a:blip r:embed="rId1"/>
          <a:stretch/>
        </p:blipFill>
        <p:spPr>
          <a:xfrm>
            <a:off x="457200" y="1523880"/>
            <a:ext cx="2511360" cy="3429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i"/>
          <p:cNvPicPr/>
          <p:nvPr/>
        </p:nvPicPr>
        <p:blipFill>
          <a:blip r:embed="rId2"/>
          <a:stretch/>
        </p:blipFill>
        <p:spPr>
          <a:xfrm>
            <a:off x="4724280" y="838080"/>
            <a:ext cx="2422800" cy="3429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i (2)"/>
          <p:cNvPicPr/>
          <p:nvPr/>
        </p:nvPicPr>
        <p:blipFill>
          <a:blip r:embed="rId3"/>
          <a:stretch/>
        </p:blipFill>
        <p:spPr>
          <a:xfrm>
            <a:off x="2209680" y="4648320"/>
            <a:ext cx="2648160" cy="19764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mic Sans MS"/>
              </a:rPr>
              <a:t>Бактерии являются возбудителями многих болезней. Такие бактерии называются патогенными. Бактерии могут вызывать заболевания растений, животных, человека. У человека бактерии вызывают такие заболевания как ангина, тиф, холера, дизентерия, столбняк, туберкулез и другие, всего около 200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8" descr="ecoli"/>
          <p:cNvPicPr/>
          <p:nvPr/>
        </p:nvPicPr>
        <p:blipFill>
          <a:blip r:embed="rId4"/>
          <a:stretch/>
        </p:blipFill>
        <p:spPr>
          <a:xfrm>
            <a:off x="6988320" y="3962520"/>
            <a:ext cx="2155680" cy="262872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Пищевая промышленность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В настоящее время бактерии применяются этой отраслью в основном для производства сыров, других кисломолочных продуктов и уксуса. Главные химические реакции здесь – образование кислот. Так, при получении уксуса бактерии рода </a:t>
            </a:r>
            <a:r>
              <a:rPr b="0" i="1" lang="ru-RU" sz="1400" spc="-1" strike="noStrike">
                <a:solidFill>
                  <a:srgbClr val="ffffff"/>
                </a:solidFill>
                <a:latin typeface="Comic Sans MS"/>
              </a:rPr>
              <a:t>Acetobacter</a:t>
            </a: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 окисляют этиловый спирт, содержащийся в сидре или других жидкостях, до уксусной кислоты. Аналогичные процессы происходят при квашении капусты: анаэробные бактерии сбраживают содержащиеся в листьях этого растения сахара до молочной кислоты, а также уксусной кислоты и различных спир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11" descr="qy722_L (55)"/>
          <p:cNvPicPr/>
          <p:nvPr/>
        </p:nvPicPr>
        <p:blipFill>
          <a:blip r:embed="rId1"/>
          <a:stretch/>
        </p:blipFill>
        <p:spPr>
          <a:xfrm>
            <a:off x="5410080" y="1676520"/>
            <a:ext cx="3402000" cy="2552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tk_sob_large_630_22_11_10_04_55"/>
          <p:cNvPicPr/>
          <p:nvPr/>
        </p:nvPicPr>
        <p:blipFill>
          <a:blip r:embed="rId2"/>
          <a:stretch/>
        </p:blipFill>
        <p:spPr>
          <a:xfrm>
            <a:off x="4343400" y="396252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1"/>
          <p:cNvPicPr/>
          <p:nvPr/>
        </p:nvPicPr>
        <p:blipFill>
          <a:blip r:embed="rId3"/>
          <a:stretch/>
        </p:blipFill>
        <p:spPr>
          <a:xfrm>
            <a:off x="1981080" y="1066680"/>
            <a:ext cx="3353040" cy="25686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5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Опыт (Выявление влияний бактерий на продукты питания)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Мы взяли три банки. В 2 банки налили сырого молока, а в третью банку – кипяченое. Накрыли крышками одну банку с сырым молоком и одну с кипяченым. Наблюдение проводили в течение 3-х дней. Результаты получились следующими. Сырое молоко в банке, незакрытой крышкой, скисло. В двух других банках появился неприятный запах, который у некипяченого молока был более сильны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Анализируя результаты опыта, мы пришли к выводу, что бактерии гниения испортили молоко, а бактерии молочно-кислого брожения превратили его в простоквашу, которую можно употреблять в пищ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Comic Sans MS"/>
              </a:rPr>
              <a:t>Конец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24T12:15:4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