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BB4A-3A41-408F-ACDC-D5FBA362E29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../slides/slide1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ктерии в жизни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троение бак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актерии и промыш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актерии и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пыт  (влияние бактерий на продукты питани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A70B-0FE1-4F72-A144-8F3C052198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о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и – это примитивные одноклеточные организмы, имеющие микроскопические разм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бактерий измеряется в микрометрах (мкм). (1 мкм. равен 10-6м.). Средние размеры бактериальной клетки от 0,1 до 28 мк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альная клетка окружена плотной оболочкой, благодаря которой она сохраняет постоянную форму. Прочность оболочке придает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уреин,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характерен только для бактерий и не встречается в растительных и животных клетках. В цитоплазме располагается ядерное вещество, так как оформленного ядра у бактерий 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бактерии подвижны, и эта подвижность обусловлена наличием у них одного или нескольких жгутиков. Жгутик может вращаться со скоростью 3000 об/мин. Скорость высокая, если сравнивать со скоростью передвижения человека. Человек, передвигаясь с такой скоростью проходил бы за час 20-30 км., а не 4-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8ECA-C8DC-4606-AE2B-145AA6FE1E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ктерии и промышл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итывая разнообразие катализируемых бактериями химических реакций, неудивительно, что они широко используются в производстве, в ряде случаев с глубокой древности. Славу таких микроскопических помощников человека прокариоты делят с грибами, в первую очередь – дрожжами, которые обеспечивают большую часть процессов спиртового брожения, например при изготовлении вина и пива. Сейчас, когда стало возможным вводить в бактерии полезные гены, заставляя их синтезировать ценные вещества, например инсулин, промышленное применение этих живых лабораторий получило новый мощный стим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4494-F046-4B1D-BBCE-50D7D2BA99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актерии являются возбудителями многих болезней. Такие бактерии называются патогенными. Бактерии могут вызывать заболевания растений, животных, человека. У человека бактерии вызывают такие заболевания как ангина, тиф, холера, дизентерия, столбняк, туберкулез и другие, всего около 2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6BF7-F93C-4790-936E-2AB70F7440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ищевая промышл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настоящее время бактерии применяются этой отраслью в основном для производства сыров, других кисломолочных продуктов и уксуса. Главные химические реакции здесь – образование кислот. Так, при получении уксуса бактерии рода 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Acetobacter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 окисляют этиловый спирт, содержащийся в сидре или других жидкостях, до уксусной кислоты. Аналогичные процессы происходят при квашении капусты: анаэробные бактерии сбраживают содержащиеся в листьях этого растения сахара до молочной кислоты, а также уксусной кислоты и различных спир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6FF2-DACC-401E-AA1E-E413FB9D38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пыт (Выявление влияний бактерий на продукты питания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ы взяли три банки. В 2 банки налили сырого молока, а в третью банку – кипяченое. Накрыли крышками одну банку с сырым молоком и одну с кипяченым. Наблюдение проводили в течение 3-х дней. Результаты получились следующими. Сырое молоко в банке, незакрытой крышкой, скисло. В двух других банках появился неприятный запах, который у некипяченого молока был более си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нализируя результаты опыта, мы пришли к выводу, что бактерии гниения испортили молоко, а бактерии молочно-кислого брожения превратили его в простоквашу, которую можно употреблять в пищ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A88C-43A9-47CE-986E-6577F6A5F2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1098-E67F-4C3A-896A-B11E4768BA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BAD1-8FCE-4758-A146-9F3159ED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5838-8849-4B22-B689-B51878FF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6B28-9C4D-49BF-B352-6ACE7319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6620-29D0-4BD4-8616-EAB22BD8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2289-570C-4C67-BE14-DBDF4CF1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562E-2FE9-4BB1-9BC7-394B43D6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071F-3366-49EE-9E7A-8CEE15D7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9C92-999C-4B8A-8009-E6D7254E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8353-92A6-4F17-A4D0-7582DF95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92DC-9D57-4C68-8D06-0AA01F49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38FB-FF9B-4CA8-BE85-1D417523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E210B-7523-4D42-8D24-3F438FC6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27B3-38F7-4580-8559-D715A3BC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1A29-92F4-43E7-9DDD-BD0B68B4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A8C4-D588-41A0-8FA4-32C77212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2D9D-72F6-47D8-9519-334BE04F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0C86-BC01-48CB-829A-B05B5F09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53755-4ECD-4AA8-839D-18826366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C319E-75DC-4432-9F2E-370B3A89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9DC0-A2EB-4F5B-83C9-F2D2B1E2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4A2C-F85C-4824-A255-043875CD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1E35-8604-4C45-929C-56634320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BD68-B3C6-4A6B-B923-E67E1A13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BE76-C89F-405D-A688-85B6A260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242b1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42b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81c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2030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62d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62d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62e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62e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2175-CA4C-4882-A05E-F0C06B58B94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262d1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42b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81c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2030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62d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62d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1750-EEDF-42FC-B6D7-21AB8417127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Бактерии в жизни человек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27432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троение бактер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актерии и промышлен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актерии и боле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пыт  (влияние бактерий на продукты питани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Comic Sans MS"/>
              </a:rPr>
              <a:t>Строе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800600" y="1371600"/>
            <a:ext cx="4038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ктерии – это примитивные одноклеточные организмы, имеющие микроскопические размер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личина бактерий измеряется в микрометрах (мкм). (1 мкм. равен 10-6м.). Средние размеры бактериальной клетки от 0,1 до 28 мк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ктериальная клетка окружена плотной оболочкой, благодаря которой она сохраняет постоянную форму. Прочность оболочке придает 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муреин, 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ый характерен только для бактерий и не встречается в растительных и животных клетках. В цитоплазме располагается ядерное вещество, так как оформленного ядра у бактерий н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ие бактерии подвижны, и эта подвижность обусловлена наличием у них одного или нескольких жгутиков. Жгутик может вращаться со скоростью 3000 об/мин. Скорость высокая, если сравнивать со скоростью передвижения человека. Человек, передвигаясь с такой скоростью проходил бы за час 20-30 км., а не 4-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8" descr="saltwater1"/>
          <p:cNvPicPr/>
          <p:nvPr/>
        </p:nvPicPr>
        <p:blipFill>
          <a:blip r:embed="rId1"/>
          <a:stretch/>
        </p:blipFill>
        <p:spPr>
          <a:xfrm>
            <a:off x="304920" y="144792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5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Comic Sans MS"/>
              </a:rPr>
              <a:t>Бактерии и промышленн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9" name="Picture 7" descr="34"/>
          <p:cNvPicPr/>
          <p:nvPr/>
        </p:nvPicPr>
        <p:blipFill>
          <a:blip r:embed="rId1"/>
          <a:stretch/>
        </p:blipFill>
        <p:spPr>
          <a:xfrm>
            <a:off x="6095880" y="1143000"/>
            <a:ext cx="2776680" cy="21906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4648320" y="3943080"/>
            <a:ext cx="40384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-360" y="3885840"/>
            <a:ext cx="35053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Учитывая разнообразие катализируемых бактериями химических реакций, неудивительно, что они широко используются в производстве, в ряде случаев с глубокой древности. Славу таких микроскопических помощников человека прокариоты делят с грибами, в первую очередь – дрожжами, которые обеспечивают большую часть процессов спиртового брожения, например при изготовлении вина и пива. Сейчас, когда стало возможным вводить в бактерии полезные гены, заставляя их синтезировать ценные вещества, например инсулин, промышленное применение этих живых лабораторий получило новый мощный стиму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11" descr="38435_or"/>
          <p:cNvPicPr/>
          <p:nvPr/>
        </p:nvPicPr>
        <p:blipFill>
          <a:blip r:embed="rId3"/>
          <a:stretch/>
        </p:blipFill>
        <p:spPr>
          <a:xfrm>
            <a:off x="533520" y="1828800"/>
            <a:ext cx="2590560" cy="31813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kombuchabrew-main_full"/>
          <p:cNvPicPr/>
          <p:nvPr/>
        </p:nvPicPr>
        <p:blipFill>
          <a:blip r:embed="rId4"/>
          <a:stretch/>
        </p:blipFill>
        <p:spPr>
          <a:xfrm>
            <a:off x="3276720" y="3048120"/>
            <a:ext cx="2682720" cy="3504960"/>
          </a:xfrm>
          <a:prstGeom prst="rect">
            <a:avLst/>
          </a:prstGeom>
          <a:ln w="0">
            <a:noFill/>
          </a:ln>
        </p:spPr>
      </p:pic>
      <p:sp>
        <p:nvSpPr>
          <p:cNvPr id="53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6" name="Picture 11" descr="i (1)"/>
          <p:cNvPicPr/>
          <p:nvPr/>
        </p:nvPicPr>
        <p:blipFill>
          <a:blip r:embed="rId1"/>
          <a:stretch/>
        </p:blipFill>
        <p:spPr>
          <a:xfrm>
            <a:off x="457200" y="1523880"/>
            <a:ext cx="2511360" cy="3429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2" descr="i"/>
          <p:cNvPicPr/>
          <p:nvPr/>
        </p:nvPicPr>
        <p:blipFill>
          <a:blip r:embed="rId2"/>
          <a:stretch/>
        </p:blipFill>
        <p:spPr>
          <a:xfrm>
            <a:off x="4724280" y="838080"/>
            <a:ext cx="2422800" cy="34290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3" descr="i (2)"/>
          <p:cNvPicPr/>
          <p:nvPr/>
        </p:nvPicPr>
        <p:blipFill>
          <a:blip r:embed="rId3"/>
          <a:stretch/>
        </p:blipFill>
        <p:spPr>
          <a:xfrm>
            <a:off x="2209680" y="4648320"/>
            <a:ext cx="2648160" cy="19764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-3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Бактерии являются возбудителями многих болезней. Такие бактерии называются патогенными. Бактерии могут вызывать заболевания растений, животных, человека. У человека бактерии вызывают такие заболевания как ангина, тиф, холера, дизентерия, столбняк, туберкулез и другие, всего около 200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18" descr="ecoli"/>
          <p:cNvPicPr/>
          <p:nvPr/>
        </p:nvPicPr>
        <p:blipFill>
          <a:blip r:embed="rId4"/>
          <a:stretch/>
        </p:blipFill>
        <p:spPr>
          <a:xfrm>
            <a:off x="6988320" y="3962520"/>
            <a:ext cx="2155680" cy="262872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Comic Sans MS"/>
              </a:rPr>
              <a:t>Пищевая промышленность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В настоящее время бактерии применяются этой отраслью в основном для производства сыров, других кисломолочных продуктов и уксуса. Главные химические реакции здесь – образование кислот. Так, при получении уксуса бактерии рода </a:t>
            </a:r>
            <a:r>
              <a:rPr b="0" i="1" lang="ru-RU" sz="1400" spc="-1" strike="noStrike">
                <a:solidFill>
                  <a:srgbClr val="ffffff"/>
                </a:solidFill>
                <a:latin typeface="Comic Sans MS"/>
              </a:rPr>
              <a:t>Acetobacter</a:t>
            </a: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 окисляют этиловый спирт, содержащийся в сидре или других жидкостях, до уксусной кислоты. Аналогичные процессы происходят при квашении капусты: анаэробные бактерии сбраживают содержащиеся в листьях этого растения сахара до молочной кислоты, а также уксусной кислоты и различных спир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11" descr="qy722_L (55)"/>
          <p:cNvPicPr/>
          <p:nvPr/>
        </p:nvPicPr>
        <p:blipFill>
          <a:blip r:embed="rId1"/>
          <a:stretch/>
        </p:blipFill>
        <p:spPr>
          <a:xfrm>
            <a:off x="5410080" y="1676520"/>
            <a:ext cx="3402000" cy="25527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2" descr="tk_sob_large_630_22_11_10_04_55"/>
          <p:cNvPicPr/>
          <p:nvPr/>
        </p:nvPicPr>
        <p:blipFill>
          <a:blip r:embed="rId2"/>
          <a:stretch/>
        </p:blipFill>
        <p:spPr>
          <a:xfrm>
            <a:off x="4343400" y="396252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1"/>
          <p:cNvPicPr/>
          <p:nvPr/>
        </p:nvPicPr>
        <p:blipFill>
          <a:blip r:embed="rId3"/>
          <a:stretch/>
        </p:blipFill>
        <p:spPr>
          <a:xfrm>
            <a:off x="1981080" y="1066680"/>
            <a:ext cx="3353040" cy="2568600"/>
          </a:xfrm>
          <a:prstGeom prst="rect">
            <a:avLst/>
          </a:prstGeom>
          <a:ln w="0">
            <a:noFill/>
          </a:ln>
        </p:spPr>
      </p:pic>
      <p:sp>
        <p:nvSpPr>
          <p:cNvPr id="5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5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5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Comic Sans MS"/>
              </a:rPr>
              <a:t>Опыт (Выявление влияний бактерий на продукты питания)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Мы взяли три банки. В 2 банки налили сырого молока, а в третью банку – кипяченое. Накрыли крышками одну банку с сырым молоком и одну с кипяченым. Наблюдение проводили в течение 3-х дней. Результаты получились следующими. Сырое молоко в банке, незакрытой крышкой, скисло. В двух других банках появился неприятный запах, который у некипяченого молока был более сильны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Анализируя результаты опыта, мы пришли к выводу, что бактерии гниения испортили молоко, а бактерии молочно-кислого брожения превратили его в простоквашу, которую можно употреблять в пищ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Comic Sans MS"/>
              </a:rPr>
              <a:t>Конец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24T12:15:4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