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89AA-FB74-4816-9C81-39D15E63DE0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DBB9-E5F6-41F7-9322-3C39BDD458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 продолговатым мозгом находи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зжеч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верхность мозжечк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кора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ена серым веществом и имеет множество складок, извилин, борозд. Внутри мозжечка имеются ядра – скопления серого ве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CE98-F5C9-4A76-B4CB-879B5C95DF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жечок обеспечивает согласованность движений, равновесие тела и координацию дви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говатый мозг связан с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редн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межуточным мозг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ти отделы регулируют сложные двигательные рефлексы, обмен веществ и постоянство внутренн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F9FF-15CB-4AE6-A11B-4A7A4DDF89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ежуточный мозг (на рис. 80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казан красным цветом) состоит из парног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аламу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рительных бугров), разделенного 3-м желудочком мозга (рис. 80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ипоталаму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одбугорьем) (рис. 80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BB61-92C3-440F-B1CF-9B9093ADCE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ламус сходится вся информация от органов чувств. Они отсеивают малозначащие сведения и активизируют кору при получении важных для организма событий. В гипоталамусе сосредоточены вегетативные функции моз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AB09-CEF1-4A40-877F-792441C8C3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располагаются центры голода и насыщения, жажды и ее утоления, поддержания температуры тела на заданном уровне. Нейроны подбугорья посылают нейрогормоны, регулирующие работу гипоф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FC2E-EBB9-43AE-8BAB-2065931206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крупный отдел головного мозга 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льшие полуша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авое и левое (рис. 81). Левое полушарие управляет правой половиной тела, правое – левой. Полушария име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р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верхность коры очень велика благодаря наличию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зви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роз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145C-06D9-4891-A2DC-1A2F2852DE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озды разделяют большие полушария 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ис. 81, А)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б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емен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исоч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тылоч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лобной доле находятся центры, управляющие мышечными движе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F43F-363C-48C3-A64C-C3B9B2BE04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определяются цели деятельности и оцениваются ее результаты. Теменная доля связана с кожно-мышечной чувствительностью, затылочные – со зрением, височные – со слух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CBD3-808E-48CE-B50C-6DDC66E4D7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ки мозга, воспринимающие информацию от тех или иных органов чувств, называ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он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ис. 81, Б, В). Однако анализ и синтез получаемой информации происходит не только в 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4CB7-4B6A-4EE7-BF3F-2C05657600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сложной работе участвуют вся кора в целом и многие другие отделы мозга. У правшей в левом полушарии находятся речевые центры. У некоторых левшей они находятся в правом полушарии. Кора полушарий регулирует и контролирует работу всех орга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1652-6406-411F-BCC9-845260EA14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расположен спинной мозг? Какое значение имеет спинно-мозговая жидкость? Где она находит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те рис. 77. Найдите спинно-мозговой канал, центральный канал, серое и белое вещество. Объясните их зна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9DE7-E86C-43A9-98A9-DA0A8AF796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функционированием головного мозга, и в частности коры больших полушарий, связаны сознание человека, его память, мышление, речь, трудовая деятельность, т.е. все, что отличает человека от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9F2C-2647-4105-989D-279C97A384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ой мозг расположен в полости черепа. Тела нейронов находятся в сером веществе головного мозга. Поверхностный слой серого вещества больших полушарий и мозжечка образует кору, внутри мозга оно сосредоточено отдельными островками среди белого вещества. Эти островки серого вещества называются ядрами. В них находятся центры важных рефлек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3D09-18C9-4380-A9CD-F35E74AC12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говатый мозг, являясь продолжением спинного, по строению и функциям не отличается от него. Проводящие пути продолговатого мозга идут через мост в средний и промежуточный мозг и заканчиваются в коре. Особенно тесные связи имеются между продолговатым мозгом, средним и мозжечком. Чем выше располагаются отделы мозга, тем более сложную функцию они выполня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72E9-266D-45D6-9F1F-8F84178A26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е полушария подразделяются на лобные, теменные, затылочные и височные доли. В лобных долях находятся моторные зоны, здесь формируются сложные программы пове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4948-8D78-44C0-88B6-6E64E939C1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менных долях находятся зоны кожно-мышечной чувствительности, в затылочных – зрительные зоны, в височных – слуховые зоны. Речевые центры у всех правшей и у многих левшей находятся в левом полушарии. В коре больших полушарий завершается аналитико-синтетическая работа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DA29-1DAE-4BFF-83DB-B4EE2BDD4E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айдите на рис. 77 спинно-мозговые ганглии и ганглии симпатического ствола. Укажите, где показаны эти ганглии на рисунках, изображающих дуги соматического и автономного (вегетативного) рефлек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41F2-CD11-489C-A67C-74F5E09DAB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ой мозг находится в полости черепа. Твердая оболочка головного мозга отделена от мягких тканей щелью со спинно-мозговой жидкостью. Богатая сеть кровеносных сосудов снабжает ткани мозга кислородом и питательными веществами. Масса головного мозга составляет в среднем 1300–1400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13AD-BEE5-4469-9329-2753B12D31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а нервных клеток, образующих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ерое веще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аходятся как на поверхности мозга (в коре), так и внутри него сред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елого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 виде ядер). От головного мозга отходит 12 пар нервов, среди них блуждающий, регулирующий работу внутренних орга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1DDD-8661-4DE7-8651-261F08BB1D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роходит рядом с симпатическим стволом и дает ответвления к тем же органам, что и симпатический нерв. Чаще всего их действия противополож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4EC2-9D5F-478C-A05B-16457D1F27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делы головного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ой мозг имеет сложное строение, он состоит из нескольких отделов (рис. 8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0F5A-26C0-4268-BD5F-000EB5E8AF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долговатый моз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продолжением спинного мозга (см. также § 49). Он управляет сердечной деятельностью, дыханием, пищеварением и потоотделением. Продолговатый мозг переходит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связывает его с другими отделами головного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757C-C09A-4D30-8786-52D619A756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082A-D1C6-4A34-8C15-48398959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C6BC-07B2-4AAE-B227-34D987BA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749A-1AE0-4EDD-8F51-D0AB82D8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3FF3-C9D8-4DE9-8B83-231585EF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ED5C-92B8-4DEC-973E-F6CB6691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6525-A96C-4D5C-9511-39228B69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6A86-8D4A-4382-83C9-24C3BBBD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9F3B-9F4C-4493-A1E7-18B87BC8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02B3-E9D7-4EB3-A6B7-B6EDEFF2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8924-1B72-4B78-9316-ED4E9AA7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B470-9FEA-415F-893C-B99C6D27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061E-BCB2-4ED8-836C-24FDB4A7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C2E9-063B-4EEE-8EDC-28BF6235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C2A1-43ED-4176-A325-50017701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0F3A-DF31-4514-A433-BC8FB0A3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D0DE-079E-4137-B193-4DCC263D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F1CC-12A4-4FC2-894B-42736DC9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C3D0-6408-4255-8FFE-DCB006F8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C5D2-514D-4588-9A70-9F782486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8682-4DE9-4008-98A6-2663ED2B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D44C-8610-4172-9C78-DC02A098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1930-5885-48D7-A54B-8BCCCEA7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C035-37F6-40E8-A558-0B4F4881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8BDF-7C58-4779-862D-F6D83A02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555A-14CD-4DDD-A95A-FF0F64E5D6F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564A-4E1B-4766-B1FF-C01B2AC69EA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§ 50. Головной мозг: строение и функции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д продолговатым мозгом находится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озжечо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Поверхность мозжечка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(кора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редставлена серым веществом и имеет множество складок, извилин, борозд. Внутри мозжечка имеются ядра – скопления серого веществ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зжечок обеспечивает согласованность движений, равновесие тела и координацию движ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долговатый мозг связан со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редни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а также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ромежуточным мозго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Эти отделы регулируют сложные двигательные рефлексы, обмен веществ и постоянство внутренней сред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межуточный мозг (на рис. 80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казан красным цветом) состоит из парного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аламус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зрительных бугров), разделенного 3-м желудочком мозга (рис. 80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ипоталамусо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подбугорьем) (рис. 80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таламус сходится вся информация от органов чувств. Они отсеивают малозначащие сведения и активизируют кору при получении важных для организма событий. В гипоталамусе сосредоточены вегетативные функции мозг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десь располагаются центры голода и насыщения, жажды и ее утоления, поддержания температуры тела на заданном уровне. Нейроны подбугорья посылают нейрогормоны, регулирующие работу гипофиз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ый крупный отдел головного мозга –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ольшие полушар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правое и левое (рис. 81). Левое полушарие управляет правой половиной тела, правое – левой. Полушария имеют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ору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Поверхность коры очень велика благодаря наличию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звилин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ороз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розды разделяют большие полушария на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ол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рис. 81, А)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лобную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еменную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исочн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атылочн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В лобной доле находятся центры, управляющие мышечными движения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десь определяются цели деятельности и оцениваются ее результаты. Теменная доля связана с кожно-мышечной чувствительностью, затылочные – со зрением, височные – со слухо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астки мозга, воспринимающие информацию от тех или иных органов чувств, называют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онам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рис. 81, Б, В). Однако анализ и синтез получаемой информации происходит не только в них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этой сложной работе участвуют вся кора в целом и многие другие отделы мозга. У правшей в левом полушарии находятся речевые центры. У некоторых левшей они находятся в правом полушарии. Кора полушарий регулирует и контролирует работу всех орган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де расположен спинной мозг? Какое значение имеет спинно-мозговая жидкость? Где она находится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мотрите рис. 77. Найдите спинно-мозговой канал, центральный канал, серое и белое вещество. Объясните их значени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функционированием головного мозга, и в частности коры больших полушарий, связаны сознание человека, его память, мышление, речь, трудовая деятельность, т.е. все, что отличает человека от животн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res234D0F96-6FA1-4E9B-8E0D-BACE59BBE5A5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120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ыво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ловной мозг расположен в полости черепа. Тела нейронов находятся в сером веществе головного мозга. Поверхностный слой серого вещества больших полушарий и мозжечка образует кору, внутри мозга оно сосредоточено отдельными островками среди белого вещества. Эти островки серого вещества называются ядрами. В них находятся центры важных рефлек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долговатый мозг, являясь продолжением спинного, по строению и функциям не отличается от него. Проводящие пути продолговатого мозга идут через мост в средний и промежуточный мозг и заканчиваются в коре. Особенно тесные связи имеются между продолговатым мозгом, средним и мозжечком. Чем выше располагаются отделы мозга, тем более сложную функцию они выполняю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льшие полушария подразделяются на лобные, теменные, затылочные и височные доли. В лобных долях находятся моторные зоны, здесь формируются сложные программы повед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теменных долях находятся зоны кожно-мышечной чувствительности, в затылочных – зрительные зоны, в височных – слуховые зоны. Речевые центры у всех правшей и у многих левшей находятся в левом полушарии. В коре больших полушарий завершается аналитико-синтетическая работа моз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* Найдите на рис. 77 спинно-мозговые ганглии и ганглии симпатического ствола. Укажите, где показаны эти ганглии на рисунках, изображающих дуги соматического и автономного (вегетативного) рефлекс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res359512E0-99CF-40D4-B39A-7C069BE13D08"/>
          <p:cNvPicPr/>
          <p:nvPr/>
        </p:nvPicPr>
        <p:blipFill>
          <a:blip r:embed="rId1"/>
          <a:stretch/>
        </p:blipFill>
        <p:spPr>
          <a:xfrm>
            <a:off x="1619280" y="404640"/>
            <a:ext cx="5761080" cy="6120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ловной мозг находится в полости черепа. Твердая оболочка головного мозга отделена от мягких тканей щелью со спинно-мозговой жидкостью. Богатая сеть кровеносных сосудов снабжает ткани мозга кислородом и питательными веществами. Масса головного мозга составляет в среднем 1300–1400 г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ла нервных клеток, образующих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ерое веществ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находятся как на поверхности мозга (в коре), так и внутри него среди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елого веществ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в виде ядер). От головного мозга отходит 12 пар нервов, среди них блуждающий, регулирующий работу внутренних орган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н проходит рядом с симпатическим стволом и дает ответвления к тем же органам, что и симпатический нерв. Чаще всего их действия противополож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тделы головного мозг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ловной мозг имеет сложное строение, он состоит из нескольких отделов (рис. 8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res2654A160-5E11-4387-8C58-30AB320A21B8"/>
          <p:cNvPicPr/>
          <p:nvPr/>
        </p:nvPicPr>
        <p:blipFill>
          <a:blip r:embed="rId1"/>
          <a:stretch/>
        </p:blipFill>
        <p:spPr>
          <a:xfrm>
            <a:off x="900000" y="2276640"/>
            <a:ext cx="7056720" cy="4248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родолговатый мозг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является продолжением спинного мозга (см. также § 49). Он управляет сердечной деятельностью, дыханием, пищеварением и потоотделением. Продолговатый мозг переходит в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ос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который связывает его с другими отделами головного моз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4:57:06Z</dcterms:created>
  <dc:creator>54</dc:creator>
  <dc:description/>
  <dc:language>en-US</dc:language>
  <cp:lastModifiedBy>LEGION</cp:lastModifiedBy>
  <dcterms:modified xsi:type="dcterms:W3CDTF">2014-11-24T10:56:25Z</dcterms:modified>
  <cp:revision>4</cp:revision>
  <dc:subject/>
  <dc:title>§ 50. Головной мозг: строение и функции</dc:title>
</cp:coreProperties>
</file>