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1DAB-846C-4091-B8C5-F5830F851EF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C78F-BF5F-4402-B85D-F34D4D70F0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 продолговатым мозгом находи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зжеч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верхность мозжечк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кора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ставлена серым веществом и имеет множество складок, извилин, борозд. Внутри мозжечка имеются ядра – скопления серого ве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B02B-C9F7-44E9-A032-EBC0E9BABD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жечок обеспечивает согласованность движений, равновесие тела и координацию дви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говатый мозг связан с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редни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такж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межуточным мозг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ти отделы регулируют сложные двигательные рефлексы, обмен веществ и постоянство внутренн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B345-748A-4325-B654-70C048E1CA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ежуточный мозг (на рис. 80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казан красным цветом) состоит из парног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аламу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зрительных бугров), разделенного 3-м желудочком мозга (рис. 80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ипоталаму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подбугорьем) (рис. 80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A81B-A9E2-4DBD-A390-41BAECE26D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аламус сходится вся информация от органов чувств. Они отсеивают малозначащие сведения и активизируют кору при получении важных для организма событий. В гипоталамусе сосредоточены вегетативные функции моз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E87F-A632-4A8F-8A5D-310223BFE3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располагаются центры голода и насыщения, жажды и ее утоления, поддержания температуры тела на заданном уровне. Нейроны подбугорья посылают нейрогормоны, регулирующие работу гипоф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9E4C-31CA-46D1-B101-97FB8261E3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крупный отдел головного мозга –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ольшие полуша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равое и левое (рис. 81). Левое полушарие управляет правой половиной тела, правое – левой. Полушария име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р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верхность коры очень велика благодаря наличию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звил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ороз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8AF2-03C5-49EF-9387-69346BB5F4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озды разделяют большие полушария н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ис. 81, А)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обну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еменну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исоч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тылоч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лобной доле находятся центры, управляющие мышечными движе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14F6-4ADA-4112-BD87-650830DD16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определяются цели деятельности и оцениваются ее результаты. Теменная доля связана с кожно-мышечной чувствительностью, затылочные – со зрением, височные – со слух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C2C8-FB3D-4EAF-9BCC-A4F5B12553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ки мозга, воспринимающие информацию от тех или иных органов чувств, называ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он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ис. 81, Б, В). Однако анализ и синтез получаемой информации происходит не только в н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EFE3-38CD-4385-9948-62B4F6AEB8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й сложной работе участвуют вся кора в целом и многие другие отделы мозга. У правшей в левом полушарии находятся речевые центры. У некоторых левшей они находятся в правом полушарии. Кора полушарий регулирует и контролирует работу всех орга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A650-4AD7-4AB0-818E-05BE96CDE6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расположен спинной мозг? Какое значение имеет спинно-мозговая жидкость? Где она находитс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те рис. 77. Найдите спинно-мозговой канал, центральный канал, серое и белое вещество. Объясните их зна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6EE4-0857-4FEF-A65F-B22F22B100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функционированием головного мозга, и в частности коры больших полушарий, связаны сознание человека, его память, мышление, речь, трудовая деятельность, т.е. все, что отличает человека от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7D32-946D-4BB8-B265-27F4C8C4DE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ной мозг расположен в полости черепа. Тела нейронов находятся в сером веществе головного мозга. Поверхностный слой серого вещества больших полушарий и мозжечка образует кору, внутри мозга оно сосредоточено отдельными островками среди белого вещества. Эти островки серого вещества называются ядрами. В них находятся центры важных рефлек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5909-C3C7-428E-8205-4E1BFC3B89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говатый мозг, являясь продолжением спинного, по строению и функциям не отличается от него. Проводящие пути продолговатого мозга идут через мост в средний и промежуточный мозг и заканчиваются в коре. Особенно тесные связи имеются между продолговатым мозгом, средним и мозжечком. Чем выше располагаются отделы мозга, тем более сложную функцию они выполня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AC92-D89B-49A7-955A-4E460C9704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е полушария подразделяются на лобные, теменные, затылочные и височные доли. В лобных долях находятся моторные зоны, здесь формируются сложные программы пове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4482-BE2D-4185-978C-38D1993DA9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менных долях находятся зоны кожно-мышечной чувствительности, в затылочных – зрительные зоны, в височных – слуховые зоны. Речевые центры у всех правшей и у многих левшей находятся в левом полушарии. В коре больших полушарий завершается аналитико-синтетическая работа моз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6D4E-CC19-4E9D-812D-53E4774D22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Найдите на рис. 77 спинно-мозговые ганглии и ганглии симпатического ствола. Укажите, где показаны эти ганглии на рисунках, изображающих дуги соматического и автономного (вегетативного) рефлек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43BE-6D08-4B42-BFC2-82CE0FCF5A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ной мозг находится в полости черепа. Твердая оболочка головного мозга отделена от мягких тканей щелью со спинно-мозговой жидкостью. Богатая сеть кровеносных сосудов снабжает ткани мозга кислородом и питательными веществами. Масса головного мозга составляет в среднем 1300–1400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AF47-3EFB-4FD1-82F3-818781EBB6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а нервных клеток, образующих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ерое вещест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аходятся как на поверхности мозга (в коре), так и внутри него сред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елого ве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 виде ядер). От головного мозга отходит 12 пар нервов, среди них блуждающий, регулирующий работу внутренних орга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2840-990D-4F04-B57C-3D414AEA08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роходит рядом с симпатическим стволом и дает ответвления к тем же органам, что и симпатический нерв. Чаще всего их действия противополож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EFAB-E3BF-4E8B-A9C8-C1E7D7BA71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делы головного моз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ной мозг имеет сложное строение, он состоит из нескольких отделов (рис. 8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BDE0-9FD2-4E55-AB13-EF0F785F25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долговатый моз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ется продолжением спинного мозга (см. также § 49). Он управляет сердечной деятельностью, дыханием, пищеварением и потоотделением. Продолговатый мозг переходит 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с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й связывает его с другими отделами головного моз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05BC-53EC-4C3A-BB4C-D470001FF3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5E55-6EE8-4821-BBA7-5DF81CF5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7587-DD5C-493E-9DC4-3D1D0113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95DB-20CE-4DDF-847F-DB04312A7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BC53-1B5E-4584-A4D0-F0B4DBCC5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56E5-D34B-4200-AF27-9A58EE3E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F04A-7D6C-47A9-9E8B-0BDC4F0F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5AD1-177A-4E7F-9510-ABC4E2AB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859D-241F-4CA6-92F9-D6D1C221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773A-99EE-4B1F-B82E-2D887125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284E-3DFD-420D-BAE3-B7F03B22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C51C-8482-4347-ABDD-F4B1AE36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BE63-13BF-460F-AA8B-EE948139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3A17-08D7-4EAB-AABA-FE10F763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C357-A68C-4CD2-86C6-6F4AE61D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FE78-D405-4F14-80A4-389B328A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83DE-6416-40BF-B347-0468FD109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AC0D-AE75-44D9-A6B2-F91C2CA6C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CB03-AD25-42D7-9329-63660670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CC95-24FD-4D64-A9AB-5563D1E6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451F-C9CF-4B0D-913E-5A774971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949F-D1D4-4F60-ABBA-303D94CD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8F59-EA34-48C4-B937-8BE4BBA3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5801-1670-41AD-891B-7E272A16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A7BC-C43F-4F97-81E6-87F42049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16A9-3961-4FDB-946A-A479C50FCA4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5846-9836-424A-93CA-099F51CDF2D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§ 50. Головной мозг: строение и функции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д продолговатым мозгом находится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озжечо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Поверхность мозжечка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(кора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редставлена серым веществом и имеет множество складок, извилин, борозд. Внутри мозжечка имеются ядра – скопления серого веществ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зжечок обеспечивает согласованность движений, равновесие тела и координацию движ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долговатый мозг связан со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редни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а также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ромежуточным мозго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Эти отделы регулируют сложные двигательные рефлексы, обмен веществ и постоянство внутренней сред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межуточный мозг (на рис. 80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оказан красным цветом) состоит из парного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аламус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зрительных бугров), разделенного 3-м желудочком мозга (рис. 80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гипоталамусо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подбугорьем) (рис. 80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таламус сходится вся информация от органов чувств. Они отсеивают малозначащие сведения и активизируют кору при получении важных для организма событий. В гипоталамусе сосредоточены вегетативные функции мозг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десь располагаются центры голода и насыщения, жажды и ее утоления, поддержания температуры тела на заданном уровне. Нейроны подбугорья посылают нейрогормоны, регулирующие работу гипофиз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мый крупный отдел головного мозга –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большие полушар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правое и левое (рис. 81). Левое полушарие управляет правой половиной тела, правое – левой. Полушария имеют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ору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Поверхность коры очень велика благодаря наличию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звилин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бороз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орозды разделяют большие полушария на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ол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рис. 81, А):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лобную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еменную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височны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затылочны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В лобной доле находятся центры, управляющие мышечными движениям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десь определяются цели деятельности и оцениваются ее результаты. Теменная доля связана с кожно-мышечной чувствительностью, затылочные – со зрением, височные – со слухо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астки мозга, воспринимающие информацию от тех или иных органов чувств, называют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зонам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рис. 81, Б, В). Однако анализ и синтез получаемой информации происходит не только в них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этой сложной работе участвуют вся кора в целом и многие другие отделы мозга. У правшей в левом полушарии находятся речевые центры. У некоторых левшей они находятся в правом полушарии. Кора полушарий регулирует и контролирует работу всех орган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де расположен спинной мозг? Какое значение имеет спинно-мозговая жидкость? Где она находится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смотрите рис. 77. Найдите спинно-мозговой канал, центральный канал, серое и белое вещество. Объясните их значени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 функционированием головного мозга, и в частности коры больших полушарий, связаны сознание человека, его память, мышление, речь, трудовая деятельность, т.е. все, что отличает человека от животны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res234D0F96-6FA1-4E9B-8E0D-BACE59BBE5A5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1200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ывод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оловной мозг расположен в полости черепа. Тела нейронов находятся в сером веществе головного мозга. Поверхностный слой серого вещества больших полушарий и мозжечка образует кору, внутри мозга оно сосредоточено отдельными островками среди белого вещества. Эти островки серого вещества называются ядрами. В них находятся центры важных рефлек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долговатый мозг, являясь продолжением спинного, по строению и функциям не отличается от него. Проводящие пути продолговатого мозга идут через мост в средний и промежуточный мозг и заканчиваются в коре. Особенно тесные связи имеются между продолговатым мозгом, средним и мозжечком. Чем выше располагаются отделы мозга, тем более сложную функцию они выполняю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ольшие полушария подразделяются на лобные, теменные, затылочные и височные доли. В лобных долях находятся моторные зоны, здесь формируются сложные программы поведе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теменных долях находятся зоны кожно-мышечной чувствительности, в затылочных – зрительные зоны, в височных – слуховые зоны. Речевые центры у всех правшей и у многих левшей находятся в левом полушарии. В коре больших полушарий завершается аналитико-синтетическая работа мозг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* Найдите на рис. 77 спинно-мозговые ганглии и ганглии симпатического ствола. Укажите, где показаны эти ганглии на рисунках, изображающих дуги соматического и автономного (вегетативного) рефлекс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res359512E0-99CF-40D4-B39A-7C069BE13D08"/>
          <p:cNvPicPr/>
          <p:nvPr/>
        </p:nvPicPr>
        <p:blipFill>
          <a:blip r:embed="rId1"/>
          <a:stretch/>
        </p:blipFill>
        <p:spPr>
          <a:xfrm>
            <a:off x="1619280" y="404640"/>
            <a:ext cx="5761080" cy="6120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оловной мозг находится в полости черепа. Твердая оболочка головного мозга отделена от мягких тканей щелью со спинно-мозговой жидкостью. Богатая сеть кровеносных сосудов снабжает ткани мозга кислородом и питательными веществами. Масса головного мозга составляет в среднем 1300–1400 г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ла нервных клеток, образующих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ерое веществ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находятся как на поверхности мозга (в коре), так и внутри него сред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белого веществ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в виде ядер). От головного мозга отходит 12 пар нервов, среди них блуждающий, регулирующий работу внутренних орган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н проходит рядом с симпатическим стволом и дает ответвления к тем же органам, что и симпатический нерв. Чаще всего их действия противополож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Отделы головного мозг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оловной мозг имеет сложное строение, он состоит из нескольких отделов (рис. 80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res2654A160-5E11-4387-8C58-30AB320A21B8"/>
          <p:cNvPicPr/>
          <p:nvPr/>
        </p:nvPicPr>
        <p:blipFill>
          <a:blip r:embed="rId1"/>
          <a:stretch/>
        </p:blipFill>
        <p:spPr>
          <a:xfrm>
            <a:off x="900000" y="2276640"/>
            <a:ext cx="7056720" cy="4248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родолговатый мозг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является продолжением спинного мозга (см. также § 49). Он управляет сердечной деятельностью, дыханием, пищеварением и потоотделением. Продолговатый мозг переходит в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ос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который связывает его с другими отделами головного мозг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4:57:06Z</dcterms:created>
  <dc:creator>54</dc:creator>
  <dc:description/>
  <dc:language>en-US</dc:language>
  <cp:lastModifiedBy>LEGION</cp:lastModifiedBy>
  <dcterms:modified xsi:type="dcterms:W3CDTF">2014-11-24T10:56:25Z</dcterms:modified>
  <cp:revision>4</cp:revision>
  <dc:subject/>
  <dc:title>§ 50. Головной мозг: строение и функции</dc:title>
</cp:coreProperties>
</file>