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A452-8C24-4BA0-B2B0-04EABDBDB9B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ХИМИЯ В СЕЛЬСКОМ ХОЗЯЙ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C7E2-E731-4E91-9F88-7252FDE73F9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Химизация</a:t>
            </a:r>
            <a:r>
              <a:rPr b="1" lang="en-US" sz="1200" spc="-1" strike="noStrike">
                <a:solidFill>
                  <a:srgbClr val="ffff00"/>
                </a:solidFill>
                <a:latin typeface="Calibri"/>
              </a:rPr>
              <a:t> — это одно из направлений научно-техниче­ского прогресса, основанное на широком применении химиче­ских веществ, процессов и методов в различных отраслях, на­пример в сельском хозяй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362A-7EF5-445E-B9BE-3EF7C762B32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ff"/>
                </a:solidFill>
                <a:latin typeface="Impact"/>
              </a:rPr>
              <a:t>БАКТЕРИАЛЬНЫЙ РАК ТОМ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DD9A-C542-4035-A73C-AC149A1536D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9F9E-6AEE-4A6E-ADFB-F3EB4F8E3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2620-A6AF-4F43-B2A1-F87F294E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82C8-737C-4C19-BD30-AD4AFE9E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2EDB-4D22-4E54-A240-65CF1645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B971-6783-4C08-AC31-C4AE73A5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ED7E-4CB5-4C35-B8F1-D7EF62B8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1CE6-AAC3-49C6-B0C7-9856C4C5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3D4E-7030-432D-936B-5DCFC6E0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9E83-C08F-4FAB-838D-C605AE25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E209-E35A-4C6E-B899-7F47062B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17F5-25C3-41EB-B5CF-24927ED5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69E0-9BD1-4722-B2D7-56C0C845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30BA-FE8F-46FF-A6A7-1629434B2C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ole_pos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971640" y="333360"/>
            <a:ext cx="691344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ИМИЯ В СЕЛЬСКОМ ХОЗЯЙСТВЕ</a:t>
            </a:r>
            <a:endParaRPr b="0" lang="en-US" sz="2400" spc="1" strike="noStrike">
              <a:ln w="19080">
                <a:solidFill>
                  <a:srgbClr val="00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302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179280" y="3362760"/>
            <a:ext cx="6408720" cy="30801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Химизация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— это одно из направлений научно-техниче­ского прогресса, основанное на широком применении химиче­ских веществ, процессов и методов в различных отраслях, на­пример в сельском хозяйств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vine-028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041998001i2[1]"/>
          <p:cNvPicPr/>
          <p:nvPr/>
        </p:nvPicPr>
        <p:blipFill>
          <a:blip r:embed="rId1"/>
          <a:stretch/>
        </p:blipFill>
        <p:spPr>
          <a:xfrm>
            <a:off x="324000" y="0"/>
            <a:ext cx="8496000" cy="47530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img1[1]"/>
          <p:cNvPicPr/>
          <p:nvPr/>
        </p:nvPicPr>
        <p:blipFill>
          <a:blip r:embed="rId1"/>
          <a:stretch/>
        </p:blipFill>
        <p:spPr>
          <a:xfrm>
            <a:off x="1042920" y="836640"/>
            <a:ext cx="7129440" cy="51847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gr7a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0283488184[1]"/>
          <p:cNvPicPr/>
          <p:nvPr/>
        </p:nvPicPr>
        <p:blipFill>
          <a:blip r:embed="rId1"/>
          <a:stretch/>
        </p:blipFill>
        <p:spPr>
          <a:xfrm>
            <a:off x="0" y="0"/>
            <a:ext cx="74898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5"/>
          <p:cNvSpPr txBox="1"/>
          <p:nvPr/>
        </p:nvSpPr>
        <p:spPr>
          <a:xfrm>
            <a:off x="250920" y="0"/>
            <a:ext cx="856908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АКТЕРИАЛЬНЫЙ РАК ТОМАТА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st111_4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WordArt 5"/>
          <p:cNvSpPr txBox="1"/>
          <p:nvPr/>
        </p:nvSpPr>
        <p:spPr>
          <a:xfrm>
            <a:off x="1763640" y="2997360"/>
            <a:ext cx="2800440" cy="26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ОММОЗ ХЛОПЧАТНИКА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WordArt 6"/>
          <p:cNvSpPr txBox="1"/>
          <p:nvPr/>
        </p:nvSpPr>
        <p:spPr>
          <a:xfrm>
            <a:off x="5508720" y="2997360"/>
            <a:ext cx="32335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АКТЕРИАЛЬНАЯ РЯБУХА ТАБАКА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" name="WordArt 7"/>
          <p:cNvSpPr txBox="1"/>
          <p:nvPr/>
        </p:nvSpPr>
        <p:spPr>
          <a:xfrm>
            <a:off x="108000" y="6381720"/>
            <a:ext cx="330660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РЕБРИСТАЯ БОЛЕЗНЬ СВЕКЛЫ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Bir_agr_00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WordArt 5"/>
          <p:cNvSpPr txBox="1"/>
          <p:nvPr/>
        </p:nvSpPr>
        <p:spPr>
          <a:xfrm>
            <a:off x="1979640" y="5445000"/>
            <a:ext cx="4680000" cy="114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ЕЦ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24T10:56:54Z</dcterms:modified>
  <cp:revision>6</cp:revision>
  <dc:subject/>
  <dc:title>PowerPoint Presentation</dc:title>
</cp:coreProperties>
</file>