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CA0C-DDC4-4929-B39F-A0A0259F15A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ХИМИЯ В СЕЛЬСКОМ ХОЗЯЙ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C615-F3A3-47CF-A280-70B6B2FC040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Химизация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 — это одно из направлений научно-техниче­ского прогресса, основанное на широком применении химиче­ских веществ, процессов и методов в различных отраслях, на­пример в сельском хозяй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EC61-30CA-4985-8B09-A380F828AF9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ff"/>
                </a:solidFill>
                <a:latin typeface="Impact"/>
              </a:rPr>
              <a:t>БАКТЕРИАЛЬНЫЙ РАК ТО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66E1-F158-44F3-A4C8-6D76193DB0C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7238-1AD9-4B4C-B50E-6FD8B5D2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E6A5-8E20-445B-9E2B-0519B795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1A7B-F251-4806-B58B-C606EE36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D901-E045-4C3E-A688-A5C06164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2BAB-C926-411F-9B69-3C694A2B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E58E-CF38-4217-B56C-B90EF6FD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19F2-8D41-4F89-A9D0-DE3A0713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F8B8-0052-4219-9333-68F0227A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1FF5-7CE7-4152-986D-58E89DAB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440F-0121-4087-AF39-9F83511A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09A2-7358-4C94-B827-8EDBE92F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B6B6-D5AA-4BDA-B264-658DF968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3EE0-7B02-4260-90C2-0B52F80954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ole_pos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971640" y="333360"/>
            <a:ext cx="69134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ИМИЯ В СЕЛЬСКОМ ХОЗЯЙСТВЕ</a:t>
            </a:r>
            <a:endParaRPr b="0" lang="en-US" sz="2400" spc="1" strike="noStrike">
              <a:ln w="19080">
                <a:solidFill>
                  <a:srgbClr val="00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302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179280" y="3362760"/>
            <a:ext cx="6408720" cy="30801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Химизация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— это одно из направлений научно-техниче­ского прогресса, основанное на широком применении химиче­ских веществ, процессов и методов в различных отраслях, на­пример в сельском хозяйст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vine-02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041998001i2[1]"/>
          <p:cNvPicPr/>
          <p:nvPr/>
        </p:nvPicPr>
        <p:blipFill>
          <a:blip r:embed="rId1"/>
          <a:stretch/>
        </p:blipFill>
        <p:spPr>
          <a:xfrm>
            <a:off x="324000" y="0"/>
            <a:ext cx="8496000" cy="47530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img1[1]"/>
          <p:cNvPicPr/>
          <p:nvPr/>
        </p:nvPicPr>
        <p:blipFill>
          <a:blip r:embed="rId1"/>
          <a:stretch/>
        </p:blipFill>
        <p:spPr>
          <a:xfrm>
            <a:off x="1042920" y="836640"/>
            <a:ext cx="7129440" cy="51847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gr7a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0283488184[1]"/>
          <p:cNvPicPr/>
          <p:nvPr/>
        </p:nvPicPr>
        <p:blipFill>
          <a:blip r:embed="rId1"/>
          <a:stretch/>
        </p:blipFill>
        <p:spPr>
          <a:xfrm>
            <a:off x="0" y="0"/>
            <a:ext cx="74898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250920" y="0"/>
            <a:ext cx="856908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АКТЕРИАЛЬНЫЙ РАК ТОМАТА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st111_4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1763640" y="2997360"/>
            <a:ext cx="280044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ММОЗ ХЛОПЧАТНИК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5508720" y="2997360"/>
            <a:ext cx="32335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КТЕРИАЛЬНАЯ РЯБУХА ТАБАК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WordArt 7"/>
          <p:cNvSpPr txBox="1"/>
          <p:nvPr/>
        </p:nvSpPr>
        <p:spPr>
          <a:xfrm>
            <a:off x="108000" y="6381720"/>
            <a:ext cx="330660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РЕБРИСТАЯ БОЛЕЗНЬ СВЕКЛЫ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Bir_agr_00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 txBox="1"/>
          <p:nvPr/>
        </p:nvSpPr>
        <p:spPr>
          <a:xfrm>
            <a:off x="1979640" y="5445000"/>
            <a:ext cx="4680000" cy="11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ЕЦ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4T10:56:54Z</dcterms:modified>
  <cp:revision>6</cp:revision>
  <dc:subject/>
  <dc:title>PowerPoint Presentation</dc:title>
</cp:coreProperties>
</file>