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D650-BAE8-45EB-A14B-A0813D677F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ХИМ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3C0A-A9C0-43D1-94B3-26756685FE8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Химизация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D7F1-A7F8-4561-B59B-4C5AA2D6EE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Impact"/>
              </a:rPr>
              <a:t>БАКТЕРИАЛЬНЫЙ РАК ТО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1C68-E164-46C3-B88D-2813CD99D6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ADC-BA24-439D-9181-851F07AD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6A9-1343-46C1-9BA0-CDEF37E1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CA6-67E2-45B6-85CE-FC907FAB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6B3-2C52-40F6-B9AB-52D71321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772-7DF0-43F3-BB87-55E8C23A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737-7D44-4A62-A215-B7DC7ED2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4F5-D52C-41A5-8200-770EE385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8C4-EE7C-4ABF-B044-3440B3FA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7874-C67C-456F-A59C-FF7E6016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389-1A8C-4C93-BDD1-7CEDF851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D13-5933-4AC7-9604-F7AAB38F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F31-B32B-4FCE-861C-6F473C88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46A1-C1F3-4336-8B0D-B56E847AFC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ole_pos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971640" y="333360"/>
            <a:ext cx="6913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Я В СЕЛЬСКОМ ХОЗЯЙСТВЕ</a:t>
            </a:r>
            <a:endParaRPr b="0" lang="en-US" sz="2400" spc="1" strike="noStrike">
              <a:ln w="19080">
                <a:solidFill>
                  <a:srgbClr val="00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302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79280" y="3362760"/>
            <a:ext cx="6408720" cy="3080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Химизаци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vine-02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41998001i2[1]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g1[1]"/>
          <p:cNvPicPr/>
          <p:nvPr/>
        </p:nvPicPr>
        <p:blipFill>
          <a:blip r:embed="rId1"/>
          <a:stretch/>
        </p:blipFill>
        <p:spPr>
          <a:xfrm>
            <a:off x="1042920" y="836640"/>
            <a:ext cx="7129440" cy="5184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gr7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283488184[1]"/>
          <p:cNvPicPr/>
          <p:nvPr/>
        </p:nvPicPr>
        <p:blipFill>
          <a:blip r:embed="rId1"/>
          <a:stretch/>
        </p:blipFill>
        <p:spPr>
          <a:xfrm>
            <a:off x="0" y="0"/>
            <a:ext cx="7489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50920" y="0"/>
            <a:ext cx="85690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КТЕРИАЛЬНЫЙ РАК ТОМАТА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t111_4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1763640" y="2997360"/>
            <a:ext cx="280044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ММОЗ ХЛОПЧАТНИ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508720" y="2997360"/>
            <a:ext cx="3233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КТЕРИАЛЬНАЯ РЯБУХА ТАБА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108000" y="6381720"/>
            <a:ext cx="33066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ЕБРИСТАЯ БОЛЕЗНЬ СВЕКЛЫ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r_agr_00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1979640" y="5445000"/>
            <a:ext cx="46800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ЕЦ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0:56:54Z</dcterms:modified>
  <cp:revision>6</cp:revision>
  <dc:subject/>
  <dc:title>PowerPoint Presentation</dc:title>
</cp:coreProperties>
</file>