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AF77-13B3-4D86-BEFD-75B9192069C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ХИМИЯ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0986-729B-40C0-97D5-19AE430E8C0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Химизация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 — это одно из направлений научно-техниче­ского прогресса, основанное на широком применении химиче­ских веществ, процессов и методов в различных отраслях, на­пример в сельском хозяй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A0A3-D63B-4BBC-9955-5D8593299CC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Impact"/>
              </a:rPr>
              <a:t>БАКТЕРИАЛЬНЫЙ РАК ТО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5ADD-F3BA-433D-8094-D9EFD684295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23AE-1A04-44D9-ACF6-54E60435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7285-FDE3-43EE-907A-8A631493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40E-4798-4F6F-9871-D4A7DC22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97E8-80DC-4C39-899F-DF554050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966-129E-473B-A207-63C2520E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C02-1346-40BD-9C82-3358219A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32E-C1A7-450F-91FF-1A8F9780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4A1-5C50-4F2E-8E4B-9F08C0BD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31A-6D4E-47E7-875C-64373E15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155-CE96-406C-A2A5-D2B51B8A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AB90-BEDF-41F7-B975-E522415D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AD93-5DEC-497A-AC0C-3AF05CA9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71F0-A394-44C4-9784-D81B410C09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ole_pos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971640" y="333360"/>
            <a:ext cx="69134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Я В СЕЛЬСКОМ ХОЗЯЙСТВЕ</a:t>
            </a:r>
            <a:endParaRPr b="0" lang="en-US" sz="2400" spc="1" strike="noStrike">
              <a:ln w="19080">
                <a:solidFill>
                  <a:srgbClr val="00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302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79280" y="3362760"/>
            <a:ext cx="6408720" cy="3080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Химизация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— это одно из направлений научно-техниче­ского прогресса, основанное на широком применении химиче­ских веществ, процессов и методов в различных отраслях, на­пример в сельском хозяйст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vine-02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041998001i2[1]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4753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img1[1]"/>
          <p:cNvPicPr/>
          <p:nvPr/>
        </p:nvPicPr>
        <p:blipFill>
          <a:blip r:embed="rId1"/>
          <a:stretch/>
        </p:blipFill>
        <p:spPr>
          <a:xfrm>
            <a:off x="1042920" y="836640"/>
            <a:ext cx="7129440" cy="51847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gr7a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0283488184[1]"/>
          <p:cNvPicPr/>
          <p:nvPr/>
        </p:nvPicPr>
        <p:blipFill>
          <a:blip r:embed="rId1"/>
          <a:stretch/>
        </p:blipFill>
        <p:spPr>
          <a:xfrm>
            <a:off x="0" y="0"/>
            <a:ext cx="74898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50920" y="0"/>
            <a:ext cx="85690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КТЕРИАЛЬНЫЙ РАК ТОМАТА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st111_4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1763640" y="2997360"/>
            <a:ext cx="280044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ММОЗ ХЛОПЧАТНИ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5508720" y="2997360"/>
            <a:ext cx="32335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КТЕРИАЛЬНАЯ РЯБУХА ТАБА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108000" y="6381720"/>
            <a:ext cx="33066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ЕБРИСТАЯ БОЛЕЗНЬ СВЕКЛЫ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ir_agr_00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1979640" y="5445000"/>
            <a:ext cx="468000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ЕЦ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4T10:56:54Z</dcterms:modified>
  <cp:revision>6</cp:revision>
  <dc:subject/>
  <dc:title>PowerPoint Presentation</dc:title>
</cp:coreProperties>
</file>