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3DF8-16D7-44FE-8DC2-5F69C033AD3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ная система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к-презентация для учащихся 9 клас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ель: учитель естествознания ГСКОУ № 46 «Центр Рим» г.С-Пб Оспенникова М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D983-EF44-485C-9DEF-E4973C144B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Процесс поглощения бактерий фагоци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DDAF-DC50-43B7-85C4-3216295C37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ки крови под микроско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5131-B6C5-4E03-B5B7-BFE25B90C2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9900"/>
                </a:solidFill>
                <a:latin typeface="Calibri"/>
              </a:rPr>
              <a:t>Виру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000" spc="-1" strike="noStrike">
                <a:solidFill>
                  <a:srgbClr val="ff0000"/>
                </a:solidFill>
                <a:latin typeface="Calibri"/>
              </a:rPr>
              <a:t>ЛЕЙКОЦИ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8DE3-D8DF-4FD7-9055-7D8E5583DB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организм попали возбудители болезн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оциты вырабатывают специальные белки -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нтитела,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борются с конкретным возбудителем.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FF06-E05E-464D-A22C-B39AEDC2B4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, когда мы так много узнали о защитной функции крови, уточним следующи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alibri"/>
              </a:rPr>
              <a:t>Иммунитет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щитная реакция организма, оберегающая от инфекционных заболе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EF1D-3C81-4FF6-BFBA-44AA7242BD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не заболел, ему вводят вакцин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Вакц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медицинский препарат, предназначенный для выработки иммунитета к инфекционным заболеваниям и содержащий ослабленные микроорган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9223-B0AD-421F-9828-E058C8F305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уже заболел, ему вводят сыворот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ыворот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лазма крови, в которой находятся готовые антите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кусственный пассивный иммунит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72BE-1E92-4E7C-B556-2E2D2D087D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управляет иммунной систем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тетом управляет головной мозг, вернее часть мозга, которая называется  ГИПОТАЛАМУ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A735-0937-4F9F-AFA0-1C95A69A86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рмальное функционирование иммунной системы завис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т образа жизни – 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 окружающей среды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т наследственных факторов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т качества медицинских услуг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1ADE-9019-438F-B719-CCCE6BDF8C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цепт»  для укрепления иммун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и здоровое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на свежем воздух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от 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ение развлекательных заведений во время эпидем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ое соблюдение правил личной гиги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посещение лечащего врача, своевременные приви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AEC1-EB03-4A62-9DF0-A57726E862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в страну «</a:t>
            </a: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Иммунит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D7B3-C621-4868-A5E4-7DE8A43CDC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ните, ребят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соблюдая  мои «рецепты» вы сохраните свое здоровье и укрепите иммунитет. Именно он защитит вас от инфекционных заболеваний и  СП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 прививки не позволят бактериям и вирусам «захватить» ваш организм и победа будет на вашей сторон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0514-58D7-49B9-92FA-883A8C0217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помните, иммунитет дан вам от природы, а теряет его человек. Берегите этот ценный дар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829F-3F0B-46D8-B3FD-8EFA9735CA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ные Интернет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ed=1&amp;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rpt=simage&amp;ed=1&amp;t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ttp://images.yandex.ru/yandsearch?rpt=simage&amp;ed=1&amp;texthttp://img1.liveinternet.ru/images/attach/c/2/66/198/66198115_0_37227_dab5afe7_X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7-tub-ru.yandex.net/i?id=362345054-12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А.Попова. «Открытые уроки. Природоведение. Биология.» Москва, ВАКО, 201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5F9D-2A4E-40BC-9BD2-DDAD67A19D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7486-7D1C-4B56-960B-EBC9F0B26B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7450-EF73-49CC-9BA2-D9673CC42D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ожденный, крепкий, ослабленный приобрет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евает, сохраняет, обере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, жизн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ГИ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2D9B-5344-42E3-9350-415AE078E3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5f4ed"/>
                </a:solidFill>
                <a:latin typeface="Calibri"/>
              </a:rPr>
              <a:t>Здравствуйте, ребята! Чтобы попасть в страну «Иммунитет», надо решить  следующие тестовые задан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ритроциты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елые клетки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кровяные пласти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расные клетки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AFCA-CDD0-452E-9A7B-4E71878F33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ункции лейкоци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ранспорт кисло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щита организма от инфе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частие в свертывани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AEFB-C2BF-4143-81CB-F0BFA609C3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локровие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вышенное содержание эритроцитов в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едостаток в крови лейкоци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едостаток в крови эритроци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0147-B482-4F57-A958-26FF408897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Эритроциты образую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печ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селезе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 красном костном моз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4584-8F46-459C-AEB5-11722F02A8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 прекрасно справились с заданием и получаете пропуск!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м человека – сложная система с четко организованной работой каждого составляющ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эту систему постоянно атаку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актерии, грибки и виру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6682-9AA1-4159-BA36-77BD646F5D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ная система должна быть в постоянной готовности и окутывает организм со всех сторон. Однако организм может быть атакован через небольшие ранения и ссад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F827-8D30-499D-B9A7-B5F873304C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бой идут… фаг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гоци́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клетки иммунной системы, которые защищают организм путём поглощения (фагоцитоза) вредных чужеродных частиц, бактерий, а также мёртвых или погибающих клеток. Их название произошло от греческого phagein, «есть» или «поедать», и «-cyte» – кле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5355-4C21-4EAC-8C3D-ECEE070EB2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57A96-EBBF-48B6-A02F-5060336C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4705E-2E42-4669-91BE-B053E281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6B7E8-6E3E-4FA2-80AE-2D41260D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7C66E-98E3-4EDD-BC0B-B86391F1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168A-459D-4ED3-BA9A-C4DEA7B1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837B-D404-43EA-BE6C-89DA93EB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905D-CF98-4C97-B17A-E4E87687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C510-EE63-4F69-B3DB-D6668DBC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0A6A-CBD8-471C-85AD-285C7976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2274-0246-44A8-9D4F-E4176E4A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7574-D616-4D20-ABED-5C7D4A22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1D38C-5ECE-4C48-9C46-54DA9F1C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D866-31AA-4E7A-8DEF-834E5892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2DC1-58D5-4E63-A2F8-D366B2FC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60C0-C8B4-4534-ABFE-17475C97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6733-0CA9-43E1-BB2C-CB26FC2C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A548-E606-4355-A6EC-ABBFBADB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25DB1-0DD3-4CF8-8679-7E309B2B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0229D-33BD-419B-AB04-3ED9E1A7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F6F11-C9B7-49AB-8035-73700449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3025B-B9E8-4F77-8553-60E361FD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E0571-E2A0-4F4F-8FFB-CCF6C100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9BA9-6A2B-46D8-B734-3489E555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19F23-7C04-4D8E-AA22-EF044A6F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F160-DF01-4F74-BE14-F955157825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8A63-7150-4664-B9CB-6B689D45AF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Иммунная система организм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презентация для учащихся 9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ель: учитель естествознания ГСКОУ № 46 «Центр Рим» г.С-Пб Оспенникова М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Процесс поглощения бактерий фагоци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757520" y="1847880"/>
            <a:ext cx="5628960" cy="3162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5214960" y="2143080"/>
            <a:ext cx="3166920" cy="3167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етки крови под микроскоп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190600" y="2019240"/>
            <a:ext cx="4762800" cy="38102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Arial"/>
              </a:rPr>
              <a:t>Виру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ЛЕЙКОЦ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095560" y="1981080"/>
            <a:ext cx="4952880" cy="38862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в организм попали возбудители болезн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мфоциты вырабатывают специальные белки -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нтитела,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борются с конкретным возбудителем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перь, когда мы так много узнали о защитной функции крови, уточним следующие понят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Иммунитет -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щитная реакция организма, оберегающая от инфекционных заболев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бы человек не заболел, ему вводят вакцин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56800" y="1928880"/>
            <a:ext cx="782964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Вакц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едицинский препарат, предназначенный для выработки иммунитета к инфекционным заболеваниям и содержащий ослабленные микроорганиз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643200" y="4516560"/>
            <a:ext cx="2071800" cy="1560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человек уже заболел, ему вводят сыворотк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Сыворотк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– плазма крови, в которой находятся готовые антите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кусственный пассивный иммуните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управляет иммунной систем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2257560"/>
            <a:ext cx="3276720" cy="3333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мунитетом управляет головной мозг, вернее часть мозга, которая называется  ГИПОТАЛАМ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рмальное функционирование иммунной системы зависи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785680"/>
            <a:ext cx="822960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т образа жизни –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т окружающей среды –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т наследственных факторов –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т качества медицинских услуг –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Рецепт»  для укрепления иммунит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1424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е ре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е и здоровое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ых на свежем возду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аз от вредных привы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развлекательных заведений во время эпиде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гое соблюдение правил личной гиги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временное посещение лечащего врача, своевременные привив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7715160" y="1143000"/>
            <a:ext cx="1428840" cy="8953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ешествие в страну «</a:t>
            </a:r>
            <a:r>
              <a:rPr b="0" lang="ru-RU" sz="4400" spc="-1" strike="noStrike">
                <a:solidFill>
                  <a:srgbClr val="00005e"/>
                </a:solidFill>
                <a:latin typeface="Arial"/>
              </a:rPr>
              <a:t>Иммунит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Прускиня\Мои документы\336328990.gif"/>
          <p:cNvPicPr/>
          <p:nvPr/>
        </p:nvPicPr>
        <p:blipFill>
          <a:blip r:embed="rId1"/>
          <a:stretch/>
        </p:blipFill>
        <p:spPr>
          <a:xfrm>
            <a:off x="1428840" y="2071800"/>
            <a:ext cx="2423880" cy="3333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 flipV="1" rot="10800000">
            <a:off x="4214520" y="2414520"/>
            <a:ext cx="45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знакомьтесь: Доктор-иммун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мните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80720"/>
            <a:ext cx="7686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соблюдая  мои «рецепты» вы сохраните свое здоровье и укрепите иммунитет. Именно он защитит вас от инфекционных заболеваний и  СПИ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ческие прививки не позволят бактериям и вирусам «захватить» ваш организм и победа будет на вашей сторон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643880" y="500040"/>
            <a:ext cx="1857240" cy="19335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0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1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омните, иммунитет дан вам от природы, а теряет его человек. Берегите этот ценный дар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Documents and Settings\Прускиня\Мои документы\анимационные картинки\ангел.gif"/>
          <p:cNvPicPr/>
          <p:nvPr/>
        </p:nvPicPr>
        <p:blipFill>
          <a:blip r:embed="rId1"/>
          <a:stretch/>
        </p:blipFill>
        <p:spPr>
          <a:xfrm>
            <a:off x="2741760" y="1981080"/>
            <a:ext cx="3660480" cy="388620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ные Интернет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ages.yandex.ru/yandsearch?ed=1&amp;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ages.yandex.ru/yandsearch?rpt=simage&amp;ed=1&amp;t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ttp://images.yandex.ru/yandsearch?rpt=simage&amp;ed=1&amp;texthttp://img1.liveinternet.ru/images/attach/c/2/66/198/66198115_0_37227_dab5afe7_X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7-tub-ru.yandex.net/i?id=362345054-12-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.А.Попова. «Открытые уроки. Природоведение. Биология.» Москва, ВАКО,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57160" y="2000160"/>
          <a:ext cx="7858080" cy="451800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  <a:gridCol w="1571400"/>
              </a:tblGrid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прилага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г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57160" y="2000160"/>
          <a:ext cx="7858080" cy="451800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  <a:gridCol w="1571400"/>
              </a:tblGrid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прилага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г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ОЖДЕН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ЛЕВА-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Я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З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Береги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ЛАБЛЕН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РЕГ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-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мун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ожденный, крепкий, ослабленный приобрет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левает, сохраняет, обере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, жиз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818ff"/>
                </a:solidFill>
                <a:latin typeface="Arial"/>
              </a:rPr>
              <a:t>Здравствуйте, ребята! Чтобы попасть в страну «Иммунитет», надо решить  следующие тестовые задани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271440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Эритроциты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белые клетки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кровяные пластин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красные клетки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6286680" y="2500200"/>
            <a:ext cx="1857240" cy="19335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Функции лейкоци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999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транспорт кислор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защита организма от инфе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участие в свертывании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358040" y="642960"/>
            <a:ext cx="1428840" cy="19335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Малокровие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овышенное содержание эритроцитов в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достаток в крови лейкоци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недостаток в крови эритроци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286760" y="714240"/>
            <a:ext cx="1285920" cy="19335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Эритроциты образуют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 печ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в селезен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в красном костном моз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6858000" y="2000160"/>
            <a:ext cx="1714680" cy="2433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прекрасно справились с заданием и получаете пропуск!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71680" y="1928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м человека – сложная система с четко организованной работой каждого составляющ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эту систему постоянно атакую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актерии, грибки и виру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500960" y="500040"/>
            <a:ext cx="1214280" cy="1478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Прускиня\Мои документы\вирус.gif"/>
          <p:cNvPicPr/>
          <p:nvPr/>
        </p:nvPicPr>
        <p:blipFill>
          <a:blip r:embed="rId2"/>
          <a:stretch/>
        </p:blipFill>
        <p:spPr>
          <a:xfrm>
            <a:off x="3714840" y="4643280"/>
            <a:ext cx="2786040" cy="194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Прускиня\Мои документы\вирус.gif"/>
          <p:cNvPicPr/>
          <p:nvPr/>
        </p:nvPicPr>
        <p:blipFill>
          <a:blip r:embed="rId3"/>
          <a:stretch/>
        </p:blipFill>
        <p:spPr>
          <a:xfrm>
            <a:off x="3867120" y="4795920"/>
            <a:ext cx="2786040" cy="19429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9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0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мунная система должна быть в постоянной готовности и окутывает организм со всех сторон. Однако организм может быть атакован через небольшие ранения и ссад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4714920" y="5429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6215040" y="2000160"/>
            <a:ext cx="2676600" cy="40244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 бой идут… фагоц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гоци́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клетки иммунной системы, которые защищают организм путём поглощения (фагоцитоза) вредных чужеродных частиц, бактерий, а также мёртвых или погибающих клеток. Их название произошло от греческого phagein, «есть» или «поедать», и «-cyte» – кл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4:54:03Z</dcterms:created>
  <dc:creator>Прускиня</dc:creator>
  <dc:description/>
  <dc:language>en-US</dc:language>
  <cp:lastModifiedBy>LEGION</cp:lastModifiedBy>
  <dcterms:modified xsi:type="dcterms:W3CDTF">2014-11-24T10:57:53Z</dcterms:modified>
  <cp:revision>72</cp:revision>
  <dc:subject/>
  <dc:title>Иммунная система организ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