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7966-6595-4F38-A154-8D3D6EFB6AF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ная система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рок-презентация для учащихся 9 класс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тель: учитель естествознания ГСКОУ № 46 «Центр Рим» г.С-Пб Оспенникова М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AA0A-C4DD-472B-A95E-BA718FE7A5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Процесс поглощения бактерий фагоци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1FD5-1BC3-4B69-ACF1-16C7D465B6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етки крови под микроскоп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CC65-FC4E-4ED3-B7B1-CB0CC78BE8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9900"/>
                </a:solidFill>
                <a:latin typeface="Calibri"/>
              </a:rPr>
              <a:t>Вирус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000" spc="-1" strike="noStrike">
                <a:solidFill>
                  <a:srgbClr val="ff0000"/>
                </a:solidFill>
                <a:latin typeface="Calibri"/>
              </a:rPr>
              <a:t>ЛЕЙКОЦИ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140A-CC17-4CA2-9A9C-F821C51DC7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 организм попали возбудители болезн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мфоциты вырабатывают специальные белки - 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антитела,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е борются с конкретным возбудителем.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6D69-52E9-4D79-8D32-EDECB9D89F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, когда мы так много узнали о защитной функции крови, уточним следующие поня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Calibri"/>
              </a:rPr>
              <a:t>Иммунитет 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щитная реакция организма, оберегающая от инфекционных заболева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66BF-B986-441C-A15D-87957B40F0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человек не заболел, ему вводят вакцин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Вакц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медицинский препарат, предназначенный для выработки иммунитета к инфекционным заболеваниям и содержащий ослабленные микроорганиз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8C03-73C9-4614-BAFB-46C2B54C0D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человек уже заболел, ему вводят сыворотк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Сыворот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плазма крови, в которой находятся готовые антител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скусственный пассивный иммуните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3DB8-BED9-44E5-98EF-31099D8F28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управляет иммунной систем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итетом управляет головной мозг, вернее часть мозга, которая называется  ГИПОТАЛАМУ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BC44-77FE-4967-8B64-2DBF4E6214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ормальное функционирование иммунной системы зависи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т образа жизни – 5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т окружающей среды –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т наследственных факторов –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т качества медицинских услуг – 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EE55-85E8-40FD-8DA4-65CB8159AF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Рецепт»  для укрепления иммунит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людение режи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ое и здоровое 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ых на свежем воздух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аз от вредных привыч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ещение развлекательных заведений во время эпидем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гое соблюдение правил личной гиги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временное посещение лечащего врача, своевременные приви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4D0D-696A-4E3E-AEC8-F1F774744E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ешествие в страну «</a:t>
            </a:r>
            <a:r>
              <a:rPr b="0" lang="ru-RU" sz="1200" spc="-1" strike="noStrike">
                <a:solidFill>
                  <a:srgbClr val="c4bd97"/>
                </a:solidFill>
                <a:latin typeface="Calibri"/>
              </a:rPr>
              <a:t>Иммуните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025A-63CF-4E66-9DEC-A8C37E2C02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мните, ребят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соблюдая  мои «рецепты» вы сохраните свое здоровье и укрепите иммунитет. Именно он защитит вас от инфекционных заболеваний и  СПИ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ческие прививки не позволят бактериям и вирусам «захватить» ваш организм и победа будет на вашей стороне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C81E-4B3F-4E43-87BC-27873EDC51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помните, иммунитет дан вам от природы, а теряет его человек. Берегите этот ценный дар!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04BE-D7BA-4F89-B64C-2CA4C56C8F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ованные Интернет ресур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s.yandex.ru/yandsearch?ed=1&amp;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s.yandex.ru/yandsearch?rpt=simage&amp;ed=1&amp;t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ttp://images.yandex.ru/yandsearch?rpt=simage&amp;ed=1&amp;texthttp://img1.liveinternet.ru/images/attach/c/2/66/198/66198115_0_37227_dab5afe7_XL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7-tub-ru.yandex.net/i?id=362345054-12-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.А.Попова. «Открытые уроки. Природоведение. Биология.» Москва, ВАКО, 201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5166-30D2-42FF-9727-51D6511BA0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Давайте попробуем составить несложный синквейн на заданную тему: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69FB-E111-4D09-9454-DFEB11F369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Давайте попробуем составить несложный синквейн на заданную тему: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6A69-CA6C-4508-B41D-057D26AA85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и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ожденный, крепкий, ослабленный приобретенн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левает, сохраняет, оберег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е, жизнь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ЕГИ 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A5E5-DDF1-4F06-89A6-6F9711EC93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5f4ed"/>
                </a:solidFill>
                <a:latin typeface="Calibri"/>
              </a:rPr>
              <a:t>Здравствуйте, ребята! Чтобы попасть в страну «Иммунитет», надо решить  следующие тестовые задания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Эритроциты – э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белые клетки кров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кровяные пластин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красные клетки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433D-FA76-4E2E-AF7C-0B28C5529D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Функции лейкоци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транспорт кислоро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защита организма от инфек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участие в свертывании кро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ECA7-CF36-4A16-90A2-620D59C3D1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алокровие – э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овышенное содержание эритроцитов в кров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недостаток в крови лейкоци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едостаток в крови эритроци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2F3E-6F98-41FC-BF44-BEFB43FBA6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Эритроциты образуютс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 пече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в селезен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в красном костном моз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34E2-F501-4ABF-A755-C1AE52BD47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ы прекрасно справились с заданием и получаете пропуск!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м человека – сложная система с четко организованной работой каждого составляющ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эту систему постоянно атакую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актерии, грибки и виру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0004-5566-4BCB-B8A9-875C1FFDD9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ная система должна быть в постоянной готовности и окутывает организм со всех сторон. Однако организм может быть атакован через небольшие ранения и ссад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60CC-6065-4EB2-9795-DAE6F8985F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 бой идут… фагоц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гоци́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клетки иммунной системы, которые защищают организм путём поглощения (фагоцитоза) вредных чужеродных частиц, бактерий, а также мёртвых или погибающих клеток. Их название произошло от греческого phagein, «есть» или «поедать», и «-cyte» – клет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ECB8-5BD8-4978-8CEE-AB0022B396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AA513-0F66-44CA-8090-063FD8BD0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DDE5E-7254-4459-BF59-964D1930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D975D-4786-4604-A720-49412AA14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A0F59-30D9-4B3F-AE5F-E3BF313D5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1722-3A48-4492-9D54-D6D4CF625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A14C-63E5-4381-ACE3-8DBC3057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594B-E6FE-4A62-8972-4A563CCD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A2EB-18F8-452B-B138-4720EC11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C9004-955D-4E2C-AF9A-42BDBA6D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CB5F-D038-4C28-8245-6DF97346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22ED-0DDE-47CD-AC5D-FEEFB696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9310D-20DA-44EF-8A0B-C7E786F5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9C499-B230-4A3E-9E1A-C74779E2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6BDA-3EA8-4F97-877C-DBF62DAB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391D-D3F7-4ED5-B134-68227842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F91B-C253-4448-B2D5-4EB5FB2E4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50F30-6B79-4F8F-A301-13E6397C3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51A0B-A6E2-41CC-ABC7-BD2B6000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92F79-23B7-4276-88A9-7445C8FF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3EDAF-C6B7-4452-971C-FD25F076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410F0-89F5-4D07-A296-CEFCC075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C9B70-F8D4-44CB-9B18-1F213AC7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F40D5-ED29-41FD-925F-1616DCFB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9318A-9CE2-4A17-8BB9-94B31D13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82D0-53A7-4D93-968B-5605756ABD1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35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2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22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7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6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17E2-0AED-4737-A1AB-FCBBEB5AB28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Иммунная система организм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-презентация для учащихся 9 кла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итель: учитель естествознания ГСКОУ № 46 «Центр Рим» г.С-Пб Оспенникова М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Процесс поглощения бактерий фагоцит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1757520" y="1847880"/>
            <a:ext cx="5628960" cy="3162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2"/>
          <a:stretch/>
        </p:blipFill>
        <p:spPr>
          <a:xfrm>
            <a:off x="5214960" y="2143080"/>
            <a:ext cx="3166920" cy="31672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4175280" y="748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фагоц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4175280" y="748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фагоц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4175280" y="748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фагоц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4175280" y="748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фагоц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4175280" y="748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фагоц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етки крови под микроскоп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2190600" y="2019240"/>
            <a:ext cx="4762800" cy="381024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00"/>
                </a:solidFill>
                <a:latin typeface="Arial"/>
              </a:rPr>
              <a:t>Вирус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ЛЕЙКОЦ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2095560" y="1981080"/>
            <a:ext cx="4952880" cy="388620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сли в организм попали возбудители болезн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мфоциты вырабатывают специальные белки -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нтитела,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торые борются с конкретным возбудителем.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перь, когда мы так много узнали о защитной функции крови, уточним следующие понят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00"/>
                </a:solidFill>
                <a:latin typeface="Arial"/>
              </a:rPr>
              <a:t>Иммунитет -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защитная реакция организма, оберегающая от инфекционных заболева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бы человек не заболел, ему вводят вакцину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856800" y="1928880"/>
            <a:ext cx="782964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Вакци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медицинский препарат, предназначенный для выработки иммунитета к инфекционным заболеваниям и содержащий ослабленные микроорганиз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3643200" y="4516560"/>
            <a:ext cx="2071800" cy="156024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сли человек уже заболел, ему вводят сыворотку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00"/>
                </a:solidFill>
                <a:latin typeface="Arial"/>
              </a:rPr>
              <a:t>Сыворотка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– плазма крови, в которой находятся готовые антител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скусственный пассивный иммунитет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то управляет иммунной системо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838080" y="2257560"/>
            <a:ext cx="3276720" cy="33336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мунитетом управляет головной мозг, вернее часть мозга, которая называется  ГИПОТАЛАМ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рмальное функционирование иммунной системы зависи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2785680"/>
            <a:ext cx="8229600" cy="30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от образа жизни – 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от окружающей среды – 2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от наследственных факторов – 2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от качества медицинских услуг – 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Рецепт»  для укрепления иммунит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14240" y="2285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людение реж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ое и здоровое 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дых на свежем воздух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аз от вредных привыч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ещение развлекательных заведений во время эпидем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гое соблюдение правил личной гиги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евременное посещение лечащего врача, своевременные привив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7715160" y="1143000"/>
            <a:ext cx="1428840" cy="89532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7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утешествие в страну «</a:t>
            </a:r>
            <a:r>
              <a:rPr b="0" lang="ru-RU" sz="4400" spc="-1" strike="noStrike">
                <a:solidFill>
                  <a:srgbClr val="00005e"/>
                </a:solidFill>
                <a:latin typeface="Arial"/>
              </a:rPr>
              <a:t>Иммуните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Documents and Settings\Прускиня\Мои документы\336328990.gif"/>
          <p:cNvPicPr/>
          <p:nvPr/>
        </p:nvPicPr>
        <p:blipFill>
          <a:blip r:embed="rId1"/>
          <a:stretch/>
        </p:blipFill>
        <p:spPr>
          <a:xfrm>
            <a:off x="1428840" y="2071800"/>
            <a:ext cx="2423880" cy="33336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 flipV="1" rot="10800000">
            <a:off x="4214520" y="2414520"/>
            <a:ext cx="45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Познакомьтесь: Доктор-иммуно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помните, ребя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980720"/>
            <a:ext cx="7686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лько соблюдая  мои «рецепты» вы сохраните свое здоровье и укрепите иммунитет. Именно он защитит вас от инфекционных заболеваний и  СПИ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филактические прививки не позволят бактериям и вирусам «захватить» ваш организм и победа будет на вашей стороне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" descr="C:\Documents and Settings\Прускиня\Мои документы\336328990.jpg.gif"/>
          <p:cNvPicPr/>
          <p:nvPr/>
        </p:nvPicPr>
        <p:blipFill>
          <a:blip r:embed="rId1"/>
          <a:stretch/>
        </p:blipFill>
        <p:spPr>
          <a:xfrm>
            <a:off x="7643880" y="500040"/>
            <a:ext cx="1857240" cy="193356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5" dur="2000" fill="hold"/>
                                        <p:tgtEl>
                                          <p:spTgt spid="1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0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1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indefinite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indefinite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помните, иммунитет дан вам от природы, а теряет его человек. Берегите этот ценный дар!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C:\Documents and Settings\Прускиня\Мои документы\анимационные картинки\ангел.gif"/>
          <p:cNvPicPr/>
          <p:nvPr/>
        </p:nvPicPr>
        <p:blipFill>
          <a:blip r:embed="rId1"/>
          <a:stretch/>
        </p:blipFill>
        <p:spPr>
          <a:xfrm>
            <a:off x="2741760" y="1981080"/>
            <a:ext cx="3660480" cy="388620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пользованные Интернет 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images.yandex.ru/yandsearch?ed=1&amp;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images.yandex.ru/yandsearch?rpt=simage&amp;ed=1&amp;t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ttp://images.yandex.ru/yandsearch?rpt=simage&amp;ed=1&amp;texthttp://img1.liveinternet.ru/images/attach/c/2/66/198/66198115_0_37227_dab5afe7_XL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im7-tub-ru.yandex.net/i?id=362345054-12-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.А.Попова. «Открытые уроки. Природоведение. Биология.» Москва, ВАКО, 2010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0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Давайте попробуем составить несложный синквейн на заданную тему: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857160" y="2000160"/>
          <a:ext cx="7858080" cy="4518000"/>
        </p:xfrm>
        <a:graphic>
          <a:graphicData uri="http://schemas.openxmlformats.org/drawingml/2006/table">
            <a:tbl>
              <a:tblPr/>
              <a:tblGrid>
                <a:gridCol w="1571760"/>
                <a:gridCol w="1571760"/>
                <a:gridCol w="1571400"/>
                <a:gridCol w="1571760"/>
                <a:gridCol w="1571400"/>
              </a:tblGrid>
              <a:tr h="1106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ммунит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 прилагатель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 глаго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существитель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в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ко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то делае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ого? 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ИММУНИТ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0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Давайте попробуем составить несложный синквейн на заданную тему: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857160" y="2000160"/>
          <a:ext cx="7858080" cy="4518000"/>
        </p:xfrm>
        <a:graphic>
          <a:graphicData uri="http://schemas.openxmlformats.org/drawingml/2006/table">
            <a:tbl>
              <a:tblPr/>
              <a:tblGrid>
                <a:gridCol w="1571760"/>
                <a:gridCol w="1571760"/>
                <a:gridCol w="1571400"/>
                <a:gridCol w="1571760"/>
                <a:gridCol w="1571400"/>
              </a:tblGrid>
              <a:tr h="1106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ммунит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 прилагатель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 глаго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существитель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в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ко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то делае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ого? 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ОЖДЕН-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ЛЕВА-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ДОРОВ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ИММУНИТ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П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ХРАНЯ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З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Береги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ЛАБЛЕН-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РЕГА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БРЕТЕ-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муни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ожденный, крепкий, ослабленный приобрете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длевает, сохраняет, оберег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доровье, жизн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ЕГИ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818ff"/>
                </a:solidFill>
                <a:latin typeface="Arial"/>
              </a:rPr>
              <a:t>Здравствуйте, ребята! Чтобы попасть в страну «Иммунитет», надо решить  следующие тестовые задания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00040" y="2714400"/>
            <a:ext cx="82296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Эритроциты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белые клетки кров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кровяные пластин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красные клетки кр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" descr="C:\Documents and Settings\Прускиня\Мои документы\336328990.jpg.gif"/>
          <p:cNvPicPr/>
          <p:nvPr/>
        </p:nvPicPr>
        <p:blipFill>
          <a:blip r:embed="rId1"/>
          <a:stretch/>
        </p:blipFill>
        <p:spPr>
          <a:xfrm>
            <a:off x="6286680" y="2500200"/>
            <a:ext cx="1857240" cy="193356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2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5840" y="428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 Функции лейкоцит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14400" y="19998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транспорт кислоро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защита организма от инфек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участие в свертывании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" descr="C:\Documents and Settings\Прускиня\Мои документы\336328990.jpg.gif"/>
          <p:cNvPicPr/>
          <p:nvPr/>
        </p:nvPicPr>
        <p:blipFill>
          <a:blip r:embed="rId1"/>
          <a:stretch/>
        </p:blipFill>
        <p:spPr>
          <a:xfrm>
            <a:off x="7358040" y="642960"/>
            <a:ext cx="1428840" cy="193356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indefinite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4" dur="indefinite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5" dur="indefinite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. Малокровие – э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повышенное содержание эритроцитов в кров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недостаток в крови лейкоци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недостаток в крови эритроци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" descr="C:\Documents and Settings\Прускиня\Мои документы\336328990.jpg.gif"/>
          <p:cNvPicPr/>
          <p:nvPr/>
        </p:nvPicPr>
        <p:blipFill>
          <a:blip r:embed="rId1"/>
          <a:stretch/>
        </p:blipFill>
        <p:spPr>
          <a:xfrm>
            <a:off x="7286760" y="714240"/>
            <a:ext cx="1285920" cy="193356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. Эритроциты образуются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в пече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в селезенк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в красном костном мозг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C:\Documents and Settings\Прускиня\Мои документы\336328990.jpg.gif"/>
          <p:cNvPicPr/>
          <p:nvPr/>
        </p:nvPicPr>
        <p:blipFill>
          <a:blip r:embed="rId1"/>
          <a:stretch/>
        </p:blipFill>
        <p:spPr>
          <a:xfrm>
            <a:off x="6858000" y="2000160"/>
            <a:ext cx="1714680" cy="24336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 прекрасно справились с заданием и получаете пропуск!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71680" y="1928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изм человека – сложная система с четко организованной работой каждого составляющ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ко эту систему постоянно атакуют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актерии, грибки и виру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" descr="C:\Documents and Settings\Прускиня\Мои документы\336328990.jpg.gif"/>
          <p:cNvPicPr/>
          <p:nvPr/>
        </p:nvPicPr>
        <p:blipFill>
          <a:blip r:embed="rId1"/>
          <a:stretch/>
        </p:blipFill>
        <p:spPr>
          <a:xfrm>
            <a:off x="7500960" y="500040"/>
            <a:ext cx="1214280" cy="1478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C:\Documents and Settings\Прускиня\Мои документы\вирус.gif"/>
          <p:cNvPicPr/>
          <p:nvPr/>
        </p:nvPicPr>
        <p:blipFill>
          <a:blip r:embed="rId2"/>
          <a:stretch/>
        </p:blipFill>
        <p:spPr>
          <a:xfrm>
            <a:off x="3714840" y="4643280"/>
            <a:ext cx="2786040" cy="1943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C:\Documents and Settings\Прускиня\Мои документы\вирус.gif"/>
          <p:cNvPicPr/>
          <p:nvPr/>
        </p:nvPicPr>
        <p:blipFill>
          <a:blip r:embed="rId3"/>
          <a:stretch/>
        </p:blipFill>
        <p:spPr>
          <a:xfrm>
            <a:off x="3867120" y="4795920"/>
            <a:ext cx="2786040" cy="194292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2000" fill="hold"/>
                                        <p:tgtEl>
                                          <p:spTgt spid="1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indefinite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49" dur="indefinite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0" dur="indefinite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5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мунная система должна быть в постоянной готовности и окутывает организм со всех сторон. Однако организм может быть атакован через небольшие ранения и ссад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500040" y="185724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4714920" y="54291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3"/>
          <a:stretch/>
        </p:blipFill>
        <p:spPr>
          <a:xfrm>
            <a:off x="6215040" y="2000160"/>
            <a:ext cx="2676600" cy="402444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 бой идут… фагоци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агоци́т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клетки иммунной системы, которые защищают организм путём поглощения (фагоцитоза) вредных чужеродных частиц, бактерий, а также мёртвых или погибающих клеток. Их название произошло от греческого phagein, «есть» или «поедать», и «-cyte» – кле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14:54:03Z</dcterms:created>
  <dc:creator>Прускиня</dc:creator>
  <dc:description/>
  <dc:language>en-US</dc:language>
  <cp:lastModifiedBy>LEGION</cp:lastModifiedBy>
  <dcterms:modified xsi:type="dcterms:W3CDTF">2014-11-24T10:57:53Z</dcterms:modified>
  <cp:revision>72</cp:revision>
  <dc:subject/>
  <dc:title>Иммунная система организ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