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9EC0-A43E-4250-BB9B-40FFF93349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лечились наши пред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Федотова Елиза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3 «В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школы № 6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9B23-5658-4C71-A5D4-CD7F237E77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здра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ыня, Макошь матушка, 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ая, Богородица. Ты мать Рожаниц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а сестрица! Даруй нам удачу,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тей и плачу! Дай здравия чадам вели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лым. Ныне и присно и от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круга! Тако бысть, тако еси, тако бу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C7FF-47AC-45B0-91C8-E048451159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счас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 ты, Лада матушка, матерь С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чистая! Не остави нас без люб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астия! Благодать свою ниспошли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 и мы чтим и славим тебя . Нын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но и от круга до круга! Тако бысть, та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и, тако буди! До скончания времен, п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ит нам Ярило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B988-EF76-45C4-86E4-4F6F376C1D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 доме не находится вещ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те угощение домовому и говор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мовой, домовой, поиграл и отда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ле трёх раз не нашли, значи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е этой вещ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E296-7920-42AC-B24E-0070D77085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лекарь, умевший в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нутые кости или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переломленные, называл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FB6-88FE-4391-A496-49749C6449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только вениками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арились в старин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58BF-4F21-43DB-9EEF-E08A861AB9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 уважал знахарей, потому что от них зависело здоровь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0658-512D-4530-A991-5086090FD4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!!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B6EA-ACE5-4BB7-A945-83C039EC57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C736-5E78-48D5-86D5-DC7A15DAA6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одыряв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именялся нару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нарывов и яз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16C3-09C6-402F-A406-5300748CC2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свою жгучесть, крап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ла и сейчас привлекает к себе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широко использовалась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арственное и пищевое растение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у применяли от болей в суставах, п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с успехом применяли и се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ы. В частности, толчеными семенами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м изгоняли камни почек, семе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ыми с медом и вином, устраня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тарелый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15E9-C866-4B05-8FB9-9F83BDF7BE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оспалении суставов 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использовалас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как лечеб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 нару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C0C7-552C-4FEC-8B39-036CA272D6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овый настой ча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ли для 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ылечить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этот настой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воспал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42E2-4EC5-482C-8E3D-A0D906194E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0D29-885B-449C-B526-2AA8048259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0F74-4181-4D37-9C3E-466BE40022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ы и риту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97AF-B196-42C7-9FBC-41569D5386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455-7AA9-4018-80D0-32915628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D62-21C3-4B20-8825-908FA926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B6D-FF72-4395-B210-274D8B76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905-6B35-44B4-9B1A-2F302189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537-D1EB-485C-877B-9FC795F4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D9E-B58E-4525-AFF0-CE34A89A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88B-0E44-4AF9-A5CD-4BB296FB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3A6-38FF-4836-A0BA-4DD70781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845-6060-4271-8D71-FF7A3F7A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0FD-E447-44FF-AA4C-C4A20FF5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7CC-59FF-4E4B-914C-BD902C07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A93-700D-46C6-B270-7721181C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2938-7735-4B26-A38A-A01C7FA59A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к лечились наши пред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2852280"/>
            <a:ext cx="551484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Федотова Елиза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3 «В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 6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zverobojj"/>
          <p:cNvPicPr/>
          <p:nvPr/>
        </p:nvPicPr>
        <p:blipFill>
          <a:blip r:embed="rId1"/>
          <a:stretch/>
        </p:blipFill>
        <p:spPr>
          <a:xfrm rot="370200">
            <a:off x="2842920" y="4797360"/>
            <a:ext cx="673200" cy="10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579600">
            <a:off x="3924360" y="4797360"/>
            <a:ext cx="6080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apusta"/>
          <p:cNvPicPr/>
          <p:nvPr/>
        </p:nvPicPr>
        <p:blipFill>
          <a:blip r:embed="rId3"/>
          <a:stretch/>
        </p:blipFill>
        <p:spPr>
          <a:xfrm rot="21078600">
            <a:off x="5003280" y="4869000"/>
            <a:ext cx="68580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 rot="20909400">
            <a:off x="6156000" y="4941360"/>
            <a:ext cx="111744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78263a03f79"/>
          <p:cNvPicPr/>
          <p:nvPr/>
        </p:nvPicPr>
        <p:blipFill>
          <a:blip r:embed="rId5"/>
          <a:stretch/>
        </p:blipFill>
        <p:spPr>
          <a:xfrm rot="775800">
            <a:off x="1042560" y="4652640"/>
            <a:ext cx="13176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800px-Sambucus_nigra_fruit_kpjas_26082005_1"/>
          <p:cNvPicPr/>
          <p:nvPr/>
        </p:nvPicPr>
        <p:blipFill>
          <a:blip r:embed="rId6"/>
          <a:stretch/>
        </p:blipFill>
        <p:spPr>
          <a:xfrm rot="21050400">
            <a:off x="7524720" y="465300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здрав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ыня, Макошь матушка, м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бесная, Богородица. Ты мать Рожан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рога сестрица! Даруй нам удачу, б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ей и плачу! Дай здравия чадам вели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алым. Ныне и присно и от к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круга! Тако бысть, тако еси, тако бу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счасть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й ты, Лада матушка, матерь С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чистая! Не остави нас без любв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астия! Благодать свою ниспошли на на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о и мы чтим и славим тебя . Нын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но и от круга до круга! Тако бысть, та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и, тако буди! До скончания времен, п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ит нам Ярило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Если в доме не находится вещ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ите угощение домовому и говор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омовой, домовой, поиграл и отда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осле трёх раз не нашли, знач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е этой вещи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стопр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лекарь, умевший вправ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ихнутые кости или 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ть переломленные, называ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опра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ни и банные процеду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только вениками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арились в стар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701307_w640_h640_venik1"/>
          <p:cNvPicPr/>
          <p:nvPr/>
        </p:nvPicPr>
        <p:blipFill>
          <a:blip r:embed="rId1"/>
          <a:stretch/>
        </p:blipFill>
        <p:spPr>
          <a:xfrm>
            <a:off x="826920" y="4581360"/>
            <a:ext cx="144144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нахар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од уважал знахарей, потому что от них зависело здоровье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360" y="-52300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0080" y="2071440"/>
            <a:ext cx="74581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НЕЦ!!!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веробой продырявленны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3309480"/>
            <a:ext cx="60343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бой применялся на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обработки нарывов и яз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7" descr="zverobojj"/>
          <p:cNvPicPr/>
          <p:nvPr/>
        </p:nvPicPr>
        <p:blipFill>
          <a:blip r:embed="rId1"/>
          <a:stretch/>
        </p:blipFill>
        <p:spPr>
          <a:xfrm rot="1050600">
            <a:off x="5867280" y="2708280"/>
            <a:ext cx="2303640" cy="3500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пи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5320" y="2055960"/>
            <a:ext cx="6350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на свою жгучесть, крап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кала и сейчас привлекает к себе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и широко использовалась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арственное и пищевое растение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у применяли от болей в суставах,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 предки с успехом применяли и 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ы. В частности, толчеными семенами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ом изгоняли камни почек, семен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шанными с медом и вином, устраня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релый каше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7068960" y="2492280"/>
            <a:ext cx="207504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оспалении суставов 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роко использовалас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ется как лечеб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нару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kapusta"/>
          <p:cNvPicPr/>
          <p:nvPr/>
        </p:nvPicPr>
        <p:blipFill>
          <a:blip r:embed="rId1"/>
          <a:stretch/>
        </p:blipFill>
        <p:spPr>
          <a:xfrm>
            <a:off x="6645240" y="2133720"/>
            <a:ext cx="2498760" cy="3671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омаш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49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шковый настой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ли для тог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вылечить каш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этот настой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воспал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2432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п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878263a03f79"/>
          <p:cNvPicPr/>
          <p:nvPr/>
        </p:nvPicPr>
        <p:blipFill>
          <a:blip r:embed="rId1"/>
          <a:stretch/>
        </p:blipFill>
        <p:spPr>
          <a:xfrm>
            <a:off x="3851280" y="4843440"/>
            <a:ext cx="2757600" cy="2014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узин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800px-Sambucus_nigra_fruit_kpjas_26082005_1"/>
          <p:cNvPicPr/>
          <p:nvPr/>
        </p:nvPicPr>
        <p:blipFill>
          <a:blip r:embed="rId1"/>
          <a:stretch/>
        </p:blipFill>
        <p:spPr>
          <a:xfrm>
            <a:off x="3059280" y="550692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ы и ритуал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00:56Z</dcterms:created>
  <dc:creator>Елена</dc:creator>
  <dc:description/>
  <dc:language>en-US</dc:language>
  <cp:lastModifiedBy>LEGION</cp:lastModifiedBy>
  <dcterms:modified xsi:type="dcterms:W3CDTF">2014-11-24T10:58:35Z</dcterms:modified>
  <cp:revision>7</cp:revision>
  <dc:subject/>
  <dc:title>Как лечились наши предки.</dc:title>
</cp:coreProperties>
</file>