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F786-66FD-4004-BF52-A3567FFCCF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лечились наши пред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Федотова Елиза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3 «В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школы № 6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5A9A-0CAF-4CDE-95E9-64E14AAB77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 на здра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ыня, Макошь матушка, м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ая, Богородица. Ты мать Рожаниц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арога сестрица! Даруй нам удачу,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тей и плачу! Дай здравия чадам вели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лым. Ныне и присно и от к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круга! Тако бысть, тако еси, тако бу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8209-E141-4FDF-85D9-DE9A8D5A7F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 на счаст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й ты, Лада матушка, матерь С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чистая! Не остави нас без любви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астия! Благодать свою ниспошли на н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 и мы чтим и славим тебя . Нын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но и от круга до круга! Тако бысть, та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и, тако буди! До скончания времен, п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ит нам Ярило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CA04-5929-4320-B127-4466BC7DB7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 доме не находится вещ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те угощение домовому и говор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мовой, домовой, поиграл и отда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сле трёх раз не нашли, значи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е этой вещ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7C22-F3E1-4060-9753-250E1EBCA1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то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ину лекарь, умевший в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нутые кости или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переломленные, называл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топра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E8D5-E99A-44F1-839E-E2F5712167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и и банные процед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и и банные процедуры пользовались большой популярностью у всех жителей Руси от мала до велика. Они помогали поддерживать здоровье, соблюдать гигиену. В старину говорили: «Коли бы не бани, то все бы пропа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только вениками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арились в старин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8A65-09D1-4FF3-9E7B-11AA5E1ADA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ха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од уважал знахарей, потому что от них зависело здоровь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ы приготовления лекарств знахари передавали только своим детям или ученикам, стремившимся к знаниям о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рачи и учёные пытаются восстановить накопленные нашими предками знания о лечебных свойствах растений, которые были утеря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3958-7D7A-42EA-AC61-1CE93F8D98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!!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1273-BC1B-422C-9667-A7CB90840E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ину медицины не было, поэтому наши изобретательные предки для лечения заболеваний использов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растения, ягоды, мёд, кору и листья деревьев, отвары и настои из лекарственных трав. Людей, знавших лекарственные растения и умевших изготовлять из них лекарства, называли знахар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58EA-F5F0-4B90-8045-87930B095B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обой продыряв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обой применялся нару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нарывов и яз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BA2C-DDBF-48B2-AA3F-98E5FF9507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свою жгучесть, крап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кала и сейчас привлекает к себе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 и широко использовалась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арственное и пищевое растение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у применяли от болей в суставах, п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тухе, собачьих укусах, как мочегонное.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предки с успехом применяли и се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ы. В частности, толчеными семенами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м изгоняли камни почек, семе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ыми с медом и вином, устраня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тарелый каш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8BAE-2CB7-4FE6-812C-4C62BF206A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у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оспалении суставов капу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использовалас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как лечеб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 нару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7916-744A-48BE-9AE1-CB0848F2D9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шковый настой час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ли для 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вылечить каш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этот настой бы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воспал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6315-1965-4D18-A261-AD7946F953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цветков липы готовили лечебный чай. Липовый цвет - один из старейших народных лекарственных препаратов, зарекомендовавший себя как потогонное, жаропонижающее, отхаркивающее, мочегонное, бактерицидное сре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EFBE-575A-4E5F-B2C7-AAAA1E6813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з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зина черная исстари считалась священным деревом, ягоды которого будто бы способствовали продлению жизни. В народной медицине отвар, приготовленный из цветков и плодов черной бузины, применяли как жаропонижающее, потогонное, мочегонное, глистогонное и рвотное средство, а настой цветов - при заболеваниях дыхательных путей. Кора бузины обладает сильным мочегонным действием, ее применяли также при неврастении, пневмонии, бронхите, головной и зубной бо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1E3B-0ABC-48C9-845B-94BE18F5FF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ы и риту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хари при лечении людей пользовались заговорами и ритуалами. Они понимали, что словом можно и убить, и исцелить. Хорошее слово лечит, а бранное разрушает. Главное условие для достижения положительного результата – это искреннее отношение и яркий образ при использовании заговора. Были заговоры на здравие, на доброе потомство, на счастье, на любовь, на оберег дома, от порчи, от бессонницы, от болезней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F33F-57C9-45CD-A843-A0EF5E274B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B69-6ED7-416C-ABE0-4BE7A41D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0DA-D13E-46BD-8CF2-5CF8E2DD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EA9-167E-4CBB-B115-EC1F17C4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B60-80C5-4E7C-8BF7-E88B687C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90E-E583-4E80-9D3F-A528269D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C6E-26B2-4D78-B18B-4087D962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299-8D67-42C9-9138-40C16829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85F-BDFE-4C29-B129-92797E42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D32-68EE-4751-BE5F-C5D81F81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9A5-D679-43E1-9698-2C619045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169-2C7C-45C7-BB8C-27D77BA1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FDA-4BF6-4BD4-867A-26825C05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AC21-EC88-4066-80DA-54D7B733D8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ак лечились наши предк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79280" y="2852280"/>
            <a:ext cx="551484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 Федотова Елиза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ца 3 «В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й школы № 6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zverobojj"/>
          <p:cNvPicPr/>
          <p:nvPr/>
        </p:nvPicPr>
        <p:blipFill>
          <a:blip r:embed="rId1"/>
          <a:stretch/>
        </p:blipFill>
        <p:spPr>
          <a:xfrm rot="370200">
            <a:off x="2842920" y="4797360"/>
            <a:ext cx="673200" cy="102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 rot="579600">
            <a:off x="3924360" y="4797360"/>
            <a:ext cx="60804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kapusta"/>
          <p:cNvPicPr/>
          <p:nvPr/>
        </p:nvPicPr>
        <p:blipFill>
          <a:blip r:embed="rId3"/>
          <a:stretch/>
        </p:blipFill>
        <p:spPr>
          <a:xfrm rot="21078600">
            <a:off x="5003280" y="4869000"/>
            <a:ext cx="68580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 rot="20909400">
            <a:off x="6156000" y="4941360"/>
            <a:ext cx="1117440" cy="92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78263a03f79"/>
          <p:cNvPicPr/>
          <p:nvPr/>
        </p:nvPicPr>
        <p:blipFill>
          <a:blip r:embed="rId5"/>
          <a:stretch/>
        </p:blipFill>
        <p:spPr>
          <a:xfrm rot="775800">
            <a:off x="1042560" y="4652640"/>
            <a:ext cx="131760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800px-Sambucus_nigra_fruit_kpjas_26082005_1"/>
          <p:cNvPicPr/>
          <p:nvPr/>
        </p:nvPicPr>
        <p:blipFill>
          <a:blip r:embed="rId6"/>
          <a:stretch/>
        </p:blipFill>
        <p:spPr>
          <a:xfrm rot="21050400">
            <a:off x="7524720" y="4653000"/>
            <a:ext cx="1433520" cy="10746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 на здрави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ыня, Макошь матушка, м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бесная, Богородица. Ты мать Рожаниц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арога сестрица! Даруй нам удачу, б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ей и плачу! Дай здравия чадам велик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малым. Ныне и присно и от кр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 круга! Тако бысть, тако еси, тако буд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 на счасть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й ты, Лада матушка, матерь С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чистая! Не остави нас без любви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частия! Благодать свою ниспошли на на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ко и мы чтим и славим тебя . Ныне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но и от круга до круга! Тако бысть, та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и, тако буди! До скончания времен, п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тит нам Ярило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Если в доме не находится вещь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ите угощение домовому и говор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омовой, домовой, поиграл и отда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после трёх раз не нашли, значит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е этой вещи н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остоправ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арину лекарь, умевший вправл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ихнутые кости или прави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ить переломленные, называл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топра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ни и банные процедур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ни и банные процедуры пользовались большой популярностью у всех жителей Руси от мала до велика. Они помогали поддерживать здоровье, соблюдать гигиену. В старину говорили: «Коли бы не бани, то все бы пропал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ми только вениками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парились в старин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701307_w640_h640_venik1"/>
          <p:cNvPicPr/>
          <p:nvPr/>
        </p:nvPicPr>
        <p:blipFill>
          <a:blip r:embed="rId1"/>
          <a:stretch/>
        </p:blipFill>
        <p:spPr>
          <a:xfrm>
            <a:off x="826920" y="4581360"/>
            <a:ext cx="144144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нахар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од уважал знахарей, потому что от них зависело здоровье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креты приготовления лекарств знахари передавали только своим детям или ученикам, стремившимся к знаниям о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врачи и учёные пытаются восстановить накопленные нашими предками знания о лечебных свойствах растений, которые были утеря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604360" y="-5230080"/>
            <a:ext cx="71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0080" y="2071440"/>
            <a:ext cx="745812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ОНЕЦ!!!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арину медицины не было, поэтому наши изобретательные предки для лечения заболеваний использов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ные растения, ягоды, мёд, кору и листья деревьев, отвары и настои из лекарственных трав. Людей, знавших лекарственные растения и умевших изготовлять из них лекарства, называли знахар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веробой продырявленный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7120" y="3309480"/>
            <a:ext cx="603432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веробой применялся нару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обработки нарывов и яз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7" descr="zverobojj"/>
          <p:cNvPicPr/>
          <p:nvPr/>
        </p:nvPicPr>
        <p:blipFill>
          <a:blip r:embed="rId1"/>
          <a:stretch/>
        </p:blipFill>
        <p:spPr>
          <a:xfrm rot="1050600">
            <a:off x="5867280" y="2708280"/>
            <a:ext cx="2303640" cy="3500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рапив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5320" y="2055960"/>
            <a:ext cx="6350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мотря на свою жгучесть, крап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влекала и сейчас привлекает к себе вним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а и широко использовалась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арственное и пищевое растение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пиву применяли от болей в суставах, п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елтухе, собачьих укусах, как мочегонное.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ши предки с успехом применяли и се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пивы. В частности, толчеными семенами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ном изгоняли камни почек, семен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шанными с медом и вином, устраня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старелый каше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7068960" y="2492280"/>
            <a:ext cx="2075040" cy="3689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апус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оспалении суставов капу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ироко использовалась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уется как лечеб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о наруж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kapusta"/>
          <p:cNvPicPr/>
          <p:nvPr/>
        </p:nvPicPr>
        <p:blipFill>
          <a:blip r:embed="rId1"/>
          <a:stretch/>
        </p:blipFill>
        <p:spPr>
          <a:xfrm>
            <a:off x="6645240" y="2133720"/>
            <a:ext cx="2498760" cy="3671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омаш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4958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ашковый настой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ли для тог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вылечить каш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этот настой бы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ивовоспалите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191280" y="3213000"/>
            <a:ext cx="2952720" cy="24321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Лип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цветков липы готовили лечебный чай. Липовый цвет - один из старейших народных лекарственных препаратов, зарекомендовавший себя как потогонное, жаропонижающее, отхаркивающее, мочегонное, бактерицидное средств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878263a03f79"/>
          <p:cNvPicPr/>
          <p:nvPr/>
        </p:nvPicPr>
        <p:blipFill>
          <a:blip r:embed="rId1"/>
          <a:stretch/>
        </p:blipFill>
        <p:spPr>
          <a:xfrm>
            <a:off x="3851280" y="4843440"/>
            <a:ext cx="2757600" cy="2014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узин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зина черная исстари считалась священным деревом, ягоды которого будто бы способствовали продлению жизни. В народной медицине отвар, приготовленный из цветков и плодов черной бузины, применяли как жаропонижающее, потогонное, мочегонное, глистогонное и рвотное средство, а настой цветов - при заболеваниях дыхательных путей. Кора бузины обладает сильным мочегонным действием, ее применяли также при неврастении, пневмонии, бронхите, головной и зубной бо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800px-Sambucus_nigra_fruit_kpjas_26082005_1"/>
          <p:cNvPicPr/>
          <p:nvPr/>
        </p:nvPicPr>
        <p:blipFill>
          <a:blip r:embed="rId1"/>
          <a:stretch/>
        </p:blipFill>
        <p:spPr>
          <a:xfrm>
            <a:off x="3059280" y="5506920"/>
            <a:ext cx="1800000" cy="13510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ы и ритуал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хари при лечении людей пользовались заговорами и ритуалами. Они понимали, что словом можно и убить, и исцелить. Хорошее слово лечит, а бранное разрушает. Главное условие для достижения положительного результата – это искреннее отношение и яркий образ при использовании заговора. Были заговоры на здравие, на доброе потомство, на счастье, на любовь, на оберег дома, от порчи, от бессонницы, от болезней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6:00:56Z</dcterms:created>
  <dc:creator>Елена</dc:creator>
  <dc:description/>
  <dc:language>en-US</dc:language>
  <cp:lastModifiedBy>LEGION</cp:lastModifiedBy>
  <dcterms:modified xsi:type="dcterms:W3CDTF">2014-11-24T10:58:35Z</dcterms:modified>
  <cp:revision>7</cp:revision>
  <dc:subject/>
  <dc:title>Как лечились наши предки.</dc:title>
</cp:coreProperties>
</file>