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3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511A4-FFCE-4AEB-86ED-F2B9F6B262C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лечились наши пред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втор Федотова Елизаве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еница 3 «В» клас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едней школы № 64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3CF12-7C8F-4CA0-BA67-15541BBB3801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говор на здрав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ыня, Макошь матушка, ма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бесная, Богородица. Ты мать Рожаниц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арога сестрица! Даруй нам удачу, бе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тей и плачу! Дай здравия чадам велики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малым. Ныне и присно и от круг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 круга! Тако бысть, тако еси, тако буди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BA36F-E8E1-4729-86FB-089930D20FE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говор на счасть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й ты, Лада матушка, матерь С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чистая! Не остави нас без любви 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частия! Благодать свою ниспошли на нас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ко и мы чтим и славим тебя . Ныне 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сно и от круга до круга! Тако бысть, так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и, тако буди! До скончания времен, п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етит нам Ярило солнц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35357-34EE-4672-9156-81B8F638A13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Если в доме не находится вещь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вите угощение домовому и говорит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Домовой, домовой, поиграл и отдай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после трёх раз не нашли, значит 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е этой вещи не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4B66B-A442-4BF4-8269-C0FCB2CD6778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стоправ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тарину лекарь, умевший вправля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вихнутые кости или правильн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положить переломленные, называл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стоправ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A2E46-D239-47C6-BDFC-14C16E24AB0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ни и банные процедур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ни и банные процедуры пользовались большой популярностью у всех жителей Руси от мала до велика. Они помогали поддерживать здоровье, соблюдать гигиену. В старину говорили: «Коли бы не бани, то все бы пропали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ими только вениками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парились в старину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843C2-877B-4740-B7B0-A0F716A6A7F8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нахар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род уважал знахарей, потому что от них зависело здоровье люд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креты приготовления лекарств знахари передавали только своим детям или ученикам, стремившимся к знаниям о природ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настоящее время врачи и учёные пытаются восстановить накопленные нашими предками знания о лечебных свойствах растений, которые были утеря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F53CC-088F-45FE-9864-4BB1A3DF2EB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ЕЦ!!!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86930-E358-4F0A-8D29-18B28DB22A7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тарину медицины не было, поэтому наши изобретательные предки для лечения заболеваний использова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личные растения, ягоды, мёд, кору и листья деревьев, отвары и настои из лекарственных трав. Людей, знавших лекарственные растения и умевших изготовлять из них лекарства, называли знахаря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E701F-0561-431A-8769-392512B9111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веробой продырявленны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веробой применялся наружн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обработки нарывов и яз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D10A6-5C29-4675-8906-359CAB56634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апи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смотря на свою жгучесть, крапи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влекала и сейчас привлекает к себе вним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ловека и широко использовалась ка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карственное и пищевое растение.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апиву применяли от болей в суставах, пр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елтухе, собачьих укусах, как мочегонное.                                     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ши предки с успехом применяли и семе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апивы. В частности, толчеными семенами 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ном изгоняли камни почек, семенам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мешанными с медом и вином, устраня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старелый кашел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11A86-80F0-4130-932D-8358C5BC7C7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пус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воспалении суставов капус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ироко использовалась 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уется как лечебн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едство наружн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BDB63-772E-4291-BC82-C8F0C90DFF0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маш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машковый настой част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овали для того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бы вылечить кашел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щё этот настой бы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тивовоспалительны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5A00E-2F95-4B86-862F-B6B2B9ECD38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п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 цветков липы готовили лечебный чай. Липовый цвет - один из старейших народных лекарственных препаратов, зарекомендовавший себя как потогонное, жаропонижающее, отхаркивающее, мочегонное, бактерицидное средств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5ADD2-B748-469E-96E1-FD8FC2609BB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узи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узина черная исстари считалась священным деревом, ягоды которого будто бы способствовали продлению жизни. В народной медицине отвар, приготовленный из цветков и плодов черной бузины, применяли как жаропонижающее, потогонное, мочегонное, глистогонное и рвотное средство, а настой цветов - при заболеваниях дыхательных путей. Кора бузины обладает сильным мочегонным действием, ее применяли также при неврастении, пневмонии, бронхите, головной и зубной бол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9C52C-F911-47A5-A74B-ECEF3847230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говоры и ритуал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нахари при лечении людей пользовались заговорами и ритуалами. Они понимали, что словом можно и убить, и исцелить. Хорошее слово лечит, а бранное разрушает. Главное условие для достижения положительного результата – это искреннее отношение и яркий образ при использовании заговора. Были заговоры на здравие, на доброе потомство, на счастье, на любовь, на оберег дома, от порчи, от бессонницы, от болезней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774E5-3EBB-4F99-9DD9-619D303E9FAB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C2641-2936-4702-A4BB-E9C2DD5D8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42053-70C9-433C-8EBC-7907F8AC9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17C90-DE3D-42D6-9A39-BFBC6B0E3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E9C7F-31F9-4FDE-A879-E519454DE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A0539-0584-4059-BD43-985A4A16A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81558-9477-4D7B-9C81-D5F6833FD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A420E-79DA-4C63-8059-57ACD2693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A84BA-A0DC-4C9D-A7E7-358C2C6CA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16BFE-3BA9-491D-8C92-8A6258FB5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CC73F-A27B-4990-8449-F0D097E24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4C0BD-97F6-4197-A280-988B96318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E7AEA-0D14-45D3-A1AD-9ACFCD0A2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8B599-1667-41BF-8C52-38762FBE077D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86920" y="33336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Как лечились наши предки.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979280" y="2852280"/>
            <a:ext cx="5514840" cy="6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втор Федотова Елизавет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ченица 3 «В» класс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редней школы № 64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Picture 4" descr="zverobojj"/>
          <p:cNvPicPr/>
          <p:nvPr/>
        </p:nvPicPr>
        <p:blipFill>
          <a:blip r:embed="rId1"/>
          <a:stretch/>
        </p:blipFill>
        <p:spPr>
          <a:xfrm rot="370200">
            <a:off x="2842920" y="4797360"/>
            <a:ext cx="673200" cy="10224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"/>
          <p:cNvPicPr/>
          <p:nvPr/>
        </p:nvPicPr>
        <p:blipFill>
          <a:blip r:embed="rId2"/>
          <a:stretch/>
        </p:blipFill>
        <p:spPr>
          <a:xfrm rot="579600">
            <a:off x="3924360" y="4797360"/>
            <a:ext cx="608040" cy="10796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kapusta"/>
          <p:cNvPicPr/>
          <p:nvPr/>
        </p:nvPicPr>
        <p:blipFill>
          <a:blip r:embed="rId3"/>
          <a:stretch/>
        </p:blipFill>
        <p:spPr>
          <a:xfrm rot="21078600">
            <a:off x="5003280" y="4869000"/>
            <a:ext cx="685800" cy="1008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" descr=""/>
          <p:cNvPicPr/>
          <p:nvPr/>
        </p:nvPicPr>
        <p:blipFill>
          <a:blip r:embed="rId4"/>
          <a:stretch/>
        </p:blipFill>
        <p:spPr>
          <a:xfrm rot="20909400">
            <a:off x="6156000" y="4941360"/>
            <a:ext cx="1117440" cy="9208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8" descr="878263a03f79"/>
          <p:cNvPicPr/>
          <p:nvPr/>
        </p:nvPicPr>
        <p:blipFill>
          <a:blip r:embed="rId5"/>
          <a:stretch/>
        </p:blipFill>
        <p:spPr>
          <a:xfrm rot="775800">
            <a:off x="1042560" y="4652640"/>
            <a:ext cx="1317600" cy="9619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0" descr="800px-Sambucus_nigra_fruit_kpjas_26082005_1"/>
          <p:cNvPicPr/>
          <p:nvPr/>
        </p:nvPicPr>
        <p:blipFill>
          <a:blip r:embed="rId6"/>
          <a:stretch/>
        </p:blipFill>
        <p:spPr>
          <a:xfrm rot="21050400">
            <a:off x="7524720" y="4653000"/>
            <a:ext cx="1433520" cy="1074600"/>
          </a:xfrm>
          <a:prstGeom prst="rect">
            <a:avLst/>
          </a:prstGeom>
          <a:ln w="0">
            <a:noFill/>
          </a:ln>
        </p:spPr>
      </p:pic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Заговор на здравие.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осударыня, Макошь матушка, ма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ебесная, Богородица. Ты мать Рожаница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варога сестрица! Даруй нам удачу, без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атей и плачу! Дай здравия чадам велики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 малым. Ныне и присно и от круг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о круга! Тако бысть, тако еси, тако буди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Заговор на счастье.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й ты, Лада матушка, матерь Св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ечистая! Не остави нас без любви 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частия! Благодать свою ниспошли на нас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яко и мы чтим и славим тебя . Ныне 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исно и от круга до круга! Тако бысть, так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еси, тако буди! До скончания времен, по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ветит нам Ярило солнце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Если в доме не находится вещь.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тавите угощение домовому и говорит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«Домовой, домовой, поиграл и отдай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Если после трёх раз не нашли, значит 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оме этой вещи нет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Костоправы.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старину лекарь, умевший вправля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ывихнутые кости или правильн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сположить переломленные, называлс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остоправо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Бани и банные процедуры.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ани и банные процедуры пользовались большой популярностью у всех жителей Руси от мала до велика. Они помогали поддерживать здоровье, соблюдать гигиену. В старину говорили: «Коли бы не бани, то все бы пропали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акими только вениками            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е парились в старину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Picture 4" descr="701307_w640_h640_venik1"/>
          <p:cNvPicPr/>
          <p:nvPr/>
        </p:nvPicPr>
        <p:blipFill>
          <a:blip r:embed="rId1"/>
          <a:stretch/>
        </p:blipFill>
        <p:spPr>
          <a:xfrm>
            <a:off x="826920" y="4581360"/>
            <a:ext cx="1441440" cy="982800"/>
          </a:xfrm>
          <a:prstGeom prst="rect">
            <a:avLst/>
          </a:prstGeom>
          <a:ln w="0">
            <a:noFill/>
          </a:ln>
        </p:spPr>
      </p:pic>
      <p:sp>
        <p:nvSpPr>
          <p:cNvPr id="1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Знахари.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8423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род уважал знахарей, потому что от них зависело здоровье люде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екреты приготовления лекарств знахари передавали только своим детям или ученикам, стремившимся к знаниям о природ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настоящее время врачи и учёные пытаются восстановить накопленные нашими предками знания о лечебных свойствах растений, которые были утерян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604360" y="-5230080"/>
            <a:ext cx="7128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90080" y="2071440"/>
            <a:ext cx="7458120" cy="286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ff"/>
                </a:solidFill>
                <a:latin typeface="Arial"/>
              </a:rPr>
              <a:t>КОНЕЦ!!!</a:t>
            </a: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80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5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5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611280" y="62064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старину медицины не было, поэтому наши изобретательные предки для лечения заболеваний использовал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зличные растения, ягоды, мёд, кору и листья деревьев, отвары и настои из лекарственных трав. Людей, знавших лекарственные растения и умевших изготовлять из них лекарства, называли знахарями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Зверобой продырявленный.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57120" y="3309480"/>
            <a:ext cx="6034320" cy="26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Зверобой применялся наружн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ля обработки нарывов и яз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" name="Picture 47" descr="zverobojj"/>
          <p:cNvPicPr/>
          <p:nvPr/>
        </p:nvPicPr>
        <p:blipFill>
          <a:blip r:embed="rId1"/>
          <a:stretch/>
        </p:blipFill>
        <p:spPr>
          <a:xfrm rot="1050600">
            <a:off x="5867280" y="2708280"/>
            <a:ext cx="2303640" cy="3500280"/>
          </a:xfrm>
          <a:prstGeom prst="rect">
            <a:avLst/>
          </a:prstGeom>
          <a:ln w="0">
            <a:noFill/>
          </a:ln>
        </p:spPr>
      </p:pic>
      <p:sp>
        <p:nvSpPr>
          <p:cNvPr id="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Крапива.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85320" y="2055960"/>
            <a:ext cx="6350040" cy="401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есмотря на свою жгучесть, крапив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ивлекала и сейчас привлекает к себе внимани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человека и широко использовалась ка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лекарственное и пищевое растение.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рапиву применяли от болей в суставах, пр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желтухе, собачьих укусах, как мочегонное.                                                                            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аши предки с успехом применяли и семе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рапивы. В частности, толчеными семенами 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ином изгоняли камни почек, семенами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мешанными с медом и вином, устранял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застарелый кашель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" name="Picture 7" descr=""/>
          <p:cNvPicPr/>
          <p:nvPr/>
        </p:nvPicPr>
        <p:blipFill>
          <a:blip r:embed="rId1"/>
          <a:stretch/>
        </p:blipFill>
        <p:spPr>
          <a:xfrm>
            <a:off x="7068960" y="2492280"/>
            <a:ext cx="2075040" cy="3689280"/>
          </a:xfrm>
          <a:prstGeom prst="rect">
            <a:avLst/>
          </a:prstGeom>
          <a:ln w="0">
            <a:noFill/>
          </a:ln>
        </p:spPr>
      </p:pic>
      <p:sp>
        <p:nvSpPr>
          <p:cNvPr id="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Капуста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и воспалении суставов капуст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широко использовалась 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спользуется как лечебно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редство наружно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" name="Picture 4" descr="kapusta"/>
          <p:cNvPicPr/>
          <p:nvPr/>
        </p:nvPicPr>
        <p:blipFill>
          <a:blip r:embed="rId1"/>
          <a:stretch/>
        </p:blipFill>
        <p:spPr>
          <a:xfrm>
            <a:off x="6645240" y="2133720"/>
            <a:ext cx="2498760" cy="3671640"/>
          </a:xfrm>
          <a:prstGeom prst="rect">
            <a:avLst/>
          </a:prstGeom>
          <a:ln w="0">
            <a:noFill/>
          </a:ln>
        </p:spPr>
      </p:pic>
      <p:sp>
        <p:nvSpPr>
          <p:cNvPr id="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Ромашка.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64958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омашковый настой част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спользовали для того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чтобы вылечить кашель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Ещё этот настой бы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отивовоспалительны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Picture 4" descr=""/>
          <p:cNvPicPr/>
          <p:nvPr/>
        </p:nvPicPr>
        <p:blipFill>
          <a:blip r:embed="rId1"/>
          <a:stretch/>
        </p:blipFill>
        <p:spPr>
          <a:xfrm>
            <a:off x="6191280" y="3213000"/>
            <a:ext cx="2952720" cy="2432160"/>
          </a:xfrm>
          <a:prstGeom prst="rect">
            <a:avLst/>
          </a:prstGeom>
          <a:ln w="0">
            <a:noFill/>
          </a:ln>
        </p:spPr>
      </p:pic>
      <p:sp>
        <p:nvSpPr>
          <p:cNvPr id="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Липа.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24000" y="1628640"/>
            <a:ext cx="8540640" cy="442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з цветков липы готовили лечебный чай. Липовый цвет - один из старейших народных лекарственных препаратов, зарекомендовавший себя как потогонное, жаропонижающее, отхаркивающее, мочегонное, бактерицидное средство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Picture 5" descr="878263a03f79"/>
          <p:cNvPicPr/>
          <p:nvPr/>
        </p:nvPicPr>
        <p:blipFill>
          <a:blip r:embed="rId1"/>
          <a:stretch/>
        </p:blipFill>
        <p:spPr>
          <a:xfrm>
            <a:off x="3851280" y="4843440"/>
            <a:ext cx="2757600" cy="2014560"/>
          </a:xfrm>
          <a:prstGeom prst="rect">
            <a:avLst/>
          </a:prstGeom>
          <a:ln w="0">
            <a:noFill/>
          </a:ln>
        </p:spPr>
      </p:pic>
      <p:sp>
        <p:nvSpPr>
          <p:cNvPr id="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Бузина.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24000" y="169992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узина черная исстари считалась священным деревом, ягоды которого будто бы способствовали продлению жизни. В народной медицине отвар, приготовленный из цветков и плодов черной бузины, применяли как жаропонижающее, потогонное, мочегонное, глистогонное и рвотное средство, а настой цветов - при заболеваниях дыхательных путей. Кора бузины обладает сильным мочегонным действием, ее применяли также при неврастении, пневмонии, бронхите, головной и зубной бол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1" name="Picture 4" descr="800px-Sambucus_nigra_fruit_kpjas_26082005_1"/>
          <p:cNvPicPr/>
          <p:nvPr/>
        </p:nvPicPr>
        <p:blipFill>
          <a:blip r:embed="rId1"/>
          <a:stretch/>
        </p:blipFill>
        <p:spPr>
          <a:xfrm>
            <a:off x="3059280" y="5506920"/>
            <a:ext cx="1800000" cy="1351080"/>
          </a:xfrm>
          <a:prstGeom prst="rect">
            <a:avLst/>
          </a:prstGeom>
          <a:ln w="0">
            <a:noFill/>
          </a:ln>
        </p:spPr>
      </p:pic>
      <p:sp>
        <p:nvSpPr>
          <p:cNvPr id="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Заговоры и ритуалы.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01680" y="1341360"/>
            <a:ext cx="85406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нахари при лечении людей пользовались заговорами и ритуалами. Они понимали, что словом можно и убить, и исцелить. Хорошее слово лечит, а бранное разрушает. Главное условие для достижения положительного результата – это искреннее отношение и яркий образ при использовании заговора. Были заговоры на здравие, на доброе потомство, на счастье, на любовь, на оберег дома, от порчи, от бессонницы, от болезней и др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4T16:00:56Z</dcterms:created>
  <dc:creator>Елена</dc:creator>
  <dc:description/>
  <dc:language>en-US</dc:language>
  <cp:lastModifiedBy>LEGION</cp:lastModifiedBy>
  <dcterms:modified xsi:type="dcterms:W3CDTF">2014-11-24T10:58:35Z</dcterms:modified>
  <cp:revision>7</cp:revision>
  <dc:subject/>
  <dc:title>Как лечились наши предки.</dc:title>
</cp:coreProperties>
</file>