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BCE-14EF-4DBF-89D4-C3C0E553AB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лечились наши пред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Федотова Елиза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3 «В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школы № 6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A2F6-3250-4E62-936D-64A7B77E2B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здра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ыня, Макошь матушка, 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ая, Богородица. Ты мать Рожаниц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а сестрица! Даруй нам удачу,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тей и плачу! Дай здравия чадам вели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лым. Ныне и присно и от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круга! Тако бысть, тако еси, тако бу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1A25-9899-445C-97D1-6FC148F9BA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счас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 ты, Лада матушка, матерь С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чистая! Не остави нас без люб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астия! Благодать свою ниспошли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 и мы чтим и славим тебя . Нын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но и от круга до круга! Тако бысть, та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и, тако буди! До скончания времен, п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ит нам Ярило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CC31-3DA7-4979-B0BF-FBF2130C3F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 доме не находится вещ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те угощение домовому и говор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мовой, домовой, поиграл и отда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ле трёх раз не нашли, значи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е этой вещ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242A-46C5-4846-A3F5-F7AEA5F9F2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лекарь, умевший в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нутые кости или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переломленные, называл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5B4-B46F-4840-8CD0-CC41D981E0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только вениками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арились в старин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3D7A-FD93-4716-B1D3-08FDF417A3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 уважал знахарей, потому что от них зависело здоровь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E5C5-EF2A-43AA-8100-B197606A3F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!!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1A85-75BD-4CB6-9E63-A7F8EEEAA3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4519-353E-440D-B45F-746B88DD43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одыряв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именялся нару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нарывов и яз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C851-50D6-48B0-999C-76F00EBB04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свою жгучесть, крап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ла и сейчас привлекает к себе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широко использовалась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арственное и пищевое растение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у применяли от болей в суставах, п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с успехом применяли и се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ы. В частности, толчеными семенами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м изгоняли камни почек, семе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ыми с медом и вином, устраня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тарелый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698F-C180-441E-9E35-2199854BA7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оспалении суставов 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использовалас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как лечеб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 нару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28D2-2B6E-426D-9AE2-FC1F78556F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овый настой ча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ли для 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ылечить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этот настой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воспал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9134-E813-46A4-9EA7-115AACD71E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0F4F-4D75-407E-BE8A-765A68F1DB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B7B-6CE4-4E8F-B584-B201D0C399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ы и риту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D79-F5BE-47C7-BCAE-E50F2FC57D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D32-DEDD-4AFB-ACA0-75E35EEC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172-8728-43A8-8DDA-BEA522D4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CDB-7368-4DDF-BE7E-BD0B2B1C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55E-6A69-46E4-9980-0180C7DE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41F-1C57-41C2-983E-24BBA437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AC4-8B8C-40BE-9E86-77B54E6C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EA2-9CC9-4E73-976A-2FE13F96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381-EBE4-41C3-AF5E-4CA2BE8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8B2-B975-4598-9850-0CCDE9AB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1DD-5A91-4CA1-8776-1A30B55E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46E-7E37-413E-97FB-80E168BF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57E-2011-404A-8BAC-BA600595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A4D-B17C-4F1F-842E-C35D5E3146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к лечились наши пред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2852280"/>
            <a:ext cx="551484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Федотова Елиза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3 «В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 6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zverobojj"/>
          <p:cNvPicPr/>
          <p:nvPr/>
        </p:nvPicPr>
        <p:blipFill>
          <a:blip r:embed="rId1"/>
          <a:stretch/>
        </p:blipFill>
        <p:spPr>
          <a:xfrm rot="370200">
            <a:off x="2842920" y="4797360"/>
            <a:ext cx="673200" cy="10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579600">
            <a:off x="3924360" y="4797360"/>
            <a:ext cx="6080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apusta"/>
          <p:cNvPicPr/>
          <p:nvPr/>
        </p:nvPicPr>
        <p:blipFill>
          <a:blip r:embed="rId3"/>
          <a:stretch/>
        </p:blipFill>
        <p:spPr>
          <a:xfrm rot="21078600">
            <a:off x="5003280" y="4869000"/>
            <a:ext cx="68580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 rot="20909400">
            <a:off x="6156000" y="4941360"/>
            <a:ext cx="111744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78263a03f79"/>
          <p:cNvPicPr/>
          <p:nvPr/>
        </p:nvPicPr>
        <p:blipFill>
          <a:blip r:embed="rId5"/>
          <a:stretch/>
        </p:blipFill>
        <p:spPr>
          <a:xfrm rot="775800">
            <a:off x="1042560" y="4652640"/>
            <a:ext cx="13176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800px-Sambucus_nigra_fruit_kpjas_26082005_1"/>
          <p:cNvPicPr/>
          <p:nvPr/>
        </p:nvPicPr>
        <p:blipFill>
          <a:blip r:embed="rId6"/>
          <a:stretch/>
        </p:blipFill>
        <p:spPr>
          <a:xfrm rot="21050400">
            <a:off x="7524720" y="465300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здрав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ыня, Макошь матушка, м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бесная, Богородица. Ты мать Рожан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рога сестрица! Даруй нам удачу, б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ей и плачу! Дай здравия чадам вели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алым. Ныне и присно и от к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круга! Тако бысть, тако еси, тако бу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счасть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й ты, Лада матушка, матерь С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чистая! Не остави нас без любв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астия! Благодать свою ниспошли на на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о и мы чтим и славим тебя . Нын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но и от круга до круга! Тако бысть, та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и, тако буди! До скончания времен, п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ит нам Ярило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Если в доме не находится вещ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ите угощение домовому и говор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омовой, домовой, поиграл и отда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осле трёх раз не нашли, знач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е этой вещи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стопр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лекарь, умевший вправ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ихнутые кости или 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ть переломленные, называ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опра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ни и банные процеду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только вениками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арились в стар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701307_w640_h640_venik1"/>
          <p:cNvPicPr/>
          <p:nvPr/>
        </p:nvPicPr>
        <p:blipFill>
          <a:blip r:embed="rId1"/>
          <a:stretch/>
        </p:blipFill>
        <p:spPr>
          <a:xfrm>
            <a:off x="826920" y="4581360"/>
            <a:ext cx="144144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нахар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од уважал знахарей, потому что от них зависело здоровье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360" y="-52300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0080" y="2071440"/>
            <a:ext cx="74581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НЕЦ!!!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веробой продырявленны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3309480"/>
            <a:ext cx="60343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бой применялся на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обработки нарывов и яз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7" descr="zverobojj"/>
          <p:cNvPicPr/>
          <p:nvPr/>
        </p:nvPicPr>
        <p:blipFill>
          <a:blip r:embed="rId1"/>
          <a:stretch/>
        </p:blipFill>
        <p:spPr>
          <a:xfrm rot="1050600">
            <a:off x="5867280" y="2708280"/>
            <a:ext cx="2303640" cy="3500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пи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5320" y="2055960"/>
            <a:ext cx="6350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на свою жгучесть, крап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кала и сейчас привлекает к себе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и широко использовалась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арственное и пищевое растение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у применяли от болей в суставах,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 предки с успехом применяли и 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ы. В частности, толчеными семенами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ом изгоняли камни почек, семен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шанными с медом и вином, устраня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релый каше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7068960" y="2492280"/>
            <a:ext cx="207504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оспалении суставов 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роко использовалас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ется как лечеб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нару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kapusta"/>
          <p:cNvPicPr/>
          <p:nvPr/>
        </p:nvPicPr>
        <p:blipFill>
          <a:blip r:embed="rId1"/>
          <a:stretch/>
        </p:blipFill>
        <p:spPr>
          <a:xfrm>
            <a:off x="6645240" y="2133720"/>
            <a:ext cx="2498760" cy="3671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омаш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49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шковый настой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ли для тог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вылечить каш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этот настой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воспал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2432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п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878263a03f79"/>
          <p:cNvPicPr/>
          <p:nvPr/>
        </p:nvPicPr>
        <p:blipFill>
          <a:blip r:embed="rId1"/>
          <a:stretch/>
        </p:blipFill>
        <p:spPr>
          <a:xfrm>
            <a:off x="3851280" y="4843440"/>
            <a:ext cx="2757600" cy="2014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узин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800px-Sambucus_nigra_fruit_kpjas_26082005_1"/>
          <p:cNvPicPr/>
          <p:nvPr/>
        </p:nvPicPr>
        <p:blipFill>
          <a:blip r:embed="rId1"/>
          <a:stretch/>
        </p:blipFill>
        <p:spPr>
          <a:xfrm>
            <a:off x="3059280" y="550692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ы и ритуал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00:56Z</dcterms:created>
  <dc:creator>Елена</dc:creator>
  <dc:description/>
  <dc:language>en-US</dc:language>
  <cp:lastModifiedBy>LEGION</cp:lastModifiedBy>
  <dcterms:modified xsi:type="dcterms:W3CDTF">2014-11-24T10:58:35Z</dcterms:modified>
  <cp:revision>7</cp:revision>
  <dc:subject/>
  <dc:title>Как лечились наши предки.</dc:title>
</cp:coreProperties>
</file>