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png" ContentType="image/png"/>
  <Override PartName="/ppt/media/image28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4.wmf" ContentType="image/x-wmf"/>
  <Override PartName="/ppt/media/image3.wmf" ContentType="image/x-wmf"/>
  <Override PartName="/ppt/media/image8.jpeg" ContentType="image/jpeg"/>
  <Override PartName="/ppt/media/image10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14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31.png" ContentType="image/png"/>
  <Override PartName="/ppt/media/image34.jpeg" ContentType="image/jpeg"/>
  <Override PartName="/ppt/media/image2.jpeg" ContentType="image/jpeg"/>
  <Override PartName="/ppt/media/image5.gif" ContentType="image/gif"/>
  <Override PartName="/ppt/media/image1.wmf" ContentType="image/x-wmf"/>
  <Override PartName="/ppt/media/image9.gif" ContentType="image/gif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jpeg" ContentType="image/jpeg"/>
  <Override PartName="/ppt/media/image23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move the slide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A4E4-5641-44BC-9862-13034DA8DB6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Какая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 у нас памя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сследовательск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AAC7-A45D-4BC1-9378-4EF981AF037C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Методы исследов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 литературу по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иться за помощью к другим людям (родителям, учителям, школьному психолог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иться к глобальной сети интер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экспери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79E8-2EF5-4980-89A0-DFA9348DDC6A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Вывод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проведенных экспериментов подтверждают закономерности развития памяти в младшем школьном возрасте. А имен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- 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сокие показатели получены по разным типам кратко­временной памяти (обонятельной, зрительной, моторной, слуховой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- долговременная память учеников класса имеет относительно низкие показатели (только 35% обследуемой выборки вспомнили от 60 до 100% текст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-  начинает формироваться логическая память (57% выборки смогли воспроизвести смысловые единицы запоминаемого тек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- из всех видов обследованной кратковременной памяти наиболее развита зрительная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A036-7170-498F-A261-1E631B384C4A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ДОЛГОВРЕМЕН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E64B-53B3-433D-8554-B8A759925E40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   МОТОР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9A2D-59CB-43F0-99DF-8FB211567FEF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ОПЕРАТИВ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4978-2E2C-4F90-B76D-261718F6A762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ОСЯЗАТЕЛЬ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AD37-990E-4A84-87A6-ECB54D8DD419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  КРАТКОВРЕМЕННОЙ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  ЗРИТЕЛЬ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5BAD-0897-4CDE-BDB1-CF8733292C9D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ИССЛЕДОВАНИЯ              ОБОНЯТЕЛЬ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AEA6-0C99-4466-8C15-DDE5F7255C92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  ЗРИТЕЛЬ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C364-C4CA-4965-A35D-64B44DD021F4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ДОЛГОВРЕМЕННОЙ ПАМЯТИ ( ТЕСТ № 2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6523-5C5C-4E50-AC65-0A23A4B9DA5C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вторы :</a:t>
            </a:r>
            <a:br>
              <a:rPr sz="32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биванцева Анн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столит Иль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ытник Екатер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ководитель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ександренко Антонина Его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7256-FCED-46A3-9E30-41E4F53E840B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  КРАТКОВРЕМЕННОЙ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     СЛУХОВ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5B97-5AAA-4DB3-BC72-73899167979C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   ОБРАЗ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3FBB-B26A-475F-AF21-433573D041CC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libri"/>
              </a:rPr>
              <a:t>Как работает памят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 чтобы иметь возможность пользоваться полученной информацией, ее надо запомнить, сохранить и воспро­извести в нужный момент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поминание (кодирование), сохранение, воспроизведение (извлечение) и забыв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основные процессы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45FE-26E2-47FA-80F1-DC67AF334B92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аправления дальнейших исследовани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, есть ли различия в запоминании у мальчиков и дево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ледовать, влияет ли физическое здоровье на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новый эксперимент с использованием специальных упражнений для улучшения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ь и обобщить результаты проведенных и будущих исследо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ть рекомендации для участников экспери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6BB9-4E34-4B73-82DC-CB57364BD46D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Работа была представле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ченической научно-практической конференции «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а не оскудеет талантами земля русская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оссийском  конкурсе исследовательских работ и творческих проектов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Я – исследоват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, где получила Диплом «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 лучший экспери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,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3A60-5023-4C6D-80E4-9DBB5D4B9BCA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Цель работ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, что такое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какая память у учащихся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ше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ь, можно ли улучши</a:t>
            </a: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8581-7B0A-49C9-B167-2D9E41F4F21B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Задачи исслед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, что такое память и какие бывают виды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что помогает человеку лучше запомин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исследование памяти  однокласс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C397-AC3A-4589-B337-1395801B765B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Гипотез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ожим, что если человеку нужно что-то запомнить, то в его голове происходят разные процессы, связанные с запомин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тим, что память человека можно улучшить, и существуют правила, помогающие это сдел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если плохая память человека влияет на его физическое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, что разные люди обладают разными видами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4230-C53E-4661-A83D-4E810A828288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76092"/>
                </a:solidFill>
                <a:latin typeface="Calibri"/>
              </a:rPr>
              <a:t>Этапы исследования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бор темы исследовательской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ение целей и постановка зада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вижение гипоте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исследовательской деятельнос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ставление плана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ение методов исслед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1F69-27FA-44C1-BD80-E92167CE76B6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абота над эмблемой и деви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521B-C38C-4E31-B694-040F398A5829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buClr>
                <a:srgbClr val="376092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Выполнение практической части исследов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нформации по выбранной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формление результатов исследов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полученных да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е диа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ение портфоли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готовка к защите исследовательской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готовка компьютерной презент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49D3-2C55-4199-9083-0D7CDABD1456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D13-14DC-4439-A5B1-D9FF8631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E0CA-18F1-422D-B5F4-BD556609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BB85-C29D-4BEE-9BF8-6CD49865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6913-36A2-4A25-9688-81BC36DC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8C33-467E-4BBC-B551-4441C6F3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504E-A4FD-48DD-8143-C9C4B5F1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2364-AAAE-4C99-8D50-9DD1D5BF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4DD0-88DC-445C-80C7-BCDE06A2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1223-408D-4F6E-96F2-3548EE8B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C0B0-452F-4CD0-9011-9CBF9419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3DFF-4A99-4596-8D87-7C16DEE1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B968-6FF5-4909-A6AB-09250A70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5139-3271-4C80-9FEA-0E22F89E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AB96-6E92-4944-8C24-61E61628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4F26-AE14-488E-95E6-9F359CED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F387-86D2-4BE2-A3D1-AFE4A660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224D-2C77-4FD7-89D9-9B72E76E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061EE-BCC5-48A8-8BFE-2761F47F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BF541-863E-4955-8746-AD65F2A7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38832-066D-4B6F-9E1D-3BD319EB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52698-0288-49E0-BA7B-F8DEABFA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7ECAA-80B0-46E3-8AF1-A3C458DD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814F-62A4-4BA4-A717-EAE68FA4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5DE39-F6F0-44D0-82C2-F66CDD6B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14DA0-B998-419E-9951-E8F47E79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72260-BB7A-4395-BED3-81B657D4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CE5FC-792E-4370-85EB-5BD056B1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A758E-3CDE-4800-9302-0263857D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8EB0A-CECD-4E1B-BC73-BAED96A6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88829-D6B1-4C42-9FF5-D5B1625F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9D6B4-6F37-4853-B820-3907528E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0AA44-73CC-4787-99EC-78D0287F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0C47C-1D08-4541-87F9-824B33C3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D01A-5BA2-45E3-9099-8CA006D9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0CDA8-7815-4CB3-B73E-29107312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04321-BE3B-421F-9B6C-1418AD81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B562C-0DD8-4AAA-8C30-3E1894ED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44785-B231-4A30-B9A8-F512A8C3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69052-477A-4B9F-BA40-7FF0674A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90E92-32A1-460A-99B7-81043D2C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02933-4DB7-4C28-A94D-AC6044E1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9A553-4A54-4F07-B71B-D52B6976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23076-81B3-491D-87FA-6AA79B8C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10D5E-0D71-4CF3-87A1-9C7C1B45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BC95-B612-454D-AABE-CEA30FC8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A5226-C257-4C0B-B0D7-60CB2768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D5081-CF66-4E8B-8B15-BE210DE6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115F9-EDBB-4563-B963-A7CC9E2E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78BBE-732C-43B9-976D-FD3C6637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58DF9-9A8F-46CA-8F52-19D28D34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00C6E-F42F-41D2-9DFA-F2BEE12A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4C31E-43F7-49C0-B5F6-233C37C5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BAAE3-60D6-4018-A06D-1A7062FF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F81D4-2CBA-48C5-AD61-7F57790D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105EA-C370-446D-A1BD-9EF7DEE0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EB2E-9503-441E-8113-0CBD966B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AE704-2CBB-49F1-A6AA-7D1FFBD6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C1BEA-935B-4390-B9BE-346A2008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5A4E7-443C-4DB3-BC9E-5D93639C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FCDDE-D927-4743-AD7F-D06EA58F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B4417-25D1-4E12-AAC2-06C5E2ED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7ABD4-92A3-40BA-8C6C-EA178F40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F69B5-44EA-4E28-A569-B657BAF9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1EFF1-8350-4891-9F0E-177ED8EA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44E01-7445-4C14-BD4C-606223F2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740D1-F25C-4B83-B60B-56A3CEF3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A4B3-83D1-4D04-84AA-1E70F76B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E248C-F3BD-418E-863E-E6510BE1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B52EE-F47F-4743-8FF9-1DF84B0C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753FF-3941-4457-945C-16B6FFF2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3D8EA-6526-4457-B566-F9DC70EB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25DED-789F-4FB6-B01F-E7293314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D0CE5-B04B-4EFA-AE49-B8476A89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3C605-AA1D-4FD2-97CF-B670173C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F956A-5B5A-4E66-AC6B-F81F7767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7A6C7-751F-43C8-95ED-8D59A205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8F0CC-7AAA-4779-90E3-91836068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1F8-D98A-471A-869F-71A303AD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836FF-647C-47C3-A7F0-E37F9825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BF879-4632-4CFA-9DF4-9417D706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A4F17-311C-4B6F-A3A0-34227B39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C9BAF-5248-4AE3-9C6A-61E49DDE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13392-DCF0-47AA-BF98-51A17107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7D512-EAC2-4CB5-823E-47D08FAB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3C165-6732-4A42-9A7B-C6EE257A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573F9-7545-4EDE-8F4F-5D5B2E70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3F6B4-8FE7-46B7-8AB2-2DC2085F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E5812-B53D-443D-89AA-5EF94DA3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A848-F829-4F68-B48F-12FEAF27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5BFA1-958C-45EA-A06A-754001D2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06885-C953-443A-BADA-7F650E87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36AA9-9B10-4EA4-9B0C-7E5CFA4A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3DDC0-1BE6-496C-8289-976D92D2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D1A53-8DCC-48B7-B050-4B76E2D0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52CBA-CDD1-4B3C-AB31-44F8ED89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03728-1EC5-4D4D-AE3F-A43A1CB7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AC95-9B76-42D8-984E-7A0D229ADF6C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3C45-2940-472F-A249-64371E3EF034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b0c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5977-55A6-4ACC-8413-94E28814DD51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DFFD-71C7-4B25-BB10-3F4942213A91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eaebde"/>
              </a:solidFill>
              <a:latin typeface="Monotype Corsi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B5F3-31F0-4CF9-B06A-C91594181560}" type="datetime">
              <a:rPr b="0" lang="ru-RU" sz="1400" spc="-1" strike="noStrike">
                <a:solidFill>
                  <a:srgbClr val="eaebde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bde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CFBC-4ECE-4569-A920-5582470179BC}" type="slidenum">
              <a:rPr b="0" lang="ru-RU" sz="1400" spc="-1" strike="noStrike">
                <a:solidFill>
                  <a:srgbClr val="eaebd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7DB9-1412-4E67-9F02-A10FAD295234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5402-7AEF-4EF7-8F74-36DEB05BFE62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DEE9-F6C9-425C-A928-08FB6EC4F247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FDEF-0891-4FAA-B735-1C437DAC3B31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448B-B818-4CEA-9B92-0AD6DC60A9B9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DADE-F7B2-43E1-95B9-B1847D1638DC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eaebde"/>
              </a:solidFill>
              <a:latin typeface="Monotype Corsiv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E8CA-952C-4066-B2B8-D1A7E4ED3FA9}" type="datetime">
              <a:rPr b="0" lang="ru-RU" sz="1400" spc="-1" strike="noStrike">
                <a:solidFill>
                  <a:srgbClr val="eaebde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bde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F7F4-3332-4DEC-9525-7F4E58ED1C94}" type="slidenum">
              <a:rPr b="0" lang="ru-RU" sz="1400" spc="-1" strike="noStrike">
                <a:solidFill>
                  <a:srgbClr val="eaebd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FB84-30BD-4A12-80EE-AA610DB3107A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E129-5EFD-45B8-B544-4D043717C1BA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85920" y="385740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27e56"/>
                </a:solidFill>
                <a:latin typeface="Monotype Corsiva"/>
              </a:rPr>
              <a:t>Какая</a:t>
            </a:r>
            <a:r>
              <a:rPr b="1" lang="ru-RU" sz="6600" spc="-1" strike="noStrike">
                <a:solidFill>
                  <a:srgbClr val="4b734b"/>
                </a:solidFill>
                <a:latin typeface="Monotype Corsiva"/>
              </a:rPr>
              <a:t> у нас память 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Исследовательская работа</a:t>
            </a: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</p:txBody>
      </p:sp>
      <p:pic>
        <p:nvPicPr>
          <p:cNvPr id="361" name="Picture 2" descr="C:\Users\ПК\AppData\Local\Microsoft\Windows\Temporary Internet Files\Content.IE5\2B5Q6MJB\MC900318226[1].wmf"/>
          <p:cNvPicPr/>
          <p:nvPr/>
        </p:nvPicPr>
        <p:blipFill>
          <a:blip r:embed="rId1"/>
          <a:stretch/>
        </p:blipFill>
        <p:spPr>
          <a:xfrm>
            <a:off x="214200" y="0"/>
            <a:ext cx="2428920" cy="349884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3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E:\Каб.202\Фотографии\Исслед.д-ть.2005-2006\IMG_0753.jpg"/>
          <p:cNvPicPr/>
          <p:nvPr/>
        </p:nvPicPr>
        <p:blipFill>
          <a:blip r:embed="rId1"/>
          <a:stretch/>
        </p:blipFill>
        <p:spPr>
          <a:xfrm>
            <a:off x="4000680" y="3286080"/>
            <a:ext cx="4500360" cy="3375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27e56"/>
                </a:solidFill>
                <a:latin typeface="Monotype Corsiva"/>
              </a:rPr>
              <a:t>Методы исследования: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Изучить литературу по теме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Обратиться за помощью к другим людям (родителям, учителям, школьному психологу)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Обратиться к глобальной сети интернет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Провести эксперимент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6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27e56"/>
                </a:solidFill>
                <a:latin typeface="Monotype Corsiva"/>
              </a:rPr>
              <a:t>Выводы: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28760" y="1214280"/>
            <a:ext cx="8229600" cy="508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</a:rPr>
              <a:t>Результаты проведенных экспериментов подтверждают закономерности развития памяти в младшем школьном возрасте. А именно: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mbria Math"/>
              </a:rPr>
              <a:t>-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mbria Math"/>
              </a:rPr>
              <a:t>высокие показатели получены по разным типам кратко­временной памяти (обонятельной, зрительной, моторной, слуховой и др.);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mbria Math"/>
              </a:rPr>
              <a:t>- долговременная память учеников класса имеет относительно низкие показатели (только 35% обследуемой выборки вспомнили от 60 до 100% текста);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mbria Math"/>
              </a:rPr>
              <a:t>-  начинает формироваться логическая память (57% выборки смогли воспроизвести смысловые единицы запоминаемого текста;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mbria Math"/>
              </a:rPr>
              <a:t>- из всех видов обследованной кратковременной памяти наиболее развита зрительная память.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9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img158"/>
          <p:cNvPicPr/>
          <p:nvPr/>
        </p:nvPicPr>
        <p:blipFill>
          <a:blip r:embed="rId2"/>
          <a:stretch/>
        </p:blipFill>
        <p:spPr>
          <a:xfrm>
            <a:off x="1000080" y="1179360"/>
            <a:ext cx="7072200" cy="5067360"/>
          </a:xfrm>
          <a:prstGeom prst="rect">
            <a:avLst/>
          </a:prstGeom>
          <a:ln w="0">
            <a:noFill/>
          </a:ln>
        </p:spPr>
      </p:pic>
      <p:sp>
        <p:nvSpPr>
          <p:cNvPr id="402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img159"/>
          <p:cNvPicPr/>
          <p:nvPr/>
        </p:nvPicPr>
        <p:blipFill>
          <a:blip r:embed="rId2"/>
          <a:stretch/>
        </p:blipFill>
        <p:spPr>
          <a:xfrm>
            <a:off x="857160" y="1357200"/>
            <a:ext cx="7286760" cy="5214960"/>
          </a:xfrm>
          <a:prstGeom prst="rect">
            <a:avLst/>
          </a:prstGeom>
          <a:ln w="0">
            <a:noFill/>
          </a:ln>
        </p:spPr>
      </p:pic>
      <p:sp>
        <p:nvSpPr>
          <p:cNvPr id="405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img160"/>
          <p:cNvPicPr/>
          <p:nvPr/>
        </p:nvPicPr>
        <p:blipFill>
          <a:blip r:embed="rId2"/>
          <a:stretch/>
        </p:blipFill>
        <p:spPr>
          <a:xfrm>
            <a:off x="1214280" y="1214280"/>
            <a:ext cx="7000920" cy="533592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img161"/>
          <p:cNvPicPr/>
          <p:nvPr/>
        </p:nvPicPr>
        <p:blipFill>
          <a:blip r:embed="rId2"/>
          <a:stretch/>
        </p:blipFill>
        <p:spPr>
          <a:xfrm>
            <a:off x="1357200" y="1276200"/>
            <a:ext cx="7000920" cy="5581800"/>
          </a:xfrm>
          <a:prstGeom prst="rect">
            <a:avLst/>
          </a:prstGeom>
          <a:ln w="0">
            <a:noFill/>
          </a:ln>
        </p:spPr>
      </p:pic>
      <p:sp>
        <p:nvSpPr>
          <p:cNvPr id="41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1224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img162"/>
          <p:cNvPicPr/>
          <p:nvPr/>
        </p:nvPicPr>
        <p:blipFill>
          <a:blip r:embed="rId2"/>
          <a:stretch/>
        </p:blipFill>
        <p:spPr>
          <a:xfrm>
            <a:off x="928800" y="1285920"/>
            <a:ext cx="7538760" cy="5014800"/>
          </a:xfrm>
          <a:prstGeom prst="rect">
            <a:avLst/>
          </a:prstGeom>
          <a:ln w="0">
            <a:noFill/>
          </a:ln>
        </p:spPr>
      </p:pic>
      <p:sp>
        <p:nvSpPr>
          <p:cNvPr id="41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img163"/>
          <p:cNvPicPr/>
          <p:nvPr/>
        </p:nvPicPr>
        <p:blipFill>
          <a:blip r:embed="rId2"/>
          <a:stretch/>
        </p:blipFill>
        <p:spPr>
          <a:xfrm>
            <a:off x="1214280" y="1122480"/>
            <a:ext cx="6572520" cy="524484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img164"/>
          <p:cNvPicPr/>
          <p:nvPr/>
        </p:nvPicPr>
        <p:blipFill>
          <a:blip r:embed="rId2"/>
          <a:stretch/>
        </p:blipFill>
        <p:spPr>
          <a:xfrm>
            <a:off x="642960" y="1285920"/>
            <a:ext cx="8074080" cy="475920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457200" y="146160"/>
            <a:ext cx="8229600" cy="1170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img165"/>
          <p:cNvPicPr/>
          <p:nvPr/>
        </p:nvPicPr>
        <p:blipFill>
          <a:blip r:embed="rId2"/>
          <a:stretch/>
        </p:blipFill>
        <p:spPr>
          <a:xfrm>
            <a:off x="1143000" y="1357200"/>
            <a:ext cx="7091280" cy="5158080"/>
          </a:xfrm>
          <a:prstGeom prst="rect">
            <a:avLst/>
          </a:prstGeom>
          <a:ln w="0">
            <a:noFill/>
          </a:ln>
        </p:spPr>
      </p:pic>
      <p:sp>
        <p:nvSpPr>
          <p:cNvPr id="423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14280" y="1428840"/>
            <a:ext cx="742968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eaebde"/>
                </a:solidFill>
                <a:latin typeface="Monotype Corsiva"/>
              </a:rPr>
              <a:t>Авторы :</a:t>
            </a:r>
            <a:br>
              <a:rPr sz="5400"/>
            </a:br>
            <a:r>
              <a:rPr b="1" lang="ru-RU" sz="3600" spc="-1" strike="noStrike">
                <a:solidFill>
                  <a:srgbClr val="eaebde"/>
                </a:solidFill>
                <a:latin typeface="Monotype Corsiva"/>
              </a:rPr>
              <a:t>Побиванцева Анна</a:t>
            </a:r>
            <a:br>
              <a:rPr sz="3600"/>
            </a:br>
            <a:r>
              <a:rPr b="1" lang="ru-RU" sz="3600" spc="-1" strike="noStrike">
                <a:solidFill>
                  <a:srgbClr val="eaebde"/>
                </a:solidFill>
                <a:latin typeface="Monotype Corsiva"/>
              </a:rPr>
              <a:t>Постолит Илья</a:t>
            </a:r>
            <a:br>
              <a:rPr sz="3600"/>
            </a:br>
            <a:r>
              <a:rPr b="1" lang="ru-RU" sz="3600" spc="-1" strike="noStrike">
                <a:solidFill>
                  <a:srgbClr val="eaebde"/>
                </a:solidFill>
                <a:latin typeface="Monotype Corsiva"/>
              </a:rPr>
              <a:t>Сытник Екатерина</a:t>
            </a:r>
            <a:endParaRPr b="0" lang="en-US" sz="3600" spc="-1" strike="noStrike">
              <a:solidFill>
                <a:srgbClr val="eaebde"/>
              </a:solidFill>
              <a:latin typeface="Monotype Corsiv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94920" y="4267080"/>
            <a:ext cx="6782040" cy="17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mbria Math"/>
              </a:rPr>
              <a:t>Руководитель работы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mbria Math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Cambria Math"/>
              </a:rPr>
              <a:t>Александренко Антонина Егоровна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</p:txBody>
      </p:sp>
      <p:pic>
        <p:nvPicPr>
          <p:cNvPr id="365" name="Picture 2" descr="E:\Каб.202\Фотографии\Фото класса (разные)2006-2010гг\IMG_0763.jpg"/>
          <p:cNvPicPr/>
          <p:nvPr/>
        </p:nvPicPr>
        <p:blipFill>
          <a:blip r:embed="rId1"/>
          <a:stretch/>
        </p:blipFill>
        <p:spPr>
          <a:xfrm>
            <a:off x="214200" y="214200"/>
            <a:ext cx="5143680" cy="3857760"/>
          </a:xfrm>
          <a:prstGeom prst="rect">
            <a:avLst/>
          </a:prstGeom>
          <a:ln w="0">
            <a:noFill/>
          </a:ln>
        </p:spPr>
      </p:pic>
      <p:sp>
        <p:nvSpPr>
          <p:cNvPr id="366" name="Місце для нижнього колонтитула 3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bde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122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img172"/>
          <p:cNvPicPr/>
          <p:nvPr/>
        </p:nvPicPr>
        <p:blipFill>
          <a:blip r:embed="rId2"/>
          <a:stretch/>
        </p:blipFill>
        <p:spPr>
          <a:xfrm>
            <a:off x="857160" y="1044720"/>
            <a:ext cx="7215120" cy="5448240"/>
          </a:xfrm>
          <a:prstGeom prst="rect">
            <a:avLst/>
          </a:prstGeom>
          <a:ln w="0">
            <a:noFill/>
          </a:ln>
        </p:spPr>
      </p:pic>
      <p:sp>
        <p:nvSpPr>
          <p:cNvPr id="42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img173"/>
          <p:cNvPicPr/>
          <p:nvPr/>
        </p:nvPicPr>
        <p:blipFill>
          <a:blip r:embed="rId2"/>
          <a:stretch/>
        </p:blipFill>
        <p:spPr>
          <a:xfrm>
            <a:off x="357120" y="1500120"/>
            <a:ext cx="8440920" cy="492912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оугольник 5"/>
          <p:cNvSpPr/>
          <p:nvPr/>
        </p:nvSpPr>
        <p:spPr>
          <a:xfrm>
            <a:off x="5643720" y="114300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иаграмма № 10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30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3114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Для того чтобы иметь возможность пользоваться полученной информацией, ее надо запомнить, сохранить и воспро­извести в нужный момент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mbria Math"/>
              </a:rPr>
              <a:t>Запоминание (кодирование), сохранение, воспроизведение (извлечение) и забывание </a:t>
            </a:r>
            <a:r>
              <a:rPr b="1" lang="ru-RU" sz="2000" spc="-1" strike="noStrike">
                <a:solidFill>
                  <a:srgbClr val="000000"/>
                </a:solidFill>
                <a:latin typeface="Cambria Math"/>
              </a:rPr>
              <a:t>— основные процессы памяти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</p:txBody>
      </p:sp>
      <p:pic>
        <p:nvPicPr>
          <p:cNvPr id="433" name="Picture 1" descr="img099"/>
          <p:cNvPicPr/>
          <p:nvPr/>
        </p:nvPicPr>
        <p:blipFill>
          <a:blip r:embed="rId2"/>
          <a:stretch/>
        </p:blipFill>
        <p:spPr>
          <a:xfrm>
            <a:off x="500040" y="2928960"/>
            <a:ext cx="8501040" cy="3765600"/>
          </a:xfrm>
          <a:prstGeom prst="rect">
            <a:avLst/>
          </a:prstGeom>
          <a:ln w="0">
            <a:noFill/>
          </a:ln>
        </p:spPr>
      </p:pic>
      <p:sp>
        <p:nvSpPr>
          <p:cNvPr id="434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C:\Users\ПК\AppData\Local\Microsoft\Windows\Temporary Internet Files\Content.IE5\2B5Q6MJB\MC900197836[1].wmf"/>
          <p:cNvPicPr/>
          <p:nvPr/>
        </p:nvPicPr>
        <p:blipFill>
          <a:blip r:embed="rId1"/>
          <a:stretch/>
        </p:blipFill>
        <p:spPr>
          <a:xfrm>
            <a:off x="285840" y="357120"/>
            <a:ext cx="8858160" cy="621504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Направления дальнейших исследований:</a:t>
            </a:r>
            <a:endParaRPr b="0" lang="en-US" sz="40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Изучить, есть ли различия в запоминании у мальчиков и девочек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Расследовать, влияет ли физическое здоровье на память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Провести новый эксперимент с использованием специальных упражнений для улучшения памяти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Сравнить и обобщить результаты проведенных и будущих исследований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Разработать рекомендации для участников эксперимента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38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3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3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3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3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3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E:\Каб.202\Фотографии\Исслед.д-ть.2005-2006\IMG_0743.jpg"/>
          <p:cNvPicPr/>
          <p:nvPr/>
        </p:nvPicPr>
        <p:blipFill>
          <a:blip r:embed="rId1"/>
          <a:stretch/>
        </p:blipFill>
        <p:spPr>
          <a:xfrm>
            <a:off x="500040" y="3875040"/>
            <a:ext cx="3786120" cy="28400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27e56"/>
                </a:solidFill>
                <a:latin typeface="Monotype Corsiva"/>
              </a:rPr>
              <a:t>Работа была представлена:</a:t>
            </a:r>
            <a:endParaRPr b="0" lang="en-US" sz="48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на ученической научно-практической конференции «</a:t>
            </a:r>
            <a:r>
              <a:rPr b="1" i="1" lang="ru-RU" sz="2600" spc="-1" strike="noStrike">
                <a:solidFill>
                  <a:srgbClr val="000000"/>
                </a:solidFill>
                <a:latin typeface="Cambria Math"/>
              </a:rPr>
              <a:t>Да не оскудеет талантами земля русская»,</a:t>
            </a: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 2006г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на Российском  конкурсе исследовательских работ и творческих проектов </a:t>
            </a:r>
            <a:r>
              <a:rPr b="1" i="1" lang="ru-RU" sz="2600" spc="-1" strike="noStrike">
                <a:solidFill>
                  <a:srgbClr val="000000"/>
                </a:solidFill>
                <a:latin typeface="Cambria Math"/>
              </a:rPr>
              <a:t>«Я – исследователь</a:t>
            </a: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», где получила Диплом «</a:t>
            </a:r>
            <a:r>
              <a:rPr b="1" i="1" lang="ru-RU" sz="2600" spc="-1" strike="noStrike">
                <a:solidFill>
                  <a:srgbClr val="000000"/>
                </a:solidFill>
                <a:latin typeface="Cambria Math"/>
              </a:rPr>
              <a:t>За лучший эксперимент</a:t>
            </a: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», 2006г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pic>
        <p:nvPicPr>
          <p:cNvPr id="442" name="Picture 3" descr="E:\Каб.202\Фотографии\Исслед.д-ть.2005-2006\IMG_0779.jpg"/>
          <p:cNvPicPr/>
          <p:nvPr/>
        </p:nvPicPr>
        <p:blipFill>
          <a:blip r:embed="rId2"/>
          <a:stretch/>
        </p:blipFill>
        <p:spPr>
          <a:xfrm>
            <a:off x="4929120" y="3857760"/>
            <a:ext cx="3714840" cy="2786040"/>
          </a:xfrm>
          <a:prstGeom prst="rect">
            <a:avLst/>
          </a:prstGeom>
          <a:ln w="0">
            <a:noFill/>
          </a:ln>
        </p:spPr>
      </p:pic>
      <p:sp>
        <p:nvSpPr>
          <p:cNvPr id="443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3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30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0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C:\Users\ПК\AppData\Local\Microsoft\Windows\Temporary Internet Files\Content.IE5\4JCQMEH2\MC90033268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Цель работы: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 Math"/>
              </a:rPr>
              <a:t>Узнать, что такое память.</a:t>
            </a:r>
            <a:endParaRPr b="0" lang="en-US" sz="4800" spc="-1" strike="noStrike">
              <a:solidFill>
                <a:srgbClr val="000000"/>
              </a:solidFill>
              <a:latin typeface="Cambria Math"/>
            </a:endParaRPr>
          </a:p>
          <a:p>
            <a:pPr marL="259200" indent="-25920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 Math"/>
              </a:rPr>
              <a:t>Выяснить, какая память у учащихся </a:t>
            </a:r>
            <a:r>
              <a:rPr b="0" lang="ru-RU" sz="4800" spc="-1" strike="noStrike">
                <a:solidFill>
                  <a:srgbClr val="ffffff"/>
                </a:solidFill>
                <a:latin typeface="Cambria Math"/>
              </a:rPr>
              <a:t>нашего</a:t>
            </a:r>
            <a:r>
              <a:rPr b="0" lang="ru-RU" sz="4800" spc="-1" strike="noStrike">
                <a:solidFill>
                  <a:srgbClr val="000000"/>
                </a:solidFill>
                <a:latin typeface="Cambria Math"/>
              </a:rPr>
              <a:t> класса.</a:t>
            </a:r>
            <a:endParaRPr b="0" lang="en-US" sz="4800" spc="-1" strike="noStrike">
              <a:solidFill>
                <a:srgbClr val="000000"/>
              </a:solidFill>
              <a:latin typeface="Cambria Math"/>
            </a:endParaRPr>
          </a:p>
          <a:p>
            <a:pPr marL="259200" indent="-25920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 Math"/>
              </a:rPr>
              <a:t>Исследовать, можно ли улучши</a:t>
            </a:r>
            <a:r>
              <a:rPr b="0" lang="ru-RU" sz="4800" spc="-1" strike="noStrike">
                <a:solidFill>
                  <a:srgbClr val="f2f2f2"/>
                </a:solidFill>
                <a:latin typeface="Cambria Math"/>
              </a:rPr>
              <a:t>ть </a:t>
            </a:r>
            <a:r>
              <a:rPr b="0" lang="ru-RU" sz="4800" spc="-1" strike="noStrike">
                <a:solidFill>
                  <a:srgbClr val="000000"/>
                </a:solidFill>
                <a:latin typeface="Cambria Math"/>
              </a:rPr>
              <a:t>память.</a:t>
            </a:r>
            <a:endParaRPr b="0" lang="en-US" sz="4800" spc="-1" strike="noStrike">
              <a:solidFill>
                <a:srgbClr val="000000"/>
              </a:solidFill>
              <a:latin typeface="Cambria Math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C:\Users\ПК\AppData\Local\Microsoft\Windows\Temporary Internet Files\Content.IE5\2B5Q6MJB\MC900197836[1].wmf"/>
          <p:cNvPicPr/>
          <p:nvPr/>
        </p:nvPicPr>
        <p:blipFill>
          <a:blip r:embed="rId1"/>
          <a:stretch/>
        </p:blipFill>
        <p:spPr>
          <a:xfrm>
            <a:off x="5857920" y="4071960"/>
            <a:ext cx="3066840" cy="2786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27e56"/>
                </a:solidFill>
                <a:latin typeface="Monotype Corsiva"/>
              </a:rPr>
              <a:t>Задачи исследования:</a:t>
            </a:r>
            <a:endParaRPr b="0" lang="en-US" sz="60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 Math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Cambria Math"/>
              </a:rPr>
              <a:t>Изучить, что такое память и какие бывают виды памяти.</a:t>
            </a: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 Math"/>
              </a:rPr>
              <a:t>Выяснить, что помогает человеку лучше запоминать.</a:t>
            </a: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 Math"/>
              </a:rPr>
              <a:t>Провести исследование памяти  одноклассников.</a:t>
            </a: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4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C:\Users\ПК\AppData\Local\Microsoft\Windows\Temporary Internet Files\Content.IE5\R4TH7C0G\MM900282996[1].gif"/>
          <p:cNvPicPr/>
          <p:nvPr/>
        </p:nvPicPr>
        <p:blipFill>
          <a:blip r:embed="rId1"/>
          <a:stretch/>
        </p:blipFill>
        <p:spPr>
          <a:xfrm>
            <a:off x="5214960" y="2714760"/>
            <a:ext cx="4143240" cy="41432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27e56"/>
                </a:solidFill>
                <a:latin typeface="Monotype Corsiva"/>
              </a:rPr>
              <a:t>Гипотезы: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Предположим, что если человеку нужно что-то запомнить, то в его голове происходят разные процессы, связанные с запоминанием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67120" indent="-26712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Допустим, что память человека можно улучшить, и существуют правила, помогающие это сделать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67120" indent="-26712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Что если плохая память человека влияет на его физическое здоровье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67120" indent="-26712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Возможно, что разные люди обладают разными видами памяти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8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27e56"/>
                </a:solidFill>
                <a:latin typeface="Monotype Corsiva"/>
              </a:rPr>
              <a:t>Этапы исследования: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85840" y="1219320"/>
            <a:ext cx="840096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Выбор темы исследовательской работы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Определение целей и постановка задач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Выдвижение гипотез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Организация исследовательской деятельности: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</a:rPr>
              <a:t>Составление плана работы.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</a:rPr>
              <a:t>Определение методов исследования.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pic>
        <p:nvPicPr>
          <p:cNvPr id="381" name="Picture 2" descr="C:\Users\ПК\AppData\Local\Microsoft\Windows\Temporary Internet Files\Content.IE5\1DKUVHX6\MC900304067[1].wmf"/>
          <p:cNvPicPr/>
          <p:nvPr/>
        </p:nvPicPr>
        <p:blipFill>
          <a:blip r:embed="rId1"/>
          <a:stretch/>
        </p:blipFill>
        <p:spPr>
          <a:xfrm>
            <a:off x="5072040" y="3238560"/>
            <a:ext cx="3629160" cy="3144600"/>
          </a:xfrm>
          <a:prstGeom prst="rect">
            <a:avLst/>
          </a:prstGeom>
          <a:ln w="0">
            <a:noFill/>
          </a:ln>
        </p:spPr>
      </p:pic>
      <p:sp>
        <p:nvSpPr>
          <p:cNvPr id="382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27e56"/>
                </a:solidFill>
                <a:latin typeface="Monotype Corsiva"/>
              </a:rPr>
              <a:t>Работа над эмблемой и девизом:</a:t>
            </a:r>
            <a:endParaRPr b="0" lang="en-US" sz="4800" spc="-1" strike="noStrike">
              <a:solidFill>
                <a:srgbClr val="676a55"/>
              </a:solidFill>
              <a:latin typeface="Monotype Corsiva"/>
            </a:endParaRPr>
          </a:p>
        </p:txBody>
      </p:sp>
      <p:pic>
        <p:nvPicPr>
          <p:cNvPr id="384" name="Picture 2" descr="C:\Users\ПК\AppData\Local\Microsoft\Windows\Temporary Internet Files\Content.IE5\2B5Q6MJB\MC900334236[1].wmf"/>
          <p:cNvPicPr/>
          <p:nvPr/>
        </p:nvPicPr>
        <p:blipFill>
          <a:blip r:embed="rId1"/>
          <a:stretch/>
        </p:blipFill>
        <p:spPr>
          <a:xfrm>
            <a:off x="571680" y="1143000"/>
            <a:ext cx="8143560" cy="551808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img115"/>
          <p:cNvPicPr/>
          <p:nvPr/>
        </p:nvPicPr>
        <p:blipFill>
          <a:blip r:embed="rId1"/>
          <a:stretch/>
        </p:blipFill>
        <p:spPr>
          <a:xfrm>
            <a:off x="2428920" y="642960"/>
            <a:ext cx="4260960" cy="5416560"/>
          </a:xfrm>
          <a:prstGeom prst="rect">
            <a:avLst/>
          </a:prstGeom>
          <a:ln w="0">
            <a:noFill/>
          </a:ln>
        </p:spPr>
      </p:pic>
      <p:sp>
        <p:nvSpPr>
          <p:cNvPr id="387" name="WordArt 2"/>
          <p:cNvSpPr txBox="1"/>
          <p:nvPr/>
        </p:nvSpPr>
        <p:spPr>
          <a:xfrm>
            <a:off x="1428840" y="571680"/>
            <a:ext cx="6400800" cy="4114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854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мять - хранилище прошлого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8" name="WordArt 4"/>
          <p:cNvSpPr txBox="1"/>
          <p:nvPr/>
        </p:nvSpPr>
        <p:spPr>
          <a:xfrm>
            <a:off x="1428840" y="542916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залог будущего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C:\Users\ПК\AppData\Local\Microsoft\Windows\Temporary Internet Files\Content.IE5\4JCQMEH2\MM900234673[1].gif"/>
          <p:cNvPicPr/>
          <p:nvPr/>
        </p:nvPicPr>
        <p:blipFill>
          <a:blip r:embed="rId1"/>
          <a:stretch/>
        </p:blipFill>
        <p:spPr>
          <a:xfrm>
            <a:off x="6567480" y="0"/>
            <a:ext cx="2576520" cy="25765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285840" y="642600"/>
            <a:ext cx="840096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27e56"/>
                </a:solidFill>
                <a:latin typeface="Monotype Corsiva"/>
              </a:rPr>
              <a:t>Выполнение практической части исследования:</a:t>
            </a:r>
            <a:endParaRPr b="0" lang="en-US" sz="3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Поиск информации по выбранной теме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Наблюдение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Эксперимент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Оформление результатов исследования: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Обработка полученных данных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Построение диаграмм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Заполнение портфолио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Подготовка к защите исследовательской работы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Подготовка компьютерной презентации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8:20:13Z</dcterms:created>
  <dc:creator>ПК</dc:creator>
  <dc:description/>
  <dc:language>en-US</dc:language>
  <cp:lastModifiedBy>LEGION</cp:lastModifiedBy>
  <dcterms:modified xsi:type="dcterms:W3CDTF">2014-11-24T10:59:49Z</dcterms:modified>
  <cp:revision>18</cp:revision>
  <dc:subject/>
  <dc:title>Какая у нас память</dc:title>
</cp:coreProperties>
</file>