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8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4.wmf" ContentType="image/x-wmf"/>
  <Override PartName="/ppt/media/image3.wmf" ContentType="image/x-wmf"/>
  <Override PartName="/ppt/media/image8.jpeg" ContentType="image/jpeg"/>
  <Override PartName="/ppt/media/image10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14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1.png" ContentType="image/png"/>
  <Override PartName="/ppt/media/image34.jpeg" ContentType="image/jpeg"/>
  <Override PartName="/ppt/media/image2.jpeg" ContentType="image/jpeg"/>
  <Override PartName="/ppt/media/image5.gif" ContentType="image/gif"/>
  <Override PartName="/ppt/media/image1.wmf" ContentType="image/x-wmf"/>
  <Override PartName="/ppt/media/image9.gif" ContentType="image/gif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jpeg" ContentType="image/jpeg"/>
  <Override PartName="/ppt/media/image23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move the slide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0787-3FEB-4C0D-BF74-2434DE92828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Какая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у нас памя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сследовательск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6E98-2E04-43D6-8A64-1379C0503419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Методы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литературу по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ься за помощью к другим людям (родителям, учителям, школьному психоло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ься к глобальной сети 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172F-28DD-4470-83A2-CC0755956FF0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проведенных экспериментов подтверждают закономерности развития памяти в младшем школьном возрасте. А имен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сокие показатели получены по разным типам кратко­временной памяти (обонятельной, зрительной, моторной, слухово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долговременная память учеников класса имеет относительно низкие показатели (только 35% обследуемой выборки вспомнили от 60 до 100% текс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 начинает формироваться логическая память (57% выборки смогли воспроизвести смысловые единицы запоминаемого тек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из всех видов обследованной кратковременной памяти наиболее развита зрительна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5419-D32E-401B-B0E7-63FF99AA3A92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ДОЛГОВРЕМЕН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80EF-D814-4BD6-8B47-9AD85BA2F24A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 МОТОР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F8F3-C24C-46FF-BF7F-65EE90D8E283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FB7D-268F-44CC-8A89-E2660B42E927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ОСЯЗА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2B75-A88E-491F-A971-1DB95B2CC9ED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  КРАТКОВРЕМЕННОЙ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ЗРИ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71C6-D3EA-473C-87E2-7CB1E7933827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             ОБОНЯ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E294-8CCB-4BAC-B183-1CB94055FDA6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ЗРИ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9BEB-20F1-43A4-BB07-F9417037DAAB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ДОЛГОВРЕМЕННОЙ ПАМЯТИ ( ТЕСТ № 2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0252-0A96-4013-89CD-49C65522ED54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вторы :</a:t>
            </a:r>
            <a:br>
              <a:rPr sz="32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биванцева Анн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толит Иль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ытник Екатер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оводитель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ндренко Антонина Его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A088-D92A-462D-B6A9-D2CB4090CDE6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  КРАТКОВРЕМЕННОЙ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   СЛУХОВ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1449-1987-4801-9823-35AE401FA403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 ОБРАЗ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46CC-E018-4139-A105-8149361BA205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Как работает памя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 чтобы иметь возможность пользоваться полученной информацией, ее надо запомнить, сохранить и воспро­извести в нужный момент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оминание (кодирование), сохранение, воспроизведение (извлечение) и забыв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сновные процессы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294A-E89F-4B5D-84B2-797FAE5D4BE0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аправления дальнейших исследова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, есть ли различия в запоминании у мальчиков и дево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ледовать, влияет ли физическое здоровье на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новый эксперимент с использованием специальных упражнений для улучшения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ь и обобщить результаты проведенных и будущих исслед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рекомендации для участников экспери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FA7A-1F66-4CED-B9E2-1430FD392F69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Работа была представле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ченической научно-практической конференции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а не оскудеет талантами земля русская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оссийском  конкурсе исследовательских работ и творческих проектов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Я – исследоват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где получила Диплом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 лучший 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E0D5-E194-4BF6-8EDE-E392556DA306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Цель рабо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, что такое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ая память у учащихся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ш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ь, можно ли улучши</a:t>
            </a: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2213-FCED-4E23-80F8-888C7A1AE4E9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Задачи исслед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, что такое память и какие бывают виды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что помогает человеку лучше запомин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сследование памяти  однокласс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41C3-45B4-455B-A86B-AAB94465B4D5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Гипотез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что если человеку нужно что-то запомнить, то в его голове происходят разные процессы, связанные с запомин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тим, что память человека можно улучшить, и существуют правила, помогающие это сдел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если плохая память человека влияет на его физическое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, что разные люди обладают разными видами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974B-9A56-48AB-953E-852B63310EA9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76092"/>
                </a:solidFill>
                <a:latin typeface="Calibri"/>
              </a:rPr>
              <a:t>Этапы исследования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ор темы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целей и постановка зада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вижение гипоте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исследовательской деятельно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ление плана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методов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E0DA-A530-443E-88FD-48F06BFE58A5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абота над эмблемой и деви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80B3-CFD7-4828-BE25-5736679A43DA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buClr>
                <a:srgbClr val="37609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Выполнение практической части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нформации по выбранной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ление результатов исследов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полученных да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диа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ение портфоли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к защите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компьютерной презен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9FCC-82D8-4678-95AF-4F47C0DE7399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0F4-D782-4266-87A7-60523C42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866-E12C-4F03-8D3C-2CA9F0D4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BC1-42F1-44E6-9D8E-215984C7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1B6-A099-4DE1-8848-71D89AF9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7C4C-4E45-405B-8354-5C3F2DBC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BC79-E696-4006-AC80-3A569244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B57F-8126-425D-BEFB-9FC6DEE3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2116-7BB0-4ACA-8209-DEAF515F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AA3A-EF79-40E6-94FD-708F9F43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FA81-1A15-4C97-B6AE-D13CB69E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AEC9-0191-40ED-A66D-A4090CED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21B2-49C9-4A08-BC40-46266C30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035C-B5D2-42AC-9FF8-78427244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52E9-405E-487C-B962-10408772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E5BE-67CE-48B5-8169-91FD1F7E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3F0D-4219-49C8-A289-FFA8815C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8CC9-170A-4783-AA50-980B2985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4F253-EA68-4A12-8281-5CAC6641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F9EB4-B0D6-49C8-B26C-CAEE4D8E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990C0-D18B-4AB8-BC41-71F5357F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E843F-DBF3-4460-BF66-DA8EFC14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C9E2C-E35D-4B40-AEA8-CAED0B1E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970-8D2C-4847-9DC9-6E575AFD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742E6-AE23-4D81-B896-3448E532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87985-951A-4FFA-9B11-9A9C97D6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F38F1-83F8-4014-95F7-225AAA99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63D09-ED63-4E96-AF6B-38A099FF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3BE83-2255-454E-BDF1-63256CF7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2AA53-F492-4614-B880-281577CE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FCFB9-7210-4EEA-8EDC-1B928161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52415-DD09-4CBD-9017-9FD2046D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84222-B6AF-463A-9672-BCE6AB1F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4C045-A10A-4293-AD73-BA685921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4FE-F516-416A-88E2-7C764A79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A3FC8-8DFE-4789-8D98-34BE3B0B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90AE5-25A0-4BDB-8048-FA74DDDE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E5B65-164D-4F1F-89EB-27534532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E4B88-6062-4C73-BD6F-5F7CEDF6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6D02B-85FB-4FE9-AACB-34D49A0B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B2521-97C3-4BD1-8D91-B449F4FC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8DB58-294F-4F42-A371-D21E4C17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C717D-2320-4980-872B-A28A662E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B151E-F022-411B-9277-7A39ADDC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C52E4-52E1-44CF-AC3E-4A6900B4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63DD-207F-4DA2-8F30-535C005F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79CC3-39BA-478F-9E7F-2B0C5959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4EE31-C558-4527-AF73-58C2F147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C75C8-1BE4-4281-A362-12FBF7CA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B0190-A654-4E48-B326-7C4D3738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60B8E-E558-4C24-BF8F-867261E1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785AE-B501-455D-A490-861FD302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75D47-0193-420F-9D4A-D06AEB3C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1E161-4BCF-4429-8C55-22BC825B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1C7E3-ECC5-4094-9838-3C8AFE21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BB147-18FE-4286-8074-00801ECE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D70-C3BD-4C2D-BD10-3DFFA160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9A15B-2FDE-45F4-8ED6-CF42BB57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11C20-2711-4B18-BC3C-9391BAC8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8E923-576D-4BBE-8032-8CE0DC88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ADE13-3319-4013-972E-7B4C1656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DB22A-2542-41B3-8547-F40BD7BE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5E0E3-ED6C-484A-98E2-4CFCA989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19D3A-5336-4C45-8456-279DFD15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F2275-EEBF-46C8-92FE-EAD17755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F919C-0D65-4768-8413-18715A53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8F777-8DD2-4469-B711-9530E763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4A7-8940-4AE0-9C46-A9617F63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6FA1C-9401-4846-A6AD-45452590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D3FEB-6D26-4C32-AB5F-5792A9F2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F13A2-F0A9-40DD-B014-C4748B39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49483-256F-46D1-915B-5B2D7208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6A53E-A85F-4100-A35E-C4184F0E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0ACDF-4038-4C50-8464-C5EA9269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13F10-F6BC-4952-9F4B-7E8F02C4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DAA23-11F7-478A-B098-FEB5DBA3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420E6-619F-405B-8271-5F8FF77B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5C5E5-C52B-49E4-B0A1-F3896C1A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E75-5F62-4E30-B181-EDD836D1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97355-F96C-493A-BF1C-7F468D1F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10C56-8010-47E3-9EB7-67AEF6D3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01AA0-DAAA-4D87-B435-9C42BF00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5A11F-1379-4851-8284-0EDF15EE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78BB5-4618-47DC-AEB1-7CE403B5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FE262-5A89-49A3-BD25-EE8E73FB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4763C-F432-4248-86BF-232D7505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C518A-384E-4212-96B2-C065C23B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30B8F-0002-4D47-AB80-BAFE84F0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CBFB4-C5FA-490B-B578-96FBF7C5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450-ECCF-46B9-A569-66AAF512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2E8AB-199B-4E03-966B-04C46292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6DF04-AF94-487A-890B-CA5BE61E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7B34A-5F31-48E6-8EDE-9A2BBC4A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6EB6E-86F6-44A3-8728-E597C464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9D737-7D0F-4CD4-B9E7-37046835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2CDAD-207B-4E64-8CB7-EA212439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3C40B-0596-423D-8A8A-A370BF2B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75B3-F9A2-45AF-BE8E-DF3389B35453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8A2D-13E6-45B8-BD1D-676FE3FEDDDF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b0c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6A90-C4AC-4C7E-B395-15F0DAEA382D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AA96-01F1-4337-A463-6FA79FAAC723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eaebde"/>
              </a:solidFill>
              <a:latin typeface="Monotype Corsi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B5BB-8AE5-4A08-82A3-915B7F6BC292}" type="datetime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bde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3CA5-4C12-41A9-B879-23CB08965E53}" type="slidenum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C06E-49D3-4F17-A44D-9DFF37270B13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F19D-26BB-4D41-95D9-6AECD22A088E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7DD7-994E-4C42-8266-004908FEDBD2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4AEC-CC08-40DB-87DC-94D6A612B23C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2179-4F82-489F-8557-B24964A0B47B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EE2B-CB8A-464E-9530-259F0C004913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eaebde"/>
              </a:solidFill>
              <a:latin typeface="Monotype Corsi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91E1-29FB-4D35-A892-63755AE08D0E}" type="datetime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bde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8313-BEFF-4A3B-BD1E-20AF1C920DDB}" type="slidenum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AE7C-963D-4EF5-AC4E-710706727C51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1212-09B7-49C8-8EEF-DDB5C5C76604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85920" y="385740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Какая</a:t>
            </a:r>
            <a:r>
              <a:rPr b="1" lang="ru-RU" sz="6600" spc="-1" strike="noStrike">
                <a:solidFill>
                  <a:srgbClr val="4b734b"/>
                </a:solidFill>
                <a:latin typeface="Monotype Corsiva"/>
              </a:rPr>
              <a:t> у нас память 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Исследовательская работа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361" name="Picture 2" descr="C:\Users\ПК\AppData\Local\Microsoft\Windows\Temporary Internet Files\Content.IE5\2B5Q6MJB\MC900318226[1].wmf"/>
          <p:cNvPicPr/>
          <p:nvPr/>
        </p:nvPicPr>
        <p:blipFill>
          <a:blip r:embed="rId1"/>
          <a:stretch/>
        </p:blipFill>
        <p:spPr>
          <a:xfrm>
            <a:off x="214200" y="0"/>
            <a:ext cx="2428920" cy="349884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3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E:\Каб.202\Фотографии\Исслед.д-ть.2005-2006\IMG_0753.jpg"/>
          <p:cNvPicPr/>
          <p:nvPr/>
        </p:nvPicPr>
        <p:blipFill>
          <a:blip r:embed="rId1"/>
          <a:stretch/>
        </p:blipFill>
        <p:spPr>
          <a:xfrm>
            <a:off x="4000680" y="328608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Методы исследования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Изучить литературу по теме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Обратиться за помощью к другим людям (родителям, учителям, школьному психологу)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Обратиться к глобальной сети интернет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Провести эксперимент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6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Выводы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28760" y="1214280"/>
            <a:ext cx="8229600" cy="508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</a:rPr>
              <a:t>Результаты проведенных экспериментов подтверждают закономерности развития памяти в младшем школьном возрасте. А именно: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высокие показатели получены по разным типам кратко­временной памяти (обонятельной, зрительной, моторной, слуховой и др.);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долговременная память учеников класса имеет относительно низкие показатели (только 35% обследуемой выборки вспомнили от 60 до 100% текста);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 начинает формироваться логическая память (57% выборки смогли воспроизвести смысловые единицы запоминаемого текста;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из всех видов обследованной кратковременной памяти наиболее развита зрительная память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9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img158"/>
          <p:cNvPicPr/>
          <p:nvPr/>
        </p:nvPicPr>
        <p:blipFill>
          <a:blip r:embed="rId2"/>
          <a:stretch/>
        </p:blipFill>
        <p:spPr>
          <a:xfrm>
            <a:off x="1000080" y="1179360"/>
            <a:ext cx="7072200" cy="506736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img159"/>
          <p:cNvPicPr/>
          <p:nvPr/>
        </p:nvPicPr>
        <p:blipFill>
          <a:blip r:embed="rId2"/>
          <a:stretch/>
        </p:blipFill>
        <p:spPr>
          <a:xfrm>
            <a:off x="857160" y="1357200"/>
            <a:ext cx="7286760" cy="521496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img160"/>
          <p:cNvPicPr/>
          <p:nvPr/>
        </p:nvPicPr>
        <p:blipFill>
          <a:blip r:embed="rId2"/>
          <a:stretch/>
        </p:blipFill>
        <p:spPr>
          <a:xfrm>
            <a:off x="1214280" y="1214280"/>
            <a:ext cx="7000920" cy="533592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img161"/>
          <p:cNvPicPr/>
          <p:nvPr/>
        </p:nvPicPr>
        <p:blipFill>
          <a:blip r:embed="rId2"/>
          <a:stretch/>
        </p:blipFill>
        <p:spPr>
          <a:xfrm>
            <a:off x="1357200" y="1276200"/>
            <a:ext cx="7000920" cy="5581800"/>
          </a:xfrm>
          <a:prstGeom prst="rect">
            <a:avLst/>
          </a:prstGeom>
          <a:ln w="0">
            <a:noFill/>
          </a:ln>
        </p:spPr>
      </p:pic>
      <p:sp>
        <p:nvSpPr>
          <p:cNvPr id="41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122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img162"/>
          <p:cNvPicPr/>
          <p:nvPr/>
        </p:nvPicPr>
        <p:blipFill>
          <a:blip r:embed="rId2"/>
          <a:stretch/>
        </p:blipFill>
        <p:spPr>
          <a:xfrm>
            <a:off x="928800" y="1285920"/>
            <a:ext cx="7538760" cy="501480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img163"/>
          <p:cNvPicPr/>
          <p:nvPr/>
        </p:nvPicPr>
        <p:blipFill>
          <a:blip r:embed="rId2"/>
          <a:stretch/>
        </p:blipFill>
        <p:spPr>
          <a:xfrm>
            <a:off x="1214280" y="1122480"/>
            <a:ext cx="6572520" cy="524484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img164"/>
          <p:cNvPicPr/>
          <p:nvPr/>
        </p:nvPicPr>
        <p:blipFill>
          <a:blip r:embed="rId2"/>
          <a:stretch/>
        </p:blipFill>
        <p:spPr>
          <a:xfrm>
            <a:off x="642960" y="1285920"/>
            <a:ext cx="8074080" cy="475920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29600" cy="1170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img165"/>
          <p:cNvPicPr/>
          <p:nvPr/>
        </p:nvPicPr>
        <p:blipFill>
          <a:blip r:embed="rId2"/>
          <a:stretch/>
        </p:blipFill>
        <p:spPr>
          <a:xfrm>
            <a:off x="1143000" y="1357200"/>
            <a:ext cx="7091280" cy="515808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14280" y="1428840"/>
            <a:ext cx="742968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eaebde"/>
                </a:solidFill>
                <a:latin typeface="Monotype Corsiva"/>
              </a:rPr>
              <a:t>Авторы :</a:t>
            </a:r>
            <a:br>
              <a:rPr sz="5400"/>
            </a:br>
            <a:r>
              <a:rPr b="1" lang="ru-RU" sz="3600" spc="-1" strike="noStrike">
                <a:solidFill>
                  <a:srgbClr val="eaebde"/>
                </a:solidFill>
                <a:latin typeface="Monotype Corsiva"/>
              </a:rPr>
              <a:t>Побиванцева Анна</a:t>
            </a:r>
            <a:br>
              <a:rPr sz="3600"/>
            </a:br>
            <a:r>
              <a:rPr b="1" lang="ru-RU" sz="3600" spc="-1" strike="noStrike">
                <a:solidFill>
                  <a:srgbClr val="eaebde"/>
                </a:solidFill>
                <a:latin typeface="Monotype Corsiva"/>
              </a:rPr>
              <a:t>Постолит Илья</a:t>
            </a:r>
            <a:br>
              <a:rPr sz="3600"/>
            </a:br>
            <a:r>
              <a:rPr b="1" lang="ru-RU" sz="3600" spc="-1" strike="noStrike">
                <a:solidFill>
                  <a:srgbClr val="eaebde"/>
                </a:solidFill>
                <a:latin typeface="Monotype Corsiva"/>
              </a:rPr>
              <a:t>Сытник Екатерина</a:t>
            </a:r>
            <a:endParaRPr b="0" lang="en-US" sz="3600" spc="-1" strike="noStrike">
              <a:solidFill>
                <a:srgbClr val="eaebde"/>
              </a:solidFill>
              <a:latin typeface="Monotype Corsi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94920" y="4267080"/>
            <a:ext cx="6782040" cy="17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mbria Math"/>
              </a:rPr>
              <a:t>Руководитель работы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mbria Math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Cambria Math"/>
              </a:rPr>
              <a:t>Александренко Антонина Егоровна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</p:txBody>
      </p:sp>
      <p:pic>
        <p:nvPicPr>
          <p:cNvPr id="365" name="Picture 2" descr="E:\Каб.202\Фотографии\Фото класса (разные)2006-2010гг\IMG_0763.jpg"/>
          <p:cNvPicPr/>
          <p:nvPr/>
        </p:nvPicPr>
        <p:blipFill>
          <a:blip r:embed="rId1"/>
          <a:stretch/>
        </p:blipFill>
        <p:spPr>
          <a:xfrm>
            <a:off x="214200" y="214200"/>
            <a:ext cx="5143680" cy="385776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3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bde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122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img172"/>
          <p:cNvPicPr/>
          <p:nvPr/>
        </p:nvPicPr>
        <p:blipFill>
          <a:blip r:embed="rId2"/>
          <a:stretch/>
        </p:blipFill>
        <p:spPr>
          <a:xfrm>
            <a:off x="857160" y="1044720"/>
            <a:ext cx="7215120" cy="5448240"/>
          </a:xfrm>
          <a:prstGeom prst="rect">
            <a:avLst/>
          </a:prstGeom>
          <a:ln w="0">
            <a:noFill/>
          </a:ln>
        </p:spPr>
      </p:pic>
      <p:sp>
        <p:nvSpPr>
          <p:cNvPr id="42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img173"/>
          <p:cNvPicPr/>
          <p:nvPr/>
        </p:nvPicPr>
        <p:blipFill>
          <a:blip r:embed="rId2"/>
          <a:stretch/>
        </p:blipFill>
        <p:spPr>
          <a:xfrm>
            <a:off x="357120" y="1500120"/>
            <a:ext cx="8440920" cy="492912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5"/>
          <p:cNvSpPr/>
          <p:nvPr/>
        </p:nvSpPr>
        <p:spPr>
          <a:xfrm>
            <a:off x="5643720" y="114300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иаграмма № 10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3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114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Для того чтобы иметь возможность пользоваться полученной информацией, ее надо запомнить, сохранить и воспро­извести в нужный момент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 Math"/>
              </a:rPr>
              <a:t>Запоминание (кодирование), сохранение, воспроизведение (извлечение) и забывание </a:t>
            </a:r>
            <a:r>
              <a:rPr b="1" lang="ru-RU" sz="2000" spc="-1" strike="noStrike">
                <a:solidFill>
                  <a:srgbClr val="000000"/>
                </a:solidFill>
                <a:latin typeface="Cambria Math"/>
              </a:rPr>
              <a:t>— основные процессы памяти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433" name="Picture 1" descr="img099"/>
          <p:cNvPicPr/>
          <p:nvPr/>
        </p:nvPicPr>
        <p:blipFill>
          <a:blip r:embed="rId2"/>
          <a:stretch/>
        </p:blipFill>
        <p:spPr>
          <a:xfrm>
            <a:off x="500040" y="2928960"/>
            <a:ext cx="8501040" cy="376560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C:\Users\ПК\AppData\Local\Microsoft\Windows\Temporary Internet Files\Content.IE5\2B5Q6MJB\MC900197836[1].wmf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2150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Направления дальнейших исследований:</a:t>
            </a:r>
            <a:endParaRPr b="0" lang="en-US" sz="40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Изучить, есть ли различия в запоминании у мальчиков и девочек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Расследовать, влияет ли физическое здоровье на память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Провести новый эксперимент с использованием специальных упражнений для улучшения памяти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Сравнить и обобщить результаты проведенных и будущих исследований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Разработать рекомендации для участников эксперимента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38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E:\Каб.202\Фотографии\Исслед.д-ть.2005-2006\IMG_0743.jpg"/>
          <p:cNvPicPr/>
          <p:nvPr/>
        </p:nvPicPr>
        <p:blipFill>
          <a:blip r:embed="rId1"/>
          <a:stretch/>
        </p:blipFill>
        <p:spPr>
          <a:xfrm>
            <a:off x="500040" y="3875040"/>
            <a:ext cx="3786120" cy="284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27e56"/>
                </a:solidFill>
                <a:latin typeface="Monotype Corsiva"/>
              </a:rPr>
              <a:t>Работа была представлена:</a:t>
            </a:r>
            <a:endParaRPr b="0" lang="en-US" sz="48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на ученической научно-практической конференции «</a:t>
            </a: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Да не оскудеет талантами земля русская»,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 2006г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на Российском  конкурсе исследовательских работ и творческих проектов </a:t>
            </a: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«Я – исследователь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», где получила Диплом «</a:t>
            </a: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За лучший эксперимент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», 2006г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442" name="Picture 3" descr="E:\Каб.202\Фотографии\Исслед.д-ть.2005-2006\IMG_0779.jpg"/>
          <p:cNvPicPr/>
          <p:nvPr/>
        </p:nvPicPr>
        <p:blipFill>
          <a:blip r:embed="rId2"/>
          <a:stretch/>
        </p:blipFill>
        <p:spPr>
          <a:xfrm>
            <a:off x="4929120" y="385776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443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C:\Users\ПК\AppData\Local\Microsoft\Windows\Temporary Internet Files\Content.IE5\4JCQMEH2\MC90033268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Цель работы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Узнать, что такое память.</a:t>
            </a: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  <a:p>
            <a:pPr marL="259200" indent="-25920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Выяснить, какая память у учащихся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</a:rPr>
              <a:t>нашего</a:t>
            </a: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 класса.</a:t>
            </a: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  <a:p>
            <a:pPr marL="259200" indent="-25920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Исследовать, можно ли улучши</a:t>
            </a:r>
            <a:r>
              <a:rPr b="0" lang="ru-RU" sz="4800" spc="-1" strike="noStrike">
                <a:solidFill>
                  <a:srgbClr val="f2f2f2"/>
                </a:solidFill>
                <a:latin typeface="Cambria Math"/>
              </a:rPr>
              <a:t>ть </a:t>
            </a: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память.</a:t>
            </a: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C:\Users\ПК\AppData\Local\Microsoft\Windows\Temporary Internet Files\Content.IE5\2B5Q6MJB\MC900197836[1].wmf"/>
          <p:cNvPicPr/>
          <p:nvPr/>
        </p:nvPicPr>
        <p:blipFill>
          <a:blip r:embed="rId1"/>
          <a:stretch/>
        </p:blipFill>
        <p:spPr>
          <a:xfrm>
            <a:off x="5857920" y="4071960"/>
            <a:ext cx="3066840" cy="2786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27e56"/>
                </a:solidFill>
                <a:latin typeface="Monotype Corsiva"/>
              </a:rPr>
              <a:t>Задачи исследования:</a:t>
            </a:r>
            <a:endParaRPr b="0" lang="en-US" sz="60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Cambria Math"/>
              </a:rPr>
              <a:t>Изучить, что такое память и какие бывают виды памяти.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 Math"/>
              </a:rPr>
              <a:t>Выяснить, что помогает человеку лучше запоминать.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 Math"/>
              </a:rPr>
              <a:t>Провести исследование памяти  одноклассников.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4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C:\Users\ПК\AppData\Local\Microsoft\Windows\Temporary Internet Files\Content.IE5\R4TH7C0G\MM900282996[1].gif"/>
          <p:cNvPicPr/>
          <p:nvPr/>
        </p:nvPicPr>
        <p:blipFill>
          <a:blip r:embed="rId1"/>
          <a:stretch/>
        </p:blipFill>
        <p:spPr>
          <a:xfrm>
            <a:off x="5214960" y="2714760"/>
            <a:ext cx="4143240" cy="41432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Гипотезы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Предположим, что если человеку нужно что-то запомнить, то в его голове происходят разные процессы, связанные с запоминанием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Допустим, что память человека можно улучшить, и существуют правила, помогающие это сделать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Что если плохая память человека влияет на его физическое здоровье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Возможно, что разные люди обладают разными видами памяти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Этапы исследования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85840" y="1219320"/>
            <a:ext cx="84009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Выбор темы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Определение целей и постановка задач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Выдвижение гипотез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Организация исследовательской деятельности: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</a:rPr>
              <a:t>Составление плана работы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</a:rPr>
              <a:t>Определение методов исследования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381" name="Picture 2" descr="C:\Users\ПК\AppData\Local\Microsoft\Windows\Temporary Internet Files\Content.IE5\1DKUVHX6\MC900304067[1].wmf"/>
          <p:cNvPicPr/>
          <p:nvPr/>
        </p:nvPicPr>
        <p:blipFill>
          <a:blip r:embed="rId1"/>
          <a:stretch/>
        </p:blipFill>
        <p:spPr>
          <a:xfrm>
            <a:off x="5072040" y="3238560"/>
            <a:ext cx="3629160" cy="314460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27e56"/>
                </a:solidFill>
                <a:latin typeface="Monotype Corsiva"/>
              </a:rPr>
              <a:t>Работа над эмблемой и девизом:</a:t>
            </a:r>
            <a:endParaRPr b="0" lang="en-US" sz="4800" spc="-1" strike="noStrike">
              <a:solidFill>
                <a:srgbClr val="676a55"/>
              </a:solidFill>
              <a:latin typeface="Monotype Corsiva"/>
            </a:endParaRPr>
          </a:p>
        </p:txBody>
      </p:sp>
      <p:pic>
        <p:nvPicPr>
          <p:cNvPr id="384" name="Picture 2" descr="C:\Users\ПК\AppData\Local\Microsoft\Windows\Temporary Internet Files\Content.IE5\2B5Q6MJB\MC900334236[1].wmf"/>
          <p:cNvPicPr/>
          <p:nvPr/>
        </p:nvPicPr>
        <p:blipFill>
          <a:blip r:embed="rId1"/>
          <a:stretch/>
        </p:blipFill>
        <p:spPr>
          <a:xfrm>
            <a:off x="571680" y="1143000"/>
            <a:ext cx="8143560" cy="551808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img115"/>
          <p:cNvPicPr/>
          <p:nvPr/>
        </p:nvPicPr>
        <p:blipFill>
          <a:blip r:embed="rId1"/>
          <a:stretch/>
        </p:blipFill>
        <p:spPr>
          <a:xfrm>
            <a:off x="2428920" y="642960"/>
            <a:ext cx="4260960" cy="5416560"/>
          </a:xfrm>
          <a:prstGeom prst="rect">
            <a:avLst/>
          </a:prstGeom>
          <a:ln w="0">
            <a:noFill/>
          </a:ln>
        </p:spPr>
      </p:pic>
      <p:sp>
        <p:nvSpPr>
          <p:cNvPr id="387" name="WordArt 2"/>
          <p:cNvSpPr txBox="1"/>
          <p:nvPr/>
        </p:nvSpPr>
        <p:spPr>
          <a:xfrm>
            <a:off x="1428840" y="571680"/>
            <a:ext cx="6400800" cy="411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854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мять - хранилище прошлого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8" name="WordArt 4"/>
          <p:cNvSpPr txBox="1"/>
          <p:nvPr/>
        </p:nvSpPr>
        <p:spPr>
          <a:xfrm>
            <a:off x="1428840" y="542916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залог будущего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C:\Users\ПК\AppData\Local\Microsoft\Windows\Temporary Internet Files\Content.IE5\4JCQMEH2\MM900234673[1].gif"/>
          <p:cNvPicPr/>
          <p:nvPr/>
        </p:nvPicPr>
        <p:blipFill>
          <a:blip r:embed="rId1"/>
          <a:stretch/>
        </p:blipFill>
        <p:spPr>
          <a:xfrm>
            <a:off x="6567480" y="0"/>
            <a:ext cx="2576520" cy="25765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85840" y="642600"/>
            <a:ext cx="840096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7e56"/>
                </a:solidFill>
                <a:latin typeface="Monotype Corsiva"/>
              </a:rPr>
              <a:t>Выполнение практической части исследования:</a:t>
            </a:r>
            <a:endParaRPr b="0" lang="en-US" sz="3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Поиск информации по выбранной теме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Наблюдение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Эксперимент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Оформление результатов исследования: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Обработка полученных данных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Построение диаграмм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Заполнение портфолио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Подготовка к защите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Подготовка компьютерной презентации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8:20:13Z</dcterms:created>
  <dc:creator>ПК</dc:creator>
  <dc:description/>
  <dc:language>en-US</dc:language>
  <cp:lastModifiedBy>LEGION</cp:lastModifiedBy>
  <dcterms:modified xsi:type="dcterms:W3CDTF">2014-11-24T10:59:49Z</dcterms:modified>
  <cp:revision>18</cp:revision>
  <dc:subject/>
  <dc:title>Какая у нас память</dc:title>
</cp:coreProperties>
</file>