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9.png" ContentType="image/png"/>
  <Override PartName="/ppt/media/image28.jpeg" ContentType="image/jpeg"/>
  <Override PartName="/ppt/media/image27.png" ContentType="image/png"/>
  <Override PartName="/ppt/media/image33.jpeg" ContentType="image/jpeg"/>
  <Override PartName="/ppt/media/image26.jpeg" ContentType="image/jpeg"/>
  <Override PartName="/ppt/media/image4.wmf" ContentType="image/x-wmf"/>
  <Override PartName="/ppt/media/image3.wmf" ContentType="image/x-wmf"/>
  <Override PartName="/ppt/media/image8.jpeg" ContentType="image/jpeg"/>
  <Override PartName="/ppt/media/image10.jpeg" ContentType="image/jpeg"/>
  <Override PartName="/ppt/media/image13.png" ContentType="image/png"/>
  <Override PartName="/ppt/media/image12.jpeg" ContentType="image/jpeg"/>
  <Override PartName="/ppt/media/image11.png" ContentType="image/png"/>
  <Override PartName="/ppt/media/image6.wmf" ContentType="image/x-wmf"/>
  <Override PartName="/ppt/media/image14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31.png" ContentType="image/png"/>
  <Override PartName="/ppt/media/image34.jpeg" ContentType="image/jpeg"/>
  <Override PartName="/ppt/media/image2.jpeg" ContentType="image/jpeg"/>
  <Override PartName="/ppt/media/image5.gif" ContentType="image/gif"/>
  <Override PartName="/ppt/media/image1.wmf" ContentType="image/x-wmf"/>
  <Override PartName="/ppt/media/image9.gif" ContentType="image/gif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2.jpeg" ContentType="image/jpeg"/>
  <Override PartName="/ppt/media/image23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2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Monotype Corsiva"/>
              </a:rPr>
              <a:t>Click to move the slide</a:t>
            </a: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255F-92C6-4E58-9532-EF5FE0B5FA9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Какая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 у нас памят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сследовательск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A461-F45C-416F-83E7-F8EB6A1E7543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Calibri"/>
              </a:rPr>
              <a:t>Методы исследован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ить литературу по т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иться за помощью к другим людям (родителям, учителям, школьному психологу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иться к глобальной сети интер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экспери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BD68-5241-4E5A-9AAF-3E2E56DDB341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Calibri"/>
              </a:rPr>
              <a:t>Вывод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проведенных экспериментов подтверждают закономерности развития памяти в младшем школьном возрасте. А имен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- 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сокие показатели получены по разным типам кратко­временной памяти (обонятельной, зрительной, моторной, слуховой и др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- долговременная память учеников класса имеет относительно низкие показатели (только 35% обследуемой выборки вспомнили от 60 до 100% текст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-  начинает формироваться логическая память (57% выборки смогли воспроизвести смысловые единицы запоминаемого текс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- из всех видов обследованной кратковременной памяти наиболее развита зрительная пам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6C58-6BF8-4546-8E01-44137991C56D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РЕЗУЛЬТАТЫ ИССЛЕДОВАНИЯ </a:t>
            </a: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 ДОЛГОВРЕМЕН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072D-B134-4B1B-887F-FF14016FE798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РЕЗУЛЬТАТЫ ИССЛЕДОВАНИЯ </a:t>
            </a: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         МОТОР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A65C-105D-42BA-BEF4-3F4B9F00F16D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РЕЗУЛЬТАТЫ ИССЛЕДОВАНИЯ </a:t>
            </a: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      ОПЕРАТИВ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870B-35E3-47AD-9CDB-15873B254974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РЕЗУЛЬТАТЫ ИССЛЕДОВАНИЯ </a:t>
            </a: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     ОСЯЗАТЕЛЬ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D35D-AAB7-41D3-92D6-A5DAEA09304D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РЕЗУЛЬТАТЫ ИССЛЕДОВАНИЯ   КРАТКОВРЕМЕННОЙ </a:t>
            </a: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        ЗРИТЕЛЬ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9634-9B6A-4FF2-A63F-E770311D17FE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ИССЛЕДОВАНИЯ              ОБОНЯТЕЛЬ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A9C1-E4BD-4EC8-8E17-D1D4EC9497CC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РЕЗУЛЬТАТЫ ИССЛЕДОВАНИЯ </a:t>
            </a: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        ЗРИТЕЛЬ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5D35-884D-42F7-9CF8-3F17DB00117C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РЕЗУЛЬТАТЫ ИССЛЕДОВАНИЯ </a:t>
            </a: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 ДОЛГОВРЕМЕННОЙ ПАМЯТИ ( ТЕСТ № 2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2145-434A-4E24-B4FC-FD4F91B82621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вторы :</a:t>
            </a:r>
            <a:br>
              <a:rPr sz="32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биванцева Анн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столит Илья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ытник Екатер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уководитель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лександренко Антонина Его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8777-7757-4589-BD7B-87A75B1D4C14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РЕЗУЛЬТАТЫ ИССЛЕДОВАНИЯ   КРАТКОВРЕМЕННОЙ </a:t>
            </a: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           СЛУХОВ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DA2C-4D1C-4ACA-9A26-58821EC61A30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РЕЗУЛЬТАТЫ ИССЛЕДОВАНИЯ </a:t>
            </a: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         ОБРАЗ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B99E-32FC-48D3-84C8-22434B0D2910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Calibri"/>
              </a:rPr>
              <a:t>Как работает памят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ого чтобы иметь возможность пользоваться полученной информацией, ее надо запомнить, сохранить и воспро­извести в нужный момент.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поминание (кодирование), сохранение, воспроизведение (извлечение) и забыва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основные процессы памя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DEB2-EE05-4BDD-9862-CAA731FB3D36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Направления дальнейших исследований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ить, есть ли различия в запоминании у мальчиков и девоч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ледовать, влияет ли физическое здоровье на пам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новый эксперимент с использованием специальных упражнений для улучшения памя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ь и обобщить результаты проведенных и будущих исследо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ть рекомендации для участников экспери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C1FC-C436-49C1-9F6B-D8EEE3019B12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Работа была представлен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ученической научно-практической конференции «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а не оскудеет талантами земля русская»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2006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оссийском  конкурсе исследовательских работ и творческих проектов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Я – исследовате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, где получила Диплом «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 лучший экспериме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, 2006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A753-4FB3-4B14-9315-325C4B24BAA8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Цель работ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нать, что такое пам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ить, какая память у учащихся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ше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ть, можно ли улучши</a:t>
            </a:r>
            <a:r>
              <a:rPr b="0" lang="ru-RU" sz="1200" spc="-1" strike="noStrike">
                <a:solidFill>
                  <a:srgbClr val="f2f2f2"/>
                </a:solidFill>
                <a:latin typeface="Calibri"/>
              </a:rPr>
              <a:t>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м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AFD1-3106-49BA-B56A-B31F423104DD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Задачи исследова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ить, что такое память и какие бывают виды памя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ить, что помогает человеку лучше запомин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исследование памяти  однокласс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9A76-8658-46C1-98DA-29AC0A9591E5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Calibri"/>
              </a:rPr>
              <a:t>Гипотез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ожим, что если человеку нужно что-то запомнить, то в его голове происходят разные процессы, связанные с запомина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устим, что память человека можно улучшить, и существуют правила, помогающие это сдел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если плохая память человека влияет на его физическое здоров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, что разные люди обладают разными видами памя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0B52-0C21-49A2-BA94-FF3C8CFC3817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76092"/>
                </a:solidFill>
                <a:latin typeface="Calibri"/>
              </a:rPr>
              <a:t>Этапы исследования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бор темы исследовательской рабо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ределение целей и постановка задач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движение гипотез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ация исследовательской деятельност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ставление плана рабо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ределение методов исследо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5B9B-48C7-4B06-BE1F-5F21D478908C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Работа над эмблемой и деви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C4FD-2C3E-491F-BC4F-2BAA172243C8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buClr>
                <a:srgbClr val="376092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Calibri"/>
              </a:rPr>
              <a:t>Выполнение практической части исследован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822240">
              <a:spcBef>
                <a:spcPts val="451"/>
              </a:spcBef>
              <a:buClr>
                <a:srgbClr val="bcbcbc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информации по выбранной т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822240">
              <a:spcBef>
                <a:spcPts val="451"/>
              </a:spcBef>
              <a:buClr>
                <a:srgbClr val="bcbcbc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блю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822240">
              <a:spcBef>
                <a:spcPts val="451"/>
              </a:spcBef>
              <a:buClr>
                <a:srgbClr val="bcbcbc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и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формление результатов исследова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22240">
              <a:spcBef>
                <a:spcPts val="451"/>
              </a:spcBef>
              <a:buClr>
                <a:srgbClr val="bcbcbc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отка полученных дан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822240">
              <a:spcBef>
                <a:spcPts val="451"/>
              </a:spcBef>
              <a:buClr>
                <a:srgbClr val="bcbcbc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роение диагра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822240">
              <a:spcBef>
                <a:spcPts val="451"/>
              </a:spcBef>
              <a:buClr>
                <a:srgbClr val="bcbcbc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ение портфоли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готовка к защите исследовательской рабо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готовка компьютерной презент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B494-A783-426B-8BC3-65D6223BDD86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E6D4-2996-4F31-8BC5-D0982E14E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EF29-7F93-4A65-92E3-28F30552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94C8-994D-4DA2-B453-28452A98A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BE57-9C51-4047-9874-ADE95B3E4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8821-18E6-4F3E-A850-6FDA29F54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74C7-8AEA-41EF-8FC3-DF7125A6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740DD-161D-4874-AD7A-7BF0D470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F0F2-B6A0-4BB5-A64E-70CC05B9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DB47-A804-42DA-9E53-4789EEB2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C3CF7-9CF8-4D72-8281-2711DC67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FF52-9F69-4ADB-8907-D72B1D70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0EFD-967E-4EB9-B033-37F4D948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61E1-ED53-4D89-BEDF-F8CC8CC4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ED07-E973-4EF7-B9CB-1429C5BB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BD73-DBA8-4359-BAEF-79A5C008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97B5-FFAD-4916-8397-4A3CAB430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BBF7-926A-4BD7-AC1A-9E390DD7B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A8249-475B-4C0C-863E-AAE01AA32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54EC5-AA0F-44CE-98C7-141725B9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DEDED-F46C-48F6-B0C6-49FC849D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F3DAB-261D-445C-9449-F594076B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94C87-782F-4E2C-8014-7D04423D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157D-807A-4FC7-8A37-20EF1D35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D3757-4F33-4AA2-892F-99CEF168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D4A30-5232-4F89-B893-5795095C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5B299-EB2A-424E-8A80-CC424621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B2E57-12B9-4AE5-B5E4-9691DFBA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5E414-240B-4814-B001-70CB3A30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FDB91-7AE2-4270-8946-0E7425B15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1BC0D-E460-4322-9E6B-67885CC82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C2037-2EB0-47C7-8599-8507EFF1D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3A742-A543-4368-8306-1B63234E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63063-6FCC-4ECB-B979-903044A3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889F-FCDC-4EF6-9CEC-7C16188D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8987C-F32A-426D-8701-CCAF89C7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8917A-D664-42AD-B1B4-54A2F7A3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6C0AF-F882-40F3-A6D1-B3EFFE91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19979-659D-4F5D-8CC7-965A6FF6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7D35E-D1D7-4703-85B3-C29B84C6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D82A7-BB2D-4A0A-820F-479868DA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EEB9C-38A1-464B-BA06-D225D7AC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32F7E-B8D3-4408-8D8E-95AA5937D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C8A67-53F6-42F1-B312-B5F2F9DC9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95260-9F97-4669-9316-870F57C1E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4E29-67C5-400D-A15A-790320EA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DCEB8-CF6A-484F-9AF7-3DE56F77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488DC-0BF0-4690-86CC-490F4753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0330B-87DC-4FCD-B754-4BEFA5DB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5B2AA-9015-4EB6-9A49-EFCC681D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056FD-2D19-41C8-99D7-93F8A634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D8A36-B26F-497D-BEE6-F7855678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D7AB9-308F-4655-83B7-9D153D2D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FF099-81FB-4558-B2A7-3E548062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A0B56-4F1D-4427-8E3A-12D1BECA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F901D-971C-440A-8981-64A8D75A3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6B96-BE25-4D48-96F3-8C58364B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06C99-1E83-4F7D-A6BA-B34FBAE40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7BAA1-85A0-4D62-918B-4C1C4A114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C9D18-DB8C-47E0-BBA1-FB130543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21F78-CB0C-4F6C-8281-AEF4176B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0986C-9F0D-4DEB-AE4E-5D5F6514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D6AFB-6D2E-4C21-9DDE-A0DEB577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DB3DB-3575-49EE-AC92-6303767B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99464-D183-45CD-8AD3-0FEEF908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7D7BA-D309-41AF-96B6-E1966D46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29753-D317-4373-A127-67F11C82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12A5-53E3-4189-B6FE-560071DC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AAEA6-423D-4748-87A7-3BEF6951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E73EA-8A9C-4944-81E3-4444ACA2D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2CE83-5904-48DA-B413-52BEFB72B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A20F2-EB59-466E-9BA8-D0EFD1163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41FC4-BD2D-46A9-958D-DEDF1717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0FFBC-21A7-4605-BE49-727A11AE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B086B-6F37-4C45-BBB9-4823FEF4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AE955-4B1E-4BE3-BD61-BEE1D413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6EC9B-FA65-4826-8A73-DFF05677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A78D0-1562-4A7B-B95A-CBAD8EEC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8268-A89B-4B1E-95AF-DF85D387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D1722-0495-43AD-86D0-04BBF278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D0978-E0C7-4DBC-8B11-058A0CDC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B8734-C5F3-4C21-8317-E22045BD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2E02C-540C-43F9-B466-AA36CEC87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22732-9F42-4AA0-932D-5BBF9164F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34541-C30C-4C86-AC41-210C06064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5088B-E782-4DF7-A0A7-C8CEF1AA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E1BD7-6DFC-4387-B454-D536AC1E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1C947-0F65-47D9-9E01-32429D02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9F7EC-1D00-4108-9338-94796F7D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5936-30DB-4018-B5ED-831C85BF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B5BF8-F567-4768-BDCB-BD841AD5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C9FE2-F0C5-4D89-8BDA-B7D24B2B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943EF-46EC-4D6A-AD26-FE466883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C1B54-B5EC-465D-98B6-3DD30BC7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BABA1-87B9-409D-B2C1-4DD3B988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281C5-BBB7-4950-A68E-9F99E4EA1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10593-C2B2-4EDF-9A83-27EC2C4F9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Monotype Corsiva"/>
              </a:rPr>
              <a:t>Click to edit the title text format</a:t>
            </a: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1" marL="547560" indent="-272880">
              <a:spcBef>
                <a:spcPts val="601"/>
              </a:spcBef>
              <a:buClr>
                <a:srgbClr val="b0ccb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3" marL="1096920" indent="-228600">
              <a:spcBef>
                <a:spcPts val="601"/>
              </a:spcBef>
              <a:buClr>
                <a:srgbClr val="9bb39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4" marL="1371600" indent="-228600">
              <a:spcBef>
                <a:spcPts val="601"/>
              </a:spcBef>
              <a:buClr>
                <a:srgbClr val="b0ccb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A6DC-F19A-488E-9E4C-9E7C1F011309}" type="datetime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284F-533E-44F4-9FB5-21B92A554AB5}" type="slidenum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b0cc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Monotype Corsiva"/>
              </a:rPr>
              <a:t>Click to edit the title text format</a:t>
            </a: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1" marL="547560" indent="-272880">
              <a:spcBef>
                <a:spcPts val="601"/>
              </a:spcBef>
              <a:buClr>
                <a:srgbClr val="b0ccb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3" marL="1096920" indent="-228600">
              <a:spcBef>
                <a:spcPts val="601"/>
              </a:spcBef>
              <a:buClr>
                <a:srgbClr val="9bb39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4" marL="1371600" indent="-228600">
              <a:spcBef>
                <a:spcPts val="601"/>
              </a:spcBef>
              <a:buClr>
                <a:srgbClr val="b0ccb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891E-19B6-4054-B65D-F895B8EF10EA}" type="datetime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96FD-3680-42A5-92DB-5175FE4F7415}" type="slidenum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bde"/>
                </a:solidFill>
                <a:latin typeface="Monotype Corsiva"/>
              </a:rPr>
              <a:t>Click to edit the title text format</a:t>
            </a:r>
            <a:endParaRPr b="0" lang="en-US" sz="3200" spc="-1" strike="noStrike">
              <a:solidFill>
                <a:srgbClr val="eaebde"/>
              </a:solidFill>
              <a:latin typeface="Monotype Corsiv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1" marL="547560" indent="-272880">
              <a:spcBef>
                <a:spcPts val="601"/>
              </a:spcBef>
              <a:buClr>
                <a:srgbClr val="b0ccb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3" marL="1096920" indent="-228600">
              <a:spcBef>
                <a:spcPts val="601"/>
              </a:spcBef>
              <a:buClr>
                <a:srgbClr val="9bb39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4" marL="1371600" indent="-228600">
              <a:spcBef>
                <a:spcPts val="601"/>
              </a:spcBef>
              <a:buClr>
                <a:srgbClr val="b0ccb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bd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8FB2-AF54-4144-956F-E7634EFE6FC3}" type="datetime">
              <a:rPr b="0" lang="ru-RU" sz="1400" spc="-1" strike="noStrike">
                <a:solidFill>
                  <a:srgbClr val="eaebde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bd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bde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bd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E3F5-8E48-4C01-A8DA-27054D0AD442}" type="slidenum">
              <a:rPr b="0" lang="ru-RU" sz="1400" spc="-1" strike="noStrike">
                <a:solidFill>
                  <a:srgbClr val="eaebd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Monotype Corsiva"/>
              </a:rPr>
              <a:t>Click to edit the title text format</a:t>
            </a: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1" marL="547560" indent="-272880">
              <a:spcBef>
                <a:spcPts val="601"/>
              </a:spcBef>
              <a:buClr>
                <a:srgbClr val="b0ccb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3" marL="1096920" indent="-228600">
              <a:spcBef>
                <a:spcPts val="601"/>
              </a:spcBef>
              <a:buClr>
                <a:srgbClr val="9bb39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4" marL="1371600" indent="-228600">
              <a:spcBef>
                <a:spcPts val="601"/>
              </a:spcBef>
              <a:buClr>
                <a:srgbClr val="b0ccb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FDA9-9A9D-408E-9DC8-A32B0093A8CB}" type="datetime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D912-6512-4FEC-A248-49C262D99EA0}" type="slidenum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Monotype Corsiva"/>
              </a:rPr>
              <a:t>Click to edit the title text format</a:t>
            </a: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1" marL="547560" indent="-272880">
              <a:spcBef>
                <a:spcPts val="601"/>
              </a:spcBef>
              <a:buClr>
                <a:srgbClr val="b0ccb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3" marL="1096920" indent="-228600">
              <a:spcBef>
                <a:spcPts val="601"/>
              </a:spcBef>
              <a:buClr>
                <a:srgbClr val="9bb39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4" marL="1371600" indent="-228600">
              <a:spcBef>
                <a:spcPts val="601"/>
              </a:spcBef>
              <a:buClr>
                <a:srgbClr val="b0ccb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16B4-D23C-4517-BCC4-E8B988308D0B}" type="datetime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A94F-8535-4845-9D4A-A6E32962F8F7}" type="slidenum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22" name="Равнобедренный треугольник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Monotype Corsiva"/>
              </a:rPr>
              <a:t>Click to edit the title text format</a:t>
            </a: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1" marL="547560" indent="-272880">
              <a:spcBef>
                <a:spcPts val="601"/>
              </a:spcBef>
              <a:buClr>
                <a:srgbClr val="b0ccb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3" marL="1096920" indent="-228600">
              <a:spcBef>
                <a:spcPts val="601"/>
              </a:spcBef>
              <a:buClr>
                <a:srgbClr val="9bb39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4" marL="1371600" indent="-228600">
              <a:spcBef>
                <a:spcPts val="601"/>
              </a:spcBef>
              <a:buClr>
                <a:srgbClr val="b0ccb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5795-1C2F-404B-9099-546C7F807B11}" type="datetime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C3A6-1A62-43C4-9F1C-825F39F23F1E}" type="slidenum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66" name="Прямоугольник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bde"/>
                </a:solidFill>
                <a:latin typeface="Monotype Corsiva"/>
              </a:rPr>
              <a:t>Click to edit the title text format</a:t>
            </a:r>
            <a:endParaRPr b="0" lang="en-US" sz="3200" spc="-1" strike="noStrike">
              <a:solidFill>
                <a:srgbClr val="eaebde"/>
              </a:solidFill>
              <a:latin typeface="Monotype Corsiv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1" marL="547560" indent="-272880">
              <a:spcBef>
                <a:spcPts val="601"/>
              </a:spcBef>
              <a:buClr>
                <a:srgbClr val="b0ccb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3" marL="1096920" indent="-228600">
              <a:spcBef>
                <a:spcPts val="601"/>
              </a:spcBef>
              <a:buClr>
                <a:srgbClr val="9bb39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4" marL="1371600" indent="-228600">
              <a:spcBef>
                <a:spcPts val="601"/>
              </a:spcBef>
              <a:buClr>
                <a:srgbClr val="b0ccb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bd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ADB4-953A-49E7-B541-15B570902EC6}" type="datetime">
              <a:rPr b="0" lang="ru-RU" sz="1400" spc="-1" strike="noStrike">
                <a:solidFill>
                  <a:srgbClr val="eaebde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bd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bde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bd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0673-D48F-4566-AD6C-FE7CA0976010}" type="slidenum">
              <a:rPr b="0" lang="ru-RU" sz="1400" spc="-1" strike="noStrike">
                <a:solidFill>
                  <a:srgbClr val="eaebd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10" name="Прямая соединительная линия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Monotype Corsiva"/>
              </a:rPr>
              <a:t>Click to edit the title text format</a:t>
            </a: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1" marL="547560" indent="-272880">
              <a:spcBef>
                <a:spcPts val="601"/>
              </a:spcBef>
              <a:buClr>
                <a:srgbClr val="b0ccb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3" marL="1096920" indent="-228600">
              <a:spcBef>
                <a:spcPts val="601"/>
              </a:spcBef>
              <a:buClr>
                <a:srgbClr val="9bb39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4" marL="1371600" indent="-228600">
              <a:spcBef>
                <a:spcPts val="601"/>
              </a:spcBef>
              <a:buClr>
                <a:srgbClr val="b0ccb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8731-336C-48ED-9539-3BA4C8F42729}" type="datetime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77B7-2456-462B-88D6-B293809F89F2}" type="slidenum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85920" y="3857400"/>
            <a:ext cx="6858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27e56"/>
                </a:solidFill>
                <a:latin typeface="Monotype Corsiva"/>
              </a:rPr>
              <a:t>Какая</a:t>
            </a:r>
            <a:r>
              <a:rPr b="1" lang="ru-RU" sz="6600" spc="-1" strike="noStrike">
                <a:solidFill>
                  <a:srgbClr val="4b734b"/>
                </a:solidFill>
                <a:latin typeface="Monotype Corsiva"/>
              </a:rPr>
              <a:t> у нас память </a:t>
            </a:r>
            <a:endParaRPr b="0" lang="en-US" sz="66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Исследовательская работа</a:t>
            </a:r>
            <a:endParaRPr b="0" lang="en-US" sz="4000" spc="-1" strike="noStrike">
              <a:solidFill>
                <a:srgbClr val="000000"/>
              </a:solidFill>
              <a:latin typeface="Cambria Math"/>
            </a:endParaRPr>
          </a:p>
        </p:txBody>
      </p:sp>
      <p:pic>
        <p:nvPicPr>
          <p:cNvPr id="361" name="Picture 2" descr="C:\Users\ПК\AppData\Local\Microsoft\Windows\Temporary Internet Files\Content.IE5\2B5Q6MJB\MC900318226[1].wmf"/>
          <p:cNvPicPr/>
          <p:nvPr/>
        </p:nvPicPr>
        <p:blipFill>
          <a:blip r:embed="rId1"/>
          <a:stretch/>
        </p:blipFill>
        <p:spPr>
          <a:xfrm>
            <a:off x="214200" y="0"/>
            <a:ext cx="2428920" cy="3498840"/>
          </a:xfrm>
          <a:prstGeom prst="rect">
            <a:avLst/>
          </a:prstGeom>
          <a:ln w="0">
            <a:noFill/>
          </a:ln>
        </p:spPr>
      </p:pic>
      <p:sp>
        <p:nvSpPr>
          <p:cNvPr id="362" name="Місце для нижнього колонтитула 3"/>
          <p:cNvSpPr/>
          <p:nvPr/>
        </p:nvSpPr>
        <p:spPr>
          <a:xfrm>
            <a:off x="2898720" y="635472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E:\Каб.202\Фотографии\Исслед.д-ть.2005-2006\IMG_0753.jpg"/>
          <p:cNvPicPr/>
          <p:nvPr/>
        </p:nvPicPr>
        <p:blipFill>
          <a:blip r:embed="rId1"/>
          <a:stretch/>
        </p:blipFill>
        <p:spPr>
          <a:xfrm>
            <a:off x="4000680" y="3286080"/>
            <a:ext cx="4500360" cy="337500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27e56"/>
                </a:solidFill>
                <a:latin typeface="Monotype Corsiva"/>
              </a:rPr>
              <a:t>Методы исследования:</a:t>
            </a:r>
            <a:endParaRPr b="0" lang="en-US" sz="66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Изучить литературу по теме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Обратиться за помощью к другим людям (родителям, учителям, школьному психологу)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Обратиться к глобальной сети интернет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Провести эксперимент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96" name="Місце для нижнього колонтитула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27e56"/>
                </a:solidFill>
                <a:latin typeface="Monotype Corsiva"/>
              </a:rPr>
              <a:t>Выводы:</a:t>
            </a:r>
            <a:endParaRPr b="0" lang="en-US" sz="66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28760" y="1214280"/>
            <a:ext cx="8229600" cy="508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</a:rPr>
              <a:t>Результаты проведенных экспериментов подтверждают закономерности развития памяти в младшем школьном возрасте. А именно: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mbria Math"/>
              </a:rPr>
              <a:t>- 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mbria Math"/>
              </a:rPr>
              <a:t>высокие показатели получены по разным типам кратко­временной памяти (обонятельной, зрительной, моторной, слуховой и др.);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mbria Math"/>
              </a:rPr>
              <a:t>- долговременная память учеников класса имеет относительно низкие показатели (только 35% обследуемой выборки вспомнили от 60 до 100% текста);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mbria Math"/>
              </a:rPr>
              <a:t>-  начинает формироваться логическая память (57% выборки смогли воспроизвести смысловые единицы запоминаемого текста;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mbria Math"/>
              </a:rPr>
              <a:t>- из всех видов обследованной кратковременной памяти наиболее развита зрительная память.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99" name="Місце для нижнього колонтитула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3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3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1"/>
          <a:stretch/>
        </p:blipFill>
        <p:spPr>
          <a:xfrm>
            <a:off x="457200" y="103320"/>
            <a:ext cx="8229600" cy="1212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img158"/>
          <p:cNvPicPr/>
          <p:nvPr/>
        </p:nvPicPr>
        <p:blipFill>
          <a:blip r:embed="rId2"/>
          <a:stretch/>
        </p:blipFill>
        <p:spPr>
          <a:xfrm>
            <a:off x="1000080" y="1179360"/>
            <a:ext cx="7072200" cy="5067360"/>
          </a:xfrm>
          <a:prstGeom prst="rect">
            <a:avLst/>
          </a:prstGeom>
          <a:ln w="0">
            <a:noFill/>
          </a:ln>
        </p:spPr>
      </p:pic>
      <p:sp>
        <p:nvSpPr>
          <p:cNvPr id="402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457200" y="103320"/>
            <a:ext cx="8229600" cy="12128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img159"/>
          <p:cNvPicPr/>
          <p:nvPr/>
        </p:nvPicPr>
        <p:blipFill>
          <a:blip r:embed="rId2"/>
          <a:stretch/>
        </p:blipFill>
        <p:spPr>
          <a:xfrm>
            <a:off x="857160" y="1357200"/>
            <a:ext cx="7286760" cy="5214960"/>
          </a:xfrm>
          <a:prstGeom prst="rect">
            <a:avLst/>
          </a:prstGeom>
          <a:ln w="0">
            <a:noFill/>
          </a:ln>
        </p:spPr>
      </p:pic>
      <p:sp>
        <p:nvSpPr>
          <p:cNvPr id="405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457200" y="103320"/>
            <a:ext cx="8229600" cy="12128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img160"/>
          <p:cNvPicPr/>
          <p:nvPr/>
        </p:nvPicPr>
        <p:blipFill>
          <a:blip r:embed="rId2"/>
          <a:stretch/>
        </p:blipFill>
        <p:spPr>
          <a:xfrm>
            <a:off x="1214280" y="1214280"/>
            <a:ext cx="7000920" cy="5335920"/>
          </a:xfrm>
          <a:prstGeom prst="rect">
            <a:avLst/>
          </a:prstGeom>
          <a:ln w="0">
            <a:noFill/>
          </a:ln>
        </p:spPr>
      </p:pic>
      <p:sp>
        <p:nvSpPr>
          <p:cNvPr id="408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457200" y="103320"/>
            <a:ext cx="8229600" cy="1212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5" descr="img161"/>
          <p:cNvPicPr/>
          <p:nvPr/>
        </p:nvPicPr>
        <p:blipFill>
          <a:blip r:embed="rId2"/>
          <a:stretch/>
        </p:blipFill>
        <p:spPr>
          <a:xfrm>
            <a:off x="1357200" y="1276200"/>
            <a:ext cx="7000920" cy="5581800"/>
          </a:xfrm>
          <a:prstGeom prst="rect">
            <a:avLst/>
          </a:prstGeom>
          <a:ln w="0">
            <a:noFill/>
          </a:ln>
        </p:spPr>
      </p:pic>
      <p:sp>
        <p:nvSpPr>
          <p:cNvPr id="411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1224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" descr="img162"/>
          <p:cNvPicPr/>
          <p:nvPr/>
        </p:nvPicPr>
        <p:blipFill>
          <a:blip r:embed="rId2"/>
          <a:stretch/>
        </p:blipFill>
        <p:spPr>
          <a:xfrm>
            <a:off x="928800" y="1285920"/>
            <a:ext cx="7538760" cy="5014800"/>
          </a:xfrm>
          <a:prstGeom prst="rect">
            <a:avLst/>
          </a:prstGeom>
          <a:ln w="0">
            <a:noFill/>
          </a:ln>
        </p:spPr>
      </p:pic>
      <p:sp>
        <p:nvSpPr>
          <p:cNvPr id="414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457200" y="103320"/>
            <a:ext cx="8229600" cy="12128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" descr="img163"/>
          <p:cNvPicPr/>
          <p:nvPr/>
        </p:nvPicPr>
        <p:blipFill>
          <a:blip r:embed="rId2"/>
          <a:stretch/>
        </p:blipFill>
        <p:spPr>
          <a:xfrm>
            <a:off x="1214280" y="1122480"/>
            <a:ext cx="6572520" cy="5244840"/>
          </a:xfrm>
          <a:prstGeom prst="rect">
            <a:avLst/>
          </a:prstGeom>
          <a:ln w="0">
            <a:noFill/>
          </a:ln>
        </p:spPr>
      </p:pic>
      <p:sp>
        <p:nvSpPr>
          <p:cNvPr id="417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457200" y="103320"/>
            <a:ext cx="8229600" cy="12128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" descr="img164"/>
          <p:cNvPicPr/>
          <p:nvPr/>
        </p:nvPicPr>
        <p:blipFill>
          <a:blip r:embed="rId2"/>
          <a:stretch/>
        </p:blipFill>
        <p:spPr>
          <a:xfrm>
            <a:off x="642960" y="1285920"/>
            <a:ext cx="8074080" cy="4759200"/>
          </a:xfrm>
          <a:prstGeom prst="rect">
            <a:avLst/>
          </a:prstGeom>
          <a:ln w="0">
            <a:noFill/>
          </a:ln>
        </p:spPr>
      </p:pic>
      <p:sp>
        <p:nvSpPr>
          <p:cNvPr id="420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457200" y="146160"/>
            <a:ext cx="8229600" cy="1170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" descr="img165"/>
          <p:cNvPicPr/>
          <p:nvPr/>
        </p:nvPicPr>
        <p:blipFill>
          <a:blip r:embed="rId2"/>
          <a:stretch/>
        </p:blipFill>
        <p:spPr>
          <a:xfrm>
            <a:off x="1143000" y="1357200"/>
            <a:ext cx="7091280" cy="5158080"/>
          </a:xfrm>
          <a:prstGeom prst="rect">
            <a:avLst/>
          </a:prstGeom>
          <a:ln w="0">
            <a:noFill/>
          </a:ln>
        </p:spPr>
      </p:pic>
      <p:sp>
        <p:nvSpPr>
          <p:cNvPr id="423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14280" y="1428840"/>
            <a:ext cx="742968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eaebde"/>
                </a:solidFill>
                <a:latin typeface="Monotype Corsiva"/>
              </a:rPr>
              <a:t>Авторы :</a:t>
            </a:r>
            <a:br>
              <a:rPr sz="5400"/>
            </a:br>
            <a:r>
              <a:rPr b="1" lang="ru-RU" sz="3600" spc="-1" strike="noStrike">
                <a:solidFill>
                  <a:srgbClr val="eaebde"/>
                </a:solidFill>
                <a:latin typeface="Monotype Corsiva"/>
              </a:rPr>
              <a:t>Побиванцева Анна</a:t>
            </a:r>
            <a:br>
              <a:rPr sz="3600"/>
            </a:br>
            <a:r>
              <a:rPr b="1" lang="ru-RU" sz="3600" spc="-1" strike="noStrike">
                <a:solidFill>
                  <a:srgbClr val="eaebde"/>
                </a:solidFill>
                <a:latin typeface="Monotype Corsiva"/>
              </a:rPr>
              <a:t>Постолит Илья</a:t>
            </a:r>
            <a:br>
              <a:rPr sz="3600"/>
            </a:br>
            <a:r>
              <a:rPr b="1" lang="ru-RU" sz="3600" spc="-1" strike="noStrike">
                <a:solidFill>
                  <a:srgbClr val="eaebde"/>
                </a:solidFill>
                <a:latin typeface="Monotype Corsiva"/>
              </a:rPr>
              <a:t>Сытник Екатерина</a:t>
            </a:r>
            <a:endParaRPr b="0" lang="en-US" sz="3600" spc="-1" strike="noStrike">
              <a:solidFill>
                <a:srgbClr val="eaebde"/>
              </a:solidFill>
              <a:latin typeface="Monotype Corsiv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94920" y="4267080"/>
            <a:ext cx="6782040" cy="17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mbria Math"/>
              </a:rPr>
              <a:t>Руководитель работы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mbria Math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Cambria Math"/>
              </a:rPr>
              <a:t>Александренко Антонина Егоровна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</p:txBody>
      </p:sp>
      <p:pic>
        <p:nvPicPr>
          <p:cNvPr id="365" name="Picture 2" descr="E:\Каб.202\Фотографии\Фото класса (разные)2006-2010гг\IMG_0763.jpg"/>
          <p:cNvPicPr/>
          <p:nvPr/>
        </p:nvPicPr>
        <p:blipFill>
          <a:blip r:embed="rId1"/>
          <a:stretch/>
        </p:blipFill>
        <p:spPr>
          <a:xfrm>
            <a:off x="214200" y="214200"/>
            <a:ext cx="5143680" cy="3857760"/>
          </a:xfrm>
          <a:prstGeom prst="rect">
            <a:avLst/>
          </a:prstGeom>
          <a:ln w="0">
            <a:noFill/>
          </a:ln>
        </p:spPr>
      </p:pic>
      <p:sp>
        <p:nvSpPr>
          <p:cNvPr id="366" name="Місце для нижнього колонтитула 3"/>
          <p:cNvSpPr/>
          <p:nvPr/>
        </p:nvSpPr>
        <p:spPr>
          <a:xfrm>
            <a:off x="2898720" y="635472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bde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1224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img172"/>
          <p:cNvPicPr/>
          <p:nvPr/>
        </p:nvPicPr>
        <p:blipFill>
          <a:blip r:embed="rId2"/>
          <a:stretch/>
        </p:blipFill>
        <p:spPr>
          <a:xfrm>
            <a:off x="857160" y="1044720"/>
            <a:ext cx="7215120" cy="5448240"/>
          </a:xfrm>
          <a:prstGeom prst="rect">
            <a:avLst/>
          </a:prstGeom>
          <a:ln w="0">
            <a:noFill/>
          </a:ln>
        </p:spPr>
      </p:pic>
      <p:sp>
        <p:nvSpPr>
          <p:cNvPr id="426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1" descr=""/>
          <p:cNvPicPr/>
          <p:nvPr/>
        </p:nvPicPr>
        <p:blipFill>
          <a:blip r:embed="rId1"/>
          <a:stretch/>
        </p:blipFill>
        <p:spPr>
          <a:xfrm>
            <a:off x="457200" y="103320"/>
            <a:ext cx="8229600" cy="12128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3" descr="img173"/>
          <p:cNvPicPr/>
          <p:nvPr/>
        </p:nvPicPr>
        <p:blipFill>
          <a:blip r:embed="rId2"/>
          <a:stretch/>
        </p:blipFill>
        <p:spPr>
          <a:xfrm>
            <a:off x="357120" y="1500120"/>
            <a:ext cx="8440920" cy="4929120"/>
          </a:xfrm>
          <a:prstGeom prst="rect">
            <a:avLst/>
          </a:prstGeom>
          <a:ln w="0">
            <a:noFill/>
          </a:ln>
        </p:spPr>
      </p:pic>
      <p:sp>
        <p:nvSpPr>
          <p:cNvPr id="429" name="Прямоугольник 5"/>
          <p:cNvSpPr/>
          <p:nvPr/>
        </p:nvSpPr>
        <p:spPr>
          <a:xfrm>
            <a:off x="5643720" y="114300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иаграмма № 10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30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31148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 Math"/>
              </a:rPr>
              <a:t>Для того чтобы иметь возможность пользоваться полученной информацией, ее надо запомнить, сохранить и воспро­извести в нужный момент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mbria Math"/>
              </a:rPr>
              <a:t>Запоминание (кодирование), сохранение, воспроизведение (извлечение) и забывание </a:t>
            </a:r>
            <a:r>
              <a:rPr b="1" lang="ru-RU" sz="2000" spc="-1" strike="noStrike">
                <a:solidFill>
                  <a:srgbClr val="000000"/>
                </a:solidFill>
                <a:latin typeface="Cambria Math"/>
              </a:rPr>
              <a:t>— основные процессы памяти.</a:t>
            </a:r>
            <a:endParaRPr b="0" lang="en-US" sz="20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 Math"/>
            </a:endParaRPr>
          </a:p>
        </p:txBody>
      </p:sp>
      <p:pic>
        <p:nvPicPr>
          <p:cNvPr id="433" name="Picture 1" descr="img099"/>
          <p:cNvPicPr/>
          <p:nvPr/>
        </p:nvPicPr>
        <p:blipFill>
          <a:blip r:embed="rId2"/>
          <a:stretch/>
        </p:blipFill>
        <p:spPr>
          <a:xfrm>
            <a:off x="500040" y="2928960"/>
            <a:ext cx="8501040" cy="3765600"/>
          </a:xfrm>
          <a:prstGeom prst="rect">
            <a:avLst/>
          </a:prstGeom>
          <a:ln w="0">
            <a:noFill/>
          </a:ln>
        </p:spPr>
      </p:pic>
      <p:sp>
        <p:nvSpPr>
          <p:cNvPr id="434" name="Місце для нижнього колонтитула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8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C:\Users\ПК\AppData\Local\Microsoft\Windows\Temporary Internet Files\Content.IE5\2B5Q6MJB\MC900197836[1].wmf"/>
          <p:cNvPicPr/>
          <p:nvPr/>
        </p:nvPicPr>
        <p:blipFill>
          <a:blip r:embed="rId1"/>
          <a:stretch/>
        </p:blipFill>
        <p:spPr>
          <a:xfrm>
            <a:off x="285840" y="357120"/>
            <a:ext cx="8858160" cy="621504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Направления дальнейших исследований:</a:t>
            </a:r>
            <a:endParaRPr b="0" lang="en-US" sz="40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Изучить, есть ли различия в запоминании у мальчиков и девочек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Расследовать, влияет ли физическое здоровье на память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Провести новый эксперимент с использованием специальных упражнений для улучшения памяти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Сравнить и обобщить результаты проведенных и будущих исследований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Разработать рекомендации для участников эксперимента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38" name="Місце для нижнього колонтитула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3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3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30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30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0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0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30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30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30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30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30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0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30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0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30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30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0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30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E:\Каб.202\Фотографии\Исслед.д-ть.2005-2006\IMG_0743.jpg"/>
          <p:cNvPicPr/>
          <p:nvPr/>
        </p:nvPicPr>
        <p:blipFill>
          <a:blip r:embed="rId1"/>
          <a:stretch/>
        </p:blipFill>
        <p:spPr>
          <a:xfrm>
            <a:off x="500040" y="3875040"/>
            <a:ext cx="3786120" cy="28400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27e56"/>
                </a:solidFill>
                <a:latin typeface="Monotype Corsiva"/>
              </a:rPr>
              <a:t>Работа была представлена:</a:t>
            </a:r>
            <a:endParaRPr b="0" lang="en-US" sz="48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на ученической научно-практической конференции «</a:t>
            </a:r>
            <a:r>
              <a:rPr b="1" i="1" lang="ru-RU" sz="2600" spc="-1" strike="noStrike">
                <a:solidFill>
                  <a:srgbClr val="000000"/>
                </a:solidFill>
                <a:latin typeface="Cambria Math"/>
              </a:rPr>
              <a:t>Да не оскудеет талантами земля русская»,</a:t>
            </a: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 2006г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на Российском  конкурсе исследовательских работ и творческих проектов </a:t>
            </a:r>
            <a:r>
              <a:rPr b="1" i="1" lang="ru-RU" sz="2600" spc="-1" strike="noStrike">
                <a:solidFill>
                  <a:srgbClr val="000000"/>
                </a:solidFill>
                <a:latin typeface="Cambria Math"/>
              </a:rPr>
              <a:t>«Я – исследователь</a:t>
            </a: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», где получила Диплом «</a:t>
            </a:r>
            <a:r>
              <a:rPr b="1" i="1" lang="ru-RU" sz="2600" spc="-1" strike="noStrike">
                <a:solidFill>
                  <a:srgbClr val="000000"/>
                </a:solidFill>
                <a:latin typeface="Cambria Math"/>
              </a:rPr>
              <a:t>За лучший эксперимент</a:t>
            </a: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», 2006г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pic>
        <p:nvPicPr>
          <p:cNvPr id="442" name="Picture 3" descr="E:\Каб.202\Фотографии\Исслед.д-ть.2005-2006\IMG_0779.jpg"/>
          <p:cNvPicPr/>
          <p:nvPr/>
        </p:nvPicPr>
        <p:blipFill>
          <a:blip r:embed="rId2"/>
          <a:stretch/>
        </p:blipFill>
        <p:spPr>
          <a:xfrm>
            <a:off x="4929120" y="3857760"/>
            <a:ext cx="3714840" cy="2786040"/>
          </a:xfrm>
          <a:prstGeom prst="rect">
            <a:avLst/>
          </a:prstGeom>
          <a:ln w="0">
            <a:noFill/>
          </a:ln>
        </p:spPr>
      </p:pic>
      <p:sp>
        <p:nvSpPr>
          <p:cNvPr id="443" name="Місце для нижнього колонтитула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30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30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30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30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30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0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0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0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C:\Users\ПК\AppData\Local\Microsoft\Windows\Temporary Internet Files\Content.IE5\4JCQMEH2\MC900332680[1]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79608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Monotype Corsiva"/>
              </a:rPr>
              <a:t>Цель работы:</a:t>
            </a:r>
            <a:endParaRPr b="0" lang="en-US" sz="66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mbria Math"/>
              </a:rPr>
              <a:t>Узнать, что такое память.</a:t>
            </a:r>
            <a:endParaRPr b="0" lang="en-US" sz="4800" spc="-1" strike="noStrike">
              <a:solidFill>
                <a:srgbClr val="000000"/>
              </a:solidFill>
              <a:latin typeface="Cambria Math"/>
            </a:endParaRPr>
          </a:p>
          <a:p>
            <a:pPr marL="259200" indent="-25920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mbria Math"/>
              </a:rPr>
              <a:t>Выяснить, какая память у учащихся </a:t>
            </a:r>
            <a:r>
              <a:rPr b="0" lang="ru-RU" sz="4800" spc="-1" strike="noStrike">
                <a:solidFill>
                  <a:srgbClr val="ffffff"/>
                </a:solidFill>
                <a:latin typeface="Cambria Math"/>
              </a:rPr>
              <a:t>нашего</a:t>
            </a:r>
            <a:r>
              <a:rPr b="0" lang="ru-RU" sz="4800" spc="-1" strike="noStrike">
                <a:solidFill>
                  <a:srgbClr val="000000"/>
                </a:solidFill>
                <a:latin typeface="Cambria Math"/>
              </a:rPr>
              <a:t> класса.</a:t>
            </a:r>
            <a:endParaRPr b="0" lang="en-US" sz="4800" spc="-1" strike="noStrike">
              <a:solidFill>
                <a:srgbClr val="000000"/>
              </a:solidFill>
              <a:latin typeface="Cambria Math"/>
            </a:endParaRPr>
          </a:p>
          <a:p>
            <a:pPr marL="259200" indent="-25920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mbria Math"/>
              </a:rPr>
              <a:t>Исследовать, можно ли улучши</a:t>
            </a:r>
            <a:r>
              <a:rPr b="0" lang="ru-RU" sz="4800" spc="-1" strike="noStrike">
                <a:solidFill>
                  <a:srgbClr val="f2f2f2"/>
                </a:solidFill>
                <a:latin typeface="Cambria Math"/>
              </a:rPr>
              <a:t>ть </a:t>
            </a:r>
            <a:r>
              <a:rPr b="0" lang="ru-RU" sz="4800" spc="-1" strike="noStrike">
                <a:solidFill>
                  <a:srgbClr val="000000"/>
                </a:solidFill>
                <a:latin typeface="Cambria Math"/>
              </a:rPr>
              <a:t>память.</a:t>
            </a:r>
            <a:endParaRPr b="0" lang="en-US" sz="4800" spc="-1" strike="noStrike">
              <a:solidFill>
                <a:srgbClr val="000000"/>
              </a:solidFill>
              <a:latin typeface="Cambria Math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C:\Users\ПК\AppData\Local\Microsoft\Windows\Temporary Internet Files\Content.IE5\2B5Q6MJB\MC900197836[1].wmf"/>
          <p:cNvPicPr/>
          <p:nvPr/>
        </p:nvPicPr>
        <p:blipFill>
          <a:blip r:embed="rId1"/>
          <a:stretch/>
        </p:blipFill>
        <p:spPr>
          <a:xfrm>
            <a:off x="5857920" y="4071960"/>
            <a:ext cx="3066840" cy="27860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27e56"/>
                </a:solidFill>
                <a:latin typeface="Monotype Corsiva"/>
              </a:rPr>
              <a:t>Задачи исследования:</a:t>
            </a:r>
            <a:endParaRPr b="0" lang="en-US" sz="60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 Math"/>
              </a:rPr>
              <a:t> </a:t>
            </a:r>
            <a:r>
              <a:rPr b="0" lang="ru-RU" sz="4000" spc="-1" strike="noStrike">
                <a:solidFill>
                  <a:srgbClr val="000000"/>
                </a:solidFill>
                <a:latin typeface="Cambria Math"/>
              </a:rPr>
              <a:t>Изучить, что такое память и какие бывают виды памяти.</a:t>
            </a:r>
            <a:endParaRPr b="0" lang="en-US" sz="40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 Math"/>
              </a:rPr>
              <a:t>Выяснить, что помогает человеку лучше запоминать.</a:t>
            </a:r>
            <a:endParaRPr b="0" lang="en-US" sz="40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 Math"/>
              </a:rPr>
              <a:t>Провести исследование памяти  одноклассников.</a:t>
            </a:r>
            <a:endParaRPr b="0" lang="en-US" sz="40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74" name="Місце для нижнього колонтитула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3" descr="C:\Users\ПК\AppData\Local\Microsoft\Windows\Temporary Internet Files\Content.IE5\R4TH7C0G\MM900282996[1].gif"/>
          <p:cNvPicPr/>
          <p:nvPr/>
        </p:nvPicPr>
        <p:blipFill>
          <a:blip r:embed="rId1"/>
          <a:stretch/>
        </p:blipFill>
        <p:spPr>
          <a:xfrm>
            <a:off x="5214960" y="2714760"/>
            <a:ext cx="4143240" cy="414324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27e56"/>
                </a:solidFill>
                <a:latin typeface="Monotype Corsiva"/>
              </a:rPr>
              <a:t>Гипотезы:</a:t>
            </a:r>
            <a:endParaRPr b="0" lang="en-US" sz="66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Предположим, что если человеку нужно что-то запомнить, то в его голове происходят разные процессы, связанные с запоминанием.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marL="267120" indent="-26712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Допустим, что память человека можно улучшить, и существуют правила, помогающие это сделать.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marL="267120" indent="-26712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Что если плохая память человека влияет на его физическое здоровье.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marL="267120" indent="-26712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Возможно, что разные люди обладают разными видами памяти.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78" name="Місце для нижнього колонтитула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27e56"/>
                </a:solidFill>
                <a:latin typeface="Monotype Corsiva"/>
              </a:rPr>
              <a:t>Этапы исследования:</a:t>
            </a:r>
            <a:endParaRPr b="0" lang="en-US" sz="66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285840" y="1219320"/>
            <a:ext cx="840096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Выбор темы исследовательской работы.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Определение целей и постановка задач.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Выдвижение гипотез.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Организация исследовательской деятельности: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</a:rPr>
              <a:t>Составление плана работы.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</a:rPr>
              <a:t>Определение методов исследования.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  <p:pic>
        <p:nvPicPr>
          <p:cNvPr id="381" name="Picture 2" descr="C:\Users\ПК\AppData\Local\Microsoft\Windows\Temporary Internet Files\Content.IE5\1DKUVHX6\MC900304067[1].wmf"/>
          <p:cNvPicPr/>
          <p:nvPr/>
        </p:nvPicPr>
        <p:blipFill>
          <a:blip r:embed="rId1"/>
          <a:stretch/>
        </p:blipFill>
        <p:spPr>
          <a:xfrm>
            <a:off x="5072040" y="3238560"/>
            <a:ext cx="3629160" cy="3144600"/>
          </a:xfrm>
          <a:prstGeom prst="rect">
            <a:avLst/>
          </a:prstGeom>
          <a:ln w="0">
            <a:noFill/>
          </a:ln>
        </p:spPr>
      </p:pic>
      <p:sp>
        <p:nvSpPr>
          <p:cNvPr id="382" name="Місце для нижнього колонтитула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00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27e56"/>
                </a:solidFill>
                <a:latin typeface="Monotype Corsiva"/>
              </a:rPr>
              <a:t>Работа над эмблемой и девизом:</a:t>
            </a:r>
            <a:endParaRPr b="0" lang="en-US" sz="4800" spc="-1" strike="noStrike">
              <a:solidFill>
                <a:srgbClr val="676a55"/>
              </a:solidFill>
              <a:latin typeface="Monotype Corsiva"/>
            </a:endParaRPr>
          </a:p>
        </p:txBody>
      </p:sp>
      <p:pic>
        <p:nvPicPr>
          <p:cNvPr id="384" name="Picture 2" descr="C:\Users\ПК\AppData\Local\Microsoft\Windows\Temporary Internet Files\Content.IE5\2B5Q6MJB\MC900334236[1].wmf"/>
          <p:cNvPicPr/>
          <p:nvPr/>
        </p:nvPicPr>
        <p:blipFill>
          <a:blip r:embed="rId1"/>
          <a:stretch/>
        </p:blipFill>
        <p:spPr>
          <a:xfrm>
            <a:off x="571680" y="1143000"/>
            <a:ext cx="8143560" cy="5518080"/>
          </a:xfrm>
          <a:prstGeom prst="rect">
            <a:avLst/>
          </a:prstGeom>
          <a:ln w="0">
            <a:noFill/>
          </a:ln>
        </p:spPr>
      </p:pic>
      <p:sp>
        <p:nvSpPr>
          <p:cNvPr id="385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3" descr="img115"/>
          <p:cNvPicPr/>
          <p:nvPr/>
        </p:nvPicPr>
        <p:blipFill>
          <a:blip r:embed="rId1"/>
          <a:stretch/>
        </p:blipFill>
        <p:spPr>
          <a:xfrm>
            <a:off x="2428920" y="642960"/>
            <a:ext cx="4260960" cy="5416560"/>
          </a:xfrm>
          <a:prstGeom prst="rect">
            <a:avLst/>
          </a:prstGeom>
          <a:ln w="0">
            <a:noFill/>
          </a:ln>
        </p:spPr>
      </p:pic>
      <p:sp>
        <p:nvSpPr>
          <p:cNvPr id="387" name="WordArt 2"/>
          <p:cNvSpPr txBox="1"/>
          <p:nvPr/>
        </p:nvSpPr>
        <p:spPr>
          <a:xfrm>
            <a:off x="1428840" y="571680"/>
            <a:ext cx="6400800" cy="4114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854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амять - хранилище прошлого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88" name="WordArt 4"/>
          <p:cNvSpPr txBox="1"/>
          <p:nvPr/>
        </p:nvSpPr>
        <p:spPr>
          <a:xfrm>
            <a:off x="1428840" y="5429160"/>
            <a:ext cx="6172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 залог будущего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C:\Users\ПК\AppData\Local\Microsoft\Windows\Temporary Internet Files\Content.IE5\4JCQMEH2\MM900234673[1].gif"/>
          <p:cNvPicPr/>
          <p:nvPr/>
        </p:nvPicPr>
        <p:blipFill>
          <a:blip r:embed="rId1"/>
          <a:stretch/>
        </p:blipFill>
        <p:spPr>
          <a:xfrm>
            <a:off x="6567480" y="0"/>
            <a:ext cx="2576520" cy="25765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285840" y="642600"/>
            <a:ext cx="8400960" cy="55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27e56"/>
                </a:solidFill>
                <a:latin typeface="Monotype Corsiva"/>
              </a:rPr>
              <a:t>Выполнение практической части исследования:</a:t>
            </a:r>
            <a:endParaRPr b="0" lang="en-US" sz="36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 Math"/>
              </a:rPr>
              <a:t>Поиск информации по выбранной теме.</a:t>
            </a:r>
            <a:endParaRPr b="0" lang="en-US" sz="20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 Math"/>
              </a:rPr>
              <a:t>Наблюдение.</a:t>
            </a:r>
            <a:endParaRPr b="0" lang="en-US" sz="20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 Math"/>
              </a:rPr>
              <a:t>Эксперимент.</a:t>
            </a:r>
            <a:endParaRPr b="0" lang="en-US" sz="20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Оформление результатов исследования: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 Math"/>
              </a:rPr>
              <a:t>Обработка полученных данных.</a:t>
            </a:r>
            <a:endParaRPr b="0" lang="en-US" sz="20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 Math"/>
              </a:rPr>
              <a:t>Построение диаграмм.</a:t>
            </a:r>
            <a:endParaRPr b="0" lang="en-US" sz="20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 Math"/>
              </a:rPr>
              <a:t>Заполнение портфолио.</a:t>
            </a:r>
            <a:endParaRPr b="0" lang="en-US" sz="20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Подготовка к защите исследовательской работы.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Подготовка компьютерной презентации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9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000" fill="hold"/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3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3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0" fill="hold"/>
                                        <p:tgtEl>
                                          <p:spTgt spid="3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3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0T18:20:13Z</dcterms:created>
  <dc:creator>ПК</dc:creator>
  <dc:description/>
  <dc:language>en-US</dc:language>
  <cp:lastModifiedBy>LEGION</cp:lastModifiedBy>
  <dcterms:modified xsi:type="dcterms:W3CDTF">2014-11-24T10:59:49Z</dcterms:modified>
  <cp:revision>18</cp:revision>
  <dc:subject/>
  <dc:title>Какая у нас память</dc:title>
</cp:coreProperties>
</file>