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023-8ABF-4ED2-8794-880FB35BA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BC28-B7BA-45E0-9A0F-B045857B56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маленькому желудку подшивается тонкая кишка коротким пут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операция дает 80 % снижение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A04-AF58-463A-8748-18AC51CBA2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07ED-AFDA-4F6F-B360-76F6450AA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69DE-BB5E-4C97-9A05-9071A4ADA3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A4D9-4C0B-4A5F-A46D-E01552D4A8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каждый десятый житель планеты страдает избыточной массой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29B8-5622-4C5B-B0DC-1B764DB897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факторов почему Вам это нуж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вышение массы тела по сравнению с нормой на 10% увеличивает смертность в среднем на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7C7E-7583-481A-9125-584308D1EB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ицинские последствия ожи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ртериальная гиперто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Сахарный диабет 2 ти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елчекаменная   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Заболевания Ж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Дисфункция яи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еноз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иквикский синд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ировая дистрофия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анкреа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стеоарт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те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нкологическ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Увеличение риска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Кожно- жировые фар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нутричерепная гипертенз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Гастроэзофагеальная рефлюкс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Болезни с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Холецис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CEB0-8FE1-49E2-80FD-DAC332487A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ческая хирургия является </a:t>
            </a:r>
            <a:r>
              <a:rPr b="0" lang="ru-RU" sz="1200" spc="-1" strike="noStrike" u="sng">
                <a:solidFill>
                  <a:srgbClr val="a24308"/>
                </a:solidFill>
                <a:uFillTx/>
                <a:latin typeface="Times New Roman"/>
              </a:rPr>
              <a:t>наиболее эффективным средств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ого снижения веса и избавления от сопутствующих заболеваний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ечение от диабета зависит от типа опе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-70 % больных излечиваются после рестриктивных процеду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-98 % – после желудочного шунтирования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2-100 % – после билиопанкреатического шунтировани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074-384D-4A57-ACFF-3418BF15A4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тите деньги на таблетки для поху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 показали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ми случаях из дес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 возвращае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ем с положительной динамикой рост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E73B-01C4-4369-AC15-31CE65CC6F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15AE-9AAB-4260-BD2C-31990F5DE9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 выполняется только лапароскопическим способом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911-0143-40B6-8B23-32A13B026C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43D1-1DF6-4278-AFB9-B027EAFF8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5816-67F1-4DC7-AFDA-F1948F75B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6BE8-D5B5-42DF-9B70-EEEB840AF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BDE5-B937-449E-AB60-214929AA4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2BD0-CAAB-4C59-ACB2-BFB9CE09E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3875-0D41-4D88-B0F9-00D5F33E9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A62B-985E-494D-BBFA-FF2275FCB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58C7-C1A8-468F-9023-E7336C7D0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FF71-34C0-4612-8729-2DADB1492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E653-41E8-4A5B-A369-DF63B983E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783E-2699-470B-920A-283BC8746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E322-9B92-4773-932D-A21BACD30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52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7D9A-B113-4664-BD31-10BF382925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45" name="Picture 2" descr="E:\S4\SKC\STYLE\Brend-book\Технологические файлы\Шаблон электронной презентации\Графика\4-04_Электронная презентация_обложк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kc-fmb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2;&#1077;&#1089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5;&#1076;&#1072;&#1078;&#1080;&#1088;&#1086;&#1074;&#1072;&#1085;&#1080;&#1077;_&#1078;&#1077;&#1083;&#1091;&#1076;&#1082;&#1072;" TargetMode="External"/><Relationship Id="rId2" Type="http://schemas.openxmlformats.org/officeDocument/2006/relationships/hyperlink" Target="http://ru.wikipedia.org/wiki/&#1046;&#1077;&#1083;&#1091;&#1076;&#1086;&#1095;&#1085;&#1086;&#1077;_&#1096;&#1091;&#1085;&#1090;&#1080;&#1088;&#1086;&#1074;&#1072;&#1085;&#1080;&#1077;" TargetMode="External"/><Relationship Id="rId3" Type="http://schemas.openxmlformats.org/officeDocument/2006/relationships/hyperlink" Target="http://ru.wikipedia.org/w/index.php?title=&#1041;&#1080;&#1083;&#1080;&#1086;&#1087;&#1072;&#1085;&#1082;&#1088;&#1077;&#1072;&#1090;&#1080;&#1095;&#1077;&#1089;&#1082;&#1086;&#1077;_&#1096;&#1091;&#1085;&#1090;&#1080;&#1088;&#1086;&#1074;&#1072;&#1085;&#1080;&#1077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72;&#1088;&#1086;&#1089;&#1082;&#1086;&#1087;&#1080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3888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485"/>
                </a:solidFill>
                <a:latin typeface="Arial Narrow"/>
              </a:rPr>
              <a:t>Бариатр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IMG_0217.jpg"/>
          <p:cNvPicPr/>
          <p:nvPr/>
        </p:nvPicPr>
        <p:blipFill>
          <a:blip r:embed="rId1"/>
          <a:stretch/>
        </p:blipFill>
        <p:spPr>
          <a:xfrm>
            <a:off x="3635280" y="692280"/>
            <a:ext cx="4276800" cy="4968720"/>
          </a:xfrm>
          <a:prstGeom prst="rect">
            <a:avLst/>
          </a:prstGeom>
          <a:ln w="38160">
            <a:solidFill>
              <a:srgbClr val="123336"/>
            </a:solidFill>
            <a:miter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59440" y="7650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Желудочн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4000" y="1413000"/>
            <a:ext cx="453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К маленькому желудку подшивается тонкая кишка коротким путем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Эта операция дает 80 % снижение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4" name="Picture 3" descr="C:\Users\nikulin_as\Pictures\шунтир.png"/>
          <p:cNvPicPr/>
          <p:nvPr/>
        </p:nvPicPr>
        <p:blipFill>
          <a:blip r:embed="rId1"/>
          <a:stretch/>
        </p:blipFill>
        <p:spPr>
          <a:xfrm>
            <a:off x="4788000" y="1125360"/>
            <a:ext cx="3462120" cy="36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65200" y="7650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илиопанкреатическ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39640" y="11970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8" name="Picture 2" descr="C:\Users\nikulin_as\Pictures\билиопанк.jpg"/>
          <p:cNvPicPr/>
          <p:nvPr/>
        </p:nvPicPr>
        <p:blipFill>
          <a:blip r:embed="rId1"/>
          <a:stretch/>
        </p:blipFill>
        <p:spPr>
          <a:xfrm>
            <a:off x="5435640" y="1052640"/>
            <a:ext cx="266076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86720" y="620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Практические результаты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1" name="Picture 7" descr="C:\Users\nikulin_as\Pictures\Бариатрия\до после1.jpg"/>
          <p:cNvPicPr/>
          <p:nvPr/>
        </p:nvPicPr>
        <p:blipFill>
          <a:blip r:embed="rId1"/>
          <a:stretch/>
        </p:blipFill>
        <p:spPr>
          <a:xfrm>
            <a:off x="0" y="2708280"/>
            <a:ext cx="467676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nikulin_as\Pictures\Бариатрия\до после 3.gif"/>
          <p:cNvPicPr/>
          <p:nvPr/>
        </p:nvPicPr>
        <p:blipFill>
          <a:blip r:embed="rId2"/>
          <a:stretch/>
        </p:blipFill>
        <p:spPr>
          <a:xfrm>
            <a:off x="5076720" y="692280"/>
            <a:ext cx="3733920" cy="39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4" name="Picture 2" descr="C:\Users\nikulin_as\Pictures\Бариатрия\до.jpg"/>
          <p:cNvPicPr/>
          <p:nvPr/>
        </p:nvPicPr>
        <p:blipFill>
          <a:blip r:embed="rId1"/>
          <a:stretch/>
        </p:blipFill>
        <p:spPr>
          <a:xfrm>
            <a:off x="468360" y="1557360"/>
            <a:ext cx="205416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4900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39704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7" name="Picture 4" descr="C:\Users\nikulin_as\Pictures\Бариатрия\после1.jpg"/>
          <p:cNvPicPr/>
          <p:nvPr/>
        </p:nvPicPr>
        <p:blipFill>
          <a:blip r:embed="rId2"/>
          <a:stretch/>
        </p:blipFill>
        <p:spPr>
          <a:xfrm>
            <a:off x="3348000" y="1268280"/>
            <a:ext cx="391320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195640" y="6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6014160" y="692280"/>
            <a:ext cx="2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328840"/>
            <a:ext cx="857232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aaa5"/>
                </a:solidFill>
                <a:latin typeface="Arial Narrow"/>
              </a:rPr>
              <a:t>Благодарю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928600"/>
            <a:ext cx="3960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Наш адрес: 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660037 г.Красноярск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ул.Коломенская 2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т. (391) 242-41-6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             257-93-06</a:t>
            </a:r>
            <a:br>
              <a:rPr sz="2400"/>
            </a:br>
            <a:r>
              <a:rPr b="1" lang="en-US" sz="24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www.skc-fmba.ru</a:t>
            </a:r>
            <a:br>
              <a:rPr sz="2400"/>
            </a:br>
            <a:r>
              <a:rPr b="1" lang="en-US" sz="2400" spc="-1" strike="noStrike">
                <a:solidFill>
                  <a:srgbClr val="00aaa5"/>
                </a:solidFill>
                <a:latin typeface="Arial Narrow"/>
              </a:rPr>
              <a:t>e-mail: </a:t>
            </a: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kartashkov_ev@skc-fmba.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98760" y="6922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aa5"/>
                </a:solidFill>
                <a:latin typeface="Arial Narrow"/>
              </a:rPr>
              <a:t>Задумались?</a:t>
            </a:r>
            <a:endParaRPr b="1" lang="en-US" sz="2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00000" y="1484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аше здоровье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438800" y="1484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  Ваших руках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39640" y="692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aaa5"/>
                </a:solidFill>
                <a:uFillTx/>
                <a:latin typeface="Arial Narrow"/>
              </a:rPr>
              <a:t>Бариатрия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(от 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др.-греч.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βάρος —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вес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, тяжесть, и ἰατρεία —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 Narrow"/>
              </a:rPr>
              <a:t>лечение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)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96" name="Рисунок 5" descr="C:\Users\nikulin_as\Pictures\Бариатрия\до и после  динамика.bmp"/>
          <p:cNvPicPr/>
          <p:nvPr/>
        </p:nvPicPr>
        <p:blipFill>
          <a:blip r:embed="rId3"/>
          <a:srcRect l="65073" t="0" r="0" b="277"/>
          <a:stretch/>
        </p:blipFill>
        <p:spPr>
          <a:xfrm>
            <a:off x="395280" y="3357720"/>
            <a:ext cx="12747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nikulin_as\Pictures\Бариатрия\до и после  динамика.bmp"/>
          <p:cNvPicPr/>
          <p:nvPr/>
        </p:nvPicPr>
        <p:blipFill>
          <a:blip r:embed="rId4"/>
          <a:srcRect l="28428" t="0" r="34080" b="277"/>
          <a:stretch/>
        </p:blipFill>
        <p:spPr>
          <a:xfrm>
            <a:off x="1692360" y="3357720"/>
            <a:ext cx="142380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nikulin_as\Pictures\Бариатрия\до и после  динамика.bmp"/>
          <p:cNvPicPr/>
          <p:nvPr/>
        </p:nvPicPr>
        <p:blipFill>
          <a:blip r:embed="rId5"/>
          <a:srcRect l="0" t="0" r="69243" b="-256"/>
          <a:stretch/>
        </p:blipFill>
        <p:spPr>
          <a:xfrm>
            <a:off x="3059280" y="3357720"/>
            <a:ext cx="115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69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На сегодняшний день каждый десятый житель планеты страдает избыточной массой тела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01" name="Picture 2" descr="C:\Users\nikulin_as\Pictures\Бариатрия\до 2.jpg"/>
          <p:cNvPicPr/>
          <p:nvPr/>
        </p:nvPicPr>
        <p:blipFill>
          <a:blip r:embed="rId1"/>
          <a:stretch/>
        </p:blipFill>
        <p:spPr>
          <a:xfrm>
            <a:off x="395280" y="1557360"/>
            <a:ext cx="3143160" cy="23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nikulin_as\Pictures\Бариатрия\до 3.jpg"/>
          <p:cNvPicPr/>
          <p:nvPr/>
        </p:nvPicPr>
        <p:blipFill>
          <a:blip r:embed="rId2"/>
          <a:stretch/>
        </p:blipFill>
        <p:spPr>
          <a:xfrm>
            <a:off x="4932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nikulin_as\Pictures\Бариатрия\до 1.jpg"/>
          <p:cNvPicPr/>
          <p:nvPr/>
        </p:nvPicPr>
        <p:blipFill>
          <a:blip r:embed="rId3"/>
          <a:stretch/>
        </p:blipFill>
        <p:spPr>
          <a:xfrm>
            <a:off x="2987640" y="2205000"/>
            <a:ext cx="2394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554400"/>
            <a:ext cx="79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5 факторов почему Вам это нужно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1410840"/>
            <a:ext cx="75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5.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 Превышение массы тела по сравнению с нормой на 10% увеличивает смертность в среднем на 30%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7729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Медицинские последствия ожирен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68360" y="177336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ртериальная гиперто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Сахарный диабет 2 тип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елчекаменная   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Заболевания ЖК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Дисфункция яичник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енозная недостаточност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иквикский синдром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ировая дистрофия печен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анкреа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стеоарт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635280" y="1773360"/>
            <a:ext cx="3745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тероскле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нкологические заболева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Увеличение риска операций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Кожно- жировые фартук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нутричерепная гипертенз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Гастроэзофагеальная рефлюксная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Болезни сустав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нсуль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шемическая болезнь сердц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Холецис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611280" y="620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риатрическая хирургия является </a:t>
            </a:r>
            <a:r>
              <a:rPr b="1" lang="ru-RU" sz="1600" spc="-1" strike="noStrike" u="sng">
                <a:solidFill>
                  <a:srgbClr val="a24308"/>
                </a:solidFill>
                <a:uFillTx/>
                <a:latin typeface="Arial Narrow"/>
              </a:rPr>
              <a:t>наиболее эффективным средством 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долгосрочного снижения веса и избавления от сопутствующих заболеваний!</a:t>
            </a: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4360" y="2276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злечение от диабета зависит от типа операции: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47-70 % больных излечиваются после рестриктивных процедур;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80-98 % – после желудочного шунтирования;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92-100 % – после билиопанкреатического шунтирования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4" name="Picture 1" descr="C:\Users\nikulin_as\Pictures\Бариатрия\после2.jpg"/>
          <p:cNvPicPr/>
          <p:nvPr/>
        </p:nvPicPr>
        <p:blipFill>
          <a:blip r:embed="rId1"/>
          <a:stretch/>
        </p:blipFill>
        <p:spPr>
          <a:xfrm>
            <a:off x="6516720" y="3573360"/>
            <a:ext cx="161748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69880" y="83664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Тратите деньги на таблетки для похудения?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656160" y="1989000"/>
            <a:ext cx="38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 семи случаях из десяти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ес возвращается.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чем с положительной динамикой роста!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8" name="Picture 3" descr="C:\Users\nikulin_as\Pictures\гора таблеток.jpg"/>
          <p:cNvPicPr/>
          <p:nvPr/>
        </p:nvPicPr>
        <p:blipFill>
          <a:blip r:embed="rId1"/>
          <a:stretch/>
        </p:blipFill>
        <p:spPr>
          <a:xfrm>
            <a:off x="684360" y="1628640"/>
            <a:ext cx="2708280" cy="2211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3861000" y="29973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Задумайтесь 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505320" y="15573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сследования  показали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39640" y="981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539640" y="20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4500720" y="256536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бандажирование желудка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желудочн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3"/>
              </a:rPr>
              <a:t>билиопанкреатическ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25" name="Picture 3" descr="C:\Users\nikulin_as\Pictures\шунт 2.jpg"/>
          <p:cNvPicPr/>
          <p:nvPr/>
        </p:nvPicPr>
        <p:blipFill>
          <a:blip r:embed="rId4"/>
          <a:stretch/>
        </p:blipFill>
        <p:spPr>
          <a:xfrm>
            <a:off x="0" y="2637000"/>
            <a:ext cx="4511520" cy="32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558720" y="765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андажирование желудк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539640" y="1268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11280" y="3141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ндажирование желудка выполняется только </a:t>
            </a: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лапароскопическим способом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0" name="Picture 9" descr="C:\Users\nikulin_as\Pictures\бандажирование.jpg"/>
          <p:cNvPicPr/>
          <p:nvPr/>
        </p:nvPicPr>
        <p:blipFill>
          <a:blip r:embed="rId2"/>
          <a:stretch/>
        </p:blipFill>
        <p:spPr>
          <a:xfrm>
            <a:off x="5364000" y="981000"/>
            <a:ext cx="30765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17:58Z</dcterms:created>
  <dc:creator>"Никулин А. С." &lt;nikulin_as@skc-fmba.ru&gt;</dc:creator>
  <dc:description/>
  <dc:language>en-US</dc:language>
  <cp:lastModifiedBy>LEGION</cp:lastModifiedBy>
  <dcterms:modified xsi:type="dcterms:W3CDTF">2014-11-06T13:15:55Z</dcterms:modified>
  <cp:revision>201</cp:revision>
  <dc:subject/>
  <dc:title>Итоги 2009 года</dc:title>
</cp:coreProperties>
</file>