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714D-E674-4FDC-BB15-A21AFC74FF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F9EB-31E5-412D-B8DF-A908A9E009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маленькому желудку подшивается тонкая кишка коротким путе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операция дает 80 % снижение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79F0-AFFF-41AC-B521-CC5F387A0B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A3E1-53DB-4CBB-82FB-9FB0DF0BE9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4F98-29A5-47BD-9FB7-04CDE23784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Бариатр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aaa5"/>
                </a:solidFill>
                <a:latin typeface="Times New Roman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AEDB-9B53-41C6-BFF1-4B4828E1FA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каждый десятый житель планеты страдает избыточной массой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5BF5-5162-4605-B2DD-05340BFFCC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факторов почему Вам это нуж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вышение массы тела по сравнению с нормой на 10% увеличивает смертность в среднем на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4C3F-24BE-4DA4-B797-696185F49F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ицинские последствия ожи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ртериальная гиперто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Сахарный диабет 2 тип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елчекаменная   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Заболевания Ж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Дисфункция яи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енозная недостаточ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иквикский синдр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Жировая дистрофия печ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Панкреа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стеоарт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Атеросклер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Онкологическ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Увеличение риска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Кожно- жировые фар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Внутричерепная гипертенз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Гастроэзофагеальная рефлюксная болез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Болезни с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нсуль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Холецист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A215-212E-4F70-94FF-AD158A451C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риатрическая хирургия является </a:t>
            </a:r>
            <a:r>
              <a:rPr b="0" lang="ru-RU" sz="1200" spc="-1" strike="noStrike" u="sng">
                <a:solidFill>
                  <a:srgbClr val="a24308"/>
                </a:solidFill>
                <a:uFillTx/>
                <a:latin typeface="Times New Roman"/>
              </a:rPr>
              <a:t>наиболее эффективным средств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ого снижения веса и избавления от сопутствующих заболеваний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лечение от диабета зависит от типа опе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-70 % больных излечиваются после рестриктивных процеду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-98 % – после желудочного шунтирования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2-100 % – после билиопанкреатического шунтировани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222-2837-47B2-83B9-5F810CB63A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тите деньги на таблетки для похуд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 показали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ми случаях из дес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 возвращае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ем с положительной динамикой рост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E836-1CB8-41E0-ABA9-E2EA946313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лудочн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иопанкреатическое шун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EDB-0093-4B71-8F5D-3100ED8140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ндажирование желудка выполняется только лапароскопическим способом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B0E6-1CFC-44C4-AD0D-51CC9F0C79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350F-BCF4-492A-AF5F-34839C815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EC3C-39D7-4277-B37B-83B298027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BE49-B0CF-40C8-994B-603A482CE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01C1-673B-42C8-BD25-2FCEADF76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10FA-5F90-43E5-8EB3-6E50186A9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286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85200" y="182844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6286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85200" y="3659400"/>
            <a:ext cx="10058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0F78-F9D3-4428-A58B-C2894BFA2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190E-3B41-47F8-B768-54487AAFA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A2B1-EB99-4438-AB03-B273F79AF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70320"/>
            <a:ext cx="7772400" cy="17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B56D-C5C0-45BF-892E-1B57371A5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2623-7E7C-4454-B9C3-12BEBB46F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72920" y="365940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A224-C2F2-4886-9AB5-F1733F15B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72920" y="1828440"/>
            <a:ext cx="15242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3659400"/>
            <a:ext cx="3124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4153-0BF7-4E92-8618-A6BAFBFD0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160" y="6248520"/>
            <a:ext cx="407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5EEA-9D5A-4CA5-B654-DD9451B148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S4\SKC\STYLE\Brend-book\Технологические файлы\Шаблон электронной презентации\Графика\4-04_150_Электронная презентация_страниц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4572000" y="18288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362320" y="1143000"/>
            <a:ext cx="3124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45" name="Picture 2" descr="E:\S4\SKC\STYLE\Brend-book\Технологические файлы\Шаблон электронной презентации\Графика\4-04_Электронная презентация_обложка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7032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0" y="1828440"/>
            <a:ext cx="3124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24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24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2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2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kc-fmb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2;&#1077;&#1089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5;&#1076;&#1072;&#1078;&#1080;&#1088;&#1086;&#1074;&#1072;&#1085;&#1080;&#1077;_&#1078;&#1077;&#1083;&#1091;&#1076;&#1082;&#1072;" TargetMode="External"/><Relationship Id="rId2" Type="http://schemas.openxmlformats.org/officeDocument/2006/relationships/hyperlink" Target="http://ru.wikipedia.org/wiki/&#1046;&#1077;&#1083;&#1091;&#1076;&#1086;&#1095;&#1085;&#1086;&#1077;_&#1096;&#1091;&#1085;&#1090;&#1080;&#1088;&#1086;&#1074;&#1072;&#1085;&#1080;&#1077;" TargetMode="External"/><Relationship Id="rId3" Type="http://schemas.openxmlformats.org/officeDocument/2006/relationships/hyperlink" Target="http://ru.wikipedia.org/w/index.php?title=&#1041;&#1080;&#1083;&#1080;&#1086;&#1087;&#1072;&#1085;&#1082;&#1088;&#1077;&#1072;&#1090;&#1080;&#1095;&#1077;&#1089;&#1082;&#1086;&#1077;_&#1096;&#1091;&#1085;&#1090;&#1080;&#1088;&#1086;&#1074;&#1072;&#1085;&#1080;&#1077;&amp;action=edit&amp;redlink=1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87;&#1072;&#1088;&#1086;&#1089;&#1082;&#1086;&#1087;&#1080;&#1103;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5157360"/>
            <a:ext cx="3888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485"/>
                </a:solidFill>
                <a:latin typeface="Arial Narrow"/>
              </a:rPr>
              <a:t>Бариатр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IMG_0217.jpg"/>
          <p:cNvPicPr/>
          <p:nvPr/>
        </p:nvPicPr>
        <p:blipFill>
          <a:blip r:embed="rId1"/>
          <a:stretch/>
        </p:blipFill>
        <p:spPr>
          <a:xfrm>
            <a:off x="3635280" y="692280"/>
            <a:ext cx="4276800" cy="4968720"/>
          </a:xfrm>
          <a:prstGeom prst="rect">
            <a:avLst/>
          </a:prstGeom>
          <a:ln w="38160">
            <a:solidFill>
              <a:srgbClr val="123336"/>
            </a:solidFill>
            <a:miter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559440" y="7650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Желудочн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324000" y="1413000"/>
            <a:ext cx="4535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Желудок прошивается титановыми скрепками, тем самым он разделяется на два отдела: маленький, объемом 50 мл, и большой (остальной желудок)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К маленькому желудку подшивается тонкая кишка коротким путем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Таким образом, человек после этой операции может съесть совсем мало, более того, значительная часть съеденной пищи проходит по короткому пути, тем самым снижается всасывание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Эта операция дает 80 % снижение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4" name="Picture 3" descr="C:\Users\nikulin_as\Pictures\шунтир.png"/>
          <p:cNvPicPr/>
          <p:nvPr/>
        </p:nvPicPr>
        <p:blipFill>
          <a:blip r:embed="rId1"/>
          <a:stretch/>
        </p:blipFill>
        <p:spPr>
          <a:xfrm>
            <a:off x="4788000" y="1125360"/>
            <a:ext cx="3462120" cy="3654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65200" y="76500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илиопанкреатическое шунтирование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539640" y="119700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илиопанкреатическом шунтировании желудок также прошивается скрепками и к полученному малому желудку подшивается тонкая кишка. Отличия от желудочного шунтирования заключаются в том, что объем малого желудка составляет не 50, а 200 мл, но самое главное, что тонкая кишка подшивается по совсем короткому пути — так, что для всасывания жиров остается всего около 50 см тонкой кишки. Поэтому ведущим механизмом снижения веса при этой операции является очень существенное снижение всасывания питательных вещест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Операция дает 90 % снижение избыточной массы тела и 100% эффективность при СД 2 и гиперхолестериномии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8" name="Picture 2" descr="C:\Users\nikulin_as\Pictures\билиопанк.jpg"/>
          <p:cNvPicPr/>
          <p:nvPr/>
        </p:nvPicPr>
        <p:blipFill>
          <a:blip r:embed="rId1"/>
          <a:stretch/>
        </p:blipFill>
        <p:spPr>
          <a:xfrm>
            <a:off x="5435640" y="1052640"/>
            <a:ext cx="266076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486720" y="620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Практические результаты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1" name="Picture 7" descr="C:\Users\nikulin_as\Pictures\Бариатрия\до после1.jpg"/>
          <p:cNvPicPr/>
          <p:nvPr/>
        </p:nvPicPr>
        <p:blipFill>
          <a:blip r:embed="rId1"/>
          <a:stretch/>
        </p:blipFill>
        <p:spPr>
          <a:xfrm>
            <a:off x="0" y="2708280"/>
            <a:ext cx="4676760" cy="3314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C:\Users\nikulin_as\Pictures\Бариатрия\до после 3.gif"/>
          <p:cNvPicPr/>
          <p:nvPr/>
        </p:nvPicPr>
        <p:blipFill>
          <a:blip r:embed="rId2"/>
          <a:stretch/>
        </p:blipFill>
        <p:spPr>
          <a:xfrm>
            <a:off x="5076720" y="692280"/>
            <a:ext cx="3733920" cy="398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4" name="Picture 2" descr="C:\Users\nikulin_as\Pictures\Бариатрия\до.jpg"/>
          <p:cNvPicPr/>
          <p:nvPr/>
        </p:nvPicPr>
        <p:blipFill>
          <a:blip r:embed="rId1"/>
          <a:stretch/>
        </p:blipFill>
        <p:spPr>
          <a:xfrm>
            <a:off x="468360" y="1557360"/>
            <a:ext cx="2054160" cy="27352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"/>
          <p:cNvSpPr/>
          <p:nvPr/>
        </p:nvSpPr>
        <p:spPr>
          <a:xfrm>
            <a:off x="54900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397040" y="83664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ВАМ ЭТО НУЖНО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47" name="Picture 4" descr="C:\Users\nikulin_as\Pictures\Бариатрия\после1.jpg"/>
          <p:cNvPicPr/>
          <p:nvPr/>
        </p:nvPicPr>
        <p:blipFill>
          <a:blip r:embed="rId2"/>
          <a:stretch/>
        </p:blipFill>
        <p:spPr>
          <a:xfrm>
            <a:off x="3348000" y="1268280"/>
            <a:ext cx="391320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195640" y="692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?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6014160" y="692280"/>
            <a:ext cx="2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2328840"/>
            <a:ext cx="8572320" cy="9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aaa5"/>
                </a:solidFill>
                <a:latin typeface="Arial Narrow"/>
              </a:rPr>
              <a:t>Благодарю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928600"/>
            <a:ext cx="39607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Наш адрес: 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660037 г.Красноярск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ул.Коломенская 2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т. (391) 242-41-66</a:t>
            </a:r>
            <a:br>
              <a:rPr sz="2400"/>
            </a:br>
            <a:r>
              <a:rPr b="1" lang="ru-RU" sz="2400" spc="-1" strike="noStrike">
                <a:solidFill>
                  <a:srgbClr val="00aaa5"/>
                </a:solidFill>
                <a:latin typeface="Arial Narrow"/>
              </a:rPr>
              <a:t>             257-93-06</a:t>
            </a:r>
            <a:br>
              <a:rPr sz="2400"/>
            </a:br>
            <a:r>
              <a:rPr b="1" lang="en-US" sz="24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www.skc-fmba.ru</a:t>
            </a:r>
            <a:br>
              <a:rPr sz="2400"/>
            </a:br>
            <a:r>
              <a:rPr b="1" lang="en-US" sz="2400" spc="-1" strike="noStrike">
                <a:solidFill>
                  <a:srgbClr val="00aaa5"/>
                </a:solidFill>
                <a:latin typeface="Arial Narrow"/>
              </a:rPr>
              <a:t>e-mail: </a:t>
            </a:r>
            <a:br>
              <a:rPr sz="2400"/>
            </a:b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kartashkov_ev@skc-fmba.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ятно 2 4"/>
          <p:cNvSpPr/>
          <p:nvPr/>
        </p:nvSpPr>
        <p:spPr>
          <a:xfrm>
            <a:off x="1857240" y="1000080"/>
            <a:ext cx="1000440" cy="8571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698760" y="69228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aaa5"/>
                </a:solidFill>
                <a:latin typeface="Arial Narrow"/>
              </a:rPr>
              <a:t>Задумались?</a:t>
            </a:r>
            <a:endParaRPr b="1" lang="en-US" sz="2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00000" y="1484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аше здоровье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438800" y="14842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в  Ваших руках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slow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0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20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раздел медицины, занимающийся лечением избыточной массы тела. Хотя в целом термин «бариатрия» можно правомерно использовать по отношению к любым способам снижения лишнего веса (например диетологии, медикаментозным способам лечения) однако исторически сложилось так, что когда говорят о бариатрических методиках, прежде всего имеют в виду хирургию лишнего веса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539640" y="6922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aaa5"/>
                </a:solidFill>
                <a:uFillTx/>
                <a:latin typeface="Arial Narrow"/>
              </a:rPr>
              <a:t>Бариатрия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(от 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др.-греч.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 βάρος —</a:t>
            </a:r>
            <a:r>
              <a:rPr b="1" lang="ru-RU" sz="18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вес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, тяжесть, и ἰατρεία — </a:t>
            </a:r>
            <a:r>
              <a:rPr b="1" lang="ru-RU" sz="1800" spc="-1" strike="noStrike" u="sng">
                <a:solidFill>
                  <a:srgbClr val="ffc000"/>
                </a:solidFill>
                <a:uFillTx/>
                <a:latin typeface="Arial Narrow"/>
              </a:rPr>
              <a:t>лечение</a:t>
            </a: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)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96" name="Рисунок 5" descr="C:\Users\nikulin_as\Pictures\Бариатрия\до и после  динамика.bmp"/>
          <p:cNvPicPr/>
          <p:nvPr/>
        </p:nvPicPr>
        <p:blipFill>
          <a:blip r:embed="rId3"/>
          <a:srcRect l="65073" t="0" r="0" b="277"/>
          <a:stretch/>
        </p:blipFill>
        <p:spPr>
          <a:xfrm>
            <a:off x="395280" y="3357720"/>
            <a:ext cx="12747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:\Users\nikulin_as\Pictures\Бариатрия\до и после  динамика.bmp"/>
          <p:cNvPicPr/>
          <p:nvPr/>
        </p:nvPicPr>
        <p:blipFill>
          <a:blip r:embed="rId4"/>
          <a:srcRect l="28428" t="0" r="34080" b="277"/>
          <a:stretch/>
        </p:blipFill>
        <p:spPr>
          <a:xfrm>
            <a:off x="1692360" y="3357720"/>
            <a:ext cx="142380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C:\Users\nikulin_as\Pictures\Бариатрия\до и после  динамика.bmp"/>
          <p:cNvPicPr/>
          <p:nvPr/>
        </p:nvPicPr>
        <p:blipFill>
          <a:blip r:embed="rId5"/>
          <a:srcRect l="0" t="0" r="69243" b="-256"/>
          <a:stretch/>
        </p:blipFill>
        <p:spPr>
          <a:xfrm>
            <a:off x="3059280" y="3357720"/>
            <a:ext cx="1152360" cy="2523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95280" y="69984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На сегодняшний день каждый десятый житель планеты страдает избыточной массой тела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01" name="Picture 2" descr="C:\Users\nikulin_as\Pictures\Бариатрия\до 2.jpg"/>
          <p:cNvPicPr/>
          <p:nvPr/>
        </p:nvPicPr>
        <p:blipFill>
          <a:blip r:embed="rId1"/>
          <a:stretch/>
        </p:blipFill>
        <p:spPr>
          <a:xfrm>
            <a:off x="395280" y="1557360"/>
            <a:ext cx="3143160" cy="237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nikulin_as\Pictures\Бариатрия\до 3.jpg"/>
          <p:cNvPicPr/>
          <p:nvPr/>
        </p:nvPicPr>
        <p:blipFill>
          <a:blip r:embed="rId2"/>
          <a:stretch/>
        </p:blipFill>
        <p:spPr>
          <a:xfrm>
            <a:off x="493236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nikulin_as\Pictures\Бариатрия\до 1.jpg"/>
          <p:cNvPicPr/>
          <p:nvPr/>
        </p:nvPicPr>
        <p:blipFill>
          <a:blip r:embed="rId3"/>
          <a:stretch/>
        </p:blipFill>
        <p:spPr>
          <a:xfrm>
            <a:off x="2987640" y="2205000"/>
            <a:ext cx="2394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484200" y="554400"/>
            <a:ext cx="79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5 факторов почему Вам это нужно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1410840"/>
            <a:ext cx="752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1. По данным Всемирной организации здравоохранения до 60 лет доживают только 60% тучных людей, до 70 лет - лишь 30%, до 80% - всего 10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2. Подсчитано: 1 кг жировой массы влечет за собой формирование 300 км (!) дополнительных кровеносных капилляров, что приводит к излишней работе сердца и его быстрому изнашиванию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3. У 80% страдающих ожирением имеются патологические изменения сердечно-сосудистой системы, и в первую очередь - повышение артериального давления. Даже при первой, начальной степени ожирения атеросклероз встречается у каждого третьего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4. Превышение оптимального веса на каждый 1% дает увеличение риска заболеваний: сердечно-сосудистых на 3%, эндокринной системы на 2.5%, сахарного диабета на 2%, и онкологических заболеваний на 1%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  <a:ea typeface="Times New Roman"/>
              </a:rPr>
              <a:t>5.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 Превышение массы тела по сравнению с нормой на 10% увеличивает смертность в среднем на 30%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68360" y="772920"/>
            <a:ext cx="519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aa5"/>
                </a:solidFill>
                <a:latin typeface="Arial"/>
              </a:rPr>
              <a:t>Медицинские последствия ожирен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468360" y="177336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ртериальная гиперто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Сахарный диабет 2 тип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елчекаменная   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Заболевания ЖК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Дисфункция яичник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енозная недостаточност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иквикский синдром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Жировая дистрофия печен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Панкреа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стеоарт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3635280" y="1773360"/>
            <a:ext cx="3745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Атеросклероз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Онкологические заболеван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Увеличение риска операций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Кожно- жировые фартуки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Внутричерепная гипертензия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Гастроэзофагеальная рефлюксная болезнь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Болезни суставов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нсуль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Ишемическая болезнь сердц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99"/>
                </a:solidFill>
                <a:latin typeface="Arial Narrow"/>
              </a:rPr>
              <a:t>Холецистит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611280" y="620640"/>
            <a:ext cx="79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На сегодняшний день морбидное ожирение принимает характер эпидемии. Количество связанных заболеваний и стоимость их лечения накладывают огромную нагрузку на общественное здравоохранение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риатрическая хирургия является </a:t>
            </a:r>
            <a:r>
              <a:rPr b="1" lang="ru-RU" sz="1600" spc="-1" strike="noStrike" u="sng">
                <a:solidFill>
                  <a:srgbClr val="a24308"/>
                </a:solidFill>
                <a:uFillTx/>
                <a:latin typeface="Arial Narrow"/>
              </a:rPr>
              <a:t>наиболее эффективным средством 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долгосрочного снижения веса и избавления от сопутствующих заболеваний!</a:t>
            </a: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684360" y="2276640"/>
            <a:ext cx="748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лишнего веса стремительно завоевывает признание в течение последнего десятилетия. Ее роль и метаболические последствия характеризуются как положительные в разных странах по всему миру. Данные наблюдений предполагают, что бариатрическая хирургия приводит к полному исцелению ожирения у 60-80% оперируемых. Большинство сочетанных заболеваний может быть предотвращено или излечено с помощью бариатрической хирургии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злечение от диабета зависит от типа операции: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47-70 % больных излечиваются после рестриктивных процедур;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80-98 % – после желудочного шунтирования;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92-100 % – после билиопанкреатического шунтирования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4" name="Picture 1" descr="C:\Users\nikulin_as\Pictures\Бариатрия\после2.jpg"/>
          <p:cNvPicPr/>
          <p:nvPr/>
        </p:nvPicPr>
        <p:blipFill>
          <a:blip r:embed="rId1"/>
          <a:stretch/>
        </p:blipFill>
        <p:spPr>
          <a:xfrm>
            <a:off x="6516720" y="3573360"/>
            <a:ext cx="1617480" cy="24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8"/>
          <p:cNvSpPr/>
          <p:nvPr/>
        </p:nvSpPr>
        <p:spPr>
          <a:xfrm>
            <a:off x="468360" y="18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569880" y="836640"/>
            <a:ext cx="43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Тратите деньги на таблетки для похудения?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3656160" y="1989000"/>
            <a:ext cx="384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 семи случаях из десяти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вес возвращается. 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чем с положительной динамикой роста!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18" name="Picture 3" descr="C:\Users\nikulin_as\Pictures\гора таблеток.jpg"/>
          <p:cNvPicPr/>
          <p:nvPr/>
        </p:nvPicPr>
        <p:blipFill>
          <a:blip r:embed="rId1"/>
          <a:stretch/>
        </p:blipFill>
        <p:spPr>
          <a:xfrm>
            <a:off x="684360" y="1628640"/>
            <a:ext cx="2708280" cy="2211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3861000" y="299736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aa5"/>
                </a:solidFill>
                <a:latin typeface="Arial Narrow"/>
              </a:rPr>
              <a:t>Задумайтесь !</a:t>
            </a:r>
            <a:endParaRPr b="1" lang="en-US" sz="32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505320" y="1557360"/>
            <a:ext cx="22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Исследования  показали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8"/>
          <p:cNvSpPr/>
          <p:nvPr/>
        </p:nvSpPr>
        <p:spPr>
          <a:xfrm>
            <a:off x="539640" y="981000"/>
            <a:ext cx="784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Хирургия – единственный способ лечения, позволяющий достичь значительного снижения веса у пациентов с серьезным ожирением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3" name="Прямоугольник 10"/>
          <p:cNvSpPr/>
          <p:nvPr/>
        </p:nvSpPr>
        <p:spPr>
          <a:xfrm>
            <a:off x="539640" y="206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Многолетний опыт показал, что наиболее эффективными операциями с устойчивым стабильным результатом являются: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4" name="Прямоугольник 11"/>
          <p:cNvSpPr/>
          <p:nvPr/>
        </p:nvSpPr>
        <p:spPr>
          <a:xfrm>
            <a:off x="4500720" y="256536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бандажирование желудка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2"/>
              </a:rPr>
              <a:t>желудочн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3"/>
              </a:rPr>
              <a:t>билиопанкреатическое шунтирование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25" name="Picture 3" descr="C:\Users\nikulin_as\Pictures\шунт 2.jpg"/>
          <p:cNvPicPr/>
          <p:nvPr/>
        </p:nvPicPr>
        <p:blipFill>
          <a:blip r:embed="rId4"/>
          <a:stretch/>
        </p:blipFill>
        <p:spPr>
          <a:xfrm>
            <a:off x="0" y="2637000"/>
            <a:ext cx="4511520" cy="323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8"/>
          <p:cNvSpPr/>
          <p:nvPr/>
        </p:nvSpPr>
        <p:spPr>
          <a:xfrm>
            <a:off x="477000" y="189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aa5"/>
                </a:solidFill>
                <a:latin typeface="Arial Narrow"/>
              </a:rPr>
              <a:t>Бариатрия</a:t>
            </a:r>
            <a:endParaRPr b="1" lang="en-US" sz="24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558720" y="765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aaa5"/>
                </a:solidFill>
                <a:latin typeface="Arial Narrow"/>
              </a:rPr>
              <a:t>Бандажирование желудка</a:t>
            </a:r>
            <a:endParaRPr b="1" lang="en-US" sz="18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539640" y="126828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При бандажировании на верхнюю часть желудка накладывается регулируемое силиконовое кольцо Бандажирование желудка — наиболее безопасное и атравматичное оперативное вмешательство для пациента среди бариатрических операций. Бандажирование позволяет добиться снижения веса на 50-60 % от избыточной массы тела.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11280" y="3141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Бандажирование желудка выполняется только </a:t>
            </a:r>
            <a:r>
              <a:rPr b="1" lang="ru-RU" sz="1600" spc="-1" strike="noStrike" u="sng">
                <a:solidFill>
                  <a:srgbClr val="f98d43"/>
                </a:solidFill>
                <a:uFillTx/>
                <a:latin typeface="Arial Narrow"/>
                <a:hlinkClick r:id="rId1"/>
              </a:rPr>
              <a:t>лапароскопическим способом</a:t>
            </a:r>
            <a:r>
              <a:rPr b="1" lang="ru-RU" sz="1600" spc="-1" strike="noStrike">
                <a:solidFill>
                  <a:srgbClr val="00aaa5"/>
                </a:solidFill>
                <a:latin typeface="Arial Narrow"/>
              </a:rPr>
              <a:t>. Это означает, что все манипуляции, включая установку бандажа и наложение фиксирующих швов, делаются через пункционные проколы в брюшной стенке, без выполнения разрезов. </a:t>
            </a:r>
            <a:endParaRPr b="1" lang="en-US" sz="1600" spc="-1" strike="noStrike">
              <a:solidFill>
                <a:srgbClr val="00aaa5"/>
              </a:solidFill>
              <a:latin typeface="Arial Narrow"/>
            </a:endParaRPr>
          </a:p>
        </p:txBody>
      </p:sp>
      <p:pic>
        <p:nvPicPr>
          <p:cNvPr id="130" name="Picture 9" descr="C:\Users\nikulin_as\Pictures\бандажирование.jpg"/>
          <p:cNvPicPr/>
          <p:nvPr/>
        </p:nvPicPr>
        <p:blipFill>
          <a:blip r:embed="rId2"/>
          <a:stretch/>
        </p:blipFill>
        <p:spPr>
          <a:xfrm>
            <a:off x="5364000" y="981000"/>
            <a:ext cx="30765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6,99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115,-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11:17:58Z</dcterms:created>
  <dc:creator>"Никулин А. С." &lt;nikulin_as@skc-fmba.ru&gt;</dc:creator>
  <dc:description/>
  <dc:language>en-US</dc:language>
  <cp:lastModifiedBy>LEGION</cp:lastModifiedBy>
  <dcterms:modified xsi:type="dcterms:W3CDTF">2014-11-06T13:15:55Z</dcterms:modified>
  <cp:revision>201</cp:revision>
  <dc:subject/>
  <dc:title>Итоги 2009 года</dc:title>
</cp:coreProperties>
</file>