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7BAE-0C1C-42FE-9606-967CD32AFD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иат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112B-A059-4CD6-B5B4-8355AA378E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лудочн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лудок прошивается титановыми скрепками, тем самым он разделяется на два отдела: маленький, объемом 50 мл, и большой (остальной желудок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маленькому желудку подшивается тонкая кишка коротким путе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человек после этой операции может съесть совсем мало, более того, значительная часть съеденной пищи проходит по короткому пути, тем самым снижается всасывание питательных вещест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операция дает 80 % снижение избыточной масс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1B5F-57DB-461D-873B-3F3B93861A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иопанкреатическ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билиопанкреатическом шунтировании желудок также прошивается скрепками и к полученному малому желудку подшивается тонкая кишка. Отличия от желудочного шунтирования заключаются в том, что объем малого желудка составляет не 50, а 200 мл, но самое главное, что тонкая кишка подшивается по совсем короткому пути — так, что для всасывания жиров остается всего около 50 см тонкой кишки. Поэтому ведущим механизмом снижения веса при этой операции является очень существенное снижение всасывания питательных вещест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я дает 90 % снижение избыточной массы тела и 100% эффективность при СД 2 и гиперхолестерином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090E-86C6-45C1-86B2-3C566E10CE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716D-9A36-4B4C-820F-E9A07AE1E8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aaa5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Бариатр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aaa5"/>
                </a:solidFill>
                <a:latin typeface="Times New Roman"/>
              </a:rPr>
              <a:t>раздел медицины, занимающийся лечением избыточной массы тела. Хотя в целом термин «бариатрия» можно правомерно использовать по отношению к любым способам снижения лишнего веса (например диетологии, медикаментозным способам лечения) однако исторически сложилось так, что когда говорят о бариатрических методиках, прежде всего имеют в виду хирургию лишнего веса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6F15-38BB-4D1F-AB64-F53419E2C7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егодняшний день каждый десятый житель планеты страдает избыточной массой т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5851-F273-4729-981D-741AB68C83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 факторов почему Вам это нуж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данным Всемирной организации здравоохранения до 60 лет доживают только 60% тучных людей, до 70 лет - лишь 30%, до 80% - всего 1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считано: 1 кг жировой массы влечет за собой формирование 300 км (!) дополнительных кровеносных капилляров, что приводит к излишней работе сердца и его быстрому изнашива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 80% страдающих ожирением имеются патологические изменения сердечно-сосудистой системы, и в первую очередь - повышение артериального давления. Даже при первой, начальной степени ожирения атеросклероз встречается у каждого треть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евышение оптимального веса на каждый 1% дает увеличение риска заболеваний: сердечно-сосудистых на 3%, эндокринной системы на 2.5%, сахарного диабета на 2%, и онкологических заболеваний на 1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вышение массы тела по сравнению с нормой на 10% увеличивает смертность в среднем на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6F1B-E44D-465A-A4D3-7E3EE5AF9F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ицинские последствия ожир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Артериальная гиперто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Сахарный диабет 2 ти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Желчекаменная    боле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Заболевания Ж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Дисфункция яич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Венозная недостаточ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Пиквикский синдр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Жировая дистрофия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Панкреат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Остеоартр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Атеросклер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Онкологические заболе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Увеличение риска опер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Кожно- жировые фарту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Внутричерепная гипертенз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Гастроэзофагеальная рефлюксная боле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Болезни суста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Инсуль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Ишемическая болезнь серд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Холецист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9D15-6691-46BA-9AF6-2519C0E742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егодняшний день морбидное ожирение принимает характер эпидемии. Количество связанных заболеваний и стоимость их лечения накладывают огромную нагрузку на общественное здравоохран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иатрическая хирургия является </a:t>
            </a:r>
            <a:r>
              <a:rPr b="0" lang="ru-RU" sz="1200" spc="-1" strike="noStrike" u="sng">
                <a:solidFill>
                  <a:srgbClr val="a24308"/>
                </a:solidFill>
                <a:uFillTx/>
                <a:latin typeface="Times New Roman"/>
              </a:rPr>
              <a:t>наиболее эффективным средство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госрочного снижения веса и избавления от сопутствующих заболеваний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рургия лишнего веса стремительно завоевывает признание в течение последнего десятилетия. Ее роль и метаболические последствия характеризуются как положительные в разных странах по всему миру. Данные наблюдений предполагают, что бариатрическая хирургия приводит к полному исцелению ожирения у 60-80% оперируемых. Большинство сочетанных заболеваний может быть предотвращено или излечено с помощью бариатрической хирург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лечение от диабета зависит от типа операц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7-70 % больных излечиваются после рестриктивных процеду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-98 % – после желудочного шунтирования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2-100 % – после билиопанкреатического шунтировани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380F-BA9C-4083-8CC1-AD2989F3C2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тите деньги на таблетки для похуд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я  показали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еми случаях из деся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 возвращается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ем с положительной динамикой роста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4BF2-8B0D-4948-A513-D0082356BF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рургия – единственный способ лечения, позволяющий достичь значительного снижения веса у пациентов с серьезным ожире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летний опыт показал, что наиболее эффективными операциями с устойчивым стабильным результатом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дажирование желуд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лудочн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иопанкреатическ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E900-93FD-490B-9AB0-25482B37EE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дажирование желуд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бандажировании на верхнюю часть желудка накладывается регулируемое силиконовое кольцо Бандажирование желудка — наиболее безопасное и атравматичное оперативное вмешательство для пациента среди бариатрических операций. Бандажирование позволяет добиться снижения веса на 50-60 % от избыточной масс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дажирование желудка выполняется только лапароскопическим способом. Это означает, что все манипуляции, включая установку бандажа и наложение фиксирующих швов, делаются через пункционные проколы в брюшной стенке, без выполнения разрез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143C-2A86-46E6-941D-E2EE9E2F37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56E4-CFD4-4752-86DF-429033E0B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A722-07DE-4C00-90D2-3110914D2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F584-7684-47B1-937C-A876F98EE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286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52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6286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52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F605-F151-4889-B739-587B31EB9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70320"/>
            <a:ext cx="777240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948F-0ACC-4740-A780-6B0F8E5DE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286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852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56286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852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D1F50-DA8F-487F-A375-6D0744E81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ED90-CCA6-4551-9D6E-B40CD7DBE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3DF2B-9E48-4E3D-A815-527A29177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70320"/>
            <a:ext cx="777240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A8D0C-4E78-4C22-89A5-911D2C0ED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50B2-A899-4DEA-9D6B-A225E8CD2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12B10-7ECC-47C8-87F0-714302F5A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123B-CC89-4A9D-A441-ED1135439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S4\SKC\STYLE\Brend-book\Технологические файлы\Шаблон электронной презентации\Графика\4-04_150_Электронная презентация_страниц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24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24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2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34160" y="6248520"/>
            <a:ext cx="407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189B-CE22-401B-B5DC-0A3D036F7A1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572000" y="18288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2362320" y="11430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S4\SKC\STYLE\Brend-book\Технологические файлы\Шаблон электронной презентации\Графика\4-04_150_Электронная презентация_страниц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4572000" y="18288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362320" y="11430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45" name="Picture 2" descr="E:\S4\SKC\STYLE\Brend-book\Технологические файлы\Шаблон электронной презентации\Графика\4-04_Электронная презентация_обложка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24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24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2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kc-fmba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2" Type="http://schemas.openxmlformats.org/officeDocument/2006/relationships/hyperlink" Target="http://ru.wikipedia.org/wiki/&#1042;&#1077;&#1089;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85;&#1076;&#1072;&#1078;&#1080;&#1088;&#1086;&#1074;&#1072;&#1085;&#1080;&#1077;_&#1078;&#1077;&#1083;&#1091;&#1076;&#1082;&#1072;" TargetMode="External"/><Relationship Id="rId2" Type="http://schemas.openxmlformats.org/officeDocument/2006/relationships/hyperlink" Target="http://ru.wikipedia.org/wiki/&#1046;&#1077;&#1083;&#1091;&#1076;&#1086;&#1095;&#1085;&#1086;&#1077;_&#1096;&#1091;&#1085;&#1090;&#1080;&#1088;&#1086;&#1074;&#1072;&#1085;&#1080;&#1077;" TargetMode="External"/><Relationship Id="rId3" Type="http://schemas.openxmlformats.org/officeDocument/2006/relationships/hyperlink" Target="http://ru.wikipedia.org/w/index.php?title=&#1041;&#1080;&#1083;&#1080;&#1086;&#1087;&#1072;&#1085;&#1082;&#1088;&#1077;&#1072;&#1090;&#1080;&#1095;&#1077;&#1089;&#1082;&#1086;&#1077;_&#1096;&#1091;&#1085;&#1090;&#1080;&#1088;&#1086;&#1074;&#1072;&#1085;&#1080;&#1077;&amp;action=edit&amp;redlink=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87;&#1072;&#1088;&#1086;&#1089;&#1082;&#1086;&#1087;&#1080;&#1103;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5157360"/>
            <a:ext cx="3888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485"/>
                </a:solidFill>
                <a:latin typeface="Arial Narrow"/>
              </a:rPr>
              <a:t>Бариатр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2" descr="IMG_0217.jpg"/>
          <p:cNvPicPr/>
          <p:nvPr/>
        </p:nvPicPr>
        <p:blipFill>
          <a:blip r:embed="rId1"/>
          <a:stretch/>
        </p:blipFill>
        <p:spPr>
          <a:xfrm>
            <a:off x="3635280" y="692280"/>
            <a:ext cx="4276800" cy="4968720"/>
          </a:xfrm>
          <a:prstGeom prst="rect">
            <a:avLst/>
          </a:prstGeom>
          <a:ln w="38160">
            <a:solidFill>
              <a:srgbClr val="123336"/>
            </a:solidFill>
            <a:miter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559440" y="76500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Желудочное шунтирование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324000" y="1413000"/>
            <a:ext cx="4535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Желудок прошивается титановыми скрепками, тем самым он разделяется на два отдела: маленький, объемом 50 мл, и большой (остальной желудок)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К маленькому желудку подшивается тонкая кишка коротким путем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Таким образом, человек после этой операции может съесть совсем мало, более того, значительная часть съеденной пищи проходит по короткому пути, тем самым снижается всасывание питательных веществ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Эта операция дает 80 % снижение избыточной массы тела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34" name="Picture 3" descr="C:\Users\nikulin_as\Pictures\шунтир.png"/>
          <p:cNvPicPr/>
          <p:nvPr/>
        </p:nvPicPr>
        <p:blipFill>
          <a:blip r:embed="rId1"/>
          <a:stretch/>
        </p:blipFill>
        <p:spPr>
          <a:xfrm>
            <a:off x="4788000" y="1125360"/>
            <a:ext cx="3462120" cy="3654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565200" y="76500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Билиопанкреатическое шунтирование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539640" y="1197000"/>
            <a:ext cx="4572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При билиопанкреатическом шунтировании желудок также прошивается скрепками и к полученному малому желудку подшивается тонкая кишка. Отличия от желудочного шунтирования заключаются в том, что объем малого желудка составляет не 50, а 200 мл, но самое главное, что тонкая кишка подшивается по совсем короткому пути — так, что для всасывания жиров остается всего около 50 см тонкой кишки. Поэтому ведущим механизмом снижения веса при этой операции является очень существенное снижение всасывания питательных веществ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Операция дает 90 % снижение избыточной массы тела и 100% эффективность при СД 2 и гиперхолестериномии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38" name="Picture 2" descr="C:\Users\nikulin_as\Pictures\билиопанк.jpg"/>
          <p:cNvPicPr/>
          <p:nvPr/>
        </p:nvPicPr>
        <p:blipFill>
          <a:blip r:embed="rId1"/>
          <a:stretch/>
        </p:blipFill>
        <p:spPr>
          <a:xfrm>
            <a:off x="5435640" y="1052640"/>
            <a:ext cx="2660760" cy="388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8"/>
          <p:cNvSpPr/>
          <p:nvPr/>
        </p:nvSpPr>
        <p:spPr>
          <a:xfrm>
            <a:off x="468360" y="18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486720" y="62064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Практические результаты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41" name="Picture 7" descr="C:\Users\nikulin_as\Pictures\Бариатрия\до после1.jpg"/>
          <p:cNvPicPr/>
          <p:nvPr/>
        </p:nvPicPr>
        <p:blipFill>
          <a:blip r:embed="rId1"/>
          <a:stretch/>
        </p:blipFill>
        <p:spPr>
          <a:xfrm>
            <a:off x="0" y="2708280"/>
            <a:ext cx="4676760" cy="3314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C:\Users\nikulin_as\Pictures\Бариатрия\до после 3.gif"/>
          <p:cNvPicPr/>
          <p:nvPr/>
        </p:nvPicPr>
        <p:blipFill>
          <a:blip r:embed="rId2"/>
          <a:stretch/>
        </p:blipFill>
        <p:spPr>
          <a:xfrm>
            <a:off x="5076720" y="692280"/>
            <a:ext cx="3733920" cy="3981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8"/>
          <p:cNvSpPr/>
          <p:nvPr/>
        </p:nvSpPr>
        <p:spPr>
          <a:xfrm>
            <a:off x="468360" y="18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44" name="Picture 2" descr="C:\Users\nikulin_as\Pictures\Бариатрия\до.jpg"/>
          <p:cNvPicPr/>
          <p:nvPr/>
        </p:nvPicPr>
        <p:blipFill>
          <a:blip r:embed="rId1"/>
          <a:stretch/>
        </p:blipFill>
        <p:spPr>
          <a:xfrm>
            <a:off x="468360" y="1557360"/>
            <a:ext cx="2054160" cy="273528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3"/>
          <p:cNvSpPr/>
          <p:nvPr/>
        </p:nvSpPr>
        <p:spPr>
          <a:xfrm>
            <a:off x="549000" y="83664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ВАМ ЭТО НУЖНО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4397040" y="83664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ВАМ ЭТО НУЖНО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47" name="Picture 4" descr="C:\Users\nikulin_as\Pictures\Бариатрия\после1.jpg"/>
          <p:cNvPicPr/>
          <p:nvPr/>
        </p:nvPicPr>
        <p:blipFill>
          <a:blip r:embed="rId2"/>
          <a:stretch/>
        </p:blipFill>
        <p:spPr>
          <a:xfrm>
            <a:off x="3348000" y="1268280"/>
            <a:ext cx="3913200" cy="439272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7"/>
          <p:cNvSpPr/>
          <p:nvPr/>
        </p:nvSpPr>
        <p:spPr>
          <a:xfrm>
            <a:off x="2195640" y="692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?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49" name="Прямоугольник 9"/>
          <p:cNvSpPr/>
          <p:nvPr/>
        </p:nvSpPr>
        <p:spPr>
          <a:xfrm>
            <a:off x="6014160" y="692280"/>
            <a:ext cx="2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!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5840" y="2328840"/>
            <a:ext cx="857232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aaa5"/>
                </a:solidFill>
                <a:latin typeface="Arial Narrow"/>
              </a:rPr>
              <a:t>Благодарю за внимание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ятно 2 4"/>
          <p:cNvSpPr/>
          <p:nvPr/>
        </p:nvSpPr>
        <p:spPr>
          <a:xfrm>
            <a:off x="1857240" y="1000080"/>
            <a:ext cx="1000440" cy="85716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2928600"/>
            <a:ext cx="39607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Наш адрес: 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660037 г.Красноярск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ул.Коломенская 26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т. (391) 242-41-66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             257-93-06</a:t>
            </a:r>
            <a:br>
              <a:rPr sz="2400"/>
            </a:br>
            <a:r>
              <a:rPr b="1" lang="en-US" sz="24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www.skc-fmba.ru</a:t>
            </a:r>
            <a:br>
              <a:rPr sz="2400"/>
            </a:br>
            <a:r>
              <a:rPr b="1" lang="en-US" sz="2400" spc="-1" strike="noStrike">
                <a:solidFill>
                  <a:srgbClr val="00aaa5"/>
                </a:solidFill>
                <a:latin typeface="Arial Narrow"/>
              </a:rPr>
              <a:t>e-mail: </a:t>
            </a:r>
            <a:br>
              <a:rPr sz="2400"/>
            </a:br>
            <a:r>
              <a:rPr b="1" lang="en-US" sz="2400" spc="-1" strike="noStrike">
                <a:solidFill>
                  <a:srgbClr val="ffc000"/>
                </a:solidFill>
                <a:latin typeface="Arial Narrow"/>
              </a:rPr>
              <a:t>kartashkov_ev@skc-fmba.r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ятно 2 4"/>
          <p:cNvSpPr/>
          <p:nvPr/>
        </p:nvSpPr>
        <p:spPr>
          <a:xfrm>
            <a:off x="1857240" y="1000080"/>
            <a:ext cx="1000440" cy="85716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698760" y="692280"/>
            <a:ext cx="21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aaa5"/>
                </a:solidFill>
                <a:latin typeface="Arial Narrow"/>
              </a:rPr>
              <a:t>Задумались?</a:t>
            </a:r>
            <a:endParaRPr b="1" lang="en-US" sz="2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900000" y="148428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Ваше здоровье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4438800" y="148428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в  Ваших руках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slow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70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7772400" cy="20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раздел медицины, занимающийся лечением избыточной массы тела. Хотя в целом термин «бариатрия» можно правомерно использовать по отношению к любым способам снижения лишнего веса (например диетологии, медикаментозным способам лечения) однако исторически сложилось так, что когда говорят о бариатрических методиках, прежде всего имеют в виду хирургию лишнего веса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539640" y="69228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aaa5"/>
                </a:solidFill>
                <a:uFillTx/>
                <a:latin typeface="Arial Narrow"/>
              </a:rPr>
              <a:t>Бариатрия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 (от </a:t>
            </a:r>
            <a:r>
              <a:rPr b="1" lang="ru-RU" sz="18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др.-греч.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 βάρος —</a:t>
            </a:r>
            <a:r>
              <a:rPr b="1" lang="ru-RU" sz="1800" spc="-1" strike="noStrike" u="sng">
                <a:solidFill>
                  <a:srgbClr val="f98d43"/>
                </a:solidFill>
                <a:uFillTx/>
                <a:latin typeface="Arial Narrow"/>
                <a:hlinkClick r:id="rId2"/>
              </a:rPr>
              <a:t>вес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, тяжесть, и ἰατρεία — </a:t>
            </a:r>
            <a:r>
              <a:rPr b="1" lang="ru-RU" sz="1800" spc="-1" strike="noStrike" u="sng">
                <a:solidFill>
                  <a:srgbClr val="ffc000"/>
                </a:solidFill>
                <a:uFillTx/>
                <a:latin typeface="Arial Narrow"/>
              </a:rPr>
              <a:t>лечение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)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96" name="Рисунок 5" descr="C:\Users\nikulin_as\Pictures\Бариатрия\до и после  динамика.bmp"/>
          <p:cNvPicPr/>
          <p:nvPr/>
        </p:nvPicPr>
        <p:blipFill>
          <a:blip r:embed="rId3"/>
          <a:srcRect l="65073" t="0" r="0" b="277"/>
          <a:stretch/>
        </p:blipFill>
        <p:spPr>
          <a:xfrm>
            <a:off x="395280" y="3357720"/>
            <a:ext cx="1274760" cy="25779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C:\Users\nikulin_as\Pictures\Бариатрия\до и после  динамика.bmp"/>
          <p:cNvPicPr/>
          <p:nvPr/>
        </p:nvPicPr>
        <p:blipFill>
          <a:blip r:embed="rId4"/>
          <a:srcRect l="28428" t="0" r="34080" b="277"/>
          <a:stretch/>
        </p:blipFill>
        <p:spPr>
          <a:xfrm>
            <a:off x="1692360" y="3357720"/>
            <a:ext cx="142380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C:\Users\nikulin_as\Pictures\Бариатрия\до и после  динамика.bmp"/>
          <p:cNvPicPr/>
          <p:nvPr/>
        </p:nvPicPr>
        <p:blipFill>
          <a:blip r:embed="rId5"/>
          <a:srcRect l="0" t="0" r="69243" b="-256"/>
          <a:stretch/>
        </p:blipFill>
        <p:spPr>
          <a:xfrm>
            <a:off x="3059280" y="3357720"/>
            <a:ext cx="1152360" cy="252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95280" y="69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"/>
              </a:rPr>
              <a:t>На сегодняшний день каждый десятый житель планеты страдает избыточной массой тела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01" name="Picture 2" descr="C:\Users\nikulin_as\Pictures\Бариатрия\до 2.jpg"/>
          <p:cNvPicPr/>
          <p:nvPr/>
        </p:nvPicPr>
        <p:blipFill>
          <a:blip r:embed="rId1"/>
          <a:stretch/>
        </p:blipFill>
        <p:spPr>
          <a:xfrm>
            <a:off x="395280" y="1557360"/>
            <a:ext cx="3143160" cy="2373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nikulin_as\Pictures\Бариатрия\до 3.jpg"/>
          <p:cNvPicPr/>
          <p:nvPr/>
        </p:nvPicPr>
        <p:blipFill>
          <a:blip r:embed="rId2"/>
          <a:stretch/>
        </p:blipFill>
        <p:spPr>
          <a:xfrm>
            <a:off x="4932360" y="34290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Users\nikulin_as\Pictures\Бариатрия\до 1.jpg"/>
          <p:cNvPicPr/>
          <p:nvPr/>
        </p:nvPicPr>
        <p:blipFill>
          <a:blip r:embed="rId3"/>
          <a:stretch/>
        </p:blipFill>
        <p:spPr>
          <a:xfrm>
            <a:off x="2987640" y="2205000"/>
            <a:ext cx="239400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84200" y="554400"/>
            <a:ext cx="799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"/>
              </a:rPr>
              <a:t>5 факторов почему Вам это нужно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250920" y="1410840"/>
            <a:ext cx="7524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1. По данным Всемирной организации здравоохранения до 60 лет доживают только 60% тучных людей, до 70 лет - лишь 30%, до 80% - всего 10%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2. Подсчитано: 1 кг жировой массы влечет за собой формирование 300 км (!) дополнительных кровеносных капилляров, что приводит к излишней работе сердца и его быстрому изнашиванию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3. У 80% страдающих ожирением имеются патологические изменения сердечно-сосудистой системы, и в первую очередь - повышение артериального давления. Даже при первой, начальной степени ожирения атеросклероз встречается у каждого третьего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4. Превышение оптимального веса на каждый 1% дает увеличение риска заболеваний: сердечно-сосудистых на 3%, эндокринной системы на 2.5%, сахарного диабета на 2%, и онкологических заболеваний на 1%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5.</a:t>
            </a: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 Превышение массы тела по сравнению с нормой на 10% увеличивает смертность в среднем на 30%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68360" y="772920"/>
            <a:ext cx="519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"/>
              </a:rPr>
              <a:t>Медицинские последствия ожирен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468360" y="1773360"/>
            <a:ext cx="316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Артериальная гипертония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Сахарный диабет 2 типа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Желчекаменная    болезнь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Заболевания ЖК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Дисфункция яичников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Венозная недостаточность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Пиквикский синдром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Жировая дистрофия печени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Панкреати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Остеоартроз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3635280" y="1773360"/>
            <a:ext cx="3745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Атеросклероз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Онкологические заболевания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Увеличение риска операций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Кожно- жировые фартуки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Внутричерепная гипертензия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Гастроэзофагеальная рефлюксная болезнь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Болезни суставов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Инсуль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Ишемическая болезнь сердца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Холецисти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4"/>
          <p:cNvSpPr/>
          <p:nvPr/>
        </p:nvSpPr>
        <p:spPr>
          <a:xfrm>
            <a:off x="611280" y="620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На сегодняшний день морбидное ожирение принимает характер эпидемии. Количество связанных заболеваний и стоимость их лечения накладывают огромную нагрузку на общественное здравоохранение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Бариатрическая хирургия является </a:t>
            </a:r>
            <a:r>
              <a:rPr b="1" lang="ru-RU" sz="1600" spc="-1" strike="noStrike" u="sng">
                <a:solidFill>
                  <a:srgbClr val="a24308"/>
                </a:solidFill>
                <a:uFillTx/>
                <a:latin typeface="Arial Narrow"/>
              </a:rPr>
              <a:t>наиболее эффективным средством </a:t>
            </a: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долгосрочного снижения веса и избавления от сопутствующих заболеваний!</a:t>
            </a:r>
            <a:br>
              <a:rPr sz="1600"/>
            </a:b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684360" y="2276640"/>
            <a:ext cx="7488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Хирургия лишнего веса стремительно завоевывает признание в течение последнего десятилетия. Ее роль и метаболические последствия характеризуются как положительные в разных странах по всему миру. Данные наблюдений предполагают, что бариатрическая хирургия приводит к полному исцелению ожирения у 60-80% оперируемых. Большинство сочетанных заболеваний может быть предотвращено или излечено с помощью бариатрической хирургии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Излечение от диабета зависит от типа операции: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47-70 % больных излечиваются после рестриктивных процедур;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80-98 % – после желудочного шунтирования; 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92-100 % – после билиопанкреатического шунтирования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14" name="Picture 1" descr="C:\Users\nikulin_as\Pictures\Бариатрия\после2.jpg"/>
          <p:cNvPicPr/>
          <p:nvPr/>
        </p:nvPicPr>
        <p:blipFill>
          <a:blip r:embed="rId1"/>
          <a:stretch/>
        </p:blipFill>
        <p:spPr>
          <a:xfrm>
            <a:off x="6516720" y="3573360"/>
            <a:ext cx="1617480" cy="242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8"/>
          <p:cNvSpPr/>
          <p:nvPr/>
        </p:nvSpPr>
        <p:spPr>
          <a:xfrm>
            <a:off x="468360" y="18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6" name="Прямоугольник 3"/>
          <p:cNvSpPr/>
          <p:nvPr/>
        </p:nvSpPr>
        <p:spPr>
          <a:xfrm>
            <a:off x="569880" y="836640"/>
            <a:ext cx="43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Тратите деньги на таблетки для похудения?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3656160" y="1989000"/>
            <a:ext cx="384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в семи случаях из десяти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вес возвращается. 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Причем с положительной динамикой роста!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18" name="Picture 3" descr="C:\Users\nikulin_as\Pictures\гора таблеток.jpg"/>
          <p:cNvPicPr/>
          <p:nvPr/>
        </p:nvPicPr>
        <p:blipFill>
          <a:blip r:embed="rId1"/>
          <a:stretch/>
        </p:blipFill>
        <p:spPr>
          <a:xfrm>
            <a:off x="684360" y="1628640"/>
            <a:ext cx="2708280" cy="22114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0"/>
          <p:cNvSpPr/>
          <p:nvPr/>
        </p:nvSpPr>
        <p:spPr>
          <a:xfrm>
            <a:off x="3861000" y="299736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Задумайтесь !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0" name="Прямоугольник 11"/>
          <p:cNvSpPr/>
          <p:nvPr/>
        </p:nvSpPr>
        <p:spPr>
          <a:xfrm>
            <a:off x="3505320" y="155736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Исследования  показали: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8"/>
          <p:cNvSpPr/>
          <p:nvPr/>
        </p:nvSpPr>
        <p:spPr>
          <a:xfrm>
            <a:off x="539640" y="98100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Хирургия – единственный способ лечения, позволяющий достичь значительного снижения веса у пациентов с серьезным ожирением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539640" y="2060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Многолетний опыт показал, что наиболее эффективными операциями с устойчивым стабильным результатом являются: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4" name="Прямоугольник 11"/>
          <p:cNvSpPr/>
          <p:nvPr/>
        </p:nvSpPr>
        <p:spPr>
          <a:xfrm>
            <a:off x="4500720" y="2565360"/>
            <a:ext cx="35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бандажирование желудка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2"/>
              </a:rPr>
              <a:t>желудочное шунтирование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3"/>
              </a:rPr>
              <a:t>билиопанкреатическое шунтирование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25" name="Picture 3" descr="C:\Users\nikulin_as\Pictures\шунт 2.jpg"/>
          <p:cNvPicPr/>
          <p:nvPr/>
        </p:nvPicPr>
        <p:blipFill>
          <a:blip r:embed="rId4"/>
          <a:stretch/>
        </p:blipFill>
        <p:spPr>
          <a:xfrm>
            <a:off x="0" y="2637000"/>
            <a:ext cx="4511520" cy="3233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558720" y="76500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Бандажирование желудка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8" name="Прямоугольник 10"/>
          <p:cNvSpPr/>
          <p:nvPr/>
        </p:nvSpPr>
        <p:spPr>
          <a:xfrm>
            <a:off x="539640" y="126828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При бандажировании на верхнюю часть желудка накладывается регулируемое силиконовое кольцо Бандажирование желудка — наиболее безопасное и атравматичное оперативное вмешательство для пациента среди бариатрических операций. Бандажирование позволяет добиться снижения веса на 50-60 % от избыточной массы тела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611280" y="314172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Бандажирование желудка выполняется только </a:t>
            </a: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лапароскопическим способом</a:t>
            </a: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. Это означает, что все манипуляции, включая установку бандажа и наложение фиксирующих швов, делаются через пункционные проколы в брюшной стенке, без выполнения разрезов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30" name="Picture 9" descr="C:\Users\nikulin_as\Pictures\бандажирование.jpg"/>
          <p:cNvPicPr/>
          <p:nvPr/>
        </p:nvPicPr>
        <p:blipFill>
          <a:blip r:embed="rId2"/>
          <a:stretch/>
        </p:blipFill>
        <p:spPr>
          <a:xfrm>
            <a:off x="5364000" y="981000"/>
            <a:ext cx="307656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1:17:58Z</dcterms:created>
  <dc:creator>"Никулин А. С." &lt;nikulin_as@skc-fmba.ru&gt;</dc:creator>
  <dc:description/>
  <dc:language>en-US</dc:language>
  <cp:lastModifiedBy>LEGION</cp:lastModifiedBy>
  <dcterms:modified xsi:type="dcterms:W3CDTF">2014-11-06T13:15:55Z</dcterms:modified>
  <cp:revision>201</cp:revision>
  <dc:subject/>
  <dc:title>Итоги 2009 года</dc:title>
</cp:coreProperties>
</file>