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6485-A860-4631-AE73-F90E037DC5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аботу выполни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ченик 7 кла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емьянов Ден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A76A-233E-4520-9608-F79BA7A527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- 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ода 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Trypanosoma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. Её иногда наз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фриканским трипаносомо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7C2F-1E74-48B3-95EE-EE5D3525DC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передается через ук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нфицированных мух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Цеце,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пространена в 36 странах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южнее пустыни Сах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6752-E052-42AD-BDD9-2C174F3162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иску заболевания подвергается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50 млн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Ежегодно фиксируется пример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25 тыс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новых случаев сонной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7C6B-6751-40D9-91B6-2377B13E83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два вида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8B7B-8080-4363-BA87-A6AB00DD537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Клинические проявления обеих форм со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езни сходны, но родезийский вариан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ьшинстве случаев протекает острее и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лечения может закончиться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через несколько месяцев или даже нед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Гамбийская форма прогрессирует медленно, и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елеченых случаях болезнь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родолжаться несколько лет, прежде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аступает летальный ис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1043-78A5-4E1C-8A3D-9241E23D55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ые симптомы, как правило, возникают через 1–3 недели после укуса мухи це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F2CF-BCB2-47FF-8135-C1FAC605FE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Главными клиническ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оявлениями станов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ильная головная 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хорадка, общая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 апатия, чрезме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нливость, двиг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стройства и кома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A91D-3D07-44A5-9415-19AA293AD5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B638-6CBA-40E8-A780-FB1E94AFC9C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20F-E1A0-44D8-B8BD-FB563A11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E45-6F78-45F8-BE07-92FC3E8A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726-3ACA-4938-BAD3-8B67EB9A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565-AD02-41D0-BC33-9A390645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33C1-0E13-48ED-8722-0427C8FE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DD3B-EAE0-4020-86F8-F69C7541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67D3-5389-46EC-A09C-F2DC3FCF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7D71-3541-4D9B-9F41-7ACAB463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659E-B5FD-4C46-BF1B-4EEC5BF0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C1D9-A8E3-4912-B245-47A9A194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CFAC-E229-4B6D-BBF0-C34C8C4C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30A-C307-4508-BF7B-2FF33840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1CF7-C1B2-4C8A-AFFB-A71864EE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E6A0-3280-4091-9AB9-3EA74588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EA02-C940-4F95-B487-E82E400C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1E6B-9913-425B-84C4-ED08C0D3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8ED9-9EF2-4A4A-841B-DDB1C2F0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A42-DB2B-42C1-B698-D59C2300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88B-F7A8-4AC6-8639-6C0B2FE4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236-B9AB-4D10-9B65-1C3F8F00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CF5-BFBF-4A89-A071-EF03C408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CE2-7CE1-41A0-879A-AC6B17E5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0AD-16DB-410E-88AD-6A5C2160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314-DF91-4A9B-9024-49BF7485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78C5-5897-4DEF-B293-EFD9BCCB11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1F13-CB76-44DE-824B-0392B1D166B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629040" y="57909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Работу выполн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Ученик 7 клас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емьянов Дени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WordArt 4"/>
          <p:cNvSpPr txBox="1"/>
          <p:nvPr/>
        </p:nvSpPr>
        <p:spPr>
          <a:xfrm>
            <a:off x="990720" y="2209680"/>
            <a:ext cx="7238880" cy="17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нная болезн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4"/>
          <p:cNvSpPr txBox="1"/>
          <p:nvPr/>
        </p:nvSpPr>
        <p:spPr>
          <a:xfrm>
            <a:off x="152280" y="1447920"/>
            <a:ext cx="876312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406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- заболев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ода 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Trypanosoma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 Её иногда назы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фриканским трипаносомоз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WordArt 4"/>
          <p:cNvSpPr txBox="1"/>
          <p:nvPr/>
        </p:nvSpPr>
        <p:spPr>
          <a:xfrm>
            <a:off x="2666880" y="228600"/>
            <a:ext cx="342900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это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6" name="Picture 5" descr="Trypanosoma_gambiense"/>
          <p:cNvPicPr/>
          <p:nvPr/>
        </p:nvPicPr>
        <p:blipFill>
          <a:blip r:embed="rId3"/>
          <a:stretch/>
        </p:blipFill>
        <p:spPr>
          <a:xfrm>
            <a:off x="609480" y="388620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397" name="Line 6"/>
          <p:cNvSpPr/>
          <p:nvPr/>
        </p:nvSpPr>
        <p:spPr>
          <a:xfrm flipV="1">
            <a:off x="3124080" y="4495680"/>
            <a:ext cx="2590920" cy="6098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9" descr="b_174_1"/>
          <p:cNvPicPr/>
          <p:nvPr/>
        </p:nvPicPr>
        <p:blipFill>
          <a:blip r:embed="rId4"/>
          <a:stretch/>
        </p:blipFill>
        <p:spPr>
          <a:xfrm>
            <a:off x="5791320" y="3657600"/>
            <a:ext cx="2705040" cy="2705040"/>
          </a:xfrm>
          <a:prstGeom prst="rect">
            <a:avLst/>
          </a:prstGeom>
          <a:ln w="0">
            <a:noFill/>
          </a:ln>
        </p:spPr>
      </p:pic>
      <p:sp>
        <p:nvSpPr>
          <p:cNvPr id="399" name="Oval 10"/>
          <p:cNvSpPr/>
          <p:nvPr/>
        </p:nvSpPr>
        <p:spPr>
          <a:xfrm>
            <a:off x="2438280" y="4952880"/>
            <a:ext cx="685800" cy="533520"/>
          </a:xfrm>
          <a:prstGeom prst="ellipse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333120" y="632448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трипаносо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передается через уку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нфицированных мух 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Цеце,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спространена в 36 странах Афр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южнее пустыни Саха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WordArt 4"/>
          <p:cNvSpPr txBox="1"/>
          <p:nvPr/>
        </p:nvSpPr>
        <p:spPr>
          <a:xfrm>
            <a:off x="1219320" y="304920"/>
            <a:ext cx="6629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передается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4" name="Picture 5" descr="2256498"/>
          <p:cNvPicPr/>
          <p:nvPr/>
        </p:nvPicPr>
        <p:blipFill>
          <a:blip r:embed="rId3"/>
          <a:stretch/>
        </p:blipFill>
        <p:spPr>
          <a:xfrm>
            <a:off x="53352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Muha_3"/>
          <p:cNvPicPr/>
          <p:nvPr/>
        </p:nvPicPr>
        <p:blipFill>
          <a:blip r:embed="rId4"/>
          <a:stretch/>
        </p:blipFill>
        <p:spPr>
          <a:xfrm>
            <a:off x="4419720" y="3319560"/>
            <a:ext cx="4419360" cy="315756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3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9"/>
          <p:cNvSpPr/>
          <p:nvPr/>
        </p:nvSpPr>
        <p:spPr>
          <a:xfrm>
            <a:off x="3032280" y="208908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52280" y="38088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иску заболевания подвергается д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50 млн.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челов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жегодно фиксируется примерн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25 тыс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овых случаев сонной болез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5770"/>
          <p:cNvPicPr/>
          <p:nvPr/>
        </p:nvPicPr>
        <p:blipFill>
          <a:blip r:embed="rId1"/>
          <a:stretch/>
        </p:blipFill>
        <p:spPr>
          <a:xfrm>
            <a:off x="304920" y="3276720"/>
            <a:ext cx="4762440" cy="3124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220px-Africa_satellite_plane"/>
          <p:cNvPicPr/>
          <p:nvPr/>
        </p:nvPicPr>
        <p:blipFill>
          <a:blip r:embed="rId2"/>
          <a:stretch/>
        </p:blipFill>
        <p:spPr>
          <a:xfrm>
            <a:off x="5715000" y="3048120"/>
            <a:ext cx="3257640" cy="3419280"/>
          </a:xfrm>
          <a:prstGeom prst="rect">
            <a:avLst/>
          </a:prstGeom>
          <a:ln w="0">
            <a:noFill/>
          </a:ln>
        </p:spPr>
      </p:pic>
      <p:sp>
        <p:nvSpPr>
          <p:cNvPr id="411" name="Oval 15"/>
          <p:cNvSpPr/>
          <p:nvPr/>
        </p:nvSpPr>
        <p:spPr>
          <a:xfrm>
            <a:off x="6324480" y="4191120"/>
            <a:ext cx="213372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6"/>
          <p:cNvSpPr/>
          <p:nvPr/>
        </p:nvSpPr>
        <p:spPr>
          <a:xfrm flipH="1">
            <a:off x="4571640" y="4876920"/>
            <a:ext cx="1523880" cy="152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два вида боле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WordArt 4"/>
          <p:cNvSpPr txBox="1"/>
          <p:nvPr/>
        </p:nvSpPr>
        <p:spPr>
          <a:xfrm>
            <a:off x="685800" y="22860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Сонной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Line 6"/>
          <p:cNvSpPr/>
          <p:nvPr/>
        </p:nvSpPr>
        <p:spPr>
          <a:xfrm flipH="1">
            <a:off x="2285640" y="3048120"/>
            <a:ext cx="1066680" cy="14475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5943600" y="3048120"/>
            <a:ext cx="914400" cy="13716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0" y="4724280"/>
            <a:ext cx="4495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Гамбийск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Западная и Централь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5334120" y="4724280"/>
            <a:ext cx="327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одезий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Восточ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8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Клинические проявления обеих форм с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езни сходны, но родезийский вариант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ьшинстве случаев протекает острее и б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лечения может закончиться смертью боль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через несколько месяцев или даже нед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Гамбийская форма прогрессирует медленно, и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елеченых случаях болезнь мож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продолжаться несколько лет, прежде ч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аступает летальный исх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Первые симптомы, как правило, возникают через 1–3 недели после укуса мухи цец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WordArt 4"/>
          <p:cNvSpPr txBox="1"/>
          <p:nvPr/>
        </p:nvSpPr>
        <p:spPr>
          <a:xfrm>
            <a:off x="609480" y="304920"/>
            <a:ext cx="76964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304920" y="2514600"/>
            <a:ext cx="266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 этой стадии, пока трипаносомы ещ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ходятся в крови, основные клин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оявления включают лихорадку, головн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боль, боли в суставах, мышечную дрож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овышенное потоотделение, зуд  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опреки названию болезни, бессон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9" descr="Muha_3"/>
          <p:cNvPicPr/>
          <p:nvPr/>
        </p:nvPicPr>
        <p:blipFill>
          <a:blip r:embed="rId3"/>
          <a:stretch/>
        </p:blipFill>
        <p:spPr>
          <a:xfrm>
            <a:off x="3048120" y="2286000"/>
            <a:ext cx="2349360" cy="1779480"/>
          </a:xfrm>
          <a:prstGeom prst="rect">
            <a:avLst/>
          </a:prstGeom>
          <a:ln w="0">
            <a:noFill/>
          </a:ln>
        </p:spPr>
      </p:pic>
      <p:sp>
        <p:nvSpPr>
          <p:cNvPr id="427" name="Line 10"/>
          <p:cNvSpPr/>
          <p:nvPr/>
        </p:nvSpPr>
        <p:spPr>
          <a:xfrm>
            <a:off x="5029200" y="4038480"/>
            <a:ext cx="1143000" cy="1143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Picture 12" descr="Trypanosoma3500"/>
          <p:cNvPicPr/>
          <p:nvPr/>
        </p:nvPicPr>
        <p:blipFill>
          <a:blip r:embed="rId4"/>
          <a:stretch/>
        </p:blipFill>
        <p:spPr>
          <a:xfrm>
            <a:off x="6324480" y="4419720"/>
            <a:ext cx="2590920" cy="2166840"/>
          </a:xfrm>
          <a:prstGeom prst="rect">
            <a:avLst/>
          </a:prstGeom>
          <a:ln w="0">
            <a:noFill/>
          </a:ln>
        </p:spPr>
      </p:pic>
      <p:sp>
        <p:nvSpPr>
          <p:cNvPr id="429" name="Oval 13"/>
          <p:cNvSpPr/>
          <p:nvPr/>
        </p:nvSpPr>
        <p:spPr>
          <a:xfrm>
            <a:off x="4419720" y="3581280"/>
            <a:ext cx="838080" cy="5335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14"/>
          <p:cNvSpPr/>
          <p:nvPr/>
        </p:nvSpPr>
        <p:spPr>
          <a:xfrm rot="2847600">
            <a:off x="4280400" y="485892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ahoma"/>
              </a:rPr>
              <a:t>Через некоторое время после уку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7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52280" y="236196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лавными клинически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оявлениями станов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ильная головная бол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хорадка, общая слаб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и апатия, чрезме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онливость, двиг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асстройства и ком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380880" y="304920"/>
            <a:ext cx="7848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тор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457200" y="6019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Если заболевание не лечить, смерть почти неизбежн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5228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</a:rPr>
              <a:t>На второй стадии трипаносомы уже проникли в центральную нервную систе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Picture 9" descr="39-083"/>
          <p:cNvPicPr/>
          <p:nvPr/>
        </p:nvPicPr>
        <p:blipFill>
          <a:blip r:embed="rId3"/>
          <a:stretch/>
        </p:blipFill>
        <p:spPr>
          <a:xfrm>
            <a:off x="6324480" y="2133720"/>
            <a:ext cx="2451240" cy="2695320"/>
          </a:xfrm>
          <a:prstGeom prst="rect">
            <a:avLst/>
          </a:prstGeom>
          <a:ln w="0">
            <a:noFill/>
          </a:ln>
        </p:spPr>
      </p:pic>
      <p:sp>
        <p:nvSpPr>
          <p:cNvPr id="437" name="Oval 10"/>
          <p:cNvSpPr/>
          <p:nvPr/>
        </p:nvSpPr>
        <p:spPr>
          <a:xfrm>
            <a:off x="6934320" y="2743200"/>
            <a:ext cx="1371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13" descr="39-082"/>
          <p:cNvPicPr/>
          <p:nvPr/>
        </p:nvPicPr>
        <p:blipFill>
          <a:blip r:embed="rId4"/>
          <a:stretch/>
        </p:blipFill>
        <p:spPr>
          <a:xfrm>
            <a:off x="3962520" y="2057400"/>
            <a:ext cx="2004840" cy="31338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4"/>
          <p:cNvSpPr/>
          <p:nvPr/>
        </p:nvSpPr>
        <p:spPr>
          <a:xfrm>
            <a:off x="4191120" y="52578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ahoma"/>
              </a:rPr>
              <a:t>Сонная болезнь высшего развит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WordArt 5"/>
          <p:cNvSpPr txBox="1"/>
          <p:nvPr/>
        </p:nvSpPr>
        <p:spPr>
          <a:xfrm>
            <a:off x="1981080" y="304920"/>
            <a:ext cx="5334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ч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1295280" y="30481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ое основано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единениях мышья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0" y="5029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стоит очень дорого, помогает не всегда и требует больничного лечен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AutoShape 9"/>
          <p:cNvSpPr/>
          <p:nvPr/>
        </p:nvSpPr>
        <p:spPr>
          <a:xfrm>
            <a:off x="2133720" y="22860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AutoShape 10"/>
          <p:cNvSpPr/>
          <p:nvPr/>
        </p:nvSpPr>
        <p:spPr>
          <a:xfrm>
            <a:off x="5791320" y="23623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0" y="5181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приводит к смер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дного из каждых 20 пациен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12"/>
          <p:cNvSpPr/>
          <p:nvPr/>
        </p:nvSpPr>
        <p:spPr>
          <a:xfrm>
            <a:off x="2057400" y="43434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5105520" y="3124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е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флорнит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5791320" y="39625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ffcc"/>
                </a:solidFill>
                <a:uFillTx/>
                <a:latin typeface="Times New Roman"/>
              </a:rPr>
              <a:t>При вовремя начатом лечении в большинстве случаях удается спасти пациентов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1:07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