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ED3-0214-4FF7-A5E4-ECBB1686D9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боту выполн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ченик 7 кла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емьянов Ден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4065-317B-421C-A6F0-13D2497963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- заболе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ода 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Trypanosoma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. Её иногда наз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фриканским трипаносомо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88DF-B00F-45ED-A680-8E1F739E62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Сонная болезнь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передается через ук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нфицированных мух </a:t>
            </a:r>
            <a:r>
              <a:rPr b="0" i="1" lang="ru-RU" sz="1200" spc="-1" strike="noStrike">
                <a:solidFill>
                  <a:srgbClr val="1f497d"/>
                </a:solidFill>
                <a:latin typeface="Times New Roman"/>
              </a:rPr>
              <a:t>Цеце,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пространена в 36 странах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южнее пустыни Сах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534E-1CC1-4EA8-837D-E9B8E5819E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иску заболевания подвергается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50 млн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Ежегодно фиксируется пример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25 тыс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овых случаев сонной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356-143A-44F5-B2BA-523EDB2914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два вида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5ED-5012-48C4-83CC-993C9BAA15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Клинические проявления обеих форм со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езни сходны, но родезийский вариан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большинстве случаев протекает острее и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лечения может закончиться смертью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через несколько месяцев или даже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Гамбийская форма прогрессирует медленно,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елеченых случаях болезнь мо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родолжаться несколько лет, прежде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наступает летальный ис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3D5-4729-4779-801C-741D376A68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е симптомы, как правило, возникают через 1–3 недели после укуса мухи це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35ED-9D5D-4B69-A054-3A4EFC57AB4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Главными клиническ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оявлениями станов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ильная головная бол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лихорадка, общая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и апатия, чрезм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сонливость, двиг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расстройства и кома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5C0-6426-4A56-9118-90A9728CE7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4C12-6F68-4BB9-81CC-81F7A61D4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E95-9F30-4FF2-8297-8626470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557-5598-4DC3-A103-6C83AEFC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5C5-49DD-4571-9FF7-44BDDAAB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C7D-1C4A-41DC-BADC-FF330209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185-7CAA-4A80-BF63-AA8A4CF4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A6CE-BDB7-4F5B-A268-D4347C50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675C-7888-4697-BE91-FC4962C0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C3B4-9A1A-411B-BF92-B82BBD0D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774-B34B-4234-8EF2-709F452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ADC4-F1BF-4BF5-AE61-AC476EFD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F8F4-7C44-47AE-BC7D-9C19A2C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62E-3409-44EB-9526-A4BD312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6CFE-EB95-4286-A4F2-38F4F10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B322-8ABA-4FFF-A0B4-431A3C26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95FC-A32A-4186-BE9D-4F119EF2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042B-B7B4-4461-9E9E-6363E889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9A4-BA16-454E-B57D-3ABE6D7B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AD7-5F5A-483E-AA19-6CE295C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D75-F770-4600-A06A-5FB0003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852-D51C-4154-8C07-90CE8A26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288-C87D-41C8-AAFD-AF140431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FC0-BA27-411C-BDCE-CBCEC6A2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024-2BC4-439E-9296-66514EF7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4AB-4E9F-4F1B-A7B0-5249C35B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E75-8221-4FD1-9FD0-3B49B50555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14EB-EEE4-437D-A194-139DAEC6D4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629040" y="57909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ченик 7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емьянов Ден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990720" y="2209680"/>
            <a:ext cx="7238880" cy="17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ная болез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WordArt 4"/>
          <p:cNvSpPr txBox="1"/>
          <p:nvPr/>
        </p:nvSpPr>
        <p:spPr>
          <a:xfrm>
            <a:off x="152280" y="1447920"/>
            <a:ext cx="87631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752120"/>
            <a:ext cx="85406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- заболева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мое трипаносомами, т.е. простейши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ода 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Trypanosoma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 Её иногда назы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фриканским трипаносомоз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2666880" y="228600"/>
            <a:ext cx="342900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это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6" name="Picture 5" descr="Trypanosoma_gambiense"/>
          <p:cNvPicPr/>
          <p:nvPr/>
        </p:nvPicPr>
        <p:blipFill>
          <a:blip r:embed="rId3"/>
          <a:stretch/>
        </p:blipFill>
        <p:spPr>
          <a:xfrm>
            <a:off x="609480" y="3886200"/>
            <a:ext cx="3429000" cy="2743200"/>
          </a:xfrm>
          <a:prstGeom prst="rect">
            <a:avLst/>
          </a:prstGeom>
          <a:ln w="0">
            <a:noFill/>
          </a:ln>
        </p:spPr>
      </p:pic>
      <p:sp>
        <p:nvSpPr>
          <p:cNvPr id="397" name="Line 6"/>
          <p:cNvSpPr/>
          <p:nvPr/>
        </p:nvSpPr>
        <p:spPr>
          <a:xfrm flipV="1">
            <a:off x="3124080" y="4495680"/>
            <a:ext cx="2590920" cy="60984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Picture 9" descr="b_174_1"/>
          <p:cNvPicPr/>
          <p:nvPr/>
        </p:nvPicPr>
        <p:blipFill>
          <a:blip r:embed="rId4"/>
          <a:stretch/>
        </p:blipFill>
        <p:spPr>
          <a:xfrm>
            <a:off x="5791320" y="3657600"/>
            <a:ext cx="2705040" cy="2705040"/>
          </a:xfrm>
          <a:prstGeom prst="rect">
            <a:avLst/>
          </a:prstGeom>
          <a:ln w="0">
            <a:noFill/>
          </a:ln>
        </p:spPr>
      </p:pic>
      <p:sp>
        <p:nvSpPr>
          <p:cNvPr id="399" name="Oval 10"/>
          <p:cNvSpPr/>
          <p:nvPr/>
        </p:nvSpPr>
        <p:spPr>
          <a:xfrm>
            <a:off x="2438280" y="4952880"/>
            <a:ext cx="685800" cy="53352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333120" y="632448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паносо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Сонная болезнь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передается через укус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нфицированных мух </a:t>
            </a: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Цеце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пространена в 36 странах Афр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южнее пустыни Сах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WordArt 4"/>
          <p:cNvSpPr txBox="1"/>
          <p:nvPr/>
        </p:nvSpPr>
        <p:spPr>
          <a:xfrm>
            <a:off x="1219320" y="304920"/>
            <a:ext cx="6629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передается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Picture 5" descr="2256498"/>
          <p:cNvPicPr/>
          <p:nvPr/>
        </p:nvPicPr>
        <p:blipFill>
          <a:blip r:embed="rId3"/>
          <a:stretch/>
        </p:blipFill>
        <p:spPr>
          <a:xfrm>
            <a:off x="53352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Muha_3"/>
          <p:cNvPicPr/>
          <p:nvPr/>
        </p:nvPicPr>
        <p:blipFill>
          <a:blip r:embed="rId4"/>
          <a:stretch/>
        </p:blipFill>
        <p:spPr>
          <a:xfrm>
            <a:off x="4419720" y="3319560"/>
            <a:ext cx="4419360" cy="315756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3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9"/>
          <p:cNvSpPr/>
          <p:nvPr/>
        </p:nvSpPr>
        <p:spPr>
          <a:xfrm>
            <a:off x="3032280" y="20890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52280" y="38088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иску заболевания подвергается д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50 млн.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жегодно фиксируется примерн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cc"/>
                </a:solidFill>
                <a:latin typeface="Tahoma"/>
              </a:rPr>
              <a:t>25 тыс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овых случаев сонной болез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5770"/>
          <p:cNvPicPr/>
          <p:nvPr/>
        </p:nvPicPr>
        <p:blipFill>
          <a:blip r:embed="rId1"/>
          <a:stretch/>
        </p:blipFill>
        <p:spPr>
          <a:xfrm>
            <a:off x="304920" y="3276720"/>
            <a:ext cx="4762440" cy="312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220px-Africa_satellite_plane"/>
          <p:cNvPicPr/>
          <p:nvPr/>
        </p:nvPicPr>
        <p:blipFill>
          <a:blip r:embed="rId2"/>
          <a:stretch/>
        </p:blipFill>
        <p:spPr>
          <a:xfrm>
            <a:off x="5715000" y="3048120"/>
            <a:ext cx="3257640" cy="3419280"/>
          </a:xfrm>
          <a:prstGeom prst="rect">
            <a:avLst/>
          </a:prstGeom>
          <a:ln w="0">
            <a:noFill/>
          </a:ln>
        </p:spPr>
      </p:pic>
      <p:sp>
        <p:nvSpPr>
          <p:cNvPr id="411" name="Oval 15"/>
          <p:cNvSpPr/>
          <p:nvPr/>
        </p:nvSpPr>
        <p:spPr>
          <a:xfrm>
            <a:off x="6324480" y="4191120"/>
            <a:ext cx="213372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16"/>
          <p:cNvSpPr/>
          <p:nvPr/>
        </p:nvSpPr>
        <p:spPr>
          <a:xfrm flipH="1">
            <a:off x="4571640" y="4876920"/>
            <a:ext cx="1523880" cy="152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Tahoma"/>
              </a:rPr>
              <a:t>два вида болез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685800" y="228600"/>
            <a:ext cx="784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ы Сонной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Line 6"/>
          <p:cNvSpPr/>
          <p:nvPr/>
        </p:nvSpPr>
        <p:spPr>
          <a:xfrm flipH="1">
            <a:off x="2285640" y="3048120"/>
            <a:ext cx="1066680" cy="14475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7"/>
          <p:cNvSpPr/>
          <p:nvPr/>
        </p:nvSpPr>
        <p:spPr>
          <a:xfrm>
            <a:off x="5943600" y="3048120"/>
            <a:ext cx="914400" cy="13716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0" y="4724280"/>
            <a:ext cx="4495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Гамбийск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Западная и Централь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5334120" y="4724280"/>
            <a:ext cx="327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одезий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(Восточная Африк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8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Клинические проявления обеих форм с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езни сходны, но родезийский вариант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большинстве случаев протекает острее и бе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лечения может закончиться смертью боль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через несколько месяцев или даже неде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Гамбийская форма прогрессирует медленно, и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елеченых случаях болезнь мож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продолжаться несколько лет, прежде ч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наступает летальный исх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Первые симптомы, как правило, возникают через 1–3 недели после укуса мухи цец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WordArt 4"/>
          <p:cNvSpPr txBox="1"/>
          <p:nvPr/>
        </p:nvSpPr>
        <p:spPr>
          <a:xfrm>
            <a:off x="609480" y="304920"/>
            <a:ext cx="76964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в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304920" y="251460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 этой стадии, пока трипаносомы ещ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находятся в крови, основные клин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явления включают лихорадку, голо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боль, боли в суставах, мышечную дрож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овышенное потоотделение, зуд  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вопреки названию болезни, бессон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9" descr="Muha_3"/>
          <p:cNvPicPr/>
          <p:nvPr/>
        </p:nvPicPr>
        <p:blipFill>
          <a:blip r:embed="rId3"/>
          <a:stretch/>
        </p:blipFill>
        <p:spPr>
          <a:xfrm>
            <a:off x="3048120" y="2286000"/>
            <a:ext cx="2349360" cy="1779480"/>
          </a:xfrm>
          <a:prstGeom prst="rect">
            <a:avLst/>
          </a:prstGeom>
          <a:ln w="0">
            <a:noFill/>
          </a:ln>
        </p:spPr>
      </p:pic>
      <p:sp>
        <p:nvSpPr>
          <p:cNvPr id="427" name="Line 10"/>
          <p:cNvSpPr/>
          <p:nvPr/>
        </p:nvSpPr>
        <p:spPr>
          <a:xfrm>
            <a:off x="5029200" y="4038480"/>
            <a:ext cx="114300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2" descr="Trypanosoma3500"/>
          <p:cNvPicPr/>
          <p:nvPr/>
        </p:nvPicPr>
        <p:blipFill>
          <a:blip r:embed="rId4"/>
          <a:stretch/>
        </p:blipFill>
        <p:spPr>
          <a:xfrm>
            <a:off x="6324480" y="4419720"/>
            <a:ext cx="2590920" cy="2166840"/>
          </a:xfrm>
          <a:prstGeom prst="rect">
            <a:avLst/>
          </a:prstGeom>
          <a:ln w="0">
            <a:noFill/>
          </a:ln>
        </p:spPr>
      </p:pic>
      <p:sp>
        <p:nvSpPr>
          <p:cNvPr id="429" name="Oval 13"/>
          <p:cNvSpPr/>
          <p:nvPr/>
        </p:nvSpPr>
        <p:spPr>
          <a:xfrm>
            <a:off x="4419720" y="3581280"/>
            <a:ext cx="838080" cy="5335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4"/>
          <p:cNvSpPr/>
          <p:nvPr/>
        </p:nvSpPr>
        <p:spPr>
          <a:xfrm rot="2847600">
            <a:off x="4280400" y="485892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Tahoma"/>
              </a:rPr>
              <a:t>Через некоторое время после уку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лавными клинически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оявлениями становя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льная головная бол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лихорадка, общая слаб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и апатия, чрезме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онливость, двиг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расстройства и ком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WordArt 4"/>
          <p:cNvSpPr txBox="1"/>
          <p:nvPr/>
        </p:nvSpPr>
        <p:spPr>
          <a:xfrm>
            <a:off x="380880" y="304920"/>
            <a:ext cx="784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торая стадия заболеван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57200" y="6019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заболевание не лечить, смерть почти неизбежн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5228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ahoma"/>
              </a:rPr>
              <a:t>На второй стадии трипаносомы уже проникли в центральную нервную систе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6" name="Picture 9" descr="39-083"/>
          <p:cNvPicPr/>
          <p:nvPr/>
        </p:nvPicPr>
        <p:blipFill>
          <a:blip r:embed="rId3"/>
          <a:stretch/>
        </p:blipFill>
        <p:spPr>
          <a:xfrm>
            <a:off x="6324480" y="2133720"/>
            <a:ext cx="2451240" cy="2695320"/>
          </a:xfrm>
          <a:prstGeom prst="rect">
            <a:avLst/>
          </a:prstGeom>
          <a:ln w="0">
            <a:noFill/>
          </a:ln>
        </p:spPr>
      </p:pic>
      <p:sp>
        <p:nvSpPr>
          <p:cNvPr id="437" name="Oval 10"/>
          <p:cNvSpPr/>
          <p:nvPr/>
        </p:nvSpPr>
        <p:spPr>
          <a:xfrm>
            <a:off x="6934320" y="2743200"/>
            <a:ext cx="13716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13" descr="39-082"/>
          <p:cNvPicPr/>
          <p:nvPr/>
        </p:nvPicPr>
        <p:blipFill>
          <a:blip r:embed="rId4"/>
          <a:stretch/>
        </p:blipFill>
        <p:spPr>
          <a:xfrm>
            <a:off x="3962520" y="2057400"/>
            <a:ext cx="2004840" cy="31338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4"/>
          <p:cNvSpPr/>
          <p:nvPr/>
        </p:nvSpPr>
        <p:spPr>
          <a:xfrm>
            <a:off x="4191120" y="525780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cc"/>
                </a:solidFill>
                <a:latin typeface="Tahoma"/>
              </a:rPr>
              <a:t>Сонная болезнь высшего развит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В настоящее время для лечения сонной болезни активно используются два лекарства, но они имеют нежелательные побочные эффек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1981080" y="304920"/>
            <a:ext cx="53341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295280" y="3048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ое основано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единениях мышья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0" y="50292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 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стоит очень дорого, помогает не всегда и требует больничного лечен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9"/>
          <p:cNvSpPr/>
          <p:nvPr/>
        </p:nvSpPr>
        <p:spPr>
          <a:xfrm>
            <a:off x="2133720" y="22860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10"/>
          <p:cNvSpPr/>
          <p:nvPr/>
        </p:nvSpPr>
        <p:spPr>
          <a:xfrm>
            <a:off x="5791320" y="23623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0" y="5181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(приводит к смер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дного из каждых 20 пациен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12"/>
          <p:cNvSpPr/>
          <p:nvPr/>
        </p:nvSpPr>
        <p:spPr>
          <a:xfrm>
            <a:off x="2057400" y="43434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510552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е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флорнит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5791320" y="3962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cc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15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ffffcc"/>
                </a:solidFill>
                <a:uFillTx/>
                <a:latin typeface="Times New Roman"/>
              </a:rPr>
              <a:t>При вовремя начатом лечении в большинстве случаях удается спасти пациентов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4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1:07:1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