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8E86-A539-4274-A90E-D3B3FF445D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аботу выполни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ченик 7 кла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емьянов Ден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479C-EB62-43A1-83C1-0C29E57401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- 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ода 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Trypanosoma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. Её иногда наз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фриканским трипаносомо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5F30-AB9C-4177-B9CD-C51B73EDF5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передается через ук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нфицированных мух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Цеце,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пространена в 36 странах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южнее пустыни Сах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0572-8765-4693-8D5C-C080CF90793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иску заболевания подвергается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50 млн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Ежегодно фиксируется пример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25 тыс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новых случаев сонной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CBCE-0083-4DC8-AEE9-0B98B759FE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два вида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DB53-7336-4A50-BE1F-3114D36D52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Клинические проявления обеих форм со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езни сходны, но родезийский вариан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ьшинстве случаев протекает острее и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лечения может закончиться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через несколько месяцев или даже нед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Гамбийская форма прогрессирует медленно, и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елеченых случаях болезнь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родолжаться несколько лет, прежде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аступает летальный ис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21B0-4F9F-4444-93F4-A112272C8A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ые симптомы, как правило, возникают через 1–3 недели после укуса мухи це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58ED-11A4-45F7-BE57-CC12954A973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Главными клиническ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оявлениями станов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ильная головная 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хорадка, общая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 апатия, чрезме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нливость, двиг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стройства и кома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C697-8B4A-4CC9-8321-94CB8A75250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48F6-354D-46FD-9BCA-E548B1613D0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451-482C-4776-8864-7AEEE5A2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3C6-C752-436E-B937-52F9600E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D6F-CA18-42C1-9C6C-9DD93E38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13E-AEE7-4ED6-B0BC-E6573298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F8EE-D2A9-4CDB-8C67-979C42F0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94FC-D336-4392-BB29-29DE1610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C07C-ED83-4BAD-9D79-BF1D47C4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368E-E24C-4A2D-B5F0-9603D1FA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7DBB-3DFD-43CA-A464-FF88A4D6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8642-74E5-4DEE-9AA9-6B510726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4A6D-8E28-42C4-B287-2A08E5B6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449A-748C-4A7F-8472-2F1C9374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1A5A-588A-4A8E-9136-CA7D08B0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C89D-631E-47CE-AC4B-E9AC04C6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B008-7430-46B7-9555-D7A15C14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EC40-B671-4920-B1F7-01E794D0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9CB0-0967-4A6C-A3FB-4FBB9CE8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3E5-1D34-435E-BB77-938CF6B1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226-8831-4E8C-8C04-AC4796DC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A17-B8E9-4E06-A93D-FE1CC1B5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1BE-DC00-4E8D-AB21-EAA51A22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EEC-0670-4EFE-933C-DC56722D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79B-85EE-451F-B28A-0AC34D2C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52D-72DF-4F5F-983B-FCFFD188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1755-C926-4E13-9ED9-8EC0E33FD45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F10F-B726-4747-B325-4E9E8A9636A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629040" y="57909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Работу выполн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Ученик 7 клас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емьянов Дени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WordArt 4"/>
          <p:cNvSpPr txBox="1"/>
          <p:nvPr/>
        </p:nvSpPr>
        <p:spPr>
          <a:xfrm>
            <a:off x="990720" y="2209680"/>
            <a:ext cx="7238880" cy="17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нная болезн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4"/>
          <p:cNvSpPr txBox="1"/>
          <p:nvPr/>
        </p:nvSpPr>
        <p:spPr>
          <a:xfrm>
            <a:off x="152280" y="1447920"/>
            <a:ext cx="876312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406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- заболев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ода 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Trypanosoma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 Её иногда назы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фриканским трипаносомоз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WordArt 4"/>
          <p:cNvSpPr txBox="1"/>
          <p:nvPr/>
        </p:nvSpPr>
        <p:spPr>
          <a:xfrm>
            <a:off x="2666880" y="228600"/>
            <a:ext cx="342900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это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6" name="Picture 5" descr="Trypanosoma_gambiense"/>
          <p:cNvPicPr/>
          <p:nvPr/>
        </p:nvPicPr>
        <p:blipFill>
          <a:blip r:embed="rId3"/>
          <a:stretch/>
        </p:blipFill>
        <p:spPr>
          <a:xfrm>
            <a:off x="609480" y="388620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397" name="Line 6"/>
          <p:cNvSpPr/>
          <p:nvPr/>
        </p:nvSpPr>
        <p:spPr>
          <a:xfrm flipV="1">
            <a:off x="3124080" y="4495680"/>
            <a:ext cx="2590920" cy="6098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9" descr="b_174_1"/>
          <p:cNvPicPr/>
          <p:nvPr/>
        </p:nvPicPr>
        <p:blipFill>
          <a:blip r:embed="rId4"/>
          <a:stretch/>
        </p:blipFill>
        <p:spPr>
          <a:xfrm>
            <a:off x="5791320" y="3657600"/>
            <a:ext cx="2705040" cy="2705040"/>
          </a:xfrm>
          <a:prstGeom prst="rect">
            <a:avLst/>
          </a:prstGeom>
          <a:ln w="0">
            <a:noFill/>
          </a:ln>
        </p:spPr>
      </p:pic>
      <p:sp>
        <p:nvSpPr>
          <p:cNvPr id="399" name="Oval 10"/>
          <p:cNvSpPr/>
          <p:nvPr/>
        </p:nvSpPr>
        <p:spPr>
          <a:xfrm>
            <a:off x="2438280" y="4952880"/>
            <a:ext cx="685800" cy="533520"/>
          </a:xfrm>
          <a:prstGeom prst="ellipse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333120" y="632448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трипаносо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передается через уку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нфицированных мух 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Цеце,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спространена в 36 странах Афр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южнее пустыни Саха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WordArt 4"/>
          <p:cNvSpPr txBox="1"/>
          <p:nvPr/>
        </p:nvSpPr>
        <p:spPr>
          <a:xfrm>
            <a:off x="1219320" y="304920"/>
            <a:ext cx="6629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передается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4" name="Picture 5" descr="2256498"/>
          <p:cNvPicPr/>
          <p:nvPr/>
        </p:nvPicPr>
        <p:blipFill>
          <a:blip r:embed="rId3"/>
          <a:stretch/>
        </p:blipFill>
        <p:spPr>
          <a:xfrm>
            <a:off x="53352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Muha_3"/>
          <p:cNvPicPr/>
          <p:nvPr/>
        </p:nvPicPr>
        <p:blipFill>
          <a:blip r:embed="rId4"/>
          <a:stretch/>
        </p:blipFill>
        <p:spPr>
          <a:xfrm>
            <a:off x="4419720" y="3319560"/>
            <a:ext cx="4419360" cy="315756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3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9"/>
          <p:cNvSpPr/>
          <p:nvPr/>
        </p:nvSpPr>
        <p:spPr>
          <a:xfrm>
            <a:off x="3032280" y="208908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52280" y="38088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иску заболевания подвергается д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50 млн.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челов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жегодно фиксируется примерн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25 тыс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овых случаев сонной болез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5770"/>
          <p:cNvPicPr/>
          <p:nvPr/>
        </p:nvPicPr>
        <p:blipFill>
          <a:blip r:embed="rId1"/>
          <a:stretch/>
        </p:blipFill>
        <p:spPr>
          <a:xfrm>
            <a:off x="304920" y="3276720"/>
            <a:ext cx="4762440" cy="3124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220px-Africa_satellite_plane"/>
          <p:cNvPicPr/>
          <p:nvPr/>
        </p:nvPicPr>
        <p:blipFill>
          <a:blip r:embed="rId2"/>
          <a:stretch/>
        </p:blipFill>
        <p:spPr>
          <a:xfrm>
            <a:off x="5715000" y="3048120"/>
            <a:ext cx="3257640" cy="3419280"/>
          </a:xfrm>
          <a:prstGeom prst="rect">
            <a:avLst/>
          </a:prstGeom>
          <a:ln w="0">
            <a:noFill/>
          </a:ln>
        </p:spPr>
      </p:pic>
      <p:sp>
        <p:nvSpPr>
          <p:cNvPr id="411" name="Oval 15"/>
          <p:cNvSpPr/>
          <p:nvPr/>
        </p:nvSpPr>
        <p:spPr>
          <a:xfrm>
            <a:off x="6324480" y="4191120"/>
            <a:ext cx="213372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6"/>
          <p:cNvSpPr/>
          <p:nvPr/>
        </p:nvSpPr>
        <p:spPr>
          <a:xfrm flipH="1">
            <a:off x="4571640" y="4876920"/>
            <a:ext cx="1523880" cy="152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два вида боле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WordArt 4"/>
          <p:cNvSpPr txBox="1"/>
          <p:nvPr/>
        </p:nvSpPr>
        <p:spPr>
          <a:xfrm>
            <a:off x="685800" y="22860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Сонной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Line 6"/>
          <p:cNvSpPr/>
          <p:nvPr/>
        </p:nvSpPr>
        <p:spPr>
          <a:xfrm flipH="1">
            <a:off x="2285640" y="3048120"/>
            <a:ext cx="1066680" cy="14475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5943600" y="3048120"/>
            <a:ext cx="914400" cy="13716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0" y="4724280"/>
            <a:ext cx="4495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Гамбийск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Западная и Централь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5334120" y="4724280"/>
            <a:ext cx="327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одезий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Восточ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8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Клинические проявления обеих форм с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езни сходны, но родезийский вариант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ьшинстве случаев протекает острее и б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лечения может закончиться смертью боль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через несколько месяцев или даже нед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Гамбийская форма прогрессирует медленно, и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елеченых случаях болезнь мож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продолжаться несколько лет, прежде ч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аступает летальный исх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Первые симптомы, как правило, возникают через 1–3 недели после укуса мухи цец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WordArt 4"/>
          <p:cNvSpPr txBox="1"/>
          <p:nvPr/>
        </p:nvSpPr>
        <p:spPr>
          <a:xfrm>
            <a:off x="609480" y="304920"/>
            <a:ext cx="76964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304920" y="2514600"/>
            <a:ext cx="266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 этой стадии, пока трипаносомы ещ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ходятся в крови, основные клин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оявления включают лихорадку, головн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боль, боли в суставах, мышечную дрож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овышенное потоотделение, зуд  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опреки названию болезни, бессон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9" descr="Muha_3"/>
          <p:cNvPicPr/>
          <p:nvPr/>
        </p:nvPicPr>
        <p:blipFill>
          <a:blip r:embed="rId3"/>
          <a:stretch/>
        </p:blipFill>
        <p:spPr>
          <a:xfrm>
            <a:off x="3048120" y="2286000"/>
            <a:ext cx="2349360" cy="1779480"/>
          </a:xfrm>
          <a:prstGeom prst="rect">
            <a:avLst/>
          </a:prstGeom>
          <a:ln w="0">
            <a:noFill/>
          </a:ln>
        </p:spPr>
      </p:pic>
      <p:sp>
        <p:nvSpPr>
          <p:cNvPr id="427" name="Line 10"/>
          <p:cNvSpPr/>
          <p:nvPr/>
        </p:nvSpPr>
        <p:spPr>
          <a:xfrm>
            <a:off x="5029200" y="4038480"/>
            <a:ext cx="1143000" cy="1143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Picture 12" descr="Trypanosoma3500"/>
          <p:cNvPicPr/>
          <p:nvPr/>
        </p:nvPicPr>
        <p:blipFill>
          <a:blip r:embed="rId4"/>
          <a:stretch/>
        </p:blipFill>
        <p:spPr>
          <a:xfrm>
            <a:off x="6324480" y="4419720"/>
            <a:ext cx="2590920" cy="2166840"/>
          </a:xfrm>
          <a:prstGeom prst="rect">
            <a:avLst/>
          </a:prstGeom>
          <a:ln w="0">
            <a:noFill/>
          </a:ln>
        </p:spPr>
      </p:pic>
      <p:sp>
        <p:nvSpPr>
          <p:cNvPr id="429" name="Oval 13"/>
          <p:cNvSpPr/>
          <p:nvPr/>
        </p:nvSpPr>
        <p:spPr>
          <a:xfrm>
            <a:off x="4419720" y="3581280"/>
            <a:ext cx="838080" cy="5335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14"/>
          <p:cNvSpPr/>
          <p:nvPr/>
        </p:nvSpPr>
        <p:spPr>
          <a:xfrm rot="2847600">
            <a:off x="4280400" y="485892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ahoma"/>
              </a:rPr>
              <a:t>Через некоторое время после уку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7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52280" y="236196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лавными клинически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оявлениями станов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ильная головная бол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хорадка, общая слаб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и апатия, чрезме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онливость, двиг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асстройства и ком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380880" y="304920"/>
            <a:ext cx="7848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тор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457200" y="6019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Если заболевание не лечить, смерть почти неизбежн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5228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</a:rPr>
              <a:t>На второй стадии трипаносомы уже проникли в центральную нервную систе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Picture 9" descr="39-083"/>
          <p:cNvPicPr/>
          <p:nvPr/>
        </p:nvPicPr>
        <p:blipFill>
          <a:blip r:embed="rId3"/>
          <a:stretch/>
        </p:blipFill>
        <p:spPr>
          <a:xfrm>
            <a:off x="6324480" y="2133720"/>
            <a:ext cx="2451240" cy="2695320"/>
          </a:xfrm>
          <a:prstGeom prst="rect">
            <a:avLst/>
          </a:prstGeom>
          <a:ln w="0">
            <a:noFill/>
          </a:ln>
        </p:spPr>
      </p:pic>
      <p:sp>
        <p:nvSpPr>
          <p:cNvPr id="437" name="Oval 10"/>
          <p:cNvSpPr/>
          <p:nvPr/>
        </p:nvSpPr>
        <p:spPr>
          <a:xfrm>
            <a:off x="6934320" y="2743200"/>
            <a:ext cx="1371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13" descr="39-082"/>
          <p:cNvPicPr/>
          <p:nvPr/>
        </p:nvPicPr>
        <p:blipFill>
          <a:blip r:embed="rId4"/>
          <a:stretch/>
        </p:blipFill>
        <p:spPr>
          <a:xfrm>
            <a:off x="3962520" y="2057400"/>
            <a:ext cx="2004840" cy="31338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4"/>
          <p:cNvSpPr/>
          <p:nvPr/>
        </p:nvSpPr>
        <p:spPr>
          <a:xfrm>
            <a:off x="4191120" y="52578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ahoma"/>
              </a:rPr>
              <a:t>Сонная болезнь высшего развит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WordArt 5"/>
          <p:cNvSpPr txBox="1"/>
          <p:nvPr/>
        </p:nvSpPr>
        <p:spPr>
          <a:xfrm>
            <a:off x="1981080" y="304920"/>
            <a:ext cx="5334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ч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1295280" y="30481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ое основано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единениях мышья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0" y="5029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стоит очень дорого, помогает не всегда и требует больничного лечен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AutoShape 9"/>
          <p:cNvSpPr/>
          <p:nvPr/>
        </p:nvSpPr>
        <p:spPr>
          <a:xfrm>
            <a:off x="2133720" y="22860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AutoShape 10"/>
          <p:cNvSpPr/>
          <p:nvPr/>
        </p:nvSpPr>
        <p:spPr>
          <a:xfrm>
            <a:off x="5791320" y="23623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0" y="5181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приводит к смер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дного из каждых 20 пациен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12"/>
          <p:cNvSpPr/>
          <p:nvPr/>
        </p:nvSpPr>
        <p:spPr>
          <a:xfrm>
            <a:off x="2057400" y="43434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5105520" y="3124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е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флорнит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5791320" y="39625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ffcc"/>
                </a:solidFill>
                <a:uFillTx/>
                <a:latin typeface="Times New Roman"/>
              </a:rPr>
              <a:t>При вовремя начатом лечении в большинстве случаях удается спасти пациентов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1:07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