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3.gif" ContentType="image/gif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1.jpeg" ContentType="image/jpeg"/>
  <Override PartName="/ppt/media/image17.gif" ContentType="image/gif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F5AB-0518-4741-A523-903227CF63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эфемероид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тенистых ельниках не растут эфемерои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дубраве в июле мы не увидим эфемеро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5E79-3D01-428B-8E4F-2D8A03EF86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тицы (ласточки, воробьи, стрижи, вор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71CB-73AA-465B-9E88-44DE4D0EAA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8AB6-D2DD-44B6-BABD-2AF0521592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сные дни птицы лесов пробуждаются раньше, чем в пасмур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5CB3-FDA3-4498-9804-731F69FD2F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мыкающиеся (хотя многие  предпочитают сумер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E413-26C4-4A00-A483-F3670E92AE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оч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учие мыш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ее становятся кошач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3049-D0A8-4B4F-B6DB-4AB1A33BD3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Ночной образ жизни отражается на внешнем обл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овятся большими глаза (совы, лем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ачок становится щелевидным (кошки, зм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E56A-FF6E-49E4-9041-7891D6526D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итмика освещ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E605-2DF2-477E-882A-77268A9748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етовой реж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5425-6DF3-4772-A871-B18068F642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EDE8-7D76-44C6-87C5-1D0BC6E1B7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втор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 образом животные воспринимают св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еагируют животные на изменение освещенности (в течение суток, сезонов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способления животных к жизни в отсутствие све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8C8-95A1-4931-B4E1-6521F1AF44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летнезелё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е летне-зимнезеленое растение вам известно? Расскажите о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вечнозеле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E515-CAAF-4C12-9EE3-D034953C45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ет в жизн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рок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5449-A732-4F80-BCDF-E3D0F394A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животные имеют специальные органы зрения –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лаз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С их помощью они различают не только свет и тьму, но и  предметы вокруг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н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истоно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оногие моллю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B26F-2D6B-4F20-A359-7D9C090BE0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животные воспринимают св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ерхностью те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нце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C127-386D-467A-BFA1-44A73512B6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не все. Глубоководные рыбы имеют светящиеся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5E4F-4159-42FD-9D83-95956A0E4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солот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ые, живущие без света, часто слабо пигментированы (не окраше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27B-05EE-4722-B96C-AEA262CA72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ля чего све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ыскивать пищ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ить за появлением хищ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матривать жер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знавать себе подоб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8A3E-E9E3-4E76-8C69-079752AFDA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нсивность света непостоянна в течение суток: утром, днем и веч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тому различа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невных и ночн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428E-9DA0-41EA-965D-AD900869F6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605-AF59-4403-877B-2DD9D652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435-BE1C-4A01-AE3D-73BD2668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CE8-0EA9-4676-99FD-AD8576D5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E46-ED52-435A-B987-A44E6559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C0C-23F0-470D-8DBC-5273A55D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3DF-8504-4623-A8E7-0B118A06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902-1587-42BB-9152-1BE1557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3D1-7E43-4A8E-A08B-78EF514D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3CA-9B80-4EC7-89DA-AC25BCBA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1ED-16B3-43E1-80D9-369DC3C0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DB5-7C34-4142-B22A-2CE6F56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DF3-0C55-4FBA-9BA1-95265938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1F40-5A53-431F-8C24-79F79BDF8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45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называют эфемероид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енистых ельниках не растут эфемерои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дубраве в июле мы не увидим эфемерои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 (ласточки, воробьи, стрижи, в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6"/>
          <p:cNvPicPr/>
          <p:nvPr/>
        </p:nvPicPr>
        <p:blipFill>
          <a:blip r:embed="rId1"/>
          <a:stretch/>
        </p:blipFill>
        <p:spPr>
          <a:xfrm>
            <a:off x="755640" y="4221000"/>
            <a:ext cx="2733840" cy="19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Рисунок5"/>
          <p:cNvPicPr/>
          <p:nvPr/>
        </p:nvPicPr>
        <p:blipFill>
          <a:blip r:embed="rId2"/>
          <a:stretch/>
        </p:blipFill>
        <p:spPr>
          <a:xfrm>
            <a:off x="3309840" y="2486160"/>
            <a:ext cx="2524320" cy="188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Рисунок7"/>
          <p:cNvPicPr/>
          <p:nvPr/>
        </p:nvPicPr>
        <p:blipFill>
          <a:blip r:embed="rId3"/>
          <a:stretch/>
        </p:blipFill>
        <p:spPr>
          <a:xfrm>
            <a:off x="5580000" y="4437000"/>
            <a:ext cx="3000600" cy="2048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Рисунок8"/>
          <p:cNvPicPr/>
          <p:nvPr/>
        </p:nvPicPr>
        <p:blipFill>
          <a:blip r:embed="rId1"/>
          <a:stretch/>
        </p:blipFill>
        <p:spPr>
          <a:xfrm>
            <a:off x="468360" y="4149720"/>
            <a:ext cx="270504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Рисунок9"/>
          <p:cNvPicPr/>
          <p:nvPr/>
        </p:nvPicPr>
        <p:blipFill>
          <a:blip r:embed="rId2"/>
          <a:stretch/>
        </p:blipFill>
        <p:spPr>
          <a:xfrm>
            <a:off x="3564000" y="436248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Рисунок10"/>
          <p:cNvPicPr/>
          <p:nvPr/>
        </p:nvPicPr>
        <p:blipFill>
          <a:blip r:embed="rId3"/>
          <a:stretch/>
        </p:blipFill>
        <p:spPr>
          <a:xfrm>
            <a:off x="6372360" y="4508640"/>
            <a:ext cx="2342880" cy="19144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ясные дни птицы лесов пробуждаются раньше, чем в пасмур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(хотя многие  предпочитают сум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Рисунок12"/>
          <p:cNvPicPr/>
          <p:nvPr/>
        </p:nvPicPr>
        <p:blipFill>
          <a:blip r:embed="rId1"/>
          <a:stretch/>
        </p:blipFill>
        <p:spPr>
          <a:xfrm>
            <a:off x="3492360" y="4149720"/>
            <a:ext cx="1603440" cy="227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Рисунок11"/>
          <p:cNvPicPr/>
          <p:nvPr/>
        </p:nvPicPr>
        <p:blipFill>
          <a:blip r:embed="rId2"/>
          <a:stretch/>
        </p:blipFill>
        <p:spPr>
          <a:xfrm>
            <a:off x="5940360" y="2276640"/>
            <a:ext cx="261936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Рисунок13"/>
          <p:cNvPicPr/>
          <p:nvPr/>
        </p:nvPicPr>
        <p:blipFill>
          <a:blip r:embed="rId3"/>
          <a:stretch/>
        </p:blipFill>
        <p:spPr>
          <a:xfrm>
            <a:off x="622764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учие мы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нее становятся коша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исунок14"/>
          <p:cNvPicPr/>
          <p:nvPr/>
        </p:nvPicPr>
        <p:blipFill>
          <a:blip r:embed="rId1"/>
          <a:stretch/>
        </p:blipFill>
        <p:spPr>
          <a:xfrm>
            <a:off x="6443640" y="1557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Рисунок15"/>
          <p:cNvPicPr/>
          <p:nvPr/>
        </p:nvPicPr>
        <p:blipFill>
          <a:blip r:embed="rId2"/>
          <a:stretch/>
        </p:blipFill>
        <p:spPr>
          <a:xfrm>
            <a:off x="3564000" y="2205000"/>
            <a:ext cx="186696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Рисунок16"/>
          <p:cNvPicPr/>
          <p:nvPr/>
        </p:nvPicPr>
        <p:blipFill>
          <a:blip r:embed="rId3"/>
          <a:stretch/>
        </p:blipFill>
        <p:spPr>
          <a:xfrm>
            <a:off x="5435640" y="515772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очной образ жизни отражается на внешнем о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овятся большими глаза (совы, лему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рачок становится щелевидным (кошки, зме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Рисунок17"/>
          <p:cNvPicPr/>
          <p:nvPr/>
        </p:nvPicPr>
        <p:blipFill>
          <a:blip r:embed="rId1"/>
          <a:srcRect l="0" t="0" r="0" b="5970"/>
          <a:stretch/>
        </p:blipFill>
        <p:spPr>
          <a:xfrm>
            <a:off x="6156360" y="1557360"/>
            <a:ext cx="256212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18"/>
          <p:cNvPicPr/>
          <p:nvPr/>
        </p:nvPicPr>
        <p:blipFill>
          <a:blip r:embed="rId2"/>
          <a:stretch/>
        </p:blipFill>
        <p:spPr>
          <a:xfrm>
            <a:off x="5724360" y="4292640"/>
            <a:ext cx="2762280" cy="22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Рисунок19"/>
          <p:cNvPicPr/>
          <p:nvPr/>
        </p:nvPicPr>
        <p:blipFill>
          <a:blip r:embed="rId3"/>
          <a:stretch/>
        </p:blipFill>
        <p:spPr>
          <a:xfrm>
            <a:off x="2916360" y="3789360"/>
            <a:ext cx="2323800" cy="283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Рисунок20"/>
          <p:cNvPicPr/>
          <p:nvPr/>
        </p:nvPicPr>
        <p:blipFill>
          <a:blip r:embed="rId4"/>
          <a:stretch/>
        </p:blipFill>
        <p:spPr>
          <a:xfrm>
            <a:off x="539640" y="5013360"/>
            <a:ext cx="2281320" cy="9428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Ритмика освещ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ветовой 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образом животные воспринимают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реагируют животные на изменение освещенности (в течение суток, сезонов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ы приспособления животных к жизни в отсутствие с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летнезелё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летне-зимнезеленое растение вам известно? Расскажите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вечнозеле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вет в жизни живот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148000" y="5084280"/>
            <a:ext cx="3416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огие животные имеют специальные органы зрения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з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С их помощью они различают не только свет и тьму, но и  предметы вокруг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исто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sh5"/>
          <p:cNvPicPr/>
          <p:nvPr/>
        </p:nvPicPr>
        <p:blipFill>
          <a:blip r:embed="rId1"/>
          <a:stretch/>
        </p:blipFill>
        <p:spPr>
          <a:xfrm>
            <a:off x="4500720" y="3789360"/>
            <a:ext cx="1584000" cy="119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Осьминог"/>
          <p:cNvPicPr/>
          <p:nvPr/>
        </p:nvPicPr>
        <p:blipFill>
          <a:blip r:embed="rId2"/>
          <a:stretch/>
        </p:blipFill>
        <p:spPr>
          <a:xfrm>
            <a:off x="6877080" y="5445000"/>
            <a:ext cx="1511280" cy="108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BUTTRFLY"/>
          <p:cNvPicPr/>
          <p:nvPr/>
        </p:nvPicPr>
        <p:blipFill>
          <a:blip r:embed="rId3"/>
          <a:stretch/>
        </p:blipFill>
        <p:spPr>
          <a:xfrm>
            <a:off x="7020000" y="3645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животные воспринимают св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верхностью те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нце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Рисунок1"/>
          <p:cNvPicPr/>
          <p:nvPr/>
        </p:nvPicPr>
        <p:blipFill>
          <a:blip r:embed="rId1"/>
          <a:stretch/>
        </p:blipFill>
        <p:spPr>
          <a:xfrm>
            <a:off x="395280" y="4437000"/>
            <a:ext cx="4133880" cy="15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исунок2"/>
          <p:cNvPicPr/>
          <p:nvPr/>
        </p:nvPicPr>
        <p:blipFill>
          <a:blip r:embed="rId2"/>
          <a:stretch/>
        </p:blipFill>
        <p:spPr>
          <a:xfrm>
            <a:off x="5292720" y="515772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не все. Глубоководные рыбы имеют светящиеся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нок3"/>
          <p:cNvPicPr/>
          <p:nvPr/>
        </p:nvPicPr>
        <p:blipFill>
          <a:blip r:embed="rId1"/>
          <a:stretch/>
        </p:blipFill>
        <p:spPr>
          <a:xfrm>
            <a:off x="2556000" y="3573360"/>
            <a:ext cx="4178160" cy="2806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0" y="49413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солот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, живущие без света, часто слабо пигментированы (не окраш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4"/>
          <p:cNvPicPr/>
          <p:nvPr/>
        </p:nvPicPr>
        <p:blipFill>
          <a:blip r:embed="rId1"/>
          <a:stretch/>
        </p:blipFill>
        <p:spPr>
          <a:xfrm>
            <a:off x="1258920" y="2060640"/>
            <a:ext cx="401940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ля чего свет животн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ыскивать пищ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ь за появлением хищ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матривать жер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знавать себе подоб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HEETAH2"/>
          <p:cNvPicPr/>
          <p:nvPr/>
        </p:nvPicPr>
        <p:blipFill>
          <a:blip r:embed="rId1"/>
          <a:stretch/>
        </p:blipFill>
        <p:spPr>
          <a:xfrm>
            <a:off x="684360" y="5661000"/>
            <a:ext cx="7848360" cy="8524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нсивность света непостоянна в течение суток: утром, днем и веч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му различа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невных и ноч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3:11Z</dcterms:created>
  <dc:creator>user</dc:creator>
  <dc:description/>
  <dc:language>en-US</dc:language>
  <cp:lastModifiedBy>LEGION</cp:lastModifiedBy>
  <dcterms:modified xsi:type="dcterms:W3CDTF">2014-11-24T11:07:55Z</dcterms:modified>
  <cp:revision>29</cp:revision>
  <dc:subject/>
  <dc:title>Слайд 1</dc:title>
</cp:coreProperties>
</file>