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C1E8-C31C-4F88-BDEA-0C10B35612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BE34-1EF3-4265-8593-038CFCA24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31B5-0ADA-4B7E-AA06-9675B7AD0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F7A2-DA44-4385-968F-885A81393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FA84-CAA6-42AC-881E-E74FE9176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A7A0-32D6-48C2-A16D-AF525E7A7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AF64-27A3-4128-8283-57219A371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0DF4-B89B-4028-A798-C8E0FBC00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9041-ADC1-4D0B-BA69-247E4BC5BB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356B-B52C-4A35-99D4-B24DF6B24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78FD-42CE-4EC4-81E1-B814D80D4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5C97-6A55-4F79-980A-CE42B91CD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958B-44AD-45D7-B7E2-B6B943E53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CDBC-3253-4CDB-AB08-08B3E4B678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8E40-5191-40F4-901B-5B8DE2D347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D66D-56C4-4E83-98E5-27F6D4D6C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518C-6698-4162-9A64-80D93013FB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BE0F-72DE-4E70-842B-162D43BE88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9E35-5313-4C60-A38D-2EEA775DE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7FFE-D692-4AB8-94DC-AE0C27B56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83D-5B37-441C-B897-F809A4E6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A25-381E-4E6B-BE16-77E0B691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77D-F2B5-4778-BBDA-65387098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537-FAC9-4F4D-8738-FC8ED4DC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A80-19A1-497F-8A57-3D9CAFC6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AC4-119F-47B1-8930-BC1F8920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E54-E3E6-47B0-81BB-E6DC03A9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BF7-2CA5-4BC6-87C9-0B00E00F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FAA-8B26-4E0D-A1FA-839ED754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199-1BF7-4DAF-9BF1-0658F0C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FC8-6C92-4D9C-8119-E3DE7A68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B5D-5AD2-4682-82DB-73E94D1F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76ED-9303-4645-A720-98439CF749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51280" y="4797000"/>
            <a:ext cx="291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8360" y="3789360"/>
            <a:ext cx="82818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3"/>
          <p:cNvPicPr/>
          <p:nvPr/>
        </p:nvPicPr>
        <p:blipFill>
          <a:blip r:embed="rId1"/>
          <a:stretch/>
        </p:blipFill>
        <p:spPr>
          <a:xfrm>
            <a:off x="1116000" y="836640"/>
            <a:ext cx="6929280" cy="2833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73080" y="765000"/>
            <a:ext cx="6912000" cy="2824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58920" y="4005360"/>
            <a:ext cx="8785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692360" y="549360"/>
            <a:ext cx="504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84360" y="141300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" descr="C:\Documents and Settings\Учитель\Мои документы\My Pictures\Scan Pictures\20080916\Image2.bmp"/>
          <p:cNvPicPr/>
          <p:nvPr/>
        </p:nvPicPr>
        <p:blipFill>
          <a:blip r:embed="rId1"/>
          <a:stretch/>
        </p:blipFill>
        <p:spPr>
          <a:xfrm>
            <a:off x="900000" y="1557360"/>
            <a:ext cx="7561440" cy="4664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3645000"/>
            <a:ext cx="82296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ю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–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соя, хлопчатник, рис, арахис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их цветения светлое врем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жн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евышать 12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050920" y="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264360" cy="3384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24000" y="3908520"/>
            <a:ext cx="882000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971640" y="465300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4000" y="393372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260280"/>
            <a:ext cx="417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Рисунок2"/>
          <p:cNvPicPr/>
          <p:nvPr/>
        </p:nvPicPr>
        <p:blipFill>
          <a:blip r:embed="rId1"/>
          <a:stretch/>
        </p:blipFill>
        <p:spPr>
          <a:xfrm>
            <a:off x="1403280" y="765000"/>
            <a:ext cx="6048360" cy="3191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19280" y="48690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ccff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Рисунок1"/>
          <p:cNvPicPr/>
          <p:nvPr/>
        </p:nvPicPr>
        <p:blipFill>
          <a:blip r:embed="rId1"/>
          <a:stretch/>
        </p:blipFill>
        <p:spPr>
          <a:xfrm>
            <a:off x="1403280" y="836640"/>
            <a:ext cx="6267600" cy="3381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508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Рисунок1"/>
          <p:cNvPicPr/>
          <p:nvPr/>
        </p:nvPicPr>
        <p:blipFill>
          <a:blip r:embed="rId1"/>
          <a:stretch/>
        </p:blipFill>
        <p:spPr>
          <a:xfrm>
            <a:off x="1187280" y="692280"/>
            <a:ext cx="6737400" cy="39430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97964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58920" y="4203720"/>
            <a:ext cx="87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Рисунок2"/>
          <p:cNvPicPr/>
          <p:nvPr/>
        </p:nvPicPr>
        <p:blipFill>
          <a:blip r:embed="rId1"/>
          <a:stretch/>
        </p:blipFill>
        <p:spPr>
          <a:xfrm>
            <a:off x="1332000" y="620640"/>
            <a:ext cx="6107040" cy="3565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01480" y="3789360"/>
            <a:ext cx="86425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Рисунок2"/>
          <p:cNvPicPr/>
          <p:nvPr/>
        </p:nvPicPr>
        <p:blipFill>
          <a:blip r:embed="rId1"/>
          <a:stretch/>
        </p:blipFill>
        <p:spPr>
          <a:xfrm>
            <a:off x="1116000" y="765000"/>
            <a:ext cx="6929280" cy="28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Рисунок1"/>
          <p:cNvPicPr/>
          <p:nvPr/>
        </p:nvPicPr>
        <p:blipFill>
          <a:blip r:embed="rId1"/>
          <a:stretch/>
        </p:blipFill>
        <p:spPr>
          <a:xfrm>
            <a:off x="2050920" y="549360"/>
            <a:ext cx="5040360" cy="6165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9:05:29Z</dcterms:created>
  <dc:creator>user</dc:creator>
  <dc:description/>
  <dc:language>en-US</dc:language>
  <cp:lastModifiedBy>LEGION</cp:lastModifiedBy>
  <dcterms:modified xsi:type="dcterms:W3CDTF">2014-11-24T13:12:12Z</dcterms:modified>
  <cp:revision>31</cp:revision>
  <dc:subject/>
  <dc:title>Для чего свет нужен растениям </dc:title>
</cp:coreProperties>
</file>