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F2DF-BEBD-4723-B976-1E64CF97F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971C-B8EE-463E-82E0-6B5C7502F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6E6E-DCD7-4B81-AC70-D8D43E7EF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2CD0-8694-4C32-B1B4-060FDDF1E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2809-0BBB-4A81-8F4C-BD07AF1D36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A5D9-EF3F-4B58-9289-0A2DB7D3FD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67A8-E864-4FD5-982B-F51303545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CFFD-B840-4180-839F-6BFE470D7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9D0C-855A-474F-8B0B-879180393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EAEB-7527-4098-9FF0-8AC25DF2F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AF89-5C08-474F-997D-740B2D6B4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D000-6D9B-4EEC-B432-6862D5F27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15A8-BE5B-44F8-BAD0-F42D11C8A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579F-E144-4C0D-82B3-CBD027A82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A30B-1E79-4898-B964-65AB65520F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A823-ACE5-4A83-9345-7475024F3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8BFA-EABE-433C-91B0-ED90ABACC0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4053-A407-4E4D-8F79-6B3CB3C6D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1EC5-700C-48C5-BFBD-BE60A44F6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B5FB-5F48-4417-BB09-5FA70E1B95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CD7-4240-411F-BC36-5AF6D828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D7E-C216-4DFF-B486-7BEC103C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BFD-F1AE-4F38-940D-AF5BB2F4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A25-2F5D-4DA3-96C4-AFA2B0EF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0B3-C55D-42A8-97C9-EBF4E239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DB0-C471-4AB1-AF58-8818C682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181-CFEC-438F-90E0-27649CE5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858-9F79-41AF-8720-1705BCF5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15D-44F1-4713-9470-E908DBFA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402-C36B-46F4-B767-E0B86C95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856-5A38-4F84-91A5-E090D792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097-1312-4D57-81F2-61FA7A6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BE68-7289-4E26-BDE5-4085C6607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4797000"/>
            <a:ext cx="291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3789360"/>
            <a:ext cx="82818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3"/>
          <p:cNvPicPr/>
          <p:nvPr/>
        </p:nvPicPr>
        <p:blipFill>
          <a:blip r:embed="rId1"/>
          <a:stretch/>
        </p:blipFill>
        <p:spPr>
          <a:xfrm>
            <a:off x="1116000" y="836640"/>
            <a:ext cx="6929280" cy="2833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3080" y="765000"/>
            <a:ext cx="6912000" cy="2824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8920" y="4005360"/>
            <a:ext cx="878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692360" y="549360"/>
            <a:ext cx="50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4360" y="141300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C:\Documents and Settings\Учитель\Мои документы\My Pictures\Scan Pictures\20080916\Image2.bmp"/>
          <p:cNvPicPr/>
          <p:nvPr/>
        </p:nvPicPr>
        <p:blipFill>
          <a:blip r:embed="rId1"/>
          <a:stretch/>
        </p:blipFill>
        <p:spPr>
          <a:xfrm>
            <a:off x="900000" y="1557360"/>
            <a:ext cx="7561440" cy="4664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3645000"/>
            <a:ext cx="82296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ю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–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соя, хлопчатник, рис, арахис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их цветения светлое врем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н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евышать 12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050920" y="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64360" cy="3384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24000" y="3908520"/>
            <a:ext cx="882000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971640" y="465300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4000" y="393372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260280"/>
            <a:ext cx="417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Рисунок2"/>
          <p:cNvPicPr/>
          <p:nvPr/>
        </p:nvPicPr>
        <p:blipFill>
          <a:blip r:embed="rId1"/>
          <a:stretch/>
        </p:blipFill>
        <p:spPr>
          <a:xfrm>
            <a:off x="1403280" y="765000"/>
            <a:ext cx="6048360" cy="3191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19280" y="4869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Рисунок1"/>
          <p:cNvPicPr/>
          <p:nvPr/>
        </p:nvPicPr>
        <p:blipFill>
          <a:blip r:embed="rId1"/>
          <a:stretch/>
        </p:blipFill>
        <p:spPr>
          <a:xfrm>
            <a:off x="1403280" y="836640"/>
            <a:ext cx="6267600" cy="3381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Рисунок1"/>
          <p:cNvPicPr/>
          <p:nvPr/>
        </p:nvPicPr>
        <p:blipFill>
          <a:blip r:embed="rId1"/>
          <a:stretch/>
        </p:blipFill>
        <p:spPr>
          <a:xfrm>
            <a:off x="1187280" y="692280"/>
            <a:ext cx="6737400" cy="39430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97964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58920" y="4203720"/>
            <a:ext cx="87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Рисунок2"/>
          <p:cNvPicPr/>
          <p:nvPr/>
        </p:nvPicPr>
        <p:blipFill>
          <a:blip r:embed="rId1"/>
          <a:stretch/>
        </p:blipFill>
        <p:spPr>
          <a:xfrm>
            <a:off x="1332000" y="620640"/>
            <a:ext cx="6107040" cy="3565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1480" y="3789360"/>
            <a:ext cx="86425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Рисунок2"/>
          <p:cNvPicPr/>
          <p:nvPr/>
        </p:nvPicPr>
        <p:blipFill>
          <a:blip r:embed="rId1"/>
          <a:stretch/>
        </p:blipFill>
        <p:spPr>
          <a:xfrm>
            <a:off x="1116000" y="765000"/>
            <a:ext cx="6929280" cy="28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Рисунок1"/>
          <p:cNvPicPr/>
          <p:nvPr/>
        </p:nvPicPr>
        <p:blipFill>
          <a:blip r:embed="rId1"/>
          <a:stretch/>
        </p:blipFill>
        <p:spPr>
          <a:xfrm>
            <a:off x="2050920" y="549360"/>
            <a:ext cx="5040360" cy="6165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9:05:29Z</dcterms:created>
  <dc:creator>user</dc:creator>
  <dc:description/>
  <dc:language>en-US</dc:language>
  <cp:lastModifiedBy>LEGION</cp:lastModifiedBy>
  <dcterms:modified xsi:type="dcterms:W3CDTF">2014-11-24T13:12:12Z</dcterms:modified>
  <cp:revision>31</cp:revision>
  <dc:subject/>
  <dc:title>Для чего свет нужен растениям </dc:title>
</cp:coreProperties>
</file>