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9947275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46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3099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33640" y="-360"/>
            <a:ext cx="431028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5728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513120"/>
            <a:ext cx="43099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33640" y="6513120"/>
            <a:ext cx="431028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A72A0-A814-46F6-82AB-494ADEEDF3A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Для чего свет нужен растениям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 клас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Місце для номера слайда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83C4D-45B7-41BF-A627-5280EF09853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00"/>
                </a:solidFill>
                <a:latin typeface="Arial"/>
              </a:rPr>
              <a:t>Мягкий ультрафиолет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есет много энергии и вызывает образование витамина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в коже человека, он же воспринимается органами зрения многих насекомы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00"/>
                </a:solidFill>
                <a:latin typeface="Arial"/>
              </a:rPr>
              <a:t>Видимый свет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спользуется для фотосинтеза растениями, фотосинтезирующими бактериями и животными для ориента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3597C-0921-43CA-A0E1-6FEA8071680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00"/>
                </a:solidFill>
                <a:latin typeface="Arial"/>
              </a:rPr>
              <a:t>Инфракрасная часть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солнечного спектра (тепловые лучи) вызывает нагревание предметов, особенно важна эта часть спектра для животных с непостоянной температурой тел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00"/>
                </a:solidFill>
                <a:latin typeface="Arial"/>
              </a:rPr>
              <a:t>Меньше всего энергии несут инфракрасные луч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59EFF-76EA-4CDB-94DA-4CBE6EF7488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акой свет наиболее интенсивно используется при фотосинтез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акой свет несет больше энерги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акой свет является важным источником тепловой энерги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т чего зависят условия освещения в каждом конкретном мест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чему в тундре преобладает рассеянный свет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чему морошка, которая растет в тундре, не сладкая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AC503-2F35-4646-BDBD-94000310222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Свет и фотосинте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и фотосинтезе из углекислого газа и воды образуются органические вещества и выделяется кислоро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цесс фотосинтеза называют </a:t>
            </a:r>
            <a:r>
              <a:rPr b="1" i="1" lang="ru-RU" sz="1200" spc="-1" strike="noStrike">
                <a:solidFill>
                  <a:srgbClr val="ff0000"/>
                </a:solidFill>
                <a:latin typeface="Arial"/>
              </a:rPr>
              <a:t>воздушным питанием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раст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Если света растениям не хватает, фотосинтез в них протекает вяло, органических веществ образуется мало. Растения вырастают слабыми, бледными. Говорят, что растения голодаю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ADADD-D425-4055-826C-5D075B63CAC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вет поглощается зеленым пигментом – </a:t>
            </a:r>
            <a:r>
              <a:rPr b="1" lang="ru-RU" sz="1200" spc="-1" strike="noStrike">
                <a:solidFill>
                  <a:srgbClr val="008000"/>
                </a:solidFill>
                <a:latin typeface="Arial"/>
              </a:rPr>
              <a:t>хлорофиллом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. Он содержится в хлоропластах клеток. Хлорофилл образуется только на свету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Ростки на клубнях картофеля белые в темноте, а на свету зеленеют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EB158-11C6-48F4-9DA9-8E08D9ED99E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Влияние света на рост раст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905FB-03BB-417F-8BDF-AB07973826F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Arial"/>
              </a:rPr>
              <a:t>Свет и цветение расте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чало цветения растений зависит от продолжительности светлого времени суто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зличают растения </a:t>
            </a:r>
            <a:r>
              <a:rPr b="1" lang="ru-RU" sz="1200" spc="-1" strike="noStrike">
                <a:solidFill>
                  <a:srgbClr val="008000"/>
                </a:solidFill>
                <a:latin typeface="Arial"/>
              </a:rPr>
              <a:t>длинного дня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, растения </a:t>
            </a:r>
            <a:r>
              <a:rPr b="1" lang="ru-RU" sz="1200" spc="-1" strike="noStrike">
                <a:solidFill>
                  <a:srgbClr val="008000"/>
                </a:solidFill>
                <a:latin typeface="Arial"/>
              </a:rPr>
              <a:t>короткого дня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и нейтральны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FE29A-69B7-43A6-B4F6-F15D4C129CC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северных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районах (где летом дни длиннее, чем на юге) преобладают </a:t>
            </a:r>
            <a:r>
              <a:rPr b="1" lang="ru-RU" sz="1200" spc="-1" strike="noStrike">
                <a:solidFill>
                  <a:srgbClr val="008000"/>
                </a:solidFill>
                <a:latin typeface="Arial"/>
              </a:rPr>
              <a:t>растения длинного дня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(пшеница, рожь, овес, картофель, горох, вика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Чтобы эти растения зацвели, длина дня должна быть </a:t>
            </a:r>
            <a:r>
              <a:rPr b="1" lang="ru-RU" sz="1200" spc="-1" strike="noStrike">
                <a:solidFill>
                  <a:srgbClr val="008000"/>
                </a:solidFill>
                <a:latin typeface="Arial"/>
              </a:rPr>
              <a:t>больше 12 часов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BB89E-1647-4C12-AB93-CF39224ABB2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8000"/>
                </a:solidFill>
                <a:latin typeface="Arial"/>
              </a:rPr>
              <a:t>Нейтральные раст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оматы, одуванчик лекарственный, тростник обыкновенный и др. зацветают при разной длине дн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92046-3E48-4293-8A95-0A3DFDC7673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00"/>
                </a:solidFill>
                <a:latin typeface="Arial"/>
              </a:rPr>
              <a:t>Свет и цветение раст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Длиннодневные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ацветают в начале лета, до осени успевают созреть плоды и семена (злаки — рожь, пшеница, овес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короткодневные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(астры, георгины, хризантемы) — растения южного происхождения, где продолжительность светового дня около 12 часов, поэтому они у нас зацветают при коротком дне осень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A7015-671B-4EAB-A2BA-CE3E0158EAE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в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Прямой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лнечный св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Рассеянный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солнечный свет (отражается находящимися в воздухе капельками водяного пара, частицами пыли, немногими облак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Місце для номера слайда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1B6BB-5D3F-4081-8A39-894941A2DB5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ывод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ыращивая растения в новых районах, необходимо учитывать требования определенных растений к продолжительности светового времени суто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94FFE-755A-42E1-B298-D0A2C8FB8D1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00"/>
                </a:solidFill>
                <a:latin typeface="Arial"/>
              </a:rPr>
              <a:t>Повтор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Что такое фотосинтез? Где он происходит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 пищу употребляют ещё не вышедшие из-под земли белые сочные побеги спаржи (овощное растение). Почему они белые, а не зелены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ак влияет свет на рост растений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акие растения называют короткодневными, длиннодневными? Где они распространены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046BD-1CE3-4DBE-A5FF-5BB1738DA85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На севере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солнечный свет содержит больше 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синих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1200" spc="-1" strike="noStrike">
                <a:solidFill>
                  <a:srgbClr val="990099"/>
                </a:solidFill>
                <a:latin typeface="Arial"/>
              </a:rPr>
              <a:t>фиолетовых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лучей,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а южнее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, особенно вблизи экватора, больше 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красны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7AAC1-76B9-4804-B8BB-8EB5A7110B4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00"/>
                </a:solidFill>
                <a:latin typeface="Arial"/>
              </a:rPr>
              <a:t>Солнечный спект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стения для фотосинтеза используют, в основном,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 красные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синие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1200" spc="-1" strike="noStrike">
                <a:solidFill>
                  <a:srgbClr val="990099"/>
                </a:solidFill>
                <a:latin typeface="Arial"/>
              </a:rPr>
              <a:t>фиолетовые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лучи. Когда много красных лучей, в растениях образуется больше сахаров, поэтому южные плоды такие сладкие (виноград, персики, абрикосы, арбузы, дыни и др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D0F3D-084D-4DAD-A7A8-C02BCD0F63B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99"/>
                </a:solidFill>
                <a:latin typeface="Arial"/>
              </a:rPr>
              <a:t>Разнообразие условий освещ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В тундре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– много 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синих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1200" spc="-1" strike="noStrike">
                <a:solidFill>
                  <a:srgbClr val="990099"/>
                </a:solidFill>
                <a:latin typeface="Arial"/>
              </a:rPr>
              <a:t>фиолетовых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лучей и мало красных (в воздухе много паров воды, небо часто затянуто облаками, преобладает рассеянный свет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В Крыму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– много 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красных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лучей (ясная безоблачная погода, преобладает прямой св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4E688-F948-40E9-8282-99F36EC244C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99"/>
                </a:solidFill>
                <a:latin typeface="Arial"/>
              </a:rPr>
              <a:t>Разнообразие условий освещ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Лучше освещены склоны холмов и гор, берега рек и морей, обращенные к юг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 лесу высокие деревья создают густую тен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 одном и том же месте освещение меняется в течение  суток (в зависимости от погоды) и по сезонам го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Поэтому растения вынуждены </a:t>
            </a:r>
            <a:r>
              <a:rPr b="1" lang="ru-RU" sz="1200" spc="-1" strike="noStrike" u="sng">
                <a:solidFill>
                  <a:srgbClr val="ff0000"/>
                </a:solidFill>
                <a:uFillTx/>
                <a:latin typeface="Arial"/>
              </a:rPr>
              <a:t>приспосабливаться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к различным условиям освещ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E2621-BF31-474C-BFFE-6F6C651D80A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ля живых организмов наиболее важны: свет ультрафиолетовой части спектра, видимый свет и инфракрасное излучени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00"/>
                </a:solidFill>
                <a:latin typeface="Arial"/>
              </a:rPr>
              <a:t>Жесткий ультрафиолет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убителен для живых клеток, до поверхности Земли не доходит, так как отражается озоновым экран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F0D79-F0F2-41E1-BF0B-D13CC85F4ED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C5FA-BA7C-4059-99D9-08F02B7A7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676F-446D-4A8A-BB5D-FD2C9AFCD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1DB9-9B24-4297-86E9-AD82332AE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BA88-B569-48FB-BFCE-D3760D067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A78C-2EDF-4021-B9B8-1C5864400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B7E0-0E87-4A24-B9BB-DC9E4DA6D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225C-7AFE-44ED-A907-EA538EB16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0C8A-0678-487B-AAD2-97DE0E26E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46F3-14E8-4E14-8067-16CD383AB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F351-B0ED-46E3-B66A-B613C59DC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A44C-F782-48C3-82E2-4FC378311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266B-DB4A-4F02-9F0E-2E8BBB0CE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23C11-A2B3-4893-9FC3-C8F7D7BB599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Для чего свет нужен растениям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51280" y="4797000"/>
            <a:ext cx="291276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4"/>
          <p:cNvSpPr/>
          <p:nvPr/>
        </p:nvSpPr>
        <p:spPr>
          <a:xfrm>
            <a:off x="2050920" y="189000"/>
            <a:ext cx="50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С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468360" y="3789360"/>
            <a:ext cx="8281800" cy="29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3300"/>
                </a:solidFill>
                <a:latin typeface="Arial"/>
              </a:rPr>
              <a:t>Мягкий ультрафиолет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несет много энергии и вызывает образование витамина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в коже человека, он же воспринимается органами зрения многих насекомых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3300"/>
                </a:solidFill>
                <a:latin typeface="Arial"/>
              </a:rPr>
              <a:t>Видимый свет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используется для фотосинтеза растениями, фотосинтезирующими бактериями и животными для ориентации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7" descr="Рисунок3"/>
          <p:cNvPicPr/>
          <p:nvPr/>
        </p:nvPicPr>
        <p:blipFill>
          <a:blip r:embed="rId1"/>
          <a:stretch/>
        </p:blipFill>
        <p:spPr>
          <a:xfrm>
            <a:off x="1116000" y="836640"/>
            <a:ext cx="6929280" cy="2833560"/>
          </a:xfrm>
          <a:prstGeom prst="rect">
            <a:avLst/>
          </a:prstGeom>
          <a:ln w="0">
            <a:noFill/>
          </a:ln>
        </p:spPr>
      </p:pic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4"/>
          <p:cNvSpPr/>
          <p:nvPr/>
        </p:nvSpPr>
        <p:spPr>
          <a:xfrm>
            <a:off x="2050920" y="189000"/>
            <a:ext cx="50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С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"/>
          <p:cNvPicPr/>
          <p:nvPr/>
        </p:nvPicPr>
        <p:blipFill>
          <a:blip r:embed="rId1"/>
          <a:stretch/>
        </p:blipFill>
        <p:spPr>
          <a:xfrm>
            <a:off x="973080" y="765000"/>
            <a:ext cx="6912000" cy="28242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6"/>
          <p:cNvSpPr/>
          <p:nvPr/>
        </p:nvSpPr>
        <p:spPr>
          <a:xfrm>
            <a:off x="358920" y="4005360"/>
            <a:ext cx="8785080" cy="21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3300"/>
                </a:solidFill>
                <a:latin typeface="Arial"/>
              </a:rPr>
              <a:t>Инфракрасная часть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солнечного спектра (тепловые лучи) вызывает нагревание предметов, особенно важна эта часть спектра для животных с непостоянной температурой тела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3300"/>
                </a:solidFill>
                <a:latin typeface="Arial"/>
              </a:rPr>
              <a:t>Меньше всего энергии несут инфракрасные луч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4"/>
          <p:cNvSpPr/>
          <p:nvPr/>
        </p:nvSpPr>
        <p:spPr>
          <a:xfrm>
            <a:off x="1692360" y="549360"/>
            <a:ext cx="50403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3300"/>
                </a:solidFill>
                <a:latin typeface="Arial"/>
              </a:rPr>
              <a:t>Повтор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684360" y="1413000"/>
            <a:ext cx="80643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кой свет наиболее интенсивно используется при фотосинтез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кой свет несет больше энерги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кой свет является важным источником тепловой энерги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т чего зависят условия освещения в каждом конкретном мест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чему в тундре преобладает рассеянный свет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чему морошка, которая растет в тундре, не сладка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Свет и фотосинте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и фотосинтезе из углекислого газа и воды образуются органические вещества и выделяется кислор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цесс фотосинтеза называют 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воздушным питанием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раст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сли света растениям не хватает, фотосинтез в них протекает вяло, органических веществ образуется мало. Растения вырастают слабыми, бледными. Говорят, что растения голодаю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вет поглощается зеленым пигментом – </a:t>
            </a: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хлорофиллом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 Он содержится в хлоропластах клеток. Хлорофилл образуется только на свет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(Ростки на клубнях картофеля белые в темноте, а на свету зеленеют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Влияние света на рост растен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Рисунок 1" descr="C:\Documents and Settings\Учитель\Мои документы\My Pictures\Scan Pictures\20080916\Image2.bmp"/>
          <p:cNvPicPr/>
          <p:nvPr/>
        </p:nvPicPr>
        <p:blipFill>
          <a:blip r:embed="rId1"/>
          <a:stretch/>
        </p:blipFill>
        <p:spPr>
          <a:xfrm>
            <a:off x="900000" y="1557360"/>
            <a:ext cx="7561440" cy="4664160"/>
          </a:xfrm>
          <a:prstGeom prst="rect">
            <a:avLst/>
          </a:prstGeom>
          <a:ln w="0">
            <a:noFill/>
          </a:ln>
        </p:spPr>
      </p:pic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чало цветения растений зависит от продолжительности светлого времени сут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зличают растения </a:t>
            </a: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длинного дня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, растения </a:t>
            </a: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короткого дня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и нейтральны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Свет и цветение растен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395280" y="260280"/>
            <a:ext cx="822960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северных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районах (где летом дни длиннее, чем на юге) преобладают </a:t>
            </a: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растения длинного дня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(пшеница, рожь, овес, картофель, горох, вика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тобы эти растения зацвели, длина дня должна быть </a:t>
            </a: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больше 12 часов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468360" y="3645000"/>
            <a:ext cx="8229600" cy="28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южных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районах – растения </a:t>
            </a: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короткого дня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(соя, хлопчатник, рис, арахис и др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ля их цветения светлое время </a:t>
            </a: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не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олжно </a:t>
            </a: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превышать 12 час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Нейтральные раст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оматы, одуванчик лекарственный, тростник обыкновенный и др. зацветают при разной длине д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4"/>
          <p:cNvSpPr/>
          <p:nvPr/>
        </p:nvSpPr>
        <p:spPr>
          <a:xfrm>
            <a:off x="2050920" y="0"/>
            <a:ext cx="54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Свет и цветение раст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6" descr=""/>
          <p:cNvPicPr/>
          <p:nvPr/>
        </p:nvPicPr>
        <p:blipFill>
          <a:blip r:embed="rId1"/>
          <a:stretch/>
        </p:blipFill>
        <p:spPr>
          <a:xfrm>
            <a:off x="1332000" y="549360"/>
            <a:ext cx="6264360" cy="338436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5"/>
          <p:cNvSpPr/>
          <p:nvPr/>
        </p:nvSpPr>
        <p:spPr>
          <a:xfrm>
            <a:off x="324000" y="3908520"/>
            <a:ext cx="8820000" cy="29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 u="sng">
                <a:solidFill>
                  <a:srgbClr val="000000"/>
                </a:solidFill>
                <a:uFillTx/>
                <a:latin typeface="Arial"/>
              </a:rPr>
              <a:t>Длиннодневные </a:t>
            </a: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зацветают в начале лета, до осени успевают созреть плоды и семена (злаки — рожь, пшеница, овес),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 u="sng">
                <a:solidFill>
                  <a:srgbClr val="000000"/>
                </a:solidFill>
                <a:uFillTx/>
                <a:latin typeface="Arial"/>
              </a:rPr>
              <a:t>короткодневные</a:t>
            </a: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 (астры, георгины, хризантемы) — растения южного происхождения, где продолжительность светового дня около 12 часов, поэтому они у нас зацветают при коротком дне осенью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в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Прямой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олнечный св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Рассеянный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солнечный свет (отражается находящимися в воздухе капельками водяного пара, частицами пыли, немногими облакам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2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ывод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ыращивая растения в новых районах, необходимо учитывать требования определенных растений к продолжительности светового времени сут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5"/>
          <p:cNvSpPr/>
          <p:nvPr/>
        </p:nvSpPr>
        <p:spPr>
          <a:xfrm>
            <a:off x="971640" y="4653000"/>
            <a:ext cx="7200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24000" y="3933720"/>
            <a:ext cx="8820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то такое фотосинтез? Где он происходи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пищу употребляют ещё не вышедшие из-под земли белые сочные побеги спаржи (овощное растение). Почему они белые, а не зелены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 влияет свет на рост растени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ие растения называют короткодневными, длиннодневными? Где они распространен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0" y="260280"/>
            <a:ext cx="41752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Повтор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8" descr="Рисунок2"/>
          <p:cNvPicPr/>
          <p:nvPr/>
        </p:nvPicPr>
        <p:blipFill>
          <a:blip r:embed="rId1"/>
          <a:stretch/>
        </p:blipFill>
        <p:spPr>
          <a:xfrm>
            <a:off x="1403280" y="765000"/>
            <a:ext cx="6048360" cy="3191040"/>
          </a:xfrm>
          <a:prstGeom prst="rect">
            <a:avLst/>
          </a:prstGeom>
          <a:ln w="0">
            <a:noFill/>
          </a:ln>
        </p:spPr>
      </p:pic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2050920" y="0"/>
            <a:ext cx="50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Солнечный спект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1619280" y="4869000"/>
            <a:ext cx="604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К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4400" spc="-1" strike="noStrike">
                <a:solidFill>
                  <a:srgbClr val="ff6600"/>
                </a:solidFill>
                <a:latin typeface="Arial"/>
              </a:rPr>
              <a:t>О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Ж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З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4400" spc="-1" strike="noStrike">
                <a:solidFill>
                  <a:srgbClr val="33ccff"/>
                </a:solidFill>
                <a:latin typeface="Arial"/>
              </a:rPr>
              <a:t>Г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4400" spc="-1" strike="noStrike">
                <a:solidFill>
                  <a:srgbClr val="0000cc"/>
                </a:solidFill>
                <a:latin typeface="Arial"/>
              </a:rPr>
              <a:t>С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4400" spc="-1" strike="noStrike">
                <a:solidFill>
                  <a:srgbClr val="9900cc"/>
                </a:solidFill>
                <a:latin typeface="Arial"/>
              </a:rPr>
              <a:t>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8" descr="Рисунок1"/>
          <p:cNvPicPr/>
          <p:nvPr/>
        </p:nvPicPr>
        <p:blipFill>
          <a:blip r:embed="rId1"/>
          <a:stretch/>
        </p:blipFill>
        <p:spPr>
          <a:xfrm>
            <a:off x="1403280" y="836640"/>
            <a:ext cx="6267600" cy="3381480"/>
          </a:xfrm>
          <a:prstGeom prst="rect">
            <a:avLst/>
          </a:prstGeom>
          <a:ln w="0">
            <a:noFill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5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5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5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395280" y="4508640"/>
            <a:ext cx="822960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На севере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солнечный свет содержит больше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синих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3200" spc="-1" strike="noStrike">
                <a:solidFill>
                  <a:srgbClr val="990099"/>
                </a:solidFill>
                <a:latin typeface="Arial"/>
              </a:rPr>
              <a:t>фиолетовых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лучей,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а южнее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, особенно вблизи экватора, больше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красн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2050920" y="0"/>
            <a:ext cx="50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Солнечный спект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Рисунок1"/>
          <p:cNvPicPr/>
          <p:nvPr/>
        </p:nvPicPr>
        <p:blipFill>
          <a:blip r:embed="rId1"/>
          <a:stretch/>
        </p:blipFill>
        <p:spPr>
          <a:xfrm>
            <a:off x="1187280" y="692280"/>
            <a:ext cx="6737400" cy="394308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7"/>
          <p:cNvSpPr/>
          <p:nvPr/>
        </p:nvSpPr>
        <p:spPr>
          <a:xfrm>
            <a:off x="1979640" y="0"/>
            <a:ext cx="50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Солнечный спект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9"/>
          <p:cNvSpPr/>
          <p:nvPr/>
        </p:nvSpPr>
        <p:spPr>
          <a:xfrm>
            <a:off x="358920" y="4203720"/>
            <a:ext cx="8785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стения для фотосинтеза используют, в основном,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красные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синие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2800" spc="-1" strike="noStrike">
                <a:solidFill>
                  <a:srgbClr val="990099"/>
                </a:solidFill>
                <a:latin typeface="Arial"/>
              </a:rPr>
              <a:t>фиолетовые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лучи. Когда много красных лучей, в растениях образуется больше сахаров, поэтому южные плоды такие сладкие (виноград, персики, абрикосы, арбузы, дыни и др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0" descr="Рисунок2"/>
          <p:cNvPicPr/>
          <p:nvPr/>
        </p:nvPicPr>
        <p:blipFill>
          <a:blip r:embed="rId1"/>
          <a:stretch/>
        </p:blipFill>
        <p:spPr>
          <a:xfrm>
            <a:off x="1332000" y="620640"/>
            <a:ext cx="6107040" cy="3565440"/>
          </a:xfrm>
          <a:prstGeom prst="rect">
            <a:avLst/>
          </a:prstGeom>
          <a:ln w="0">
            <a:noFill/>
          </a:ln>
        </p:spPr>
      </p:pic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99"/>
                </a:solidFill>
                <a:latin typeface="Arial"/>
              </a:rPr>
              <a:t>Разнообразие условий освещ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В тундре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– много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синих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3200" spc="-1" strike="noStrike">
                <a:solidFill>
                  <a:srgbClr val="990099"/>
                </a:solidFill>
                <a:latin typeface="Arial"/>
              </a:rPr>
              <a:t>фиолетовых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учей и мало красных (в воздухе много паров воды, небо часто затянуто облаками, преобладает рассеянный свет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В Крыму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– много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красных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лучей (ясная безоблачная погода, преобладает прямой с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Лучше освещены склоны холмов и гор, берега рек и морей, обращенные к югу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 лесу высокие деревья создают густую тень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 одном и том же месте освещение меняется в течение  суток (в зависимости от погоды) и по сезонам год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000" spc="-1" strike="noStrike" u="sng">
                <a:solidFill>
                  <a:srgbClr val="000000"/>
                </a:solidFill>
                <a:uFillTx/>
                <a:latin typeface="Arial"/>
              </a:rPr>
              <a:t>Поэтому растения вынуждены </a:t>
            </a:r>
            <a:r>
              <a:rPr b="1" lang="ru-RU" sz="3000" spc="-1" strike="noStrike" u="sng">
                <a:solidFill>
                  <a:srgbClr val="ff0000"/>
                </a:solidFill>
                <a:uFillTx/>
                <a:latin typeface="Arial"/>
              </a:rPr>
              <a:t>приспосабливаться </a:t>
            </a:r>
            <a:r>
              <a:rPr b="1" lang="ru-RU" sz="3000" spc="-1" strike="noStrike" u="sng">
                <a:solidFill>
                  <a:srgbClr val="000000"/>
                </a:solidFill>
                <a:uFillTx/>
                <a:latin typeface="Arial"/>
              </a:rPr>
              <a:t>к различным условиям освещени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99"/>
                </a:solidFill>
                <a:latin typeface="Arial"/>
              </a:rPr>
              <a:t>Разнообразие условий освещ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5"/>
          <p:cNvSpPr/>
          <p:nvPr/>
        </p:nvSpPr>
        <p:spPr>
          <a:xfrm>
            <a:off x="2050920" y="189000"/>
            <a:ext cx="50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С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501480" y="3789360"/>
            <a:ext cx="8642520" cy="25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Для живых организмов наиболее важны: свет ультрафиолетовой части спектра, видимый свет и инфракрасное излучение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3300"/>
                </a:solidFill>
                <a:latin typeface="Arial"/>
              </a:rPr>
              <a:t>Жесткий ультрафиолет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губителен для живых клеток, до поверхности Земли не доходит, так как отражается озоновым экраном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Рисунок2"/>
          <p:cNvPicPr/>
          <p:nvPr/>
        </p:nvPicPr>
        <p:blipFill>
          <a:blip r:embed="rId1"/>
          <a:stretch/>
        </p:blipFill>
        <p:spPr>
          <a:xfrm>
            <a:off x="1116000" y="765000"/>
            <a:ext cx="6929280" cy="283392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4"/>
          <p:cNvSpPr/>
          <p:nvPr/>
        </p:nvSpPr>
        <p:spPr>
          <a:xfrm>
            <a:off x="2050920" y="189000"/>
            <a:ext cx="50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С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6" descr="Рисунок1"/>
          <p:cNvPicPr/>
          <p:nvPr/>
        </p:nvPicPr>
        <p:blipFill>
          <a:blip r:embed="rId1"/>
          <a:stretch/>
        </p:blipFill>
        <p:spPr>
          <a:xfrm>
            <a:off x="2050920" y="549360"/>
            <a:ext cx="5040360" cy="6165720"/>
          </a:xfrm>
          <a:prstGeom prst="rect">
            <a:avLst/>
          </a:prstGeom>
          <a:ln w="0">
            <a:noFill/>
          </a:ln>
        </p:spPr>
      </p:pic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4T19:05:29Z</dcterms:created>
  <dc:creator>user</dc:creator>
  <dc:description/>
  <dc:language>en-US</dc:language>
  <cp:lastModifiedBy>LEGION</cp:lastModifiedBy>
  <dcterms:modified xsi:type="dcterms:W3CDTF">2014-11-24T13:12:12Z</dcterms:modified>
  <cp:revision>31</cp:revision>
  <dc:subject/>
  <dc:title>Для чего свет нужен растениям </dc:title>
</cp:coreProperties>
</file>