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F436-3108-4FA9-BD4F-CD56DB427B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точный уровень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учить структуру клет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еханизм устойчивости клетки как био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тка –элементарная структурная единица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5E2D-6727-485E-8618-181C82575F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леточный уровень  организации живой ма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1 кла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6914-1A39-42DF-8252-84376F7843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щие характеристики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9EE5-387E-46F3-B9F9-4651183B1F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Структурные элемент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иологические молекул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Д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Б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Углево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Лип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асти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Цитопла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Яд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рган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8D26-B274-4CD8-9437-82168C49ED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Основные процесс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бмен вещест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амовоспроизведение ДН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Генетическая регуляция внутриклеточных процесс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ередача наследственной информации от клетки к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Накопление изменений в генетическом аппарат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Реагирование на раздражение при взаимодействии с внешней сре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6042-9336-4301-AD3A-42FBD5C040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Организация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сложность и разнообразие биологических молеку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. Специфичность функционирования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3. Уникальность устойчивости физико-химических связей 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4. Упорядоченность протекания процессов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2F44-9AAE-4673-B634-E17BE5C96DE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Значение клеточного уровня живой матер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 . Клетка свободноживущий одноклеточный орган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E35-6EAA-4209-8777-E2A7D92012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оцессы жизнедеятельности   </a:t>
            </a:r>
            <a:br>
              <a:rPr sz="1400"/>
            </a:b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Клет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Матричный синтез органических веществ происходит только в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собенностью клеток является  их специализация , дифференциация свойств и фор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Использование для жизни разнообразных абиотических и биотических условий сре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A5BB-6FD2-4639-8189-8DB4DE883E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бытия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Эволюция развития организмов ( автотрофных и гетеротрофных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разных форм клеток ( прокариоты и эукариоты , неподвижные и подвижные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оздание многоклеточных и симбиотических форм жизн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клетки привело круговороту веществ в био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F5B1-747B-40CD-BFD8-F2F01CD279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88F-A036-47B1-8088-F251B7FB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630-69D3-41B8-B288-4322D2F1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927-5C4A-4962-BA10-654C6004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BE0-133E-4741-825F-CA0AAD63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1664-E065-4A5C-ADF3-0E32DB86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AD88-3BDB-492C-BBE0-B04C6840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B5A0-9310-4799-8758-0D0422A3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1E06-E3EC-456C-A16F-69C72365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29EA-811E-43D6-8DC3-6CD2EBB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98F7-A032-406F-9B23-4D1ABBD0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CDD1-7D90-42A3-B3A6-6991E2AC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392-7AB0-4810-BD58-9CA5A56D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2769-64CC-4364-91C7-BD6775F2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4BFE-1590-404A-B04D-01D0FAEF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51EA-B6F2-4689-88F3-5B0B20A3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7074-6B40-4B8E-A637-FEAE126A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6CEB-1380-4998-9DCA-69611189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B79-ABCA-4AAE-A2CB-7ED07064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847-9C42-4F80-8DBD-53E58BAA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7F6-AE45-4F38-BFEC-FCB3C2E9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372-90F9-4D7D-880A-D7533E5F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D45-BAF2-4DF3-BB57-E4E98F44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D35-185D-45D3-B9ED-C5C7E619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761-AF49-49F3-A42F-C90998D0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9142-0B67-4CE7-9DD3-E6030FA71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33C2-8121-4E43-8B98-268E4F9B1E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леточный уровень жизн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404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Изучить структуру клеток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Механизм устойчивости клетки как биосистемы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Клетка –элементарная структурная единица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09010501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48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2020101"/>
          <p:cNvPicPr/>
          <p:nvPr/>
        </p:nvPicPr>
        <p:blipFill>
          <a:blip r:embed="rId2"/>
          <a:stretch/>
        </p:blipFill>
        <p:spPr>
          <a:xfrm>
            <a:off x="4572000" y="1484280"/>
            <a:ext cx="4114800" cy="4824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09010601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43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09010102"/>
          <p:cNvPicPr/>
          <p:nvPr/>
        </p:nvPicPr>
        <p:blipFill>
          <a:blip r:embed="rId2"/>
          <a:stretch/>
        </p:blipFill>
        <p:spPr>
          <a:xfrm>
            <a:off x="4788000" y="1484280"/>
            <a:ext cx="4032000" cy="4608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02020403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507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Колониальные жгутиковые"/>
          <p:cNvPicPr/>
          <p:nvPr/>
        </p:nvPicPr>
        <p:blipFill>
          <a:blip r:embed="rId2"/>
          <a:stretch/>
        </p:blipFill>
        <p:spPr>
          <a:xfrm>
            <a:off x="4716360" y="1052640"/>
            <a:ext cx="3888000" cy="4968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Клеточный уровень  организации живой матер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59280" y="458136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11 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щие характеристики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09010601"/>
          <p:cNvPicPr/>
          <p:nvPr/>
        </p:nvPicPr>
        <p:blipFill>
          <a:blip r:embed="rId1"/>
          <a:stretch/>
        </p:blipFill>
        <p:spPr>
          <a:xfrm>
            <a:off x="684360" y="1989000"/>
            <a:ext cx="374328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09010101"/>
          <p:cNvPicPr/>
          <p:nvPr/>
        </p:nvPicPr>
        <p:blipFill>
          <a:blip r:embed="rId2"/>
          <a:stretch/>
        </p:blipFill>
        <p:spPr>
          <a:xfrm>
            <a:off x="542916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09010102"/>
          <p:cNvPicPr/>
          <p:nvPr/>
        </p:nvPicPr>
        <p:blipFill>
          <a:blip r:embed="rId3"/>
          <a:stretch/>
        </p:blipFill>
        <p:spPr>
          <a:xfrm>
            <a:off x="1238400" y="4114800"/>
            <a:ext cx="28288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3020201"/>
          <p:cNvPicPr/>
          <p:nvPr/>
        </p:nvPicPr>
        <p:blipFill>
          <a:blip r:embed="rId4"/>
          <a:stretch/>
        </p:blipFill>
        <p:spPr>
          <a:xfrm>
            <a:off x="5364000" y="4149720"/>
            <a:ext cx="2737080" cy="19432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Структурные элемент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иологические молекулы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Д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Р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Бел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Углев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Лип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Части клетк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Цитопла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Ядр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Органо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Основные процесс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Обмен вещест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амовоспроизведение ДНК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Генетическая регуляция внутриклеточных процессо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ередача наследственной информации от клетки к клетк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Накопление изменений в генетическом аппарат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Реагирование на раздражение при взаимодействии с внешней сред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рганизация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1. сложность и разнообразие биологических молеку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2. Специфичность функционирования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3. Уникальность устойчивости физико-химических связей 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4. Упорядоченность протекания процессов жизне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Значение клеточного уровня живой матери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2 . Клетка свободноживущий одноклеточный организ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роцессы жизнедеятельности  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Клетк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Матричный синтез органических веществ происходит только в клетк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Особенностью клеток является  их специализация , дифференциация свойств и фор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Использование для жизни разнообразных абиотических и биотических условий сре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бытия клеточного уровн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: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Эволюция развития организмов ( автотрофных и гетеротрофных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разных форм клеток ( прокариоты и эукариоты , неподвижные и подвижные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оздание многоклеточных и симбиотических форм жизн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клетки привело круговороту веществ в биосфе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8:57:51Z</dcterms:created>
  <dc:creator>Admin</dc:creator>
  <dc:description/>
  <dc:language>en-US</dc:language>
  <cp:lastModifiedBy>LEGION</cp:lastModifiedBy>
  <dcterms:modified xsi:type="dcterms:W3CDTF">2014-11-24T13:13:15Z</dcterms:modified>
  <cp:revision>6</cp:revision>
  <dc:subject/>
  <dc:title>Клеточный уровень жизни </dc:title>
</cp:coreProperties>
</file>