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6D1-4C59-4DB5-9502-F9165EC3D6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точный уровень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учить структуру клет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еханизм устойчивости клетки как био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тка –элементарная структурная единица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5F79-792B-4D69-89E7-93FDBDE680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леточный уровень  организации живой ма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1 кла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69B0-5A1A-4B6C-9A9B-39BA69C4B5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щие характеристики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2A09-65D7-4B67-9CA4-B2A59C8AED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Структурные элемент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иологические молекул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Д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Б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Углево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Лип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асти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Цитопла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Яд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рган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BD7-B3B1-468A-8BE9-BB3C01EFFE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alibri"/>
              </a:rPr>
              <a:t>Основные процессы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бмен вещест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амовоспроизведение ДН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Генетическая регуляция внутриклеточных процесс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ередача наследственной информации от клетки к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Накопление изменений в генетическом аппарат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29292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Реагирование на раздражение при взаимодействии с внешней сред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185D-798B-4EEB-A67B-3DFF90C9579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Организация клеточного уровн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сложность и разнообразие биологических молеку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. Специфичность функционирования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3. Уникальность устойчивости физико-химических связей  внутриклеточных структур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4. Упорядоченность протекания процессов жизне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ADC3-4CA6-4884-B157-CADD3231BB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Значение клеточного уровня живой матер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2 . Клетка свободноживущий одноклеточный организ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A7F3-6B36-4957-ABB1-9BF24ABCB3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оцессы жизнедеятельности   </a:t>
            </a:r>
            <a:br>
              <a:rPr sz="1400"/>
            </a:b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Клет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Матричный синтез органических веществ происходит только в клетк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Особенностью клеток является  их специализация , дифференциация свойств и фор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Использование для жизни разнообразных абиотических и биотических условий сре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338-E2CE-403B-AF7A-DCFC8D2918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бытия клеточн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Эволюция развития организмов ( автотрофных и гетеротрофных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разных форм клеток ( прокариоты и эукариоты , неподвижные и подвижные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Создание многоклеточных и симбиотических форм жизн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Calibri"/>
              </a:rPr>
              <a:t>Появление клетки привело круговороту веществ в био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1DC-69E4-4921-BB6F-239C3D8496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F93-412C-40C7-9822-56D2008C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3BA-DFCF-44A3-B0B9-3F89593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369-F041-4B02-8FFD-E503DFCD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E5F-024C-4CFB-8063-472BE11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416F-9512-4160-8DAB-264DFA5C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4CDB-4D58-4E1F-B431-6F18ED9C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1383-CBDD-4279-B7FD-C2A3903D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BBC4-5170-474A-9CE0-BB14595A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80E6-C915-43A4-8C0A-E01CE12D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C9D2-24E9-41B0-858F-E6CFE50F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AA1F-6436-4528-AC40-FD0F3648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4AF-2D86-45FB-BF74-A90BC190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139D-125B-4AB9-B0C8-4F87A2C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2A5B-1821-4A18-9F18-4CFA9A4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C1C3-F7C1-4043-B08B-FF1C882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107-615B-4465-B8E2-F1524228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6E1F-D8C1-497F-85C3-22C97D4B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DBA-D88D-4A9E-B633-C63AB8C8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106-8BAB-48A2-B64D-EBA0888F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5EB-7EBD-4E67-BFCC-8E6BB2A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7F6-B4BD-434E-AD71-956DB32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66D-2A9E-4633-BB71-84F9173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D7A-B004-4DA9-93F5-1BA0A93E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1B94-F418-4F65-BF2C-EC6DED00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3E9E-A15F-414F-9A6A-4C68EC3AD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7E9C-CF70-4C59-B4F8-E6219843C3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леточный уровень жизн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40400" cy="24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Изучить структуру клеток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Механизм устойчивости клетки как биосистемы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Клетка –элементарная структурная единица жизн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9010501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482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02020101"/>
          <p:cNvPicPr/>
          <p:nvPr/>
        </p:nvPicPr>
        <p:blipFill>
          <a:blip r:embed="rId2"/>
          <a:stretch/>
        </p:blipFill>
        <p:spPr>
          <a:xfrm>
            <a:off x="4572000" y="1484280"/>
            <a:ext cx="4114800" cy="48243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09010601"/>
          <p:cNvPicPr/>
          <p:nvPr/>
        </p:nvPicPr>
        <p:blipFill>
          <a:blip r:embed="rId1"/>
          <a:stretch/>
        </p:blipFill>
        <p:spPr>
          <a:xfrm>
            <a:off x="468360" y="1628640"/>
            <a:ext cx="4103640" cy="439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09010102"/>
          <p:cNvPicPr/>
          <p:nvPr/>
        </p:nvPicPr>
        <p:blipFill>
          <a:blip r:embed="rId2"/>
          <a:stretch/>
        </p:blipFill>
        <p:spPr>
          <a:xfrm>
            <a:off x="4788000" y="1484280"/>
            <a:ext cx="403200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02020403"/>
          <p:cNvPicPr/>
          <p:nvPr/>
        </p:nvPicPr>
        <p:blipFill>
          <a:blip r:embed="rId1"/>
          <a:stretch/>
        </p:blipFill>
        <p:spPr>
          <a:xfrm>
            <a:off x="539640" y="981000"/>
            <a:ext cx="3888000" cy="5079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Колониальные жгутиковые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49687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Клеточный уровень  организации живой матер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59280" y="4581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11 клас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щие характеристики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8" descr="09010601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9010101"/>
          <p:cNvPicPr/>
          <p:nvPr/>
        </p:nvPicPr>
        <p:blipFill>
          <a:blip r:embed="rId2"/>
          <a:stretch/>
        </p:blipFill>
        <p:spPr>
          <a:xfrm>
            <a:off x="542916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9010102"/>
          <p:cNvPicPr/>
          <p:nvPr/>
        </p:nvPicPr>
        <p:blipFill>
          <a:blip r:embed="rId3"/>
          <a:stretch/>
        </p:blipFill>
        <p:spPr>
          <a:xfrm>
            <a:off x="1238400" y="4114800"/>
            <a:ext cx="28288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3020201"/>
          <p:cNvPicPr/>
          <p:nvPr/>
        </p:nvPicPr>
        <p:blipFill>
          <a:blip r:embed="rId4"/>
          <a:stretch/>
        </p:blipFill>
        <p:spPr>
          <a:xfrm>
            <a:off x="5364000" y="4149720"/>
            <a:ext cx="2737080" cy="19432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Структурные элемент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иологические молекулы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Д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РН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Бел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Углево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Лип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Части клетк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Цитопла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Ядр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ahoma"/>
              </a:rPr>
              <a:t>Органоид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Tahoma"/>
              </a:rPr>
              <a:t>Основные процессы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Обмен вещест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амовоспроизведение ДНК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Генетическая регуляция внутриклеточных процесс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ередача наследственной информации от клетки к клетке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Накопление изменений в генетическом аппарате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Реагирование на раздражение при взаимодействии с внешней сред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рганизация клеточного уровн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1. сложность и разнообразие биологических молеку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2. Специфичность функционирования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3. Уникальность устойчивости физико-химических связей  внутриклеточных структур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4. Упорядоченность протекания процессов жизне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Значение клеточного уровня живой матери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1. клетка основная структурная единица живых организмов ( рост, развитие, обмен веществ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2 . Клетка свободноживущий одноклеточный организ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Процессы жизнедеятельности  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Клетк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Матричный синтез органических веществ происходит только в клетке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Особенностью клеток является  их специализация , дифференциация свойств и форм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ahoma"/>
              </a:rPr>
              <a:t>Использование для жизни разнообразных абиотических и биотических условий сред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обытия клеточного уровн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: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Эволюция развития организмов ( автотрофных и гетеротрофных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разных форм клеток ( прокариоты и эукариоты , неподвижные и подвижные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Создание многоклеточных и симбиотических форм жизни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Arial Unicode MS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ahoma"/>
              </a:rPr>
              <a:t>Появление клетки привело круговороту веществ в биосфе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08:57:51Z</dcterms:created>
  <dc:creator>Admin</dc:creator>
  <dc:description/>
  <dc:language>en-US</dc:language>
  <cp:lastModifiedBy>LEGION</cp:lastModifiedBy>
  <dcterms:modified xsi:type="dcterms:W3CDTF">2014-11-24T13:13:15Z</dcterms:modified>
  <cp:revision>6</cp:revision>
  <dc:subject/>
  <dc:title>Клеточный уровень жизни </dc:title>
</cp:coreProperties>
</file>