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FAB3-9D4C-4F48-9103-D076D46E9D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1F7E-FBEF-4960-8625-7F05E2BE88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речения великих люд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4D84-23AE-4B8E-870D-A66C2AF255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F8B2-353B-49F7-87FC-489E8A9FFC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ие заболе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116D-0C1F-4495-87EA-C1F467920A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ишина Елена Викторовн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ОГОУ»Искитимского медицинского училищ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14BD-7D22-412D-915E-9E640CED19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ополагающий 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психосоматика здоровья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просы учебной ч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бное занят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анализ 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стники проект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4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41D2-5B71-4355-869D-96936C62A0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ить основные задачи, методы, структуру медицин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D8F1-98A9-4AA9-AC5A-A98AF5F7C7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дицинская психолог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874D-D108-4490-9B0D-388570FEAC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ED49-C416-4468-A804-24813CD6FD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типов личности пациентов, определяющих реакцию пациента на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психологического профиля больных при различны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возрастной  клиниче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семей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коррекция, психотерапия,психологическое консуль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B616-AF04-4D37-89FE-864C7D5A9A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 в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ое интервью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о-психологические методы исследования(психологический эксперимен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1B62-E6BB-40AB-A4B8-E36C78128C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циопсихосоматика здоровь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 «психосоматика» предложен в 1818г.врачом Иоганом Августом Хейнр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8992-AF8E-4C6D-80BA-5AF90AF65F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C6C-7F3B-40AC-9C3A-AC3511DB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FEDB-14A7-4262-9920-5C6F7523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D8B-0826-4098-8D44-B75CE227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3A99-763C-4B99-B054-EEAA711D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27F1-ED2C-41F2-8B51-9C1DA384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EB05-6F07-4CD4-8982-C27F4EBB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51F2-17B5-4B1C-9E1F-F338F2F6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C68C-9E58-429F-9A1F-7DE7E60F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DA02-51C1-463D-BA2B-945BC5E1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E886-CD0E-4076-A6B1-B108EEDF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1C49-F22C-4976-89B9-4B67F927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49E-B29E-4915-9B1A-F5CD4A05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29CE-8710-4C17-9917-65707291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3AC9-F338-4A83-9139-B7EC8858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5CCF-2665-4FFB-8A42-2F6A7181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DD19-484C-43FC-ABE9-1466E353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9B0B-0EE0-45AB-A518-FF8D9E4B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A36-E52E-4CDB-9843-77A0F283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07B-05CB-4772-A27C-2CB38E59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E5E7-38A0-4772-87E7-001A4DA9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AF7-82DC-49CD-BDE3-591BF0E0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859-B723-47E2-B155-0CE45F1B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8D8-E4ED-427B-803D-EE9207D6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54A-3A4F-4EDA-9B9B-A2BB9420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B5C8-2CF0-4BE8-AA4B-E4B4624F22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5ADD-F9D5-4975-BD47-CD6D33D4B6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2160"/>
            <a:ext cx="7920000" cy="6289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Изречения великих людей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ая болезнь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95280" y="1412640"/>
            <a:ext cx="6715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ие заболева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411280" y="1628640"/>
            <a:ext cx="63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Работу выполнил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Никишина Елена Викторовн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преподаватель ОГОУ»Искитимского медицинского училища»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38172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Основополагающий вопрос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Вопросы учебной части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ебное занятие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делать анализ 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астники проекта: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туденты 4 курс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ть основные задачи, методы, структуру медицинской псих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6920" y="620280"/>
            <a:ext cx="63104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Медицинская психологи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195280" y="620280"/>
            <a:ext cx="67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Задачи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40000" y="1197000"/>
            <a:ext cx="680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типов личности пациентов, определяющих реакцию пациента на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сихологического профиля больных при различны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возрастной  клинической псих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семейных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коррекция, психотерапия,психологическое консуль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исследования в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ническое интервью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о-психологические методы исследования(психологический эксперимен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 «психосоматика» предложен в 1818г.врачом Иоганом Августом Хейнро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7:27:55Z</dcterms:created>
  <dc:creator>С23</dc:creator>
  <dc:description/>
  <dc:language>en-US</dc:language>
  <cp:lastModifiedBy>LEGION</cp:lastModifiedBy>
  <dcterms:modified xsi:type="dcterms:W3CDTF">2014-11-06T13:24:42Z</dcterms:modified>
  <cp:revision>6</cp:revision>
  <dc:subject/>
  <dc:title>78с</dc:title>
</cp:coreProperties>
</file>