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85D7-359A-4063-A736-D9239B1CD5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3D1C-774E-4725-83B3-3F4ACD3A9E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 борьбы с никотиномани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9FAC-B357-4FBA-9FD5-43F9B3AA47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сить курить очень просто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ам бросал 17 раз!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88BD-82D0-4443-9104-6373F3DC37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– один из самых сильных ядов растительного происх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алоид никотин (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ходящие в состав сигар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сус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6327-E2F5-4600-9246-3A44FBB82F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гар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14F1-3FB0-4755-AB0B-878A09AF5F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истории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F215-798B-4084-B8DF-D528C87910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84C8-C56A-4C0F-B55B-B062097E3D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одержится 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хо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м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ртоф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клаж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ебольших доза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8075-E778-4609-9616-5CAED2C04C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интез никотина происходит в корнях, а накапливание никотина — в листь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093B-1A70-4B9C-B9A1-F5F04C68A0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яя летальная доза для человека — 0,5-1 мг/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5D72-AA5A-4D66-979C-CCE1C575E2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полный список заболеваний, вызываемых никотином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ечная недостато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легких, языка, горта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кт миока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нгрена н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полов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2942-26D6-494E-8799-E4A5E3AB6D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87C-F0B5-4D75-A087-1CC296F1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2BD-C47B-4C2D-B21F-3E17563A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194-F426-4E45-9DA1-40D19B87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C4D-594F-4E39-9AE8-74595F00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D1D7-0C2C-4DDD-A2BC-8A374F2B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8EFC-E63E-404E-9DC4-30A9E626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4066-6CBD-4335-9EE1-46673E91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6C75-5B6B-4179-B8BA-03F68B36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9627-266C-40D7-AB58-995EE9D8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168E-3791-4D93-AD48-974ACB4E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BCA-04B6-4D02-9409-043C9AE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B37-0991-4A56-8BB4-A474FDB3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43C5-CC3A-48DE-B3D4-025BE943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C5F0-7B40-4E76-9B89-A99A663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70C9-A48D-4F58-AB37-74611F53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4883-CA51-4B5A-9963-48AE72A6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FDDB-FC6F-4E93-90DE-EE681638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1EE-2BC6-43E9-8A04-92737C08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FDB-9510-4CEE-B118-F20DFC25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A150-F219-4263-AA98-78073FA3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D72-7127-4D73-B78F-7E71D505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3C7-01AE-4CF5-A9FF-9997AFD3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CB2-9861-4E61-9B89-90831506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2EB-C13D-49DC-A09E-B2E43884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6A2F-DCE0-4555-B18B-319CBCEF8B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9A46-239A-4C4C-8331-C0C44A9545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Никотин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156000" y="5536800"/>
            <a:ext cx="511164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200px-Nicotine"/>
          <p:cNvPicPr/>
          <p:nvPr/>
        </p:nvPicPr>
        <p:blipFill>
          <a:blip r:embed="rId1"/>
          <a:stretch/>
        </p:blipFill>
        <p:spPr>
          <a:xfrm>
            <a:off x="2411280" y="1989000"/>
            <a:ext cx="4175280" cy="3506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борьбы с никотиномани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 Никому не говорите заранее о своих намерениях расстаться с сигаретой, не обещайте и не клянитес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 Выберите день, с которого вы начнёте новую жизнь. Кстати, лучше это будет первый день каникул, выходных или любой другой день недели или число, которое вы по какой – либо причине считаете счастливым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 Никогда не говорите «никогда» - не позволяйте себе думать, что вы бросаете курить навсегда, ставьте себе задачу только на ближайшее будущее – допустим, на завтра. Дайте себе слово, что не притронетесь к сигарете. И каждый раз давайте себе слово не курить только один ден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Переключайтесь на что–нибудь делайте каждый раз, когда почувствуете сильное желание закурить.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Хвалите себя, если достигли успеха, а вы его в любом случае достигли, решив бросить курить. Не расстраивайтесь и не укоряйте себя, если вы нарушили данное себе слово: если хотите бросить курить, всё равно броси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getty_rf_photo_of_broken_cigarette"/>
          <p:cNvPicPr/>
          <p:nvPr/>
        </p:nvPicPr>
        <p:blipFill>
          <a:blip r:embed="rId1"/>
          <a:stretch/>
        </p:blipFill>
        <p:spPr>
          <a:xfrm>
            <a:off x="900000" y="189000"/>
            <a:ext cx="2808360" cy="14428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1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сить курить очень просто.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сам бросал 17 раз!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рк Тв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GenTobaccoExpirienceMTwain"/>
          <p:cNvPicPr/>
          <p:nvPr/>
        </p:nvPicPr>
        <p:blipFill>
          <a:blip r:embed="rId1"/>
          <a:stretch/>
        </p:blipFill>
        <p:spPr>
          <a:xfrm>
            <a:off x="179280" y="549360"/>
            <a:ext cx="32511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6348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 – один из самых сильных ядов растительного происхожд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лкалоид никотин (С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 в химически чистом виде представляет собой прозрачную бесцветную маслообразную жидкость со жгучим вкусом и температурой кипения 246°С, хорошо растворимую в воде, спирте и других растворителях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ещества, входящие в состав сигареты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икот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уравьи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ксусная кисл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ормальдеги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гар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056720" cy="3754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 истории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и табак был известен издавна. Впервые он попал в страну 1565 г., однако, на протяжении почти двух десятилетий его использовали исключительно в лечебных целях. К началу  XVII века курение становится светской привычкой богачей, так как в то время считалось, что оно способствует здоровью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менение в медици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тавка никотина в организм альтернативными путями для лечения никотиновой зависим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уется возможность применения никотина и в других областях, например, в качестве болеутоляющего, средства от синдрома дефицита внимания, болезни Альцгеймера, болезни Паркинсона, колита, герпеса и туберкулё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де содержится никот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аба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хор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ом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ртофе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баклажан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51280" y="1196640"/>
            <a:ext cx="403848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ебольших до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80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иосинтез никотина происходит в корнях, а накапливание никотина — в листь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икотин легко окисляется до нетоксичной никотиновой кислоты. Однако в организме человека отсутствуют ферменты, необходимые для такого окислен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окси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котин чрезвычайно токсичен для насекомых и теплокровных животных. Действует как нейротоксин, вызывая паралич нервной системы(остановка дыхания, прекращение сердечной деятельности, смерть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редняя летальная доза для человека — 0,5-1 мг/к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полный список заболеваний, вызываемых никотином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ечная недостато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к легких, языка, горт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аркт миокар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уль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нгрена н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езнь половых орг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9:52:20Z</dcterms:created>
  <dc:creator>USER</dc:creator>
  <dc:description/>
  <dc:language>en-US</dc:language>
  <cp:lastModifiedBy>LEGION</cp:lastModifiedBy>
  <dcterms:modified xsi:type="dcterms:W3CDTF">2014-11-24T13:42:41Z</dcterms:modified>
  <cp:revision>7</cp:revision>
  <dc:subject/>
  <dc:title>Никотин</dc:title>
</cp:coreProperties>
</file>