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EB8C-FBB1-4DA0-AF1A-DDF1E48A1F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5628-9054-4441-BCAC-E0E4DE0EEE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 борьбы с никотиноман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B547-94A1-4DB6-BAEC-7B71350353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сить курить очень просто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ам бросал 17 раз!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D8AF-E377-4FC7-B65A-D7A9DF30FD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– один из самых сильных ядов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алоид никотин (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ходящие в состав сигар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C453-C8BB-41B2-A591-68A16DC33B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гар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32BF-3A9B-4088-9197-B74C35402C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истории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3792-708D-4008-989C-AB3E4029EA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3ECB-816B-4BB3-AD37-E2C970B8CB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одержится 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хо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ртоф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клаж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ебольших доз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6C58-FF35-4B16-A641-449C33D6B0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интез никотина происходит в корнях, а накапливание никотина — в лист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C3CC-8088-47D2-A38C-EE685848FB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летальная доза для человека — 0,5-1 мг/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3BD0-3F22-4F95-A969-3BDF9A07E2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олный список заболеваний, вызываемых никотино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е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легких, языка, горт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кт миока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нгрена н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полов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BCC1-CE03-4010-8955-5046D96DD5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A62-B641-4370-A762-4E0813C3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524-9AC2-4CD3-A10B-4E37F512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1B2-D1B9-43FF-AF39-6F6F7F23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22E-4BED-4403-A677-8B78D57A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8767-EC10-4100-8221-3F9572B5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6F1B-7430-4295-B55C-AF9EDCD6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5E23-6EC1-4E3E-B9E3-A1898B29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7855-8D6D-4981-BBC3-2AC17F40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B0BF-CBE0-4919-B753-3527F34B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84B3-E594-4914-971D-6F6F10D8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C920-296F-4452-A25A-DEEE84FF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BBF-701F-4F8D-A102-B31C84B7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D526-E591-4A56-BF30-9C14CD3A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6ED4-9418-4A5F-AAF0-65EAC7BC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75D1-E228-46A6-B185-6CFB74C0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40D3-8D62-4151-A568-1153C1BA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9182-910F-406D-8849-3636AE70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903-9BD9-45BD-8A3B-A99A27EF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D66-B63B-488B-8E2B-04954A35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654-0BA0-42DA-8382-C0F4E513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AC6-A6F4-4E6A-8751-EC79A8F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101-9DE8-4A24-8B3D-62E714E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8CF-2113-4055-8512-D062FCCD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F93-7FE6-48AA-BD54-7577A798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0B1-38CF-4930-8FB8-79C09E5924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8422-789F-4B48-BB0D-0534FA964C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Никотин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56000" y="5536800"/>
            <a:ext cx="5111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200px-Nicotine"/>
          <p:cNvPicPr/>
          <p:nvPr/>
        </p:nvPicPr>
        <p:blipFill>
          <a:blip r:embed="rId1"/>
          <a:stretch/>
        </p:blipFill>
        <p:spPr>
          <a:xfrm>
            <a:off x="2411280" y="1989000"/>
            <a:ext cx="4175280" cy="3506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борьбы с никотиномани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getty_rf_photo_of_broken_cigarette"/>
          <p:cNvPicPr/>
          <p:nvPr/>
        </p:nvPicPr>
        <p:blipFill>
          <a:blip r:embed="rId1"/>
          <a:stretch/>
        </p:blipFill>
        <p:spPr>
          <a:xfrm>
            <a:off x="900000" y="189000"/>
            <a:ext cx="2808360" cy="14428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ить курить очень просто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ам бросал 17 раз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к Тв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GenTobaccoExpirienceMTwain"/>
          <p:cNvPicPr/>
          <p:nvPr/>
        </p:nvPicPr>
        <p:blipFill>
          <a:blip r:embed="rId1"/>
          <a:stretch/>
        </p:blipFill>
        <p:spPr>
          <a:xfrm>
            <a:off x="179280" y="549360"/>
            <a:ext cx="32511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63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 –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калоид никотин (С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щества, входящие в состав сигаре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ксус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альдеги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гар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056720" cy="3754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 истории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в медици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де содержится нико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аба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хор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м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ртофе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аклажа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51280" y="1196640"/>
            <a:ext cx="40384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больших до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синтез никотина происходит в корнях, а накапливание никотина — в листь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кси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яя летальная доза для человека — 0,5-1 мг/к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полный список заболеваний, вызываемых никотино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ечная недостат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 легких, языка, горт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нгрена 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знь полов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9:52:20Z</dcterms:created>
  <dc:creator>USER</dc:creator>
  <dc:description/>
  <dc:language>en-US</dc:language>
  <cp:lastModifiedBy>LEGION</cp:lastModifiedBy>
  <dcterms:modified xsi:type="dcterms:W3CDTF">2014-11-24T13:42:41Z</dcterms:modified>
  <cp:revision>7</cp:revision>
  <dc:subject/>
  <dc:title>Никотин</dc:title>
</cp:coreProperties>
</file>