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4A7A-4A02-464E-B41A-C25915C204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4F3B-F9E0-4252-962A-91744EA23B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ы борьбы с никотиноман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95F3-FD5F-40A9-A904-E079249425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сить курить очень просто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ам бросал 17 раз!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A6B3-C3D9-4F9A-ADBF-69CA9B1916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– один из самых сильных ядов растительного происх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алоид никотин (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ходящие в состав сигар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62AA-2E92-4BDA-AA38-8F7DF56754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гар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180E-1B45-47B0-A071-807B9FAB87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истории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8862-4F3F-4F20-8543-79A5A8A216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65DB-3CAF-458C-A035-E3A20043C7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одержится 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б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хо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м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ртоф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клаж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ебольших доза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57D4-2DC8-4585-BDA8-BC2BF2DF51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интез никотина происходит в корнях, а накапливание никотина — в лист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D051-1CF6-410C-ADA1-40C6F7AE92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яя летальная доза для человека — 0,5-1 мг/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5D6A-A1F3-4B20-A3E5-6B29B23BB3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полный список заболеваний, вызываемых никотином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е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легких, языка, горт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кт миока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нгрена н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полов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C4BE-CBB1-47B9-BC14-173CA4D6BF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1A3-D969-4A57-8664-172C3865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AB1C-B53D-4E66-A363-E9B037AA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522-5B5C-4D3A-9DB9-F4CF7302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B19-39B3-49D5-9834-641EC0B0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84FE-716F-4E33-A7DE-2A1851AD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4CB8-504E-4BF9-BF46-A5BEAF21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F512-C714-44DC-9D44-16964785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C673-6A05-4906-87DE-F54677AD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1A21-0CCF-4A28-8728-C4BCA4F1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4DF6-DD07-4F24-AD0B-DF2341B6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B482-357F-4EB9-860B-4B01105A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99F-46AD-4646-84D3-71DEBB63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1182-4C05-4F7D-AC1F-3D812031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E533-3431-4723-AD4C-E86CB34C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4C7D-2FA8-4AC2-99F6-6F8D9732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4A2D-C098-46C7-8793-565D96B0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0D3C-328F-473C-9178-8B990D15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060-8E00-4B08-ADBC-4DEA17F8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524-D5D0-4DE4-A5C4-3E214BE2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552-0DF7-43BF-A00E-2DB899AA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A1A-AD44-4A3E-AA52-128C379F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725-0259-43E2-9075-6FB41E39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8B6-BBE2-4FCD-90DB-FB249A05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360-CFFE-4483-8284-3693697B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2A4C-4716-4377-B87A-BDB8408EE8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E6D2-4E97-48DA-A712-74793AB68F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cecff"/>
                </a:solidFill>
                <a:latin typeface="Arial"/>
              </a:rPr>
              <a:t>Никотин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156000" y="5536800"/>
            <a:ext cx="5111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200px-Nicotine"/>
          <p:cNvPicPr/>
          <p:nvPr/>
        </p:nvPicPr>
        <p:blipFill>
          <a:blip r:embed="rId1"/>
          <a:stretch/>
        </p:blipFill>
        <p:spPr>
          <a:xfrm>
            <a:off x="2411280" y="1989000"/>
            <a:ext cx="4175280" cy="3506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Методы борьбы с никотиномани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getty_rf_photo_of_broken_cigarette"/>
          <p:cNvPicPr/>
          <p:nvPr/>
        </p:nvPicPr>
        <p:blipFill>
          <a:blip r:embed="rId1"/>
          <a:stretch/>
        </p:blipFill>
        <p:spPr>
          <a:xfrm>
            <a:off x="900000" y="189000"/>
            <a:ext cx="2808360" cy="14428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1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сить курить очень просто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сам бросал 17 раз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рк Тв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GenTobaccoExpirienceMTwain"/>
          <p:cNvPicPr/>
          <p:nvPr/>
        </p:nvPicPr>
        <p:blipFill>
          <a:blip r:embed="rId1"/>
          <a:stretch/>
        </p:blipFill>
        <p:spPr>
          <a:xfrm>
            <a:off x="179280" y="549360"/>
            <a:ext cx="32511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6348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 – один из самых сильных ядов растительного происхожд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лкалоид никотин (С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ещества, входящие в состав сигарет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уравьи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ксус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ормальдеги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гар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056720" cy="3754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з истории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нение в медици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де содержится никот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аба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хор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мат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ртофе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баклажа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51280" y="1196640"/>
            <a:ext cx="403848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ебольших до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80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иосинтез никотина происходит в корнях, а накапливание никотина — в листь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ксич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редняя летальная доза для человека — 0,5-1 мг/к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полный список заболеваний, вызываемых никотино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ечная недостато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к легких, языка, горт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аркт миока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уль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нгрена н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езнь половых орг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9:52:20Z</dcterms:created>
  <dc:creator>USER</dc:creator>
  <dc:description/>
  <dc:language>en-US</dc:language>
  <cp:lastModifiedBy>LEGION</cp:lastModifiedBy>
  <dcterms:modified xsi:type="dcterms:W3CDTF">2014-11-24T13:42:41Z</dcterms:modified>
  <cp:revision>7</cp:revision>
  <dc:subject/>
  <dc:title>Никотин</dc:title>
</cp:coreProperties>
</file>